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300807F-2FEB-4A6A-968D-7DD6B6C19B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raldridge@ercot.co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Program Implementation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TPTF June 6, 2006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Agenda</a:t>
            </a:r>
            <a:br>
              <a:rPr sz="2000"/>
            </a:b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1680" y="828720"/>
            <a:ext cx="1234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600" spc="-1" strike="noStrike">
                <a:solidFill>
                  <a:srgbClr val="5469a2"/>
                </a:solidFill>
                <a:latin typeface="Arial"/>
              </a:rPr>
              <a:t>Week ending dates (Friday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ntegrated timeline to September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373040" y="784080"/>
            <a:ext cx="7577280" cy="5449680"/>
            <a:chOff x="1373040" y="784080"/>
            <a:chExt cx="7577280" cy="5449680"/>
          </a:xfrm>
        </p:grpSpPr>
        <p:sp>
          <p:nvSpPr>
            <p:cNvPr id="66" name=""/>
            <p:cNvSpPr/>
            <p:nvPr/>
          </p:nvSpPr>
          <p:spPr>
            <a:xfrm>
              <a:off x="1375560" y="784080"/>
              <a:ext cx="7574400" cy="170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67320" y="811800"/>
              <a:ext cx="2901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Jul 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564040" y="811800"/>
              <a:ext cx="3297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Sep 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58320" y="811800"/>
              <a:ext cx="2901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Jul 2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93920" y="811800"/>
              <a:ext cx="2901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Jul 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81360" y="811800"/>
              <a:ext cx="32364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Jun 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48280" y="811800"/>
              <a:ext cx="26748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Jun 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23120" y="811800"/>
              <a:ext cx="26748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Jun 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69480" y="811800"/>
              <a:ext cx="32364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Jun 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09040" y="811800"/>
              <a:ext cx="32364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Jun 2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37120" y="811800"/>
              <a:ext cx="23400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Jul 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27400" y="811800"/>
              <a:ext cx="3405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May 2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45720" y="811800"/>
              <a:ext cx="27360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Sep 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16240" y="811800"/>
              <a:ext cx="28404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Aug 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24840" y="811800"/>
              <a:ext cx="3405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Aug 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95032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3848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1728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7304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0936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9208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0108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6368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4748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8272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50392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5752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5648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2948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2228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7588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01480" y="811800"/>
              <a:ext cx="27360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Sep 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221240" y="811800"/>
              <a:ext cx="3405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Aug 2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70160" y="811800"/>
              <a:ext cx="3405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Aug 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1292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6652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96920" y="5210280"/>
            <a:ext cx="10396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MP Engagement &amp; Readin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06280" y="1592280"/>
            <a:ext cx="8744040" cy="481680"/>
            <a:chOff x="206280" y="1592280"/>
            <a:chExt cx="8744040" cy="481680"/>
          </a:xfrm>
        </p:grpSpPr>
        <p:sp>
          <p:nvSpPr>
            <p:cNvPr id="104" name=""/>
            <p:cNvSpPr/>
            <p:nvPr/>
          </p:nvSpPr>
          <p:spPr>
            <a:xfrm>
              <a:off x="206280" y="1793520"/>
              <a:ext cx="3909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23760" bIns="23760" anchor="t">
              <a:spAutoFit/>
            </a:bodyPr>
            <a:p>
              <a:pPr>
                <a:lnSpc>
                  <a:spcPct val="85000"/>
                </a:lnSpc>
                <a:spcBef>
                  <a:spcPts val="337"/>
                </a:spcBef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1" lang="en-US" sz="900" spc="-1" strike="noStrike">
                  <a:solidFill>
                    <a:srgbClr val="063de8"/>
                  </a:solidFill>
                  <a:latin typeface="Arial"/>
                </a:rPr>
                <a:t>NM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4400" y="1784520"/>
              <a:ext cx="1337040" cy="124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MMS Vendor T&amp;M Contra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01440" y="1784520"/>
              <a:ext cx="445320" cy="124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obiliz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36000" y="1592280"/>
              <a:ext cx="36396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SD TPTF approv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8076240" y="1652040"/>
              <a:ext cx="54000" cy="124200"/>
            </a:xfrm>
            <a:prstGeom prst="triangle">
              <a:avLst>
                <a:gd name="adj" fmla="val 50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44960" y="1784520"/>
              <a:ext cx="3121560" cy="124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MMS – Requirements, DSOW, Use Case, Conceptual Design Develo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6000" y="1592280"/>
              <a:ext cx="36396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SD TPTF submiss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176240" y="1652040"/>
              <a:ext cx="54000" cy="124200"/>
            </a:xfrm>
            <a:prstGeom prst="triangle">
              <a:avLst>
                <a:gd name="adj" fmla="val 50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66880" y="1784520"/>
              <a:ext cx="1783440" cy="124200"/>
            </a:xfrm>
            <a:custGeom>
              <a:avLst/>
              <a:gdLst>
                <a:gd name="textAreaLeft" fmla="*/ 0 w 1783440"/>
                <a:gd name="textAreaRight" fmla="*/ 1783800 w 178344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994" y="0"/>
                  </a:lnTo>
                  <a:lnTo>
                    <a:pt x="21600" y="10800"/>
                  </a:lnTo>
                  <a:lnTo>
                    <a:pt x="1999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ceptual System Desig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06280" y="1954080"/>
            <a:ext cx="6516360" cy="365040"/>
            <a:chOff x="206280" y="1954080"/>
            <a:chExt cx="6516360" cy="365040"/>
          </a:xfrm>
        </p:grpSpPr>
        <p:sp>
          <p:nvSpPr>
            <p:cNvPr id="114" name=""/>
            <p:cNvSpPr/>
            <p:nvPr/>
          </p:nvSpPr>
          <p:spPr>
            <a:xfrm>
              <a:off x="206280" y="2154960"/>
              <a:ext cx="39096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23760" bIns="23760" anchor="t">
              <a:spAutoFit/>
            </a:bodyPr>
            <a:p>
              <a:pPr>
                <a:lnSpc>
                  <a:spcPct val="85000"/>
                </a:lnSpc>
                <a:spcBef>
                  <a:spcPts val="337"/>
                </a:spcBef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1" lang="en-US" sz="900" spc="-1" strike="noStrike">
                  <a:solidFill>
                    <a:srgbClr val="063de8"/>
                  </a:solidFill>
                  <a:latin typeface="Arial"/>
                </a:rPr>
                <a:t>E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69800" y="2145240"/>
              <a:ext cx="446400" cy="124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ropos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81640" y="2144160"/>
              <a:ext cx="1341000" cy="124200"/>
            </a:xfrm>
            <a:prstGeom prst="rect">
              <a:avLst/>
            </a:prstGeom>
            <a:solidFill>
              <a:srgbClr val="ffcc99">
                <a:alpha val="65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fine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39960" y="1954080"/>
              <a:ext cx="363960" cy="1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PTF approv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295320" y="2013840"/>
              <a:ext cx="54000" cy="124200"/>
            </a:xfrm>
            <a:prstGeom prst="triangle">
              <a:avLst>
                <a:gd name="adj" fmla="val 50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07920" y="2145240"/>
              <a:ext cx="2673720" cy="124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MS – Requirements, DSOW, Use Case, Conceptual Design Develo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43200" y="1954080"/>
              <a:ext cx="36396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PTF submiss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5398560" y="2013840"/>
              <a:ext cx="54000" cy="124200"/>
            </a:xfrm>
            <a:prstGeom prst="triangle">
              <a:avLst>
                <a:gd name="adj" fmla="val 50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16200" y="2145240"/>
              <a:ext cx="448200" cy="124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64400" y="2145240"/>
              <a:ext cx="443160" cy="124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obiliz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06280" y="1309680"/>
            <a:ext cx="3906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I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40280" y="977760"/>
            <a:ext cx="45252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endors on board 6/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016520" y="1122480"/>
            <a:ext cx="54000" cy="12384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8280" y="1378080"/>
            <a:ext cx="267336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UP Training Deliver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6280" y="1503360"/>
            <a:ext cx="88740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endor demo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76280" y="1254240"/>
            <a:ext cx="222588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UP standards defini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76280" y="1378080"/>
            <a:ext cx="88740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us process valid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89240" y="954000"/>
            <a:ext cx="43020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ation Mgt Pla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790640" y="1117440"/>
            <a:ext cx="54000" cy="12384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82960" y="977760"/>
            <a:ext cx="4302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endors selected 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/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63840" y="977760"/>
            <a:ext cx="4302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verall architecture 6/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87520" y="992160"/>
            <a:ext cx="54000" cy="12528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38400" y="977760"/>
            <a:ext cx="58896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SD &amp; Interface doc templa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583080" y="1122480"/>
            <a:ext cx="54000" cy="12384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387520" y="1122480"/>
            <a:ext cx="54000" cy="12384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8360" y="5751360"/>
            <a:ext cx="1038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ERCOT Readiness &amp; Trans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17640" y="6041880"/>
            <a:ext cx="88740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-is Org Analysi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05040" y="6041880"/>
            <a:ext cx="134784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rg Vision &amp; Principle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17640" y="5916600"/>
            <a:ext cx="133992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DS Release Strategy – V0.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44960" y="6041880"/>
            <a:ext cx="89388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rg Option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38840" y="6041880"/>
            <a:ext cx="89064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rg Desig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57560" y="5916600"/>
            <a:ext cx="133524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DS Release Strategy – Socializ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92800" y="5916600"/>
            <a:ext cx="89028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DS Release Strategy – V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84880" y="5916600"/>
            <a:ext cx="89208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DS 3 Release Pla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29480" y="6041880"/>
            <a:ext cx="89352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eople Strateg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23000" y="6041880"/>
            <a:ext cx="89064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pabilities Plann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76960" y="5916600"/>
            <a:ext cx="133668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esting Strateg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70160" y="5791320"/>
            <a:ext cx="446040" cy="37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ject Staffing  &amp; startu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17640" y="5791320"/>
            <a:ext cx="89388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dal Resourcing Templ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11520" y="5791320"/>
            <a:ext cx="133344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dal Resourcing Template – V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44960" y="5791320"/>
            <a:ext cx="89388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RCOT Readiness Criter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8840" y="5791320"/>
            <a:ext cx="89064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C link to MPE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29480" y="5791320"/>
            <a:ext cx="178416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rganization Readiness Plan V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65480" y="5591160"/>
            <a:ext cx="4572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raft Release Strateg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119400" y="5659560"/>
            <a:ext cx="54000" cy="12528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72240" y="5591160"/>
            <a:ext cx="41292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esting Strateg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580160" y="5659560"/>
            <a:ext cx="54000" cy="12528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51480" y="5591160"/>
            <a:ext cx="60660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lease Strategy TPTF submi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391000" y="5659560"/>
            <a:ext cx="54000" cy="12528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10440" y="5591160"/>
            <a:ext cx="4125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DS3 Release Pla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249960" y="5659560"/>
            <a:ext cx="54000" cy="12528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13640" y="6040440"/>
            <a:ext cx="1336680" cy="123840"/>
          </a:xfrm>
          <a:custGeom>
            <a:avLst/>
            <a:gdLst>
              <a:gd name="textAreaLeft" fmla="*/ 0 w 1336680"/>
              <a:gd name="textAreaRight" fmla="*/ 1337040 w 1336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94" y="0"/>
                </a:lnTo>
                <a:lnTo>
                  <a:pt x="21600" y="10800"/>
                </a:lnTo>
                <a:lnTo>
                  <a:pt x="1999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eople Transition plan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96920" y="3914640"/>
            <a:ext cx="4298400" cy="164160"/>
            <a:chOff x="196920" y="3914640"/>
            <a:chExt cx="4298400" cy="164160"/>
          </a:xfrm>
        </p:grpSpPr>
        <p:sp>
          <p:nvSpPr>
            <p:cNvPr id="167" name=""/>
            <p:cNvSpPr/>
            <p:nvPr/>
          </p:nvSpPr>
          <p:spPr>
            <a:xfrm>
              <a:off x="196920" y="3914640"/>
              <a:ext cx="4006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23760" bIns="23760" anchor="t">
              <a:spAutoFit/>
            </a:bodyPr>
            <a:p>
              <a:pPr>
                <a:lnSpc>
                  <a:spcPct val="85000"/>
                </a:lnSpc>
                <a:spcBef>
                  <a:spcPts val="337"/>
                </a:spcBef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1" lang="en-US" sz="900" spc="-1" strike="noStrike">
                  <a:solidFill>
                    <a:srgbClr val="063de8"/>
                  </a:solidFill>
                  <a:latin typeface="Arial"/>
                </a:rPr>
                <a:t>ED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21960" y="3939480"/>
              <a:ext cx="1339200" cy="125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DW – Architecture defini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56480" y="3939480"/>
              <a:ext cx="1338840" cy="125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DW – Roadmap defini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96920" y="3305160"/>
            <a:ext cx="10396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Commercial Syste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63680" y="3389400"/>
            <a:ext cx="1782720" cy="125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M - Contra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16200" y="3511440"/>
            <a:ext cx="89352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T - Assess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136000" y="3046320"/>
            <a:ext cx="36504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qts TPTF approv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083440" y="3133800"/>
            <a:ext cx="54000" cy="12384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6000" y="3046320"/>
            <a:ext cx="3650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qts TPTF submi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191360" y="3133800"/>
            <a:ext cx="54000" cy="12384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46400" y="3389400"/>
            <a:ext cx="444600" cy="125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obiliz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91000" y="3389400"/>
            <a:ext cx="4459320" cy="125280"/>
          </a:xfrm>
          <a:custGeom>
            <a:avLst/>
            <a:gdLst>
              <a:gd name="textAreaLeft" fmla="*/ 0 w 4459320"/>
              <a:gd name="textAreaRight" fmla="*/ 4459680 w 44593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53" y="0"/>
                </a:lnTo>
                <a:lnTo>
                  <a:pt x="21600" y="10800"/>
                </a:lnTo>
                <a:lnTo>
                  <a:pt x="210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redit Monitoring - Requirements, Use Case Develop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08280" y="3511440"/>
            <a:ext cx="6242040" cy="123840"/>
          </a:xfrm>
          <a:custGeom>
            <a:avLst/>
            <a:gdLst>
              <a:gd name="textAreaLeft" fmla="*/ 0 w 6242040"/>
              <a:gd name="textAreaRight" fmla="*/ 6242400 w 62420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15" y="0"/>
                </a:lnTo>
                <a:lnTo>
                  <a:pt x="21600" y="10800"/>
                </a:lnTo>
                <a:lnTo>
                  <a:pt x="2121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inancial Transfer - Requirements, Use Case Develop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501040" y="3757680"/>
            <a:ext cx="449280" cy="123840"/>
          </a:xfrm>
          <a:custGeom>
            <a:avLst/>
            <a:gdLst>
              <a:gd name="textAreaLeft" fmla="*/ 0 w 449280"/>
              <a:gd name="textAreaRight" fmla="*/ 449640 w 4492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9" y="0"/>
                </a:lnTo>
                <a:lnTo>
                  <a:pt x="21600" y="10800"/>
                </a:lnTo>
                <a:lnTo>
                  <a:pt x="1728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pu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2800" y="3265560"/>
            <a:ext cx="178416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gistration - Conceptual System Desig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08280" y="3265560"/>
            <a:ext cx="178452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gistration - Requirements, Use Case Develop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51480" y="3046320"/>
            <a:ext cx="363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qts TPTF approv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291360" y="3133800"/>
            <a:ext cx="54000" cy="12384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51480" y="3046320"/>
            <a:ext cx="3636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qts TPTF submi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391000" y="3133800"/>
            <a:ext cx="54000" cy="12384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06280" y="2325600"/>
            <a:ext cx="8753040" cy="338040"/>
            <a:chOff x="206280" y="2325600"/>
            <a:chExt cx="8753040" cy="338040"/>
          </a:xfrm>
        </p:grpSpPr>
        <p:sp>
          <p:nvSpPr>
            <p:cNvPr id="188" name=""/>
            <p:cNvSpPr/>
            <p:nvPr/>
          </p:nvSpPr>
          <p:spPr>
            <a:xfrm>
              <a:off x="206280" y="2499480"/>
              <a:ext cx="39096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23760" bIns="23760" anchor="t">
              <a:spAutoFit/>
            </a:bodyPr>
            <a:p>
              <a:pPr>
                <a:lnSpc>
                  <a:spcPct val="85000"/>
                </a:lnSpc>
                <a:spcBef>
                  <a:spcPts val="337"/>
                </a:spcBef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1" lang="en-US" sz="900" spc="-1" strike="noStrike">
                  <a:solidFill>
                    <a:srgbClr val="063de8"/>
                  </a:solidFill>
                  <a:latin typeface="Arial"/>
                </a:rPr>
                <a:t>M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595360" y="2325600"/>
              <a:ext cx="36396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qts TPTF submiss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535600" y="2411280"/>
              <a:ext cx="54000" cy="124200"/>
            </a:xfrm>
            <a:prstGeom prst="triangle">
              <a:avLst>
                <a:gd name="adj" fmla="val 50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47840" y="2525400"/>
              <a:ext cx="2679120" cy="124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MS – Requirements, DSOW, Use Case Develo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64400" y="2526480"/>
              <a:ext cx="1337040" cy="124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MS Vendor T&amp;M Contra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01440" y="2526480"/>
              <a:ext cx="445320" cy="124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obiliz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96920" y="4514760"/>
            <a:ext cx="10396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Infrastruct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63680" y="4870440"/>
            <a:ext cx="178272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est Lab Defini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6920" y="4846680"/>
            <a:ext cx="10396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Integrated Tes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6920" y="4203720"/>
            <a:ext cx="399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M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6280" y="2847960"/>
            <a:ext cx="3906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CR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56120" y="2873520"/>
            <a:ext cx="4286160" cy="123840"/>
          </a:xfrm>
          <a:custGeom>
            <a:avLst/>
            <a:gdLst>
              <a:gd name="textAreaLeft" fmla="*/ 0 w 4286160"/>
              <a:gd name="textAreaRight" fmla="*/ 4286520 w 42861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89" y="0"/>
                </a:lnTo>
                <a:lnTo>
                  <a:pt x="21600" y="10800"/>
                </a:lnTo>
                <a:lnTo>
                  <a:pt x="2098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quirements, Use Case, DSOW Develop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01840" y="2873520"/>
            <a:ext cx="85572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RR Vendor T&amp;M Contra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74840" y="2746440"/>
            <a:ext cx="1781280" cy="12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ourc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13640" y="5916600"/>
            <a:ext cx="1336680" cy="123840"/>
          </a:xfrm>
          <a:custGeom>
            <a:avLst/>
            <a:gdLst>
              <a:gd name="textAreaLeft" fmla="*/ 0 w 1336680"/>
              <a:gd name="textAreaRight" fmla="*/ 1337040 w 1336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94" y="0"/>
                </a:lnTo>
                <a:lnTo>
                  <a:pt x="21600" y="10800"/>
                </a:lnTo>
                <a:lnTo>
                  <a:pt x="1999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usiness Implementation plan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70160" y="3632040"/>
            <a:ext cx="7580160" cy="125640"/>
          </a:xfrm>
          <a:custGeom>
            <a:avLst/>
            <a:gdLst>
              <a:gd name="textAreaLeft" fmla="*/ 0 w 7580160"/>
              <a:gd name="textAreaRight" fmla="*/ 7580520 w 758016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310" y="0"/>
                </a:lnTo>
                <a:lnTo>
                  <a:pt x="21600" y="10800"/>
                </a:lnTo>
                <a:lnTo>
                  <a:pt x="213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ettlements &amp; Billing - Requirements, Use Case Development (multiple drop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74840" y="4540320"/>
            <a:ext cx="1336680" cy="125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ourc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48200" y="4870440"/>
            <a:ext cx="222876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est Case Template; Procedu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76960" y="4870440"/>
            <a:ext cx="178128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arly Test Cases (EMS/MM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66160" y="4640400"/>
            <a:ext cx="363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est Script templ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8020080" y="4727520"/>
            <a:ext cx="54000" cy="12384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10440" y="4640400"/>
            <a:ext cx="3632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est Case templ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249960" y="4727520"/>
            <a:ext cx="54000" cy="12384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76640" y="4640400"/>
            <a:ext cx="41904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est lab configur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016520" y="4727520"/>
            <a:ext cx="54000" cy="12384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058240" y="4870440"/>
            <a:ext cx="901440" cy="123840"/>
          </a:xfrm>
          <a:custGeom>
            <a:avLst/>
            <a:gdLst>
              <a:gd name="textAreaLeft" fmla="*/ 0 w 901440"/>
              <a:gd name="textAreaRight" fmla="*/ 901800 w 9014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4" y="0"/>
                </a:lnTo>
                <a:lnTo>
                  <a:pt x="21600" y="10800"/>
                </a:lnTo>
                <a:lnTo>
                  <a:pt x="193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AT Criter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70160" y="4870440"/>
            <a:ext cx="89352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tailed Plann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388280" y="2746440"/>
            <a:ext cx="54000" cy="12528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08840" y="2674800"/>
            <a:ext cx="3650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qts TPTF submi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74840" y="5200560"/>
            <a:ext cx="3116160" cy="12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PTF Review/Approve Nodal PR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94240" y="5203800"/>
            <a:ext cx="4470480" cy="125280"/>
          </a:xfrm>
          <a:custGeom>
            <a:avLst/>
            <a:gdLst>
              <a:gd name="textAreaLeft" fmla="*/ 0 w 4470480"/>
              <a:gd name="textAreaRight" fmla="*/ 4470840 w 447048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59" y="0"/>
                </a:lnTo>
                <a:lnTo>
                  <a:pt x="21600" y="10800"/>
                </a:lnTo>
                <a:lnTo>
                  <a:pt x="210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PTF – Review/Approve Business Requirements &amp; Conceptual Systems Design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016520" y="2727360"/>
            <a:ext cx="54000" cy="12384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76440" y="2689200"/>
            <a:ext cx="6256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arification Questions to TPTF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35600" y="4203720"/>
            <a:ext cx="179388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S-Posting/Reports/Extracts - Requiremen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29480" y="4203720"/>
            <a:ext cx="3135240" cy="123840"/>
          </a:xfrm>
          <a:custGeom>
            <a:avLst/>
            <a:gdLst>
              <a:gd name="textAreaLeft" fmla="*/ 0 w 3135240"/>
              <a:gd name="textAreaRight" fmla="*/ 3135600 w 31352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89" y="0"/>
                </a:lnTo>
                <a:lnTo>
                  <a:pt x="21600" y="10800"/>
                </a:lnTo>
                <a:lnTo>
                  <a:pt x="2098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S –UI Requirements from applications identifi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35600" y="5326200"/>
            <a:ext cx="224136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PTF Review/Approve Nodal PR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78400" y="5329080"/>
            <a:ext cx="133524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uss Readiness Criteria with TPT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7586640" y="1627200"/>
            <a:ext cx="54000" cy="12528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56480" y="1592280"/>
            <a:ext cx="36360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tional Unified Process training: 10 min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rmation….request for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ket Participant Accountable Executive: 20 m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 approval to proc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y Dates for Planning: 30 min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reement on 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arket Participant RUP Training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June 6, 2006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PTF RUP Training Overview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overview of RUP (Rational Unified Proces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s to writing Use C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16-person cla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day in 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classes at IBM Austin – downtow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1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ednesd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ednesd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TPTF RUP Training Overview Cont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day in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ly 1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ednes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ednes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lasses at IBM Austin – downt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come, first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: Ryan Aldridge (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aldridge@ercot.co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case of an emergency Ryan’s office number… 512-248-683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yan will confirm registration and will send location specifics, etc. via return emai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TPTF Discussion</a:t>
            </a:r>
            <a:br>
              <a:rPr sz="2800"/>
            </a:b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Nodal Market Participant Executive</a:t>
            </a:r>
            <a:br>
              <a:rPr sz="2800"/>
            </a:b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June 5, 2006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Nodal Market Participant Executive: Accountable for Market Participant Nodal Readines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uthority* to includ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orized to bind the entity to meet the Market Participants requirements of the agreed Nodal Program Implementation plan and schedul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orized to secure adequate Market Participants funds and resources to fulfill the Market Participants obligations to implement the Nodal Program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orized to share Market Participants Nodal implementation timeline and project status with ERCOT staff, the ERCOT Board and the PUC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orized to certify Market Participants progress on market readine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uties* to includ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s as the authoritative point of contact for Market Participant Nodal implementation efforts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es the appropriate Market Participants participation at TPTF meeting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cilitates ERCOT’s verification of progress for the entities represented by the Market Participa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“or to liaise with those with the authority to commit if required by structure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Key Dates for Planning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June 6, 200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Preliminary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Key Dat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/7/0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ferred vendors selec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/30/06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rt joint requirements, use cases, test c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enario Development and Cho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/13/06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RCOT Board of Directors meeting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commitment:  date and dollars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/30/0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qmts complete and approved *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quires TPTF approv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/31/07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ket Participant interface specs comp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/1/07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S FAT beg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/1/08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ket Participant SCED offers begin (EDS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/1/08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ket systems, Market Participant offers (EDS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13:25:21Z</dcterms:created>
  <dc:creator>Rachel Cheng</dc:creator>
  <dc:description/>
  <dc:language>en-US</dc:language>
  <cp:lastModifiedBy>MMereness</cp:lastModifiedBy>
  <dcterms:modified xsi:type="dcterms:W3CDTF">2006-06-05T22:24:39Z</dcterms:modified>
  <cp:revision>5</cp:revision>
  <dc:subject/>
  <dc:title>Texas Nodal &lt;title&gt; &lt;description&gt; &lt;date&gt;</dc:title>
</cp:coreProperties>
</file>