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6C6-C663-48B9-AAC8-6562E49F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ABF-1F08-4E8D-B878-F3751D2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7B1-166F-40E2-B580-1DDE32FF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7A9-4E98-401E-9B7D-70C74A8F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17A-4FA3-44F4-88EB-D0937EB9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E73-ADF3-42F1-8E6E-353206CE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90C-A3B0-4C81-8D75-D1BD7048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714-02F7-4D70-8D69-E30FF725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539-567D-4214-A08C-6F080077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636-E885-485E-80E8-CD5EBFF5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B9C-424A-4402-B1FD-F593397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420-837C-4BD4-A184-0BE1B5E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2487-780B-48E5-8703-22FAA8361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S Report to TAC – 6/1/0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will next meet on 6/15-16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-and-a-half meeting permits extend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n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TF Requests /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EECP Steps /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S Performanc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 Rita 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6/1/06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S Review of 4/17/06 EECP Event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met on 5/15/06 to review the ERCOT Operations Report for the 4/17/06 EECP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had no significant issues with the data in the report, or with ERCOT actions taken during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for additional discussion / impr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nce on 100% of indicated reserve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advance notice to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 / control of additional re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ty /adequacy of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manual LAAR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Public App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these points at the next ROS necessary to enable a determination of more appropriate EECP triggers and/or any changes in actions at EECP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6/1/06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gress on Remaining TPTF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metry Criteria – NDSWG sponsored meetings in progress, ROS to consider in J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stimator Performance Standard – NDSWG sponsored meetings in progress, ROS to consider in J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Frequency Bias – PDCWG assignment, ROS to consider later this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Spin Deployments – ROS to consider later this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8 Performance Measures – Not active at this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Transmission Outage – ROS to consider ERCOT proposal later this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05-26T20:20:41Z</dcterms:modified>
  <cp:revision>13</cp:revision>
  <dc:subject/>
  <dc:title>ROS Report to TAC – 2/2/06 Major Discussion Items at 1/13/06 RO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0220962</vt:r8>
  </property>
  <property fmtid="{D5CDD505-2E9C-101B-9397-08002B2CF9AE}" pid="3" name="_AuthorEmail">
    <vt:lpwstr>PaulB@gplops.org</vt:lpwstr>
  </property>
  <property fmtid="{D5CDD505-2E9C-101B-9397-08002B2CF9AE}" pid="4" name="_AuthorEmailDisplayName">
    <vt:lpwstr>Breitzman, Paul</vt:lpwstr>
  </property>
  <property fmtid="{D5CDD505-2E9C-101B-9397-08002B2CF9AE}" pid="5" name="_EmailSubject">
    <vt:lpwstr>June 1, 2006 TAC Meeting Agenda and Available Background Material</vt:lpwstr>
  </property>
</Properties>
</file>