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D6B-CE74-47CF-B9D5-183ED0A2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5A1-4D26-473F-9A4A-E3A3CD9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096-5518-4988-9C2A-BC8015B2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34A-92A1-4956-A069-20B6365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380-DCE4-4435-B4AA-029060A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392-B9BB-46D2-A0CC-5CFFD00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262-75B1-44FC-9EA7-9CB9C00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9F0-5190-4FCD-BF00-EBC63AB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59A-71E2-4C23-B340-A92A3124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292-2A42-4AA1-A5FC-CF7EF65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8F5-E56D-43CC-8C47-B710C0F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7FE-4261-4BFE-9EBD-6B9C949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460-2B25-42E0-AAB7-BD5A7692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"/>
          <p:cNvSpPr/>
          <p:nvPr/>
        </p:nvSpPr>
        <p:spPr>
          <a:xfrm>
            <a:off x="2895480" y="6308640"/>
            <a:ext cx="3124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/09/06 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with Market Participant (MP) funding of market projects identified by PRS on 03/23/06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provides a source of funding outside the ERCOT administrative fee, but administrative complexities and equity issues could outweigh potential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a new level of complexity to contract negot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that contributes financially to project could want some level of control ove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unds management and confidentialit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 of addressing resource impacts between fee based and MP funded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allocation, tracking an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parties to force option of MP funding if a project does not directly benefit a particular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only projects supported by investors will be f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on how to address project overruns or investor abandoned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quent Protocol revisions could impact the value of a MP funded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equity issues whereby large stakeholders have an advantage over smaller ent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</cp:lastModifiedBy>
  <dcterms:modified xsi:type="dcterms:W3CDTF">2006-05-24T20:32:18Z</dcterms:modified>
  <cp:revision>21</cp:revision>
  <dc:subject/>
  <dc:title>Role of Account Management at ERCOT</dc:title>
</cp:coreProperties>
</file>