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F242-2A2E-4F5D-B57F-B51856F78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ERCOT Compliance based on final March 2006 CPS2 s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B7FE-B697-4C68-BCA4-8F823C58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CF0B-61C0-46C0-BB63-3A65FE8A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041-2FE0-4D5B-914E-8552D6F4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11C-870F-4C51-A12B-EE502570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C138-7890-4DDC-A824-5868EB0F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283F-0A91-4F76-9302-C381BDC4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A8FE-4D09-4FFB-A6E7-6B3707D8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19F6-5F79-4153-B58A-B19DA0AC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A946-1EEE-4572-963C-784286D3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01D7-3F08-44D7-B6F4-A986C85B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4C67-5AC4-4B65-80F2-ACA7EE42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C9F-00BF-4082-851B-75950DF1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6254-546A-4DDB-995A-980D0481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40C6-5FD7-4075-9D27-D8774C17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59FE-3D4C-4DBC-BE27-E1EFEE54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18F2-E8BF-44E4-B84F-E43914B0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2590-64CD-4122-9545-C7E8ADCC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41E-C7D0-4B6B-A676-CEF13DD9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431-E42A-416E-8AA8-60C878FD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A81-D3D9-457C-8C9B-382A804C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4C7-66A7-4238-88DB-17F6B5CA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84AF-7AFC-40B1-9754-26AFE056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8EA-E85E-4472-AD1F-0B7F9689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5B9-E0AD-4D4D-BB65-6ED55FC3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C71B-F40A-4B80-9102-F137E6801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764D-F7A8-4436-8106-BE3EB56E7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Frequency Control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Task Forc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June 1,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edule Control Err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R 525 imple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opted by ERCOT Board in April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stem changes required to “unbox” PRR 525 complete in October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ard resolution in December 2005 to implement PRR 525 on January 1, 2006 with 6-month death penalty morator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sent Board action, stakeholders assume death penalty is reinstated July 1, 20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QSE SCE performance</a:t>
            </a:r>
            <a:br>
              <a:rPr sz="36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(CPS2 scores using PRR 525 methodology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80769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Control Task For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d by WMS in July 20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 18 times to date with participation from all market segments, incl. ERCOT and PU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orts to WMS, ROS, and P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 on proper alignment of commercial incentives with market goals, performance measures, and compliance penal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ed PRRs 661 and 662 as a “package solution” to SCE performance measures, commercial incentives, and compliance penal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Control Task For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examined by FCT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ion of SCE to poor frequency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ion of SCE to regulation procurement and de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ion of load swings and load forecast error to regulation de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ket obligations / incentives to provide primary frequency respo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Control Task For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examined by FCTF (cont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ket incentives / penalties for SCE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controllable Renewable Resource forecast err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uracy of ERCOT regulation signals and their impact on the QSE SCE calc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ion of PRR 525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Control Task For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of options presented to ROS and WMS in April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S recommended retaining the existing performance measure (PRR 52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MS agreed with ROS recommendation and narowed FCTF options to incentive/penalty structures built upon existing CPS2 metr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Control Task For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Features of PRR 66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tains existing SCE Performance Mea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-minute measure applied to all resource QSEs in all interv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ment to pass 90% of all intervals in each month maintai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s financial penalties to non-perfor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s financial incentives for compli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physical penalties for very poor performance, without death penalty sho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djustment mechanism to scale financial penalty factor based on exper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R 661 Backcast Analy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981080"/>
          <a:ext cx="8229240" cy="4114440"/>
        </p:xfrm>
        <a:graphic>
          <a:graphicData uri="http://schemas.openxmlformats.org/drawingml/2006/table">
            <a:tbl>
              <a:tblPr/>
              <a:tblGrid>
                <a:gridCol w="612000"/>
                <a:gridCol w="858600"/>
                <a:gridCol w="1512720"/>
                <a:gridCol w="1687680"/>
                <a:gridCol w="716760"/>
                <a:gridCol w="1045800"/>
                <a:gridCol w="1795680"/>
              </a:tblGrid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N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 to get to 9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IN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iling Interval Coun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en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2.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12,463.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37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und up to 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Q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3.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12,868.7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und up to 3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39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29,403.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38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4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und up to 2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9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29,440.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und up to 2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91.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81,454.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3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und up to 79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9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23,422.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4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und up to 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971.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3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40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ind-Only Q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ind-Only Q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32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13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9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9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ind-Only Q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39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9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ind-Only Q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189,052.9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Control Task For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Features of PRR 6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rifies/tightens unit trip exem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resses unit tes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resses Uncontrollable Renew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rifies unit and portfolio capability vio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etes RRS deployment exem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esentation Overvie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requency Control Issue Backgr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chedule Control Error (SCE) as a component of the frequency is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of the Frequency Control Task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Rs 661 and 66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Issue Backgrou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RCOT system has experienced primary frequency control problems since the beginning of Single Control Area operations in 20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COT’s frequency performance is monitored by NERC Control Performance Standard 1 (CPS1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RCOT CPS1 Aver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38080" y="1366920"/>
          <a:ext cx="7467840" cy="5343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366920"/>
                    <a:ext cx="74678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Issue Backgrou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 tools for maintaining primary frequency control are governor response and Regulation Service (RG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DCWG has observed poor governor respo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 units with governors are required to place governors in service at specified dro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COT does not procure governor response, generators are not paid to provide it, and there is no govenor response performance mea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quency Issue Backgrou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CTF continues to work on creation of a Governor Response Service and corresponding performance mea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ton and others have postulated ERCOT procures excessive amounts of R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tor Schedule Control Error (SCE) assumed to impact overall primary system frequency control and the quantity of RGS procured and deploy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edule Control Err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E-based solutions to frequency control and RGS procurement and deploy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Rs 356 and 35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R 5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R 525 respon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R 58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Rs 605, 607, and 6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Rs 649, 656, 661, and 66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edule Control Err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Features of PRR 5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d new methodology for calculating QSE S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d new SCE performance measure to all resource QSEs (not just RGS providers) in all intervals (not just when RGS provid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d not address penalties for non-compliance, leaving Protocols 6.10.12 as sole enforcement language (the “death penalty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edule Control Err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cols Sec. 6.10.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6.10.12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Non-Compliance Actions of ERC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RCOT may revoke any or all Ancillary Service qualification of any QSE providing an Ancillary Service(s) for continued under-performa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ilure to deliver energy resulting from a valid Dispatch Instruction is cause for ERCOT, at ERCOT’s option, to withhold payment for any Ancillary Services purchased and not deliver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RCOT will make information relative to each QSE’s performance as well as ERCOT’s performance, available to the marketplace on a monthly basis, subject to the provisions of Section 1.3.1, Restrictions on Protected Informa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WMS 051706</cp:lastModifiedBy>
  <dcterms:modified xsi:type="dcterms:W3CDTF">2006-06-01T15:30:02Z</dcterms:modified>
  <cp:revision>33</cp:revision>
  <dc:subject/>
  <dc:title>Protocol Revision Subcommittee</dc:title>
</cp:coreProperties>
</file>