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866-355B-475F-BF03-A31D4595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A07-6CD2-4CA0-85D3-10D7808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77C-2538-4481-8630-F8C53816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B06-F0FF-4D3A-A461-76A25ABD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EAC-44EC-4903-9A06-941B174E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4FA-8C9A-4769-A7D2-82C9796A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5B8-4DBF-453A-9AA3-DB63EF92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0D4-0E16-45BA-9004-2700387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212-763D-4B10-9733-62D15384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977-51C9-45F0-A590-88B32CE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576-60BC-46FD-8B05-B4336EB7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AEF-607C-477E-9C4D-0D08F51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5CE6-E2F6-401D-A127-0F82CE056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oordination Team (M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T Mission:  Coordinate – Clarify –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Market Coordination Team (MCT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ointed by the Retail Market Subcommittee (RMS) to deliver Texas SET releases to the Retail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d by ERCOT Retail Market Li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volunteers with retail market business and technical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d maintain the project 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project scope to market includ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ing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Market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as SET Implementation Gu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l Market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Profiling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T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T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Status is reported to RMS monthly throughout the project life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s’ completion percentage through design, development, and internal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changes to original design o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metrics identified by 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Implementation reporting as requested by 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munson</cp:lastModifiedBy>
  <dcterms:modified xsi:type="dcterms:W3CDTF">2006-05-23T16:46:18Z</dcterms:modified>
  <cp:revision>47</cp:revision>
  <dc:subject/>
  <dc:title>RMS Update to TAC</dc:title>
</cp:coreProperties>
</file>