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AF0B-F02E-477B-96E8-E5298580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DF5-A1AC-4311-9B22-514D0DD5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4EBE-CAD9-407F-83EE-BB3C8FFF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6AF6-0393-4689-B7A2-4C9FD523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F7A2-B846-4BE1-92AE-E207179D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F51F-F47C-4C85-BA78-DC34ED2B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C30D-7077-4FA8-A915-54362CB7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C08E-5C61-452A-B191-9651F0FF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A910-2729-4E0D-A9B8-00D7CB1E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51B4-DC36-425F-9569-37710C60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E23B-0125-4DE8-8925-616ADB15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C7C-4023-48E8-B4F7-A342D9D2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2C84-4579-4DA0-AE19-37FE6D40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01B3-F4BB-4FFC-A0BA-C46113A1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3142-A6FA-4AC3-A7EC-7319B893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932B-49D4-4DC9-A644-494B6142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0E1B-9E90-485A-9DFA-E7424AB7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ED90-05E6-43FA-B313-1EF712F9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D1D-BEDA-4C1E-875E-E89EE52E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C78E-6C8B-4D65-B6B3-5FF7467F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8FD-C6DE-4237-A1A0-5303AAAB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E726-1780-4643-9436-F6FA1CAA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D9D-777D-439A-B36C-602FBD69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809D-765B-4975-81B1-D9A5C0DE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5047-9513-48E0-92F3-5E675D93F6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C869-D8E3-4EAF-BE81-3A355B2B22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Protocol Revision Subcommittee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June 1,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62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Modify A/S Deployment Performance Conditions--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342900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03920" y="3429000"/>
            <a:ext cx="261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 FTE (Same FTE as PRR 66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Recommended TAC A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Approv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PRR 654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– Remove Market Solution Refere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PRR 655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–  Approval of Temporary Modification to Annual Validation Pro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PRR 661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–  Performance Enforcement Criteria  --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PRR 662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--  Modify A/S Deployment Performance Conditions --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tension Of A/S Qualification Period Propos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/S Qualification Exten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DCWG recommended changes to Responsive and Non-Spin Reserve monitoring criteria in PRRs 664 &amp; 66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S reviewed and requested ROS review and comment before taking 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S determined that a 60-day extension of the July 31, 2006 should be requested from the ERCOT Board by TA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ject Participant Funding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s &amp; C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S Input for ERCOT Board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rket Participant Funding for Market Projec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sues with Market Participant (MP) funding of market projects identified by PRS on 03/23/06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ds a new level of complexity to contract negoti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tity that contributes financially to project could want some level of control over proje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tential funds management and confidentiality iss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allenge of addressing resource impacts between fee based and MP funded proje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uman resource allo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uman resource co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tential for parties to force option of MP funding if a project does not directly benefit a particular ent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ults in only projects supported by investors will be fund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rket Participant Funding for Market Projec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estions on how to address project overruns or investor abandoned proje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sequent Protocol revisions could impact the value of a MP funded proje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Ps may more readily overlook the impacts of such MP funded projects by another project if stakeholders have no financial stake in proje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tential for equity issues whereby large stakeholders have an advantage over smaller enti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S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 PRRs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 Non-System Changes – IA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 System Change – CBA/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 Urg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tension of A/S Qualification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view Participant Funding Pros &amp; C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54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Remove Market Solution Referenc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828800"/>
          <a:ext cx="8229600" cy="42274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LCRA, Cooperativ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moves the term “market solution” from the Protocol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earer, more accurate Protoco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1 abstention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ugust 1, 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54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Remove Market Solution Referenc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55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Approval of Temporary Modification to Annual Valida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981080"/>
          <a:ext cx="8229600" cy="458784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Reliant, IPM for PWG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lows TAC to grant approval of temporary modification to the Annual Validation proces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is revision would allow TAC to give the final approval for both permanent and temporary modifications to the Annual Validation proces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ugust 1, 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55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Approval of Temporary Modification to Annual Valida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61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Performance Enforcement Criteria --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371600"/>
          <a:ext cx="8229600" cy="510372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9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PSEG – Independent Generato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reates criteria for SCE performance enforcement; </a:t>
                      </a: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Urgent due to PRR 525 being in effe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f a large QSE is eliminated from the market, the Market Clearing Price (MCPE) will spike to a higher clearing price.  This PRR eliminates price shock if a large QSE is eliminated from the Ancillary Services market.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ject needed to automate manual work-aroun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voids price impact from large QSE disqualific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3 abstentions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B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61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Performance Enforcement Criteria --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28954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342900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396252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14800" y="44956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9120" y="342900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 FTE for ERCOT Complia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48120" y="2895480"/>
            <a:ext cx="332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&lt;$100K, Initial Manual Workarou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9960" y="449568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ncreased Compliance Ac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62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Modify A/S Deployment Performance Conditions--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8229600" cy="494352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arifies current language exempting the intervals following a Forced Outage from SCE measure and adds other exemptions; </a:t>
                      </a: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Urgent due to PRR 525 being in effe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voids improper disqualification of Qualified Scheduling Entities (QSEs) and unnecessary depletion of Ancillary Service bid stacks and the resulting higher prices expected from tighter supply.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3 abstentions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B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Reliant</cp:lastModifiedBy>
  <dcterms:modified xsi:type="dcterms:W3CDTF">2006-06-01T14:30:56Z</dcterms:modified>
  <cp:revision>27</cp:revision>
  <dc:subject/>
  <dc:title>Protocol Revision Subcommittee</dc:title>
</cp:coreProperties>
</file>