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0624D4-6E96-46ED-95AB-369B314B9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blic Commitment Letter is needed from the owners of J.K. Spruce and Hugo.  Part of the Interconnection Procedures – an official letter from the municipal utility or CoOp will serve as the public commit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7512-E95F-4E63-848E-A9C9DB968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5274-7852-4ED4-9BDD-3B58E1B3F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D3AA-BDEE-42B5-8B48-3C521E1F9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4385-5023-4D16-B522-0080EA9A5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89080" y="20052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3764-4170-46C3-90DF-F53F1CEDA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33AC7-E20F-4FC1-8193-95D53EA1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808D8-B7ED-47CD-AB94-E0A1816A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1C0FC-C3ED-47C4-BED6-BAB9DA15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6CFE9-8710-4568-BECB-2EC2A019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DE3E5-EFCD-4CBA-90E7-1ACA8670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ACE3-0579-4FF9-B015-C64F88F99B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89080" y="20052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2C98A-F1FD-4413-97E5-DF4CD47A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A1F20-288D-4E1C-A282-37B292CA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6CA7C-5166-4A9D-B3D1-DB9DE52B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2BC06-1D56-4FFB-8E07-52B507A5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EBE6A-B8FB-412E-B696-52768609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0D217-7F0B-4053-861D-A0955ED5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F424A-7E3E-4717-BA37-5ED7F3BC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6E78-C003-42A5-87C8-293491038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EAAA-A14C-4A9E-9463-7FA2EE46B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9080" y="20052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5B23-C409-4678-840E-EF2C9E128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6937-74EA-4AEA-AE6F-8EF43CCC5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3197-61A4-45FB-9641-7A48989CC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A608-5BD8-4113-89D8-9A42A5C5F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30320"/>
            <a:ext cx="9144000" cy="22860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409800"/>
            <a:ext cx="914400" cy="3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9A95-51F3-4E4B-A626-4631B07BCA5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130320"/>
            <a:ext cx="1427040" cy="688680"/>
          </a:xfrm>
          <a:prstGeom prst="rect">
            <a:avLst/>
          </a:prstGeom>
          <a:ln w="0">
            <a:noFill/>
          </a:ln>
        </p:spPr>
      </p:pic>
      <p:sp>
        <p:nvSpPr>
          <p:cNvPr id="4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5520" y="700200"/>
            <a:ext cx="1285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04360" y="6429240"/>
            <a:ext cx="8077320" cy="3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8160" y="3213000"/>
            <a:ext cx="6365880" cy="889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80FA-6431-47D1-B661-0FE3033D5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3280" y="1960560"/>
            <a:ext cx="6680160" cy="12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6 Report on the  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ty, Demand, &amp; Resources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e ERCOT Reg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969920" y="3343320"/>
            <a:ext cx="4584960" cy="26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1,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neth A. Donohoo. P.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, Transmission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74840" y="2463840"/>
            <a:ext cx="372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a3b6c"/>
                </a:solidFill>
                <a:latin typeface="Arial"/>
              </a:rPr>
              <a:t>Questions?</a:t>
            </a:r>
            <a:r>
              <a:rPr b="0" lang="en-US" sz="4800" spc="-1" strike="noStrike">
                <a:solidFill>
                  <a:srgbClr val="0a3b6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184560" y="2349360"/>
            <a:ext cx="344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0a3b6c"/>
                </a:solidFill>
                <a:latin typeface="Arial"/>
              </a:rPr>
              <a:t>Backgrou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05080" y="223200"/>
            <a:ext cx="717552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Current Publicly Announced Projects</a:t>
            </a:r>
            <a:br>
              <a:rPr sz="2800"/>
            </a:br>
            <a:r>
              <a:rPr b="1" i="1" lang="en-US" sz="1400" spc="-1" strike="noStrike">
                <a:solidFill>
                  <a:srgbClr val="3d5f5d"/>
                </a:solidFill>
                <a:latin typeface="Arial"/>
              </a:rPr>
              <a:t>(As of May 25, 2006)</a:t>
            </a:r>
            <a:endParaRPr b="1" lang="en-US" sz="14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124000" y="1363680"/>
          <a:ext cx="5635800" cy="4852800"/>
        </p:xfrm>
        <a:graphic>
          <a:graphicData uri="http://schemas.openxmlformats.org/drawingml/2006/table">
            <a:tbl>
              <a:tblPr/>
              <a:tblGrid>
                <a:gridCol w="1330560"/>
                <a:gridCol w="1180800"/>
                <a:gridCol w="685800"/>
                <a:gridCol w="622440"/>
                <a:gridCol w="851040"/>
                <a:gridCol w="965160"/>
              </a:tblGrid>
              <a:tr h="398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Site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75655"/>
                        </a:gs>
                        <a:gs pos="50000">
                          <a:srgbClr val="466e6c"/>
                        </a:gs>
                        <a:gs pos="100000">
                          <a:srgbClr val="37565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75655"/>
                        </a:gs>
                        <a:gs pos="50000">
                          <a:srgbClr val="466e6c"/>
                        </a:gs>
                        <a:gs pos="100000">
                          <a:srgbClr val="37565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A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Perm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75655"/>
                        </a:gs>
                        <a:gs pos="50000">
                          <a:srgbClr val="466e6c"/>
                        </a:gs>
                        <a:gs pos="100000">
                          <a:srgbClr val="37565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Fu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75655"/>
                        </a:gs>
                        <a:gs pos="50000">
                          <a:srgbClr val="466e6c"/>
                        </a:gs>
                        <a:gs pos="100000">
                          <a:srgbClr val="37565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In Servi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75655"/>
                        </a:gs>
                        <a:gs pos="50000">
                          <a:srgbClr val="466e6c"/>
                        </a:gs>
                        <a:gs pos="100000">
                          <a:srgbClr val="37565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MW i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Gr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75655"/>
                        </a:gs>
                        <a:gs pos="50000">
                          <a:srgbClr val="466e6c"/>
                        </a:gs>
                        <a:gs pos="100000">
                          <a:srgbClr val="375655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rado B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A Sig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su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il 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A Sig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su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dow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su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g Brown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tin Lake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ticello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ley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bisa-Greenvi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su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dy Cre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su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dinghous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dinghouse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ak Grove 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ke Creek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gan Creek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K Spruc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ni 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su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in Oaks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go Pl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B6FB-BF10-4B99-BDE9-C25061A7466D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9520" y="27432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Elements of the CDR Report</a:t>
            </a:r>
            <a:endParaRPr b="1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22040" y="2733840"/>
            <a:ext cx="28256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ad Foreca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A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isting Resour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 Gene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thballed Un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MR Un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vate Networ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w Resour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ATF Review Assump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360440"/>
            <a:ext cx="90043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order to adequately prepare the CDR, ERCOT planners have  compiled the best information available with regards to forecasted load demands and available resources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639880"/>
            <a:ext cx="60325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772160" y="2625840"/>
            <a:ext cx="3232080" cy="2546280"/>
            <a:chOff x="4772160" y="2625840"/>
            <a:chExt cx="3232080" cy="2546280"/>
          </a:xfrm>
        </p:grpSpPr>
        <p:sp>
          <p:nvSpPr>
            <p:cNvPr id="145" name=""/>
            <p:cNvSpPr/>
            <p:nvPr/>
          </p:nvSpPr>
          <p:spPr>
            <a:xfrm>
              <a:off x="5451480" y="4248000"/>
              <a:ext cx="1797120" cy="924120"/>
            </a:xfrm>
            <a:prstGeom prst="foldedCorner">
              <a:avLst>
                <a:gd name="adj" fmla="val 12500"/>
              </a:avLst>
            </a:prstGeom>
            <a:solidFill>
              <a:srgbClr val="649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94120" y="2625840"/>
              <a:ext cx="1405080" cy="860400"/>
            </a:xfrm>
            <a:prstGeom prst="flowChartMulti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72160" y="27795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ad Forecas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06800" y="2916360"/>
              <a:ext cx="8733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eak De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LAR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99160" y="2625840"/>
              <a:ext cx="1405080" cy="860400"/>
            </a:xfrm>
            <a:prstGeom prst="flowChartMultidocumen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67480" y="2779560"/>
              <a:ext cx="12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source Foreca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11840" y="2908440"/>
              <a:ext cx="12193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is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Retired/Mothball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Priva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Ne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61080" y="4619520"/>
              <a:ext cx="13240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eaeaea"/>
                  </a:solidFill>
                  <a:latin typeface="Arial"/>
                </a:rPr>
                <a:t>Available Resour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u="sng">
                  <a:solidFill>
                    <a:srgbClr val="eaeaea"/>
                  </a:solidFill>
                  <a:uFillTx/>
                  <a:latin typeface="Arial"/>
                </a:rPr>
                <a:t>-Firm Loa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eaeaea"/>
                  </a:solidFill>
                  <a:latin typeface="Arial"/>
                </a:rPr>
                <a:t>  </a:t>
              </a:r>
              <a:r>
                <a:rPr b="1" lang="en-US" sz="900" spc="-1" strike="noStrike">
                  <a:solidFill>
                    <a:srgbClr val="eaeaea"/>
                  </a:solidFill>
                  <a:latin typeface="Arial"/>
                </a:rPr>
                <a:t>Reserve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68840" y="4313160"/>
              <a:ext cx="163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3999000">
              <a:off x="5232600" y="3614760"/>
              <a:ext cx="701640" cy="460080"/>
            </a:xfrm>
            <a:prstGeom prst="rightArrow">
              <a:avLst>
                <a:gd name="adj1" fmla="val 50000"/>
                <a:gd name="adj2" fmla="val 3812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6854400">
              <a:off x="6757920" y="3630240"/>
              <a:ext cx="703080" cy="462240"/>
            </a:xfrm>
            <a:prstGeom prst="rightArrow">
              <a:avLst>
                <a:gd name="adj1" fmla="val 50000"/>
                <a:gd name="adj2" fmla="val 3802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03800" y="3683160"/>
              <a:ext cx="806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rm Lo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02480" y="3627360"/>
              <a:ext cx="86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vailable Resour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0" y="5373720"/>
            <a:ext cx="91440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DR is based on a single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napsh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” in time.  Changes will, and do, occur on a continuous basis and may not be reflected in the current CDR.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7B57-8B8A-4731-A7F7-B6639BA510A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0000" y="-360"/>
            <a:ext cx="7613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5f5d"/>
                </a:solidFill>
                <a:latin typeface="Arial"/>
              </a:rPr>
              <a:t>GENERATION INTERCONNECTION ACTIVITY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440" y="1374840"/>
            <a:ext cx="862956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rently tracking 99 active generation interconnection or change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rt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South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West       Tota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pacity for Grid, MW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4,550  9,73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10,779    35,05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cludes Wind, M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8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2,93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9,237    12,647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4560" y="3468600"/>
            <a:ext cx="65815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el Type      Not Public          Public              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a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3,99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1,24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5,2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3,90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2,30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6,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the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97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,00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2,64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2,6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rand Tota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8,86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6,59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5,0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64440" y="5587920"/>
            <a:ext cx="34480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NUMBERS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RYDAY AS NEW REQUEST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D, PROJECTS GO IN-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ARE NO LONGER 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9040" y="5846760"/>
            <a:ext cx="3149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S NOT INCLUDE ALL OF TEX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2645-892F-4A21-8017-AF8315D6A80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65360" y="185760"/>
            <a:ext cx="7224480" cy="631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E94B0-3163-4B33-9E51-15E66E8057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44720" y="111240"/>
            <a:ext cx="7070760" cy="631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40DF-CB27-4C3C-A7F6-90B016296A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4760" y="87120"/>
            <a:ext cx="717552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Capacity, Demand, &amp; Reserves </a:t>
            </a:r>
            <a:br>
              <a:rPr sz="24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in the ERCOT Region for 2006-2011</a:t>
            </a:r>
            <a:br>
              <a:rPr sz="2400"/>
            </a:br>
            <a:r>
              <a:rPr b="1" i="1" lang="en-US" sz="1200" spc="-1" strike="noStrike">
                <a:solidFill>
                  <a:srgbClr val="3d5f5d"/>
                </a:solidFill>
                <a:latin typeface="Arial"/>
              </a:rPr>
              <a:t>(Summer Summary)</a:t>
            </a:r>
            <a:endParaRPr b="1" lang="en-US" sz="12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346040"/>
          <a:ext cx="8102520" cy="4894560"/>
        </p:xfrm>
        <a:graphic>
          <a:graphicData uri="http://schemas.openxmlformats.org/drawingml/2006/table">
            <a:tbl>
              <a:tblPr/>
              <a:tblGrid>
                <a:gridCol w="3136680"/>
                <a:gridCol w="889200"/>
                <a:gridCol w="838080"/>
                <a:gridCol w="812880"/>
                <a:gridCol w="825480"/>
                <a:gridCol w="825480"/>
                <a:gridCol w="7747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Forecast (MW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ummer Peak Dem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,6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,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,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,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7,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0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LAARs Serving as Respon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,1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,1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,1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,1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,1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,1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m Load Forecast (MW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5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,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,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,8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,4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7,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(MW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lled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,8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,8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,8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,8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,8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,8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Retiring Un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45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45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45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acity from Private Networ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5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6% of Wind Gen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MR Under Contr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% of Asynchronous 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witchable Un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thballed Units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ed Units (Wind w/ IA -- 2.6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ed Units (Fossil w/ 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Resources (MW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,7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,5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,6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,6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,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,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FICIAL RESERVE MARGIN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3a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.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3a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3a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3a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3a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3a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3a5a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2647-2699-4C3F-BA3B-6A2BBC395F3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9080" y="255960"/>
            <a:ext cx="717552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Alternate Scenarios for 2006 CDR</a:t>
            </a:r>
            <a:br>
              <a:rPr sz="2400"/>
            </a:br>
            <a:r>
              <a:rPr b="1" i="1" lang="en-US" sz="1200" spc="-1" strike="noStrike">
                <a:solidFill>
                  <a:srgbClr val="3d5f5d"/>
                </a:solidFill>
                <a:latin typeface="Arial"/>
              </a:rPr>
              <a:t>(Summer)</a:t>
            </a:r>
            <a:endParaRPr b="1" lang="en-US" sz="12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3840" y="1295280"/>
          <a:ext cx="8343720" cy="2684520"/>
        </p:xfrm>
        <a:graphic>
          <a:graphicData uri="http://schemas.openxmlformats.org/drawingml/2006/table">
            <a:tbl>
              <a:tblPr/>
              <a:tblGrid>
                <a:gridCol w="2921040"/>
                <a:gridCol w="965160"/>
                <a:gridCol w="838080"/>
                <a:gridCol w="965160"/>
                <a:gridCol w="914400"/>
                <a:gridCol w="876240"/>
                <a:gridCol w="86364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m Load Forecast (MW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5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,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,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,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,4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7,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Resources (MW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,7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,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,6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,6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,2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,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ERVE MARGI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5a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.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5a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5a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5a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5a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5a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5a3"/>
                    </a:solidFill>
                  </a:tcPr>
                </a:tc>
              </a:tr>
              <a:tr h="44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High” Reserve Marg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(all Mothballed Units Retur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16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26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23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1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18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15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Low” Reserve Marg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(no Mothballed Units Retur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16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1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9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6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4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2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Reserve Margin w/ Publicly Announced Thermal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16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15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1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2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24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23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879560" y="3645000"/>
          <a:ext cx="670572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3645000"/>
                    <a:ext cx="670572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219320" y="4775040"/>
            <a:ext cx="8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 Margin (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B94F-A194-485B-94CB-CE9D07F98E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9080" y="26172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Key Issues for 2006</a:t>
            </a:r>
            <a:endParaRPr b="1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080" y="1423800"/>
            <a:ext cx="8737560" cy="47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examining the 2006 CDR, ERCOT staff has identified several key issues for to aid in understanding this rep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ed annual demand growth has been increased from 1.8% to 2.3% based on updated social-economic data for Tex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staff was unable to reconcile load demands which may be demand or price responsive, other than LAA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vate Use Networks data was implemented for the first time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GATF recommended no change in the methodology for dealing with Planned New Generation at this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8C34-F966-4532-9516-0D7F740816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9080" y="26172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staff will present the CDR Summary on June 1, 2006 and will have the final report available within a wee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staff will continue to work with the GATF to review and refine the methodologies.  (Next meeting of the GAFT is scheduled for July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staff will continue to work with Market Participants to improve Private-Use Network reporting and to identify and assess the impact to the load foreca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will publish the next CDR by June 1, 200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BCA8-0A6E-4E38-A8A7-7080B1CC4D0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Brian Bartos</dc:creator>
  <dc:description/>
  <dc:language>en-US</dc:language>
  <cp:lastModifiedBy>KDonohoo</cp:lastModifiedBy>
  <dcterms:modified xsi:type="dcterms:W3CDTF">2006-06-01T16:33:38Z</dcterms:modified>
  <cp:revision>165</cp:revision>
  <dc:subject/>
  <dc:title>Slide 1</dc:title>
</cp:coreProperties>
</file>