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3B9A-3F35-4BC2-9225-7891D8A1D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3C3D-2777-472F-AB5E-71C4E3F57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8AB0-6903-443C-A290-A8A94CC42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A865-F26B-4863-AC9E-86DA97FDA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69A21-EB08-4CFB-99BA-9209CEACE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3C3D9-B4DB-439D-9C95-1D8A1F72B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8F236-CD8E-4A99-A71F-A9201B035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2FF47-3974-4E25-87A2-B7DF2365D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8934D-B430-40B6-AEE4-41DFAAF6C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9FF48-103C-41A6-A146-29AAD1904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E6140-F3AB-4AA8-BF85-88153938C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1682-F7FD-41CA-913C-A504EE5C9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E6765-3BFB-48D6-8BCE-FB500CB1B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933D9-CF72-4430-9519-CF51CB90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D5414-1DE9-4D25-AB50-6CE002616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502CC-A2AC-45B5-AC91-869ABF0BB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4D046-8A6F-4710-9C71-8DF4162BE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093D-A66B-4BFC-8C7C-68FC18F80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A78E-4B46-4EE2-BE38-89AB39C13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7E89-7FA9-436E-9CAA-E65260336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9438-37FF-4E07-85D6-01FB540FA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855F-67D0-47FA-9368-6317465F9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3846-8280-4ADD-A4EE-C9D66844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6D00-82C5-4A40-BC0C-F9DED7C1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5D17D-B440-46DF-919D-10C47AC39E4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2E3B1-ACF8-43AC-92A2-0E361533A95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RMS Update to TAC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1,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519840" y="185400"/>
            <a:ext cx="7417800" cy="116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RMS Voting Item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MGRR034 Removal of Profile Working Group Referen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moves PWG reference under section 6 Retail Market Subcommittee Working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animously approved at 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MS requests TAC approval of RMGRR03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Mass Transition Update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MS approved proposed changes to Mass Transition process on   5-1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release on 5-20 to reconfigure First Available Switch Date (FASD) success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 calculators on Retail Testing Website, Fastrak and TML were updated to reflect the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R to update FASD references and RMGRR to update requirements for POLRs submitting switches submitted and will be reviewed at RMS on 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519840" y="185400"/>
            <a:ext cx="7417800" cy="116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MS Update to TAC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9:57:48Z</dcterms:created>
  <dc:creator>ShBowling</dc:creator>
  <dc:description/>
  <dc:language>en-US</dc:language>
  <cp:lastModifiedBy>ShBowling</cp:lastModifiedBy>
  <dcterms:modified xsi:type="dcterms:W3CDTF">2006-05-24T19:26:51Z</dcterms:modified>
  <cp:revision>43</cp:revision>
  <dc:subject/>
  <dc:title>RMS Update to TAC</dc:title>
</cp:coreProperties>
</file>