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C10523-4475-4618-B728-74089E6B4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blic Commitment Letter is needed from the owners of J.K. Spruce and Hugo.  Part of the Interconnection Procedures – an official letter from the municipal utility or CoOp will serve as the public commit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1962-28DD-40AF-90EB-407849AF6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F9BA-525C-45D4-8643-20A159A95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A694-0513-4097-9DF5-D3CA051C0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A5C5-29C5-4FD8-B936-85CBB453D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89080" y="20052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8F6B-1E10-468D-BD8C-4F248D0D6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2F5AF-7D3E-41A6-82EF-54EAC058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B6752-1D83-40D3-8A86-BAD07162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38C7F-B692-4694-A529-B0C2010E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55FE4-F2F3-44A6-A0E7-D4902B1C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4065E-7F82-4121-8C24-0CA218BB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435B-5115-4F35-A4C8-3189973D3E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89080" y="20052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6ACDD-4D77-41E8-9381-5C9CF85D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B6D7C-C4A4-4A79-AB25-7900F63D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8283C-50F8-4750-A95A-E32C1CD9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FFABA-8A59-4773-9DEC-CDDDAB35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B85BF-E98D-40DF-AA43-E8144E52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B0921-E35A-40AB-98CF-22D5B782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0AE2A-09CC-4F1A-9D94-379952AA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5E55-E06F-42D4-B899-51ABEA044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98BF-FEC2-4CEA-B4E1-EBED2041C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9080" y="20052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EC51-B416-4945-8951-B6D31CE72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C0D9-587A-4659-9BB8-7E4F38153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28FB-4D62-4D08-8B5E-A1387B17D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BB92-4F85-47A0-AFF7-99C46F9A1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30320"/>
            <a:ext cx="9144000" cy="22860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409800"/>
            <a:ext cx="914400" cy="3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FD33-6C6B-44BA-8E23-4E7848227F5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130320"/>
            <a:ext cx="1427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5520" y="700200"/>
            <a:ext cx="1285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04360" y="6429240"/>
            <a:ext cx="8077320" cy="3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8160" y="3213000"/>
            <a:ext cx="6365880" cy="889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A2EC-C5D6-40E5-86E6-5C5D1BE2D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3280" y="1960560"/>
            <a:ext cx="6680160" cy="12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6 Report on the  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ty, Demand, &amp; Resources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ERCOT Reg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69920" y="3343320"/>
            <a:ext cx="4584960" cy="26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1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neth A. Donohoo. P.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, Transmission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4840" y="2463840"/>
            <a:ext cx="372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a3b6c"/>
                </a:solidFill>
                <a:latin typeface="Arial"/>
              </a:rPr>
              <a:t>Questions?</a:t>
            </a:r>
            <a:r>
              <a:rPr b="0" lang="en-US" sz="4800" spc="-1" strike="noStrike">
                <a:solidFill>
                  <a:srgbClr val="0a3b6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184560" y="2349360"/>
            <a:ext cx="344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a3b6c"/>
                </a:solidFill>
                <a:latin typeface="Arial"/>
              </a:rPr>
              <a:t>Backgrou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5080" y="223200"/>
            <a:ext cx="717552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Current Publicly Announced Projects</a:t>
            </a:r>
            <a:br>
              <a:rPr sz="2800"/>
            </a:br>
            <a:r>
              <a:rPr b="1" i="1" lang="en-US" sz="1400" spc="-1" strike="noStrike">
                <a:solidFill>
                  <a:srgbClr val="3d5f5d"/>
                </a:solidFill>
                <a:latin typeface="Arial"/>
              </a:rPr>
              <a:t>(As of May 25, 2006)</a:t>
            </a:r>
            <a:endParaRPr b="1" lang="en-US" sz="14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124000" y="1363680"/>
          <a:ext cx="5635800" cy="4852800"/>
        </p:xfrm>
        <a:graphic>
          <a:graphicData uri="http://schemas.openxmlformats.org/drawingml/2006/table">
            <a:tbl>
              <a:tblPr/>
              <a:tblGrid>
                <a:gridCol w="1330560"/>
                <a:gridCol w="1180800"/>
                <a:gridCol w="685800"/>
                <a:gridCol w="622440"/>
                <a:gridCol w="851040"/>
                <a:gridCol w="965160"/>
              </a:tblGrid>
              <a:tr h="398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Site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75655"/>
                        </a:gs>
                        <a:gs pos="50000">
                          <a:srgbClr val="466e6c"/>
                        </a:gs>
                        <a:gs pos="100000">
                          <a:srgbClr val="37565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75655"/>
                        </a:gs>
                        <a:gs pos="50000">
                          <a:srgbClr val="466e6c"/>
                        </a:gs>
                        <a:gs pos="100000">
                          <a:srgbClr val="37565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A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Perm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75655"/>
                        </a:gs>
                        <a:gs pos="50000">
                          <a:srgbClr val="466e6c"/>
                        </a:gs>
                        <a:gs pos="100000">
                          <a:srgbClr val="37565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Fu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75655"/>
                        </a:gs>
                        <a:gs pos="50000">
                          <a:srgbClr val="466e6c"/>
                        </a:gs>
                        <a:gs pos="100000">
                          <a:srgbClr val="37565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In Servi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75655"/>
                        </a:gs>
                        <a:gs pos="50000">
                          <a:srgbClr val="466e6c"/>
                        </a:gs>
                        <a:gs pos="100000">
                          <a:srgbClr val="37565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MW i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Gr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75655"/>
                        </a:gs>
                        <a:gs pos="50000">
                          <a:srgbClr val="466e6c"/>
                        </a:gs>
                        <a:gs pos="100000">
                          <a:srgbClr val="375655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rado B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A Sig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il 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A Sig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dow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g Brown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tin Lak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icello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ley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isa-Greenv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dy Cr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nghous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nghous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ak Grove 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ke Creek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gan Creek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K Spruc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ni 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in Oaks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go Pl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F346-1D32-495A-A79A-A496F962CC1D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9520" y="27432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Elements of the CDR Report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2040" y="2733840"/>
            <a:ext cx="28256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ad Foreca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A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isting Re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 Gen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thballed Un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MR Un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te Networ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w Re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ATF Review Assump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360440"/>
            <a:ext cx="90043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order to adequately prepare the CDR, ERCOT planners have  compiled the best information available with regards to forecasted load demands and available resources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639880"/>
            <a:ext cx="60325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772160" y="2625840"/>
            <a:ext cx="3232080" cy="2546280"/>
            <a:chOff x="4772160" y="2625840"/>
            <a:chExt cx="3232080" cy="2546280"/>
          </a:xfrm>
        </p:grpSpPr>
        <p:sp>
          <p:nvSpPr>
            <p:cNvPr id="145" name=""/>
            <p:cNvSpPr/>
            <p:nvPr/>
          </p:nvSpPr>
          <p:spPr>
            <a:xfrm>
              <a:off x="5451480" y="4248000"/>
              <a:ext cx="1797120" cy="924120"/>
            </a:xfrm>
            <a:prstGeom prst="foldedCorner">
              <a:avLst>
                <a:gd name="adj" fmla="val 12500"/>
              </a:avLst>
            </a:prstGeom>
            <a:solidFill>
              <a:srgbClr val="649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94120" y="2625840"/>
              <a:ext cx="1405080" cy="860400"/>
            </a:xfrm>
            <a:prstGeom prst="flowChartMulti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72160" y="27795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ad Forecas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06800" y="2916360"/>
              <a:ext cx="8733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eak De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LAR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99160" y="2625840"/>
              <a:ext cx="1405080" cy="860400"/>
            </a:xfrm>
            <a:prstGeom prst="flowChartMultidocumen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67480" y="2779560"/>
              <a:ext cx="12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source Foreca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11840" y="2908440"/>
              <a:ext cx="12193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is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Retired/Mothball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Priv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Ne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1080" y="4619520"/>
              <a:ext cx="13240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eaeaea"/>
                  </a:solidFill>
                  <a:latin typeface="Arial"/>
                </a:rPr>
                <a:t>Available Resour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eaeaea"/>
                  </a:solidFill>
                  <a:uFillTx/>
                  <a:latin typeface="Arial"/>
                </a:rPr>
                <a:t>-Firm Loa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eaeaea"/>
                  </a:solidFill>
                  <a:latin typeface="Arial"/>
                </a:rPr>
                <a:t>  </a:t>
              </a:r>
              <a:r>
                <a:rPr b="1" lang="en-US" sz="900" spc="-1" strike="noStrike">
                  <a:solidFill>
                    <a:srgbClr val="eaeaea"/>
                  </a:solidFill>
                  <a:latin typeface="Arial"/>
                </a:rPr>
                <a:t>Reserve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68840" y="4313160"/>
              <a:ext cx="163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3999000">
              <a:off x="5232600" y="3614760"/>
              <a:ext cx="701640" cy="460080"/>
            </a:xfrm>
            <a:prstGeom prst="rightArrow">
              <a:avLst>
                <a:gd name="adj1" fmla="val 50000"/>
                <a:gd name="adj2" fmla="val 3812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6854400">
              <a:off x="6757920" y="3630240"/>
              <a:ext cx="703080" cy="462240"/>
            </a:xfrm>
            <a:prstGeom prst="rightArrow">
              <a:avLst>
                <a:gd name="adj1" fmla="val 50000"/>
                <a:gd name="adj2" fmla="val 3802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03800" y="3683160"/>
              <a:ext cx="806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rm Lo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02480" y="3627360"/>
              <a:ext cx="86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vailable Resour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0" y="5373720"/>
            <a:ext cx="91440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DR is based on a single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napsh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 in time.  Changes will, and do, occur on a continuous basis and may not be reflected in the current CDR.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A0F8-F4E7-4AE0-8F90-FEC50DF5B3C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0000" y="-360"/>
            <a:ext cx="7613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5f5d"/>
                </a:solidFill>
                <a:latin typeface="Arial"/>
              </a:rPr>
              <a:t>GENERATION INTERCONNECTION ACTIVITY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440" y="1374840"/>
            <a:ext cx="86295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ently tracking 99 active generation interconnection or change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rt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South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West       Tot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pacity for Grid, MW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4,550  9,73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10,779    35,05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cludes Wind, M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8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2,93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9,237    12,647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4560" y="3468600"/>
            <a:ext cx="65815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el Type      Not Public          Public              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3,99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,24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5,2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3,90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2,30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6,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the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97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,00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2,64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2,6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rand Tot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8,86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6,59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5,0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64440" y="5587920"/>
            <a:ext cx="34480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NUMBERS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RYDAY AS NEW REQUEST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D, PROJECTS GO IN-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ARE NO LONGER 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9040" y="5846760"/>
            <a:ext cx="3149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S NOT INCLUDE ALL OF TEX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F736-A676-4A43-AC3D-29924F8138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65360" y="185760"/>
            <a:ext cx="7224480" cy="631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7297-0381-4F98-9874-BFFE928631C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44720" y="111240"/>
            <a:ext cx="7070760" cy="631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667B-55DB-4C63-9B65-6C21E4FC96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4760" y="87120"/>
            <a:ext cx="717552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Capacity, Demand, &amp; Reserves </a:t>
            </a:r>
            <a:br>
              <a:rPr sz="2400"/>
            </a:b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in the ERCOT Region for 2006-2011</a:t>
            </a:r>
            <a:br>
              <a:rPr sz="2400"/>
            </a:br>
            <a:r>
              <a:rPr b="1" i="1" lang="en-US" sz="1200" spc="-1" strike="noStrike">
                <a:solidFill>
                  <a:srgbClr val="3d5f5d"/>
                </a:solidFill>
                <a:latin typeface="Arial"/>
              </a:rPr>
              <a:t>(Summer Summary)</a:t>
            </a:r>
            <a:endParaRPr b="1" lang="en-US" sz="12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346040"/>
          <a:ext cx="8102520" cy="4894560"/>
        </p:xfrm>
        <a:graphic>
          <a:graphicData uri="http://schemas.openxmlformats.org/drawingml/2006/table">
            <a:tbl>
              <a:tblPr/>
              <a:tblGrid>
                <a:gridCol w="3136680"/>
                <a:gridCol w="889200"/>
                <a:gridCol w="838080"/>
                <a:gridCol w="812880"/>
                <a:gridCol w="825480"/>
                <a:gridCol w="825480"/>
                <a:gridCol w="7747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Forecast (MW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ummer Peak Dem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,6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,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,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,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,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0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LAARs Serving as Respon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1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1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1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1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1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1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m Load Forecast (MW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,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,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,8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,4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,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(MW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lled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,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,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,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,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,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,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Retiring Un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city from Private Networ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5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% of Wind Gen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MR Under Contr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% of Asynchronous 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itchable Un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thballed Units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ed Units (Wind w/ IA -- 2.6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ed Units (Fossil w/ 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Resources (MW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,7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5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,6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,6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FICIAL RESERVE MARGIN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3a5a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0AA4-656A-4E66-B6A1-BE405EA2F98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9080" y="255960"/>
            <a:ext cx="717552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Alternate Scenarios for 2006 CDR</a:t>
            </a:r>
            <a:br>
              <a:rPr sz="2400"/>
            </a:br>
            <a:r>
              <a:rPr b="1" i="1" lang="en-US" sz="1200" spc="-1" strike="noStrike">
                <a:solidFill>
                  <a:srgbClr val="3d5f5d"/>
                </a:solidFill>
                <a:latin typeface="Arial"/>
              </a:rPr>
              <a:t>(Summer)</a:t>
            </a:r>
            <a:endParaRPr b="1" lang="en-US" sz="12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3840" y="1295280"/>
          <a:ext cx="8343720" cy="2684520"/>
        </p:xfrm>
        <a:graphic>
          <a:graphicData uri="http://schemas.openxmlformats.org/drawingml/2006/table">
            <a:tbl>
              <a:tblPr/>
              <a:tblGrid>
                <a:gridCol w="2921040"/>
                <a:gridCol w="965160"/>
                <a:gridCol w="838080"/>
                <a:gridCol w="965160"/>
                <a:gridCol w="914400"/>
                <a:gridCol w="876240"/>
                <a:gridCol w="86364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m Load Forecast (MW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5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,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,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,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,4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,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Resources (MW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,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,6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,6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RVE MARGI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5a3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High” Reserve Marg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(all Mothballed Units Retur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16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26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23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1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18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15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Low” Reserve Marg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(no Mothballed Units Retur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16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1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9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6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serve Margin w/ Publicly Announced Thermal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16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15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1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2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24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23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879560" y="3645000"/>
          <a:ext cx="670572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3645000"/>
                    <a:ext cx="670572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219320" y="477504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 Margin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CB1C-5B1C-4160-9F81-ADFF4BD0D7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9080" y="26172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Key Issues for 2006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080" y="1423800"/>
            <a:ext cx="8737560" cy="47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examining the 2006 CDR, ERCOT staff has identified several key issues for to aid in understanding this rep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ed annual demand growth has been increased from 1.8% to 2.3% based on updated social-economic data for Tex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staff was unable to reconcile load demands which may be demand or price responsive, other than LAA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vate Use Networks data was implemented for the first time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GATF recommended no change in the methodology for dealing with Planned New Generation at this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93C9-7DA9-4DB6-B2C7-5DD239EC2F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9080" y="26172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staff will present the CDR Summary on June 1, 2006 and will have the final report available within a we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staff will continue to work with the GATF to review and refine the methodologies.  (Next meeting of the GAFT is scheduled for July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staff will continue to work with Market Participants to improve Private-Use Network reporting and to identify and assess the impact to the load foreca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will publish the next CDR by June 1, 200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6 Report on Capacity, Demand, &amp; Reserves in the ERCOT Region -- June 1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6FFD-04AF-4062-8D7B-0E31B4D163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Brian Bartos</dc:creator>
  <dc:description/>
  <dc:language>en-US</dc:language>
  <cp:lastModifiedBy>KDonohoo</cp:lastModifiedBy>
  <dcterms:modified xsi:type="dcterms:W3CDTF">2006-06-01T16:33:38Z</dcterms:modified>
  <cp:revision>165</cp:revision>
  <dc:subject/>
  <dc:title>Slide 1</dc:title>
</cp:coreProperties>
</file>