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Times New Roman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ACF46E3-5069-41D4-8125-8F3DE7CED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690B0BC-CD1F-4154-9334-9DD406956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18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DF71F-FF6D-4352-AC32-B0573A5AB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884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5AD65-7A47-4FEB-AB42-216EA777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884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884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A9228-B342-4F27-9D47-AB25E336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884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884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884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5E722-D4E2-42F3-85DC-9A5E1839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543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884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7C086-72A7-4C90-AC88-067B9820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884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884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884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884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884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884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884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884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063CA-638C-4EE0-822F-98B5097E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D4625-E9D7-475E-B46B-1EF98F0A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7B457-2195-4033-895E-6BF35F9F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543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DF1D2-B3EF-42BD-A020-AD55B52C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884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C4ECB-45F4-459D-A910-9D2DC8EF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884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74F62-1707-45B5-ACC6-3366A502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884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226B9-73FB-46C2-8D56-36A33047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8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560" indent="-333720">
              <a:spcBef>
                <a:spcPts val="18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47880" indent="-281880">
              <a:spcBef>
                <a:spcPts val="187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9760" indent="-280440">
              <a:spcBef>
                <a:spcPts val="187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34680" indent="-303120">
              <a:spcBef>
                <a:spcPts val="1874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34680" indent="-3031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34680" indent="-3031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7676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72400" y="647676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4808-C6BA-44AE-88A0-560C53123D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48520" y="228600"/>
            <a:ext cx="1095480" cy="99072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1523880" y="6476760"/>
            <a:ext cx="6019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UCT Wholesale Market Overs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1437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125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125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Times New Roman"/>
              </a:rPr>
              <a:t>RPRS Bids On May 16 For May 17 Operating Day</a:t>
            </a:r>
            <a:r>
              <a:rPr b="1" lang="en-US" sz="4800" spc="-1" strike="noStrike">
                <a:solidFill>
                  <a:srgbClr val="330066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2971800"/>
            <a:ext cx="6705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Brief Presentation to th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ERCO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echnical Advisory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viz Adib, Ph.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olesale Market Overs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Utility Commission of Tex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une 1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391520" y="2895480"/>
            <a:ext cx="17524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36520"/>
            <a:ext cx="76820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330066"/>
                </a:solidFill>
                <a:latin typeface="Times New Roman"/>
              </a:rPr>
              <a:t>What PUC did?</a:t>
            </a:r>
            <a:endParaRPr b="1" lang="en-US" sz="47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1960" y="1374840"/>
            <a:ext cx="856152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62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ontacted ERCOT on May 22 for detailed explan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62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ceived a memo from ERCOT (Andrew Gallo) on May 2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62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Got access to some of the correspondence between ERCOT Staff and the QSE in ques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62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viewed all the relevant inform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62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alked with ERCOT Staff and involved QSE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62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Needed a quick decision to be reflected in initial settlem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62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Finalized our decision based on solid analysis of the ev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62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decision could be challenges at ERCOT and then PU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F7599-8B83-498A-AE2E-2DCF724804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434880"/>
            <a:ext cx="779004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66"/>
                </a:solidFill>
                <a:latin typeface="Times New Roman"/>
              </a:rPr>
              <a:t>Objective: No Revision Unless We are Convinced that:</a:t>
            </a:r>
            <a:endParaRPr b="1" lang="en-US" sz="4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49320"/>
            <a:ext cx="835344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1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t was an honest mistak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QSE took all reasonable steps to correct it to avoid unintended consequences / harms to the marke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rket was informed as quickly as possible to adjust expec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QSE did not receive financial benefits due to this price revi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D6F43-46E5-4C5F-83C0-556E0C4DCC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67760"/>
            <a:ext cx="77900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66"/>
                </a:solidFill>
                <a:latin typeface="Times New Roman"/>
              </a:rPr>
              <a:t>Useful information to consider</a:t>
            </a:r>
            <a:endParaRPr b="1" lang="en-US" sz="48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1600" y="1206360"/>
            <a:ext cx="835344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PRS bids have to be submitted by 16:00 p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ffer for 15:52:43 had the intended offer pr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of the unit was on planned outage and should be excluded from the o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ffer for 15:53:59 had a single default value for both the startup price amount and the per hour price (an identical value) associated with all units identified to cover QSE’s RPRS off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was a clear mistake (operator’s key stroke err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SE immediately (around 16:00 p.m. on May 16) communicated this error with ERCOT Staff before being se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wards were announced at 18:00 p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otice was posted at 18:23 p.m. on May 16, which stated the “RPRS MCP for May 17, 2006 has been deemed questionable by ERCOT that flagged the pr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QSE in question lost money due to this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2E4B7-05B7-4C2C-9EF2-CFCEF925AA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71600" y="1143000"/>
            <a:ext cx="6553080" cy="4952880"/>
          </a:xfrm>
          <a:custGeom>
            <a:avLst/>
            <a:gdLst/>
            <a:ahLst/>
            <a:rect l="l" t="t" r="r" b="b"/>
            <a:pathLst>
              <a:path w="3386" h="3161">
                <a:moveTo>
                  <a:pt x="896" y="0"/>
                </a:moveTo>
                <a:lnTo>
                  <a:pt x="896" y="1354"/>
                </a:lnTo>
                <a:lnTo>
                  <a:pt x="0" y="1354"/>
                </a:lnTo>
                <a:lnTo>
                  <a:pt x="0" y="1443"/>
                </a:lnTo>
                <a:lnTo>
                  <a:pt x="447" y="1883"/>
                </a:lnTo>
                <a:lnTo>
                  <a:pt x="447" y="2022"/>
                </a:lnTo>
                <a:lnTo>
                  <a:pt x="854" y="2276"/>
                </a:lnTo>
                <a:lnTo>
                  <a:pt x="923" y="2035"/>
                </a:lnTo>
                <a:lnTo>
                  <a:pt x="1085" y="1946"/>
                </a:lnTo>
                <a:lnTo>
                  <a:pt x="1132" y="2051"/>
                </a:lnTo>
                <a:lnTo>
                  <a:pt x="1391" y="2051"/>
                </a:lnTo>
                <a:lnTo>
                  <a:pt x="1617" y="2399"/>
                </a:lnTo>
                <a:lnTo>
                  <a:pt x="1617" y="2522"/>
                </a:lnTo>
                <a:lnTo>
                  <a:pt x="1807" y="2687"/>
                </a:lnTo>
                <a:lnTo>
                  <a:pt x="1807" y="2891"/>
                </a:lnTo>
                <a:lnTo>
                  <a:pt x="1958" y="3006"/>
                </a:lnTo>
                <a:lnTo>
                  <a:pt x="2443" y="3161"/>
                </a:lnTo>
                <a:lnTo>
                  <a:pt x="2336" y="2903"/>
                </a:lnTo>
                <a:lnTo>
                  <a:pt x="2336" y="2687"/>
                </a:lnTo>
                <a:lnTo>
                  <a:pt x="2405" y="2551"/>
                </a:lnTo>
                <a:lnTo>
                  <a:pt x="2961" y="2206"/>
                </a:lnTo>
                <a:lnTo>
                  <a:pt x="2961" y="2125"/>
                </a:lnTo>
                <a:lnTo>
                  <a:pt x="2996" y="2097"/>
                </a:lnTo>
                <a:lnTo>
                  <a:pt x="2903" y="2005"/>
                </a:lnTo>
                <a:lnTo>
                  <a:pt x="2903" y="1927"/>
                </a:lnTo>
                <a:lnTo>
                  <a:pt x="2984" y="1959"/>
                </a:lnTo>
                <a:lnTo>
                  <a:pt x="3043" y="1915"/>
                </a:lnTo>
                <a:lnTo>
                  <a:pt x="3115" y="1927"/>
                </a:lnTo>
                <a:lnTo>
                  <a:pt x="3067" y="2035"/>
                </a:lnTo>
                <a:lnTo>
                  <a:pt x="3267" y="1959"/>
                </a:lnTo>
                <a:lnTo>
                  <a:pt x="3267" y="1746"/>
                </a:lnTo>
                <a:lnTo>
                  <a:pt x="3386" y="1656"/>
                </a:lnTo>
                <a:lnTo>
                  <a:pt x="3267" y="1505"/>
                </a:lnTo>
                <a:lnTo>
                  <a:pt x="3267" y="1354"/>
                </a:lnTo>
                <a:lnTo>
                  <a:pt x="3149" y="1197"/>
                </a:lnTo>
                <a:lnTo>
                  <a:pt x="3149" y="791"/>
                </a:lnTo>
                <a:lnTo>
                  <a:pt x="2961" y="895"/>
                </a:lnTo>
                <a:lnTo>
                  <a:pt x="2830" y="729"/>
                </a:lnTo>
                <a:lnTo>
                  <a:pt x="2775" y="771"/>
                </a:lnTo>
                <a:lnTo>
                  <a:pt x="2689" y="729"/>
                </a:lnTo>
                <a:lnTo>
                  <a:pt x="2575" y="805"/>
                </a:lnTo>
                <a:lnTo>
                  <a:pt x="2467" y="805"/>
                </a:lnTo>
                <a:lnTo>
                  <a:pt x="2443" y="715"/>
                </a:lnTo>
                <a:lnTo>
                  <a:pt x="2239" y="715"/>
                </a:lnTo>
                <a:lnTo>
                  <a:pt x="2194" y="791"/>
                </a:lnTo>
                <a:lnTo>
                  <a:pt x="2159" y="729"/>
                </a:lnTo>
                <a:lnTo>
                  <a:pt x="2089" y="791"/>
                </a:lnTo>
                <a:lnTo>
                  <a:pt x="2077" y="636"/>
                </a:lnTo>
                <a:lnTo>
                  <a:pt x="1970" y="698"/>
                </a:lnTo>
                <a:lnTo>
                  <a:pt x="1759" y="606"/>
                </a:lnTo>
                <a:lnTo>
                  <a:pt x="1652" y="606"/>
                </a:lnTo>
                <a:lnTo>
                  <a:pt x="1593" y="530"/>
                </a:lnTo>
                <a:lnTo>
                  <a:pt x="1534" y="530"/>
                </a:lnTo>
                <a:lnTo>
                  <a:pt x="1534" y="0"/>
                </a:lnTo>
                <a:lnTo>
                  <a:pt x="896" y="0"/>
                </a:lnTo>
                <a:lnTo>
                  <a:pt x="896" y="0"/>
                </a:lnTo>
                <a:close/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94000" y="1320840"/>
            <a:ext cx="4601880" cy="4387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04920" y="228600"/>
            <a:ext cx="76197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8BD22-36D0-4F87-87BA-5B9C22258A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9:32:06Z</dcterms:created>
  <dc:creator>Julie G.</dc:creator>
  <dc:description/>
  <dc:language>en-US</dc:language>
  <cp:lastModifiedBy>padib</cp:lastModifiedBy>
  <dcterms:modified xsi:type="dcterms:W3CDTF">2006-06-01T14:05:50Z</dcterms:modified>
  <cp:revision>155</cp:revision>
  <dc:subject/>
  <dc:title>Title Slid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16794113</vt:r8>
  </property>
  <property fmtid="{D5CDD505-2E9C-101B-9397-08002B2CF9AE}" pid="3" name="_AuthorEmail">
    <vt:lpwstr>Parviz.Adib@puc.state.tx.us</vt:lpwstr>
  </property>
  <property fmtid="{D5CDD505-2E9C-101B-9397-08002B2CF9AE}" pid="4" name="_AuthorEmailDisplayName">
    <vt:lpwstr>Adib, Parviz</vt:lpwstr>
  </property>
  <property fmtid="{D5CDD505-2E9C-101B-9397-08002B2CF9AE}" pid="5" name="_EmailSubject">
    <vt:lpwstr>March 19, 2004</vt:lpwstr>
  </property>
  <property fmtid="{D5CDD505-2E9C-101B-9397-08002B2CF9AE}" pid="6" name="_PreviousAdHocReviewCycleID">
    <vt:r8>2116794113</vt:r8>
  </property>
  <property fmtid="{D5CDD505-2E9C-101B-9397-08002B2CF9AE}" pid="7" name="_ReviewingToolsShownOnce">
    <vt:lpwstr/>
  </property>
</Properties>
</file>