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654-8E84-42E3-A0FF-6653797B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125-7117-4EE4-8AA2-418DEC33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D40-8593-4BC7-9D64-7AE4FBE7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640-F3A9-43F3-91A6-2C41CBC9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FCF9-C6EC-45D9-A9F0-14DC800D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86DC-80AC-47EF-BCBD-A31B62E9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D108-FB80-47F0-8878-A9C2513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4712-58C8-4A9B-BBF3-2CABFB10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0B02-07FE-4878-B3DB-7B29D00B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4CB-567A-49C5-9FD5-940454D6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E2E7-BC83-429F-A24E-99A0296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43A-229F-4495-A8A5-5845CE59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A42A-076A-4BCF-A95B-D53E355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1794-8DF3-46D5-B9EE-1C5E3571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88B-1BB2-412D-A042-D149681C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8744-240F-4231-A28E-BAB3802A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B4CD-64E1-4E91-90A2-FA595442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2AF-335F-498E-BC59-A362DD90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CED-C2F9-4728-8EA9-3B9B5A0F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BA9-8E10-45E5-8DDA-8700175E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A01-5166-411B-A321-8B56141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265-415B-438B-BD5D-2623551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327-A708-4557-B25C-15C55521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13F-8B7E-40B3-A06B-B71E9CF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4CB-BC32-4457-BBFE-7C1A8F791E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0501-716C-4F9C-955D-2CEBA4EC61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Voting Item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GRR034 Removal of Profile Working Group 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s PWG reference under section 6 Retail Market Subcommittee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nimously approved at 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S requests TAC approval of RMGRR0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Mass Transition Upda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approved proposed changes to Mass Transition process on   5-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lease on 5-20 to reconfigure First Available Switch Date (FASD)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calculators on Retail Testing Website, Fastrak and TML were updated to reflec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to update FASD references and RMGRR to update requirements for POLRs submitting switches submitted and will be reviewed at RMS on 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5-24T19:26:51Z</dcterms:modified>
  <cp:revision>43</cp:revision>
  <dc:subject/>
  <dc:title>RMS Update to TAC</dc:title>
</cp:coreProperties>
</file>