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4371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01, 2006 – TAC Meet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fld id="{BD5318C3-EC58-47E7-97BE-99E08F8616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TPTF Update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1800"/>
            </a:b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Trip Doggett</a:t>
            </a:r>
            <a:br>
              <a:rPr sz="32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914400"/>
          <a:ext cx="8229600" cy="3516480"/>
        </p:xfrm>
        <a:graphic>
          <a:graphicData uri="http://schemas.openxmlformats.org/drawingml/2006/table">
            <a:tbl>
              <a:tblPr/>
              <a:tblGrid>
                <a:gridCol w="2363760"/>
                <a:gridCol w="4202280"/>
                <a:gridCol w="1663560"/>
              </a:tblGrid>
              <a:tr h="31752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eeting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 of recent TPTF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1368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1368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1368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685800"/>
            <a:ext cx="8077320" cy="49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s May 8 &amp; 9 and May 22, 23 &amp;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ndance 30 – 40 with significant utilization of web 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y 8 &amp; 9, we discu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ation of Principles of Consistency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Section 7, 8 and 9 NP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a difference of opinion on Section 7.4.2(a) concerning the nomination of PC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y 9, TPTF approved Section 8 Nodal PRR by a ballot vote of 100% in favor, with abstentions by CPS Energy, CenterPoint Energy and Exelon. All market segments were represented.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RR will be sent to P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d to ask COPS &amp; CWG to review parts of Section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dal Program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ed identification of MP Executives, Accountable for MP Nodal Readiness by ERCOT client r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685800"/>
            <a:ext cx="807732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y 22, 23 &amp; 24, we discu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Website Update &amp; Future Nodal News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-Term TPTF Objectives and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ogram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Section 4 Nodal 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ved issue in Section 7.4.2(a) concerning the nomination of PC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y 24, TPTF approved Section 7 Nodal PRR by a ballot vote of 93.3% in favor, with one negative vote by Garland and abstentions by Dynegy, City of Dallas and Residential Consumers. All market segments were represented.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RR will be sent to P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ed proposed duties and required authorities for MP Executives, Accountable for MP Nodal Read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85800"/>
            <a:ext cx="861084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June 5 thru Wednesday, Jun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June 26 and Tuesday, June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discu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metering N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Section 4 N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Section 9 NPRR, after we receive feedback from 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review of NPRRs for Section 2, 6, 16, 22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NPR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pproved by TPTF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1, 3, 5, 7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Reviewed, but not yet approved, by TPTF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4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ll needing TPTF review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2, 6, 16, 22H (Standard MP Form), 22F (RMR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733920" y="2438280"/>
            <a:ext cx="1295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sto MT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sto MT"/>
              <a:ea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7:49:24Z</dcterms:created>
  <dc:creator>Trip Doggett</dc:creator>
  <dc:description/>
  <dc:language>en-US</dc:language>
  <cp:lastModifiedBy>tdoggett</cp:lastModifiedBy>
  <dcterms:modified xsi:type="dcterms:W3CDTF">2006-05-25T19:46:43Z</dcterms:modified>
  <cp:revision>83</cp:revision>
  <dc:subject/>
  <dc:title>TAC Update</dc:title>
</cp:coreProperties>
</file>