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4C9-9D62-4337-8F1D-37B2D264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5D0-C2C4-4EB8-9F19-60C28A4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B4B-EB84-4E65-95B3-2D3C109B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230-3F4B-446B-AD50-18ADC025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165-DBC7-4337-A4A3-F239F4B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0D9-1398-436B-9867-0C89854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7BD-A615-490A-A9AB-AA6EE90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C39-F402-4E71-BB1C-DCB14A6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292-1865-4204-8544-9B1F07C4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5FB-3402-4115-9AFC-44C7C25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374-46A1-4D61-9A86-6954433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805-5533-45EA-8D06-F2A512E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D45-0EDE-42C3-9873-2B373965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oordination Team (M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T Mission:  Coordinate – Clarify –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Market Coordination Team (MCT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ointed by the Retail Market Subcommittee (RMS) to deliver Texas SET releases to the Retail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by ERCOT Retail Market 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volunteers with retail market business and technical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maintain the project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project scope to market inclu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Market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SET Implementation Gu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rofiling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T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T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Status is reported to RMS monthly throughout the project life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s’ completion percentage through design, development, and interna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changes to original design o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metrics identified by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Implementation reporting as requested by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munson</cp:lastModifiedBy>
  <dcterms:modified xsi:type="dcterms:W3CDTF">2006-05-23T16:46:18Z</dcterms:modified>
  <cp:revision>47</cp:revision>
  <dc:subject/>
  <dc:title>RMS Update to TAC</dc:title>
</cp:coreProperties>
</file>