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8E7-A427-4A47-9C5E-98D29E5F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AAB-B42F-4B21-BB2F-B156A829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DEC-CE4E-4855-8504-32B39525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79C-BB40-48EB-A8AC-D45BE676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C3C-2F1E-4D2B-A44B-C7904448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691-AD47-4846-89F9-3FD9D639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215-E7EE-4926-A676-A3899734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BB1-2875-4ACA-8537-2245FB75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EF9-7B9A-4A20-8A16-800E78EB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005F-C601-4372-A068-4E5DEE28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155-E4A8-4D44-AB95-9627ED53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55D0-C3F0-48D9-898A-9D3D687A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7212-BF37-4F83-BCEA-903503476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55600" y="6445080"/>
            <a:ext cx="2895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"/>
          <p:cNvSpPr/>
          <p:nvPr/>
        </p:nvSpPr>
        <p:spPr>
          <a:xfrm>
            <a:off x="2895480" y="6308640"/>
            <a:ext cx="3124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5/09/06 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Participant Funding for Market Proje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 with Market Participant (MP) funding of market projects identified by PRS on 03/23/06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 provides a source of funding outside the ERCOT administrative fee, but administrative complexities and equity issues could outweigh potential bene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s a new level of complexity to contract negot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that contributes financially to project could want some level of control ove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funds management and confidentiality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 of addressing resource impacts between fee based and MP funded pro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 allocation, tracking and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for parties to force option of MP funding if a project does not directly benefit a particular e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in only projects supported by investors will be f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Participant Funding for Market Proje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 on how to address project overruns or investor abandoned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quent Protocol revisions could impact the value of a MP funded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s may more readily overlook the impacts of such MP funded projects by another project if stakeholders have no financial stake i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for equity issues whereby large stakeholders have an advantage over smaller ent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ERCOT</cp:lastModifiedBy>
  <dcterms:modified xsi:type="dcterms:W3CDTF">2006-05-24T20:32:18Z</dcterms:modified>
  <cp:revision>21</cp:revision>
  <dc:subject/>
  <dc:title>Role of Account Management at ERCOT</dc:title>
</cp:coreProperties>
</file>