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BA6-E61A-4537-9B74-B4B82D9D1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ERCOT Compliance based on final March 2006 CPS2 s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F76-4598-423C-A2D9-B6BC52A5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432-B361-43AD-A51F-1AB06F4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45B-C102-40F7-8A8C-548F5D47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949-DD77-4046-A9B5-B1319EE5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018-2BD8-49AC-A965-EF44664E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FA03-9C76-4F53-B7B4-BE58446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2BDC-DE85-4774-9D41-DBFFA64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790-CAB2-431C-86B3-6D9B862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2E6-2BD0-452C-8AF3-0DD8706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9D38-DD3B-4B3D-AE73-79347A5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6570-66C5-4661-9592-9FD9192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AAA-D8EC-4D43-8E16-BAF1C14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0FC8-A49C-4DB1-9F54-6E01F870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571-5A90-4D46-8DC2-FF7E7C0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3AEF-7D54-42EE-85A3-2B8BB8BC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B29-046C-469A-8C79-85D0C083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D817-6F0F-4B26-AE91-FFE62311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C6F-FAF2-463B-963D-F4FA442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4BF-7194-4243-B2C8-D7134B7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583-FB84-4B46-8CDA-D0E1BD99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29E-845A-4D15-9F8B-C8057253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B50-36CF-48B4-A037-A6FF77A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A3B-3EAE-4DF6-9FC4-930C6B15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64A-B886-4A47-B69E-8245924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43C-B114-4417-80D0-AA7972E26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831-CBE7-4539-A225-C9A503004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Frequency Control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ask Forc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une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R 525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pted by ERCOT Board in April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changes required to “unbox” PRR 525 complete in October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ard resolution in December 2005 to implement PRR 525 on January 1, 2006 with 6-month death penalty morato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ent Board action, stakeholders assume death penalty is reinstated July 1,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SE SCE performance</a:t>
            </a:r>
            <a:br>
              <a:rPr sz="36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CPS2 scores using PRR 525 methodology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0769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WMS in July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18 times to date with participation from all market segments, incl. ERCOT and P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s to WMS, ROS, and P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proper alignment of commercial incentives with market goals, performance measures, and compliance pen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d PRRs 661 and 662 as a “package solution” to SCE performance measures, commercial incentives, and compliance pen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examined by FC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SCE to poor frequency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SCE to regulation procurement and de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load swings and load forecast error to regulation de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obligations / incentives to provide primary frequency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examined by FCTF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incentives / penalties for SC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ntrollable Renewable Resource forecast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racy of ERCOT regulation signals and their impact on the QSE SCE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PRR 525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options presented to ROS and WMS in Apr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 recommended retaining the existing performance measure (PRR 52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MS agreed with ROS recommendation and narowed FCTF options to incentive/penalty structures built upon existing CPS2 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6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s existing SCE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-minute measure applied to all resource QSEs in all inter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ment to pass 90% of all intervals in each month mainta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financial penalties to non-perfo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inancial incentives for 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physical penalties for very poor performance, without death penalty sh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djustment mechanism to scale financial penalty factor based on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R 661 Backcast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612000"/>
                <a:gridCol w="858600"/>
                <a:gridCol w="1512720"/>
                <a:gridCol w="1687680"/>
                <a:gridCol w="716760"/>
                <a:gridCol w="1045800"/>
                <a:gridCol w="179568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 to get to 9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ling Interval Cou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2,463.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Q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3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2,868.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3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9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9,403.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2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9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9,440.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1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81,454.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7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3,422.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71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32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1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9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89,052.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6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fies/tightens unit trip exe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unit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Uncontrollable Renew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fies unit and portfolio capability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tes RRS deployment exe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esentation 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quency Control Issue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hedule Control Error (SCE) as a component of the frequency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of the Frequency Control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s 661 and 6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RCOT system has experienced primary frequency control problems since the beginning of Single Control Area operations in 2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’s frequency performance is monitored by NERC Control Performance Standard 1 (CPS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COT CPS1 Aver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1366920"/>
          <a:ext cx="7467840" cy="534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66920"/>
                    <a:ext cx="74678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tools for maintaining primary frequency control are governor response and Regulation Service (RG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DCWG has observed poor governor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units with governors are required to place governors in service at specified dr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does not procure governor response, generators are not paid to provide it, and there is no govenor response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CTF continues to work on creation of a Governor Response Service and corresponding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on and others have postulated ERCOT procures excessive amounts of R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or Schedule Control Error (SCE) assumed to impact overall primary system frequency control and the quantity of RGS procured and depl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-based solutions to frequency control and RGS procurement and de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356 and 3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 5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R 525 respo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 5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605, 607, and 6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649, 656, 661, and 6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5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new methodology for calculating QSE 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new SCE performance measure to all resource QSEs (not just RGS providers) in all intervals (not just when RGS provi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not address penalties for non-compliance, leaving Protocols 6.10.12 as sole enforcement language (the “death penalt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cols Sec. 6.10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.10.12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Non-Compliance Actions of ERC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may revoke any or all Ancillary Service qualification of any QSE providing an Ancillary Service(s) for continued under-perform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ure to deliver energy resulting from a valid Dispatch Instruction is cause for ERCOT, at ERCOT’s option, to withhold payment for any Ancillary Services purchased and not delive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will make information relative to each QSE’s performance as well as ERCOT’s performance, available to the marketplace on a monthly basis, subject to the provisions of Section 1.3.1, Restrictions on Protected Inform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WMS 051706</cp:lastModifiedBy>
  <dcterms:modified xsi:type="dcterms:W3CDTF">2006-06-01T15:30:02Z</dcterms:modified>
  <cp:revision>33</cp:revision>
  <dc:subject/>
  <dc:title>Protocol Revision Subcommittee</dc:title>
</cp:coreProperties>
</file>