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E62D54-B00E-4245-86C4-B11AC8D33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5840" y="698400"/>
            <a:ext cx="4656240" cy="3492720"/>
          </a:xfrm>
          <a:prstGeom prst="rect">
            <a:avLst/>
          </a:prstGeom>
          <a:ln w="0">
            <a:noFill/>
          </a:ln>
        </p:spPr>
      </p:sp>
      <p:sp>
        <p:nvSpPr>
          <p:cNvPr id="16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vide consistency between OOMC and Local RPRS generic startup payment formula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ussed at March WM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R to be fi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lve inconsistency between modeling of CCCTs in RPRS studies and real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PRS sees each unit in a CCCT station individually with a CCCT generic cos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PRS can select CCCT units individually and most cannot operate the units individuall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at the RPRS engine cannot recognize CCCT configurations, a proxy representation was developed for the DA for CCCTs that are shown offline and avail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CCCTs that are shown as offline and available in the 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perational parameters for each CT should be represented in the Resource Plan as the CT + 1/x of the ST, where x = # C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 should be shown as unavailable in the Resource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CCT is procured for RPRS or OOMC:</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perational parameters for each CT procured and the ST should be adjusted in the Resource Plan consistent with the actual operating capabilities of the units selecte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of the ST selected is equal to y * (1/x), where y is the number of CTs selected by ERCOT (or self-committed) and x is the total number of C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eloped approach will provide increased consistency in the RPRS modeling with the actual operational capabilities and economics of CCC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CCT Generic Startup Cost Issu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up costs are currently paid for each CCCT unit that is procured (e.g., if all units of 2 on 1 are procured, the startup payment is paid to each CT and to the S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questions about the appropriateness of the CCCT Startup Fuel payments and the definition of “hot” and “cold” start times.  The Task Force is not recommending changes at this time, but initial data indicate that some changes may be in order.  Additional data may be useful in helping market participants ascertain whether a PRR should be initi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 is not finished and ERCOT has raised some unanswered conc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has raised some concerns with respect to VSAT modeling</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5840" y="698400"/>
            <a:ext cx="4656240" cy="3492720"/>
          </a:xfrm>
          <a:prstGeom prst="rect">
            <a:avLst/>
          </a:prstGeom>
          <a:ln w="0">
            <a:noFill/>
          </a:ln>
        </p:spPr>
      </p:sp>
      <p:sp>
        <p:nvSpPr>
          <p:cNvPr id="17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not a brief discussion and much of it was repeated again at the PRS.  The results of the discussions and actions were in Kevin’s PRS report so I won’t repe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Frequency Control remains on the platter and will be taken up next by the Task For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5840" y="698400"/>
            <a:ext cx="4656240" cy="3492720"/>
          </a:xfrm>
          <a:prstGeom prst="rect">
            <a:avLst/>
          </a:prstGeom>
          <a:ln w="0">
            <a:noFill/>
          </a:ln>
        </p:spPr>
      </p:sp>
      <p:sp>
        <p:nvSpPr>
          <p:cNvPr id="17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RPRS procure a Resource which is providing Non-Spin Reserve Serv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since Non-Spin Reserve Service is scheduled by zone and not Resource-specific, RPRS cannot determine which Resources not to procure.  The Non-Spin flag in the Resource Plan is most commonly used to indicate which Resources are capable of providing NS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a QSE do when there is a confli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should notify the ERCOT operator of conflicting instructions. ERCOT operator will inform the QSE which instruction to follow.  ERCOT operator may issue a VDI if NSRS is deployed but the resource has already been deployed Balancing Energy and its capacity is exhausted as a result of RPRS procurement. Protocols §5.4.4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es RPRS procure a Jointly Owned Un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 like other ERCOT Ancillary Services, does not differentiate between a Jointly Owned Unit and a non-Jointly Owned Unit; </a:t>
            </a:r>
            <a:r>
              <a:rPr b="0" i="1" lang="en-US" sz="1200" spc="-1" strike="noStrike">
                <a:solidFill>
                  <a:srgbClr val="000000"/>
                </a:solidFill>
                <a:latin typeface="Arial"/>
              </a:rPr>
              <a:t>i.e</a:t>
            </a:r>
            <a:r>
              <a:rPr b="0" lang="en-US" sz="1200" spc="-1" strike="noStrike">
                <a:solidFill>
                  <a:srgbClr val="000000"/>
                </a:solidFill>
                <a:latin typeface="Arial"/>
              </a:rPr>
              <a:t>. RPRS has the capability of procuring one Jointly Owned Unit without procuring the associated Jointly Owned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his happen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a QSE do if this happe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should contact the ERCOT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t>
            </a:r>
            <a:r>
              <a:rPr b="1" lang="en-US" sz="1200" spc="-1" strike="noStrike">
                <a:solidFill>
                  <a:srgbClr val="000000"/>
                </a:solidFill>
                <a:latin typeface="Arial"/>
              </a:rPr>
              <a:t>Zonal Congestion</a:t>
            </a:r>
            <a:r>
              <a:rPr b="0" lang="en-US" sz="1200" spc="-1" strike="noStrike">
                <a:solidFill>
                  <a:srgbClr val="000000"/>
                </a:solidFill>
                <a:latin typeface="Arial"/>
              </a:rPr>
              <a:t> based on ensuring Zonal Generation is sufficient to meet Zonal Load Foreca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Zonal Congestion in RPRS is based on calculated flow across CSCs, limited by an Operational Constraint (O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RCOT used Zonal Limits to Procure Capacity for Zonal Conges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COT has yet to determine an appropriate method for setting the OC1 (Zonal Limit) for use in Step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ERCOT believe that setting an OC1 in the future is possib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ERCOT cannot determine how to set the Zonal Limit.  The difficulty lies in the continually changing relationship between Average Weighted Zonal Shift Factors (used in Zonal analysis) and the actual effects of Resource-specific disp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similar to the problem in setting an OC1 in Real-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however, in Real-Time, ERCOT can alter the OC1 every 15 minutes after observ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RCOT had to procure capacity for reasons which could be considered z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ERCOT has traditionally used OOMC on rare occasions when capacity is needed for expected Zonal Congestion.  With the advent of RPRS, these Resources have been chosen in Step 1 of RPRS which pays based on generic costs, as does OOM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schedule Charge for RP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Rs have been filed and PRS had a special meeting yesterday (day before TAC) on the su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opics were assigned out of convenience to the CC Task Force chaired by Dan J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5840" y="698400"/>
            <a:ext cx="4656240" cy="3492720"/>
          </a:xfrm>
          <a:prstGeom prst="rect">
            <a:avLst/>
          </a:prstGeom>
          <a:ln w="0">
            <a:noFill/>
          </a:ln>
        </p:spPr>
      </p:sp>
      <p:sp>
        <p:nvSpPr>
          <p:cNvPr id="17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topics were addressed by ROS and WMS had nothing to ad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Technical Metering Attachment G, Change Control Proces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consistent with Protocol Section 21, Process for Protocol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GRR005 replaces current Attachment G with new Section 10, Proces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Metering Operating Guide revisions.  New Section 10 cre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with the Protocols and other market guides will simplif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the process, as well as create transparency for all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meetings: May 1, May 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ad Participation in meeting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 ut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ai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C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wer Mark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ed framework &amp; whitepaper describ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ed recommendation for W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ed to keep nodal implementation timeline inta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rages systems already scoped out for Nodal by using SCED mod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lances potential economic gain (of potentially cheaper real-time energy prices) with reliability (by not including regulation, and by not doing 5-minute co-op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cillary Services to Co-Optimize with Energ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ve Reserv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Spinning Reser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2-Step SCED from Real Time solved against Load used in (immediately) prior HRU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c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rly in HA, after HRU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tleme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of RT Settlement</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is not being asked at this time whether or not to include one of the forms of co-optim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vote will probably come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ction out of TAC is required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Vice Chair proposed the creation of a Post Nodal Implementation Plan, accepted the accountability for getting that process started, then told me to include it in this presentation as he would be missing this meeting.  Mark did, however, promises to get the ball rolling soon after this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ence of the Post-Nodal plan gives Commission Staff a level of comfort that the benefits of things that just can’t efficiently be forced into the initial implementation of Nodal will remain on the platter.  It may also provide a formalized place to “Park” really good NPRR ideas that can’t reasonably make initial start up such as marginal los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n-Spin Recall</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has been on the table for a whil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S asked ERCOT to propose a methodology of reducing NSRS Recall impact</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proposed a ramp rate recall</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discussion that due to project time and costs for both ERCOT and QSE’s, not feasibl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suggest looking into decreasing block deployments similar to NSRS deployment schem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o assess feasibility and report back at the June QSE Manager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ltiple BES Ramp Rate Feasibili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suggest not pursuing Alternative II due to cost and resource commitment by ERCOT.</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s to draft PRR to implement Alternative I (pre-processing), to be reviewed at June QSE Managers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L Deadban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ystems currently discount all RRS on a unit if unit falls 1 mw below L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discussed deadband below LOL in which ERCOT would not discount re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has submitted a system change to impement a 5% deadband such that reserves would not be discounted unless a unit falls below 5% under L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MR Claw-back provi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MS directed QSEMWG to investigate the significance of RMR capacity not offered in B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discussed some data on RMR units during bid stack depletion, but was not sufficient to determine signific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will provide additional data, concentrating on reserves available on RMR units during these intervals, at the next QSE Managers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R 607 – One Minute Ramp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mitted by FPL and assigned to QSE Managers through FCTF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nt of PRR is to allow QSE’s to better represent start-up and shut-down of un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15 minute schedules do not accurately represent these ramps and is causing SCE compliance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agree that technical requirements prohibit timely implementation of solution in ERCOT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agree to concentrate on compliance measure only and reject system modif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PL to re-draft PRR to address issue from a compliance measurement only perspec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discuss at June QSE Manager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5840" y="698400"/>
            <a:ext cx="4656240" cy="3492720"/>
          </a:xfrm>
          <a:prstGeom prst="rect">
            <a:avLst/>
          </a:prstGeom>
          <a:ln w="0">
            <a:noFill/>
          </a:ln>
        </p:spPr>
      </p:sp>
      <p:sp>
        <p:nvSpPr>
          <p:cNvPr id="16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DSWG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ught a resolution to WMS on negative LaaR bidding – which I will ge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 detailed discussion of how LaaR responded in the EECP and how demand side products fit into the Generation Adequacy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qued up a discussion on how or if you can measure price responsiveness.  There is  anticdotal evidence of price responsiveness, but quantifying it will be problemati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5840" y="698400"/>
            <a:ext cx="4656240" cy="3492720"/>
          </a:xfrm>
          <a:prstGeom prst="rect">
            <a:avLst/>
          </a:prstGeom>
          <a:ln w="0">
            <a:noFill/>
          </a:ln>
        </p:spPr>
      </p:sp>
      <p:sp>
        <p:nvSpPr>
          <p:cNvPr id="16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5840" y="698400"/>
            <a:ext cx="4656240" cy="3492720"/>
          </a:xfrm>
          <a:prstGeom prst="rect">
            <a:avLst/>
          </a:prstGeom>
          <a:ln w="0">
            <a:noFill/>
          </a:ln>
        </p:spPr>
      </p:sp>
      <p:sp>
        <p:nvSpPr>
          <p:cNvPr id="16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C5097-C7DF-4FFA-9874-A41D3C79A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5FA12-86EA-4C70-8FA1-C66034316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5D3CD-F766-4F4E-AB69-CA2A6D752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BE5DD-4908-4762-B8E9-22CCDFE75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753BB-E351-4C3F-BEE7-63BD9C5CA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1EEAF-DC65-45FD-8A4A-4E3344448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3D288-82EB-41E4-9835-BCD610FC7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C47F1-6187-45B6-8185-5B82A2036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0111-1200-4D04-926E-4D0E55838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01974-1CD2-44F4-86D3-7324AA00B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876AB-4366-491A-8632-04F0E7F6E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7E6A-23D3-450A-912D-F584ADF4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1DBB7-B022-4417-9F37-54022773F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6D413-150E-4EBC-B6DB-F3DBD85C8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43830-84EA-48F3-BE74-8B42A7C81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A3574-7197-4B3C-BA37-5C8936D1D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A070B-E3DB-4DD8-AD29-FABD40EF9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5274-804A-4A7A-AE51-3CEDE424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2D9D-4E7F-4112-A503-C5AE6F871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1862C-97F1-4C40-B978-7EA360DA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47ED-A8A4-49AD-9CC3-58B17513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A1D1-2CF0-48B5-8306-97DDB0377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1834-03E4-4E60-83EF-50BEE9DB2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05DE-D186-4B75-9AB9-9A50E2D5B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D89E-87DC-448D-86E1-E872F3025E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EC6A-182B-4628-A9A9-FDCEC2AB6D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jpeg"/><Relationship Id="rId10" Type="http://schemas.openxmlformats.org/officeDocument/2006/relationships/image" Target="../media/image4.wmf"/><Relationship Id="rId11" Type="http://schemas.openxmlformats.org/officeDocument/2006/relationships/image" Target="../media/image3.jpeg"/><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jpeg"/><Relationship Id="rId10" Type="http://schemas.openxmlformats.org/officeDocument/2006/relationships/image" Target="../media/image4.wmf"/><Relationship Id="rId11" Type="http://schemas.openxmlformats.org/officeDocument/2006/relationships/image" Target="../media/image3.jpeg"/><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767DFEB-C382-4B4B-B0C7-3CF18623AD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voted to Eliminate the sunset date in the Zonal Protocols and implement Alternative C in Nodal Market Desig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y Anne is drafting PRR</a:t>
            </a:r>
            <a:endParaRPr b="0" lang="en-US" sz="3600" spc="-1" strike="noStrike">
              <a:solidFill>
                <a:srgbClr val="ffffff"/>
              </a:solidFill>
              <a:latin typeface="Tahom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ayton is drafting NPRR</a:t>
            </a:r>
            <a:endParaRPr b="0" lang="en-US" sz="3600" spc="-1" strike="noStrike">
              <a:solidFill>
                <a:srgbClr val="ffffff"/>
              </a:solidFill>
              <a:latin typeface="Tahom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oth are working with Steve Krein</a:t>
            </a:r>
            <a:endParaRPr b="0" lang="en-US" sz="3600" spc="-1" strike="noStrike">
              <a:solidFill>
                <a:srgbClr val="ffffff"/>
              </a:solidFill>
              <a:latin typeface="Tahoma"/>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B4FE48B4-62C6-46A7-B67D-FCE655BE7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C RPRS</a:t>
            </a:r>
            <a:endParaRPr b="0" lang="en-US" sz="4000" spc="-1" strike="noStrike">
              <a:solidFill>
                <a:srgbClr val="e5ffff"/>
              </a:solidFill>
              <a:latin typeface="Tahoma"/>
            </a:endParaRPr>
          </a:p>
        </p:txBody>
      </p:sp>
      <p:sp>
        <p:nvSpPr>
          <p:cNvPr id="1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consistency between OOMC and Local RPRS generic startup payment formula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lve inconsistency between modeling of CCCTs in RPRS studies and reality</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CCT Generic Startup Cost Issue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is not finished and ERCOT has raised some unanswered concerns.</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51B8DF9-D241-43BD-89BC-468DB9925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equency Task Force</a:t>
            </a:r>
            <a:endParaRPr b="0" lang="en-US" sz="4400" spc="-1" strike="noStrike">
              <a:solidFill>
                <a:srgbClr val="e5ffff"/>
              </a:solidFill>
              <a:latin typeface="Tahoma"/>
            </a:endParaRPr>
          </a:p>
        </p:txBody>
      </p:sp>
      <p:sp>
        <p:nvSpPr>
          <p:cNvPr id="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ove WMS to recommendations on PRR 661 and 66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take up Primary Frequency control in coordination with ROS and the PD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448B322-3805-40D3-B023-06BB84A8E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taff Update on RPRS </a:t>
            </a:r>
            <a:br>
              <a:rPr sz="4000"/>
            </a:br>
            <a:r>
              <a:rPr b="0" lang="en-US" sz="4000" spc="-1" strike="noStrike">
                <a:solidFill>
                  <a:srgbClr val="e5ffff"/>
                </a:solidFill>
                <a:latin typeface="Tahoma"/>
              </a:rPr>
              <a:t>Function and Settlement</a:t>
            </a:r>
            <a:endParaRPr b="0" lang="en-US" sz="40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Spin Resourc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intly Owned Uni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onal Cong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schedule Charge for RPR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FDB408D-FD78-46D7-B928-C578C3FD7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C assignments to WMS</a:t>
            </a:r>
            <a:br>
              <a:rPr sz="4000"/>
            </a:br>
            <a:r>
              <a:rPr b="0" lang="en-US" sz="4000" spc="-1" strike="noStrike">
                <a:solidFill>
                  <a:srgbClr val="e5ffff"/>
                </a:solidFill>
                <a:latin typeface="Tahoma"/>
              </a:rPr>
              <a:t>WMS had no input on these</a:t>
            </a:r>
            <a:endParaRPr b="0" lang="en-US" sz="4000" spc="-1" strike="noStrike">
              <a:solidFill>
                <a:srgbClr val="e5ffff"/>
              </a:solidFill>
              <a:latin typeface="Tahoma"/>
            </a:endParaRPr>
          </a:p>
        </p:txBody>
      </p:sp>
      <p:sp>
        <p:nvSpPr>
          <p:cNvPr id="1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source Plan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pdating Resource Plan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ffline Capacity Not Availabl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x Capability in Resource Plans</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Much Wind Capacity to Count as Avail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182D4EC-4667-49EC-85F7-EEF9A7E24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bgroups of WMS</a:t>
            </a: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d Cycle RPRS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timization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ion Adequacy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Frequency Control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and-Side Response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ering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ed Scheduling Entity Managers Working Grou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116E2CF-00AE-4DBA-8DA1-43F5F65CCF8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RPRS presentation from ERCO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assignments to WMS from T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n’t make it through the agenda</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4FA497C-71EC-48A5-A85D-E3EB882435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Meterin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GRR005 – Change Control Process was not consistent with Protocol Section 21, Process for Protocol Revis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unanimously approved a motion to recommend that TAC approve the chang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9B42624-93CD-487B-A975-DE5612C7B1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o-Optimization</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meetings resulting in a Whitepaper and a recommendation to WMS</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hour ahead model can probably be done</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mmend against a 5-minute model</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s ERCOT to solicit vender information</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ssion Staff Expressed concerns about the outcome</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s ERCOT to solicit vender information</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endorsed Whitepaper and supported both requests for vender infor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D0DBC99-5FC1-43B3-A3D0-7A538F8CA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o-Optimization</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up meetings with Commission Staff</a:t>
            </a:r>
            <a:endParaRPr b="0" lang="en-US" sz="28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going concerns with missed opportunities associated with real time co-optimization</a:t>
            </a:r>
            <a:endParaRPr b="0" lang="en-US" sz="24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information to be sent to TAC before July</a:t>
            </a:r>
            <a:endParaRPr b="0" lang="en-US" sz="2400" spc="-1" strike="noStrike">
              <a:solidFill>
                <a:srgbClr val="ffffff"/>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t Nodal Implementation Plan</a:t>
            </a:r>
            <a:endParaRPr b="0" lang="en-US" sz="28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ation effectiveness evaluation plan</a:t>
            </a:r>
            <a:endParaRPr b="0" lang="en-US" sz="24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formalized list of issues to be explored and voted at a point TBD after Nodal implementation</a:t>
            </a:r>
            <a:endParaRPr b="0" lang="en-US" sz="24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l Time Co-optimization will be on the list</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EB7E639-CCB0-4D3D-9A1E-F30B51C4B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Spin Recal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BES Ramp Rate Feasi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L Deadb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R Claw-back provis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607 – One Minute Ramp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16CB2F7-45D4-47A5-9DD6-66FA49720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ng term solution for the negative LaaR bidding issu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and Response in EECP discussion</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neration Adequacy Rule review</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7344618F-AB2F-4B8E-9616-9D9447C250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9680" y="396360"/>
            <a:ext cx="8470800" cy="37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gh Level Overview of Solutions</a:t>
            </a:r>
            <a:endParaRPr b="0" lang="en-US" sz="4400" spc="-1" strike="noStrike">
              <a:solidFill>
                <a:srgbClr val="e5ffff"/>
              </a:solidFill>
              <a:latin typeface="Tahoma"/>
            </a:endParaRPr>
          </a:p>
        </p:txBody>
      </p:sp>
      <p:graphicFrame>
        <p:nvGraphicFramePr>
          <p:cNvPr id="104" name=""/>
          <p:cNvGraphicFramePr/>
          <p:nvPr/>
        </p:nvGraphicFramePr>
        <p:xfrm>
          <a:off x="295200" y="1252440"/>
          <a:ext cx="8475840" cy="4754520"/>
        </p:xfrm>
        <a:graphic>
          <a:graphicData uri="http://schemas.openxmlformats.org/drawingml/2006/table">
            <a:tbl>
              <a:tblPr/>
              <a:tblGrid>
                <a:gridCol w="2487600"/>
                <a:gridCol w="935280"/>
                <a:gridCol w="1311120"/>
                <a:gridCol w="1066680"/>
                <a:gridCol w="1121040"/>
                <a:gridCol w="1554120"/>
              </a:tblGrid>
              <a:tr h="866880">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lternative</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Resolves Credit Issue</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Cost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Time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Participants Impacted</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LaaR Participation Impact</a:t>
                      </a:r>
                      <a:endParaRPr b="0" lang="en-US" sz="1200" spc="-1" strike="noStrike">
                        <a:solidFill>
                          <a:srgbClr val="ffffff"/>
                        </a:solidFill>
                        <a:latin typeface="Arial"/>
                      </a:endParaRPr>
                    </a:p>
                  </a:txBody>
                  <a:tcPr anchor="t" marL="93240" marR="9324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 Collateralization for Negative Bids</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C. Single RRS Bid Stack with Separate LaaR and Gen MCPCs if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D. LaaR RRS Offered Below MCPC is Prorated when Market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904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 Eliminate Sunset Provision on Current Solution</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 descr=""/>
          <p:cNvPicPr/>
          <p:nvPr/>
        </p:nvPicPr>
        <p:blipFill>
          <a:blip r:embed="rId2"/>
          <a:stretch/>
        </p:blipFill>
        <p:spPr>
          <a:xfrm>
            <a:off x="2971800" y="3200400"/>
            <a:ext cx="623880" cy="625320"/>
          </a:xfrm>
          <a:prstGeom prst="rect">
            <a:avLst/>
          </a:prstGeom>
          <a:ln w="0">
            <a:noFill/>
          </a:ln>
        </p:spPr>
      </p:pic>
      <p:pic>
        <p:nvPicPr>
          <p:cNvPr id="106" name="" descr=""/>
          <p:cNvPicPr/>
          <p:nvPr/>
        </p:nvPicPr>
        <p:blipFill>
          <a:blip r:embed="rId3"/>
          <a:stretch/>
        </p:blipFill>
        <p:spPr>
          <a:xfrm>
            <a:off x="2971800" y="4114800"/>
            <a:ext cx="623880" cy="625320"/>
          </a:xfrm>
          <a:prstGeom prst="rect">
            <a:avLst/>
          </a:prstGeom>
          <a:ln w="0">
            <a:noFill/>
          </a:ln>
        </p:spPr>
      </p:pic>
      <p:pic>
        <p:nvPicPr>
          <p:cNvPr id="107" name="" descr=""/>
          <p:cNvPicPr/>
          <p:nvPr/>
        </p:nvPicPr>
        <p:blipFill>
          <a:blip r:embed="rId4"/>
          <a:stretch/>
        </p:blipFill>
        <p:spPr>
          <a:xfrm>
            <a:off x="3887640" y="3425760"/>
            <a:ext cx="777960" cy="557280"/>
          </a:xfrm>
          <a:prstGeom prst="rect">
            <a:avLst/>
          </a:prstGeom>
          <a:ln w="0">
            <a:noFill/>
          </a:ln>
        </p:spPr>
      </p:pic>
      <p:pic>
        <p:nvPicPr>
          <p:cNvPr id="108" name="" descr=""/>
          <p:cNvPicPr/>
          <p:nvPr/>
        </p:nvPicPr>
        <p:blipFill>
          <a:blip r:embed="rId5"/>
          <a:stretch/>
        </p:blipFill>
        <p:spPr>
          <a:xfrm>
            <a:off x="4029120" y="4595760"/>
            <a:ext cx="466560" cy="335160"/>
          </a:xfrm>
          <a:prstGeom prst="rect">
            <a:avLst/>
          </a:prstGeom>
          <a:ln w="0">
            <a:noFill/>
          </a:ln>
        </p:spPr>
      </p:pic>
      <p:pic>
        <p:nvPicPr>
          <p:cNvPr id="109" name="" descr=""/>
          <p:cNvPicPr/>
          <p:nvPr/>
        </p:nvPicPr>
        <p:blipFill>
          <a:blip r:embed="rId6"/>
          <a:stretch/>
        </p:blipFill>
        <p:spPr>
          <a:xfrm>
            <a:off x="6049800" y="3173400"/>
            <a:ext cx="1089360" cy="800280"/>
          </a:xfrm>
          <a:prstGeom prst="rect">
            <a:avLst/>
          </a:prstGeom>
          <a:ln w="0">
            <a:noFill/>
          </a:ln>
        </p:spPr>
      </p:pic>
      <p:pic>
        <p:nvPicPr>
          <p:cNvPr id="110" name="" descr=""/>
          <p:cNvPicPr/>
          <p:nvPr/>
        </p:nvPicPr>
        <p:blipFill>
          <a:blip r:embed="rId7"/>
          <a:stretch/>
        </p:blipFill>
        <p:spPr>
          <a:xfrm>
            <a:off x="6438960" y="4595760"/>
            <a:ext cx="311040" cy="227160"/>
          </a:xfrm>
          <a:prstGeom prst="rect">
            <a:avLst/>
          </a:prstGeom>
          <a:ln w="0">
            <a:noFill/>
          </a:ln>
        </p:spPr>
      </p:pic>
      <p:sp>
        <p:nvSpPr>
          <p:cNvPr id="111" name=""/>
          <p:cNvSpPr/>
          <p:nvPr/>
        </p:nvSpPr>
        <p:spPr>
          <a:xfrm>
            <a:off x="1575360" y="6305400"/>
            <a:ext cx="626940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 Icon size represents relative impact when compared with other alternatives.</a:t>
            </a:r>
            <a:endParaRPr b="0" lang="en-US" sz="1400" spc="-1" strike="noStrike">
              <a:solidFill>
                <a:srgbClr val="ffffff"/>
              </a:solidFill>
              <a:latin typeface="Arial"/>
            </a:endParaRPr>
          </a:p>
        </p:txBody>
      </p:sp>
      <p:pic>
        <p:nvPicPr>
          <p:cNvPr id="112" name="" descr=""/>
          <p:cNvPicPr/>
          <p:nvPr/>
        </p:nvPicPr>
        <p:blipFill>
          <a:blip r:embed="rId8"/>
          <a:stretch/>
        </p:blipFill>
        <p:spPr>
          <a:xfrm>
            <a:off x="2971800" y="5029200"/>
            <a:ext cx="623880" cy="625320"/>
          </a:xfrm>
          <a:prstGeom prst="rect">
            <a:avLst/>
          </a:prstGeom>
          <a:ln w="0">
            <a:noFill/>
          </a:ln>
        </p:spPr>
      </p:pic>
      <p:sp>
        <p:nvSpPr>
          <p:cNvPr id="113" name=""/>
          <p:cNvSpPr/>
          <p:nvPr/>
        </p:nvSpPr>
        <p:spPr>
          <a:xfrm>
            <a:off x="7605720" y="327348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14" name=""/>
          <p:cNvSpPr/>
          <p:nvPr/>
        </p:nvSpPr>
        <p:spPr>
          <a:xfrm>
            <a:off x="7450200" y="4440240"/>
            <a:ext cx="1009440" cy="542880"/>
          </a:xfrm>
          <a:prstGeom prst="leftRightArrow">
            <a:avLst>
              <a:gd name="adj1" fmla="val 50000"/>
              <a:gd name="adj2" fmla="val 37016"/>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15" name=""/>
          <p:cNvSpPr/>
          <p:nvPr/>
        </p:nvSpPr>
        <p:spPr>
          <a:xfrm>
            <a:off x="7467480" y="5334120"/>
            <a:ext cx="1009800" cy="544320"/>
          </a:xfrm>
          <a:prstGeom prst="leftRightArrow">
            <a:avLst>
              <a:gd name="adj1" fmla="val 50000"/>
              <a:gd name="adj2" fmla="val 36931"/>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16" name="" descr=""/>
          <p:cNvPicPr/>
          <p:nvPr/>
        </p:nvPicPr>
        <p:blipFill>
          <a:blip r:embed="rId9"/>
          <a:stretch/>
        </p:blipFill>
        <p:spPr>
          <a:xfrm>
            <a:off x="3873600" y="2363760"/>
            <a:ext cx="776160" cy="557280"/>
          </a:xfrm>
          <a:prstGeom prst="rect">
            <a:avLst/>
          </a:prstGeom>
          <a:ln w="0">
            <a:noFill/>
          </a:ln>
        </p:spPr>
      </p:pic>
      <p:pic>
        <p:nvPicPr>
          <p:cNvPr id="117" name="" descr=""/>
          <p:cNvPicPr/>
          <p:nvPr/>
        </p:nvPicPr>
        <p:blipFill>
          <a:blip r:embed="rId10"/>
          <a:stretch/>
        </p:blipFill>
        <p:spPr>
          <a:xfrm>
            <a:off x="6049800" y="2184480"/>
            <a:ext cx="1089360" cy="799920"/>
          </a:xfrm>
          <a:prstGeom prst="rect">
            <a:avLst/>
          </a:prstGeom>
          <a:ln w="0">
            <a:noFill/>
          </a:ln>
        </p:spPr>
      </p:pic>
      <p:sp>
        <p:nvSpPr>
          <p:cNvPr id="118" name=""/>
          <p:cNvSpPr/>
          <p:nvPr/>
        </p:nvSpPr>
        <p:spPr>
          <a:xfrm>
            <a:off x="7605720" y="226224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19" name="" descr=""/>
          <p:cNvPicPr/>
          <p:nvPr/>
        </p:nvPicPr>
        <p:blipFill>
          <a:blip r:embed="rId11"/>
          <a:stretch/>
        </p:blipFill>
        <p:spPr>
          <a:xfrm>
            <a:off x="4114800" y="5486400"/>
            <a:ext cx="311040" cy="222120"/>
          </a:xfrm>
          <a:prstGeom prst="rect">
            <a:avLst/>
          </a:prstGeom>
          <a:ln w="0">
            <a:noFill/>
          </a:ln>
        </p:spPr>
      </p:pic>
      <p:pic>
        <p:nvPicPr>
          <p:cNvPr id="120" name="" descr=""/>
          <p:cNvPicPr/>
          <p:nvPr/>
        </p:nvPicPr>
        <p:blipFill>
          <a:blip r:embed="rId12"/>
          <a:stretch/>
        </p:blipFill>
        <p:spPr>
          <a:xfrm>
            <a:off x="2940120" y="2262240"/>
            <a:ext cx="623880" cy="625320"/>
          </a:xfrm>
          <a:prstGeom prst="rect">
            <a:avLst/>
          </a:prstGeom>
          <a:ln w="0">
            <a:noFill/>
          </a:ln>
        </p:spPr>
      </p:pic>
      <p:sp>
        <p:nvSpPr>
          <p:cNvPr id="3" name="PlaceHolder 2"/>
          <p:cNvSpPr>
            <a:spLocks noGrp="1"/>
          </p:cNvSpPr>
          <p:nvPr>
            <p:ph type="sldNum" idx="3"/>
          </p:nvPr>
        </p:nvSpPr>
        <p:spPr/>
        <p:txBody>
          <a:bodyPr/>
          <a:p>
            <a:fld id="{0046CF21-85E4-4466-8A31-D538E69391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9680" y="396360"/>
            <a:ext cx="8470800" cy="37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gh Level Overview of Solutions</a:t>
            </a:r>
            <a:endParaRPr b="0" lang="en-US" sz="4400" spc="-1" strike="noStrike">
              <a:solidFill>
                <a:srgbClr val="e5ffff"/>
              </a:solidFill>
              <a:latin typeface="Tahoma"/>
            </a:endParaRPr>
          </a:p>
        </p:txBody>
      </p:sp>
      <p:graphicFrame>
        <p:nvGraphicFramePr>
          <p:cNvPr id="122" name=""/>
          <p:cNvGraphicFramePr/>
          <p:nvPr/>
        </p:nvGraphicFramePr>
        <p:xfrm>
          <a:off x="295200" y="1252440"/>
          <a:ext cx="8475840" cy="4754520"/>
        </p:xfrm>
        <a:graphic>
          <a:graphicData uri="http://schemas.openxmlformats.org/drawingml/2006/table">
            <a:tbl>
              <a:tblPr/>
              <a:tblGrid>
                <a:gridCol w="2487600"/>
                <a:gridCol w="935280"/>
                <a:gridCol w="1311120"/>
                <a:gridCol w="1066680"/>
                <a:gridCol w="1121040"/>
                <a:gridCol w="1554120"/>
              </a:tblGrid>
              <a:tr h="866880">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lternative</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Resolves Credit Issue</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Cost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Time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Participants Impacted</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LaaR Participation Impact</a:t>
                      </a:r>
                      <a:endParaRPr b="0" lang="en-US" sz="1200" spc="-1" strike="noStrike">
                        <a:solidFill>
                          <a:srgbClr val="ffffff"/>
                        </a:solidFill>
                        <a:latin typeface="Arial"/>
                      </a:endParaRPr>
                    </a:p>
                  </a:txBody>
                  <a:tcPr anchor="t" marL="93240" marR="9324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 Collateralization for Negative Bids</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C. Single RRS Bid Stack with Separate LaaR and Gen MCPCs if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D. LaaR RRS Offered Below MCPC is Prorated when Market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904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 Eliminate Sunset Provision on Current Solution</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23" name="" descr=""/>
          <p:cNvPicPr/>
          <p:nvPr/>
        </p:nvPicPr>
        <p:blipFill>
          <a:blip r:embed="rId2"/>
          <a:stretch/>
        </p:blipFill>
        <p:spPr>
          <a:xfrm>
            <a:off x="2971800" y="3200400"/>
            <a:ext cx="623880" cy="625320"/>
          </a:xfrm>
          <a:prstGeom prst="rect">
            <a:avLst/>
          </a:prstGeom>
          <a:ln w="0">
            <a:noFill/>
          </a:ln>
        </p:spPr>
      </p:pic>
      <p:pic>
        <p:nvPicPr>
          <p:cNvPr id="124" name="" descr=""/>
          <p:cNvPicPr/>
          <p:nvPr/>
        </p:nvPicPr>
        <p:blipFill>
          <a:blip r:embed="rId3"/>
          <a:stretch/>
        </p:blipFill>
        <p:spPr>
          <a:xfrm>
            <a:off x="2971800" y="4114800"/>
            <a:ext cx="623880" cy="625320"/>
          </a:xfrm>
          <a:prstGeom prst="rect">
            <a:avLst/>
          </a:prstGeom>
          <a:ln w="0">
            <a:noFill/>
          </a:ln>
        </p:spPr>
      </p:pic>
      <p:pic>
        <p:nvPicPr>
          <p:cNvPr id="125" name="" descr=""/>
          <p:cNvPicPr/>
          <p:nvPr/>
        </p:nvPicPr>
        <p:blipFill>
          <a:blip r:embed="rId4"/>
          <a:stretch/>
        </p:blipFill>
        <p:spPr>
          <a:xfrm>
            <a:off x="3887640" y="3425760"/>
            <a:ext cx="777960" cy="557280"/>
          </a:xfrm>
          <a:prstGeom prst="rect">
            <a:avLst/>
          </a:prstGeom>
          <a:ln w="0">
            <a:noFill/>
          </a:ln>
        </p:spPr>
      </p:pic>
      <p:pic>
        <p:nvPicPr>
          <p:cNvPr id="126" name="" descr=""/>
          <p:cNvPicPr/>
          <p:nvPr/>
        </p:nvPicPr>
        <p:blipFill>
          <a:blip r:embed="rId5"/>
          <a:stretch/>
        </p:blipFill>
        <p:spPr>
          <a:xfrm>
            <a:off x="4029120" y="4595760"/>
            <a:ext cx="466560" cy="335160"/>
          </a:xfrm>
          <a:prstGeom prst="rect">
            <a:avLst/>
          </a:prstGeom>
          <a:ln w="0">
            <a:noFill/>
          </a:ln>
        </p:spPr>
      </p:pic>
      <p:pic>
        <p:nvPicPr>
          <p:cNvPr id="127" name="" descr=""/>
          <p:cNvPicPr/>
          <p:nvPr/>
        </p:nvPicPr>
        <p:blipFill>
          <a:blip r:embed="rId6"/>
          <a:stretch/>
        </p:blipFill>
        <p:spPr>
          <a:xfrm>
            <a:off x="6049800" y="3173400"/>
            <a:ext cx="1089360" cy="800280"/>
          </a:xfrm>
          <a:prstGeom prst="rect">
            <a:avLst/>
          </a:prstGeom>
          <a:ln w="0">
            <a:noFill/>
          </a:ln>
        </p:spPr>
      </p:pic>
      <p:pic>
        <p:nvPicPr>
          <p:cNvPr id="128" name="" descr=""/>
          <p:cNvPicPr/>
          <p:nvPr/>
        </p:nvPicPr>
        <p:blipFill>
          <a:blip r:embed="rId7"/>
          <a:stretch/>
        </p:blipFill>
        <p:spPr>
          <a:xfrm>
            <a:off x="6438960" y="4595760"/>
            <a:ext cx="311040" cy="227160"/>
          </a:xfrm>
          <a:prstGeom prst="rect">
            <a:avLst/>
          </a:prstGeom>
          <a:ln w="0">
            <a:noFill/>
          </a:ln>
        </p:spPr>
      </p:pic>
      <p:sp>
        <p:nvSpPr>
          <p:cNvPr id="129" name=""/>
          <p:cNvSpPr/>
          <p:nvPr/>
        </p:nvSpPr>
        <p:spPr>
          <a:xfrm>
            <a:off x="1575360" y="6305400"/>
            <a:ext cx="626940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 Icon size represents relative impact when compared with other alternatives.</a:t>
            </a:r>
            <a:endParaRPr b="0" lang="en-US" sz="1400" spc="-1" strike="noStrike">
              <a:solidFill>
                <a:srgbClr val="ffffff"/>
              </a:solidFill>
              <a:latin typeface="Arial"/>
            </a:endParaRPr>
          </a:p>
        </p:txBody>
      </p:sp>
      <p:pic>
        <p:nvPicPr>
          <p:cNvPr id="130" name="" descr=""/>
          <p:cNvPicPr/>
          <p:nvPr/>
        </p:nvPicPr>
        <p:blipFill>
          <a:blip r:embed="rId8"/>
          <a:stretch/>
        </p:blipFill>
        <p:spPr>
          <a:xfrm>
            <a:off x="2971800" y="5029200"/>
            <a:ext cx="623880" cy="625320"/>
          </a:xfrm>
          <a:prstGeom prst="rect">
            <a:avLst/>
          </a:prstGeom>
          <a:ln w="0">
            <a:noFill/>
          </a:ln>
        </p:spPr>
      </p:pic>
      <p:sp>
        <p:nvSpPr>
          <p:cNvPr id="131" name=""/>
          <p:cNvSpPr/>
          <p:nvPr/>
        </p:nvSpPr>
        <p:spPr>
          <a:xfrm>
            <a:off x="7605720" y="327348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2" name=""/>
          <p:cNvSpPr/>
          <p:nvPr/>
        </p:nvSpPr>
        <p:spPr>
          <a:xfrm>
            <a:off x="7450200" y="4440240"/>
            <a:ext cx="1009440" cy="542880"/>
          </a:xfrm>
          <a:prstGeom prst="leftRightArrow">
            <a:avLst>
              <a:gd name="adj1" fmla="val 50000"/>
              <a:gd name="adj2" fmla="val 37016"/>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3" name=""/>
          <p:cNvSpPr/>
          <p:nvPr/>
        </p:nvSpPr>
        <p:spPr>
          <a:xfrm>
            <a:off x="7467480" y="5334120"/>
            <a:ext cx="1009800" cy="544320"/>
          </a:xfrm>
          <a:prstGeom prst="leftRightArrow">
            <a:avLst>
              <a:gd name="adj1" fmla="val 50000"/>
              <a:gd name="adj2" fmla="val 36931"/>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34" name="" descr=""/>
          <p:cNvPicPr/>
          <p:nvPr/>
        </p:nvPicPr>
        <p:blipFill>
          <a:blip r:embed="rId9"/>
          <a:stretch/>
        </p:blipFill>
        <p:spPr>
          <a:xfrm>
            <a:off x="3873600" y="2363760"/>
            <a:ext cx="776160" cy="557280"/>
          </a:xfrm>
          <a:prstGeom prst="rect">
            <a:avLst/>
          </a:prstGeom>
          <a:ln w="0">
            <a:noFill/>
          </a:ln>
        </p:spPr>
      </p:pic>
      <p:pic>
        <p:nvPicPr>
          <p:cNvPr id="135" name="" descr=""/>
          <p:cNvPicPr/>
          <p:nvPr/>
        </p:nvPicPr>
        <p:blipFill>
          <a:blip r:embed="rId10"/>
          <a:stretch/>
        </p:blipFill>
        <p:spPr>
          <a:xfrm>
            <a:off x="6049800" y="2184480"/>
            <a:ext cx="1089360" cy="799920"/>
          </a:xfrm>
          <a:prstGeom prst="rect">
            <a:avLst/>
          </a:prstGeom>
          <a:ln w="0">
            <a:noFill/>
          </a:ln>
        </p:spPr>
      </p:pic>
      <p:sp>
        <p:nvSpPr>
          <p:cNvPr id="136" name=""/>
          <p:cNvSpPr/>
          <p:nvPr/>
        </p:nvSpPr>
        <p:spPr>
          <a:xfrm>
            <a:off x="7605720" y="226224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37" name="" descr=""/>
          <p:cNvPicPr/>
          <p:nvPr/>
        </p:nvPicPr>
        <p:blipFill>
          <a:blip r:embed="rId11"/>
          <a:stretch/>
        </p:blipFill>
        <p:spPr>
          <a:xfrm>
            <a:off x="4114800" y="5486400"/>
            <a:ext cx="311040" cy="222120"/>
          </a:xfrm>
          <a:prstGeom prst="rect">
            <a:avLst/>
          </a:prstGeom>
          <a:ln w="0">
            <a:noFill/>
          </a:ln>
        </p:spPr>
      </p:pic>
      <p:pic>
        <p:nvPicPr>
          <p:cNvPr id="138" name="" descr=""/>
          <p:cNvPicPr/>
          <p:nvPr/>
        </p:nvPicPr>
        <p:blipFill>
          <a:blip r:embed="rId12"/>
          <a:stretch/>
        </p:blipFill>
        <p:spPr>
          <a:xfrm>
            <a:off x="2940120" y="2262240"/>
            <a:ext cx="623880" cy="625320"/>
          </a:xfrm>
          <a:prstGeom prst="rect">
            <a:avLst/>
          </a:prstGeom>
          <a:ln w="0">
            <a:noFill/>
          </a:ln>
        </p:spPr>
      </p:pic>
      <p:grpSp>
        <p:nvGrpSpPr>
          <p:cNvPr id="139" name=""/>
          <p:cNvGrpSpPr/>
          <p:nvPr/>
        </p:nvGrpSpPr>
        <p:grpSpPr>
          <a:xfrm>
            <a:off x="1066680" y="2286000"/>
            <a:ext cx="685800" cy="2522160"/>
            <a:chOff x="1066680" y="2286000"/>
            <a:chExt cx="685800" cy="2522160"/>
          </a:xfrm>
        </p:grpSpPr>
        <p:sp>
          <p:nvSpPr>
            <p:cNvPr id="140" name=""/>
            <p:cNvSpPr/>
            <p:nvPr/>
          </p:nvSpPr>
          <p:spPr>
            <a:xfrm>
              <a:off x="1066680" y="2286000"/>
              <a:ext cx="685800" cy="61344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41" name=""/>
            <p:cNvSpPr/>
            <p:nvPr/>
          </p:nvSpPr>
          <p:spPr>
            <a:xfrm>
              <a:off x="1066680" y="4194720"/>
              <a:ext cx="685800" cy="61344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3"/>
          </p:nvPr>
        </p:nvSpPr>
        <p:spPr/>
        <p:txBody>
          <a:bodyPr/>
          <a:p>
            <a:fld id="{CE36C48D-E416-4623-BA09-BE493ECCD588}"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5-24T20:06:42Z</dcterms:modified>
  <cp:revision>38</cp:revision>
  <dc:subject/>
  <dc:title>WMS Report TO TAC</dc:title>
</cp:coreProperties>
</file>