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E0C-E7BB-4C7E-966F-AE6FE1F2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4C2-245B-412C-8C10-2BE3B76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3D5-A5C6-49EA-B484-489081C1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3AF-D2CC-4BB5-9413-E6F4F46A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F3A0-514B-4210-BCEB-AD424A44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DF5-12B6-4D82-A8DB-DC11145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999-AC2D-482A-95F5-5BDB38B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DA6C-C5BD-48E8-AAD0-67D3A48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93A6-D3C3-4C4A-9A20-48ED463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88B-AF5F-4B66-B570-E684BB9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9D2B-3258-495F-8E7A-F614304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989-19C0-4B04-B95F-B53E205B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52B5-DEBA-4B33-BBE0-1E742A5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2ECA-6856-4458-BFCC-FA6EE61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F6BD-15D8-42AF-8810-66F1975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13E9-44CE-4311-BEB1-BDEDBD43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BD9D-9660-4B65-A8E7-C2774236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DC6-D055-4975-8821-5B01A21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8A0-F94F-411A-B2B2-0B90FA70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B5D-8D7E-41A9-8CFD-DD1FBDD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DDB-5CF0-4EF6-89A8-B649DF00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6EA-FE04-4837-B546-C036274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018-5E79-4768-9EA5-BC9A5BA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6A1-1318-4D5C-9FA1-E23B31C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A38E-71D8-4A60-ADAC-305BE31F3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B487-0770-4F0E-A099-CA924A07B1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AC Report to the ERCOT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y 16,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6BBC-B8B0-46AE-B521-6E7A9543F7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TAC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 unanimous PRRs (3 URG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 discussion regarding Board Retreat Action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interes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ice of Guide Re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BEA-E12D-424B-AC33-719BB6C08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Board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48 – Prevent IDR Removal from Customers Served at Transmission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57 – Process for Protocol Revisions during the Transition to a Nodal Market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59 – Reporting of ERCOT Replacement Reserve Procurements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R 660 – Texas SET Transactional Solution for a Mass Transition Event (URG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579-C7CF-4AE5-A684-FB7BCE524B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rd Retreat Action Items for T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trawman for TAC consideration regarding possibility of only sending PRRs with priority/ranking above cut line to Board, include review of Board oversight in Protocol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 taskforce gave preliminary report to TAC in May and will provide final report/recommendation at June TAC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 advantages and disadvantage of Market Participants directly funding some PRR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ed to 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147-1B75-4386-B013-AD756C1E1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im Solution for this ye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 time for POLR to submit switches from 5 to 3 business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 “first available switch date” from 6 to 3 business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bination of both will reduce credit exposure during mass transition event to 6 business days by June 200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g Term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R 660 approved with objective of reducing credit exposure during mass transition event to 3 business days by mid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7 Project Prioritization/Bud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C and Subcommittees involved in process previously described in Capital Projects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sess all projects regardless of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 appropriate funding level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al framework to review zonal/nodal system changes and impact on nodal imple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7 Project Prioritization list presented to TAC for consideration in 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362-4F00-4515-A1DE-BD9FEF13D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keholder Review of EECP E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keholder Meeting on May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ROS Initial Review on May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keholder Meeting assigned following issues for further revie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to schedule meeting to review load forecasting methodolog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Resource Plans and how related to EECP eve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market communication procedures related to emergency and short supply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LaaR performance during EECP event and other load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S assigned following issues for further revie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iew of actions under each EECP ste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ropriate triggers to initiate each EECP ste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ropriate determination of operating reserves leve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ance communication to Transmission Operators/QS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patching of additional reserves while under EE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9D6-ACCF-4F10-8705-1DD5C35C4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Interest Issue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TAC Meeting Regarding Nod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program charter, timeline, critical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rm current TAC 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communication channels for implementatio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additional meetings as needed during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, Demand and Reserve Repo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ion Adequacy Task Force to review reserve margin calculation methodology and consider improv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0B5-27D0-444C-976A-8E03891C3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Revisions No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Guide Revi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6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Reporting of Reserve Capability Under Severe Gas Curtail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76 – Market Participant Use of DNS or ERCOT Web-Based Front Page for Site Failo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78 – Revision to Reactive Limits Verification Fo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RR182 – Process for Operating Guide Revi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filing Guide Re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GRR011 - Correction to LPGRR 010, Load Profile Type Responsibility Chan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9BF-8015-4DDC-9A99-A72238052E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 </cp:lastModifiedBy>
  <dcterms:modified xsi:type="dcterms:W3CDTF">2006-05-16T17:08:22Z</dcterms:modified>
  <cp:revision>257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037D34FBCFF039438863FA30F612A76C0700162CD748CF8119438D558F0A96BDC591000001DC0C400000E125D9B764E4DA448BFC30A2A3ECD2110000003F65EE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