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12B-90B6-4F84-80A3-3A169722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754-486A-449E-922D-4E7A1E5D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874-8F13-4BC3-84CB-3BB65213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A3C-185A-4BF2-A3C3-E37B3C25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5B6-4E4A-43A6-9644-05F8A058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00D-944F-40C0-AB83-18F3D4F2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F11-219B-4962-BEC6-3B731F9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5EA-3FE0-4C20-8D38-7145C62F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148-F9E8-4D35-865A-8098F6B5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021-BB2E-4FC5-84BA-E667DF89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955-BEE9-4BE3-B076-15962892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DA5-1624-4AEC-A9BF-527F439B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289D-1E70-4E51-96FD-B00374B92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S Report to TAC – 6/1/0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will next meet on 6/15-16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-and-a-half meeting permits exten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n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TF Requests /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EECP Steps /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S Performanc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 Rita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6/1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S Review of 4/17/06 EECP Event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met on 5/15/06 to review the ERCOT Operations Report for the 4/17/06 EECP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had no significant issues with the data in the report, or with ERCOT actions taken during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for additional discussion / impr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nce on 100% of indicated reserv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advance notice to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 / control of additional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ty /adequacy of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manual LAAR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Public 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these points at the next ROS necessary to enable a determination of more appropriate EECP triggers and/or any changes in actions at EECP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6/1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gress on Remaining TPTF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metry Criteria – NDSWG sponsored meetings in progress, ROS to consider in J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stimator Performance Standard – NDSWG sponsored meetings in progress, ROS to consider in J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Frequency Bias – PDCWG assignment, ROS to consider later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Spin Deployments – ROS to consider later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8 Performance Measures – Not active at this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Transmission Outage – ROS to consider ERCOT proposal later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5-26T20:20:41Z</dcterms:modified>
  <cp:revision>13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0220962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June 1, 2006 TAC Meeting Agenda and Available Background Material</vt:lpwstr>
  </property>
</Properties>
</file>