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6B84-1C65-4A8D-867C-BFE5488B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96C6-F927-446F-8C1D-BD1B9BBE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4F7B-4EC8-45E0-811F-64A9FC1A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8E01-80BF-4D97-BDAF-EC84FF5C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E47F-794C-4E4B-83D3-A414088C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708E-2AC3-48C7-94CD-2FED2AEB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3A76-1645-4AE6-B620-CB65D4F5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873E-91E7-4B8B-BF1D-8DA281D0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5CE7-B88F-4D13-8E8F-7198B0CC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98BB-AA3F-46D8-9A28-ADDFEEAE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5A08-C23E-4E38-B0BB-44C5E894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76B1-EE86-46DB-9A52-F321FA50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011F-5D7A-4A14-9D4C-44833920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5655-B1C8-4C2E-8E5A-436DE049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336E-BAFD-41A8-8372-93F7E85F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097F-8421-4C82-AD32-E5FC9F14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F3FF-72F3-47CA-8679-FB305724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B609-ECA1-44F4-BCE0-9033787E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9624-F4CB-4C20-A71F-FF412C36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EE42-E1F9-4B78-BA9F-BC1A6D79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F23A-BDEE-43F8-B36C-5FD07314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464C-80DF-4AE6-AB98-FD1478F3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D786-BE0B-484D-AA88-94E20FF2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2B29-BD79-457F-AFEE-EF92A4F9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3830-19E9-4DF5-A26C-1489934A02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50A6-1EEF-4B33-A306-C627CFAA2D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TAC Report to the ERCOT Bo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ay 16, 200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B227-189C-4FF2-9D56-D9D5622EB7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TAC Summ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 unanimous PRRs (3 URG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C discussion regarding Board Retreat Action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 interest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ice of Guide Rev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807C-7F6B-4666-86EC-87A739B042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Recommended Board A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ppr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R 648 – Prevent IDR Removal from Customers Served at Transmission Volt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R 657 – Process for Protocol Revisions during the Transition to a Nodal Market (URG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R 659 – Reporting of ERCOT Replacement Reserve Procurements (URG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R 660 – Texas SET Transactional Solution for a Mass Transition Event (URG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667A-1D65-4F67-853A-6A9C4DCAE5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ard Retreat Action Items for T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 strawman for TAC consideration regarding possibility of only sending PRRs with priority/ranking above cut line to Board, include review of Board oversight in Protocols 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C taskforce gave preliminary report to TAC in May and will provide final report/recommendation at June TAC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uss advantages and disadvantage of Market Participants directly funding some PRRs 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igned to P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F43E-D6CE-4983-8E8F-A19A517773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gh Interest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ss Tran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im Solution for this ye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duce time for POLR to submit switches from 5 to 3 business da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duce “first available switch date” from 6 to 3 business da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bination of both will reduce credit exposure during mass transition event to 6 business days by June 200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ng Term 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R 660 approved with objective of reducing credit exposure during mass transition event to 3 business days by mid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7 Project Prioritization/Budget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C and Subcommittees involved in process previously described in Capital Projects Upd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oal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ssess all projects regardless of 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vide appropriate funding level in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rmal framework to review zonal/nodal system changes and impact on nodal implement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07 Project Prioritization list presented to TAC for consideration in Ju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401B-D4FF-4170-9687-5965A61E16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gh Interest Issues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keholder Review of EECP Ev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keholder Meeting on May 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ROS Initial Review on May 1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keholder Meeting assigned following issues for further revie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RCOT to schedule meeting to review load forecasting methodology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view of Resource Plans and how related to EECP even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view of market communication procedures related to emergency and short supply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view LaaR performance during EECP event and other load res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S assigned following issues for further revie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view of actions under each EECP ste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propriate triggers to initiate each EECP ste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propriate determination of operating reserves leve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vance communication to Transmission Operators/QSE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patching of additional reserves while under EEC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D884-52F7-4359-B9A3-6E1CE7E71F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gh Interest Issues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 TAC Meeting Regarding Nod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program charter, timeline, critical p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irm current TAC action 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communication channels for implementation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dule additional meetings as needed during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pacity, Demand and Reserve Repor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tion Adequacy Task Force to review reserve margin calculation methodology and consider improvem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094D-892E-49FC-996D-DE64F24F86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uide Revisions Not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ng Guide Revis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RR169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Reporting of Reserve Capability Under Severe Gas Curtailm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RR176 – Market Participant Use of DNS or ERCOT Web-Based Front Page for Site Failov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RR178 – Revision to Reactive Limits Verification For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RR182 – Process for Operating Guide Revi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 Profiling Guide Revis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GRR011 - Correction to LPGRR 010, Load Profile Type Responsibility Chang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6AF9-B01A-4E72-97A8-BE8F1E5E01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4:41:47Z</dcterms:created>
  <dc:creator>Michael Oldak</dc:creator>
  <dc:description/>
  <dc:language>en-US</dc:language>
  <cp:lastModifiedBy> </cp:lastModifiedBy>
  <dcterms:modified xsi:type="dcterms:W3CDTF">2006-05-16T17:08:22Z</dcterms:modified>
  <cp:revision>257</cp:revision>
  <dc:subject/>
  <dc:title>Electricity Committ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037D34FBCFF039438863FA30F612A76C0700162CD748CF8119438D558F0A96BDC591000001DC0C400000E125D9B764E4DA448BFC30A2A3ECD2110000003F65EE0000</vt:lpwstr>
  </property>
  <property fmtid="{D5CDD505-2E9C-101B-9397-08002B2CF9AE}" pid="3" name="_NewReviewCycle">
    <vt:lpwstr/>
  </property>
  <property fmtid="{D5CDD505-2E9C-101B-9397-08002B2CF9AE}" pid="4" name="_ReviewCycleID">
    <vt:r8>1576423983</vt:r8>
  </property>
  <property fmtid="{D5CDD505-2E9C-101B-9397-08002B2CF9AE}" pid="5" name="_ReviewingToolsShownOnce">
    <vt:lpwstr/>
  </property>
  <property fmtid="{D5CDD505-2E9C-101B-9397-08002B2CF9AE}" pid="6" name="_TentativeReviewCycleID">
    <vt:r8>1576423983</vt:r8>
  </property>
</Properties>
</file>