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6E3-B101-4356-90E1-0F3B71BE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4BF-2D69-4412-9F23-A9EE04D6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289-42B9-4F0E-A7B1-AF0EBC24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3CE-008D-48CF-A968-1F3AB846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14D3-A3D9-4D80-95C7-A838F7A9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322D-72D9-42A3-BA4A-23B1287B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8C7E-9CD5-41A6-90E3-BEAB3911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4B0B-8BBB-4F12-A3E5-4B98095D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FE12-2A21-4D50-A1CF-FEE10669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0B67-2FC8-40E9-842F-5D4D12A6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AE57-5C3F-496D-BE80-3F7302F7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DE5-B83F-45E5-BB6A-4EA130C4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4427-E45D-4F2C-B971-8D8E95CC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05A8-DC80-4444-A7AD-9C58E5AD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6612-B342-420D-8FE4-9C11B4DE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B862-980D-407F-923D-16A8DED7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9D25-B21D-4C9F-A5AB-CDAD6C12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EE7-D652-49C1-8C02-B37E5A6A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DDD-B0E4-4C2A-8B4E-129494E2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AF8-0083-4317-A529-068BACB2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443-44A5-49ED-9EF8-E2672C5F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5D8-C540-4C54-8037-FD7E5547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B6F-F34E-46C9-B60D-F950B833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D07-DA18-4087-A4B9-4AF4B1F7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DD89-A722-450B-B515-54EA47692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F6F9-A725-4943-8B62-2A6E7AB65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June 1,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2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Modify A/S Deployment Performance Conditions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34290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03920" y="3429000"/>
            <a:ext cx="26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 FTE (Same FTE as PRR 6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ecommended TAC A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Approv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R 654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– Remove Market Solution Refer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R 655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–  Approval of Temporary Modification to Annual Validation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R 661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–  Performance Enforcement Criteria  --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R 662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--  Modify A/S Deployment Performance Conditions --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tension Of A/S Qualification Period Propos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/S Qualification Exten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CWG recommended changes to Responsive and Non-Spin Reserve monitoring criteria in PRRs 664 &amp; 6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S reviewed and requested ROS review and comment before taking 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S determined that a 60-day extension of the July 31, 2006 should be requested from the ERCOT Board by TA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ject Participant Funding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s &amp; C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S Input for ERCOT Board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rket Participant Funding for Market Proj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sues with Market Participant (MP) funding of market projects identified by PRS on 03/23/06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ds a new level of complexity to contract negoti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ity that contributes financially to project could want some level of control over pro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ential funds management and confidentiality iss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allenge of addressing resource impacts between fee based and MP funded proj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uman resource allo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uman resource co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ential for parties to force option of MP funding if a project does not directly benefit a particular ent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s in only projects supported by investors will be fun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rket Participant Funding for Market Proj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stions on how to address project overruns or investor abandoned proj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equent Protocol revisions could impact the value of a MP funded pro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s may more readily overlook the impacts of such MP funded projects by another project if stakeholders have no financial stake in pro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ential for equity issues whereby large stakeholders have an advantage over smaller ent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 Non-System Changes – IA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System Change – CBA/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 Urg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tension of A/S Qualification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view Participant Funding Pros &amp; C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4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move Market Solution Referenc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828800"/>
          <a:ext cx="8229600" cy="42274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LCRA, Cooperativ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moves the term “market solution” from the Protocol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earer, more accurate Protoc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gust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4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move Market Solution Referenc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5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Approval of Temporary Modification to Annual Valida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229600" cy="45878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Reliant, IPM for PW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TAC to grant approval of temporary modification to the Annual Validation proces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s revision would allow TAC to give the final approval for both permanent and temporary modifications to the Annual Validation proces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gust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5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Approval of Temporary Modification to Annual Valida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1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Performance Enforcement Criteria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371600"/>
          <a:ext cx="8229600" cy="51037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PSEG – Independent Generato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eates criteria for SCE performance enforcement;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rgent due to PRR 525 being in effe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a large QSE is eliminated from the market, the Market Clearing Price (MCPE) will spike to a higher clearing price.  This PRR eliminates price shock if a large QSE is eliminated from the Ancillary Services market.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ject needed to automate manual work-aroun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oids price impact from large QSE disqualifi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3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B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1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Performance Enforcement Criteria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8954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34290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39625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44956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9120" y="342900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 FTE for ERCOT Complia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48120" y="2895480"/>
            <a:ext cx="33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&lt;$100K, Initial Manual Workarou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9960" y="449568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ncreased Compliance Ac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2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Modify A/S Deployment Performance Conditions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49435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rifies current language exempting the intervals following a Forced Outage from SCE measure and adds other exemptions;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rgent due to PRR 525 being in effe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oids improper disqualification of Qualified Scheduling Entities (QSEs) and unnecessary depletion of Ancillary Service bid stacks and the resulting higher prices expected from tighter supply.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3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B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Reliant</cp:lastModifiedBy>
  <dcterms:modified xsi:type="dcterms:W3CDTF">2006-06-01T14:30:56Z</dcterms:modified>
  <cp:revision>27</cp:revision>
  <dc:subject/>
  <dc:title>Protocol Revision Subcommittee</dc:title>
</cp:coreProperties>
</file>