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18363B-0FDA-4196-8C3E-74D1D1186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9A1C7C-2B57-49E4-89BB-D6DEED796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5480" y="6426000"/>
            <a:ext cx="5185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4E87-E93D-437C-A985-F06B9C3D5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68E6-F691-4FB6-91FC-7BF224046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F0EE6-E272-4196-9686-6B1CA8E9E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EB10-281C-434A-995A-32F9969F4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CC1B-AFD2-458A-9F0E-B0C1FE45D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7745-EEF7-4EC5-8C6C-52D57A1B0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BBA3-4CC4-4713-96C5-75AEF69A7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9EE5-9B98-42E9-8BC6-97ABD61F8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E449-F075-4378-8DB0-7751EF9C8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0E6F-190C-4D22-AD97-98E36D0D9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8C49-2D0A-459D-8BB2-D48070225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697D-5DAF-491B-A55A-9487F6AB6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E17905FF-9B53-4331-A150-346B55DABEB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431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366552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20934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0" y="3007440"/>
            <a:ext cx="6632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/20 Retail Releas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298600" y="3817440"/>
            <a:ext cx="62359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gr, Market Ops Divisional Projects Organiz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S Me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3, 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6920" y="211680"/>
            <a:ext cx="7732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Update – 5/20 Retail Release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520" y="960120"/>
            <a:ext cx="8888400" cy="54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d migration began Sat, 5/20 and completed Sun, 5/21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7120" indent="-22716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d Market Information Distribution (MID) system changes to address final set of changes to complete transfer of Report Explorer functionality to M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of Monday, 5/22, there were 2 issues reported by Market related to M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3844C-328A-4AEB-978C-AA1A80F106F8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6920" y="211680"/>
            <a:ext cx="7732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Update – 5/20 Retail Release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8520" y="852120"/>
            <a:ext cx="888840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 with date stamp in 7 re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-26676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ption/I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27080" indent="-28584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 Explorer naming convention creates name using GMT timestamp; MID creates using CST timestamp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27080" indent="-28584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ectation of CST based on the weekend conversion, yet GMT was still showing.  Resulted in errors when pulling these files into MP’s backend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-26676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27080" indent="-28584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 reports / 1 MP reported issue to ERCO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92120" indent="-19044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rket Information Extract, Ancillary Services Extract, Bids and Schedules Extract, Forecast Data Extract, ASDEPLOYMENTS, ASBIDSTACKS, Dayahead Rep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-26676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ot ca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27080" indent="-28584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change to a parameter for a Maestro user account was still pointing to the old RMC output direct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6720" indent="-26676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olution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27080" indent="-28584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sue resolved on Monday, 5/2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0973-C3BB-48B0-8C0A-EF4F988A1F94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6920" y="211680"/>
            <a:ext cx="7732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Update – 5/20 Retail Release</a:t>
            </a:r>
            <a:endParaRPr b="0" lang="en-US" sz="24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520" y="819000"/>
            <a:ext cx="888840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92680" indent="-2926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 with historical data rendered in reports accessed via ERCOT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5596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85680" indent="-27432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s access via public web site only contain 90 day’s historical data when reports should contain up to 2 years’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5596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85680" indent="-27432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MP reported iss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85680" indent="-27432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 Reports: Day Ahead Report, AS Deployments, AS Schedules, AS Bid Stac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5596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ot Ca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85680" indent="-27432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missing data – all historical data has been converted for use by MID, but MID limits public website reports to 90 day’s volu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85680" indent="-27432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team missed requirement for up to 2 year’s data on these reports, regardless of access mechanis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5596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olution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85680" indent="-27432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me reports accessed via TML (using digital certificate) render all data as requir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85680" indent="-27432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COT will implement fix to address reports accessed via </a:t>
            </a: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www.ERCO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85680" indent="-274320">
              <a:lnSpc>
                <a:spcPct val="90000"/>
              </a:lnSpc>
              <a:spcBef>
                <a:spcPts val="451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olution date TB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6FFE-D92C-4538-ADF2-5DEE413CD4A1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82720" y="1257480"/>
            <a:ext cx="767376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m D. Martin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gr, 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8160" y="1926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Questions / Conta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F0D09-C841-49A4-AD49-C6EB05859A67}" type="slidenum">
              <a:t>5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Adam Martinez</dc:creator>
  <dc:description/>
  <dc:language>en-US</dc:language>
  <cp:lastModifiedBy>amartinez</cp:lastModifiedBy>
  <dcterms:modified xsi:type="dcterms:W3CDTF">2006-05-23T17:10:05Z</dcterms:modified>
  <cp:revision>145</cp:revision>
  <dc:subject/>
  <dc:title>Slide 1</dc:title>
</cp:coreProperties>
</file>