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491D-7054-47F2-9CAC-9A18CFAB9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77A8-CD49-4D82-B04C-1AF55236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0FD5-A302-4B40-8217-2B0A382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AE0F-3543-48D9-91E3-F54A74391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C3D8-38DE-403A-B1BE-295EC91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2650-12CF-4FAD-B170-0A4C3B26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7BA5-B8AE-42EF-902E-A15FAFF9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86A6-DACA-4A25-91AE-CDD914DB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3949-DD3E-474B-B9A9-1C8CE082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726B-EB91-427E-9275-911CEAF0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FF07-B159-44B7-B2F4-4BCF3014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38B3-B07D-4134-A77E-59DA8B9C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1BE1-ACC7-4F69-9D96-E6B9AAF70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y 23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F951-19D1-429B-A12F-3A602A2F1E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828800"/>
            <a:ext cx="853416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Profile ID assignment responsibi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010 is Approved and Effective 5/1/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011 is Approved and Effective 5/4/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cc99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Comple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ing Profile Evaluation and New Profile Recommen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ettlement trade day transition to new profiles shall be of 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ntative timeline has been developed, see later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agrees profile id assignment needs to be stable fir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curacy criteria for sample design on PWG May Ag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umber of additional meters pending accuracy and alloca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39F4-EC20-4C2C-84B3-1F2C237287F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828800"/>
            <a:ext cx="853416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RCOT Recommendation in favor of a flat pro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to poll for consensus at the May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ow to implement may be significant issue if profil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zing Annual Validation Migration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agrees to use of ERCOT new residential algorith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to review additional analyze of weighting and assignment of the Business load factor profiles and is on the May meeting ag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w Decision Tree with new residential algorithm and load factor profile assignment changes to be reviewed at May PWG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2004 &amp; 2005 UFE Analy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6079-2254-4ED0-9302-0DDFFCAB5D1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828800"/>
            <a:ext cx="853416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ways to accommodate extreme events on the Sett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Lagged Dynamic pro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R Analysis – 2 issues outstanding from original analy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into the LPG the Decision Tree language where possi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.     Draft LPGRR approved by PWG and shall be requested to be on COPS June Meeting for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84E1-A161-40C2-84FE-EE6A9C29BF0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agreed to the language on LPGRR012, Process for Load Profiling Guide Revisions, which has been filed on 5/2/06 with Market Rule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d shall be requested to be on the June COPS meeting for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eeting Procedures for PWG is being developed and pending re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6EDC-B718-48E6-B13B-CF71607488C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00" y="1905120"/>
            <a:ext cx="885024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785B-61DD-4E75-9428-92483B52109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3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Windows XP ver. 2.2</cp:lastModifiedBy>
  <dcterms:modified xsi:type="dcterms:W3CDTF">2006-05-15T19:36:25Z</dcterms:modified>
  <cp:revision>167</cp:revision>
  <dc:subject/>
  <dc:title>PowerPoint Presentation</dc:title>
</cp:coreProperties>
</file>