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5BC-AD2E-49CF-8985-CD366102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882-F136-4BC4-8B65-5A73972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D6E-3014-46A2-AC9A-8D56F591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979-79D1-4075-B8DF-5191413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243C-4211-47B6-9C72-EAAF3E97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9CF7-D9AC-472E-A02C-9AA5AE7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4C65-C7D6-4486-8D90-24BEB189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AF32-2C13-4DCD-A116-482AEB2D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EF6-470D-4522-9E72-7B10C4B8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FB0-97A9-41EC-85FD-89E31AC3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537-8AD5-4BC3-94B8-9468EC8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A2F-9C7B-476A-B774-A4408859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74AC-12DE-47CE-B3F8-28761AA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679F-0F24-44B3-A6A6-ADBFD32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C9F-0A29-4397-A4FA-4793E50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522D-8DBF-45D3-B467-6CE1942D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E227-7D90-45D5-AC7B-2FA05273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C39-84FA-43F6-9E7E-9B9E4BB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EB2-3CDC-4952-9139-D66FD1D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296-4EAD-41CC-B7C6-4DCD920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816-07B1-4E8B-847D-0214484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4CB-DC94-4B39-9416-8E26696E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328-8EE7-4D22-A012-EE402F70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C40-0694-40CE-B993-D93C62C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A90-1301-47C2-AB46-ED95CA698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F7A1-2DAD-4897-8E60-4EF4F2D52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CWG Upda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002COPMGRR -  Outage Notification Char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WG 5/19/06 Meeting: Reviewed comments and recommended appro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ERCOT (Week of 5/22 -5/26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sue Recommendation Report to C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ERCOT (June 2</a:t>
            </a:r>
            <a:r>
              <a:rPr b="0" lang="en-US" sz="2200" spc="-1" strike="noStrike" baseline="30000">
                <a:solidFill>
                  <a:srgbClr val="3333ff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?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plete Impact Analysis, 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CWG (June 9</a:t>
            </a:r>
            <a:r>
              <a:rPr b="0" lang="en-US" sz="22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view Recommendation Report &amp; 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OPS June 27</a:t>
            </a:r>
            <a:r>
              <a:rPr b="0" lang="en-US" sz="22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pproval of Recommendation Report &amp; 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PRS July 20</a:t>
            </a:r>
            <a:r>
              <a:rPr b="0" lang="en-US" sz="2200" spc="-1" strike="noStrike" baseline="30000">
                <a:solidFill>
                  <a:srgbClr val="3333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signment of Project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TAC August 3</a:t>
            </a:r>
            <a:r>
              <a:rPr b="0" lang="en-US" sz="2200" spc="-1" strike="noStrike" baseline="30000">
                <a:solidFill>
                  <a:srgbClr val="3333ff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pproval of 002COPMGR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1:05:49Z</dcterms:created>
  <dc:creator>Judy Briscoe</dc:creator>
  <dc:description/>
  <dc:language>en-US</dc:language>
  <cp:lastModifiedBy>brisjf</cp:lastModifiedBy>
  <dcterms:modified xsi:type="dcterms:W3CDTF">2006-05-22T13:06:27Z</dcterms:modified>
  <cp:revision>7</cp:revision>
  <dc:subject/>
  <dc:title>CCWG Update – March 2nd Meeting</dc:title>
</cp:coreProperties>
</file>