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5494-47C1-41AF-863A-8462E1218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25DC-3B3E-4A7B-86C9-A69C255B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10CA-4613-4FE0-9DBA-DA9BFA4C9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0824-3D1F-4A73-89D1-1021AC764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52DB-702C-4F73-A62C-33BCC4283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E336-B6AF-4263-A956-9D85CF7BF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76F8-ED6C-4ECF-8F09-90B7F7F72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146C-2C1F-4E7B-9286-229DF3D1C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F45F-CE8A-413E-A6EB-431F5255D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E385-1FCC-4C50-8295-67ECC58D5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F879-F0E9-43A6-9487-6CA9933E4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276E-E3F9-4170-8F1E-ACC37F96F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2831-55BF-4F49-9588-C074C147A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B8C2-0F5A-40B6-AA27-F8B78B04F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4A654DDB-9028-46F8-8ADC-3B92AD27FA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7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 Priori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roject Priority Lists (PP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ry 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 Prioritization folder on ERCOT.com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prog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Guideline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7936400">
            <a:off x="7655040" y="2796840"/>
            <a:ext cx="1676520" cy="536400"/>
          </a:xfrm>
          <a:custGeom>
            <a:avLst/>
            <a:gdLst>
              <a:gd name="textAreaLeft" fmla="*/ 329040 w 1676520"/>
              <a:gd name="textAreaRight" fmla="*/ 1109160 w 1676520"/>
              <a:gd name="textAreaTop" fmla="*/ 71640 h 536400"/>
              <a:gd name="textAreaBottom" fmla="*/ 464760 h 53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50840"/>
            <a:ext cx="5867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13716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15080" y="1981080"/>
            <a:ext cx="196380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8 – 2007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468400">
            <a:off x="3200040" y="5029200"/>
            <a:ext cx="1990800" cy="422280"/>
          </a:xfrm>
          <a:custGeom>
            <a:avLst/>
            <a:gdLst>
              <a:gd name="textAreaLeft" fmla="*/ 390600 w 1990800"/>
              <a:gd name="textAreaRight" fmla="*/ 1316880 w 1990800"/>
              <a:gd name="textAreaTop" fmla="*/ 56520 h 422280"/>
              <a:gd name="textAreaBottom" fmla="*/ 365760 h 42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36400">
            <a:off x="6860520" y="4722120"/>
            <a:ext cx="1674720" cy="612720"/>
          </a:xfrm>
          <a:custGeom>
            <a:avLst/>
            <a:gdLst>
              <a:gd name="textAreaLeft" fmla="*/ 328680 w 1674720"/>
              <a:gd name="textAreaRight" fmla="*/ 1107720 w 167472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-2879804"/>
                <a:lnTo>
                  <a:pt x="21115" y="7200"/>
                </a:lnTo>
                <a:lnTo>
                  <a:pt x="17745" y="0"/>
                </a:lnTo>
                <a:lnTo>
                  <a:pt x="13404" y="7200"/>
                </a:lnTo>
                <a:lnTo>
                  <a:pt x="16476" y="7200"/>
                </a:lnTo>
                <a:arcTo wR="8481" hR="21600" stAng="2520196" swAng="2754626"/>
                <a:lnTo>
                  <a:pt x="9264" y="21508"/>
                </a:lnTo>
                <a:arcTo wR="8481" hR="21600" stAng="5525178" swAng="5274822"/>
                <a:close/>
              </a:path>
              <a:path fill="darkenLess" w="21600" h="21600">
                <a:moveTo>
                  <a:pt x="0" y="0"/>
                </a:moveTo>
                <a:arcTo wR="8481" hR="21600" stAng="10800000" swAng="-5400000"/>
                <a:lnTo>
                  <a:pt x="10048" y="21600"/>
                </a:lnTo>
                <a:arcTo wR="8481" hR="21600" stAng="5400000" swAng="125178"/>
                <a:lnTo>
                  <a:pt x="9264" y="21508"/>
                </a:lnTo>
                <a:arcTo wR="8481" hR="21600" stAng="5525178" swAng="5274822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676520"/>
            <a:ext cx="2049480" cy="27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50292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6240" y="5656320"/>
            <a:ext cx="3547800" cy="947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5 – Post project lists and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2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24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9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5 – Final Review of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114800"/>
            <a:ext cx="20653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Review of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497400"/>
            <a:ext cx="2082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Initial Planning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Prioritizati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6 – Approve 2007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38280" y="426708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7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ed Hailu</cp:lastModifiedBy>
  <dcterms:modified xsi:type="dcterms:W3CDTF">2006-05-15T20:06:19Z</dcterms:modified>
  <cp:revision>83</cp:revision>
  <dc:subject/>
  <dc:title>Slide 1</dc:title>
</cp:coreProperties>
</file>