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MP Executive- May 24, 2006 Draft v0.2              </a:t>
            </a:r>
            <a:fld id="{607485C0-F604-401C-B45D-DB4E272C7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PTF Discussion</a:t>
            </a: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Nodal MP Executive</a:t>
            </a: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May 24, 2006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MP Executive: Accountable for MPs Nodal Readines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56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hority to inclu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ed to legally bind the entity to meet the MP requirements of the agreed Nodal Program Implementation schedu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(Note- 05/24/06 TPTF meeting proposed striking “legally” from the above bull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ed to commit adequate MP funds and resources to fulfill obliga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ed to share MPs Nodal timeline and budget with ERCOT, ERCOT Board and PUC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ed to certify MPs progress on readines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ties to inclu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ingle point of contact for MP Nodal implementation effort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ay delegate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ng appropriate MP attendance at TPTF meeting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litating ERCOT’s verification of progres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3:25:21Z</dcterms:created>
  <dc:creator>Rachel Cheng</dc:creator>
  <dc:description/>
  <dc:language>en-US</dc:language>
  <cp:lastModifiedBy>MM- Migrate STengNPRR for TPTF</cp:lastModifiedBy>
  <dcterms:modified xsi:type="dcterms:W3CDTF">2006-05-25T21:05:57Z</dcterms:modified>
  <cp:revision>3</cp:revision>
  <dc:subject/>
  <dc:title>Texas Nodal &lt;title&gt; &lt;description&gt; &lt;date&gt;</dc:title>
</cp:coreProperties>
</file>