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C6FC-2F59-4BD4-99A9-5EACE918A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242D-4FF9-47D8-9DBD-B125079EE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82FB-584A-4874-9A8F-4C9DCAB8D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34EB-7CDC-40DE-9811-8F4043250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C6EE-AE93-402D-9818-7A2FC2A51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2C3B-CA28-45B8-BFFA-6CBD833E0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806F-9F86-44C5-82EA-D8BFB44D0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0413-CC5B-4826-9CAA-8C3512B3B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16D9-1006-4E1D-8D8E-584ADBA50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B556-98B5-4BF2-AF21-F26FAEC8E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48A8-11C7-4D34-A95E-7EB1C400B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29A2-202E-4053-908A-5B674F8AB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C079E393-96E5-4C26-9584-6B90FD0E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2552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56664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7128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wmf"/><Relationship Id="rId10" Type="http://schemas.openxmlformats.org/officeDocument/2006/relationships/image" Target="../media/image4.jpeg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445840"/>
            <a:ext cx="7848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WG Update to WM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46720" y="4216320"/>
            <a:ext cx="157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17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Item for WM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575920" cy="38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pport a long term solution for the negative LaaR bidding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tions to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buClr>
                <a:srgbClr val="00279f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liminate the sunset date currently in Protoc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buClr>
                <a:srgbClr val="00279f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liminate the sunset date in the Zonal Protocols and implement Alternative C in Nodal Marke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buClr>
                <a:srgbClr val="00279f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mplement Alternative C in the Zonal Protocols and implement in Nodal Marke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2C56-3F5D-4926-AB98-DD6E3F277A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6 DSWG Goals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534520" cy="502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16F5-5F1D-45CC-B251-245C375663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May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26692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1080" bIns="-9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66920"/>
            <a:ext cx="8961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66920"/>
            <a:ext cx="8961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2266920"/>
            <a:ext cx="5172120" cy="1047600"/>
            <a:chOff x="0" y="2266920"/>
            <a:chExt cx="5172120" cy="1047600"/>
          </a:xfrm>
        </p:grpSpPr>
        <p:sp>
          <p:nvSpPr>
            <p:cNvPr id="115" name=""/>
            <p:cNvSpPr/>
            <p:nvPr/>
          </p:nvSpPr>
          <p:spPr>
            <a:xfrm>
              <a:off x="0" y="226692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200" y="226692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81200" y="226692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6840" y="226692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3676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6200" y="233676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81200" y="233676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76840" y="233676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40660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6200" y="240660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81200" y="240660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6840" y="240660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247644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200" y="247644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81200" y="247644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76840" y="247644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254628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6200" y="254628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81200" y="254628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76840" y="254628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261612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6200" y="261612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81200" y="261612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6840" y="261612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68596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6200" y="268596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81200" y="268596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6840" y="268596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275580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6200" y="275580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81200" y="275580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6840" y="275580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2564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6200" y="282564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1200" y="282564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6840" y="282564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89548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6200" y="289548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81200" y="289548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840" y="289548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96532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200" y="296532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1200" y="296532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6840" y="296532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303516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6200" y="303516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81200" y="303516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76840" y="303516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310500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6200" y="310500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81200" y="310500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76840" y="310500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317484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200" y="317484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1200" y="317484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76840" y="317484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3244680"/>
              <a:ext cx="376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6200" y="3244680"/>
              <a:ext cx="2205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1200" y="3244680"/>
              <a:ext cx="1295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76840" y="3244680"/>
              <a:ext cx="1295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1"/>
          <a:srcRect l="9551" t="14584" r="68540" b="25004"/>
          <a:stretch/>
        </p:blipFill>
        <p:spPr>
          <a:xfrm>
            <a:off x="914400" y="961920"/>
            <a:ext cx="7315200" cy="543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3695760"/>
            <a:ext cx="609840" cy="29196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161520" y="3770280"/>
            <a:ext cx="1335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9520" y="3886200"/>
            <a:ext cx="857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MS Action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77760" y="3733920"/>
            <a:ext cx="228600" cy="228600"/>
          </a:xfrm>
          <a:prstGeom prst="ellipse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0200" bIns="70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40F2-AFF6-4EC3-A2C5-9E55C44CE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 Level Overview of Solu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9080" y="1227240"/>
          <a:ext cx="8307360" cy="4981320"/>
        </p:xfrm>
        <a:graphic>
          <a:graphicData uri="http://schemas.openxmlformats.org/drawingml/2006/table">
            <a:tbl>
              <a:tblPr/>
              <a:tblGrid>
                <a:gridCol w="2438280"/>
                <a:gridCol w="915840"/>
                <a:gridCol w="1143000"/>
                <a:gridCol w="1067040"/>
                <a:gridCol w="1218960"/>
                <a:gridCol w="1524240"/>
              </a:tblGrid>
              <a:tr h="86832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s Credit 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Cost to I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I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s Impa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aR Participation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91440" bIns="91440" anchor="t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Collateralization for Negative B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91440" bIns="91440" anchor="t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ingle RRS Bid Stack with Separate LaaR and Gen MCPCs if Oversubscrib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91440" bIns="9144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LaaR RRS Offered Below MCPC is Prorated when Market Oversubscrib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91440" bIns="9144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Eliminate Sunset Provision on Current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81440" y="3208320"/>
            <a:ext cx="610920" cy="612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81440" y="4351320"/>
            <a:ext cx="610920" cy="612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809880" y="3357720"/>
            <a:ext cx="762120" cy="546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948120" y="4503600"/>
            <a:ext cx="45720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929200" y="3110040"/>
            <a:ext cx="1067040" cy="78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310440" y="4503600"/>
            <a:ext cx="304560" cy="22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85000" y="6180120"/>
            <a:ext cx="6262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Icon size represents relative impact when compared with other alternativ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2879640" y="5415120"/>
            <a:ext cx="611280" cy="61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453440" y="32083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00800" y="4351320"/>
            <a:ext cx="990720" cy="533520"/>
          </a:xfrm>
          <a:prstGeom prst="leftRightArrow">
            <a:avLst>
              <a:gd name="adj1" fmla="val 50000"/>
              <a:gd name="adj2" fmla="val 36967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00800" y="5418000"/>
            <a:ext cx="990720" cy="533520"/>
          </a:xfrm>
          <a:prstGeom prst="leftRightArrow">
            <a:avLst>
              <a:gd name="adj1" fmla="val 50000"/>
              <a:gd name="adj2" fmla="val 36967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795840" y="2316240"/>
            <a:ext cx="761760" cy="546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5929200" y="2141640"/>
            <a:ext cx="1067040" cy="784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453440" y="221760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>
              <a:alpha val="3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4024440" y="5680080"/>
            <a:ext cx="304560" cy="21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2881440" y="2217600"/>
            <a:ext cx="610920" cy="61308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1052640" y="2217600"/>
            <a:ext cx="776160" cy="2819520"/>
            <a:chOff x="1052640" y="2217600"/>
            <a:chExt cx="776160" cy="2819520"/>
          </a:xfrm>
        </p:grpSpPr>
        <p:sp>
          <p:nvSpPr>
            <p:cNvPr id="199" name=""/>
            <p:cNvSpPr/>
            <p:nvPr/>
          </p:nvSpPr>
          <p:spPr>
            <a:xfrm>
              <a:off x="1052640" y="2217600"/>
              <a:ext cx="776160" cy="685800"/>
            </a:xfrm>
            <a:prstGeom prst="noSmoking">
              <a:avLst>
                <a:gd name="adj" fmla="val 12500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52640" y="4351320"/>
              <a:ext cx="776160" cy="685800"/>
            </a:xfrm>
            <a:prstGeom prst="noSmoking">
              <a:avLst>
                <a:gd name="adj" fmla="val 12500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B9BF-3CB8-4D35-8A2B-21DF02174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Item for WM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7543800" cy="38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pport a long term solution for the negative LaaR bidding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tions to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buClr>
                <a:srgbClr val="00279f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liminate the sunset date currently in Protoc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buClr>
                <a:srgbClr val="00279f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liminate the sunset date in the Zonal Protocols and implement Alternative C in Nodal Marke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304920">
              <a:buClr>
                <a:srgbClr val="00279f"/>
              </a:buClr>
              <a:buSzPct val="125000"/>
              <a:buFont typeface="Arial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mplement Alternative C in the Zonal Protocols and implement in Nodal Marke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FC77-9B38-4B23-8DA5-C60243697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0520" y="1960560"/>
            <a:ext cx="373392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2060280" y="2445840"/>
            <a:ext cx="685800" cy="364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440" y="190440"/>
            <a:ext cx="84600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. Single RRS Bid Stack with Separate LaaR and Gen MCPCs if Oversubscribe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518760" y="2827440"/>
            <a:ext cx="685800" cy="350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00 MW of R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9400" y="4076640"/>
            <a:ext cx="4032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2060280" y="2827080"/>
            <a:ext cx="685800" cy="342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757240" y="2830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0640" y="3193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60640" y="28893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60640" y="2584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46000"/>
            <a:ext cx="69962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osed 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leverages ERCOT's existing clearing engines.  If LaaR limit is reached a separate MCPC price for LaaR would be posted.  To the extent the LaaR limit is not reached only one MCPC for both LaaR and Gen is clea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01440" y="6172200"/>
            <a:ext cx="1294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Bid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5265720"/>
            <a:ext cx="6858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4884840"/>
            <a:ext cx="685800" cy="304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4351320"/>
            <a:ext cx="685800" cy="380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51840" y="998640"/>
            <a:ext cx="2286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78280" y="922320"/>
            <a:ext cx="116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LaaR o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51840" y="1287360"/>
            <a:ext cx="2286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76120" y="1227240"/>
            <a:ext cx="1080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Gen o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970440"/>
            <a:ext cx="6858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28600" y="2627280"/>
            <a:ext cx="1096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MC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53280" y="1608120"/>
            <a:ext cx="2286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77920" y="1515960"/>
            <a:ext cx="142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Self Arran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1920" y="1927080"/>
            <a:ext cx="3818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1,150 MWs of LaaRs Offered Below MC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33920" y="1946160"/>
            <a:ext cx="3733920" cy="449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6403680" y="2432160"/>
            <a:ext cx="685800" cy="36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00000">
            <a:off x="4862160" y="2812680"/>
            <a:ext cx="685800" cy="3505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00 MW of R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52800" y="4062240"/>
            <a:ext cx="4032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6403680" y="2812680"/>
            <a:ext cx="685800" cy="342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100640" y="2816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4040" y="317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4040" y="2874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4040" y="2570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44840" y="6157800"/>
            <a:ext cx="1294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Bid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5251320"/>
            <a:ext cx="685800" cy="99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870440"/>
            <a:ext cx="685800" cy="304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4336920"/>
            <a:ext cx="685800" cy="381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37880" y="2612880"/>
            <a:ext cx="960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 MC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4520" y="1922400"/>
            <a:ext cx="3843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n 1,150 MWs of LaaRs Offered Below MC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092720" y="432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4320" y="4118040"/>
            <a:ext cx="1037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aR MC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3970440"/>
            <a:ext cx="685800" cy="228600"/>
          </a:xfrm>
          <a:prstGeom prst="rect">
            <a:avLst/>
          </a:prstGeom>
          <a:solidFill>
            <a:srgbClr val="cc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030E-2459-47FD-9CD1-D615A674A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080" y="193320"/>
            <a:ext cx="85359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. Single RRS Bid Stack with Separate LaaR and Gen MCPCs if Oversubscribe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880" y="1039680"/>
            <a:ext cx="8575560" cy="5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osed 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leverages ERCOT's existing clearing engines.  If LaaR limit is reached a separate MCPC price for LaaR would be posted.  To the extent the LaaR limit is not reached only one MCPC for both LaaR and Gen is clea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urrent LaaR participation levels persist, two separate RRS MCPCs would frequently occur; likely to result in a short term reduction in market RRS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secondary RRS solicitations un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based solution; bids should be more reflective of cost to provid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market participants to manage two MCPCs for Responsive Reserve and makes settlement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drive LaaR out of the RRS market if LaaR MCPC is consistently/significantly lower than Gen MCPC and result in higher total costs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rbitrage opportunity for QSEs that self arrange large percentage of L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D7F9-AE2F-48E9-BDD4-EBCF4984B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ocol Revision Required for Alternative C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9120" y="1196640"/>
            <a:ext cx="842328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.3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Day-Ahead Ancillary Service Procurement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.3.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Procurement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8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shall determine an hourly MCPC for each of the following Day-Ahead Ancillary Service markets:  Regulation Up, Regulation Down and Non-Spinning Reserves.  The hourly MCPC shall equal the highest-priced capacity reservation bid accepted in the Day Ahead market by ERCOT for that Ancillary Service for the hour.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For Responsive Reserve Service, ERCOT shall determine a separate MCPC for LaaRs and Generation Resources. QSE’s representing LaaR and Generation Resources will be paid based on these separate MCPCs. A blended MCPC will be determined based on the formula’s and rules defined in Section 6.6.3.4 and QSEs representing LSEs with RRS obligations will be charged based on the blended MCP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400480" indent="0">
              <a:buNone/>
              <a:tabLst>
                <a:tab algn="l" pos="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6.6.3.4   Special Procurement Requirements for Responsive Reserve Serv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6.6.3.4.1 The MCPC for LaaR RRS and Generation Resources RRS shall be determined by the following rules/formula’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RRS =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SA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+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+ Gen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SA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+ Gen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If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SA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+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i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≤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Gen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Highest Price in the bid stack for last MW of RRS Awar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Then,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i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≤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  And 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lende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If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SA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+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i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&gt;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Max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Then,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i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&gt;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And 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Highest Price in the bid stack for last MW of 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And 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Gen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Highest Price in the bid stack for last MW of Gen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lende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  = 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(MCPC</a:t>
            </a:r>
            <a:r>
              <a:rPr b="0" lang="en-US" sz="1000" spc="-1" strike="noStrike" u="sng" baseline="-30000">
                <a:solidFill>
                  <a:srgbClr val="cc3300"/>
                </a:solidFill>
                <a:uFillTx/>
                <a:latin typeface="Arial"/>
                <a:ea typeface="Times New Roman"/>
              </a:rPr>
              <a:t>LaaR 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* </a:t>
            </a:r>
            <a:r>
              <a:rPr b="0" lang="en-US" sz="1000" spc="-1" strike="noStrike" u="sng" baseline="-30000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LaaR</a:t>
            </a:r>
            <a:r>
              <a:rPr b="0" lang="en-US" sz="1000" spc="-1" strike="noStrike" u="sng" baseline="-30000">
                <a:solidFill>
                  <a:srgbClr val="cc3300"/>
                </a:solidFill>
                <a:uFillTx/>
                <a:latin typeface="Arial"/>
                <a:ea typeface="Times New Roman"/>
              </a:rPr>
              <a:t>Award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) + ( MCPC</a:t>
            </a:r>
            <a:r>
              <a:rPr b="0" lang="en-US" sz="1000" spc="-1" strike="noStrike" u="sng" baseline="-30000">
                <a:solidFill>
                  <a:srgbClr val="cc3300"/>
                </a:solidFill>
                <a:uFillTx/>
                <a:latin typeface="Arial"/>
                <a:ea typeface="Times New Roman"/>
              </a:rPr>
              <a:t>Gen 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* </a:t>
            </a:r>
            <a:r>
              <a:rPr b="0" lang="en-US" sz="1000" spc="-1" strike="noStrike" u="sng" baseline="-30000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Gen</a:t>
            </a:r>
            <a:r>
              <a:rPr b="0" lang="en-US" sz="1000" spc="-1" strike="noStrike" u="sng" baseline="-30000">
                <a:solidFill>
                  <a:srgbClr val="cc3300"/>
                </a:solidFill>
                <a:uFillTx/>
                <a:latin typeface="Arial"/>
                <a:ea typeface="Times New Roman"/>
              </a:rPr>
              <a:t>Award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                                                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 +  Gen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RRS = Total Amount of Responsive Reserves required (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Max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 50% of RRS or a lower amount as determined by a monthly engineering evaluation conducted by ERCOT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SA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Amount of LaaR Self Arranged by all QSEs (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i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Amount of LaaR Bids at or below the 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Gen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(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Amount of LaaR Bids Awarded ERCOT-wide by the Market Clearing Engine-MCE (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Gen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SA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Amount of Generation Resources Self Arranged by all QSEs (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Gen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Awar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Amount of Generation Resource Bids Awarded ERCOT-wide by the MCE (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LaaR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Market Clearing Price for LaaR ($/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Gen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Market Clearing Price for Generation Resources ($/M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MCPC</a:t>
            </a:r>
            <a:r>
              <a:rPr b="0" lang="en-US" sz="10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Blended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  <a:ea typeface="Times New Roman"/>
              </a:rPr>
              <a:t> = Blended Market Clearing Price ($/MW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8240" y="1074600"/>
            <a:ext cx="8610480" cy="533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A23B-86AB-47A8-9814-A14DC79AF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ocol Revision Required for Alternative 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9120" y="1197000"/>
            <a:ext cx="8514000" cy="42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4.1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cillary Services Bid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SEs may submit, by 1300, Ancillary Service bids to ERCOT for any Ancillary Service market open during the Day Ahead Period.  Submitted bids remain active for any period until:  (a) selected by ERCOT; or (b) automatically expired by software at the time selected by the Q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cillary Service bids shall not exceed one thousand ($1,000) dollars per MW for any Resources.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Until January 1, 2007, QSEs shall not submit bids to provide RRS at a price less than zero dollar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ny Ancillary Service bids in excess of one thousand ($1,000) dollars per MW will be rejected by ERC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3809880"/>
            <a:ext cx="571500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114800"/>
            <a:ext cx="525780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D47B-C44D-45C7-AC18-DF54B6AA85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 Anne Brelinsky</cp:lastModifiedBy>
  <dcterms:modified xsi:type="dcterms:W3CDTF">2006-05-16T19:41:32Z</dcterms:modified>
  <cp:revision>12</cp:revision>
  <dc:subject/>
  <dc:title>DSWG Update to WMS</dc:title>
</cp:coreProperties>
</file>