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  <p:custShowLst>
    <p:custShow name="Custom Show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487C0-00F7-42B9-BFF0-589A3FD80D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0769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584160"/>
            <a:ext cx="80769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DB3C9-0EC5-43FD-88E9-B7739A49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080" y="83772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58416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080" y="358416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ECEB0-68F8-4576-8412-22A8ADD1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4480" y="8377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5800" y="8377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5841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4480" y="35841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5800" y="35841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0B0C0-9CAF-4663-A6C5-6EC9991C0F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3941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837720"/>
            <a:ext cx="3941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057400" y="152280"/>
            <a:ext cx="6780240" cy="19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080" y="837720"/>
            <a:ext cx="3941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58416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26540-AED9-464E-A9BD-03E6C6F5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3941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080" y="83772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2080" y="358416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080" y="83772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584160"/>
            <a:ext cx="80769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0769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584160"/>
            <a:ext cx="80769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2080" y="83772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58416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2080" y="358416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64480" y="8377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95800" y="8377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5841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64480" y="35841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95800" y="35841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92F9A-4D67-4FF6-8C6B-5EEBBE80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3941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837720"/>
            <a:ext cx="3941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9B7C9-7509-4BA0-B201-74174AFE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0AFC7-F24D-4E05-B26D-218E4A4C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7400" y="152280"/>
            <a:ext cx="6780240" cy="19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B60D5-7B85-4A9E-8ACE-4653B5F1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837720"/>
            <a:ext cx="3941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58416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BBAFD-2A15-4C9C-AD32-7D7D36DC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3941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83772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080" y="358416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9317B-5949-4FB1-BE2C-5EA6A5BE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080" y="83772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584160"/>
            <a:ext cx="80769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B64A6-F1A5-47E8-85FF-48E4B9CA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6780240" cy="4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83772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1A75-9C7D-4665-B3A5-7E7B65E1D164}" type="datetime">
              <a:rPr b="0" lang="en-US" sz="1000" spc="-1" strike="noStrike">
                <a:solidFill>
                  <a:srgbClr val="000066"/>
                </a:solidFill>
                <a:latin typeface="Arial Rounded MT Bold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190760" y="63244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1E17-552C-49AB-AF84-E465E833C935}" type="slidenum">
              <a:rPr b="0" lang="en-US" sz="1000" spc="-1" strike="noStrike">
                <a:solidFill>
                  <a:srgbClr val="000066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65760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3724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 Rounded MT Bold"/>
              </a:rPr>
              <a:t>© ERCOT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5824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" name="" descr="Welcome to ERCOT"/>
          <p:cNvPicPr/>
          <p:nvPr/>
        </p:nvPicPr>
        <p:blipFill>
          <a:blip r:embed="rId2"/>
          <a:srcRect l="26763" t="-1444" r="0" b="0"/>
          <a:stretch/>
        </p:blipFill>
        <p:spPr>
          <a:xfrm>
            <a:off x="7391520" y="1295280"/>
            <a:ext cx="1795320" cy="5562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0" y="0"/>
            <a:ext cx="2514600" cy="129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3724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 Rounded MT Bold"/>
              </a:rPr>
              <a:t>© ERCOT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685800"/>
            <a:ext cx="632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Electric Reliability Council of Texa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971800"/>
            <a:ext cx="69339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ettlement Information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for Operating Days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04-16-06 thru 04-18-06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3680" y="5181480"/>
            <a:ext cx="474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repared for the 05-08-06 General Market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6780240" cy="4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utline of Presenta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Level review of all charges and payments for the three days.  (See “Rev E Q” spreadshee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OM Capacity Sett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Replacement Reserve Sett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s to providers (section 6.8.1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-schedule Charge (section 6.9.2.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lift Charge (section 6.9.2.1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38BBD-57B8-41DA-8E08-B9F1EE946BF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D3E14-F16D-46E1-98D2-F394D9526D9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6780240" cy="4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OM Capacity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838080"/>
          <a:ext cx="8076600" cy="5256000"/>
        </p:xfrm>
        <a:graphic>
          <a:graphicData uri="http://schemas.openxmlformats.org/drawingml/2006/table">
            <a:tbl>
              <a:tblPr/>
              <a:tblGrid>
                <a:gridCol w="3848400"/>
                <a:gridCol w="1328760"/>
                <a:gridCol w="1380960"/>
                <a:gridCol w="1518480"/>
              </a:tblGrid>
              <a:tr h="1314000"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16/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17/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18/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4000"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M CAPACITY CH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,35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541,86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85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4000"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M CAPACITY 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128,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,86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23,85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4000"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BB191-B726-40A5-8B13-6876DE433FD0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3A450-EF8A-42A4-BE50-B2B956FC56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6780240" cy="4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placement Reserv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3520" y="838080"/>
          <a:ext cx="8076600" cy="5256360"/>
        </p:xfrm>
        <a:graphic>
          <a:graphicData uri="http://schemas.openxmlformats.org/drawingml/2006/table">
            <a:tbl>
              <a:tblPr/>
              <a:tblGrid>
                <a:gridCol w="3939120"/>
                <a:gridCol w="1300320"/>
                <a:gridCol w="1350720"/>
                <a:gridCol w="1486440"/>
              </a:tblGrid>
              <a:tr h="875520"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16/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17/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18/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960"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 REPLACEMENT RESERVE TO PROVI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8,57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23,33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520"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MENT RESERVE UNDERSCHEDULED CH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611,18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MENT RESERVE UPLIFT CH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57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12,170,1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960"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ONAL REPLACEMENT RESERVE TO PROVI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1,417,73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520"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20B58-9D7A-4BA4-A6C7-5B92031FE25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CD866-6630-4A03-9997-158603AF2F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0960" cy="4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der Scheduled Charges and “USQTY” for 4-18-06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96760" y="838080"/>
            <a:ext cx="73504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79599-E58C-4DFA-AC26-251828B2234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6E464-A7B3-46AC-8DC9-B1464E3AC7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6780240" cy="4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OM Capacity Payment (Section 6.8.2.2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f a bid exi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OOMRPqu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1* MIN [(BP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RPqui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OOMRPu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PS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u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+ PO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u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wi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OMRPqu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* (P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unit is deemed to be On-line as described in 6.8.2.2(4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ui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M [(RCGMEC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– MCPE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jz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 * MIN (MINCAP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4, MR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uj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unit is deemed to be Off-line as described in 6.8.2.2(2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RCGS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(SU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CP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w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] / (# of instructed ho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ui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M [(RCGMEC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– MCPE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jz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 * MIN (MINCAP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4, MR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uj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0459-0EBF-4664-B1EC-5AC4CCECA7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33037-6771-4433-A763-AB613DCBC1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6780240" cy="4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der Schedule Charge (Section 6.9.2.1.1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0DBDD-02D2-4BA5-83D3-54159DA458A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1CFBF-EB74-4083-BDCD-894C6D9382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6780240" cy="4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lift Charge (Section 6.9.2.1.2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RPiq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 *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RPiq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LP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RPiq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U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RPiq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 TCRPA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RP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CS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RPiq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,CSC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* LR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RPA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RPi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 *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CRcs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* S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CSC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C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316CA-7069-4489-A645-D1BDB2B59C2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E6966-9FD7-4A94-84FD-B788207662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76360" y="2971800"/>
            <a:ext cx="38098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78B0-D4ED-4120-9A20-8CE1424D41D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43416-CEEB-4F23-9035-36761A9A48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5T20:24:45Z</dcterms:created>
  <dc:creator>ERCOT</dc:creator>
  <dc:description/>
  <cp:keywords/>
  <dc:language>en-US</dc:language>
  <cp:lastModifiedBy>KRagsdale</cp:lastModifiedBy>
  <cp:lastPrinted>2000-04-06T20:17:02Z</cp:lastPrinted>
  <dcterms:modified xsi:type="dcterms:W3CDTF">2006-05-05T20:42:38Z</dcterms:modified>
  <cp:revision>1241</cp:revision>
  <dc:subject>Presentation</dc:subject>
  <dc:title>Settlement Information for 4-16-06 thru 4-18-06</dc:title>
</cp:coreProperties>
</file>