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A2026-9110-48FA-881F-82D9EE23C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0965C-15D1-4248-B58D-172944C0E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8ADB2-B297-4284-B88A-26E13B051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7B614-85BA-4B30-A2DB-6F37FE4BC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B5BD6-46F0-47FE-8009-BE1CD3571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E7A25-C374-469B-98BF-2AD447236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DED2D-7642-4FDC-934A-A29BA353D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1FE74-7CD4-479B-90D4-3BED45715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E40CD-6B5F-4B81-8192-E9F6B6581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1E3F5-DE4D-41A5-A292-9321D6400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FF9C-4AC8-48B7-9C1B-C271F4A26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6ECBF-85ED-44D7-95F6-D79BA23D3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5412-FE0E-453B-9428-29B0041D8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ed Cycle RPRS Task Force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M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7,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Review</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consistency between OOMC and Local RPRS generic startup payment formula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t March W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R to be filed</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inconsistency between modeling of CCCTs in RPRS studies and realit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PRS sees each unit in a CCCT station individually with a CCCT generic co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PRS can select CCCT units individually and most cannot operate the units individually</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CT Generic Startup Cost Issu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 are currently paid for each CCCT unit that is procured (e.g., if all units of 2 on 1 are procured, the startup payment is paid to each CT and to the 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questions about the appropriateness of the CCCT Startup Fuel payments and the definition of “hot” and “cold” start times.  The Task Force is not recommending changes at this time, but initial data indicate that some changes may be in order.  Additional data may be useful in helping market participants ascertain whether a PRR should be initia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ing vs. Realit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hat the RPRS engine cannot recognize CCCT configurations, a proxy representation was developed for the DA for CCCTs that are shown offline and avail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ed approach will provide increased consistency in the RPRS modeling with the actual operational capbilities and economics of CC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xy CCCT Approach</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CCTs that are shown as offline and available in the D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al parameters for each CT should be represented in the Resource Plan as the CT + 1/x of the ST, where x = # C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 should be shown as unavailable in the Resource Pla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CCT is procured for RPRS or OOM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al parameters for each CT procured and the ST should be adjusted in the Resource Plan consistent with the actual operating capabilities of the units selec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the ST selected is equal to y * (1/x), where y is the number of CTs selected by ERCOT (or self-committed) and x is the total number of 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on 1</a:t>
            </a:r>
            <a:endParaRPr b="0" lang="en-US" sz="4400" spc="-1" strike="noStrike">
              <a:solidFill>
                <a:srgbClr val="000000"/>
              </a:solidFill>
              <a:latin typeface="Arial"/>
            </a:endParaRPr>
          </a:p>
        </p:txBody>
      </p:sp>
      <p:pic>
        <p:nvPicPr>
          <p:cNvPr id="50" name="" descr=""/>
          <p:cNvPicPr/>
          <p:nvPr/>
        </p:nvPicPr>
        <p:blipFill>
          <a:blip r:embed="rId1"/>
          <a:stretch/>
        </p:blipFill>
        <p:spPr>
          <a:xfrm>
            <a:off x="1143000" y="1523880"/>
            <a:ext cx="7008840" cy="46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CCCT Startup Data</a:t>
            </a:r>
            <a:endParaRPr b="0" lang="en-US" sz="4400" spc="-1" strike="noStrike">
              <a:solidFill>
                <a:srgbClr val="000000"/>
              </a:solidFill>
              <a:latin typeface="Arial"/>
            </a:endParaRPr>
          </a:p>
        </p:txBody>
      </p:sp>
      <p:pic>
        <p:nvPicPr>
          <p:cNvPr id="52" name="" descr=""/>
          <p:cNvPicPr/>
          <p:nvPr/>
        </p:nvPicPr>
        <p:blipFill>
          <a:blip r:embed="rId1"/>
          <a:stretch/>
        </p:blipFill>
        <p:spPr>
          <a:xfrm>
            <a:off x="469800" y="927000"/>
            <a:ext cx="8674200" cy="593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Issu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has indicated initial agreement on the proposed solution as it pertains to correcting issues with RPRS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ERCOT has raised some concerns with respect to VSAT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oncerns may be addressed through coordinating the timing associated with the proposed RPRS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22:15:37Z</dcterms:created>
  <dc:creator>dljones</dc:creator>
  <dc:description/>
  <dc:language>en-US</dc:language>
  <cp:lastModifiedBy>RaJones</cp:lastModifiedBy>
  <dcterms:modified xsi:type="dcterms:W3CDTF">2006-05-17T13:17:09Z</dcterms:modified>
  <cp:revision>2</cp:revision>
  <dc:subject/>
  <dc:title>Combined Cycle RPRS Task Force Report</dc:title>
</cp:coreProperties>
</file>