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80EC36-A8ED-44EA-9FB0-B6FD9CA296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038E1B91-7E66-44FA-BA0B-A35547626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B428A29C-D1AB-4B26-B077-5E7FDD83F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1ED3CB2C-2306-4506-95BE-79D4228B23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2"/>
          </p:nvPr>
        </p:nvSpPr>
        <p:spPr/>
        <p:txBody>
          <a:bodyPr/>
          <a:p>
            <a:fld id="{60C32154-9348-4FE0-8A02-9B8737ECB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AE56DE6-858B-4C04-9F5D-4E3D8D306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652FC0BC-BDA7-4A8B-B40F-0E8C184BE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85F3A004-05F5-4A3E-A705-C24AA96B4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sldNum" idx="2"/>
          </p:nvPr>
        </p:nvSpPr>
        <p:spPr/>
        <p:txBody>
          <a:bodyPr/>
          <a:p>
            <a:fld id="{AC63E11F-5D68-4E14-B7DD-BB22AC636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FD064C37-6856-4776-883A-B3821F5E5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743CE906-9ACB-42EC-AB76-185479AE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73FFFC81-7530-480E-9853-CDCDA9EBBC1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678492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t;date/time&gt;</a:t>
            </a:r>
            <a:r>
              <a:rPr b="0" lang="en-US" sz="1200" spc="-1" strike="noStrike">
                <a:solidFill>
                  <a:srgbClr val="003366"/>
                </a:solidFill>
                <a:latin typeface="Times New Roman"/>
              </a:rPr>
              <a:t>5/17/2006</a:t>
            </a:r>
            <a:endParaRPr b="0" lang="en-US" sz="1200" spc="-1" strike="noStrike">
              <a:solidFill>
                <a:srgbClr val="000000"/>
              </a:solidFill>
              <a:latin typeface="Times New Roman"/>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3854-7126-47FA-B713-B165561749A1}" type="slidenum">
              <a:rPr b="1" lang="en-US" sz="1200" spc="-1" strike="noStrike">
                <a:solidFill>
                  <a:srgbClr val="0033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3"/>
          </p:nvPr>
        </p:nvSpPr>
        <p:spPr>
          <a:xfrm>
            <a:off x="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CR Auction</a:t>
            </a:r>
            <a:br>
              <a:rPr sz="4400"/>
            </a:br>
            <a:r>
              <a:rPr b="1" lang="en-US" sz="4400" spc="-1" strike="noStrike">
                <a:solidFill>
                  <a:srgbClr val="003366"/>
                </a:solidFill>
                <a:latin typeface="Arial"/>
              </a:rPr>
              <a:t>June 2006</a:t>
            </a:r>
            <a:endParaRPr b="1" lang="en-US" sz="4400" spc="-1" strike="noStrike">
              <a:solidFill>
                <a:srgbClr val="003366"/>
              </a:solidFill>
              <a:latin typeface="Arial"/>
            </a:endParaRPr>
          </a:p>
        </p:txBody>
      </p:sp>
      <p:sp>
        <p:nvSpPr>
          <p:cNvPr id="9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Betty Day</a:t>
            </a:r>
            <a:endParaRPr b="0" lang="en-US" sz="28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Director, Commercial Operation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ERCO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a:t>
            </a:r>
            <a:endParaRPr b="1" lang="en-US" sz="3600" spc="-1" strike="noStrike">
              <a:solidFill>
                <a:srgbClr val="006666"/>
              </a:solidFill>
              <a:latin typeface="Arial"/>
            </a:endParaRPr>
          </a:p>
        </p:txBody>
      </p:sp>
      <p:sp>
        <p:nvSpPr>
          <p:cNvPr id="95"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is to perform a monthly auction of TCRs no later than the 15</a:t>
            </a:r>
            <a:r>
              <a:rPr b="0" lang="en-US" sz="2400" spc="-1" strike="noStrike" baseline="30000">
                <a:solidFill>
                  <a:srgbClr val="003366"/>
                </a:solidFill>
                <a:latin typeface="Arial"/>
              </a:rPr>
              <a:t>th</a:t>
            </a:r>
            <a:r>
              <a:rPr b="0" lang="en-US" sz="2400" spc="-1" strike="noStrike">
                <a:solidFill>
                  <a:srgbClr val="003366"/>
                </a:solidFill>
                <a:latin typeface="Arial"/>
              </a:rPr>
              <a:t> of each month prior to the month that the TCRs are effective, on a date set by ERCOT (7.5.3.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must post specific information 10 days prior to monthly auction (7.5.3.2.1)</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participate in the auctions, a bidder must meet financial security requirements established by ERCOT (7.5.3.2)</a:t>
            </a:r>
            <a:endParaRPr b="0" lang="en-US" sz="2400" spc="-1" strike="noStrike">
              <a:solidFill>
                <a:srgbClr val="003366"/>
              </a:solidFill>
              <a:latin typeface="Arial"/>
            </a:endParaRPr>
          </a:p>
          <a:p>
            <a:pPr marL="335880" indent="-3358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uction system will award a combination of TCRs that maximizes the sum of bid prices times the awarded MW while simultaneously observing all applicable constraints (7.5.3.2.2 (2))</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4E42FA5-8041-460E-A07F-BB1FF66823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 Requirements (con’t)</a:t>
            </a:r>
            <a:endParaRPr b="1" lang="en-US" sz="3600" spc="-1" strike="noStrike">
              <a:solidFill>
                <a:srgbClr val="006666"/>
              </a:solidFill>
              <a:latin typeface="Arial"/>
            </a:endParaRPr>
          </a:p>
        </p:txBody>
      </p:sp>
      <p:sp>
        <p:nvSpPr>
          <p:cNvPr id="97" name="PlaceHolder 1"/>
          <p:cNvSpPr>
            <a:spLocks noGrp="1"/>
          </p:cNvSpPr>
          <p:nvPr>
            <p:ph/>
          </p:nvPr>
        </p:nvSpPr>
        <p:spPr>
          <a:xfrm>
            <a:off x="685800" y="2361960"/>
            <a:ext cx="82296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near programming solution will solve for one optimal solution, which may result in some bids at the clearing price not being awarded a TCR (7.5.3.2.2 (6))</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COT shall announce the results of the auction simultaneously to all TCR bidders by posting the results on the MIS (7.5.3.2.2 (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an Entity is awarded TCRs as a result of an auction, the TCRs will not become the property of the awardees and the TCRs will not be placed in their accounts until the TCR Invoices have been paid in full (7.5.3.2.2 (8))</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866F7C0-7295-42C2-8351-6EE6FC1F4B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line of events</a:t>
            </a:r>
            <a:endParaRPr b="1" lang="en-US" sz="3600" spc="-1" strike="noStrike">
              <a:solidFill>
                <a:srgbClr val="006666"/>
              </a:solidFill>
              <a:latin typeface="Arial"/>
            </a:endParaRPr>
          </a:p>
        </p:txBody>
      </p:sp>
      <p:sp>
        <p:nvSpPr>
          <p:cNvPr id="99"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ction notice sent on 4/28/06 for June 2006 TCR au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requirement deadline 5/1/06</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started on 5/8/06 8: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dding ended on 5/10/06 14: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ults posted on 5/10/06 at 18:00; no invoice post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ice of invalid results sent on 5/11/06 at 9:4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results posted on 5/12/06 at 19:00; invoices posted</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0FDD1B34-542D-4C56-8FD4-1801F46C3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a:t>
            </a:r>
            <a:endParaRPr b="1" lang="en-US" sz="3600" spc="-1" strike="noStrike">
              <a:solidFill>
                <a:srgbClr val="006666"/>
              </a:solidFill>
              <a:latin typeface="Arial"/>
            </a:endParaRPr>
          </a:p>
        </p:txBody>
      </p:sp>
      <p:sp>
        <p:nvSpPr>
          <p:cNvPr id="101"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tine validations on auction results indicated high price based on historical tre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back-out auction results and re-run auction clearing with same bi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showed price more in-line with expected pr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ed results of second clearing run</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917DD805-CDCC-4459-8E1E-CF2281091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ppened? (con’t)</a:t>
            </a:r>
            <a:endParaRPr b="1" lang="en-US" sz="3600" spc="-1" strike="noStrike">
              <a:solidFill>
                <a:srgbClr val="006666"/>
              </a:solidFill>
              <a:latin typeface="Arial"/>
            </a:endParaRPr>
          </a:p>
        </p:txBody>
      </p:sp>
      <p:sp>
        <p:nvSpPr>
          <p:cNvPr id="103" name="PlaceHolder 2"/>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et participant contacted CRC staff to report problem with resul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alysis showed that back-out did not fully remove results from first run which impacted results for second ru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the back-out procedure and confirmed that it working appropriatel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ran clearing engine multiple times to confirm same result with same input bid dat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ed final auction results after confirmation &amp; validation</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CAEFA266-31CF-4424-90DC-F6C6C7582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ent wrong?</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o post results from second run was in error – should have confirmed source of difference to discover back-out issue prior to posting resul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0DEFD70-BC00-4078-9E6B-606283606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s to consider</a:t>
            </a:r>
            <a:endParaRPr b="1" lang="en-US" sz="3600" spc="-1" strike="noStrike">
              <a:solidFill>
                <a:srgbClr val="006666"/>
              </a:solidFill>
              <a:latin typeface="Arial"/>
            </a:endParaRPr>
          </a:p>
        </p:txBody>
      </p:sp>
      <p:sp>
        <p:nvSpPr>
          <p:cNvPr id="107" name="PlaceHolder 1"/>
          <p:cNvSpPr>
            <a:spLocks noGrp="1"/>
          </p:cNvSpPr>
          <p:nvPr>
            <p:ph/>
          </p:nvPr>
        </p:nvSpPr>
        <p:spPr>
          <a:xfrm>
            <a:off x="685440" y="2361960"/>
            <a:ext cx="78454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COT’s TCR process has been successfully audited by SAS70 as well as internal aud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lures in this case were not in business processes but were human error (judg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we allowing adequate time for review and validation before results are pos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6F7056D1-6FD7-4A56-8504-ADA5852EFA9E}"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6:24:08Z</dcterms:created>
  <dc:creator>Betty Day</dc:creator>
  <dc:description/>
  <dc:language>en-US</dc:language>
  <cp:lastModifiedBy>Betty Day</cp:lastModifiedBy>
  <dcterms:modified xsi:type="dcterms:W3CDTF">2006-05-17T16:36:37Z</dcterms:modified>
  <cp:revision>14</cp:revision>
  <dc:subject/>
  <dc:title>TCR Auction June 2006</dc:title>
</cp:coreProperties>
</file>