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6384-1AC8-4307-A36E-416743438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5C6B-3143-46AF-834C-E4669E394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80D4-A0E2-4B5E-A3DB-612C0A5C2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55CC-3E1F-4254-935F-D01A4ACC6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63F6-3016-4AC4-8C71-0D58E70F4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3882-70B2-419A-A4C7-236C52E33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B13C-D312-4139-80A5-D5D239A59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B085-A927-4D3C-8F15-5C633F199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83C8-E754-42C1-9186-C01B37F40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FA86-AF72-41D5-A47F-92D16CDBA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A6CC-E5DA-428A-9589-7E2FCCED0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35C4-6718-4924-AA9B-F2ABF8F8E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7B5F-423F-4412-923B-197683260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21FA-7419-47C7-BE6B-BE4C87B60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932173D6-DDA8-4441-88C8-EB363BBDCD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003160" y="40644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895480"/>
            <a:ext cx="678168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7720" y="2131200"/>
            <a:ext cx="7010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7 Project Prioritiz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76160" y="32000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749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7 Priorit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Guide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Process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ing Principles for Project Prioritiz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oject Summ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roject Priority Lists (PP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ownership of Divisional PPLs between Market Subcommittees and Divisional Project Organizations (DP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 / R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ry A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ubcommittees and DPOs will recommend the placement of the cutline in the Divisional 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focus on resource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37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 Prioritization folder on ERCOT.com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prog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“Quick Links” / “View Project Statu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5084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ioritization Guideline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28292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F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ryover from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s required by Statute, PUCT Order, NERC compliance or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ritic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reliability of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 Opera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Infrastruc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ercial Settle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one or two segments, or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only one seg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lot for non-prioritized projec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rot="17936400">
            <a:off x="7655040" y="2796840"/>
            <a:ext cx="1676520" cy="536400"/>
          </a:xfrm>
          <a:custGeom>
            <a:avLst/>
            <a:gdLst>
              <a:gd name="textAreaLeft" fmla="*/ 329040 w 1676520"/>
              <a:gd name="textAreaRight" fmla="*/ 1109160 w 1676520"/>
              <a:gd name="textAreaTop" fmla="*/ 71640 h 536400"/>
              <a:gd name="textAreaBottom" fmla="*/ 464760 h 53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-2879804"/>
                <a:lnTo>
                  <a:pt x="21115" y="7200"/>
                </a:lnTo>
                <a:lnTo>
                  <a:pt x="17745" y="0"/>
                </a:lnTo>
                <a:lnTo>
                  <a:pt x="13404" y="7200"/>
                </a:lnTo>
                <a:lnTo>
                  <a:pt x="16476" y="7200"/>
                </a:lnTo>
                <a:arcTo wR="8481" hR="21600" stAng="2520196" swAng="2754626"/>
                <a:lnTo>
                  <a:pt x="9264" y="21508"/>
                </a:lnTo>
                <a:arcTo wR="8481" hR="21600" stAng="5525178" swAng="5274822"/>
                <a:close/>
              </a:path>
              <a:path fill="darkenLess"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125178"/>
                <a:lnTo>
                  <a:pt x="9264" y="21508"/>
                </a:lnTo>
                <a:arcTo wR="8481" hR="21600" stAng="5525178" swAng="5274822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50840"/>
            <a:ext cx="586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ioritization Process Schedul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45720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289548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505320"/>
            <a:ext cx="1067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28600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29718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 &amp; Audit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13716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78600" y="3564000"/>
            <a:ext cx="21333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5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9 – Statu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7 – Recommendation to 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15080" y="1981080"/>
            <a:ext cx="1963800" cy="27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8 – 2007 Budget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468400">
            <a:off x="3200040" y="5029200"/>
            <a:ext cx="1990800" cy="422280"/>
          </a:xfrm>
          <a:custGeom>
            <a:avLst/>
            <a:gdLst>
              <a:gd name="textAreaLeft" fmla="*/ 390600 w 1990800"/>
              <a:gd name="textAreaRight" fmla="*/ 1316880 w 1990800"/>
              <a:gd name="textAreaTop" fmla="*/ 56520 h 422280"/>
              <a:gd name="textAreaBottom" fmla="*/ 365760 h 42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-2879804"/>
                <a:lnTo>
                  <a:pt x="21115" y="7200"/>
                </a:lnTo>
                <a:lnTo>
                  <a:pt x="17745" y="0"/>
                </a:lnTo>
                <a:lnTo>
                  <a:pt x="13404" y="7200"/>
                </a:lnTo>
                <a:lnTo>
                  <a:pt x="16476" y="7200"/>
                </a:lnTo>
                <a:arcTo wR="8481" hR="21600" stAng="2520196" swAng="2754626"/>
                <a:lnTo>
                  <a:pt x="9264" y="21508"/>
                </a:lnTo>
                <a:arcTo wR="8481" hR="21600" stAng="5525178" swAng="5274822"/>
                <a:close/>
              </a:path>
              <a:path fill="darkenLess"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125178"/>
                <a:lnTo>
                  <a:pt x="9264" y="21508"/>
                </a:lnTo>
                <a:arcTo wR="8481" hR="21600" stAng="5525178" swAng="5274822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7936400">
            <a:off x="6860520" y="4722120"/>
            <a:ext cx="1674720" cy="612720"/>
          </a:xfrm>
          <a:custGeom>
            <a:avLst/>
            <a:gdLst>
              <a:gd name="textAreaLeft" fmla="*/ 328680 w 1674720"/>
              <a:gd name="textAreaRight" fmla="*/ 1107720 w 167472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-2879804"/>
                <a:lnTo>
                  <a:pt x="21115" y="7200"/>
                </a:lnTo>
                <a:lnTo>
                  <a:pt x="17745" y="0"/>
                </a:lnTo>
                <a:lnTo>
                  <a:pt x="13404" y="7200"/>
                </a:lnTo>
                <a:lnTo>
                  <a:pt x="16476" y="7200"/>
                </a:lnTo>
                <a:arcTo wR="8481" hR="21600" stAng="2520196" swAng="2754626"/>
                <a:lnTo>
                  <a:pt x="9264" y="21508"/>
                </a:lnTo>
                <a:arcTo wR="8481" hR="21600" stAng="5525178" swAng="5274822"/>
                <a:close/>
              </a:path>
              <a:path fill="darkenLess"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125178"/>
                <a:lnTo>
                  <a:pt x="9264" y="21508"/>
                </a:lnTo>
                <a:arcTo wR="8481" hR="21600" stAng="5525178" swAng="5274822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114800" y="21337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1337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2590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752480" y="350496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676520"/>
            <a:ext cx="2049480" cy="27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23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502920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6240" y="5656320"/>
            <a:ext cx="3547800" cy="94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5 – Post project lists and document templates for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2 – Complete ERCOT project summ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24 – Complete required documents for new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5 – Distribute Subcommittee project lists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9 – Distribute TAC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1676520"/>
            <a:ext cx="20667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0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4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895480"/>
            <a:ext cx="206712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0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5 – Final Review of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114800"/>
            <a:ext cx="20653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7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0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1 – Final Review of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0200" y="3497400"/>
            <a:ext cx="2082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9 – Initial Planning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8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2 – Prioritiz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37120" y="5189400"/>
            <a:ext cx="20829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4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 – Proces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6 – Approve 2007 Priority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438280" y="4267080"/>
            <a:ext cx="6858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150840"/>
            <a:ext cx="563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quired Document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Required for Placement on Divisional P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/ SCR /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Req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&amp; Cost Estim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arket / ERCOT Delive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PL with 2007 priorities, ranks, budgets and a proposed c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73200" y="2311200"/>
            <a:ext cx="779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d5f5d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ed Hailu</cp:lastModifiedBy>
  <dcterms:modified xsi:type="dcterms:W3CDTF">2006-05-10T13:47:04Z</dcterms:modified>
  <cp:revision>83</cp:revision>
  <dc:subject/>
  <dc:title>Slide 1</dc:title>
</cp:coreProperties>
</file>