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850E-5FCE-4ED1-813D-079AEB754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B886-D80B-43EE-A450-C304BEBE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D5DA-7495-4CFC-AC1E-EE7EFF096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6D7C-018F-4AC9-BDB4-25259CE2F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0949-8A13-45CB-843E-F4995A97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A467-C530-494A-B284-606C1A5D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7014-513F-4C03-BCDD-8BB4BA48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8EFB-E261-47ED-BD9F-44E76D15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2045-85E3-454E-9D6E-07E0DE6B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41C4-F5D6-4EC3-B67C-FE3F2B95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8F12-322C-4866-8837-DCFC1AC8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1EA9-8E78-4AEB-ACD0-A4A99489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4432-6786-435F-8E6B-46E3B312F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SE Managers Working Group Report to WM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y 17, 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from May 10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R 607 – One Minute Ramping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SE Managers agree to concentrate on compliance measure only and reject system mod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PL to re-draft PRR to address issue from a compliance measurement only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discuss at June QSE Manager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R 608 – Improve Ancillary Services Performance Cond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ed by Coral and assigned to QSE Managers through FCTF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al agrees that issue being discussed and should be resolved with other solutions presented by FCTF and PRR 6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al to withdraw P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Spin Rec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 has been on the table for a wh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asked ERCOT to propose a methodology of reducing NSRS Recall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proposed a ramp rate re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SE Managers discussion that due to project time and costs for both ERCOT and QSE’s, not fea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Spin Recall 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SE Managers suggest looking into decreasing block deployments similar to NSRS deployment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to assess feasibility and report back at the June QSE Manager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BES Ramp Rate Feasi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4559400"/>
        </p:xfrm>
        <a:graphic>
          <a:graphicData uri="http://schemas.openxmlformats.org/drawingml/2006/table">
            <a:tbl>
              <a:tblPr/>
              <a:tblGrid>
                <a:gridCol w="1569960"/>
                <a:gridCol w="3132360"/>
                <a:gridCol w="3527280"/>
              </a:tblGrid>
              <a:tr h="3056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tern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6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ou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COT Inter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E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nical Fea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nown Cost (Approx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-Processing for deriving equivalent ramp-rate: $1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D Modification: $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known 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ML, Portal, MDB, and Participant-related cost, et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ML, Portal, MDB, and Participant-related cost, et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6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 Bene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91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233280" indent="-23328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roximate ramp-rates still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3280" indent="-23328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accurate ramp-rate when RR_recall exists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3280" indent="-23328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 performance impact due to this additional pre-processing step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3280" indent="-2332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233280" indent="-23328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ge and complicated task since almost everything done in R3 will need to be either redesigned/re-implemented/retested or reviewed/retested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3280" indent="-23328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D performance issue due to additional logics in a variety of models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3280" indent="-23328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otype engine needs to be built to give accurate assess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780240" cy="4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processing outside of S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1143000"/>
            <a:ext cx="3886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quiv. UBES RR=(160-20)/10=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867280"/>
            <a:ext cx="3962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quiv. DBES RR=(170-0)/(10-1.43)=19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828800" y="1447920"/>
            <a:ext cx="1371600" cy="609480"/>
          </a:xfrm>
          <a:prstGeom prst="line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1905120" y="4647960"/>
            <a:ext cx="1218960" cy="1143000"/>
          </a:xfrm>
          <a:prstGeom prst="line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81480" y="1111320"/>
            <a:ext cx="3581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quiv. UBES RR=(100-20)/10=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5835600"/>
            <a:ext cx="3962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quiv. DBES RR=(140-0)/(10-2.5)=18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762120"/>
            <a:ext cx="160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Bid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9920" y="762120"/>
            <a:ext cx="160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Bid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371600"/>
          <a:ext cx="3962520" cy="42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3962520" cy="42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648320" y="1363680"/>
          <a:ext cx="3962160" cy="420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363680"/>
                    <a:ext cx="3962160" cy="42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 flipH="1" flipV="1">
            <a:off x="6171840" y="3886200"/>
            <a:ext cx="228600" cy="1752480"/>
          </a:xfrm>
          <a:prstGeom prst="line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552720" y="1447920"/>
            <a:ext cx="228600" cy="1066680"/>
          </a:xfrm>
          <a:prstGeom prst="line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BES Ramp Rate Feasibility 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SE Managers suggest not pursuing Alternative II due to cost and resource commitment by ERC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Participants to draft PRR to implement Alternative I (pre-processing), to be reviewed at June QSE Managers me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L Deadb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systems currently discount all RRS on a unit if unit falls 1 mw below L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SE Managers discussed deadband below LOL in which ERCOT would not discount rese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has submitted a system change to impement a 5% deadband such that reserves would not be discounted unless a unit falls below 5% under L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aw-back provision in RMR contrac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MS directed QSEMWG to investigate the significance of RMR capacity not offered in B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discussed some data on RMR units during bid stack depletion, but was not sufficient to determine signifi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will provide additional data, concentrating on reserves available on RMR units during these intervals, at the next QSE Managers mee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R 607 – One Minute Ram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ted by FPL and assigned to QSE Managers through FCTF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t of PRR is to allow QSE’s to better represent start-up and shut-down of un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15 minute schedules do not accurately represent these ramps and is causing SCE compliance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SE Managers agree that technical requirements prohibit timely implementation of solution in ERCOT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14:31:46Z</dcterms:created>
  <dc:creator>Larry Gurley</dc:creator>
  <dc:description/>
  <dc:language>en-US</dc:language>
  <cp:lastModifiedBy>Gary D. Miller</cp:lastModifiedBy>
  <dcterms:modified xsi:type="dcterms:W3CDTF">2006-05-15T17:57:34Z</dcterms:modified>
  <cp:revision>5</cp:revision>
  <dc:subject/>
  <dc:title>QSE Managers Working Group Report to WMS February 22, 2006</dc:title>
</cp:coreProperties>
</file>