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214-54A1-4E7A-954F-6C49EFF3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26C-3FDE-4DB4-831A-DBD110D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768-6B45-402C-90BE-669DCF67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947-9903-4D3C-9169-3A6C58FB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F81-10BD-48D2-981D-91A372E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4AD-5D3A-4A82-BEE3-2EF53E3A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D67-348E-4244-8610-F3B440C5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4C3-6F64-4AF1-AA9E-77E41D26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BE7-3729-450A-A436-2556C3C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C7F-353E-4E50-B37E-705EC6E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73F-D3C9-4D3C-BEAA-A6AA6A8F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45D-880B-4BFF-9E70-E7F2331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080-AE80-408F-A729-E4321CA1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Decision Process For System Chan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ansition To Nodal Marke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5867280"/>
            <a:ext cx="826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R/SCR “stops” through either a PRS rejection based on the system impact analysis or a PRR removing the bo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for an existing, but yet to be initiated,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lternatives include using contractors, establishing that the PRR/SCR will be completed in the subsequent budge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rejecting/removing the PRR/SCR, or manual workaround until Nod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3051000"/>
            <a:ext cx="6807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286000"/>
            <a:ext cx="84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ost-N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enef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6600" y="2212920"/>
            <a:ext cx="114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dal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676520"/>
            <a:ext cx="1344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Bene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weighs Imp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 Nodal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2000" y="327672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183528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381480"/>
            <a:ext cx="1218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reates Pre-Nodal Benefi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920" y="22161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480" y="490680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1480" y="4905360"/>
            <a:ext cx="10112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efer to TPT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PR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0080" y="21398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4120" y="31305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9600" y="259704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440" y="272268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560" y="114300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7480" y="522756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5327640"/>
            <a:ext cx="22989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Recommendation for rejection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4419720"/>
            <a:ext cx="26647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Yes – Recommendation for approval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43" idx="0"/>
            <a:endCxn id="44" idx="1"/>
          </p:cNvCxnSpPr>
          <p:nvPr/>
        </p:nvCxnSpPr>
        <p:spPr>
          <a:xfrm flipH="1" flipV="1" rot="5400000">
            <a:off x="433080" y="2415240"/>
            <a:ext cx="58932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3" idx="2"/>
            <a:endCxn id="52" idx="1"/>
          </p:cNvCxnSpPr>
          <p:nvPr/>
        </p:nvCxnSpPr>
        <p:spPr>
          <a:xfrm flipH="1" rot="16200000">
            <a:off x="88560" y="4218120"/>
            <a:ext cx="1161360" cy="56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2" idx="2"/>
            <a:endCxn id="59" idx="1"/>
          </p:cNvCxnSpPr>
          <p:nvPr/>
        </p:nvCxnSpPr>
        <p:spPr>
          <a:xfrm flipH="1" rot="16200000">
            <a:off x="1680480" y="5033880"/>
            <a:ext cx="181800" cy="62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0"/>
            <a:endCxn id="65" idx="1"/>
          </p:cNvCxnSpPr>
          <p:nvPr/>
        </p:nvCxnSpPr>
        <p:spPr>
          <a:xfrm flipH="1" flipV="1" rot="5400000">
            <a:off x="4082760" y="2130480"/>
            <a:ext cx="149040" cy="5401440"/>
          </a:xfrm>
          <a:prstGeom prst="bentConnector4">
            <a:avLst>
              <a:gd name="adj1" fmla="val 152784"/>
              <a:gd name="adj2" fmla="val 546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4" idx="2"/>
            <a:endCxn id="49" idx="1"/>
          </p:cNvCxnSpPr>
          <p:nvPr/>
        </p:nvCxnSpPr>
        <p:spPr>
          <a:xfrm flipH="1" rot="16200000">
            <a:off x="1354320" y="2777760"/>
            <a:ext cx="9194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209040" y="2521080"/>
            <a:ext cx="13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RCO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va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6240" y="3032280"/>
            <a:ext cx="8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nativ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4" idx="0"/>
            <a:endCxn id="67" idx="1"/>
          </p:cNvCxnSpPr>
          <p:nvPr/>
        </p:nvCxnSpPr>
        <p:spPr>
          <a:xfrm flipH="1" rot="16200000">
            <a:off x="2134080" y="1645200"/>
            <a:ext cx="434520" cy="1715760"/>
          </a:xfrm>
          <a:prstGeom prst="bentConnector4">
            <a:avLst>
              <a:gd name="adj1" fmla="val -52321"/>
              <a:gd name="adj2" fmla="val 623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70440" y="29782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7" idx="2"/>
            <a:endCxn id="68" idx="1"/>
          </p:cNvCxnSpPr>
          <p:nvPr/>
        </p:nvCxnSpPr>
        <p:spPr>
          <a:xfrm flipH="1" rot="16200000">
            <a:off x="3922920" y="2858040"/>
            <a:ext cx="312120" cy="43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45" idx="1"/>
          </p:cNvCxnSpPr>
          <p:nvPr/>
        </p:nvCxnSpPr>
        <p:spPr>
          <a:xfrm flipH="1" flipV="1" rot="5400000">
            <a:off x="4192920" y="2057400"/>
            <a:ext cx="132480" cy="79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5" idx="2"/>
            <a:endCxn id="56" idx="1"/>
          </p:cNvCxnSpPr>
          <p:nvPr/>
        </p:nvCxnSpPr>
        <p:spPr>
          <a:xfrm flipH="1" rot="16200000">
            <a:off x="5338080" y="2455560"/>
            <a:ext cx="269280" cy="48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238720" y="175896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0"/>
            <a:endCxn id="46" idx="1"/>
          </p:cNvCxnSpPr>
          <p:nvPr/>
        </p:nvCxnSpPr>
        <p:spPr>
          <a:xfrm flipH="1" flipV="1" rot="5400000">
            <a:off x="5514120" y="1631160"/>
            <a:ext cx="295920" cy="86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858000" y="4451400"/>
            <a:ext cx="914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odal change request approv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3480" y="10666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6" idx="0"/>
            <a:endCxn id="57" idx="1"/>
          </p:cNvCxnSpPr>
          <p:nvPr/>
        </p:nvCxnSpPr>
        <p:spPr>
          <a:xfrm flipH="1" flipV="1" rot="5400000">
            <a:off x="6983640" y="1038960"/>
            <a:ext cx="422280" cy="85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707160" y="259704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25920" y="380988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82840" y="387972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49" idx="2"/>
            <a:endCxn id="80" idx="1"/>
          </p:cNvCxnSpPr>
          <p:nvPr/>
        </p:nvCxnSpPr>
        <p:spPr>
          <a:xfrm flipH="1" rot="16200000">
            <a:off x="2884320" y="3592440"/>
            <a:ext cx="257760" cy="54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316640" y="5226120"/>
            <a:ext cx="39852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50080" y="5327640"/>
            <a:ext cx="7066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65" idx="2"/>
            <a:endCxn id="83" idx="1"/>
          </p:cNvCxnSpPr>
          <p:nvPr/>
        </p:nvCxnSpPr>
        <p:spPr>
          <a:xfrm flipH="1" rot="16200000">
            <a:off x="7344360" y="5033160"/>
            <a:ext cx="377280" cy="435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7796160" y="4011480"/>
            <a:ext cx="525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17000" y="3886200"/>
            <a:ext cx="34236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65" idx="0"/>
            <a:endCxn id="85" idx="1"/>
          </p:cNvCxnSpPr>
          <p:nvPr/>
        </p:nvCxnSpPr>
        <p:spPr>
          <a:xfrm flipH="1" flipV="1" rot="5400000">
            <a:off x="7391520" y="4046760"/>
            <a:ext cx="328680" cy="48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32360" y="1176480"/>
            <a:ext cx="36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Rs/SCRs addressing PUC Orders/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reviewed upon completion of PUC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7432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00:12Z</dcterms:created>
  <dc:creator>Reliant</dc:creator>
  <dc:description/>
  <dc:language>en-US</dc:language>
  <cp:lastModifiedBy>dzake</cp:lastModifiedBy>
  <dcterms:modified xsi:type="dcterms:W3CDTF">2006-05-19T13:43:35Z</dcterms:modified>
  <cp:revision>17</cp:revision>
  <dc:subject/>
  <dc:title>System Change Analysis</dc:title>
</cp:coreProperties>
</file>