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33E-ADDD-4763-9151-7F8EC5DB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112-2688-4DA1-A7F6-50819758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D73-91A4-4D12-B3A3-B90C527F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D50-3651-407D-98F3-65A73461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60B-F231-4D69-BC77-247F1320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A4B-0A28-4384-9E3F-557A30A7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A58-FB37-4BEC-9689-22E3130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150-ED41-4095-A1BD-F83EF262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5CB-C87F-41F8-9F84-E1CAB14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B8A-C17B-433F-960D-A8B5270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9B7-41CA-44E2-81BE-CDDC6DDE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D31-760E-41BA-9C82-7485F5A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6D1-55F3-418A-832D-EB394555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Decision Process For System Chan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ansition To Nodal Marke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5867280"/>
            <a:ext cx="82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R/SCR “stops” through either a PRS rejection based on the system impact analysis or a PRR removing the bo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for an existing, but yet to be initiated,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lternatives include using contractors, establishing that the PRR/SCR will be completed in the subsequent budge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rejecting/removing the PRR/SCR, or manual workaround until Nod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3051000"/>
            <a:ext cx="6807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286000"/>
            <a:ext cx="84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ost-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enef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6600" y="2212920"/>
            <a:ext cx="114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676520"/>
            <a:ext cx="1344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weighs Imp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 Nodal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2000" y="327672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183528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381480"/>
            <a:ext cx="1218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reates Pre-Nodal Benefi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920" y="22161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480" y="490680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1480" y="4905360"/>
            <a:ext cx="1011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efer to TPT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PR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0080" y="21398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4120" y="31305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9600" y="25970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440" y="272268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560" y="114300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7480" y="52275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5327640"/>
            <a:ext cx="22989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ecommendation for rejection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4419720"/>
            <a:ext cx="26647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Yes – Recommendation for approval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3" idx="0"/>
            <a:endCxn id="44" idx="1"/>
          </p:cNvCxnSpPr>
          <p:nvPr/>
        </p:nvCxnSpPr>
        <p:spPr>
          <a:xfrm flipH="1" flipV="1" rot="5400000">
            <a:off x="433080" y="2415240"/>
            <a:ext cx="58932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3" idx="2"/>
            <a:endCxn id="52" idx="1"/>
          </p:cNvCxnSpPr>
          <p:nvPr/>
        </p:nvCxnSpPr>
        <p:spPr>
          <a:xfrm flipH="1" rot="16200000">
            <a:off x="88560" y="4218120"/>
            <a:ext cx="1161360" cy="56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2" idx="2"/>
            <a:endCxn id="59" idx="1"/>
          </p:cNvCxnSpPr>
          <p:nvPr/>
        </p:nvCxnSpPr>
        <p:spPr>
          <a:xfrm flipH="1" rot="16200000">
            <a:off x="1680480" y="5033880"/>
            <a:ext cx="18180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0"/>
            <a:endCxn id="65" idx="1"/>
          </p:cNvCxnSpPr>
          <p:nvPr/>
        </p:nvCxnSpPr>
        <p:spPr>
          <a:xfrm flipH="1" flipV="1" rot="5400000">
            <a:off x="4082760" y="2130480"/>
            <a:ext cx="149040" cy="5401440"/>
          </a:xfrm>
          <a:prstGeom prst="bentConnector4">
            <a:avLst>
              <a:gd name="adj1" fmla="val 152784"/>
              <a:gd name="adj2" fmla="val 546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2"/>
            <a:endCxn id="49" idx="1"/>
          </p:cNvCxnSpPr>
          <p:nvPr/>
        </p:nvCxnSpPr>
        <p:spPr>
          <a:xfrm flipH="1" rot="16200000">
            <a:off x="1354320" y="2777760"/>
            <a:ext cx="9194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209040" y="252108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RCO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va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6240" y="3032280"/>
            <a:ext cx="8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nativ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4" idx="0"/>
            <a:endCxn id="67" idx="1"/>
          </p:cNvCxnSpPr>
          <p:nvPr/>
        </p:nvCxnSpPr>
        <p:spPr>
          <a:xfrm flipH="1" rot="16200000">
            <a:off x="2134080" y="1645200"/>
            <a:ext cx="434520" cy="1715760"/>
          </a:xfrm>
          <a:prstGeom prst="bentConnector4">
            <a:avLst>
              <a:gd name="adj1" fmla="val -52321"/>
              <a:gd name="adj2" fmla="val 623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70440" y="29782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7" idx="2"/>
            <a:endCxn id="68" idx="1"/>
          </p:cNvCxnSpPr>
          <p:nvPr/>
        </p:nvCxnSpPr>
        <p:spPr>
          <a:xfrm flipH="1" rot="16200000">
            <a:off x="3922920" y="2858040"/>
            <a:ext cx="312120" cy="43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45" idx="1"/>
          </p:cNvCxnSpPr>
          <p:nvPr/>
        </p:nvCxnSpPr>
        <p:spPr>
          <a:xfrm flipH="1" flipV="1" rot="5400000">
            <a:off x="4192920" y="2057400"/>
            <a:ext cx="132480" cy="79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5" idx="2"/>
            <a:endCxn id="56" idx="1"/>
          </p:cNvCxnSpPr>
          <p:nvPr/>
        </p:nvCxnSpPr>
        <p:spPr>
          <a:xfrm flipH="1" rot="16200000">
            <a:off x="5338080" y="2455560"/>
            <a:ext cx="269280" cy="48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238720" y="17589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0"/>
            <a:endCxn id="46" idx="1"/>
          </p:cNvCxnSpPr>
          <p:nvPr/>
        </p:nvCxnSpPr>
        <p:spPr>
          <a:xfrm flipH="1" flipV="1" rot="5400000">
            <a:off x="5514120" y="1631160"/>
            <a:ext cx="295920" cy="8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858000" y="4451400"/>
            <a:ext cx="914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change request approv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3480" y="10666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6" idx="0"/>
            <a:endCxn id="57" idx="1"/>
          </p:cNvCxnSpPr>
          <p:nvPr/>
        </p:nvCxnSpPr>
        <p:spPr>
          <a:xfrm flipH="1" flipV="1" rot="5400000">
            <a:off x="6983640" y="1038960"/>
            <a:ext cx="422280" cy="85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707160" y="25970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25920" y="38098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2840" y="387972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49" idx="2"/>
            <a:endCxn id="80" idx="1"/>
          </p:cNvCxnSpPr>
          <p:nvPr/>
        </p:nvCxnSpPr>
        <p:spPr>
          <a:xfrm flipH="1" rot="16200000">
            <a:off x="2884320" y="3592440"/>
            <a:ext cx="257760" cy="54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9" idx="0"/>
            <a:endCxn id="67" idx="1"/>
          </p:cNvCxnSpPr>
          <p:nvPr/>
        </p:nvCxnSpPr>
        <p:spPr>
          <a:xfrm flipH="1" flipV="1" rot="5400000">
            <a:off x="2645280" y="2817720"/>
            <a:ext cx="661680" cy="46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316640" y="52261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50080" y="532764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65" idx="2"/>
            <a:endCxn id="84" idx="1"/>
          </p:cNvCxnSpPr>
          <p:nvPr/>
        </p:nvCxnSpPr>
        <p:spPr>
          <a:xfrm flipH="1" rot="16200000">
            <a:off x="7344360" y="5033160"/>
            <a:ext cx="377280" cy="43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796160" y="401148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7000" y="388620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5" idx="0"/>
            <a:endCxn id="86" idx="1"/>
          </p:cNvCxnSpPr>
          <p:nvPr/>
        </p:nvCxnSpPr>
        <p:spPr>
          <a:xfrm flipH="1" flipV="1" rot="5400000">
            <a:off x="7391520" y="4046760"/>
            <a:ext cx="328680" cy="48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32360" y="1176480"/>
            <a:ext cx="36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s/SCRs addressing PUC Orders/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reviewed upon completion of PUC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00:12Z</dcterms:created>
  <dc:creator>Reliant</dc:creator>
  <dc:description/>
  <dc:language>en-US</dc:language>
  <cp:lastModifiedBy>dzake</cp:lastModifiedBy>
  <dcterms:modified xsi:type="dcterms:W3CDTF">2006-05-10T19:16:47Z</dcterms:modified>
  <cp:revision>16</cp:revision>
  <dc:subject/>
  <dc:title>System Change Analysis</dc:title>
</cp:coreProperties>
</file>