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0F2E-F378-4559-BB00-5462A57C6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C6E7-59C1-4912-BB53-3C51FEBF6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47DB-1409-446A-9FCA-EB904BDD9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B6B8-4DED-4EA8-A208-7288F05F7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F16B-7910-497B-BCA3-24836E9A0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D7C4-EDA7-4732-85B2-1A1D12F47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7655F-AFD1-4B46-9D6E-8CE05BC44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3073-5193-4F72-A35F-25697C314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47200-0C50-4EBA-9B96-647FB0153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5FE4-DC79-452E-BADE-FCEBDFE71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206B-B075-4F98-A3B4-AD6D170D4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FFFF5-2F34-4814-9341-912293FE0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9896-E330-4137-A32E-69253F75B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6481-2581-4C3A-9742-F838F8C69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E4BA76F2-205A-418C-B40A-CDC9AA8DA08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003160" y="40644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895480"/>
            <a:ext cx="678168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47720" y="2131200"/>
            <a:ext cx="7010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7 Project Prioritiz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76160" y="3200040"/>
            <a:ext cx="5181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rioritization Proces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749"/>
              </a:spcBef>
              <a:buClr>
                <a:srgbClr val="466e6c"/>
              </a:buClr>
              <a:buSzPct val="7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r 2007 Priorit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ation Guide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ation Process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rioritiz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066680"/>
            <a:ext cx="81532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SzPct val="75000"/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ing Principles for Project Prioritiz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roject Summ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al Project Priority Lists (PP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ownership of Divisional PPLs between Market Subcommittees and Divisional Project Organizations (DP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MS / R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ry A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ubcommittees and DPOs will recommend the placement of the cutline in the Divisional 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focus on resource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37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7 Prioritization folder on ERCOT.com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progr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“Quick Links” / “View Project Statu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5084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ioritization Guideline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282920"/>
        </p:xfrm>
        <a:graphic>
          <a:graphicData uri="http://schemas.openxmlformats.org/drawingml/2006/table">
            <a:tbl>
              <a:tblPr/>
              <a:tblGrid>
                <a:gridCol w="1219320"/>
                <a:gridCol w="701028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F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ryover from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cts required by Statute, PUCT Order, NERC compliance or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critic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reliability of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id Opera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Infrastruct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ercial Settle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High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a majority of market segments or ERC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High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one or two segments, or</a:t>
                      </a: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edium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a majority of market segments or ERCO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edium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only one seg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lot for non-prioritized projec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rot="17936400">
            <a:off x="7655040" y="2796840"/>
            <a:ext cx="1676520" cy="536400"/>
          </a:xfrm>
          <a:custGeom>
            <a:avLst/>
            <a:gdLst>
              <a:gd name="textAreaLeft" fmla="*/ 329040 w 1676520"/>
              <a:gd name="textAreaRight" fmla="*/ 1109160 w 1676520"/>
              <a:gd name="textAreaTop" fmla="*/ 71640 h 536400"/>
              <a:gd name="textAreaBottom" fmla="*/ 464760 h 53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-2879804"/>
                <a:lnTo>
                  <a:pt x="21115" y="7200"/>
                </a:lnTo>
                <a:lnTo>
                  <a:pt x="17745" y="0"/>
                </a:lnTo>
                <a:lnTo>
                  <a:pt x="13404" y="7200"/>
                </a:lnTo>
                <a:lnTo>
                  <a:pt x="16476" y="7200"/>
                </a:lnTo>
                <a:arcTo wR="8481" hR="21600" stAng="2520196" swAng="2754626"/>
                <a:lnTo>
                  <a:pt x="9264" y="21508"/>
                </a:lnTo>
                <a:arcTo wR="8481" hR="21600" stAng="5525178" swAng="5274822"/>
                <a:close/>
              </a:path>
              <a:path fill="darkenLess"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125178"/>
                <a:lnTo>
                  <a:pt x="9264" y="21508"/>
                </a:lnTo>
                <a:arcTo wR="8481" hR="21600" stAng="5525178" swAng="5274822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150840"/>
            <a:ext cx="586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ioritization Process Schedule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45720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289548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505320"/>
            <a:ext cx="1067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10666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28600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0666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29718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 &amp; Audit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13716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78600" y="3564000"/>
            <a:ext cx="21333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5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9 – Statu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17 – Recommendation to B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15080" y="1981080"/>
            <a:ext cx="1963800" cy="27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18 – 2007 Budget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468400">
            <a:off x="3200040" y="5029200"/>
            <a:ext cx="1990800" cy="422280"/>
          </a:xfrm>
          <a:custGeom>
            <a:avLst/>
            <a:gdLst>
              <a:gd name="textAreaLeft" fmla="*/ 390600 w 1990800"/>
              <a:gd name="textAreaRight" fmla="*/ 1316880 w 1990800"/>
              <a:gd name="textAreaTop" fmla="*/ 56520 h 422280"/>
              <a:gd name="textAreaBottom" fmla="*/ 365760 h 42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-2879804"/>
                <a:lnTo>
                  <a:pt x="21115" y="7200"/>
                </a:lnTo>
                <a:lnTo>
                  <a:pt x="17745" y="0"/>
                </a:lnTo>
                <a:lnTo>
                  <a:pt x="13404" y="7200"/>
                </a:lnTo>
                <a:lnTo>
                  <a:pt x="16476" y="7200"/>
                </a:lnTo>
                <a:arcTo wR="8481" hR="21600" stAng="2520196" swAng="2754626"/>
                <a:lnTo>
                  <a:pt x="9264" y="21508"/>
                </a:lnTo>
                <a:arcTo wR="8481" hR="21600" stAng="5525178" swAng="5274822"/>
                <a:close/>
              </a:path>
              <a:path fill="darkenLess"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125178"/>
                <a:lnTo>
                  <a:pt x="9264" y="21508"/>
                </a:lnTo>
                <a:arcTo wR="8481" hR="21600" stAng="5525178" swAng="5274822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7936400">
            <a:off x="6860520" y="4722120"/>
            <a:ext cx="1674720" cy="612720"/>
          </a:xfrm>
          <a:custGeom>
            <a:avLst/>
            <a:gdLst>
              <a:gd name="textAreaLeft" fmla="*/ 328680 w 1674720"/>
              <a:gd name="textAreaRight" fmla="*/ 1107720 w 1674720"/>
              <a:gd name="textAreaTop" fmla="*/ 82080 h 612720"/>
              <a:gd name="textAreaBottom" fmla="*/ 53064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-2879804"/>
                <a:lnTo>
                  <a:pt x="21115" y="7200"/>
                </a:lnTo>
                <a:lnTo>
                  <a:pt x="17745" y="0"/>
                </a:lnTo>
                <a:lnTo>
                  <a:pt x="13404" y="7200"/>
                </a:lnTo>
                <a:lnTo>
                  <a:pt x="16476" y="7200"/>
                </a:lnTo>
                <a:arcTo wR="8481" hR="21600" stAng="2520196" swAng="2754626"/>
                <a:lnTo>
                  <a:pt x="9264" y="21508"/>
                </a:lnTo>
                <a:arcTo wR="8481" hR="21600" stAng="5525178" swAng="5274822"/>
                <a:close/>
              </a:path>
              <a:path fill="darkenLess"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125178"/>
                <a:lnTo>
                  <a:pt x="9264" y="21508"/>
                </a:lnTo>
                <a:arcTo wR="8481" hR="21600" stAng="5525178" swAng="5274822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114800" y="21337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21337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2590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752480" y="350496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1676520"/>
            <a:ext cx="2049480" cy="27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23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502920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6240" y="5656320"/>
            <a:ext cx="3547800" cy="94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5 – Post project lists and document templates for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2 – Complete ERCOT project summ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24 – Complete required documents for new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5 – Distribute Subcommittee project lists to P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9 – Distribute TAC mate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1676520"/>
            <a:ext cx="20667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0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4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2895480"/>
            <a:ext cx="206712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30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5 – Final Review of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114800"/>
            <a:ext cx="206532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7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30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1 – Final Review of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0200" y="3497400"/>
            <a:ext cx="2082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9 – Initial Planning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8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2 – Prioritization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37120" y="5189400"/>
            <a:ext cx="20829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4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 – Proces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6 – Approve 2007 Priority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438280" y="4267080"/>
            <a:ext cx="68580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150840"/>
            <a:ext cx="563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Required Document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Required for Placement on Divisional P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 / SCR /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/ Benefit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Requ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&amp; Cost Estim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/ Benefit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arket / ERCOT Delive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al PPL with 2007 priorities, ranks, budgets and a proposed cut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73200" y="2311200"/>
            <a:ext cx="779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d5f5d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ed Hailu</cp:lastModifiedBy>
  <dcterms:modified xsi:type="dcterms:W3CDTF">2006-05-15T20:06:19Z</dcterms:modified>
  <cp:revision>83</cp:revision>
  <dc:subject/>
  <dc:title>Slide 1</dc:title>
</cp:coreProperties>
</file>