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2B5-2D76-4490-A7DC-2D34E5A5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1A7-F8E0-4ECA-A57A-2F8D3F99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D08-35F1-4F01-BD79-76957472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792-7EEA-4B33-A550-91120E4C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203-E0E5-4C30-8796-2BF77AB2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4C5-0883-4172-881E-E543BB4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E12-0369-4112-AD43-53188C7B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A71-5257-402E-AA75-1009B49E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823-A641-4566-8520-5B29D22E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475-B9E3-4D67-9806-B1F1A3E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BC7-7498-4EC5-A227-8D63593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DCF-76B2-4CDF-AB02-E176F95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B49-C179-4E76-A1D3-0E3F6B96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C, NERC and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Operator Training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C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2B9-FDDA-4B62-B3C7-8E5411FC49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Resource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Trigger Limit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minute average frequency outside limit is a “failed”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lerance is tighter on one side during time error cor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consecutive “failed” minutes is a vi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Abnormal Limit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consecutive seconds outside limit is a vi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historical dat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Trigger Limit Standard vio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/13/2003 16:27 to 17:13 (Above FT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/31/2004 2:03 to 2:34 (Above FT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/23/2005 2:12 to 2:44 (Above FT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357-48EE-4354-B712-CC19E8A94C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icip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important for ERCOT market participants who are subject to all present, proposed and future standards to participate in the NERC standards process – the penalties will be mandatory and rea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035-96A1-4F8D-B360-BCE2C93F19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ess Au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RC Compliance Group is now conducting Readiness Audits of entities with operating responsibilities for the BES – This audit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ergency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y to tak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Operations was audited in Octo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udit team reported no significant findings – a good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recommendations were made by the audi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RC now intends to audit transmission owner control centers in ERCOT – a schedule for these audits will be developed in the near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7E0-498C-4908-8795-C2D057A49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C Operator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-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C is currently conducting a study of operator training needs and will develop an operator training standard – this effort is in the early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certified operators can re-certify through te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GC has approved re-certification by receiving a required number and type of training CEHs.  Transition proposal is to allow testing and CEH re-cert until 2009, then make CEH re-cert the only option – the program is still being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operator certification will continue to be through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953-0E66-4199-81E4-F2A857852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8B3-1BBD-45A4-BEDB-A16C76B068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C And NERC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 EPAC/FERC/ERO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C Standards Development and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C Readiness Au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C Operator Training and Re-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A23-9F40-450D-A9E3-776CD5F10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 Energy Polic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2005 Federal Energy Policy Act is very comprehensive – in the area of electricity it is definitely intended to prov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Bulk Electric System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es an Electric Reliability Organization (ERO) to develop reliability standards for FERC approval that will be strictly enfor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for the delegation of Regional development, compliance determination and enforcement of those standards to ERO and FERC approved Regional Entities (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the ERO to periodically assess the reliability of the gr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to the Bulk Electric System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“corridors of national interest” to reduce significant 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increased access to rights of way on federal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exempted from this section of the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9BE-C272-463D-B214-0BEB1F78A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 Reliability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RO will be certified for the 48 states – Canadian provinces are expected to adopt similar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O is required to develop necessary reliability standards to be approved by FERC and strictly enforced with pena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ndards adopted through the ERO process will be federally enforc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Version 0 standards will most likely be the starting point, along with all other standards currently approved through the NERC process since adoption of Version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O can delegate these duties to a Regional Entity that meets certain strict requirements and is approved by NERC and FE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RC expects to be certified as the ERO and is preparing a filing to FERC to tha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93A-EB3B-4A87-B33A-1FF22A85A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Entities (RE) will be created through delegation of ERO authority in a Delegation Agreement – it will be a pro-forma agreement with individualized, FERC approved, Regional attachments  and will incorporate “Rules of Procedur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ules of Procedure specify all of the required activities between the ERO and the 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ments will be negotiated by each Region and will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vernance and Rules – the final FERC ERO/RE certification rule and related discussion, issued February 6, and discussions with FERC staff strongly indicate it will be in ERCOT’s interest to create a separate, independent entity to perform the RE function – 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independenc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RC review of “entire annual budget for statutory and non-statutory activities of each Regional Entity—including the RE’s business pla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COT Protocols kept separate from FERC approved and enforced NERC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633-AE3D-4AE4-854C-7DB657D209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gation Agreement - C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ments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iance Process – must be acceptable to ERO and FERC – ERCOT staff will meet with the NERC Board of Trustees Compliance Committee on March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describe the current ERCOT complianc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forcement/Penalty Process – will be developed to administer the final ERO/FERC adopted matrix – currently, penalty basis being discu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al Standards Development Process – it appears that ERCOT can duplicate its current PRS process under ERCOT RE leadership to meet the requirements for such process to be open and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many Regional Standards are expected in ER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st will be variances from ERO standards as needed by ERC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ing – ERO and RE budget approved by FE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ERO and ERCOT RE funding from ERCOT will be sent to the ERO from the ERCOT ISO 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RCOT RE will then be funded from that submittal by the 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AA2-9B6D-418B-AFE8-B7FC195FC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RC will file for ERO certification about April 4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Entities should be in the process of preparing to file and com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RC anticipates certification in the June – July tim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Entities should be prepared to file when the ERO is certified, but not necessarily be in compliance at the time of its f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O/RE structure should be completed and fully operational on 1/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ing of NERC and Regions will continue as is fo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2007 ERO/RE budget process will begin in March, 2006, when information is sent to the Regional Entities requesting their annual budget f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B9E-6259-4299-BD9E-71695927F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C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RC is currently drafting new and revising existing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standards include both operating and planning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of the standards under development are being field tested prior to being voted on to determine if they successfully accomplish the desired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resources and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ion of generator voltage regulator controls with unit capabilities and prote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or performance during frequency and voltage excur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cation of generator excitation systems and voltage control mode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cation and status of generating unit frequency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iance with approved ERO standards will be mandatory for all owners, operators and users of the Bulk Electric System once the ERO is certified and the ERO process is implemented – probably by 1/1/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021-4F84-4A8E-87E0-ACBED3FFB1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RC is currently field testing thi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began in a small area of the Eastern Interconnect last 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r Balancing Authorities were added as experience was g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 are good to date in the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joined in the field test beginning February 1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pproved, it will replace the current CPS2 and DCS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sets of limits are contained in the draft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Trigger 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T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9.932 Hz, FT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0.068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Abnormal 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9.622 Hz, F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t set at this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Relay 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9.300 Hz, FR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t set at this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7E7-0990-4A02-8872-9678B03297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0:51:03Z</dcterms:created>
  <dc:creator>Sam Jones</dc:creator>
  <dc:description/>
  <dc:language>en-US</dc:language>
  <cp:lastModifiedBy>vweldon</cp:lastModifiedBy>
  <dcterms:modified xsi:type="dcterms:W3CDTF">2006-03-17T14:41:56Z</dcterms:modified>
  <cp:revision>45</cp:revision>
  <dc:subject/>
  <dc:title>PowerPoint Presentation</dc:title>
</cp:coreProperties>
</file>