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gif" ContentType="image/gif"/>
  <Override PartName="/ppt/media/image3.wmf" ContentType="image/x-wmf"/>
  <Override PartName="/ppt/media/image17.wmf" ContentType="image/x-wmf"/>
  <Override PartName="/ppt/media/image16.gif" ContentType="image/gif"/>
  <Override PartName="/ppt/media/image15.wmf" ContentType="image/x-wmf"/>
  <Override PartName="/ppt/media/image14.wmf" ContentType="image/x-wmf"/>
  <Override PartName="/ppt/media/image1.png" ContentType="image/png"/>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923B-BFED-4C32-B624-6EB8F62E4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webmd.com/content/article/62/71840.ht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Brain_wave" TargetMode="External"/><Relationship Id="rId2" Type="http://schemas.openxmlformats.org/officeDocument/2006/relationships/hyperlink" Target="http://en.wikipedia.org/wiki/Hormone" TargetMode="External"/><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shiftwork and why are we talking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that is scheduled outside normal daylight hours (9am – 5pm) is called shift work. Shift workers are 40 times more likely to be involved in “accidents” at work, on the road and at home and shiftworkers health can be affected by the schedule.  So we want to be proactive in preventing accidents from taking place and ensuring good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ere work shift work.  How about 8hr shifts, 9s, 10s, 11s, 12hr shifts.  How about less than 1 year? 1-5 years, 5-10? 10-15? 15-20? Above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everyone here may not be working a shift work schedule, you may be affected by it personally by having a family member or friend who does.  I work a regular schedule but I have a brother who has worked the night shift at a hospital for the past 18 years.  So hopefully my presentation on coping with shift work will be helpful to everyone in som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workday the last 4 hours of duty are usually the hardest as this will invariably coincide with a dip in your circadian rhythm. Standing and stretching is one method of maintaining alert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list of everything we are going to cov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of night and rotating shift workers have significant sleep problems and issues staying alert at night.  Shift workers will need to develop a sleep pattern that works for you. Individual needs vary greatly but the common recommendation is eight hours a night. Sleep loss can lead to chronic fatigue, insomnia, persistent anxiety or depression, substance abuse, and decreased aler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much sleep do you get and do you have a sleep debt? I want you all to try this simple test: During the test do not drink alcohol or caffeine and don’t smoke.  These are all stimulants or depressants.  Okay, starting on a Sunday go to sleep about the same time every night and get an uninterrupted seven to eight hours of sleep for the next six nights. Then, on Saturday morning, sleep in and see how long your body will let you sleep. If you sleep longer than you did during the week -- then you have a sleep debt. So you should consider getting more sleep each night to replenish that sleep debt. From the reaction I got it doesn’t sound so easy.  Well, give it a try and do the best you can. W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getting the proper amount of and best quality sleep can have serious consequences. Did you know that reducing sleep by as little as one and a half hours for just one night reduces daytime alertness by about one-third. Excessive daytime sleepiness impairs memory and the ability to think and process information.  It also contributes to a substantially increased risk of sustaining an occupational inj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line is that you should wake up feeling relatively refreshed, and you should generally not feel sleepy during the day. If this is not the case, you may have an </a:t>
            </a:r>
            <a:r>
              <a:rPr b="0" lang="en-US" sz="1200" spc="-1" strike="noStrike" u="sng">
                <a:solidFill>
                  <a:srgbClr val="009999"/>
                </a:solidFill>
                <a:uFillTx/>
                <a:latin typeface="Arial"/>
                <a:hlinkClick r:id="rId1"/>
              </a:rPr>
              <a:t>unrecognized sleep disorder</a:t>
            </a:r>
            <a:r>
              <a:rPr b="0" lang="en-US" sz="1200" spc="-1" strike="noStrike" u="sng">
                <a:solidFill>
                  <a:srgbClr val="000000"/>
                </a:solidFill>
                <a:uFillTx/>
                <a:latin typeface="Arial"/>
              </a:rPr>
              <a:t> and should see your doctor or a sleep specialis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how do you develop a good sleep pattern.  You’ve heard some ideas from the video.  These tips</a:t>
            </a:r>
            <a:r>
              <a:rPr b="0" lang="en-US" sz="1200" spc="-1" strike="noStrike">
                <a:solidFill>
                  <a:srgbClr val="000000"/>
                </a:solidFill>
                <a:latin typeface="Arial"/>
              </a:rPr>
              <a:t> can help make the most of your getting a good restful sle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s to make sure family and friends know your schedule so as not to disturb you when you’re sleep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want to make your bedroom as cool, quiet, and dark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the ringer off the phone.  If you haven’t done so already, you can register your phone number on the national Do-Not-Call list which will stop solicitors from calling your number for 5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ken the room with blackout curtains or wear an eye m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ar foam ear plugs or mask external noise with a fan or white noise making machin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a quiet time approximately 30 minutes before bedtime helps to slow down your metabolic 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for one or two blocks uninterrupted sleep per day. Naps should be used as a fill-up rather than part of your regular sleep.  Short naps of 10 to 20 minutes and long naps of 2 hrs are best for restoring alertness.  These times coincide with sleep stages and will help you avoid waking during the delta sleep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alcohol, caffeine and strenuous exercise 2-4 hours prior to sle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leeping pills.  If you do take them, get least 8 hours sleep.  The sleeping pill Ambien has been in the news lately.  The sedative effect of this drug is 8hrs.  There have been reports that people are driving while sleep walking while under the influence of this drug and that’s scary.  What’s been reported is that some people are taking the drug but are not giving themselves the 8 hours that’s its effective and are starting their day in a sleep state of mind.  The drugs current label warns that alcohol should not be used with Ambien and in some cases could cause sleepwalking and hallucinations.  All drugs have some side effects. So avoid sleeping aids if at all possible as they can lead to drug dependency, a drug tolerance may develop, and there could be many long term side eff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learn and apply relaxation techniques to reduce stress before going to bed. Taking a hot bath or shower is helpfu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igue may affect concentration and reaction time which can lead to accidents.  You can read through the other contributing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s report that night workers suffer a drop in alertness between 2-4 am.  This drop is linked to a circadian rhythm drop and corresponds to the time at which many major errors and accidents have occurred.  Accidents at Three Mile Island, Bhopal, and Chernobyl, as well as the Exxon-Valdez oil spill, each occurred between midnight and 4 am. The Exxon-Valdez oil spill was greatly blamed on crew fatigue as a result of excessive work hours and sleep depri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interesting facts on fati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Million Americans suffer from sleep disorders that effect the quality and quantity of their sle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llion people experience sleep disorders as a result of shif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35% of adults sleep the recommended 8 hours or more per night during the work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 of adults report symptoms of insomnia a few nights a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of adults indicated that they do not feel well rested when they get up fo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27% of adults reported dozing off behind the wheel of an automo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all this it is especially important for shift workers to work at fighting fatigue and it’s effect.  I’ve got an example of a 12-hour rotating shift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PREAD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work column.  In this 12 hour rotating schedule one actually works 13 hours by accounting for the ½ hour crossover at the beginning and a ½ hour for end of sh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rest column. This leaves a shiftworker 11 hours before needing to be back at work.  This includes your travel time home and back to work so let’s say you have a 30 min commute each way which drops your time to 10 hours.  Allowing 8 for sleep, you’re left with 2 hrs for eating, family time, getting ready for the next shift and other activities.  That’s not much time.  Seeing it this way can help you focus on managing your time and establishing a consistent rou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looking down the “rest” column, the tight work schedule is compensated with clustered days off before rotating to a different shift schedule.  The longest period is 14 days off and the shortest rest period on this schedule is one day but in actuality there are 47 hours of rest because the rotation is from days to nights.  Research suggests the minimum recommended rest time between changing to a new shift time is 24 hours.  The best is 48 hours as this gives the body an adequate amount of time to readjust.  So this schedule with 47 hours is pretty good for allowing individuals an opportunity to adjust to the shift chan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ere are some combating fatigue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et a sufficient amount of sleep so you don’t start the shift with a sleep deficit. Establish a consistent bedtime rou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e sure to get exercise – walk, job, swim, ride a bike. It doesn’t have to be a long work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duce alcohol, caffeine, and tobacc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at a well balanced diet.  Cut out large or spicy meals late in the ev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get regular checkups and stick with your doctor’s recommended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ght fatigue on the job you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chedule most demanding work early in the shi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chedule short frequent breaks throughout the shi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nce our biological clock is set with light and dark, work with bright lights in the workplace.  When you leave work after a shift, wear sunglasses when exiting the workplace until you’re inside your residence.  This can help adjust your circadian rhy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talked about sleep and fatigue. Gastrointestinal problems affect night shift workers more because digestion and other body functions are slowed down at night. Disorders include ulcers, heartburn, indigestion, frequent stomach aches, constipation, diarrhea, and loss of appetite. Contributing factors include an irregular diet, reduced access to wholesome foods, increased snacking on high fat content foods, and heavy coffee consum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night shift workers seem to do better eating lightly throughout the shift and then having a moderate breakfast or dinner.  It is important for night shift workers to maintain regular eating patterns with well balanced foods which includes fruits, vegetables, protein, dairy products, grains and bre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 lots of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back on highly salted foods and foods high in 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avoid excessive use of antacids, tranquilizers, and sleeping pills.  Taking deliberate steps in maintaining good eating and sleeping patterns is easier on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tip is it’s important to minimize the use of caffeine.  Over the years workers have developed tricks to help them stay awake on night shifts.  Consuming high quantities of caffeine and eating high sugar content foods is a temporary fix that provides a few minutes of relief but after awhile, it turns into a vicious cycle and has little or no effect at all on tiredness but can have a great effect on one’s overall health. Also caffeine disrupts the sleep cy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ast food and vending machines are notoriously high in fat, sugar and salt so should be avoided.  Pack a lunch and snacks to control what you 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can be a problem for shiftworkers.  Contributing factors include lack of socializing with family and friends, shiftwork can make it hard to plan for family responsibilities causing stress, shift rotation makes it hard to form routines, stress can lead to anxiety, high blood pressure, and heart disease, and stress can decrease one’s job satisfaction and moti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recommendations for management are:  Plan shifts in advance so that workers know what to expect.  Ensure demands on workers are reasonable. Schedule some time off over weekends so that employees have opportunities to socialize with family and friends.  And provide stress management worksho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s should learn and use relaxation techniques and get adequate sleep and exercise to alleviate stres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Industries that operate 24 hours a day have implemented at least 1300 plus variations of a shift work schedule. There are fixed 5 day/8 hour schedules, 4 day/10 hour, 12-hour shifts or variations such as rotating 10’s, overlapping 9, 10, and 11 hr shifts, rotating 12’s, and more. The question is what’s the best?  The answer is there is no ‘best’ pattern that suits all.  The best roster is the one the staff sup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Let’s look at fixed .versus rotating.  Fixed schedules are just that.  You work the same hours every day you work.  You might think permanent night shift workers get used to their schedules, however research tells us that most permanent night shift workers never really get used to their schedules because they typically go back to a day schedule on their days off.  Because of this, they never completely allow their bodies to adjust to being awake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Rotating shift workers face a similar situation.  Because the shift schedule is always changing, they never completely adapt to a set work schedule.  Rotating schedules are often used because they seem more fair to all employees. Everyone has a turn for both the popular and unpopular shi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iggest innovations in shift schedules over the last 20 years has been the resurgence of longer shifts, especially 12-hour shifts. It is found that many shift workers prefer to work 12 hour shifts. A benefit for management is incidents and accidents often peak during the 3</a:t>
            </a:r>
            <a:r>
              <a:rPr b="0" lang="en-US" sz="1200" spc="-1" strike="noStrike" baseline="30000">
                <a:solidFill>
                  <a:srgbClr val="000000"/>
                </a:solidFill>
                <a:latin typeface="Arial"/>
              </a:rPr>
              <a:t>rd</a:t>
            </a:r>
            <a:r>
              <a:rPr b="0" lang="en-US" sz="1200" spc="-1" strike="noStrike">
                <a:solidFill>
                  <a:srgbClr val="000000"/>
                </a:solidFill>
                <a:latin typeface="Arial"/>
              </a:rPr>
              <a:t> &amp; 4</a:t>
            </a:r>
            <a:r>
              <a:rPr b="0" lang="en-US" sz="1200" spc="-1" strike="noStrike" baseline="30000">
                <a:solidFill>
                  <a:srgbClr val="000000"/>
                </a:solidFill>
                <a:latin typeface="Arial"/>
              </a:rPr>
              <a:t>th</a:t>
            </a:r>
            <a:r>
              <a:rPr b="0" lang="en-US" sz="1200" spc="-1" strike="noStrike">
                <a:solidFill>
                  <a:srgbClr val="000000"/>
                </a:solidFill>
                <a:latin typeface="Arial"/>
              </a:rPr>
              <a:t> hour of continuous operation.  12 hour rosters will reach the peak incident time twice in a 24 hour period as compared to 3 peaks for an 8 hour shift roster.  And considering the cost of hand-over both in monitory terms and business terms, there are only 2 hand-overs per 24 hours in a 12 hour roster.  If hand-overs are 30 minutes the total is 7 hours per week per person compared to 10.5 hours per week per person for 8 hour shifts.  In some industries hand-over is a vulnerable time for incidents so the 12 hour shift has it’s advantage as having only 2 hand-o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In practice, schedules should be designed with the following dependencies taken into consideration:   They should include health &amp; safety, impact on lifestyle and family, specific work requirements, staff numbers, and skill levels.  Both good and bad points can be found in most work schedules.  And again, the best roster is one that the staff supp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hour shift roster works but it’s success requires careful planning, implementation and adherence to established ground rules of self-managed teams if they have been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Life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 workers may feel isolated from social and family events due to work schedules.  As a shiftworker, you could distribute a calendar of your schedule to friends and relatives to let them know when you are available.  Some tips for single shift workers for meeting new people and pursuing personal development is to attend workshops, classes, and hobby clubs on days off.  You can volunteer with organizations you like. And spend time off socializing with co-worker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amily life tip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family activities in advance if possible so that everyone can anticipate and look forward to the activ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using a calendar to schedule ev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schedule at least one meal a day with the fami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good communication skills by keeping in touch with your spouse and kids dai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set time aside for just you and your spou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ize with other shift workers and their families. We all tend to gravitate to people that we have things in comm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me projects or tasks, tackle them one at a 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s important to show a positive attitude so that your family will have on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advantages of shift work for the employ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ork a 12-hr shift schedule, you have more days off per year than those working an 8 hr/5 day work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 workers have more clustered days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ursue hobbies and other social and sporting inter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ommute to work is not required during peak travel times thus reducing your travel time to and from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advantages and you may have your own personal favor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we are able to recognize shift work physical and social stressors.  Physical stressors discussed were sleep, fatigue, gastrointestinal, and stress issues that can be caused by the disruption of the body’s circadian rhyth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to re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is synchronized to night and day by a small part of the brain known as the circadian cl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functions - such as heart rate, blood pressure, temperature, digestion and brain activity - fluctuate over each 24-hour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iftworker’s body is constantly in an adaptation mode because of this resetting of the circadian clock.  It takes a conscientious and consistent effort on the part of a shift worker to be at his or her best to perform their work effectively and to reduce their risk of health problems and accidents.  It is important to be proactive in keeping up your general health &amp; nutrition to fight the affects of shif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ouched on social stressors in the form of the disruption of one’s family and personal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coping tips were presented with each topic.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listed here my references for this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copies of the NIOSH booklet “Plain Language About Shiftwork” to hand out and they are available on the back count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leave you with this quote by Thomas Edison. “The value of an idea lies in the using of it.”   I hope you find these coping strategies useful.  And I want to thank you all for doing your part in keeping the light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ping with Shift Work presentation is intended to address the physical and social effects of shiftwork and methods of coping with a shiftwork lif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efinition of Coping</a:t>
            </a:r>
            <a:r>
              <a:rPr b="0" lang="en-US" sz="1200" spc="-1" strike="noStrike">
                <a:solidFill>
                  <a:srgbClr val="000000"/>
                </a:solidFill>
                <a:latin typeface="Arial"/>
              </a:rPr>
              <a:t> is the process of managing taxing circumstances, expending effort to solve personal and interpersonal problems, and seeking to master, minimize, reduce or tolerate stress or conflict. And we all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mpletion of this topic you will be able to understand the body’s circadian rhythm, you will be able to identify shift work physical and social stressors and have tools that can be used to reduce their potential effec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negative effects of shiftwork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 of communication between staff on different shift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 of teamwork.  These two go back to what it takes for shiftwork to be successful which is careful planning and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negative effect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 of concentration while on d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unsaf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nd fati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hift Lag.  Shift lag is a condition many workers suffer from due to rotating schedules and non conventional hours.  Shift lag usually comes in the form of: mental symptoms and/or physical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al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ys indicate shift workers can be more irritable after working night shifts than counterpart daytime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symptom is being overly emotional such as “Snapping or los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orkers get so stressed with shift work that they become easily upset and are prone to seeing problems that may not really be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lso being more forgetful.  Many small tasks that are done automatically during the day are sometimes forgotten at nigh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symptom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i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ep problems.  Working during the hours of 11pm and 6am disrupts your circadian rhythms normal wake and sleep cycle.  When changing your schedule to sleeping during the day, one can have trouble getting the proper amount of sleep and then feel like falling asleep during the next sh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workers tend to experience a higher rate of gastrointestinal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dehydration is a problem – Dehydration can cause headaches, dry skin, nasal irritation, and make you more susceptible to colds, coughs, sore throats and the fl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what causes shift lag and who gets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in cause of shift lag is working on a night shift, as this is the period when the body naturally resets its daily biological clock.</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ft lag can be felt by anyone changing from one shift to another.   Evidence suggests for rotating schedules it is best that the schedule be rotated from days, to evenings and then nights to allow the body to adjust. A different combination for a rotating schedule can make shift lag worse.  Different rotation speeds also affect a workers ability to get used to a change of shift tim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hift workers never fully recover from shift lag.  Even if the shift work schedule is an easy one, like two days on and five days off lack of quality sleep will make recovery difficul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hydration contributes to shift lag.  Drinking plenty of non alcoholic and non caffeine liquids throughout the day will help lessen its effec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ust be recognized that not everyone is able to do shift work.  Because people are different there is also a big difference to how much each person suffers from shift lag.  Some can’t do night shift work while others find it less stressful than mos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note: If you are one of those who finds night shift work very difficult, changing your job – if possible – may be the best long term solu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adian Rhythm is the name given to the </a:t>
            </a:r>
            <a:r>
              <a:rPr b="0" i="1" lang="en-US" sz="1200" spc="-1" strike="noStrike">
                <a:solidFill>
                  <a:srgbClr val="000000"/>
                </a:solidFill>
                <a:latin typeface="Arial"/>
              </a:rPr>
              <a:t>roughly 24-hour cycle</a:t>
            </a:r>
            <a:r>
              <a:rPr b="0" lang="en-US" sz="1200" spc="-1" strike="noStrike">
                <a:solidFill>
                  <a:srgbClr val="000000"/>
                </a:solidFill>
                <a:latin typeface="Arial"/>
              </a:rPr>
              <a:t> our bodies go through managing our physical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lear patterns of </a:t>
            </a:r>
            <a:r>
              <a:rPr b="0" lang="en-US" sz="1200" spc="-1" strike="noStrike" u="sng">
                <a:solidFill>
                  <a:srgbClr val="009999"/>
                </a:solidFill>
                <a:uFillTx/>
                <a:latin typeface="Arial"/>
                <a:hlinkClick r:id="rId1"/>
              </a:rPr>
              <a:t>brain wave</a:t>
            </a:r>
            <a:r>
              <a:rPr b="0" lang="en-US" sz="1200" spc="-1" strike="noStrike" u="sng">
                <a:solidFill>
                  <a:srgbClr val="000000"/>
                </a:solidFill>
                <a:uFillTx/>
                <a:latin typeface="Arial"/>
              </a:rPr>
              <a:t> activity, </a:t>
            </a:r>
            <a:r>
              <a:rPr b="0" lang="en-US" sz="1200" spc="-1" strike="noStrike" u="sng">
                <a:solidFill>
                  <a:srgbClr val="009999"/>
                </a:solidFill>
                <a:uFillTx/>
                <a:latin typeface="Arial"/>
                <a:hlinkClick r:id="rId2"/>
              </a:rPr>
              <a:t>hormone</a:t>
            </a:r>
            <a:r>
              <a:rPr b="0" lang="en-US" sz="1200" spc="-1" strike="noStrike" u="sng">
                <a:solidFill>
                  <a:srgbClr val="000000"/>
                </a:solidFill>
                <a:uFillTx/>
                <a:latin typeface="Arial"/>
              </a:rPr>
              <a:t> production, cell regeneration and other biological activities linked to this 24-hour cycle. The circadian clock is usually reset with light and dark but can be adapted by work schedule and sleep patterns with effort. It will usually take several days to make the adjus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is internal clock, a person working the night shift then is at greater risk of health problems and accidents if they don’t make the proper adjustments in their lifestyle or if they don’t adapt well.  The risks may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likelihood of obe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risk of cardiovascular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risk of mood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risk of gastrointestinal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risk of motor vehicle accidents and work related acci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likelihood of family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ep deficiency may increase the risk of epilepsy in pre-disposed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hift workers with diabetes can experience difficulties in controlling their blood suga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show you a video that will give you an understanding of the problem with suggestions other shiftworkers find useful in adapting their lifestyle to shiftwor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474C0-8128-43E2-8E8E-79A5E287A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C8E6F-AF5F-46F0-A9A0-03E504286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ECCEB-AFA8-4534-80C9-B575FC325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EA507-1647-43E4-912A-EDAB6B2BB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E120F-613C-41B1-B797-79E86C0BF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EE222-4203-46D8-8F95-FCCA56DA4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31C7A-C54A-4E91-A6B9-468518FB7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45045-5AAF-4514-8929-7F9303DCF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41D38-B0D1-4269-8B92-435BAE191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2950B-DA60-4843-A6DF-C456237CD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B1BFE-D29C-4553-9812-FCC6DA02B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DBB29-D757-45A0-B1D4-991E06917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44DD-80AB-4DA2-81B1-F5B9A640D6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55440" y="87480"/>
            <a:ext cx="9043920" cy="6701760"/>
            <a:chOff x="55440" y="87480"/>
            <a:chExt cx="9043920" cy="6701760"/>
          </a:xfrm>
        </p:grpSpPr>
        <p:sp>
          <p:nvSpPr>
            <p:cNvPr id="6" name=""/>
            <p:cNvSpPr/>
            <p:nvPr/>
          </p:nvSpPr>
          <p:spPr>
            <a:xfrm>
              <a:off x="139320" y="87480"/>
              <a:ext cx="8873280" cy="670176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5440" y="176040"/>
              <a:ext cx="9043920" cy="652824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98640" y="131760"/>
              <a:ext cx="895716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9" name=""/>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2"/>
          <a:stretch/>
        </p:blipFill>
        <p:spPr>
          <a:xfrm>
            <a:off x="4038480" y="6346800"/>
            <a:ext cx="990720" cy="4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62120" y="21337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ping with Shift Work</a:t>
            </a:r>
            <a:endParaRPr b="0" lang="en-US" sz="4400" spc="-1" strike="noStrike">
              <a:solidFill>
                <a:srgbClr val="000000"/>
              </a:solidFill>
              <a:latin typeface="Arial"/>
            </a:endParaRPr>
          </a:p>
        </p:txBody>
      </p:sp>
      <p:sp>
        <p:nvSpPr>
          <p:cNvPr id="55" name=""/>
          <p:cNvSpPr/>
          <p:nvPr/>
        </p:nvSpPr>
        <p:spPr>
          <a:xfrm>
            <a:off x="1447920" y="388944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eep and </a:t>
            </a:r>
            <a:r>
              <a:rPr b="1" lang="en-US" sz="3200" spc="-1" strike="noStrike">
                <a:solidFill>
                  <a:srgbClr val="ff0000"/>
                </a:solidFill>
                <a:latin typeface="Arial"/>
              </a:rPr>
              <a:t>T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igue and </a:t>
            </a:r>
            <a:r>
              <a:rPr b="1" lang="en-US" sz="3200" spc="-1" strike="noStrike">
                <a:solidFill>
                  <a:srgbClr val="ff0000"/>
                </a:solidFill>
                <a:latin typeface="Arial"/>
              </a:rPr>
              <a:t>T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strointestinal Problems and </a:t>
            </a:r>
            <a:r>
              <a:rPr b="1" lang="en-US" sz="3200" spc="-1" strike="noStrike">
                <a:solidFill>
                  <a:srgbClr val="ff0000"/>
                </a:solidFill>
                <a:latin typeface="Arial"/>
              </a:rPr>
              <a:t>T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ss and </a:t>
            </a:r>
            <a:r>
              <a:rPr b="1" lang="en-US" sz="3200" spc="-1" strike="noStrike">
                <a:solidFill>
                  <a:srgbClr val="ff0000"/>
                </a:solidFill>
                <a:latin typeface="Arial"/>
              </a:rPr>
              <a:t>T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Life </a:t>
            </a:r>
            <a:r>
              <a:rPr b="1" lang="en-US" sz="3200" spc="-1" strike="noStrike">
                <a:solidFill>
                  <a:srgbClr val="ff0000"/>
                </a:solidFill>
                <a:latin typeface="Arial"/>
              </a:rPr>
              <a:t>T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 Life </a:t>
            </a:r>
            <a:r>
              <a:rPr b="1" lang="en-US" sz="3200" spc="-1" strike="noStrike">
                <a:solidFill>
                  <a:srgbClr val="ff0000"/>
                </a:solidFill>
                <a:latin typeface="Arial"/>
              </a:rPr>
              <a:t>TIP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6172200" y="3429000"/>
            <a:ext cx="1600200" cy="259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EEP</a:t>
            </a:r>
            <a:endParaRPr b="0" lang="en-US" sz="4400" spc="-1" strike="noStrike">
              <a:solidFill>
                <a:srgbClr val="000000"/>
              </a:solidFill>
              <a:latin typeface="Arial"/>
            </a:endParaRPr>
          </a:p>
        </p:txBody>
      </p:sp>
      <p:sp>
        <p:nvSpPr>
          <p:cNvPr id="79" name="PlaceHolder 2"/>
          <p:cNvSpPr>
            <a:spLocks noGrp="1"/>
          </p:cNvSpPr>
          <p:nvPr>
            <p:ph/>
          </p:nvPr>
        </p:nvSpPr>
        <p:spPr>
          <a:xfrm>
            <a:off x="457200" y="1599840"/>
            <a:ext cx="8229600" cy="42973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hift work can lead to disruption of sleep pattern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leep loss can lead to:</a:t>
            </a:r>
            <a:endParaRPr b="0" lang="en-US" sz="32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ronic fatigue</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somnia</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sistent anxiety or depression</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ubstance abuse </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creased alertness</a:t>
            </a:r>
            <a:endParaRPr b="0" lang="en-US" sz="2800" spc="-1" strike="noStrike">
              <a:solidFill>
                <a:srgbClr val="000000"/>
              </a:solidFill>
              <a:latin typeface="Arial"/>
            </a:endParaRPr>
          </a:p>
        </p:txBody>
      </p:sp>
      <p:pic>
        <p:nvPicPr>
          <p:cNvPr id="80" name="" descr=""/>
          <p:cNvPicPr/>
          <p:nvPr/>
        </p:nvPicPr>
        <p:blipFill>
          <a:blip r:embed="rId1"/>
          <a:stretch/>
        </p:blipFill>
        <p:spPr>
          <a:xfrm>
            <a:off x="6629400" y="2590920"/>
            <a:ext cx="1619280" cy="167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TIME SLEEP TIPS</a:t>
            </a:r>
            <a:endParaRPr b="0" lang="en-US" sz="4400" spc="-1" strike="noStrike">
              <a:solidFill>
                <a:srgbClr val="000000"/>
              </a:solidFill>
              <a:latin typeface="Arial"/>
            </a:endParaRPr>
          </a:p>
        </p:txBody>
      </p:sp>
      <p:sp>
        <p:nvSpPr>
          <p:cNvPr id="8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form family and friends of schedul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sure comfortable quiet place to sleep </a:t>
            </a:r>
            <a:endParaRPr b="0" lang="en-US" sz="32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ir conditioning</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lephone answering machine</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am ear plugs or white noise making machine such as a fan</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lackout curtain or eye mask</a:t>
            </a:r>
            <a:endParaRPr b="0" lang="en-US" sz="2800" spc="-1" strike="noStrike">
              <a:solidFill>
                <a:srgbClr val="000000"/>
              </a:solidFill>
              <a:latin typeface="Arial"/>
            </a:endParaRPr>
          </a:p>
        </p:txBody>
      </p:sp>
      <p:pic>
        <p:nvPicPr>
          <p:cNvPr id="83" name="" descr=""/>
          <p:cNvPicPr/>
          <p:nvPr/>
        </p:nvPicPr>
        <p:blipFill>
          <a:blip r:embed="rId1"/>
          <a:stretch/>
        </p:blipFill>
        <p:spPr>
          <a:xfrm>
            <a:off x="6781680" y="4724280"/>
            <a:ext cx="1828800" cy="157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TIME SLEEP TIPS cont.</a:t>
            </a:r>
            <a:endParaRPr b="0" lang="en-US" sz="4400" spc="-1" strike="noStrike">
              <a:solidFill>
                <a:srgbClr val="000000"/>
              </a:solidFill>
              <a:latin typeface="Arial"/>
            </a:endParaRPr>
          </a:p>
        </p:txBody>
      </p:sp>
      <p:sp>
        <p:nvSpPr>
          <p:cNvPr id="8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t a quiet time approximately 30 mins before bedtime</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im for one or two blocks uninterrupted sleep per day</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void alcohol, caffeine and vigorous exercise 2-4 hrs prior to sleep</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void sleeping pills</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earn a relaxation technique</a:t>
            </a:r>
            <a:endParaRPr b="0" lang="en-US" sz="3200" spc="-1" strike="noStrike">
              <a:solidFill>
                <a:srgbClr val="000000"/>
              </a:solidFill>
              <a:latin typeface="Arial"/>
            </a:endParaRPr>
          </a:p>
        </p:txBody>
      </p:sp>
      <p:pic>
        <p:nvPicPr>
          <p:cNvPr id="86" name="" descr=""/>
          <p:cNvPicPr/>
          <p:nvPr/>
        </p:nvPicPr>
        <p:blipFill>
          <a:blip r:embed="rId1"/>
          <a:stretch/>
        </p:blipFill>
        <p:spPr>
          <a:xfrm>
            <a:off x="6781680" y="4724280"/>
            <a:ext cx="1828800" cy="1571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TIGUE</a:t>
            </a:r>
            <a:endParaRPr b="0" lang="en-US" sz="4400" spc="-1" strike="noStrike">
              <a:solidFill>
                <a:srgbClr val="000000"/>
              </a:solidFill>
              <a:latin typeface="Arial"/>
            </a:endParaRPr>
          </a:p>
        </p:txBody>
      </p:sp>
      <p:sp>
        <p:nvSpPr>
          <p:cNvPr id="88"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u="sng">
                <a:solidFill>
                  <a:srgbClr val="000000"/>
                </a:solidFill>
                <a:uFillTx/>
                <a:latin typeface="Arial"/>
              </a:rPr>
              <a:t>CONTRIBUTING FACTORS</a:t>
            </a:r>
            <a:endParaRPr b="0" lang="en-US" sz="36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isturbances of Circadian Rhythm affects:</a:t>
            </a:r>
            <a:endParaRPr b="0" lang="en-US" sz="32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centration, Reaction Time, Motivation, Memory, Mood Swings</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rop in Body Defense Mechanism  - Prone to Viruses</a:t>
            </a:r>
            <a:endParaRPr b="0" lang="en-US" sz="28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hift work can lead to chronic fatigue and insomnia</a:t>
            </a:r>
            <a:endParaRPr b="0" lang="en-US" sz="3200" spc="-1" strike="noStrike">
              <a:solidFill>
                <a:srgbClr val="000000"/>
              </a:solidFill>
              <a:latin typeface="Arial"/>
            </a:endParaRPr>
          </a:p>
        </p:txBody>
      </p:sp>
      <p:pic>
        <p:nvPicPr>
          <p:cNvPr id="89" name="" descr=""/>
          <p:cNvPicPr/>
          <p:nvPr/>
        </p:nvPicPr>
        <p:blipFill>
          <a:blip r:embed="rId1"/>
          <a:stretch/>
        </p:blipFill>
        <p:spPr>
          <a:xfrm>
            <a:off x="6781680" y="304920"/>
            <a:ext cx="1828800" cy="1682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 Hour Rotating Schedule</a:t>
            </a:r>
            <a:br>
              <a:rPr sz="4000"/>
            </a:br>
            <a:r>
              <a:rPr b="0" lang="en-US" sz="4000" spc="-1" strike="noStrike">
                <a:solidFill>
                  <a:srgbClr val="000000"/>
                </a:solidFill>
                <a:latin typeface="Arial"/>
              </a:rPr>
              <a:t>6 Week Rotation</a:t>
            </a:r>
            <a:endParaRPr b="0" lang="en-US" sz="4000" spc="-1" strike="noStrike">
              <a:solidFill>
                <a:srgbClr val="000000"/>
              </a:solidFill>
              <a:latin typeface="Arial"/>
            </a:endParaRPr>
          </a:p>
        </p:txBody>
      </p:sp>
      <p:graphicFrame>
        <p:nvGraphicFramePr>
          <p:cNvPr id="91" name=""/>
          <p:cNvGraphicFramePr/>
          <p:nvPr/>
        </p:nvGraphicFramePr>
        <p:xfrm>
          <a:off x="457200" y="1600200"/>
          <a:ext cx="8229600" cy="4572000"/>
        </p:xfrm>
        <a:graphic>
          <a:graphicData uri="http://schemas.openxmlformats.org/drawingml/2006/table">
            <a:tbl>
              <a:tblPr/>
              <a:tblGrid>
                <a:gridCol w="1762200"/>
                <a:gridCol w="2624040"/>
                <a:gridCol w="1781280"/>
                <a:gridCol w="2062080"/>
              </a:tblGrid>
              <a:tr h="41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chedul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im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or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s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Nights 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0P-5:30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x4= 52 h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x3= 33 h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2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 Days Of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30A-5:30A, 5:30A-4:30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x2)+23= 71 h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 Days 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0A-5:30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x3= 39 h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x2= 22 h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 Day Of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30P-5:30P, 5:30P-4:30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23= 47 h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 Nights 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0P-5:30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x3= 39 h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x2= 22 h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 Days Of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30A-5:30A, 5:30A-7:00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x2)+25.5= 73.5 h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Days Trainin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00A-5:00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x4 = 40 h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x3=42 h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2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 Days Of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00P-5:00P, 5:00P-4:30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x3)+11.5= 83 h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Days 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0A-5:30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x4= 52 h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x3= 33 h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 Days Of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x13)+11= 323 h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BATING FATIGUE TIP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et sufficient amount of sleep</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gage in physical activity</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duce alcohol, caffeine and tobacco intak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at a well balanced die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et regular checkups and stick with your physician’s recommended plan</a:t>
            </a:r>
            <a:endParaRPr b="0" lang="en-US" sz="3200" spc="-1" strike="noStrike">
              <a:solidFill>
                <a:srgbClr val="000000"/>
              </a:solidFill>
              <a:latin typeface="Arial"/>
            </a:endParaRPr>
          </a:p>
        </p:txBody>
      </p:sp>
      <p:pic>
        <p:nvPicPr>
          <p:cNvPr id="94" name="" descr=""/>
          <p:cNvPicPr/>
          <p:nvPr/>
        </p:nvPicPr>
        <p:blipFill>
          <a:blip r:embed="rId1"/>
          <a:stretch/>
        </p:blipFill>
        <p:spPr>
          <a:xfrm>
            <a:off x="6553080" y="4952880"/>
            <a:ext cx="2438640" cy="156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STROINTESTINAL PROBLEMS</a:t>
            </a:r>
            <a:br>
              <a:rPr sz="3200"/>
            </a:br>
            <a:endParaRPr b="0" lang="en-US" sz="3200" spc="-1" strike="noStrike">
              <a:solidFill>
                <a:srgbClr val="000000"/>
              </a:solidFill>
              <a:latin typeface="Arial"/>
            </a:endParaRPr>
          </a:p>
        </p:txBody>
      </p:sp>
      <p:sp>
        <p:nvSpPr>
          <p:cNvPr id="96" name="PlaceHolder 2"/>
          <p:cNvSpPr>
            <a:spLocks noGrp="1"/>
          </p:cNvSpPr>
          <p:nvPr>
            <p:ph/>
          </p:nvPr>
        </p:nvSpPr>
        <p:spPr>
          <a:xfrm>
            <a:off x="380520" y="1143000"/>
            <a:ext cx="403884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u="sng">
                <a:solidFill>
                  <a:srgbClr val="000000"/>
                </a:solidFill>
                <a:uFillTx/>
                <a:latin typeface="Arial"/>
              </a:rPr>
              <a:t>DISORDERS</a:t>
            </a:r>
            <a:endParaRPr b="0" lang="en-US" sz="24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lcers</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eartburn</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digestion</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requent Stomach Aches</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stipation</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iarrhea</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ss of Appetite</a:t>
            </a:r>
            <a:endParaRPr b="0"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PlaceHolder 3"/>
          <p:cNvSpPr>
            <a:spLocks noGrp="1"/>
          </p:cNvSpPr>
          <p:nvPr>
            <p:ph/>
          </p:nvPr>
        </p:nvSpPr>
        <p:spPr>
          <a:xfrm>
            <a:off x="4495320" y="990720"/>
            <a:ext cx="403884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u="sng">
                <a:solidFill>
                  <a:srgbClr val="000000"/>
                </a:solidFill>
                <a:uFillTx/>
                <a:latin typeface="Arial"/>
              </a:rPr>
              <a:t>CONTRIBUTING FACTORS</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or diet and reduced access to wholesome foods</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creased snacking with a high fat content</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eavy coffee consumption</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gestion and other body functions are slowed down at nigh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 descr=""/>
          <p:cNvPicPr/>
          <p:nvPr/>
        </p:nvPicPr>
        <p:blipFill>
          <a:blip r:embed="rId1"/>
          <a:stretch/>
        </p:blipFill>
        <p:spPr>
          <a:xfrm>
            <a:off x="1752480" y="4419720"/>
            <a:ext cx="1390680" cy="1752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TARY AND EATING PATTERN TIPS</a:t>
            </a:r>
            <a:endParaRPr b="0" lang="en-US" sz="3200" spc="-1" strike="noStrike">
              <a:solidFill>
                <a:srgbClr val="000000"/>
              </a:solidFill>
              <a:latin typeface="Arial"/>
            </a:endParaRPr>
          </a:p>
        </p:txBody>
      </p:sp>
      <p:sp>
        <p:nvSpPr>
          <p:cNvPr id="102" name="PlaceHolder 2"/>
          <p:cNvSpPr>
            <a:spLocks noGrp="1"/>
          </p:cNvSpPr>
          <p:nvPr>
            <p:ph/>
          </p:nvPr>
        </p:nvSpPr>
        <p:spPr>
          <a:xfrm>
            <a:off x="457200" y="1219320"/>
            <a:ext cx="4038480" cy="533376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at lightly throughout the shift and have a moderate breakfast</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at the usual balance of vegetables, fruit, lean meat, poultry, fish, dairy products, grains and bread</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intain regular eating patter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48320" y="1218960"/>
            <a:ext cx="4038480" cy="51814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rink lots of water</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ut back on highly salted food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duce food high in fat</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void excessive use of antacids, tranquilizers, and sleeping pill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inimize the intake of caffeine and alcohol</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void fast food and vending machine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ck a lunch and snack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4" name="" descr=""/>
          <p:cNvPicPr/>
          <p:nvPr/>
        </p:nvPicPr>
        <p:blipFill>
          <a:blip r:embed="rId1"/>
          <a:stretch/>
        </p:blipFill>
        <p:spPr>
          <a:xfrm>
            <a:off x="1143000" y="5181480"/>
            <a:ext cx="2133720" cy="1219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ESS</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Contributing Factor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ck of socializing with family an friend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ard to plan for family responsibilitie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otation makes it hard to form routine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ads to anxiety, high blood pressure, heart disease</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creases job satisfaction and motiv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Recommendation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lan shifts in advance</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ke sure demands on workers are reasonable</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chedule time off over weekend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vide stress management workshop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relaxation technique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et adequate sleep and exerci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 descr=""/>
          <p:cNvPicPr/>
          <p:nvPr/>
        </p:nvPicPr>
        <p:blipFill>
          <a:blip r:embed="rId1"/>
          <a:stretch/>
        </p:blipFill>
        <p:spPr>
          <a:xfrm>
            <a:off x="762120" y="228600"/>
            <a:ext cx="152388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7" name=""/>
          <p:cNvSpPr/>
          <p:nvPr/>
        </p:nvSpPr>
        <p:spPr>
          <a:xfrm>
            <a:off x="457200" y="1676520"/>
            <a:ext cx="8229600" cy="4403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verview of Shift Work Schedules</a:t>
            </a:r>
            <a:endParaRPr b="0" lang="en-US" sz="32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8 hr, 10 hr, 12 hr, Variations </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xed and Rotating</a:t>
            </a:r>
            <a:endParaRPr b="0" lang="en-US" sz="28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chedule Dependencies</a:t>
            </a:r>
            <a:endParaRPr b="0" lang="en-US" sz="32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LIFE TIP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ttend workshops, classes, hobby clubs on days off</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Volunteer with organization you lik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cialize with co-workers</a:t>
            </a:r>
            <a:endParaRPr b="0" lang="en-US" sz="3200" spc="-1" strike="noStrike">
              <a:solidFill>
                <a:srgbClr val="000000"/>
              </a:solidFill>
              <a:latin typeface="Arial"/>
            </a:endParaRPr>
          </a:p>
        </p:txBody>
      </p:sp>
      <p:pic>
        <p:nvPicPr>
          <p:cNvPr id="111" name="" descr=""/>
          <p:cNvPicPr/>
          <p:nvPr/>
        </p:nvPicPr>
        <p:blipFill>
          <a:blip r:embed="rId1"/>
          <a:stretch/>
        </p:blipFill>
        <p:spPr>
          <a:xfrm>
            <a:off x="6324480" y="4648320"/>
            <a:ext cx="1820880" cy="1333440"/>
          </a:xfrm>
          <a:prstGeom prst="rect">
            <a:avLst/>
          </a:prstGeom>
          <a:ln w="0">
            <a:noFill/>
          </a:ln>
        </p:spPr>
      </p:pic>
      <p:pic>
        <p:nvPicPr>
          <p:cNvPr id="112" name="" descr=""/>
          <p:cNvPicPr/>
          <p:nvPr/>
        </p:nvPicPr>
        <p:blipFill>
          <a:blip r:embed="rId2"/>
          <a:stretch/>
        </p:blipFill>
        <p:spPr>
          <a:xfrm>
            <a:off x="3581280" y="4495680"/>
            <a:ext cx="1809720" cy="1690920"/>
          </a:xfrm>
          <a:prstGeom prst="rect">
            <a:avLst/>
          </a:prstGeom>
          <a:ln w="0">
            <a:noFill/>
          </a:ln>
        </p:spPr>
      </p:pic>
      <p:pic>
        <p:nvPicPr>
          <p:cNvPr id="113" name="" descr=""/>
          <p:cNvPicPr/>
          <p:nvPr/>
        </p:nvPicPr>
        <p:blipFill>
          <a:blip r:embed="rId3"/>
          <a:stretch/>
        </p:blipFill>
        <p:spPr>
          <a:xfrm>
            <a:off x="914400" y="4495680"/>
            <a:ext cx="2138400" cy="149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MILY LIFE TIPS</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refully plan family activities i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advance if possible</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calendar to schedule events </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chedule at least one daily meal with family</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stablish good communication skills </a:t>
            </a:r>
            <a:endParaRPr b="0" lang="en-US" sz="2800" spc="-1" strike="noStrike">
              <a:solidFill>
                <a:srgbClr val="000000"/>
              </a:solidFill>
              <a:latin typeface="Arial"/>
            </a:endParaRPr>
          </a:p>
          <a:p>
            <a:pPr lvl="1" marL="743040" indent="-2858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eep in touch with spouse and children daily</a:t>
            </a:r>
            <a:endParaRPr b="0" lang="en-US" sz="24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t time aside for just you and your spouse</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cialize with other shift workers and their families</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oritize tasks and tackle one at a tim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 descr=""/>
          <p:cNvPicPr/>
          <p:nvPr/>
        </p:nvPicPr>
        <p:blipFill>
          <a:blip r:embed="rId1"/>
          <a:stretch/>
        </p:blipFill>
        <p:spPr>
          <a:xfrm>
            <a:off x="7772400" y="2971800"/>
            <a:ext cx="996840" cy="1295280"/>
          </a:xfrm>
          <a:prstGeom prst="rect">
            <a:avLst/>
          </a:prstGeom>
          <a:ln w="0">
            <a:noFill/>
          </a:ln>
        </p:spPr>
      </p:pic>
      <p:pic>
        <p:nvPicPr>
          <p:cNvPr id="117" name="" descr=""/>
          <p:cNvPicPr/>
          <p:nvPr/>
        </p:nvPicPr>
        <p:blipFill>
          <a:blip r:embed="rId2"/>
          <a:stretch/>
        </p:blipFill>
        <p:spPr>
          <a:xfrm>
            <a:off x="6629400" y="1447920"/>
            <a:ext cx="1293840" cy="1295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Shift Work</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2-hr shift worker has more days off/year</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ore clustered days off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ble to pursue hobbies and other social and sporting interest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ute to work not required during peak travel time, reducing travel time to and from wor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533520" y="30492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21" name=""/>
          <p:cNvSpPr/>
          <p:nvPr/>
        </p:nvSpPr>
        <p:spPr>
          <a:xfrm>
            <a:off x="685800" y="1143000"/>
            <a:ext cx="8229600" cy="486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333399"/>
                </a:solidFill>
                <a:latin typeface="Arial"/>
              </a:rPr>
              <a:t>Recognized shift work physical and social stressors are:</a:t>
            </a:r>
            <a:endParaRPr b="0" lang="en-US" sz="2800" spc="-1" strike="noStrike">
              <a:solidFill>
                <a:srgbClr val="000000"/>
              </a:solidFill>
              <a:latin typeface="Arial"/>
            </a:endParaRPr>
          </a:p>
          <a:p>
            <a:pPr lvl="1" marL="743040" indent="-285840">
              <a:spcBef>
                <a:spcPts val="601"/>
              </a:spcBef>
              <a:buClr>
                <a:srgbClr val="33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ircadian Rhythm</a:t>
            </a:r>
            <a:endParaRPr b="0" lang="en-US" sz="2400" spc="-1" strike="noStrike">
              <a:solidFill>
                <a:srgbClr val="000000"/>
              </a:solidFill>
              <a:latin typeface="Arial"/>
            </a:endParaRPr>
          </a:p>
          <a:p>
            <a:pPr lvl="1" marL="743040" indent="-285840">
              <a:spcBef>
                <a:spcPts val="601"/>
              </a:spcBef>
              <a:buClr>
                <a:srgbClr val="33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leep</a:t>
            </a:r>
            <a:endParaRPr b="0" lang="en-US" sz="2400" spc="-1" strike="noStrike">
              <a:solidFill>
                <a:srgbClr val="000000"/>
              </a:solidFill>
              <a:latin typeface="Arial"/>
            </a:endParaRPr>
          </a:p>
          <a:p>
            <a:pPr lvl="1" marL="743040" indent="-285840">
              <a:spcBef>
                <a:spcPts val="601"/>
              </a:spcBef>
              <a:buClr>
                <a:srgbClr val="33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atigue</a:t>
            </a:r>
            <a:endParaRPr b="0" lang="en-US" sz="2400" spc="-1" strike="noStrike">
              <a:solidFill>
                <a:srgbClr val="000000"/>
              </a:solidFill>
              <a:latin typeface="Arial"/>
            </a:endParaRPr>
          </a:p>
          <a:p>
            <a:pPr lvl="1" marL="743040" indent="-285840">
              <a:spcBef>
                <a:spcPts val="601"/>
              </a:spcBef>
              <a:buClr>
                <a:srgbClr val="33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astrointestinal Problems</a:t>
            </a:r>
            <a:endParaRPr b="0" lang="en-US" sz="2400" spc="-1" strike="noStrike">
              <a:solidFill>
                <a:srgbClr val="000000"/>
              </a:solidFill>
              <a:latin typeface="Arial"/>
            </a:endParaRPr>
          </a:p>
          <a:p>
            <a:pPr lvl="1" marL="743040" indent="-285840">
              <a:spcBef>
                <a:spcPts val="601"/>
              </a:spcBef>
              <a:buClr>
                <a:srgbClr val="33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ress</a:t>
            </a:r>
            <a:endParaRPr b="0" lang="en-US" sz="2400" spc="-1" strike="noStrike">
              <a:solidFill>
                <a:srgbClr val="000000"/>
              </a:solidFill>
              <a:latin typeface="Arial"/>
            </a:endParaRPr>
          </a:p>
          <a:p>
            <a:pPr lvl="1" marL="743040" indent="-285840">
              <a:spcBef>
                <a:spcPts val="601"/>
              </a:spcBef>
              <a:buClr>
                <a:srgbClr val="33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amily Life and Social Contacts</a:t>
            </a:r>
            <a:r>
              <a:rPr b="0" lang="en-US" sz="2400" spc="-1" strike="noStrike">
                <a:solidFill>
                  <a:srgbClr val="333399"/>
                </a:solidFill>
                <a:latin typeface="Arial"/>
              </a:rPr>
              <a:t>	</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Coping strategies presented to reduce their effect.</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23"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hift work Health Effects and Solutions;  Occupational Health Clinics for Ontario Workers Inc.</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ircadian Technologies, Inc.</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lain Language About Shift work; NIOSH.</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niversity of Vermont SIRI: Dealing with Shift Work and Fatigue presentation</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80880" y="3657240"/>
            <a:ext cx="8229600" cy="239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t>
            </a:r>
            <a:r>
              <a:rPr b="0" lang="en-US" sz="3200" spc="-1" strike="noStrike">
                <a:solidFill>
                  <a:srgbClr val="333399"/>
                </a:solidFill>
                <a:latin typeface="Arial"/>
              </a:rPr>
              <a:t>The value of an idea lies in the using of 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a:t>
            </a:r>
            <a:r>
              <a:rPr b="0" lang="en-US" sz="3200" spc="-1" strike="noStrike">
                <a:solidFill>
                  <a:srgbClr val="333399"/>
                </a:solidFill>
                <a:latin typeface="Arial"/>
              </a:rPr>
              <a:t>	</a:t>
            </a:r>
            <a:r>
              <a:rPr b="0" lang="en-US" sz="3200" spc="-1" strike="noStrike">
                <a:solidFill>
                  <a:srgbClr val="333399"/>
                </a:solidFill>
                <a:latin typeface="Arial"/>
              </a:rPr>
              <a:t>	</a:t>
            </a:r>
            <a:r>
              <a:rPr b="0" lang="en-US" sz="3200" spc="-1" strike="noStrike">
                <a:solidFill>
                  <a:srgbClr val="333399"/>
                </a:solidFill>
                <a:latin typeface="Arial"/>
              </a:rPr>
              <a:t>	</a:t>
            </a:r>
            <a:r>
              <a:rPr b="0" lang="en-US" sz="3200" spc="-1" strike="noStrike">
                <a:solidFill>
                  <a:srgbClr val="333399"/>
                </a:solidFill>
                <a:latin typeface="Arial"/>
              </a:rPr>
              <a:t>	</a:t>
            </a:r>
            <a:r>
              <a:rPr b="0" lang="en-US" sz="3200" spc="-1" strike="noStrike">
                <a:solidFill>
                  <a:srgbClr val="333399"/>
                </a:solidFill>
                <a:latin typeface="Arial"/>
              </a:rPr>
              <a:t>Thomas Edison</a:t>
            </a:r>
            <a:endParaRPr b="0" lang="en-US" sz="3200" spc="-1" strike="noStrike">
              <a:solidFill>
                <a:srgbClr val="000000"/>
              </a:solidFill>
              <a:latin typeface="Arial"/>
            </a:endParaRPr>
          </a:p>
        </p:txBody>
      </p:sp>
      <p:pic>
        <p:nvPicPr>
          <p:cNvPr id="125" name="" descr=""/>
          <p:cNvPicPr/>
          <p:nvPr/>
        </p:nvPicPr>
        <p:blipFill>
          <a:blip r:embed="rId1"/>
          <a:stretch/>
        </p:blipFill>
        <p:spPr>
          <a:xfrm>
            <a:off x="3657600" y="609480"/>
            <a:ext cx="1830240" cy="2416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533520" y="304920"/>
            <a:ext cx="8229600" cy="1143000"/>
          </a:xfrm>
          <a:prstGeom prst="rect">
            <a:avLst/>
          </a:prstGeom>
          <a:noFill/>
          <a:ln w="0">
            <a:noFill/>
          </a:ln>
          <a:effectLst>
            <a:outerShdw dist="17819" dir="2700000" blurRad="0" rotWithShape="0">
              <a:srgbClr val="0099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estions</a:t>
            </a:r>
            <a:endParaRPr b="0" lang="en-US" sz="4400" spc="-1" strike="noStrike">
              <a:solidFill>
                <a:srgbClr val="000000"/>
              </a:solidFill>
              <a:latin typeface="Arial"/>
            </a:endParaRPr>
          </a:p>
        </p:txBody>
      </p:sp>
      <p:sp>
        <p:nvSpPr>
          <p:cNvPr id="127" name=""/>
          <p:cNvSpPr/>
          <p:nvPr/>
        </p:nvSpPr>
        <p:spPr>
          <a:xfrm>
            <a:off x="3429000" y="1295280"/>
            <a:ext cx="2438280" cy="4114800"/>
          </a:xfrm>
          <a:prstGeom prst="rect">
            <a:avLst/>
          </a:prstGeom>
          <a:noFill/>
          <a:ln w="0">
            <a:noFill/>
          </a:ln>
          <a:effectLst>
            <a:outerShdw dist="71785" dir="270000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
        <p:nvSpPr>
          <p:cNvPr id="128" name=""/>
          <p:cNvSpPr/>
          <p:nvPr/>
        </p:nvSpPr>
        <p:spPr>
          <a:xfrm>
            <a:off x="3429000" y="1295280"/>
            <a:ext cx="2438280" cy="4114800"/>
          </a:xfrm>
          <a:prstGeom prst="rect">
            <a:avLst/>
          </a:prstGeom>
          <a:noFill/>
          <a:ln w="0">
            <a:noFill/>
          </a:ln>
          <a:effectLst>
            <a:outerShdw dist="81185" dir="1312197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0000"/>
                </a:solidFill>
                <a:latin typeface="Arial"/>
              </a:rPr>
              <a:t>?</a:t>
            </a:r>
            <a:endParaRPr b="0" lang="en-US" sz="30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59"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a:t>
            </a:r>
            <a:r>
              <a:rPr b="0" lang="en-US" sz="3200" spc="-1" strike="noStrike">
                <a:solidFill>
                  <a:srgbClr val="333399"/>
                </a:solidFill>
                <a:latin typeface="Arial"/>
              </a:rPr>
              <a:t>At the completion of this course of instruction you will:</a:t>
            </a:r>
            <a:endParaRPr b="0" lang="en-US" sz="3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nderstand the body’s circadian rhythm</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cognize shift work physical and social stressors and</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earn methods of coping with a shift work lifestyle to enhance worker well-being</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NEGATIVE EFFECTS OF SHIFT WORK</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ack of communication between staff on different shift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ack of “Teamwor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ack of concentration while on duty</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otential unsafe condition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ress/Fatigu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hift La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TAL SYMPTOM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creased Irritability</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verly Emotional</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ntrary Behavior</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rgetfulness</a:t>
            </a:r>
            <a:endParaRPr b="0" lang="en-US" sz="3200" spc="-1" strike="noStrike">
              <a:solidFill>
                <a:srgbClr val="000000"/>
              </a:solidFill>
              <a:latin typeface="Arial"/>
            </a:endParaRPr>
          </a:p>
        </p:txBody>
      </p:sp>
      <p:pic>
        <p:nvPicPr>
          <p:cNvPr id="64" name="" descr=""/>
          <p:cNvPicPr/>
          <p:nvPr/>
        </p:nvPicPr>
        <p:blipFill>
          <a:blip r:embed="rId1"/>
          <a:stretch/>
        </p:blipFill>
        <p:spPr>
          <a:xfrm>
            <a:off x="5562720" y="3048120"/>
            <a:ext cx="2838240" cy="2590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AL SYMPTOM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atigue/Tirednes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oss of Energy</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roken Sleep</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omach Problems and/or Constipation</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hydr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auses shift lag and </a:t>
            </a:r>
            <a:br>
              <a:rPr sz="4000"/>
            </a:br>
            <a:r>
              <a:rPr b="0" lang="en-US" sz="4000" spc="-1" strike="noStrike">
                <a:solidFill>
                  <a:srgbClr val="000000"/>
                </a:solidFill>
                <a:latin typeface="Arial"/>
              </a:rPr>
              <a:t>who gets shift lag?</a:t>
            </a:r>
            <a:endParaRPr b="0" lang="en-US" sz="4000" spc="-1" strike="noStrike">
              <a:solidFill>
                <a:srgbClr val="000000"/>
              </a:solidFill>
              <a:latin typeface="Arial"/>
            </a:endParaRPr>
          </a:p>
        </p:txBody>
      </p:sp>
      <p:sp>
        <p:nvSpPr>
          <p:cNvPr id="68" name="PlaceHolder 2"/>
          <p:cNvSpPr>
            <a:spLocks noGrp="1"/>
          </p:cNvSpPr>
          <p:nvPr>
            <p:ph/>
          </p:nvPr>
        </p:nvSpPr>
        <p:spPr>
          <a:xfrm>
            <a:off x="456840" y="1600200"/>
            <a:ext cx="563868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ork Schedul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orking at Nigh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ack of Quality Sleep</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hydration</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eing the Wrong Person to do Shift Work</a:t>
            </a:r>
            <a:endParaRPr b="0" lang="en-US" sz="3200" spc="-1" strike="noStrike">
              <a:solidFill>
                <a:srgbClr val="000000"/>
              </a:solidFill>
              <a:latin typeface="Arial"/>
            </a:endParaRPr>
          </a:p>
        </p:txBody>
      </p:sp>
      <p:pic>
        <p:nvPicPr>
          <p:cNvPr id="69" name="" descr=""/>
          <p:cNvPicPr/>
          <p:nvPr/>
        </p:nvPicPr>
        <p:blipFill>
          <a:blip r:embed="rId1"/>
          <a:stretch/>
        </p:blipFill>
        <p:spPr>
          <a:xfrm>
            <a:off x="6095880" y="198108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adian Rhythm</a:t>
            </a:r>
            <a:endParaRPr b="0" lang="en-US" sz="4400" spc="-1" strike="noStrike">
              <a:solidFill>
                <a:srgbClr val="000000"/>
              </a:solidFill>
              <a:latin typeface="Arial"/>
            </a:endParaRPr>
          </a:p>
        </p:txBody>
      </p:sp>
      <p:sp>
        <p:nvSpPr>
          <p:cNvPr id="71"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99"/>
                </a:solidFill>
                <a:latin typeface="Arial"/>
              </a:rPr>
              <a:t>The name given to the roughly 24-hour cycles our bodies go through managing  physiological processes.  Circadian rhythms are important in determining sleep and eating patterns.</a:t>
            </a:r>
            <a:endParaRPr b="0" lang="en-US" sz="3200" spc="-1" strike="noStrike">
              <a:solidFill>
                <a:srgbClr val="000000"/>
              </a:solidFill>
              <a:latin typeface="Arial"/>
            </a:endParaRPr>
          </a:p>
        </p:txBody>
      </p:sp>
      <p:pic>
        <p:nvPicPr>
          <p:cNvPr id="72" name="" descr=""/>
          <p:cNvPicPr/>
          <p:nvPr/>
        </p:nvPicPr>
        <p:blipFill>
          <a:blip r:embed="rId1"/>
          <a:stretch/>
        </p:blipFill>
        <p:spPr>
          <a:xfrm>
            <a:off x="4114800" y="4114800"/>
            <a:ext cx="1127160" cy="1600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hift Work – Circadian Surviv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0:14:27Z</dcterms:created>
  <dc:creator>OTStrain01</dc:creator>
  <dc:description/>
  <dc:language>en-US</dc:language>
  <cp:lastModifiedBy>vweldon</cp:lastModifiedBy>
  <dcterms:modified xsi:type="dcterms:W3CDTF">2006-05-04T14:28:55Z</dcterms:modified>
  <cp:revision>35</cp:revision>
  <dc:subject/>
  <dc:title>Slide 1</dc:title>
</cp:coreProperties>
</file>