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8B1B-0176-4E8A-AC71-88E661E1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We’re now going to turn to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rst Course Objectiv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identifying the primary source of reactive power in ERCOT…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and just what makes these generators the “primary” source of dynamic reactive power?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recalling m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-legge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rstool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though, I want to point out that QSEs are hardly alone in providing reacti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DSP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meanwhile are helping the cause, too, deploying their own capacitive or inductive devices to generate or absorb reactive power, respectively.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by the way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keep this “Good Utility Practice” reference in mind…we will be re-visiting that concept later on.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Now, my point in going through these four definitions is to show at the very outset a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ommon thread,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SEs – which all tolled number ~150 – provide the A/S that are critical to system reliability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verall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f these services – VSS and closely related RMR – are critical to system voltage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icall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it is this common thread between QSEs and voltage stability that I will be explaining in depth today…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t first, I do want to press on with the background discussion we’ve started…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Now, a little history on reactive power in ERCOT…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So, its important to emphasize that ERCOT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ec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QSE generation to respond when TOs call for voltage suppor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speaking of QSE’s and their generation, some discussion is warranted now on the sizable footprint they have come to represent in Texas…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Moving on to our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con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Course Objectiv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identifying the basic relationship between managing voltage versus managing frequenc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w the reason I bring up frequency in a presentation on voltage is because more folks seem familiar with frequency than with voltage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babl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ecause the majority of A/S are geared toward frequenc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 by comparing the two, I expect folks to get their arms around voltage a little better…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47B-209F-448C-B8FC-C980E42C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1E4-E14F-4470-A6A3-7866E9A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77B-4A79-42A3-B01C-EA665327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BB9-2492-4B0B-ACA1-64AF1131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4BB-7267-4107-A840-7A5C538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EB2-520E-4E24-AC81-5E4D3D0D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989-EA30-4DE4-AC7A-1F2648E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209-DCA5-40BF-A076-40FB3CE6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463-8717-4CB1-A7E2-D49119A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9A1-6793-4DFD-8529-7F08EA4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E06-2B8A-46D8-BC1E-AF35F19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6CE-BEB8-4B5A-B791-F9A01C7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8407-E7E7-4561-967E-20062FAB9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7520" y="76320"/>
            <a:ext cx="9043560" cy="6702120"/>
            <a:chOff x="47520" y="76320"/>
            <a:chExt cx="9043560" cy="6702120"/>
          </a:xfrm>
        </p:grpSpPr>
        <p:sp>
          <p:nvSpPr>
            <p:cNvPr id="6" name=""/>
            <p:cNvSpPr/>
            <p:nvPr/>
          </p:nvSpPr>
          <p:spPr>
            <a:xfrm>
              <a:off x="131400" y="76320"/>
              <a:ext cx="887292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7520" y="164880"/>
              <a:ext cx="9043560" cy="652860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720" y="120600"/>
              <a:ext cx="8956800" cy="66171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4030560" y="6335640"/>
            <a:ext cx="990720" cy="449280"/>
          </a:xfrm>
          <a:prstGeom prst="rect">
            <a:avLst/>
          </a:prstGeom>
          <a:ln w="0">
            <a:noFill/>
          </a:ln>
        </p:spPr>
      </p:pic>
      <p:sp>
        <p:nvSpPr>
          <p:cNvPr id="10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SE Roles &amp;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oltage/Reactive - Support &amp;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ason Sweeney, Suez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E86-8B6D-4615-B653-17FE2AA23A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LTAGE MGMT vs.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REQUENCY MGMT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SE-Resources’ AVRs must 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-serv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QSEs 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fy 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time AVRs are taken out-of-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SE-Resources ha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or respon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…QSEs 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fy 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time Generation Resources go off A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5A5-534F-4D38-92D5-D4C5D5A6B1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REACTIVE POWER – PROVID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SE-Gen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RCOT’s primary sour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ve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RCOT’s primary sour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v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two…QSE-Generator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er, more respon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 of reactiv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E92-C519-46C0-92B3-610059E49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who is “draft-eligibl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SE-Generato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20 M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upply power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ovide VSS, and collectively share in reactive support and voltage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5.7, 6.5.7.2(6) and Guides 3.1.4, 3.1.4.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D31-B824-484A-A3AA-E637FFF17B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VSS – a collective eff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should bear only their “approxim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ir respective installed reactive capability requirements” of reactive support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&amp; TOs are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ize 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generation-supplied reactive Resource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7.6(3), 6.7.6(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BA2-50B0-4D87-BADA-D9B4A0EDA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VSS – The Voltag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tage Pro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Resources’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active performance pro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requires VPs f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Generation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 order to maintain proper system vol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d by ERCOT &amp; TOs at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-voltage s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generation bu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posts 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o QSEs know ERCOT’s desired voltage/reactive, for specific Generation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Guides 2.10.1, 2.5.1 and Protocols 6.4.2(6), 6.5.7.3(2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E07-6B61-4463-B455-5FC9B46D24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active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 cap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by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is a given quantity of reactive produced at a given quantity of active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is calculated/derived at the Generation Resource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um net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uring the Generation Resource’s Reactive Capability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5.7.1(1), 6.5.7.1(2) and Guide 3.1.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3EB-8AF4-4A61-A514-0E19C9497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The URL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s are calculated twice during the Reactive Capability Tes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ver-exci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gg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ower factor of 95% or l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nder-exci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ower factor of 95% or l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uses Generation Entity-supplied URLs to formul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tage Profi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that Re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 6.5.7.1(2) and Guide 3.1.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48B-286F-41BE-B339-F8ADE070BA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VSS – QSE / Gen volume requirements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Resources shall produce/maintain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nimum/defined 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Reactive Power, at rated MW-cap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y is to be within design limits of machine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/below 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y will be dictated by ERCOT, by way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tage Profi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COT schedules for that Re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s 6.1.7, 6.5.7.1(1), 6.5.7.2(1), 6.7.6(4) and Guides 3.1.5, 2.10.4.1, 3.1.4.1, 2.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F4F-709D-4C04-954B-E7F6CE351E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VSS – QSE / Gen response require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Es shall meet / respond to ERCOT’s temporaril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ified Voltage Prof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within Resource’s Reactive Power characteristics / tolerances / limi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vent of violation of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ordina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Voltage / Reactive Criteria – ie,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ble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tage / reactive criteria – ERCOT ma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ify Disp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s 6.5.7.2(5), 6.4.2(6) and Guides 3.1.5, 2.10.4.1, 2.3, 4.3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2AE-4808-48D2-9017-118D169E90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SS – QSE / Gen response req’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respond to ERCOT or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deploy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/QSEs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d if reliability is at risk and ERCOT issue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ol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, and/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du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7.6(1), 6.8.4(1) and Guide 2.10.4.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1DB-363F-467F-AEDC-6795A72C52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EY DEFINITION #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fied Scheduling Entitie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s qualified by ERCOT in accordance with Protocol 16 (“Registration and Qualification of Market Participants”), to submit Balanced Schedule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2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3E2-9A74-4DB6-9BFD-37007C941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SS – QSE / Gen response req’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s should expect reactive Dispatch Instru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from ERC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time system voltage levels deviate from established limits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Guide 2.10.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-declared emerg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at ERCOT’s direction, QSEs may issue manual voltage dispatches to Generation Resources (for reacti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s must respond with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eff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Guide 3.1.4.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C0C-06CA-429F-98A4-335F6C4244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SS – QSE / Gen response req’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-declared emerg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at TO’s direction, Generation Resources must respond to TO voltage dis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to receive notification from TO, post-emerg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2.10.4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0AC-6EDC-4FDC-87D9-39E61B3044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VSS – Generation Resources operational req’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ion Resources must perform maintenance and operations consistent wit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 Utility Pract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Guide 3.1.4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 not redu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reactive capability during abnormal conditions without ERCOT pre-approval…and only in event of  imminent equipment da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ocol 6.5.7.1(9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 not replace/modif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ipment that impacts Reactive capability without pre-approval by ERCOT…ERCOT &amp; TO must be notified by QSE at least 60 days ou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 6.5.7.1(8) and Guide 3.1.4.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4E9-6C7B-4A7A-A7F7-9D06886DC4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SS – Gen / QSE operational req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Power System Stabilizers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S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be kep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serv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never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Es must promptly notify ERCOT as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nge in stat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VRs &amp; PSSs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, going off-line/on-line, change from Voltage Control mode), and log according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[Protocol 6.5.7.2(4) and Guides 2.2.4(4), 3.1.4.1, 3.1.4.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Resources should understand that their AVR status &amp; PSS status ar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i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ERC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[Protocol 6.10.9(2) and Guide 2.2.1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A98-7A04-4BE4-BD3A-D1ECB2705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Gen/QSE op’l req’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Es must meet VSS deployme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Resources with voltag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ance probl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ust notify TOs immediately (so TOs can alert ERCOT to potential voltage proble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Guide 2.10.2 and Protocol 6.7.6(6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Es must advise ERCOT when Generation Resources not operating with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wer Factor ran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s required, specified in ERCOT’s Voltage Profile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 6.5.7.2(7) and Guide 2.10.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401-96F0-4D29-891A-3B999B7A1D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Gen/QSE op’l req’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with high reactive loads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cil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notify QSE, TO, and ERCO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p off-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e to voltage/reactive problems must notify ERCOT, TO and Q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3.1.4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FC3-AF14-4B4C-B12C-31E78B36F0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QSE data/telemetry req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must teleme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 Power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RCOT on all its portfolio assets, in real-time…to include Generation Resource MVARs (gross or net), plus voltage at interconnection to G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5.1.1(1), 6.5.1.1(1)(b) and Guide 3.1.4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 has direct impact on local system voltage…Generation Resource ther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metered to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TO may monitor/direct the Resou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2.10.4.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388-A48F-492C-BFC5-7A61FFFF9D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SS – Testing req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 VSS requirements actually begin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the Guides state that the resource shall be “designed” consistent with its VSS oblig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3.1.4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meet technical standards in Protocols 6.10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/S Qualification/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erforman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6.5.7.2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F09-C5CD-43B4-A12B-B03BEC885D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Reactive Capability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verify/maintain Reactive Power capability, by way of Unit Reactive Capability Tes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two ye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both Lagg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din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s 6.10.3.5(1), 6.10.3.5(2) and Guides 3.1.4.3(1), 3.1.4.3(2)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active Capability Te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ordinated Reactiv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d Reactiv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C70-F65C-41FA-A7B0-1EB5F7CCAB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VSS – Non-Coordinated Reactive T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oordinated Reactive T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6920" indent="-64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requests ERCOT Operations Engineer to conduct test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ours no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15-minute duration (minimum)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Guide 3.1.4.3.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6920" indent="-64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ordinated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…conducted at/abo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x net output, during high System Loads at temps grea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 6.10.3.5(3) and Guides 3.1.4.3(3), 3.1.4.3.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6920" indent="-64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ordinated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…conducted during low System Load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pe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 in the Spr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 6.10.3.5(4) and Guides 3.1.4.3(4), 3.1.4.3.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AE2-8CA3-465B-85A1-8864CB235C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EY DEFINITION #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illary Services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services (described in Protocol 6) necessary to support transmission of energy from Resources to Loads, while maintai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liable operation of…transmission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 accordance with Good Utility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2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86F-04DB-443C-83BF-AD271FA9D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VSS – Coordinated Reactive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rdinated Reactive T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requests ERCOT Operations Engineer and TO to conduct test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 hours no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15-minute duration (minimu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Guide 3.1.4.3.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d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…conducted at/abo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ax net output, during high System loads at temps great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F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 6.10.3.5(3) and Guides 3.1.4.3(3), 3.1.4.3.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d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…conducted during low System load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pe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 in the Spr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 6.10.3.5(4) and Guides 3.1.4.3(4), 3.1.4.3.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C4F-E2FD-4382-89B6-8C2D318D34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SS – The “D-Curv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762120"/>
          <a:ext cx="86868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868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5EE-1AEF-48A9-B2EE-9285DD272A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SS – AVR &amp; PSS Tests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conduct new AVR Tes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five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6.10.3.5(5) and Guide 2.2.4(4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conduct new PSS Tes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fiv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2.2.4(4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E13-D136-45CF-9C02-5A0B4B9CEA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SS – performance /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/ enfor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868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asures for RPRS, Black Star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ated separately from other A/S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6.10.4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090-F0F8-4A32-901B-BB71C82554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SS – performance /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/ enforcement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s must respond to ERCO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ge VD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 6.10.9(1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E fail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erform to VSS instruction will be investigat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-Compli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non-compliance vs. Force Majeure vs. ERCOT-permitted dev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rotocol 6.10.9(3), 6.10.9(5), 6.5.7.3(4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214-5B53-431F-A99E-BB3F3D9D9A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SS – performance /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liance / enforcement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us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ge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ode at lea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me the resource is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ERCOT directs QSE to be in “Manual Mode”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nit is going online/offline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Protocols 6.10.9(2), 6.5.7.2(4) and Guides 2.2.4(4), 3.1.4.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intain volt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cheduled voltage, when operating at less than URL, may be refer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-Compl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event of Force Majeu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-permitted deviation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Protocol 6.10.9(4) and Guide 2.10.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449-3874-459B-8E63-52D48EDC3C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SS – performance /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/ enforcement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 Capability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Compliance Template on enforcement of Reactive Testing located at ERCOT-Compliance 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3.1.4.3.5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if QSE fails to conduct every five years, ERCOT to notify QSE…if QSE fails to respond within 30 days, ERCOT to notify P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Guide 3.1.4.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C9E-234C-4BFD-9DDE-FB40DD256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R409 – “Voltage Support Service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Resources must provide V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compen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ther deployments are within/outside resource U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es that actually re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schedules are to be settled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E Down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8.4(1), 6.8.4(2)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9D4-7E7E-4445-BF01-C80017C72C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R409 (cont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s must provide VSS up to URL at 95% Power Facto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compen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posed in PRR409…for Protocol 6.8.4(1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s responding to ERCOT Dispatch Instructions above URL would be compensate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ed cost of V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posed in PRR409…for Protocol 6.8.4(2)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Resources reduc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 schedules to provide VSS would be compensated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OME-Down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posed in PRR409…for Protocol 6.8.4(3)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284-052F-4722-A42A-32883F2F6B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liability Must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M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Resource Entity and ERCOT (12 mos max) for capacity/energy from otherwise uneconomic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 Resources would not run if not necessary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tage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tability, local congestion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s 6.1.9, 6.3.1(8), 6.5.9(5) and Guides 2.4.5.3(5), 2.4.5.3(6), 2.4.5.3(10), 2.5.1, 2.5.1(8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4CC-9BBD-4BCE-9C50-C869ABF39A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EY DEFINITION #3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tage Support Service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ncillary Service…requir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/distribu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ERCOT Transmission Grid, within acceptable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2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84A-BACA-4A68-B3DF-B8ADD69DD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liability Must Run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R Units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atched by ERC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mergency Conditions or to prevent violating System security lim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hall deploy RMR when no Market Solution exists, and only to extent necessar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Protocols 6.1.9, 6.3.1(17), 6.5.9(3), 6.5.9(10), 6.7.8(1) and Guides 2.3, 2.3.1, 2.4.5.3(3), 2.4.5.3(12), 2.5.1(17)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 fai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erform “expected quality of firmness”, ERCOT to charge the QSE an “Unexcused Misconduct Amount” as defined in the RMR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Protocol 6.8.3.8(1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2BA-783F-43DE-8902-9A7ECDADB1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liability Must Run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s subm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R Availability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RCOT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00 Day-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s receive ERCO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R Disp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Messaging Syst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Delivery Plan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00 Day-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Delivery Plan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30 Day-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s 4.5.11.1, 6.7.8(4) and Guide 2.4.5.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s should foll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Plan S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gistering Generation Resources, as related to RMR Un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rotocol 4.5.11.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9DB-CE49-4E1D-AA8C-2F664A7A9B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B1D-CF5E-435B-8681-BB28C20253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EY DEFINITION #4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 Must Run (RMR) Unit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ation Resource…operated under…an Agreement with ERCOT that would not otherwise be operated except that they are necessary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ability, or management of localized transmission constraints…where Market Solutions do not ex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rotocol 2.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CB1-B3F6-48AB-8F83-70C150B47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ACTIVE POWER – THEN &amp;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ERCOT shifted to Single CA (01 Aug 2001), voltage stabil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ly mana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10 different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ug/01, voltage stabil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-mana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RCOT in the lead, and TOs coordinating daily/directly with QSE-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SE-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available for Voltage Support; when/if the QSE cannot perform, it strain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F59-5D80-4AEB-9D9F-CAC6651AF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SE FUNDAMEN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-gene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incre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47.5% sinc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PUCT’s 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3 State of the Market Report for the ERCOT  Wholesale Electricity Marke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, August 2004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30 Q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wn and/or opera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78,000 M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stalled capacity in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ERCOT System Planning’s 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port on Capacity, Demand, and Reserves in the ERCOT Reg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, June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A1D-7409-4360-A18B-563F2A4773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LTAGE MGMT vs.  FREQUENCY MG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differe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management is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, between QSEs &amp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managemen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-w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etween QSEs &amp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576-6C5D-45F0-8799-E30242C25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OLTAGE MGMT vs.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REQUENCY MGMT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-Resources’ Automatic Voltage Regulator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the most important tool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ling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-Resources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most important tool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ling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C04-BC9C-4ACB-8C80-E526086903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5:53:10Z</dcterms:created>
  <dc:creator>00017582</dc:creator>
  <dc:description/>
  <dc:language>en-US</dc:language>
  <cp:lastModifiedBy>vweldon</cp:lastModifiedBy>
  <dcterms:modified xsi:type="dcterms:W3CDTF">2006-03-17T14:36:18Z</dcterms:modified>
  <cp:revision>101</cp:revision>
  <dc:subject/>
  <dc:title>QSE Roles &amp; Responsibility</dc:title>
</cp:coreProperties>
</file>