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1148-A5AC-4919-A6AE-0A9E033A6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ntention of detailed critiquing of specific events or criticizing any organization’s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to emphasize the importance of everyone’s role in emergency prepare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bout a minute of questions for each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was a big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suppose these folks debriefed and critiqued this event for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suppose they developed a new plan for the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(Right people in the right pla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 organization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e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ikely to be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 support personnel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ment read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stuff in the right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, minimum activities pre-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ed and vali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ies (Right pla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to support resources and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/customer 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a good guy if the impact is minim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things happen, but they seem worse if mis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tion of preventiv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ll be different for every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asic requir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knowledgeable, competent personnel to discuss probable emergencies in great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at if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ve no stone untu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ve thinking vs Murphy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 can conceive, you can achie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go wrong, will go wrong at the worst possible time and under the worst possible circumstanc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ver discount pos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TMI, Katrina/Rita, Mt. St. Helens, Titanic, Various black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recover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han mon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ill need replacing, repai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be around to hel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be requi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28600" y="43434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uational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contr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infl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simpl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exp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everything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opportunities for preventive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305240"/>
            <a:ext cx="382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sonnel (availability, backups, travel limit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rst respo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pport (food, water, waste contr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c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c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entive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tside coordination an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actice (exercises, dri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imple diagram. Not in your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make it as complex as you like. Expand the various parts to a greater level of det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essential approach you have to take to any activity at which you intend to suc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tt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many possible problems, you can’t plan for all of them, so just let good operators figure it out when it happen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appro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worst, and you’ll never be disappointed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y preparedness is part of everyone’s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 couple of links that provide usefu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on “emergency response planning”, “emergency preparedness”, etc. you will find hundreds of sources of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body remember some lessons were taken from this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briefly on white board, only need two or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bout this o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lessons learn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briefly on white board, only a f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lessons from Rita applied to Katr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bout new lessons from Katr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one know what was learned about emergency plans after Three Mile Isl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bout this 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bout this 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people heed the warn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 magnitude of the event anticip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as the respo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ready are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733-995F-49B9-B432-8B410723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84E-61ED-4DE5-9FA9-08C90B71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9F7-B207-4EC7-B239-BFBFFEB0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A66-7357-4E36-B3F8-B1E2CB89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5F65-FBFA-4638-8594-01D6BE0B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43CF-3921-42E0-B0D7-6830A650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13A2-F08D-4881-8EF3-5EEE17F9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38BE-50A1-4897-8EE6-CBE80163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D1FE-A310-416D-B813-A245AFFC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407E-E432-4982-9EC4-788BEE2A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26CB-E82F-40AB-A48E-AA54309B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75F-C92C-4198-A6E7-4F9B2430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6208-E2E0-416F-9BE9-99D7510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7159-E9BB-45F9-8B3C-E0D6217F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6FCE-3FF9-4D7A-9CF4-1D073ADD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C0CC-B7B5-467B-8F53-5FF7378A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A8C2-77DC-441E-AC8E-74E2BC39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612-2996-4F54-B357-63A1E00E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5D5-524E-4BBE-AC8A-B60DAACA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102-CB9F-4AD7-9792-E5ABDFA2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5D0-85D7-4832-8000-FA4F0616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2B5-7B4B-47A2-98F4-F7C6B114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2D3-834F-4488-806E-BB557EB2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2E4-50C8-4412-97E7-41DD37ED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F88-2310-42C7-80A0-68E527D633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2057400" cy="106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428C-CA8D-451C-8E84-AE1AB97AE9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985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compliance/nerc/eop/index.html" TargetMode="External"/><Relationship Id="rId2" Type="http://schemas.openxmlformats.org/officeDocument/2006/relationships/hyperlink" Target="http://www.ercot.com/mktrules/compliance/nerc/eop/index.html" TargetMode="External"/><Relationship Id="rId3" Type="http://schemas.openxmlformats.org/officeDocument/2006/relationships/hyperlink" Target="http://safetynet.smis.doi.gov/ERPart.htm" TargetMode="External"/><Relationship Id="rId4" Type="http://schemas.openxmlformats.org/officeDocument/2006/relationships/hyperlink" Target="http://safetynet.smis.doi.gov/ERPart.htm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mergency Oper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Verdana"/>
              </a:rPr>
              <a:t>Be Prepared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656080" y="6338880"/>
            <a:ext cx="52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 preparation need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696080" cy="5024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90880" y="6095880"/>
            <a:ext cx="39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lenty of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st 3 benefits to be derived from adequate Emergency Operation preparatio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are the expense of preparation for an event to the expense of recovery from that even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st 3 things to do when making preparations for Emergency Oper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nefits of prepa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nel (Right people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quipment readiness (Right stuff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dures (Right instruction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cilities (Right plac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blic/customer perce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ication of preventiv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pense Comparis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does preparation cos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does lack of preparation cost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 Do Li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ngs to consi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do I need to d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95280" y="1371600"/>
            <a:ext cx="7467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810520" y="1488960"/>
            <a:ext cx="4360680" cy="3845160"/>
            <a:chOff x="2810520" y="1488960"/>
            <a:chExt cx="4360680" cy="3845160"/>
          </a:xfrm>
        </p:grpSpPr>
        <p:sp>
          <p:nvSpPr>
            <p:cNvPr id="137" name="_s166922"/>
            <p:cNvSpPr/>
            <p:nvPr/>
          </p:nvSpPr>
          <p:spPr>
            <a:xfrm>
              <a:off x="3660480" y="1488960"/>
              <a:ext cx="2660760" cy="2660760"/>
            </a:xfrm>
            <a:custGeom>
              <a:avLst/>
              <a:gdLst>
                <a:gd name="textAreaLeft" fmla="*/ 0 w 2660760"/>
                <a:gd name="textAreaRight" fmla="*/ 2661120 w 2660760"/>
                <a:gd name="textAreaTop" fmla="*/ 0 h 2660760"/>
                <a:gd name="textAreaBottom" fmla="*/ 2661120 h 26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66923"/>
            <p:cNvSpPr/>
            <p:nvPr/>
          </p:nvSpPr>
          <p:spPr>
            <a:xfrm rot="7200000">
              <a:off x="4023720" y="2117520"/>
              <a:ext cx="2660400" cy="2660760"/>
            </a:xfrm>
            <a:custGeom>
              <a:avLst/>
              <a:gdLst>
                <a:gd name="textAreaLeft" fmla="*/ 0 w 2660400"/>
                <a:gd name="textAreaRight" fmla="*/ 2660760 w 2660400"/>
                <a:gd name="textAreaTop" fmla="*/ 0 h 2660760"/>
                <a:gd name="textAreaBottom" fmla="*/ 2661120 h 26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66925"/>
            <p:cNvSpPr/>
            <p:nvPr/>
          </p:nvSpPr>
          <p:spPr>
            <a:xfrm rot="14400000">
              <a:off x="3296880" y="2118960"/>
              <a:ext cx="2660760" cy="2660400"/>
            </a:xfrm>
            <a:custGeom>
              <a:avLst/>
              <a:gdLst>
                <a:gd name="textAreaLeft" fmla="*/ 0 w 2660760"/>
                <a:gd name="textAreaRight" fmla="*/ 2661120 w 2660760"/>
                <a:gd name="textAreaTop" fmla="*/ 0 h 2660400"/>
                <a:gd name="textAreaBottom" fmla="*/ 2660760 h 26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66920"/>
            <p:cNvSpPr/>
            <p:nvPr/>
          </p:nvSpPr>
          <p:spPr>
            <a:xfrm>
              <a:off x="5715000" y="2133720"/>
              <a:ext cx="1066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Practi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66921"/>
            <p:cNvSpPr/>
            <p:nvPr/>
          </p:nvSpPr>
          <p:spPr>
            <a:xfrm>
              <a:off x="4724280" y="4267080"/>
              <a:ext cx="106668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Feedbac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66924"/>
            <p:cNvSpPr/>
            <p:nvPr/>
          </p:nvSpPr>
          <p:spPr>
            <a:xfrm>
              <a:off x="3124080" y="2133720"/>
              <a:ext cx="1066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82736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ercot.com/mktrules/compliance/nerc/eop/index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safetynet.smis.doi.gov/ERPart.ht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mergency Oper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Verdana"/>
              </a:rPr>
              <a:t>Be Prepared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1371600"/>
            <a:ext cx="7467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52960" y="1143000"/>
            <a:ext cx="2590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71880" y="380880"/>
            <a:ext cx="4114800" cy="59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63680" y="2743200"/>
            <a:ext cx="197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lack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1371600"/>
            <a:ext cx="7467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1066680"/>
            <a:ext cx="25909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5791320" cy="6095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53400" y="1752480"/>
            <a:ext cx="48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52680" y="1143000"/>
            <a:ext cx="2590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6200000">
            <a:off x="4510440" y="5564880"/>
            <a:ext cx="667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at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1371600"/>
            <a:ext cx="7467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5867640" cy="586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1371600"/>
            <a:ext cx="7467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78720" cy="4978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576640" y="2438280"/>
            <a:ext cx="56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391520" cy="4932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764080" y="5943600"/>
            <a:ext cx="38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ichita Falls, 19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848360" cy="5180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92960" y="6858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,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1371600"/>
            <a:ext cx="7467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6096240" cy="605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5:28:34Z</dcterms:created>
  <dc:creator>jbowles</dc:creator>
  <dc:description/>
  <dc:language>en-US</dc:language>
  <cp:lastModifiedBy>PRS 032306</cp:lastModifiedBy>
  <dcterms:modified xsi:type="dcterms:W3CDTF">2006-04-18T23:00:33Z</dcterms:modified>
  <cp:revision>18</cp:revision>
  <dc:subject/>
  <dc:title>Emergency Operations</dc:title>
</cp:coreProperties>
</file>