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9.wmf" ContentType="image/x-wmf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3.png" ContentType="image/png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DD50-D2E6-4D74-A8C2-1C9A137C2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we have to understand Nose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 collapse often thought of as an AC phenomen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happen in a DC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l 10V power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Ohm “Transmission Lin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 resistance l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1534-B7D5-449A-AABC-4A5603C7A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076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401360"/>
            <a:ext cx="8076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7C01-5B7B-42F1-9E61-84DD0A72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C080-264A-48B8-BB26-1D1B0B38C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304812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304812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40136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440136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440136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CC49-026F-4E23-842D-04D73A318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3AF1-F4D7-4B8D-96CF-43A210520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3048120"/>
            <a:ext cx="807696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1321-D8CF-4608-A55C-9D9BD98E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0769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A5F1-9C55-453B-BEDB-CE3F7C71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0A48-C909-4489-931C-69210704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91505-AE83-4B96-9E7E-9DB905B6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1CC6-24BA-40AB-9D3D-62B2BDA0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3582-AB5D-411B-8174-234F2FC4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3048120"/>
            <a:ext cx="807696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98F9-B034-450C-BA9C-7A1C9DB6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08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811D-E4C0-430E-B75A-EBA758FA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401360"/>
            <a:ext cx="8076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BF058-75D7-4A24-AC4A-352E3704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076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401360"/>
            <a:ext cx="8076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5046-077F-4032-8525-4A0EE7B7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08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38A36-2F2A-43DC-830C-FFC4AEE37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4480" y="304812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5800" y="304812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40136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4480" y="440136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5800" y="440136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C450-A3A6-4C8B-A1CA-069A65CA7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0769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E5A9-BAC8-41C6-B33A-0EB9AC00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1A0B-A9BD-4674-B195-808D45DD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B646-1BCD-42ED-8FF8-F0BEA088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8753-1CAD-42AB-AB46-F791BA2C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A0CC-02D4-40C3-BEE9-D3110CD4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7D27-90B0-4762-A9AB-7111E9EC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401360"/>
            <a:ext cx="8076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ACFB-5755-444A-BCA2-A8118FEF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3048120"/>
            <a:ext cx="80769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0848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99180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548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548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548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31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586728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AE61-8AD3-4D94-B490-5F6F3E01F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5331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3200" y="58672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053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5B0D-1FC4-4D84-A673-D95DCA6B7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rther Voltage/Reactive Concep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ect of Capaci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0769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pacitors Have the Greatest Effect Closest to the Lo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Voltage Collap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l definition: A blackout caused by a power system going past its nose poi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1981080"/>
            <a:ext cx="6095880" cy="3276720"/>
          </a:xfrm>
          <a:custGeom>
            <a:avLst/>
            <a:gdLst/>
            <a:ahLst/>
            <a:rect l="l" t="t" r="r" b="b"/>
            <a:pathLst>
              <a:path w="3840" h="2064">
                <a:moveTo>
                  <a:pt x="0" y="1824"/>
                </a:moveTo>
                <a:lnTo>
                  <a:pt x="0" y="144"/>
                </a:lnTo>
                <a:lnTo>
                  <a:pt x="1392" y="144"/>
                </a:lnTo>
                <a:lnTo>
                  <a:pt x="1488" y="0"/>
                </a:lnTo>
                <a:lnTo>
                  <a:pt x="1584" y="192"/>
                </a:lnTo>
                <a:lnTo>
                  <a:pt x="1680" y="0"/>
                </a:lnTo>
                <a:lnTo>
                  <a:pt x="1776" y="192"/>
                </a:lnTo>
                <a:lnTo>
                  <a:pt x="1824" y="96"/>
                </a:lnTo>
                <a:lnTo>
                  <a:pt x="3648" y="96"/>
                </a:lnTo>
                <a:lnTo>
                  <a:pt x="3648" y="864"/>
                </a:lnTo>
                <a:lnTo>
                  <a:pt x="3552" y="912"/>
                </a:lnTo>
                <a:lnTo>
                  <a:pt x="3744" y="960"/>
                </a:lnTo>
                <a:lnTo>
                  <a:pt x="3552" y="1008"/>
                </a:lnTo>
                <a:lnTo>
                  <a:pt x="3744" y="1056"/>
                </a:lnTo>
                <a:lnTo>
                  <a:pt x="3648" y="1104"/>
                </a:lnTo>
                <a:lnTo>
                  <a:pt x="3648" y="1872"/>
                </a:lnTo>
                <a:lnTo>
                  <a:pt x="3840" y="1872"/>
                </a:lnTo>
                <a:lnTo>
                  <a:pt x="3696" y="2064"/>
                </a:lnTo>
                <a:lnTo>
                  <a:pt x="3504" y="1920"/>
                </a:lnTo>
                <a:lnTo>
                  <a:pt x="3648" y="1872"/>
                </a:ln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6629040" y="49528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5029200"/>
            <a:ext cx="4572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4876920"/>
            <a:ext cx="761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5334120"/>
            <a:ext cx="4572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5181480"/>
            <a:ext cx="761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7040" y="468936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0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46800" y="2320920"/>
            <a:ext cx="114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381800" y="324180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858000" y="3200040"/>
            <a:ext cx="609480" cy="6858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533520" y="1600200"/>
          <a:ext cx="8076960" cy="5175360"/>
        </p:xfrm>
        <a:graphic>
          <a:graphicData uri="http://schemas.openxmlformats.org/drawingml/2006/table">
            <a:tbl>
              <a:tblPr/>
              <a:tblGrid>
                <a:gridCol w="1616040"/>
                <a:gridCol w="1614240"/>
                <a:gridCol w="1616400"/>
                <a:gridCol w="1614240"/>
                <a:gridCol w="16160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in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533520" y="1600200"/>
          <a:ext cx="8076960" cy="5175360"/>
        </p:xfrm>
        <a:graphic>
          <a:graphicData uri="http://schemas.openxmlformats.org/drawingml/2006/table">
            <a:tbl>
              <a:tblPr/>
              <a:tblGrid>
                <a:gridCol w="1616040"/>
                <a:gridCol w="1614240"/>
                <a:gridCol w="1616400"/>
                <a:gridCol w="1614240"/>
                <a:gridCol w="16160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in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in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wer vs Load Imped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990720" y="2141640"/>
          <a:ext cx="7238880" cy="4451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2141640"/>
                    <a:ext cx="7238880" cy="44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ltage vs. Power Transf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3520" y="1371600"/>
          <a:ext cx="7848360" cy="4826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371600"/>
                    <a:ext cx="7848360" cy="48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4571640" y="6278400"/>
            <a:ext cx="19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Nos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867280" y="3809520"/>
            <a:ext cx="68580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C Example (Base ca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6095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59436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6400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62485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67040" y="575640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0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0800000">
            <a:off x="7248240" y="55627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371600" y="190512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371600" y="1752120"/>
            <a:ext cx="6400800" cy="545400"/>
            <a:chOff x="1371600" y="1752120"/>
            <a:chExt cx="6400800" cy="545400"/>
          </a:xfrm>
        </p:grpSpPr>
        <p:grpSp>
          <p:nvGrpSpPr>
            <p:cNvPr id="134" name=""/>
            <p:cNvGrpSpPr/>
            <p:nvPr/>
          </p:nvGrpSpPr>
          <p:grpSpPr>
            <a:xfrm>
              <a:off x="1371600" y="1752120"/>
              <a:ext cx="6400800" cy="305280"/>
              <a:chOff x="1371600" y="1752120"/>
              <a:chExt cx="6400800" cy="305280"/>
            </a:xfrm>
          </p:grpSpPr>
          <p:sp>
            <p:nvSpPr>
              <p:cNvPr id="135" name=""/>
              <p:cNvSpPr/>
              <p:nvPr/>
            </p:nvSpPr>
            <p:spPr>
              <a:xfrm>
                <a:off x="1371600" y="1905120"/>
                <a:ext cx="289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" name=""/>
              <p:cNvGrpSpPr/>
              <p:nvPr/>
            </p:nvGrpSpPr>
            <p:grpSpPr>
              <a:xfrm>
                <a:off x="4267080" y="1752120"/>
                <a:ext cx="609480" cy="305280"/>
                <a:chOff x="4267080" y="1752120"/>
                <a:chExt cx="609480" cy="30528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4267080" y="1905120"/>
                  <a:ext cx="7596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V="1">
                  <a:off x="4343040" y="1752120"/>
                  <a:ext cx="15264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4495680" y="1752480"/>
                  <a:ext cx="15228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4647960" y="1752120"/>
                  <a:ext cx="15228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00240" y="1752480"/>
                  <a:ext cx="7632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"/>
              <p:cNvSpPr/>
              <p:nvPr/>
            </p:nvSpPr>
            <p:spPr>
              <a:xfrm>
                <a:off x="4876920" y="1905120"/>
                <a:ext cx="289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4866120" y="1787400"/>
              <a:ext cx="1143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50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371600" y="2209320"/>
            <a:ext cx="6400800" cy="545400"/>
            <a:chOff x="1371600" y="2209320"/>
            <a:chExt cx="6400800" cy="545400"/>
          </a:xfrm>
        </p:grpSpPr>
        <p:grpSp>
          <p:nvGrpSpPr>
            <p:cNvPr id="145" name=""/>
            <p:cNvGrpSpPr/>
            <p:nvPr/>
          </p:nvGrpSpPr>
          <p:grpSpPr>
            <a:xfrm>
              <a:off x="1371600" y="2209320"/>
              <a:ext cx="6400800" cy="305280"/>
              <a:chOff x="1371600" y="2209320"/>
              <a:chExt cx="6400800" cy="305280"/>
            </a:xfrm>
          </p:grpSpPr>
          <p:sp>
            <p:nvSpPr>
              <p:cNvPr id="146" name=""/>
              <p:cNvSpPr/>
              <p:nvPr/>
            </p:nvSpPr>
            <p:spPr>
              <a:xfrm>
                <a:off x="1371600" y="2362320"/>
                <a:ext cx="289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4267080" y="2209320"/>
                <a:ext cx="609480" cy="305280"/>
                <a:chOff x="4267080" y="2209320"/>
                <a:chExt cx="609480" cy="30528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267080" y="2362320"/>
                  <a:ext cx="7596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V="1">
                  <a:off x="4343040" y="2209320"/>
                  <a:ext cx="15264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495680" y="2209680"/>
                  <a:ext cx="15228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V="1">
                  <a:off x="4647960" y="2209320"/>
                  <a:ext cx="15228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800240" y="2209680"/>
                  <a:ext cx="7632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"/>
              <p:cNvSpPr/>
              <p:nvPr/>
            </p:nvSpPr>
            <p:spPr>
              <a:xfrm>
                <a:off x="4876920" y="2362320"/>
                <a:ext cx="289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4866120" y="2244600"/>
              <a:ext cx="1143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50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371600" y="2666520"/>
            <a:ext cx="6400800" cy="545400"/>
            <a:chOff x="1371600" y="2666520"/>
            <a:chExt cx="6400800" cy="545400"/>
          </a:xfrm>
        </p:grpSpPr>
        <p:grpSp>
          <p:nvGrpSpPr>
            <p:cNvPr id="156" name=""/>
            <p:cNvGrpSpPr/>
            <p:nvPr/>
          </p:nvGrpSpPr>
          <p:grpSpPr>
            <a:xfrm>
              <a:off x="1371600" y="2666520"/>
              <a:ext cx="6400800" cy="305280"/>
              <a:chOff x="1371600" y="2666520"/>
              <a:chExt cx="6400800" cy="305280"/>
            </a:xfrm>
          </p:grpSpPr>
          <p:sp>
            <p:nvSpPr>
              <p:cNvPr id="157" name=""/>
              <p:cNvSpPr/>
              <p:nvPr/>
            </p:nvSpPr>
            <p:spPr>
              <a:xfrm>
                <a:off x="1371600" y="2819520"/>
                <a:ext cx="289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8" name=""/>
              <p:cNvGrpSpPr/>
              <p:nvPr/>
            </p:nvGrpSpPr>
            <p:grpSpPr>
              <a:xfrm>
                <a:off x="4267080" y="2666520"/>
                <a:ext cx="609480" cy="305280"/>
                <a:chOff x="4267080" y="2666520"/>
                <a:chExt cx="609480" cy="30528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4267080" y="2819520"/>
                  <a:ext cx="7596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V="1">
                  <a:off x="4343040" y="2666520"/>
                  <a:ext cx="15264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495680" y="2666880"/>
                  <a:ext cx="15228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V="1">
                  <a:off x="4647960" y="2666520"/>
                  <a:ext cx="15228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4800240" y="2666880"/>
                  <a:ext cx="7632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4876920" y="2819520"/>
                <a:ext cx="289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4866120" y="2701800"/>
              <a:ext cx="1143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50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371600" y="3123720"/>
            <a:ext cx="6400800" cy="545400"/>
            <a:chOff x="1371600" y="3123720"/>
            <a:chExt cx="6400800" cy="545400"/>
          </a:xfrm>
        </p:grpSpPr>
        <p:grpSp>
          <p:nvGrpSpPr>
            <p:cNvPr id="167" name=""/>
            <p:cNvGrpSpPr/>
            <p:nvPr/>
          </p:nvGrpSpPr>
          <p:grpSpPr>
            <a:xfrm>
              <a:off x="1371600" y="3123720"/>
              <a:ext cx="6400800" cy="305280"/>
              <a:chOff x="1371600" y="3123720"/>
              <a:chExt cx="6400800" cy="305280"/>
            </a:xfrm>
          </p:grpSpPr>
          <p:sp>
            <p:nvSpPr>
              <p:cNvPr id="168" name=""/>
              <p:cNvSpPr/>
              <p:nvPr/>
            </p:nvSpPr>
            <p:spPr>
              <a:xfrm>
                <a:off x="1371600" y="3276720"/>
                <a:ext cx="289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4267080" y="3123720"/>
                <a:ext cx="609480" cy="305280"/>
                <a:chOff x="4267080" y="3123720"/>
                <a:chExt cx="609480" cy="3052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267080" y="3276720"/>
                  <a:ext cx="7596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V="1">
                  <a:off x="4343040" y="3123720"/>
                  <a:ext cx="15264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495680" y="3124080"/>
                  <a:ext cx="15228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V="1">
                  <a:off x="4647960" y="3123720"/>
                  <a:ext cx="15228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800240" y="3124080"/>
                  <a:ext cx="7632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>
                <a:off x="4876920" y="3276720"/>
                <a:ext cx="289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4866120" y="3159000"/>
              <a:ext cx="1143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50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371600" y="3657240"/>
            <a:ext cx="6400800" cy="545400"/>
            <a:chOff x="1371600" y="3657240"/>
            <a:chExt cx="6400800" cy="545400"/>
          </a:xfrm>
        </p:grpSpPr>
        <p:grpSp>
          <p:nvGrpSpPr>
            <p:cNvPr id="178" name=""/>
            <p:cNvGrpSpPr/>
            <p:nvPr/>
          </p:nvGrpSpPr>
          <p:grpSpPr>
            <a:xfrm>
              <a:off x="1371600" y="3657240"/>
              <a:ext cx="6400800" cy="305280"/>
              <a:chOff x="1371600" y="3657240"/>
              <a:chExt cx="6400800" cy="305280"/>
            </a:xfrm>
          </p:grpSpPr>
          <p:sp>
            <p:nvSpPr>
              <p:cNvPr id="179" name=""/>
              <p:cNvSpPr/>
              <p:nvPr/>
            </p:nvSpPr>
            <p:spPr>
              <a:xfrm>
                <a:off x="1371600" y="3810240"/>
                <a:ext cx="289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4267080" y="3657240"/>
                <a:ext cx="609480" cy="305280"/>
                <a:chOff x="4267080" y="3657240"/>
                <a:chExt cx="609480" cy="3052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267080" y="3810240"/>
                  <a:ext cx="7596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V="1">
                  <a:off x="4343040" y="3657240"/>
                  <a:ext cx="15264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495680" y="3657600"/>
                  <a:ext cx="15228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V="1">
                  <a:off x="4647960" y="3657240"/>
                  <a:ext cx="15228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800240" y="3657600"/>
                  <a:ext cx="7632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4876920" y="3810240"/>
                <a:ext cx="289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4866120" y="3692520"/>
              <a:ext cx="1143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50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836160" y="4191120"/>
            <a:ext cx="1407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40200" y="4800600"/>
            <a:ext cx="179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.22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16160" y="4267080"/>
            <a:ext cx="1550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543800" y="1905120"/>
            <a:ext cx="380880" cy="3657600"/>
            <a:chOff x="7543800" y="1905120"/>
            <a:chExt cx="380880" cy="3657600"/>
          </a:xfrm>
        </p:grpSpPr>
        <p:sp>
          <p:nvSpPr>
            <p:cNvPr id="192" name=""/>
            <p:cNvSpPr/>
            <p:nvPr/>
          </p:nvSpPr>
          <p:spPr>
            <a:xfrm flipV="1">
              <a:off x="7772400" y="190512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7620120" y="4191120"/>
              <a:ext cx="304560" cy="609480"/>
              <a:chOff x="7620120" y="4191120"/>
              <a:chExt cx="304560" cy="609480"/>
            </a:xfrm>
          </p:grpSpPr>
          <p:sp>
            <p:nvSpPr>
              <p:cNvPr id="194" name=""/>
              <p:cNvSpPr/>
              <p:nvPr/>
            </p:nvSpPr>
            <p:spPr>
              <a:xfrm flipH="1">
                <a:off x="7620480" y="4191120"/>
                <a:ext cx="15192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620120" y="4267080"/>
                <a:ext cx="30456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7620120" y="44197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620120" y="457200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7772400" y="4724280"/>
                <a:ext cx="15228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7772400" y="48006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7543800" y="4114440"/>
              <a:ext cx="3808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C Example (Contingenc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6095880"/>
            <a:ext cx="457200" cy="0"/>
          </a:xfrm>
          <a:prstGeom prst="line">
            <a:avLst/>
          </a:prstGeom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5943600"/>
            <a:ext cx="761760" cy="0"/>
          </a:xfrm>
          <a:prstGeom prst="line">
            <a:avLst/>
          </a:prstGeom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43000" y="6400800"/>
            <a:ext cx="457200" cy="0"/>
          </a:xfrm>
          <a:prstGeom prst="line">
            <a:avLst/>
          </a:prstGeom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90720" y="6248520"/>
            <a:ext cx="761760" cy="0"/>
          </a:xfrm>
          <a:prstGeom prst="line">
            <a:avLst/>
          </a:prstGeom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67040" y="575640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+10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10800000">
            <a:off x="7248240" y="55627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1905120"/>
            <a:ext cx="0" cy="4038480"/>
          </a:xfrm>
          <a:prstGeom prst="line">
            <a:avLst/>
          </a:prstGeom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371600" y="1752120"/>
            <a:ext cx="6400800" cy="305280"/>
            <a:chOff x="1371600" y="1752120"/>
            <a:chExt cx="6400800" cy="305280"/>
          </a:xfrm>
        </p:grpSpPr>
        <p:sp>
          <p:nvSpPr>
            <p:cNvPr id="210" name=""/>
            <p:cNvSpPr/>
            <p:nvPr/>
          </p:nvSpPr>
          <p:spPr>
            <a:xfrm>
              <a:off x="1371600" y="1905120"/>
              <a:ext cx="2895480" cy="0"/>
            </a:xfrm>
            <a:prstGeom prst="line">
              <a:avLst/>
            </a:prstGeom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4267080" y="1752120"/>
              <a:ext cx="609480" cy="305280"/>
              <a:chOff x="4267080" y="1752120"/>
              <a:chExt cx="609480" cy="305280"/>
            </a:xfrm>
          </p:grpSpPr>
          <p:sp>
            <p:nvSpPr>
              <p:cNvPr id="212" name=""/>
              <p:cNvSpPr/>
              <p:nvPr/>
            </p:nvSpPr>
            <p:spPr>
              <a:xfrm>
                <a:off x="4267080" y="1905120"/>
                <a:ext cx="75960" cy="152280"/>
              </a:xfrm>
              <a:prstGeom prst="line">
                <a:avLst/>
              </a:prstGeom>
              <a:ln w="93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V="1">
                <a:off x="4343040" y="1752120"/>
                <a:ext cx="152640" cy="304920"/>
              </a:xfrm>
              <a:prstGeom prst="line">
                <a:avLst/>
              </a:prstGeom>
              <a:ln w="93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495680" y="1752480"/>
                <a:ext cx="152280" cy="304920"/>
              </a:xfrm>
              <a:prstGeom prst="line">
                <a:avLst/>
              </a:prstGeom>
              <a:ln w="93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>
                <a:off x="4647960" y="1752120"/>
                <a:ext cx="152280" cy="304920"/>
              </a:xfrm>
              <a:prstGeom prst="line">
                <a:avLst/>
              </a:prstGeom>
              <a:ln w="93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00240" y="1752480"/>
                <a:ext cx="76320" cy="152640"/>
              </a:xfrm>
              <a:prstGeom prst="line">
                <a:avLst/>
              </a:prstGeom>
              <a:ln w="93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876920" y="1905120"/>
              <a:ext cx="2895480" cy="0"/>
            </a:xfrm>
            <a:prstGeom prst="line">
              <a:avLst/>
            </a:prstGeom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4866120" y="1787400"/>
            <a:ext cx="114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3399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=50</a:t>
            </a:r>
            <a:r>
              <a:rPr b="0" lang="en-US" sz="2400" spc="-1" strike="noStrike">
                <a:solidFill>
                  <a:srgbClr val="ff3399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1371600" y="2209320"/>
            <a:ext cx="6400800" cy="305280"/>
            <a:chOff x="1371600" y="2209320"/>
            <a:chExt cx="6400800" cy="305280"/>
          </a:xfrm>
        </p:grpSpPr>
        <p:sp>
          <p:nvSpPr>
            <p:cNvPr id="220" name=""/>
            <p:cNvSpPr/>
            <p:nvPr/>
          </p:nvSpPr>
          <p:spPr>
            <a:xfrm>
              <a:off x="1371600" y="2362320"/>
              <a:ext cx="2895480" cy="0"/>
            </a:xfrm>
            <a:prstGeom prst="line">
              <a:avLst/>
            </a:prstGeom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4267080" y="2209320"/>
              <a:ext cx="609480" cy="305280"/>
              <a:chOff x="4267080" y="2209320"/>
              <a:chExt cx="609480" cy="305280"/>
            </a:xfrm>
          </p:grpSpPr>
          <p:sp>
            <p:nvSpPr>
              <p:cNvPr id="222" name=""/>
              <p:cNvSpPr/>
              <p:nvPr/>
            </p:nvSpPr>
            <p:spPr>
              <a:xfrm>
                <a:off x="4267080" y="2362320"/>
                <a:ext cx="75960" cy="152280"/>
              </a:xfrm>
              <a:prstGeom prst="line">
                <a:avLst/>
              </a:prstGeom>
              <a:ln w="93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4343040" y="2209320"/>
                <a:ext cx="152640" cy="304920"/>
              </a:xfrm>
              <a:prstGeom prst="line">
                <a:avLst/>
              </a:prstGeom>
              <a:ln w="93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495680" y="2209680"/>
                <a:ext cx="152280" cy="304920"/>
              </a:xfrm>
              <a:prstGeom prst="line">
                <a:avLst/>
              </a:prstGeom>
              <a:ln w="93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>
                <a:off x="4647960" y="2209320"/>
                <a:ext cx="152280" cy="304920"/>
              </a:xfrm>
              <a:prstGeom prst="line">
                <a:avLst/>
              </a:prstGeom>
              <a:ln w="93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800240" y="2209680"/>
                <a:ext cx="76320" cy="152640"/>
              </a:xfrm>
              <a:prstGeom prst="line">
                <a:avLst/>
              </a:prstGeom>
              <a:ln w="93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4876920" y="2362320"/>
              <a:ext cx="2895480" cy="0"/>
            </a:xfrm>
            <a:prstGeom prst="line">
              <a:avLst/>
            </a:prstGeom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4866120" y="2244600"/>
            <a:ext cx="114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3399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=50</a:t>
            </a:r>
            <a:r>
              <a:rPr b="0" lang="en-US" sz="2400" spc="-1" strike="noStrike">
                <a:solidFill>
                  <a:srgbClr val="ff3399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371600" y="3123720"/>
            <a:ext cx="6400800" cy="305280"/>
            <a:chOff x="1371600" y="3123720"/>
            <a:chExt cx="6400800" cy="305280"/>
          </a:xfrm>
        </p:grpSpPr>
        <p:sp>
          <p:nvSpPr>
            <p:cNvPr id="230" name=""/>
            <p:cNvSpPr/>
            <p:nvPr/>
          </p:nvSpPr>
          <p:spPr>
            <a:xfrm>
              <a:off x="1371600" y="3276720"/>
              <a:ext cx="2895480" cy="0"/>
            </a:xfrm>
            <a:prstGeom prst="line">
              <a:avLst/>
            </a:prstGeom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4267080" y="3123720"/>
              <a:ext cx="609480" cy="305280"/>
              <a:chOff x="4267080" y="3123720"/>
              <a:chExt cx="609480" cy="305280"/>
            </a:xfrm>
          </p:grpSpPr>
          <p:sp>
            <p:nvSpPr>
              <p:cNvPr id="232" name=""/>
              <p:cNvSpPr/>
              <p:nvPr/>
            </p:nvSpPr>
            <p:spPr>
              <a:xfrm>
                <a:off x="4267080" y="3276720"/>
                <a:ext cx="75960" cy="152280"/>
              </a:xfrm>
              <a:prstGeom prst="line">
                <a:avLst/>
              </a:prstGeom>
              <a:ln w="93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4343040" y="3123720"/>
                <a:ext cx="152640" cy="304920"/>
              </a:xfrm>
              <a:prstGeom prst="line">
                <a:avLst/>
              </a:prstGeom>
              <a:ln w="93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495680" y="3124080"/>
                <a:ext cx="152280" cy="304920"/>
              </a:xfrm>
              <a:prstGeom prst="line">
                <a:avLst/>
              </a:prstGeom>
              <a:ln w="93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4647960" y="3123720"/>
                <a:ext cx="152280" cy="304920"/>
              </a:xfrm>
              <a:prstGeom prst="line">
                <a:avLst/>
              </a:prstGeom>
              <a:ln w="93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00240" y="3124080"/>
                <a:ext cx="76320" cy="152640"/>
              </a:xfrm>
              <a:prstGeom prst="line">
                <a:avLst/>
              </a:prstGeom>
              <a:ln w="93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4876920" y="3276720"/>
              <a:ext cx="2895480" cy="0"/>
            </a:xfrm>
            <a:prstGeom prst="line">
              <a:avLst/>
            </a:prstGeom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4866120" y="3159000"/>
            <a:ext cx="114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3399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=50</a:t>
            </a:r>
            <a:r>
              <a:rPr b="0" lang="en-US" sz="2400" spc="-1" strike="noStrike">
                <a:solidFill>
                  <a:srgbClr val="ff3399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71600" y="3809880"/>
            <a:ext cx="2895480" cy="0"/>
          </a:xfrm>
          <a:prstGeom prst="line">
            <a:avLst/>
          </a:prstGeom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267080" y="3657240"/>
            <a:ext cx="609480" cy="305280"/>
            <a:chOff x="4267080" y="3657240"/>
            <a:chExt cx="609480" cy="305280"/>
          </a:xfrm>
        </p:grpSpPr>
        <p:sp>
          <p:nvSpPr>
            <p:cNvPr id="241" name=""/>
            <p:cNvSpPr/>
            <p:nvPr/>
          </p:nvSpPr>
          <p:spPr>
            <a:xfrm>
              <a:off x="4267080" y="3810240"/>
              <a:ext cx="75960" cy="152280"/>
            </a:xfrm>
            <a:prstGeom prst="line">
              <a:avLst/>
            </a:prstGeom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4343040" y="3657240"/>
              <a:ext cx="152640" cy="304920"/>
            </a:xfrm>
            <a:prstGeom prst="line">
              <a:avLst/>
            </a:prstGeom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95680" y="3657600"/>
              <a:ext cx="152280" cy="304920"/>
            </a:xfrm>
            <a:prstGeom prst="line">
              <a:avLst/>
            </a:prstGeom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4647960" y="3657240"/>
              <a:ext cx="152280" cy="304920"/>
            </a:xfrm>
            <a:prstGeom prst="line">
              <a:avLst/>
            </a:prstGeom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00240" y="3657600"/>
              <a:ext cx="76320" cy="152640"/>
            </a:xfrm>
            <a:prstGeom prst="line">
              <a:avLst/>
            </a:prstGeom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4876920" y="3809880"/>
            <a:ext cx="2895480" cy="0"/>
          </a:xfrm>
          <a:prstGeom prst="line">
            <a:avLst/>
          </a:prstGeom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866120" y="3692520"/>
            <a:ext cx="114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3399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=50</a:t>
            </a:r>
            <a:r>
              <a:rPr b="0" lang="en-US" sz="2400" spc="-1" strike="noStrike">
                <a:solidFill>
                  <a:srgbClr val="ff3399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760200" y="4191120"/>
            <a:ext cx="163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3399"/>
                </a:solidFill>
                <a:latin typeface="Times New Roman"/>
              </a:rPr>
              <a:t>total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=12.5</a:t>
            </a:r>
            <a:r>
              <a:rPr b="0" lang="en-US" sz="2400" spc="-1" strike="noStrike">
                <a:solidFill>
                  <a:srgbClr val="ff3399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968440" y="4343400"/>
            <a:ext cx="1550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3399"/>
                </a:solidFill>
                <a:latin typeface="Times New Roman"/>
              </a:rPr>
              <a:t>load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 = 20</a:t>
            </a:r>
            <a:r>
              <a:rPr b="0" lang="en-US" sz="2400" spc="-1" strike="noStrike">
                <a:solidFill>
                  <a:srgbClr val="ff3399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7543800" y="1905120"/>
            <a:ext cx="380880" cy="3657600"/>
            <a:chOff x="7543800" y="1905120"/>
            <a:chExt cx="380880" cy="3657600"/>
          </a:xfrm>
        </p:grpSpPr>
        <p:sp>
          <p:nvSpPr>
            <p:cNvPr id="251" name=""/>
            <p:cNvSpPr/>
            <p:nvPr/>
          </p:nvSpPr>
          <p:spPr>
            <a:xfrm flipV="1">
              <a:off x="7772400" y="1905120"/>
              <a:ext cx="0" cy="2286000"/>
            </a:xfrm>
            <a:prstGeom prst="line">
              <a:avLst/>
            </a:prstGeom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7620120" y="4191120"/>
              <a:ext cx="304560" cy="609480"/>
              <a:chOff x="7620120" y="4191120"/>
              <a:chExt cx="304560" cy="609480"/>
            </a:xfrm>
          </p:grpSpPr>
          <p:sp>
            <p:nvSpPr>
              <p:cNvPr id="253" name=""/>
              <p:cNvSpPr/>
              <p:nvPr/>
            </p:nvSpPr>
            <p:spPr>
              <a:xfrm flipH="1">
                <a:off x="7620480" y="4191120"/>
                <a:ext cx="151920" cy="75960"/>
              </a:xfrm>
              <a:prstGeom prst="line">
                <a:avLst/>
              </a:prstGeom>
              <a:ln w="93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620120" y="4267080"/>
                <a:ext cx="304560" cy="152640"/>
              </a:xfrm>
              <a:prstGeom prst="line">
                <a:avLst/>
              </a:prstGeom>
              <a:ln w="93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7620120" y="4419720"/>
                <a:ext cx="304560" cy="152280"/>
              </a:xfrm>
              <a:prstGeom prst="line">
                <a:avLst/>
              </a:prstGeom>
              <a:ln w="93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620120" y="4572000"/>
                <a:ext cx="304560" cy="152280"/>
              </a:xfrm>
              <a:prstGeom prst="line">
                <a:avLst/>
              </a:prstGeom>
              <a:ln w="93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7772400" y="4724280"/>
                <a:ext cx="152280" cy="76320"/>
              </a:xfrm>
              <a:prstGeom prst="line">
                <a:avLst/>
              </a:prstGeom>
              <a:ln w="93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7772400" y="4800600"/>
              <a:ext cx="0" cy="762120"/>
            </a:xfrm>
            <a:prstGeom prst="line">
              <a:avLst/>
            </a:prstGeom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7543800" y="4114440"/>
              <a:ext cx="380880" cy="762120"/>
            </a:xfrm>
            <a:prstGeom prst="line">
              <a:avLst/>
            </a:prstGeom>
            <a:ln w="9360">
              <a:solidFill>
                <a:srgbClr val="ff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C Example Conting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914400" y="1676520"/>
          <a:ext cx="7238880" cy="4451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676520"/>
                    <a:ext cx="7238880" cy="44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 flipV="1">
            <a:off x="5410080" y="182844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rther Voltage/Reactive Conce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0769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to Turn on Capaci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tage Collap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tage Stability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2"/>
          <a:srcRect l="0" t="9052" r="34885" b="34246"/>
          <a:stretch/>
        </p:blipFill>
        <p:spPr>
          <a:xfrm>
            <a:off x="934920" y="1085760"/>
            <a:ext cx="727236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2"/>
          <a:srcRect l="0" t="8261" r="34416" b="31130"/>
          <a:stretch/>
        </p:blipFill>
        <p:spPr>
          <a:xfrm>
            <a:off x="1162080" y="1623960"/>
            <a:ext cx="681840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 Case is Simi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se point higher than 0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ctive Power plays a Large R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aci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ctive Capability of 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ctive Consumption of Transmission 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 Example (Baseca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2280" y="2057400"/>
            <a:ext cx="2133720" cy="3886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781680" y="2057400"/>
            <a:ext cx="2133720" cy="3886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828800" y="2438280"/>
            <a:ext cx="541008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828800" y="5562720"/>
            <a:ext cx="541008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33720" y="3048120"/>
            <a:ext cx="480060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133720" y="5029200"/>
            <a:ext cx="48765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286000" y="3962520"/>
            <a:ext cx="449568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207520" y="3352680"/>
            <a:ext cx="47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 kV, 250km, 0.3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km Re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09160" y="4032360"/>
            <a:ext cx="17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267440" y="4343400"/>
            <a:ext cx="9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 Example (Contingenc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2280" y="2057400"/>
            <a:ext cx="2133720" cy="3886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781680" y="2057400"/>
            <a:ext cx="2133720" cy="3886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828800" y="2438280"/>
            <a:ext cx="541008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828800" y="5562720"/>
            <a:ext cx="541008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133720" y="3048120"/>
            <a:ext cx="480060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133720" y="5029200"/>
            <a:ext cx="48765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207520" y="3352680"/>
            <a:ext cx="47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 kV, 250km, 0.3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km Re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09160" y="3809880"/>
            <a:ext cx="17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267440" y="4343400"/>
            <a:ext cx="9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"/>
          <p:cNvGraphicFramePr/>
          <p:nvPr/>
        </p:nvGraphicFramePr>
        <p:xfrm>
          <a:off x="762120" y="1447920"/>
          <a:ext cx="7391160" cy="483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447920"/>
                    <a:ext cx="7391160" cy="48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ltage vs. Load for simple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pacitors can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tter if at load 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icult/impossible to transmit 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nose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loads possible w/o voltage collap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 system more “brittl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s nose point to higher volt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ld collapse at 1 pu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slide shows the addition of 6000MVAr capacitor to 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4" name=""/>
          <p:cNvGraphicFramePr/>
          <p:nvPr/>
        </p:nvGraphicFramePr>
        <p:xfrm>
          <a:off x="762120" y="1219320"/>
          <a:ext cx="7696080" cy="5033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219320"/>
                    <a:ext cx="7696080" cy="50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 flipH="1">
            <a:off x="3047760" y="2286000"/>
            <a:ext cx="15238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981080" y="3581280"/>
            <a:ext cx="2286000" cy="304920"/>
          </a:xfrm>
          <a:custGeom>
            <a:avLst/>
            <a:gdLst/>
            <a:ahLst/>
            <a:rect l="l" t="t" r="r" b="b"/>
            <a:pathLst>
              <a:path w="1440" h="192">
                <a:moveTo>
                  <a:pt x="0" y="48"/>
                </a:moveTo>
                <a:lnTo>
                  <a:pt x="384" y="192"/>
                </a:lnTo>
                <a:lnTo>
                  <a:pt x="384" y="48"/>
                </a:lnTo>
                <a:lnTo>
                  <a:pt x="672" y="192"/>
                </a:lnTo>
                <a:lnTo>
                  <a:pt x="672" y="48"/>
                </a:lnTo>
                <a:lnTo>
                  <a:pt x="912" y="192"/>
                </a:lnTo>
                <a:lnTo>
                  <a:pt x="912" y="48"/>
                </a:lnTo>
                <a:lnTo>
                  <a:pt x="1104" y="192"/>
                </a:lnTo>
                <a:lnTo>
                  <a:pt x="1104" y="48"/>
                </a:lnTo>
                <a:lnTo>
                  <a:pt x="1296" y="192"/>
                </a:lnTo>
                <a:lnTo>
                  <a:pt x="1296" y="0"/>
                </a:lnTo>
                <a:lnTo>
                  <a:pt x="1440" y="19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556520" y="1793880"/>
            <a:ext cx="263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ve with 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ks Switching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203480" y="1336680"/>
            <a:ext cx="273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Cap Banks on 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590920" y="1981080"/>
            <a:ext cx="1522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pport from Generators is Bet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 Power reduces flow over lines and reduces Reactive consum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ctive Power (VArs) boosts voltage in surrounding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ve power from generators not a function of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slide shows comparison of 6000 MVArs from the generator and 6000 MVArs from a Cap Ba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3" name=""/>
          <p:cNvGraphicFramePr/>
          <p:nvPr/>
        </p:nvGraphicFramePr>
        <p:xfrm>
          <a:off x="228600" y="838080"/>
          <a:ext cx="8610480" cy="5632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838080"/>
                    <a:ext cx="8610480" cy="56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>
            <a:off x="2209680" y="3505320"/>
            <a:ext cx="3200400" cy="380880"/>
          </a:xfrm>
          <a:custGeom>
            <a:avLst/>
            <a:gdLst/>
            <a:ahLst/>
            <a:rect l="l" t="t" r="r" b="b"/>
            <a:pathLst>
              <a:path w="1440" h="192">
                <a:moveTo>
                  <a:pt x="0" y="48"/>
                </a:moveTo>
                <a:lnTo>
                  <a:pt x="384" y="192"/>
                </a:lnTo>
                <a:lnTo>
                  <a:pt x="384" y="48"/>
                </a:lnTo>
                <a:lnTo>
                  <a:pt x="672" y="192"/>
                </a:lnTo>
                <a:lnTo>
                  <a:pt x="672" y="48"/>
                </a:lnTo>
                <a:lnTo>
                  <a:pt x="912" y="192"/>
                </a:lnTo>
                <a:lnTo>
                  <a:pt x="912" y="48"/>
                </a:lnTo>
                <a:lnTo>
                  <a:pt x="1104" y="192"/>
                </a:lnTo>
                <a:lnTo>
                  <a:pt x="1104" y="48"/>
                </a:lnTo>
                <a:lnTo>
                  <a:pt x="1296" y="192"/>
                </a:lnTo>
                <a:lnTo>
                  <a:pt x="1296" y="0"/>
                </a:lnTo>
                <a:lnTo>
                  <a:pt x="1440" y="19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905120" y="3809880"/>
            <a:ext cx="33526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3047760" y="2286000"/>
            <a:ext cx="15238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556520" y="1793880"/>
            <a:ext cx="263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ve with 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ks Switching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23320" y="1641600"/>
            <a:ext cx="297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s with AV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1 p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905120" y="2209680"/>
            <a:ext cx="7596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Turn On Capaci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0769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n Them on Close to the Load (Largest Effe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nstration Fol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54120" y="27900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intaining Safety Margi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OG 5.1.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9280" y="1661760"/>
            <a:ext cx="8070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ltage stability margin shall be sufficient to maintain post-transient voltage stability within a defined importing (Load) area under the following study condi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ak Load conditions, with import to the area increased by five percent (5%) of the forecasted area Load, and NERC Category A or B operating conditions (see NERC Table I in ERCOT Planning Criteria);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ak Load conditions, with import to the area increased by two and one half percent (2.5%) of the forecasted area Load, and NERC Category C operating condi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"/>
          <p:cNvGraphicFramePr/>
          <p:nvPr/>
        </p:nvGraphicFramePr>
        <p:xfrm>
          <a:off x="762120" y="1447920"/>
          <a:ext cx="7391160" cy="483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447920"/>
                    <a:ext cx="7391160" cy="48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fety Marg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917960" y="2276640"/>
            <a:ext cx="0" cy="34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186520" y="2276640"/>
            <a:ext cx="0" cy="337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48320" y="2276640"/>
            <a:ext cx="0" cy="337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096880" y="193680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827600" y="562464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405320" y="19368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587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er Voltage Load Shed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3520" y="1778040"/>
            <a:ext cx="8076960" cy="38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ops load if voltage goes too low (Voltage Collap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fety Net (Try not to use i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SAT (Voltage Stability Analysis Too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533520" y="3428640"/>
            <a:ext cx="80769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VSAT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685800" y="1447920"/>
            <a:ext cx="1295280" cy="127944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685800" y="2895480"/>
            <a:ext cx="1295280" cy="129240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609480" y="4495680"/>
            <a:ext cx="1447920" cy="143208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 flipV="1">
            <a:off x="304920" y="2057400"/>
            <a:ext cx="0" cy="327672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89080" y="5908680"/>
            <a:ext cx="217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Increases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5"/>
          <a:stretch/>
        </p:blipFill>
        <p:spPr>
          <a:xfrm>
            <a:off x="6705720" y="1447920"/>
            <a:ext cx="1420560" cy="135072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6"/>
          <a:stretch/>
        </p:blipFill>
        <p:spPr>
          <a:xfrm>
            <a:off x="6781680" y="3048120"/>
            <a:ext cx="924120" cy="9223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6384600" y="575640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Increases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8458200" y="1981080"/>
            <a:ext cx="0" cy="327672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438280" y="3505320"/>
            <a:ext cx="388620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59080" y="3774960"/>
            <a:ext cx="25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Increasing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VSAT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SAT stresses a system until it brea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SAT can stress a system in 4 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rease load in one area and increase generation in another (Gen-Load trans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rease generation in one area and increase it in another (Gen-Gen trans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rease load in one area and increase it in another (Load-Load trans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s contingencies (Used in all 3 types of trans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k” is defined as voltage collap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rcRect l="4812" t="7383" r="31723" b="32131"/>
          <a:stretch/>
        </p:blipFill>
        <p:spPr>
          <a:xfrm>
            <a:off x="770040" y="625320"/>
            <a:ext cx="775800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rcRect l="0" t="8660" r="34572" b="34246"/>
          <a:stretch/>
        </p:blipFill>
        <p:spPr>
          <a:xfrm>
            <a:off x="582480" y="701640"/>
            <a:ext cx="797724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rcRect l="0" t="9052" r="35821" b="34246"/>
          <a:stretch/>
        </p:blipFill>
        <p:spPr>
          <a:xfrm>
            <a:off x="923760" y="663480"/>
            <a:ext cx="7824960" cy="55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rcRect l="0" t="9439" r="35508" b="34246"/>
          <a:stretch/>
        </p:blipFill>
        <p:spPr>
          <a:xfrm>
            <a:off x="639720" y="817560"/>
            <a:ext cx="786276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rcRect l="0" t="9439" r="35821" b="34246"/>
          <a:stretch/>
        </p:blipFill>
        <p:spPr>
          <a:xfrm>
            <a:off x="658800" y="817560"/>
            <a:ext cx="782496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rcRect l="0" t="9439" r="35508" b="34246"/>
          <a:stretch/>
        </p:blipFill>
        <p:spPr>
          <a:xfrm>
            <a:off x="639720" y="549360"/>
            <a:ext cx="7862760" cy="54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16:54:56Z</dcterms:created>
  <dc:creator>Stephen Reedy</dc:creator>
  <dc:description/>
  <dc:language>en-US</dc:language>
  <cp:lastModifiedBy>vweldon</cp:lastModifiedBy>
  <dcterms:modified xsi:type="dcterms:W3CDTF">2006-03-10T14:28:24Z</dcterms:modified>
  <cp:revision>25</cp:revision>
  <dc:subject/>
  <dc:title>Slide 1</dc:title>
</cp:coreProperties>
</file>