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F820BF-A66A-44EC-87DE-FE572BD0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ion fills in the ‘gaps’ and fine tunes generation to match the current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lanation is simplified from actual frequency control systems and is intended only to help with the basic understanding of regulation control, not to be used as a reference to describe the details of ERCOT’s regulation deployment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ion does not have to be fully recalled when frequency is deviating significantly from scheduled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aRs can be dispatched using voice and those can also be used for local cong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vent was caused by a trip at a large resource – notice how RRS was immediately deployed and stayed active for over 30 minutes until frequency was stabilized around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ample is a purely hypothetical situation which illustrates how NSRS might be used. In real practice this situation is very rare – Usually after a trip balancing can be used to restore generation and relieve responsive reser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ispatch is Local Balancing Energy using an OC2 or OC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reenshot is from the Transmission and Security Desk’s RTCA program which continually checks for post contingency violations and publishes th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ample is the most famous use of ZOOME, however a zonal or portfolio (all zones) OOME is commonly used when regulation supplies are exhau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nal dispatch is the category 1 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Level Dispatch for category 2,3,4 unit specific instructions for local co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ample is based on the need for balancing energy for load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8C2-788C-46EC-BE8B-DA2058BF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745080"/>
            <a:ext cx="80010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5A9-88E3-4654-9C38-552C6D87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74508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74508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22C-DDAC-462C-9E36-2A804CC5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25712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25712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74508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74508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74508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B40-6C5F-417E-9F94-C2D853D1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D779-4240-410D-94FE-E011B2CD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8230-B944-4EB4-9324-19ED6D1E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1D02-0C4F-4934-A5BA-DF4FFB12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B3EB-859E-44D2-9955-ED17180C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7F71-8C03-4B46-ABD6-43620A71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560" y="38160"/>
            <a:ext cx="719784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CA90-A923-467C-849C-79ACED4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74508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C2E6-0F25-437A-BA79-1F989C2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962-CC60-41DF-B25A-8DE28EE5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74508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EB98-CB4C-4F91-8B18-1AF5FB93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745080"/>
            <a:ext cx="80010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4656-EE8F-469C-A008-59E5F7A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745080"/>
            <a:ext cx="80010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6785-6892-412B-B37C-83493BC7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74508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74508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2CB9-BD25-4D1A-A7B6-DEF125D7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25712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25712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74508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74508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745080"/>
            <a:ext cx="257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4A15-39B5-41C2-AA66-A1FC07CF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AAF-6E57-4E8E-B88F-83C5F05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290-22F4-4DA7-9D9A-F91CE99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ADA-81B1-44E1-ABFE-7072586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560" y="38160"/>
            <a:ext cx="719784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040-9406-45C7-A9CE-BEC36535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74508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F57-AAEA-472A-9B7A-429017A6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74508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0EB-22F9-4028-A48D-EFBFAE6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257120"/>
            <a:ext cx="39042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745080"/>
            <a:ext cx="80010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D7F-9638-4560-9605-A2AA349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6180120"/>
            <a:ext cx="1676520" cy="677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05040"/>
            <a:ext cx="7958160" cy="1425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095520" y="6381360"/>
            <a:ext cx="2057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271-0234-4333-8816-BC478483E8C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676520" y="638136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152920" y="6381360"/>
            <a:ext cx="381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4A3-E679-4792-B756-B36FE50CFE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6180120"/>
            <a:ext cx="1676520" cy="677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54360"/>
            <a:ext cx="7772400" cy="1346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248520" y="640080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7190-B185-420F-907B-ED6FF92E1B2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752480" y="64008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9246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97D5-88C7-4158-9006-02D2DB0DD1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bwhittle@ercot.com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liability Management with Ancillary Service Deploy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nu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 Operations Training Semin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ch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pril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90D2-EAB6-436F-99DB-B0F1BC3D2BC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B9B38C1-195D-4A4C-920A-B26EE4CFD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Regulation Dow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ice which lowers power output in Resources to control system frequ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RT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second interv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folio-wide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EFD-3D51-4FBC-9406-6D7D8F7A76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12DC8-7030-4DE7-80E3-A12DF46808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Regulation Up &amp; Down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40240" y="2192400"/>
            <a:ext cx="5249520" cy="3763800"/>
            <a:chOff x="1740240" y="2192400"/>
            <a:chExt cx="5249520" cy="3763800"/>
          </a:xfrm>
        </p:grpSpPr>
        <p:sp>
          <p:nvSpPr>
            <p:cNvPr id="158" name=""/>
            <p:cNvSpPr/>
            <p:nvPr/>
          </p:nvSpPr>
          <p:spPr>
            <a:xfrm>
              <a:off x="2441520" y="2301840"/>
              <a:ext cx="1440" cy="353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81040" y="583560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81040" y="532908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1040" y="482256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81040" y="431640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81040" y="382104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81040" y="331452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81040" y="28080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1040" y="230184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41520" y="5835600"/>
              <a:ext cx="45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40240" y="57276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7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40240" y="522108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8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40240" y="471492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8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40240" y="42066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9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40240" y="371304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9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40240" y="320652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40240" y="270036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40240" y="21924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14600" y="3301920"/>
            <a:ext cx="4403880" cy="941400"/>
          </a:xfrm>
          <a:custGeom>
            <a:avLst/>
            <a:gdLst/>
            <a:ahLst/>
            <a:rect l="l" t="t" r="r" b="b"/>
            <a:pathLst>
              <a:path w="365" h="78">
                <a:moveTo>
                  <a:pt x="0" y="78"/>
                </a:moveTo>
                <a:lnTo>
                  <a:pt x="13" y="75"/>
                </a:lnTo>
                <a:lnTo>
                  <a:pt x="25" y="73"/>
                </a:lnTo>
                <a:lnTo>
                  <a:pt x="38" y="70"/>
                </a:lnTo>
                <a:lnTo>
                  <a:pt x="51" y="67"/>
                </a:lnTo>
                <a:lnTo>
                  <a:pt x="63" y="63"/>
                </a:lnTo>
                <a:lnTo>
                  <a:pt x="76" y="58"/>
                </a:lnTo>
                <a:lnTo>
                  <a:pt x="88" y="53"/>
                </a:lnTo>
                <a:lnTo>
                  <a:pt x="101" y="51"/>
                </a:lnTo>
                <a:lnTo>
                  <a:pt x="113" y="47"/>
                </a:lnTo>
                <a:lnTo>
                  <a:pt x="126" y="44"/>
                </a:lnTo>
                <a:lnTo>
                  <a:pt x="139" y="41"/>
                </a:lnTo>
                <a:lnTo>
                  <a:pt x="151" y="43"/>
                </a:lnTo>
                <a:lnTo>
                  <a:pt x="164" y="41"/>
                </a:lnTo>
                <a:lnTo>
                  <a:pt x="176" y="41"/>
                </a:lnTo>
                <a:lnTo>
                  <a:pt x="189" y="41"/>
                </a:lnTo>
                <a:lnTo>
                  <a:pt x="201" y="40"/>
                </a:lnTo>
                <a:lnTo>
                  <a:pt x="214" y="40"/>
                </a:lnTo>
                <a:lnTo>
                  <a:pt x="226" y="37"/>
                </a:lnTo>
                <a:lnTo>
                  <a:pt x="239" y="29"/>
                </a:lnTo>
                <a:lnTo>
                  <a:pt x="252" y="24"/>
                </a:lnTo>
                <a:lnTo>
                  <a:pt x="264" y="17"/>
                </a:lnTo>
                <a:lnTo>
                  <a:pt x="277" y="10"/>
                </a:lnTo>
                <a:lnTo>
                  <a:pt x="289" y="10"/>
                </a:lnTo>
                <a:lnTo>
                  <a:pt x="302" y="12"/>
                </a:lnTo>
                <a:lnTo>
                  <a:pt x="314" y="11"/>
                </a:lnTo>
                <a:lnTo>
                  <a:pt x="327" y="10"/>
                </a:lnTo>
                <a:lnTo>
                  <a:pt x="340" y="6"/>
                </a:lnTo>
                <a:lnTo>
                  <a:pt x="352" y="0"/>
                </a:lnTo>
                <a:lnTo>
                  <a:pt x="365" y="3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54360" y="1876320"/>
            <a:ext cx="290520" cy="1800"/>
          </a:xfrm>
          <a:prstGeom prst="line">
            <a:avLst/>
          </a:prstGeom>
          <a:ln w="36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89160" y="1766880"/>
            <a:ext cx="122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ad Foreca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514600" y="2057400"/>
            <a:ext cx="4403520" cy="2765160"/>
            <a:chOff x="2514600" y="2057400"/>
            <a:chExt cx="4403520" cy="2765160"/>
          </a:xfrm>
        </p:grpSpPr>
        <p:sp>
          <p:nvSpPr>
            <p:cNvPr id="180" name=""/>
            <p:cNvSpPr/>
            <p:nvPr/>
          </p:nvSpPr>
          <p:spPr>
            <a:xfrm>
              <a:off x="2514600" y="2808000"/>
              <a:ext cx="4403520" cy="2014560"/>
            </a:xfrm>
            <a:custGeom>
              <a:avLst/>
              <a:gdLst/>
              <a:ahLst/>
              <a:rect l="l" t="t" r="r" b="b"/>
              <a:pathLst>
                <a:path w="365" h="167">
                  <a:moveTo>
                    <a:pt x="0" y="167"/>
                  </a:moveTo>
                  <a:lnTo>
                    <a:pt x="13" y="167"/>
                  </a:lnTo>
                  <a:lnTo>
                    <a:pt x="25" y="167"/>
                  </a:lnTo>
                  <a:lnTo>
                    <a:pt x="38" y="167"/>
                  </a:lnTo>
                  <a:lnTo>
                    <a:pt x="51" y="167"/>
                  </a:lnTo>
                  <a:lnTo>
                    <a:pt x="63" y="167"/>
                  </a:lnTo>
                  <a:lnTo>
                    <a:pt x="76" y="167"/>
                  </a:lnTo>
                  <a:lnTo>
                    <a:pt x="88" y="167"/>
                  </a:lnTo>
                  <a:lnTo>
                    <a:pt x="101" y="167"/>
                  </a:lnTo>
                  <a:lnTo>
                    <a:pt x="113" y="167"/>
                  </a:lnTo>
                  <a:lnTo>
                    <a:pt x="126" y="167"/>
                  </a:lnTo>
                  <a:lnTo>
                    <a:pt x="139" y="167"/>
                  </a:lnTo>
                  <a:lnTo>
                    <a:pt x="151" y="167"/>
                  </a:lnTo>
                  <a:lnTo>
                    <a:pt x="164" y="167"/>
                  </a:lnTo>
                  <a:lnTo>
                    <a:pt x="176" y="167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9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2" y="0"/>
                  </a:lnTo>
                  <a:lnTo>
                    <a:pt x="314" y="0"/>
                  </a:lnTo>
                  <a:lnTo>
                    <a:pt x="327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65" y="0"/>
                  </a:lnTo>
                </a:path>
              </a:pathLst>
            </a:custGeom>
            <a:noFill/>
            <a:ln w="36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4360" y="2165400"/>
              <a:ext cx="290520" cy="1440"/>
            </a:xfrm>
            <a:prstGeom prst="line">
              <a:avLst/>
            </a:prstGeom>
            <a:ln w="36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89880" y="2057400"/>
              <a:ext cx="145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ergy Schedu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14600" y="2346480"/>
            <a:ext cx="4403520" cy="1618560"/>
            <a:chOff x="2514600" y="2346480"/>
            <a:chExt cx="4403520" cy="1618560"/>
          </a:xfrm>
        </p:grpSpPr>
        <p:sp>
          <p:nvSpPr>
            <p:cNvPr id="184" name=""/>
            <p:cNvSpPr/>
            <p:nvPr/>
          </p:nvSpPr>
          <p:spPr>
            <a:xfrm>
              <a:off x="2514600" y="3508200"/>
              <a:ext cx="4403520" cy="45684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0" y="38"/>
                  </a:moveTo>
                  <a:lnTo>
                    <a:pt x="13" y="38"/>
                  </a:lnTo>
                  <a:lnTo>
                    <a:pt x="25" y="38"/>
                  </a:lnTo>
                  <a:lnTo>
                    <a:pt x="38" y="38"/>
                  </a:lnTo>
                  <a:lnTo>
                    <a:pt x="51" y="38"/>
                  </a:lnTo>
                  <a:lnTo>
                    <a:pt x="63" y="38"/>
                  </a:lnTo>
                  <a:lnTo>
                    <a:pt x="76" y="38"/>
                  </a:lnTo>
                  <a:lnTo>
                    <a:pt x="88" y="38"/>
                  </a:lnTo>
                  <a:lnTo>
                    <a:pt x="101" y="38"/>
                  </a:lnTo>
                  <a:lnTo>
                    <a:pt x="113" y="38"/>
                  </a:lnTo>
                  <a:lnTo>
                    <a:pt x="126" y="38"/>
                  </a:lnTo>
                  <a:lnTo>
                    <a:pt x="139" y="38"/>
                  </a:lnTo>
                  <a:lnTo>
                    <a:pt x="151" y="38"/>
                  </a:lnTo>
                  <a:lnTo>
                    <a:pt x="164" y="38"/>
                  </a:lnTo>
                  <a:lnTo>
                    <a:pt x="176" y="38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9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2" y="0"/>
                  </a:lnTo>
                  <a:lnTo>
                    <a:pt x="314" y="0"/>
                  </a:lnTo>
                  <a:lnTo>
                    <a:pt x="327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65" y="0"/>
                  </a:lnTo>
                </a:path>
              </a:pathLst>
            </a:custGeom>
            <a:noFill/>
            <a:ln w="36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54360" y="2455560"/>
              <a:ext cx="290520" cy="1440"/>
            </a:xfrm>
            <a:prstGeom prst="line">
              <a:avLst/>
            </a:prstGeom>
            <a:ln w="36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88800" y="2346480"/>
              <a:ext cx="216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edules and Balanc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4724280" y="26668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5410080"/>
            <a:ext cx="104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5280" y="5410080"/>
            <a:ext cx="108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35440" y="3525840"/>
            <a:ext cx="890640" cy="249120"/>
          </a:xfrm>
          <a:custGeom>
            <a:avLst/>
            <a:gdLst/>
            <a:ahLst/>
            <a:rect l="l" t="t" r="r" b="b"/>
            <a:pathLst>
              <a:path w="561" h="153">
                <a:moveTo>
                  <a:pt x="225" y="148"/>
                </a:moveTo>
                <a:lnTo>
                  <a:pt x="311" y="129"/>
                </a:lnTo>
                <a:lnTo>
                  <a:pt x="402" y="72"/>
                </a:lnTo>
                <a:lnTo>
                  <a:pt x="506" y="31"/>
                </a:lnTo>
                <a:lnTo>
                  <a:pt x="561" y="1"/>
                </a:lnTo>
                <a:lnTo>
                  <a:pt x="47" y="0"/>
                </a:lnTo>
                <a:lnTo>
                  <a:pt x="0" y="120"/>
                </a:lnTo>
                <a:lnTo>
                  <a:pt x="0" y="153"/>
                </a:lnTo>
                <a:lnTo>
                  <a:pt x="56" y="153"/>
                </a:lnTo>
                <a:lnTo>
                  <a:pt x="113" y="148"/>
                </a:lnTo>
                <a:lnTo>
                  <a:pt x="225" y="148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920" y="3981600"/>
            <a:ext cx="914400" cy="242640"/>
          </a:xfrm>
          <a:custGeom>
            <a:avLst/>
            <a:gdLst/>
            <a:ahLst/>
            <a:rect l="l" t="t" r="r" b="b"/>
            <a:pathLst>
              <a:path w="576" h="153">
                <a:moveTo>
                  <a:pt x="3" y="0"/>
                </a:moveTo>
                <a:lnTo>
                  <a:pt x="576" y="0"/>
                </a:lnTo>
                <a:lnTo>
                  <a:pt x="480" y="36"/>
                </a:lnTo>
                <a:lnTo>
                  <a:pt x="386" y="71"/>
                </a:lnTo>
                <a:lnTo>
                  <a:pt x="183" y="117"/>
                </a:lnTo>
                <a:lnTo>
                  <a:pt x="104" y="129"/>
                </a:lnTo>
                <a:lnTo>
                  <a:pt x="0" y="153"/>
                </a:lnTo>
                <a:lnTo>
                  <a:pt x="3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70200" y="3814920"/>
            <a:ext cx="997200" cy="133200"/>
          </a:xfrm>
          <a:custGeom>
            <a:avLst/>
            <a:gdLst/>
            <a:ahLst/>
            <a:rect l="l" t="t" r="r" b="b"/>
            <a:pathLst>
              <a:path w="628" h="84">
                <a:moveTo>
                  <a:pt x="628" y="2"/>
                </a:moveTo>
                <a:lnTo>
                  <a:pt x="601" y="84"/>
                </a:lnTo>
                <a:lnTo>
                  <a:pt x="0" y="84"/>
                </a:lnTo>
                <a:lnTo>
                  <a:pt x="45" y="75"/>
                </a:lnTo>
                <a:lnTo>
                  <a:pt x="127" y="47"/>
                </a:lnTo>
                <a:lnTo>
                  <a:pt x="328" y="2"/>
                </a:lnTo>
                <a:lnTo>
                  <a:pt x="418" y="15"/>
                </a:lnTo>
                <a:lnTo>
                  <a:pt x="514" y="0"/>
                </a:lnTo>
                <a:lnTo>
                  <a:pt x="628" y="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72240" y="3319560"/>
            <a:ext cx="1143000" cy="171360"/>
          </a:xfrm>
          <a:custGeom>
            <a:avLst/>
            <a:gdLst/>
            <a:ahLst/>
            <a:rect l="l" t="t" r="r" b="b"/>
            <a:pathLst>
              <a:path w="720" h="108">
                <a:moveTo>
                  <a:pt x="0" y="107"/>
                </a:moveTo>
                <a:lnTo>
                  <a:pt x="56" y="77"/>
                </a:lnTo>
                <a:lnTo>
                  <a:pt x="143" y="77"/>
                </a:lnTo>
                <a:lnTo>
                  <a:pt x="243" y="90"/>
                </a:lnTo>
                <a:lnTo>
                  <a:pt x="432" y="77"/>
                </a:lnTo>
                <a:lnTo>
                  <a:pt x="537" y="45"/>
                </a:lnTo>
                <a:lnTo>
                  <a:pt x="627" y="0"/>
                </a:lnTo>
                <a:lnTo>
                  <a:pt x="720" y="23"/>
                </a:lnTo>
                <a:lnTo>
                  <a:pt x="720" y="108"/>
                </a:lnTo>
                <a:lnTo>
                  <a:pt x="0" y="107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2800" y="1795320"/>
            <a:ext cx="1794960" cy="228600"/>
            <a:chOff x="5392800" y="1795320"/>
            <a:chExt cx="1794960" cy="228600"/>
          </a:xfrm>
        </p:grpSpPr>
        <p:sp>
          <p:nvSpPr>
            <p:cNvPr id="195" name=""/>
            <p:cNvSpPr/>
            <p:nvPr/>
          </p:nvSpPr>
          <p:spPr>
            <a:xfrm>
              <a:off x="5392800" y="1905120"/>
              <a:ext cx="290520" cy="1440"/>
            </a:xfrm>
            <a:prstGeom prst="line">
              <a:avLst/>
            </a:prstGeom>
            <a:ln w="36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30120" y="1795320"/>
              <a:ext cx="145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gulation Dow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392800" y="2328840"/>
            <a:ext cx="1607760" cy="228600"/>
            <a:chOff x="5392800" y="2328840"/>
            <a:chExt cx="1607760" cy="228600"/>
          </a:xfrm>
        </p:grpSpPr>
        <p:sp>
          <p:nvSpPr>
            <p:cNvPr id="198" name=""/>
            <p:cNvSpPr/>
            <p:nvPr/>
          </p:nvSpPr>
          <p:spPr>
            <a:xfrm>
              <a:off x="5392800" y="2467080"/>
              <a:ext cx="290520" cy="1440"/>
            </a:xfrm>
            <a:prstGeom prst="line">
              <a:avLst/>
            </a:prstGeom>
            <a:ln w="36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86640" y="232884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gulation 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1E7-4406-4FD5-85DE-C56CAF1DD12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E1712-DEB2-4572-8723-AB86CEE314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3314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gulation Process – Simplifie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2200" y="1546200"/>
          <a:ext cx="8326440" cy="18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200" y="1546200"/>
                    <a:ext cx="83264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66640" y="3705120"/>
            <a:ext cx="834876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2360" y="3419640"/>
            <a:ext cx="87584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E used by ERCOT and used here is not the same as the NERC ACE definition which includes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ulation usually must be recalled before switching dir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E represents how many MWs it would take to restore scheduled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s adjust the dispatch to ‘smooth’ the deployments and reduce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as and Filters are tuned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AB0-C094-4813-AC45-293D282027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5A516-3D2A-49E8-94F0-2A9584035C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Responsive Reserv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123920"/>
            <a:ext cx="8434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rves to restore frequency within the first few minutes of an event that causes a significant frequency dev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responder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ion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patched using RTU 4 second interv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folio-wide dispat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patched via UFR or VD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ource-specific (UFR, VDI) or Portfolio wide (V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410-5158-4FA0-BD57-079E2C4E4A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019E4-656D-49DF-B602-CB64DECE59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72240" y="3319560"/>
            <a:ext cx="1143000" cy="171360"/>
          </a:xfrm>
          <a:custGeom>
            <a:avLst/>
            <a:gdLst/>
            <a:ahLst/>
            <a:rect l="l" t="t" r="r" b="b"/>
            <a:pathLst>
              <a:path w="720" h="108">
                <a:moveTo>
                  <a:pt x="0" y="107"/>
                </a:moveTo>
                <a:lnTo>
                  <a:pt x="56" y="77"/>
                </a:lnTo>
                <a:lnTo>
                  <a:pt x="143" y="77"/>
                </a:lnTo>
                <a:lnTo>
                  <a:pt x="243" y="90"/>
                </a:lnTo>
                <a:lnTo>
                  <a:pt x="432" y="77"/>
                </a:lnTo>
                <a:lnTo>
                  <a:pt x="537" y="45"/>
                </a:lnTo>
                <a:lnTo>
                  <a:pt x="627" y="0"/>
                </a:lnTo>
                <a:lnTo>
                  <a:pt x="720" y="23"/>
                </a:lnTo>
                <a:lnTo>
                  <a:pt x="720" y="108"/>
                </a:lnTo>
                <a:lnTo>
                  <a:pt x="0" y="107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Responsive Reserv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40240" y="2192400"/>
            <a:ext cx="5249520" cy="3763800"/>
            <a:chOff x="1740240" y="2192400"/>
            <a:chExt cx="5249520" cy="3763800"/>
          </a:xfrm>
        </p:grpSpPr>
        <p:sp>
          <p:nvSpPr>
            <p:cNvPr id="210" name=""/>
            <p:cNvSpPr/>
            <p:nvPr/>
          </p:nvSpPr>
          <p:spPr>
            <a:xfrm>
              <a:off x="2441520" y="2301840"/>
              <a:ext cx="1440" cy="353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81040" y="583560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81040" y="532908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1040" y="482256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81040" y="431640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81040" y="382104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81040" y="331452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81040" y="28080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040" y="230184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41520" y="5835600"/>
              <a:ext cx="45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40240" y="57276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7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40240" y="522108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8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40240" y="471492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8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40240" y="42066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9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40240" y="371304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9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40240" y="320652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0240" y="270036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40240" y="21924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14600" y="3301920"/>
            <a:ext cx="4403880" cy="941400"/>
          </a:xfrm>
          <a:custGeom>
            <a:avLst/>
            <a:gdLst/>
            <a:ahLst/>
            <a:rect l="l" t="t" r="r" b="b"/>
            <a:pathLst>
              <a:path w="365" h="78">
                <a:moveTo>
                  <a:pt x="0" y="78"/>
                </a:moveTo>
                <a:lnTo>
                  <a:pt x="13" y="75"/>
                </a:lnTo>
                <a:lnTo>
                  <a:pt x="25" y="73"/>
                </a:lnTo>
                <a:lnTo>
                  <a:pt x="38" y="70"/>
                </a:lnTo>
                <a:lnTo>
                  <a:pt x="51" y="67"/>
                </a:lnTo>
                <a:lnTo>
                  <a:pt x="63" y="63"/>
                </a:lnTo>
                <a:lnTo>
                  <a:pt x="76" y="58"/>
                </a:lnTo>
                <a:lnTo>
                  <a:pt x="88" y="53"/>
                </a:lnTo>
                <a:lnTo>
                  <a:pt x="101" y="51"/>
                </a:lnTo>
                <a:lnTo>
                  <a:pt x="113" y="47"/>
                </a:lnTo>
                <a:lnTo>
                  <a:pt x="126" y="44"/>
                </a:lnTo>
                <a:lnTo>
                  <a:pt x="139" y="41"/>
                </a:lnTo>
                <a:lnTo>
                  <a:pt x="151" y="43"/>
                </a:lnTo>
                <a:lnTo>
                  <a:pt x="164" y="41"/>
                </a:lnTo>
                <a:lnTo>
                  <a:pt x="176" y="41"/>
                </a:lnTo>
                <a:lnTo>
                  <a:pt x="189" y="41"/>
                </a:lnTo>
                <a:lnTo>
                  <a:pt x="201" y="40"/>
                </a:lnTo>
                <a:lnTo>
                  <a:pt x="214" y="40"/>
                </a:lnTo>
                <a:lnTo>
                  <a:pt x="226" y="37"/>
                </a:lnTo>
                <a:lnTo>
                  <a:pt x="239" y="29"/>
                </a:lnTo>
                <a:lnTo>
                  <a:pt x="252" y="24"/>
                </a:lnTo>
                <a:lnTo>
                  <a:pt x="264" y="17"/>
                </a:lnTo>
                <a:lnTo>
                  <a:pt x="277" y="10"/>
                </a:lnTo>
                <a:lnTo>
                  <a:pt x="289" y="10"/>
                </a:lnTo>
                <a:lnTo>
                  <a:pt x="302" y="12"/>
                </a:lnTo>
                <a:lnTo>
                  <a:pt x="314" y="11"/>
                </a:lnTo>
                <a:lnTo>
                  <a:pt x="327" y="10"/>
                </a:lnTo>
                <a:lnTo>
                  <a:pt x="340" y="6"/>
                </a:lnTo>
                <a:lnTo>
                  <a:pt x="352" y="0"/>
                </a:lnTo>
                <a:lnTo>
                  <a:pt x="365" y="3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54360" y="1876320"/>
            <a:ext cx="290520" cy="1800"/>
          </a:xfrm>
          <a:prstGeom prst="line">
            <a:avLst/>
          </a:prstGeom>
          <a:ln w="36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89160" y="1766880"/>
            <a:ext cx="122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ad Foreca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3508200"/>
            <a:ext cx="4403880" cy="457200"/>
          </a:xfrm>
          <a:custGeom>
            <a:avLst/>
            <a:gdLst/>
            <a:ahLst/>
            <a:rect l="l" t="t" r="r" b="b"/>
            <a:pathLst>
              <a:path w="365" h="38">
                <a:moveTo>
                  <a:pt x="0" y="38"/>
                </a:moveTo>
                <a:lnTo>
                  <a:pt x="13" y="38"/>
                </a:lnTo>
                <a:lnTo>
                  <a:pt x="25" y="38"/>
                </a:lnTo>
                <a:lnTo>
                  <a:pt x="38" y="38"/>
                </a:lnTo>
                <a:lnTo>
                  <a:pt x="51" y="38"/>
                </a:lnTo>
                <a:lnTo>
                  <a:pt x="63" y="38"/>
                </a:lnTo>
                <a:lnTo>
                  <a:pt x="76" y="38"/>
                </a:lnTo>
                <a:lnTo>
                  <a:pt x="88" y="38"/>
                </a:lnTo>
                <a:lnTo>
                  <a:pt x="101" y="38"/>
                </a:lnTo>
                <a:lnTo>
                  <a:pt x="113" y="38"/>
                </a:lnTo>
                <a:lnTo>
                  <a:pt x="126" y="38"/>
                </a:lnTo>
                <a:lnTo>
                  <a:pt x="139" y="38"/>
                </a:lnTo>
                <a:lnTo>
                  <a:pt x="151" y="38"/>
                </a:lnTo>
                <a:lnTo>
                  <a:pt x="164" y="38"/>
                </a:lnTo>
                <a:lnTo>
                  <a:pt x="176" y="38"/>
                </a:lnTo>
                <a:lnTo>
                  <a:pt x="189" y="0"/>
                </a:lnTo>
                <a:lnTo>
                  <a:pt x="201" y="0"/>
                </a:lnTo>
                <a:lnTo>
                  <a:pt x="214" y="0"/>
                </a:lnTo>
                <a:lnTo>
                  <a:pt x="226" y="0"/>
                </a:lnTo>
                <a:lnTo>
                  <a:pt x="239" y="0"/>
                </a:lnTo>
                <a:lnTo>
                  <a:pt x="252" y="0"/>
                </a:lnTo>
                <a:lnTo>
                  <a:pt x="264" y="0"/>
                </a:lnTo>
                <a:lnTo>
                  <a:pt x="277" y="0"/>
                </a:lnTo>
                <a:lnTo>
                  <a:pt x="289" y="0"/>
                </a:lnTo>
                <a:lnTo>
                  <a:pt x="302" y="0"/>
                </a:lnTo>
                <a:lnTo>
                  <a:pt x="314" y="0"/>
                </a:lnTo>
                <a:lnTo>
                  <a:pt x="327" y="0"/>
                </a:lnTo>
                <a:lnTo>
                  <a:pt x="340" y="0"/>
                </a:lnTo>
                <a:lnTo>
                  <a:pt x="352" y="0"/>
                </a:lnTo>
                <a:lnTo>
                  <a:pt x="365" y="0"/>
                </a:lnTo>
              </a:path>
            </a:pathLst>
          </a:custGeom>
          <a:noFill/>
          <a:ln w="36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54360" y="2455920"/>
            <a:ext cx="290520" cy="1440"/>
          </a:xfrm>
          <a:prstGeom prst="line">
            <a:avLst/>
          </a:prstGeom>
          <a:ln w="36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88800" y="2346480"/>
            <a:ext cx="21632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hedules and Balanc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xpected Genera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709880" y="2813040"/>
            <a:ext cx="14040" cy="320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5410080"/>
            <a:ext cx="104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45280" y="5410080"/>
            <a:ext cx="108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35440" y="3525840"/>
            <a:ext cx="890640" cy="249120"/>
          </a:xfrm>
          <a:custGeom>
            <a:avLst/>
            <a:gdLst/>
            <a:ahLst/>
            <a:rect l="l" t="t" r="r" b="b"/>
            <a:pathLst>
              <a:path w="561" h="153">
                <a:moveTo>
                  <a:pt x="225" y="148"/>
                </a:moveTo>
                <a:lnTo>
                  <a:pt x="311" y="129"/>
                </a:lnTo>
                <a:lnTo>
                  <a:pt x="402" y="72"/>
                </a:lnTo>
                <a:lnTo>
                  <a:pt x="506" y="31"/>
                </a:lnTo>
                <a:lnTo>
                  <a:pt x="561" y="1"/>
                </a:lnTo>
                <a:lnTo>
                  <a:pt x="47" y="0"/>
                </a:lnTo>
                <a:lnTo>
                  <a:pt x="0" y="120"/>
                </a:lnTo>
                <a:lnTo>
                  <a:pt x="0" y="153"/>
                </a:lnTo>
                <a:lnTo>
                  <a:pt x="56" y="153"/>
                </a:lnTo>
                <a:lnTo>
                  <a:pt x="113" y="148"/>
                </a:lnTo>
                <a:lnTo>
                  <a:pt x="225" y="148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920" y="3981600"/>
            <a:ext cx="914400" cy="242640"/>
          </a:xfrm>
          <a:custGeom>
            <a:avLst/>
            <a:gdLst/>
            <a:ahLst/>
            <a:rect l="l" t="t" r="r" b="b"/>
            <a:pathLst>
              <a:path w="576" h="153">
                <a:moveTo>
                  <a:pt x="3" y="0"/>
                </a:moveTo>
                <a:lnTo>
                  <a:pt x="576" y="0"/>
                </a:lnTo>
                <a:lnTo>
                  <a:pt x="480" y="36"/>
                </a:lnTo>
                <a:lnTo>
                  <a:pt x="386" y="71"/>
                </a:lnTo>
                <a:lnTo>
                  <a:pt x="183" y="117"/>
                </a:lnTo>
                <a:lnTo>
                  <a:pt x="104" y="129"/>
                </a:lnTo>
                <a:lnTo>
                  <a:pt x="0" y="153"/>
                </a:lnTo>
                <a:lnTo>
                  <a:pt x="3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70200" y="3814920"/>
            <a:ext cx="997200" cy="133200"/>
          </a:xfrm>
          <a:custGeom>
            <a:avLst/>
            <a:gdLst/>
            <a:ahLst/>
            <a:rect l="l" t="t" r="r" b="b"/>
            <a:pathLst>
              <a:path w="628" h="84">
                <a:moveTo>
                  <a:pt x="628" y="2"/>
                </a:moveTo>
                <a:lnTo>
                  <a:pt x="601" y="84"/>
                </a:lnTo>
                <a:lnTo>
                  <a:pt x="0" y="84"/>
                </a:lnTo>
                <a:lnTo>
                  <a:pt x="45" y="75"/>
                </a:lnTo>
                <a:lnTo>
                  <a:pt x="127" y="47"/>
                </a:lnTo>
                <a:lnTo>
                  <a:pt x="328" y="2"/>
                </a:lnTo>
                <a:lnTo>
                  <a:pt x="418" y="15"/>
                </a:lnTo>
                <a:lnTo>
                  <a:pt x="514" y="0"/>
                </a:lnTo>
                <a:lnTo>
                  <a:pt x="628" y="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92800" y="1795320"/>
            <a:ext cx="1847520" cy="228600"/>
            <a:chOff x="5392800" y="1795320"/>
            <a:chExt cx="1847520" cy="228600"/>
          </a:xfrm>
        </p:grpSpPr>
        <p:sp>
          <p:nvSpPr>
            <p:cNvPr id="241" name=""/>
            <p:cNvSpPr/>
            <p:nvPr/>
          </p:nvSpPr>
          <p:spPr>
            <a:xfrm>
              <a:off x="5392800" y="1905120"/>
              <a:ext cx="290520" cy="1440"/>
            </a:xfrm>
            <a:prstGeom prst="line">
              <a:avLst/>
            </a:prstGeom>
            <a:ln w="36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29400" y="1795320"/>
              <a:ext cx="151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gulation Dow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403960" y="2079720"/>
            <a:ext cx="1607760" cy="228600"/>
            <a:chOff x="5403960" y="2079720"/>
            <a:chExt cx="1607760" cy="228600"/>
          </a:xfrm>
        </p:grpSpPr>
        <p:sp>
          <p:nvSpPr>
            <p:cNvPr id="244" name=""/>
            <p:cNvSpPr/>
            <p:nvPr/>
          </p:nvSpPr>
          <p:spPr>
            <a:xfrm>
              <a:off x="5403960" y="2217960"/>
              <a:ext cx="290520" cy="1440"/>
            </a:xfrm>
            <a:prstGeom prst="line">
              <a:avLst/>
            </a:prstGeom>
            <a:ln w="36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7800" y="207972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gulation 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521080" y="3505320"/>
            <a:ext cx="4375080" cy="761760"/>
          </a:xfrm>
          <a:custGeom>
            <a:avLst/>
            <a:gdLst/>
            <a:ahLst/>
            <a:rect l="l" t="t" r="r" b="b"/>
            <a:pathLst>
              <a:path w="2756" h="480">
                <a:moveTo>
                  <a:pt x="0" y="288"/>
                </a:moveTo>
                <a:lnTo>
                  <a:pt x="1328" y="284"/>
                </a:lnTo>
                <a:lnTo>
                  <a:pt x="1432" y="0"/>
                </a:lnTo>
                <a:lnTo>
                  <a:pt x="1892" y="0"/>
                </a:lnTo>
                <a:lnTo>
                  <a:pt x="1956" y="480"/>
                </a:lnTo>
                <a:lnTo>
                  <a:pt x="2756" y="480"/>
                </a:ln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398920" y="2355840"/>
            <a:ext cx="2160720" cy="228600"/>
            <a:chOff x="5398920" y="2355840"/>
            <a:chExt cx="2160720" cy="228600"/>
          </a:xfrm>
        </p:grpSpPr>
        <p:sp>
          <p:nvSpPr>
            <p:cNvPr id="248" name=""/>
            <p:cNvSpPr/>
            <p:nvPr/>
          </p:nvSpPr>
          <p:spPr>
            <a:xfrm>
              <a:off x="5398920" y="2494080"/>
              <a:ext cx="290520" cy="1440"/>
            </a:xfrm>
            <a:prstGeom prst="line">
              <a:avLst/>
            </a:prstGeom>
            <a:ln w="36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0960" y="235584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ponsive Reser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622840" y="3492360"/>
            <a:ext cx="1292400" cy="752760"/>
          </a:xfrm>
          <a:custGeom>
            <a:avLst/>
            <a:gdLst/>
            <a:ahLst/>
            <a:rect l="l" t="t" r="r" b="b"/>
            <a:pathLst>
              <a:path w="814" h="474">
                <a:moveTo>
                  <a:pt x="806" y="474"/>
                </a:moveTo>
                <a:cubicBezTo>
                  <a:pt x="806" y="470"/>
                  <a:pt x="806" y="466"/>
                  <a:pt x="806" y="462"/>
                </a:cubicBezTo>
                <a:lnTo>
                  <a:pt x="814" y="0"/>
                </a:lnTo>
                <a:lnTo>
                  <a:pt x="78" y="0"/>
                </a:lnTo>
                <a:lnTo>
                  <a:pt x="0" y="386"/>
                </a:lnTo>
                <a:lnTo>
                  <a:pt x="12" y="474"/>
                </a:lnTo>
                <a:lnTo>
                  <a:pt x="806" y="474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AAD-AC53-4D2A-B02E-35D36DD026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2F629-14A2-47AE-8015-F83766230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ponsive Reserve Examp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4480" y="1122480"/>
            <a:ext cx="759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F1B-33D6-4A4B-AE73-190EB23969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89869-E557-40E5-B1A5-4CB720E906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Non Spinning Reserv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12392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ty capable of being ramped (or interrupted) within 30 minu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ty or cong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X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 minute intervals, minimum 1 hou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ona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p Change – NSRS is not ramped 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B55-63F3-4BD0-B5B1-67CDF7EA12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EE44E-FE18-417F-8A16-21E73D2CD7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Non Spinning Reserv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1004760" y="2384280"/>
            <a:ext cx="3240" cy="353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7640" y="590868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7640" y="5421240"/>
            <a:ext cx="96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7640" y="491508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7640" y="440856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7640" y="391320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7640" y="3406680"/>
            <a:ext cx="96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7640" y="290052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7640" y="2394000"/>
            <a:ext cx="96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976320" y="5900760"/>
            <a:ext cx="7759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9240" y="579132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7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9240" y="528480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8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9240" y="477828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8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9240" y="427032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9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9240" y="377676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9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9240" y="327024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9240" y="276372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9240" y="225576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1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92240" y="3375000"/>
            <a:ext cx="4403520" cy="941400"/>
          </a:xfrm>
          <a:custGeom>
            <a:avLst/>
            <a:gdLst/>
            <a:ahLst/>
            <a:rect l="l" t="t" r="r" b="b"/>
            <a:pathLst>
              <a:path w="365" h="78">
                <a:moveTo>
                  <a:pt x="0" y="78"/>
                </a:moveTo>
                <a:lnTo>
                  <a:pt x="13" y="75"/>
                </a:lnTo>
                <a:lnTo>
                  <a:pt x="25" y="73"/>
                </a:lnTo>
                <a:lnTo>
                  <a:pt x="38" y="70"/>
                </a:lnTo>
                <a:lnTo>
                  <a:pt x="51" y="67"/>
                </a:lnTo>
                <a:lnTo>
                  <a:pt x="63" y="63"/>
                </a:lnTo>
                <a:lnTo>
                  <a:pt x="76" y="58"/>
                </a:lnTo>
                <a:lnTo>
                  <a:pt x="88" y="53"/>
                </a:lnTo>
                <a:lnTo>
                  <a:pt x="101" y="51"/>
                </a:lnTo>
                <a:lnTo>
                  <a:pt x="113" y="47"/>
                </a:lnTo>
                <a:lnTo>
                  <a:pt x="126" y="44"/>
                </a:lnTo>
                <a:lnTo>
                  <a:pt x="139" y="41"/>
                </a:lnTo>
                <a:lnTo>
                  <a:pt x="151" y="43"/>
                </a:lnTo>
                <a:lnTo>
                  <a:pt x="164" y="41"/>
                </a:lnTo>
                <a:lnTo>
                  <a:pt x="176" y="41"/>
                </a:lnTo>
                <a:lnTo>
                  <a:pt x="189" y="41"/>
                </a:lnTo>
                <a:lnTo>
                  <a:pt x="201" y="40"/>
                </a:lnTo>
                <a:lnTo>
                  <a:pt x="214" y="40"/>
                </a:lnTo>
                <a:lnTo>
                  <a:pt x="226" y="37"/>
                </a:lnTo>
                <a:lnTo>
                  <a:pt x="239" y="29"/>
                </a:lnTo>
                <a:lnTo>
                  <a:pt x="252" y="24"/>
                </a:lnTo>
                <a:lnTo>
                  <a:pt x="264" y="17"/>
                </a:lnTo>
                <a:lnTo>
                  <a:pt x="277" y="10"/>
                </a:lnTo>
                <a:lnTo>
                  <a:pt x="289" y="10"/>
                </a:lnTo>
                <a:lnTo>
                  <a:pt x="302" y="12"/>
                </a:lnTo>
                <a:lnTo>
                  <a:pt x="314" y="11"/>
                </a:lnTo>
                <a:lnTo>
                  <a:pt x="327" y="10"/>
                </a:lnTo>
                <a:lnTo>
                  <a:pt x="340" y="6"/>
                </a:lnTo>
                <a:lnTo>
                  <a:pt x="352" y="0"/>
                </a:lnTo>
                <a:lnTo>
                  <a:pt x="365" y="3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24040" y="1905120"/>
            <a:ext cx="290520" cy="1440"/>
          </a:xfrm>
          <a:prstGeom prst="line">
            <a:avLst/>
          </a:prstGeom>
          <a:ln w="36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8840" y="1795320"/>
            <a:ext cx="122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ad Foreca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24040" y="2484360"/>
            <a:ext cx="290520" cy="1800"/>
          </a:xfrm>
          <a:prstGeom prst="line">
            <a:avLst/>
          </a:prstGeom>
          <a:ln w="36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8480" y="2374920"/>
            <a:ext cx="21632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hedules and Balanc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xpected Genera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287520" y="2886120"/>
            <a:ext cx="14040" cy="320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09640" y="5483160"/>
            <a:ext cx="104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5483160"/>
            <a:ext cx="236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val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13080" y="3598920"/>
            <a:ext cx="890640" cy="249120"/>
          </a:xfrm>
          <a:custGeom>
            <a:avLst/>
            <a:gdLst/>
            <a:ahLst/>
            <a:rect l="l" t="t" r="r" b="b"/>
            <a:pathLst>
              <a:path w="561" h="153">
                <a:moveTo>
                  <a:pt x="225" y="148"/>
                </a:moveTo>
                <a:lnTo>
                  <a:pt x="311" y="129"/>
                </a:lnTo>
                <a:lnTo>
                  <a:pt x="402" y="72"/>
                </a:lnTo>
                <a:lnTo>
                  <a:pt x="506" y="31"/>
                </a:lnTo>
                <a:lnTo>
                  <a:pt x="561" y="1"/>
                </a:lnTo>
                <a:lnTo>
                  <a:pt x="47" y="0"/>
                </a:lnTo>
                <a:lnTo>
                  <a:pt x="0" y="120"/>
                </a:lnTo>
                <a:lnTo>
                  <a:pt x="0" y="153"/>
                </a:lnTo>
                <a:lnTo>
                  <a:pt x="56" y="153"/>
                </a:lnTo>
                <a:lnTo>
                  <a:pt x="113" y="148"/>
                </a:lnTo>
                <a:lnTo>
                  <a:pt x="225" y="148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87560" y="4054320"/>
            <a:ext cx="914400" cy="243000"/>
          </a:xfrm>
          <a:custGeom>
            <a:avLst/>
            <a:gdLst/>
            <a:ahLst/>
            <a:rect l="l" t="t" r="r" b="b"/>
            <a:pathLst>
              <a:path w="576" h="153">
                <a:moveTo>
                  <a:pt x="3" y="0"/>
                </a:moveTo>
                <a:lnTo>
                  <a:pt x="576" y="0"/>
                </a:lnTo>
                <a:lnTo>
                  <a:pt x="480" y="36"/>
                </a:lnTo>
                <a:lnTo>
                  <a:pt x="386" y="71"/>
                </a:lnTo>
                <a:lnTo>
                  <a:pt x="183" y="117"/>
                </a:lnTo>
                <a:lnTo>
                  <a:pt x="104" y="129"/>
                </a:lnTo>
                <a:lnTo>
                  <a:pt x="0" y="153"/>
                </a:lnTo>
                <a:lnTo>
                  <a:pt x="3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47840" y="3887640"/>
            <a:ext cx="996840" cy="133560"/>
          </a:xfrm>
          <a:custGeom>
            <a:avLst/>
            <a:gdLst/>
            <a:ahLst/>
            <a:rect l="l" t="t" r="r" b="b"/>
            <a:pathLst>
              <a:path w="628" h="84">
                <a:moveTo>
                  <a:pt x="628" y="2"/>
                </a:moveTo>
                <a:lnTo>
                  <a:pt x="601" y="84"/>
                </a:lnTo>
                <a:lnTo>
                  <a:pt x="0" y="84"/>
                </a:lnTo>
                <a:lnTo>
                  <a:pt x="45" y="75"/>
                </a:lnTo>
                <a:lnTo>
                  <a:pt x="127" y="47"/>
                </a:lnTo>
                <a:lnTo>
                  <a:pt x="328" y="2"/>
                </a:lnTo>
                <a:lnTo>
                  <a:pt x="418" y="15"/>
                </a:lnTo>
                <a:lnTo>
                  <a:pt x="514" y="0"/>
                </a:lnTo>
                <a:lnTo>
                  <a:pt x="628" y="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362480" y="1824120"/>
            <a:ext cx="1847520" cy="228600"/>
            <a:chOff x="4362480" y="1824120"/>
            <a:chExt cx="1847520" cy="228600"/>
          </a:xfrm>
        </p:grpSpPr>
        <p:sp>
          <p:nvSpPr>
            <p:cNvPr id="286" name=""/>
            <p:cNvSpPr/>
            <p:nvPr/>
          </p:nvSpPr>
          <p:spPr>
            <a:xfrm>
              <a:off x="4362480" y="1933920"/>
              <a:ext cx="290520" cy="1440"/>
            </a:xfrm>
            <a:prstGeom prst="line">
              <a:avLst/>
            </a:prstGeom>
            <a:ln w="36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99080" y="1824120"/>
              <a:ext cx="151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gulation Dow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373640" y="2108160"/>
            <a:ext cx="1607760" cy="228600"/>
            <a:chOff x="4373640" y="2108160"/>
            <a:chExt cx="1607760" cy="228600"/>
          </a:xfrm>
        </p:grpSpPr>
        <p:sp>
          <p:nvSpPr>
            <p:cNvPr id="289" name=""/>
            <p:cNvSpPr/>
            <p:nvPr/>
          </p:nvSpPr>
          <p:spPr>
            <a:xfrm>
              <a:off x="4373640" y="2246400"/>
              <a:ext cx="290520" cy="1440"/>
            </a:xfrm>
            <a:prstGeom prst="line">
              <a:avLst/>
            </a:prstGeom>
            <a:ln w="36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67480" y="210816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gulation 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098720" y="3578400"/>
            <a:ext cx="4375080" cy="761760"/>
          </a:xfrm>
          <a:custGeom>
            <a:avLst/>
            <a:gdLst/>
            <a:ahLst/>
            <a:rect l="l" t="t" r="r" b="b"/>
            <a:pathLst>
              <a:path w="2756" h="480">
                <a:moveTo>
                  <a:pt x="0" y="288"/>
                </a:moveTo>
                <a:lnTo>
                  <a:pt x="1328" y="284"/>
                </a:lnTo>
                <a:lnTo>
                  <a:pt x="1432" y="0"/>
                </a:lnTo>
                <a:lnTo>
                  <a:pt x="1892" y="0"/>
                </a:lnTo>
                <a:lnTo>
                  <a:pt x="1956" y="480"/>
                </a:lnTo>
                <a:lnTo>
                  <a:pt x="2756" y="480"/>
                </a:ln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368960" y="2384280"/>
            <a:ext cx="2160360" cy="228600"/>
            <a:chOff x="4368960" y="2384280"/>
            <a:chExt cx="2160360" cy="228600"/>
          </a:xfrm>
        </p:grpSpPr>
        <p:sp>
          <p:nvSpPr>
            <p:cNvPr id="293" name=""/>
            <p:cNvSpPr/>
            <p:nvPr/>
          </p:nvSpPr>
          <p:spPr>
            <a:xfrm>
              <a:off x="4368960" y="2522520"/>
              <a:ext cx="290160" cy="1440"/>
            </a:xfrm>
            <a:prstGeom prst="line">
              <a:avLst/>
            </a:prstGeom>
            <a:ln w="36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60640" y="238428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ponsive Reser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491080" y="3090960"/>
            <a:ext cx="3210120" cy="323640"/>
          </a:xfrm>
          <a:custGeom>
            <a:avLst/>
            <a:gdLst/>
            <a:ahLst/>
            <a:rect l="l" t="t" r="r" b="b"/>
            <a:pathLst>
              <a:path w="1266" h="204">
                <a:moveTo>
                  <a:pt x="0" y="195"/>
                </a:moveTo>
                <a:cubicBezTo>
                  <a:pt x="28" y="204"/>
                  <a:pt x="8" y="200"/>
                  <a:pt x="39" y="198"/>
                </a:cubicBezTo>
                <a:cubicBezTo>
                  <a:pt x="70" y="196"/>
                  <a:pt x="132" y="192"/>
                  <a:pt x="132" y="192"/>
                </a:cubicBezTo>
                <a:cubicBezTo>
                  <a:pt x="162" y="182"/>
                  <a:pt x="187" y="187"/>
                  <a:pt x="219" y="189"/>
                </a:cubicBezTo>
                <a:cubicBezTo>
                  <a:pt x="258" y="186"/>
                  <a:pt x="257" y="186"/>
                  <a:pt x="285" y="177"/>
                </a:cubicBezTo>
                <a:cubicBezTo>
                  <a:pt x="333" y="129"/>
                  <a:pt x="408" y="137"/>
                  <a:pt x="471" y="135"/>
                </a:cubicBezTo>
                <a:cubicBezTo>
                  <a:pt x="477" y="133"/>
                  <a:pt x="485" y="133"/>
                  <a:pt x="489" y="129"/>
                </a:cubicBezTo>
                <a:cubicBezTo>
                  <a:pt x="492" y="126"/>
                  <a:pt x="494" y="122"/>
                  <a:pt x="498" y="120"/>
                </a:cubicBezTo>
                <a:cubicBezTo>
                  <a:pt x="525" y="106"/>
                  <a:pt x="584" y="106"/>
                  <a:pt x="615" y="102"/>
                </a:cubicBezTo>
                <a:cubicBezTo>
                  <a:pt x="658" y="88"/>
                  <a:pt x="604" y="105"/>
                  <a:pt x="726" y="93"/>
                </a:cubicBezTo>
                <a:cubicBezTo>
                  <a:pt x="757" y="90"/>
                  <a:pt x="784" y="73"/>
                  <a:pt x="813" y="66"/>
                </a:cubicBezTo>
                <a:cubicBezTo>
                  <a:pt x="828" y="62"/>
                  <a:pt x="872" y="60"/>
                  <a:pt x="879" y="60"/>
                </a:cubicBezTo>
                <a:cubicBezTo>
                  <a:pt x="919" y="47"/>
                  <a:pt x="963" y="47"/>
                  <a:pt x="1005" y="42"/>
                </a:cubicBezTo>
                <a:cubicBezTo>
                  <a:pt x="1051" y="27"/>
                  <a:pt x="1094" y="25"/>
                  <a:pt x="1143" y="21"/>
                </a:cubicBezTo>
                <a:cubicBezTo>
                  <a:pt x="1163" y="14"/>
                  <a:pt x="1180" y="4"/>
                  <a:pt x="1200" y="0"/>
                </a:cubicBezTo>
                <a:cubicBezTo>
                  <a:pt x="1222" y="2"/>
                  <a:pt x="1244" y="6"/>
                  <a:pt x="1266" y="6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9880" y="3395520"/>
            <a:ext cx="1143000" cy="171720"/>
          </a:xfrm>
          <a:custGeom>
            <a:avLst/>
            <a:gdLst/>
            <a:ahLst/>
            <a:rect l="l" t="t" r="r" b="b"/>
            <a:pathLst>
              <a:path w="720" h="108">
                <a:moveTo>
                  <a:pt x="0" y="107"/>
                </a:moveTo>
                <a:lnTo>
                  <a:pt x="56" y="77"/>
                </a:lnTo>
                <a:lnTo>
                  <a:pt x="143" y="77"/>
                </a:lnTo>
                <a:lnTo>
                  <a:pt x="243" y="90"/>
                </a:lnTo>
                <a:lnTo>
                  <a:pt x="432" y="77"/>
                </a:lnTo>
                <a:lnTo>
                  <a:pt x="537" y="45"/>
                </a:lnTo>
                <a:lnTo>
                  <a:pt x="627" y="0"/>
                </a:lnTo>
                <a:lnTo>
                  <a:pt x="720" y="23"/>
                </a:lnTo>
                <a:lnTo>
                  <a:pt x="720" y="108"/>
                </a:lnTo>
                <a:lnTo>
                  <a:pt x="0" y="107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00480" y="3568680"/>
            <a:ext cx="1292400" cy="752400"/>
          </a:xfrm>
          <a:custGeom>
            <a:avLst/>
            <a:gdLst/>
            <a:ahLst/>
            <a:rect l="l" t="t" r="r" b="b"/>
            <a:pathLst>
              <a:path w="814" h="474">
                <a:moveTo>
                  <a:pt x="806" y="474"/>
                </a:moveTo>
                <a:cubicBezTo>
                  <a:pt x="806" y="470"/>
                  <a:pt x="806" y="466"/>
                  <a:pt x="806" y="462"/>
                </a:cubicBezTo>
                <a:lnTo>
                  <a:pt x="814" y="0"/>
                </a:lnTo>
                <a:lnTo>
                  <a:pt x="78" y="0"/>
                </a:lnTo>
                <a:lnTo>
                  <a:pt x="0" y="386"/>
                </a:lnTo>
                <a:lnTo>
                  <a:pt x="12" y="474"/>
                </a:lnTo>
                <a:lnTo>
                  <a:pt x="806" y="474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571920"/>
            <a:ext cx="1028880" cy="714240"/>
          </a:xfrm>
          <a:custGeom>
            <a:avLst/>
            <a:gdLst/>
            <a:ahLst/>
            <a:rect l="l" t="t" r="r" b="b"/>
            <a:pathLst>
              <a:path w="648" h="450">
                <a:moveTo>
                  <a:pt x="0" y="450"/>
                </a:moveTo>
                <a:lnTo>
                  <a:pt x="174" y="168"/>
                </a:lnTo>
                <a:lnTo>
                  <a:pt x="471" y="171"/>
                </a:lnTo>
                <a:cubicBezTo>
                  <a:pt x="481" y="155"/>
                  <a:pt x="489" y="138"/>
                  <a:pt x="495" y="120"/>
                </a:cubicBezTo>
                <a:cubicBezTo>
                  <a:pt x="496" y="117"/>
                  <a:pt x="495" y="112"/>
                  <a:pt x="498" y="111"/>
                </a:cubicBezTo>
                <a:cubicBezTo>
                  <a:pt x="506" y="108"/>
                  <a:pt x="509" y="108"/>
                  <a:pt x="516" y="102"/>
                </a:cubicBezTo>
                <a:cubicBezTo>
                  <a:pt x="541" y="80"/>
                  <a:pt x="524" y="86"/>
                  <a:pt x="546" y="81"/>
                </a:cubicBezTo>
                <a:cubicBezTo>
                  <a:pt x="558" y="73"/>
                  <a:pt x="577" y="56"/>
                  <a:pt x="591" y="51"/>
                </a:cubicBezTo>
                <a:cubicBezTo>
                  <a:pt x="601" y="48"/>
                  <a:pt x="618" y="36"/>
                  <a:pt x="618" y="36"/>
                </a:cubicBezTo>
                <a:cubicBezTo>
                  <a:pt x="626" y="24"/>
                  <a:pt x="638" y="16"/>
                  <a:pt x="648" y="6"/>
                </a:cubicBezTo>
                <a:lnTo>
                  <a:pt x="3" y="0"/>
                </a:lnTo>
                <a:lnTo>
                  <a:pt x="0" y="45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67320" y="3838680"/>
            <a:ext cx="771480" cy="504720"/>
          </a:xfrm>
          <a:custGeom>
            <a:avLst/>
            <a:gdLst/>
            <a:ahLst/>
            <a:rect l="l" t="t" r="r" b="b"/>
            <a:pathLst>
              <a:path w="486" h="318">
                <a:moveTo>
                  <a:pt x="0" y="318"/>
                </a:moveTo>
                <a:lnTo>
                  <a:pt x="183" y="0"/>
                </a:lnTo>
                <a:lnTo>
                  <a:pt x="486" y="0"/>
                </a:lnTo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238800" y="3833640"/>
            <a:ext cx="2428920" cy="504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248520" y="3190680"/>
            <a:ext cx="637920" cy="6426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81760" y="3195720"/>
            <a:ext cx="181944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91080" y="3168720"/>
            <a:ext cx="1387440" cy="403200"/>
          </a:xfrm>
          <a:custGeom>
            <a:avLst/>
            <a:gdLst/>
            <a:ahLst/>
            <a:rect l="l" t="t" r="r" b="b"/>
            <a:pathLst>
              <a:path w="874" h="254">
                <a:moveTo>
                  <a:pt x="0" y="158"/>
                </a:moveTo>
                <a:lnTo>
                  <a:pt x="3" y="248"/>
                </a:lnTo>
                <a:lnTo>
                  <a:pt x="624" y="254"/>
                </a:lnTo>
                <a:cubicBezTo>
                  <a:pt x="874" y="0"/>
                  <a:pt x="836" y="88"/>
                  <a:pt x="711" y="98"/>
                </a:cubicBezTo>
                <a:cubicBezTo>
                  <a:pt x="656" y="93"/>
                  <a:pt x="607" y="100"/>
                  <a:pt x="552" y="104"/>
                </a:cubicBezTo>
                <a:cubicBezTo>
                  <a:pt x="519" y="111"/>
                  <a:pt x="491" y="123"/>
                  <a:pt x="459" y="134"/>
                </a:cubicBezTo>
                <a:cubicBezTo>
                  <a:pt x="453" y="136"/>
                  <a:pt x="447" y="139"/>
                  <a:pt x="441" y="140"/>
                </a:cubicBezTo>
                <a:cubicBezTo>
                  <a:pt x="433" y="141"/>
                  <a:pt x="417" y="143"/>
                  <a:pt x="417" y="143"/>
                </a:cubicBezTo>
                <a:cubicBezTo>
                  <a:pt x="421" y="142"/>
                  <a:pt x="433" y="139"/>
                  <a:pt x="429" y="140"/>
                </a:cubicBezTo>
                <a:cubicBezTo>
                  <a:pt x="426" y="141"/>
                  <a:pt x="423" y="142"/>
                  <a:pt x="420" y="143"/>
                </a:cubicBezTo>
                <a:cubicBezTo>
                  <a:pt x="416" y="144"/>
                  <a:pt x="412" y="145"/>
                  <a:pt x="408" y="146"/>
                </a:cubicBezTo>
                <a:cubicBezTo>
                  <a:pt x="402" y="148"/>
                  <a:pt x="390" y="152"/>
                  <a:pt x="390" y="152"/>
                </a:cubicBezTo>
                <a:cubicBezTo>
                  <a:pt x="340" y="148"/>
                  <a:pt x="317" y="147"/>
                  <a:pt x="261" y="149"/>
                </a:cubicBezTo>
                <a:cubicBezTo>
                  <a:pt x="235" y="158"/>
                  <a:pt x="228" y="154"/>
                  <a:pt x="195" y="152"/>
                </a:cubicBezTo>
                <a:cubicBezTo>
                  <a:pt x="183" y="154"/>
                  <a:pt x="171" y="157"/>
                  <a:pt x="159" y="158"/>
                </a:cubicBezTo>
                <a:cubicBezTo>
                  <a:pt x="133" y="161"/>
                  <a:pt x="81" y="164"/>
                  <a:pt x="81" y="164"/>
                </a:cubicBezTo>
                <a:cubicBezTo>
                  <a:pt x="69" y="163"/>
                  <a:pt x="6" y="161"/>
                  <a:pt x="0" y="158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27920" y="3102120"/>
            <a:ext cx="765360" cy="83880"/>
          </a:xfrm>
          <a:custGeom>
            <a:avLst/>
            <a:gdLst/>
            <a:ahLst/>
            <a:rect l="l" t="t" r="r" b="b"/>
            <a:pathLst>
              <a:path w="482" h="53">
                <a:moveTo>
                  <a:pt x="478" y="5"/>
                </a:moveTo>
                <a:cubicBezTo>
                  <a:pt x="482" y="21"/>
                  <a:pt x="472" y="53"/>
                  <a:pt x="472" y="53"/>
                </a:cubicBezTo>
                <a:cubicBezTo>
                  <a:pt x="317" y="52"/>
                  <a:pt x="162" y="52"/>
                  <a:pt x="7" y="50"/>
                </a:cubicBezTo>
                <a:cubicBezTo>
                  <a:pt x="0" y="50"/>
                  <a:pt x="19" y="43"/>
                  <a:pt x="25" y="41"/>
                </a:cubicBezTo>
                <a:cubicBezTo>
                  <a:pt x="37" y="38"/>
                  <a:pt x="49" y="37"/>
                  <a:pt x="61" y="35"/>
                </a:cubicBezTo>
                <a:cubicBezTo>
                  <a:pt x="106" y="27"/>
                  <a:pt x="153" y="24"/>
                  <a:pt x="199" y="20"/>
                </a:cubicBezTo>
                <a:cubicBezTo>
                  <a:pt x="242" y="24"/>
                  <a:pt x="224" y="24"/>
                  <a:pt x="271" y="20"/>
                </a:cubicBezTo>
                <a:cubicBezTo>
                  <a:pt x="292" y="18"/>
                  <a:pt x="334" y="14"/>
                  <a:pt x="334" y="14"/>
                </a:cubicBezTo>
                <a:cubicBezTo>
                  <a:pt x="348" y="9"/>
                  <a:pt x="362" y="6"/>
                  <a:pt x="376" y="2"/>
                </a:cubicBezTo>
                <a:cubicBezTo>
                  <a:pt x="401" y="5"/>
                  <a:pt x="412" y="8"/>
                  <a:pt x="436" y="5"/>
                </a:cubicBezTo>
                <a:cubicBezTo>
                  <a:pt x="450" y="0"/>
                  <a:pt x="463" y="5"/>
                  <a:pt x="478" y="5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48640" y="3205080"/>
            <a:ext cx="795240" cy="58680"/>
          </a:xfrm>
          <a:custGeom>
            <a:avLst/>
            <a:gdLst/>
            <a:ahLst/>
            <a:rect l="l" t="t" r="r" b="b"/>
            <a:pathLst>
              <a:path w="501" h="37">
                <a:moveTo>
                  <a:pt x="0" y="27"/>
                </a:moveTo>
                <a:lnTo>
                  <a:pt x="24" y="0"/>
                </a:lnTo>
                <a:cubicBezTo>
                  <a:pt x="501" y="4"/>
                  <a:pt x="420" y="4"/>
                  <a:pt x="267" y="12"/>
                </a:cubicBezTo>
                <a:cubicBezTo>
                  <a:pt x="243" y="17"/>
                  <a:pt x="231" y="19"/>
                  <a:pt x="204" y="21"/>
                </a:cubicBezTo>
                <a:cubicBezTo>
                  <a:pt x="136" y="16"/>
                  <a:pt x="68" y="37"/>
                  <a:pt x="0" y="27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16120" y="2216160"/>
            <a:ext cx="290520" cy="1440"/>
          </a:xfrm>
          <a:prstGeom prst="line">
            <a:avLst/>
          </a:prstGeom>
          <a:ln w="36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2720" y="2106720"/>
            <a:ext cx="157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n Spinning P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6D5-EFBF-4615-8165-5198076659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2B4B7-CF66-4064-93AA-CEA915A1EC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ncillary Service Procure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0320" y="1238400"/>
            <a:ext cx="8272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curements change based on hou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S, URS, RRS standard by month/hou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SRS also depending on weather cond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on www.ercot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519280" y="3562200"/>
            <a:ext cx="3915000" cy="21528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523880" y="5734080"/>
            <a:ext cx="65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mospublic.ercot.com/ercot/jsp/ancillary_service_requests.j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C9D-3734-4244-87FB-01C0FB94E9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25671-D59F-4B16-8609-B3FDE2DCDD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Out of Merit Energy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of energy outside the bidding proces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balance or cong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XM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 minute interv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urce-leve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621-8CCA-4D8C-B48D-A97C0FD393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122D1-782D-4C64-8EF5-E18B19853C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andon Whitt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bwhittle@ercot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Operations Sup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stem Op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6DA-E37C-4798-AFBA-10314EDB8A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A87B4-307B-49C6-8C18-4D065A5C87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Out of Merit Energy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80600" y="1066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st-contingency Overloa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lve using market dispatch, if possi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OM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68160" y="2909880"/>
            <a:ext cx="77900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53D-9A6C-4020-A32F-AD1905FEB5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6BED6-1472-49F6-8A0B-95B638C4E6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Zonal Out of Merit Energy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of energy outside the bidding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balance or zonal cong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XM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 minute interv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onal-leve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D92-AFB9-42D8-AFB2-206689B3E0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6D740-88F4-4CF6-9973-1DC8C11AF9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Zonal Out of Merit Energy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00480" y="1114200"/>
            <a:ext cx="40435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Zones, 3 CS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iability threatened with excessive North to Houston impor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ME of entire fleets in North and Houston Zones was necess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d to Zonal OOME Ancillary Serv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th to Houston CSC first created for 20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99960" y="1028880"/>
            <a:ext cx="4905360" cy="507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039-BFA9-473A-9684-7012C4A2FA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619D0-CABA-4BA7-8B2B-6DC710791F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Out of Merit Capacity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ection of Generation Capacity outside the bidding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ty or cong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XM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hour interv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urce-leve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AB4-554B-419C-911A-A42D05EA8C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FD0FB-7E33-4601-8BED-C1E4B0D8C5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Out of Merit Capacity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y 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ingency overload observed in analy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acity shortage expec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PRS is first o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OMC if n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ingency overload observed in RT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acity short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d-based dispatch fir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OME seco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OMC if necess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F06-1FFC-4BE1-8625-29DC013203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B6E8C-5096-4B22-AF6E-39BDAC2D34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Replacement Reserv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ty procured from Generation  planned to be off-line and LaaR that are available for interrup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ty or cong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X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hour intervals, in adv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urce-leve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947-7A35-4A26-A0E6-E3CAA637E4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4A96F-20FD-422A-B9DE-661BD5DA1E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oltage Suppor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service to maintain transmission and distribution volt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VDI (Verbal Dispatch Instructio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urce-leve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2F3-DAA3-4983-858D-8EDC1790C0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EA506-0090-4C2A-9D1F-6CC836276C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Reliability Must Ru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urce operated under contract that would not otherwise be oper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estion, stability, and voltage sup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email or fa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urce-leve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RMR units (As of 2/12/0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7CF-EE71-4761-8968-596787F98A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10451-7600-40E7-A5E5-64B82E82B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Black Star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acted service provided by a Resource capable of starting without support of the transmission gr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by QSE according to Black Start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urce-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006 has 15 Black Start Un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F13-4488-425B-9FF8-4BF497DF04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60C39-3E0B-4DD0-B671-1B4161767B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Wrap Up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8520" y="1257120"/>
            <a:ext cx="889632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ing Energy Service is used to get schedules closer to Lo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ulation Service fine tunes the balancing deploy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ive Service is for short-term frequency disturb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Spin Service is for issues of longer duration – a “catch all”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RS brings on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OME, OOMC, Voltage Support, RMR, Black Start are all ‘command and control’ measures used when bid-based solutions cannot fix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cillary Services help keep ERCOT rel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F02-686C-4D44-9CC2-1B96791D8F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047DE-799F-413A-8217-643DA7AC28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cronym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Bas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Ancillary Servi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scribe Dispatch Mechanism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plain Benefits and U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llustrate Use with Examp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ap 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41D-4F8E-4C1E-8480-D272FBACC5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4D9DA-A1AC-41D5-8F30-DE426B2B7A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Other Resourc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toco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2 (Definition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6 (Ancillary Servi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ng Gu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2 (System Operation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pter 8 (Operational Metering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Communication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ng Proced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her Seminar Presen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RCOT Wholesale Client Represent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512) 248-39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32B-B0B7-4C0A-8B4D-E0E43A319D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88D1A-1363-499E-B9B5-B4D2B7A0D1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80760" y="1723680"/>
            <a:ext cx="42102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rther Discussio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6F2-013D-4AC1-B73E-7E7F0C29F5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2F6B8-989B-426E-8C33-E8BB9F32CA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Acronym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42960" y="1085760"/>
          <a:ext cx="5057640" cy="4996080"/>
        </p:xfrm>
        <a:graphic>
          <a:graphicData uri="http://schemas.openxmlformats.org/drawingml/2006/table">
            <a:tbl>
              <a:tblPr/>
              <a:tblGrid>
                <a:gridCol w="1074600"/>
                <a:gridCol w="398304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s Acting as a 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ly Significant Constra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sible Markup Langu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te Terminal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ea Control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ervisory Control and Data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 Control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gawa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 Regulation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ut-of-Merit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 Frequency R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fied Scheduling E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erbal Dispatch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OM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ut-of-Merit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366-CFB2-4F7B-A2E5-4EF589535D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55D3E-C88F-4E61-8ADB-B565F4E2C8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Basics – Zonal Vs. Loc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928" b="2108"/>
          <a:stretch/>
        </p:blipFill>
        <p:spPr>
          <a:xfrm>
            <a:off x="1247760" y="1104840"/>
            <a:ext cx="6402240" cy="50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761-16D3-46EA-BF74-CEB868D6CA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9C89A-99AC-4791-9C18-F3F6861C65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Balancing Energy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2520" y="133344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ergy used to meet variations in Load and ensure secure grid op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X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 minute interv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ona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urce-level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B9F-39DA-4B83-B170-4601682128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4F997-E342-49C6-A3A1-56B902034D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Balancing Energy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40240" y="2192400"/>
            <a:ext cx="5249520" cy="3763800"/>
            <a:chOff x="1740240" y="2192400"/>
            <a:chExt cx="5249520" cy="3763800"/>
          </a:xfrm>
        </p:grpSpPr>
        <p:sp>
          <p:nvSpPr>
            <p:cNvPr id="110" name=""/>
            <p:cNvSpPr/>
            <p:nvPr/>
          </p:nvSpPr>
          <p:spPr>
            <a:xfrm>
              <a:off x="2441520" y="2301840"/>
              <a:ext cx="1440" cy="353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1040" y="583560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81040" y="532908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81040" y="482256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81040" y="431640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81040" y="382104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81040" y="331452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81040" y="28080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81040" y="2301840"/>
              <a:ext cx="6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41520" y="5835600"/>
              <a:ext cx="45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40240" y="57276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7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0240" y="522108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8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0240" y="471492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8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40240" y="42066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9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40240" y="371304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9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40240" y="320652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40240" y="270036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40240" y="219240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14600" y="3301920"/>
            <a:ext cx="4403880" cy="941400"/>
          </a:xfrm>
          <a:custGeom>
            <a:avLst/>
            <a:gdLst/>
            <a:ahLst/>
            <a:rect l="l" t="t" r="r" b="b"/>
            <a:pathLst>
              <a:path w="365" h="78">
                <a:moveTo>
                  <a:pt x="0" y="78"/>
                </a:moveTo>
                <a:lnTo>
                  <a:pt x="13" y="75"/>
                </a:lnTo>
                <a:lnTo>
                  <a:pt x="25" y="73"/>
                </a:lnTo>
                <a:lnTo>
                  <a:pt x="38" y="70"/>
                </a:lnTo>
                <a:lnTo>
                  <a:pt x="51" y="67"/>
                </a:lnTo>
                <a:lnTo>
                  <a:pt x="63" y="63"/>
                </a:lnTo>
                <a:lnTo>
                  <a:pt x="76" y="58"/>
                </a:lnTo>
                <a:lnTo>
                  <a:pt x="88" y="53"/>
                </a:lnTo>
                <a:lnTo>
                  <a:pt x="101" y="51"/>
                </a:lnTo>
                <a:lnTo>
                  <a:pt x="113" y="47"/>
                </a:lnTo>
                <a:lnTo>
                  <a:pt x="126" y="44"/>
                </a:lnTo>
                <a:lnTo>
                  <a:pt x="139" y="41"/>
                </a:lnTo>
                <a:lnTo>
                  <a:pt x="151" y="43"/>
                </a:lnTo>
                <a:lnTo>
                  <a:pt x="164" y="41"/>
                </a:lnTo>
                <a:lnTo>
                  <a:pt x="176" y="41"/>
                </a:lnTo>
                <a:lnTo>
                  <a:pt x="189" y="41"/>
                </a:lnTo>
                <a:lnTo>
                  <a:pt x="201" y="40"/>
                </a:lnTo>
                <a:lnTo>
                  <a:pt x="214" y="40"/>
                </a:lnTo>
                <a:lnTo>
                  <a:pt x="226" y="37"/>
                </a:lnTo>
                <a:lnTo>
                  <a:pt x="239" y="29"/>
                </a:lnTo>
                <a:lnTo>
                  <a:pt x="252" y="24"/>
                </a:lnTo>
                <a:lnTo>
                  <a:pt x="264" y="17"/>
                </a:lnTo>
                <a:lnTo>
                  <a:pt x="277" y="10"/>
                </a:lnTo>
                <a:lnTo>
                  <a:pt x="289" y="10"/>
                </a:lnTo>
                <a:lnTo>
                  <a:pt x="302" y="12"/>
                </a:lnTo>
                <a:lnTo>
                  <a:pt x="314" y="11"/>
                </a:lnTo>
                <a:lnTo>
                  <a:pt x="327" y="10"/>
                </a:lnTo>
                <a:lnTo>
                  <a:pt x="340" y="6"/>
                </a:lnTo>
                <a:lnTo>
                  <a:pt x="352" y="0"/>
                </a:lnTo>
                <a:lnTo>
                  <a:pt x="365" y="3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54360" y="1876320"/>
            <a:ext cx="290520" cy="1800"/>
          </a:xfrm>
          <a:prstGeom prst="line">
            <a:avLst/>
          </a:prstGeom>
          <a:ln w="36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89160" y="1766880"/>
            <a:ext cx="122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ad Foreca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14600" y="2057400"/>
            <a:ext cx="4403520" cy="2765160"/>
            <a:chOff x="2514600" y="2057400"/>
            <a:chExt cx="4403520" cy="2765160"/>
          </a:xfrm>
        </p:grpSpPr>
        <p:sp>
          <p:nvSpPr>
            <p:cNvPr id="132" name=""/>
            <p:cNvSpPr/>
            <p:nvPr/>
          </p:nvSpPr>
          <p:spPr>
            <a:xfrm>
              <a:off x="2514600" y="2808000"/>
              <a:ext cx="4403520" cy="2014560"/>
            </a:xfrm>
            <a:custGeom>
              <a:avLst/>
              <a:gdLst/>
              <a:ahLst/>
              <a:rect l="l" t="t" r="r" b="b"/>
              <a:pathLst>
                <a:path w="365" h="167">
                  <a:moveTo>
                    <a:pt x="0" y="167"/>
                  </a:moveTo>
                  <a:lnTo>
                    <a:pt x="13" y="167"/>
                  </a:lnTo>
                  <a:lnTo>
                    <a:pt x="25" y="167"/>
                  </a:lnTo>
                  <a:lnTo>
                    <a:pt x="38" y="167"/>
                  </a:lnTo>
                  <a:lnTo>
                    <a:pt x="51" y="167"/>
                  </a:lnTo>
                  <a:lnTo>
                    <a:pt x="63" y="167"/>
                  </a:lnTo>
                  <a:lnTo>
                    <a:pt x="76" y="167"/>
                  </a:lnTo>
                  <a:lnTo>
                    <a:pt x="88" y="167"/>
                  </a:lnTo>
                  <a:lnTo>
                    <a:pt x="101" y="167"/>
                  </a:lnTo>
                  <a:lnTo>
                    <a:pt x="113" y="167"/>
                  </a:lnTo>
                  <a:lnTo>
                    <a:pt x="126" y="167"/>
                  </a:lnTo>
                  <a:lnTo>
                    <a:pt x="139" y="167"/>
                  </a:lnTo>
                  <a:lnTo>
                    <a:pt x="151" y="167"/>
                  </a:lnTo>
                  <a:lnTo>
                    <a:pt x="164" y="167"/>
                  </a:lnTo>
                  <a:lnTo>
                    <a:pt x="176" y="167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9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2" y="0"/>
                  </a:lnTo>
                  <a:lnTo>
                    <a:pt x="314" y="0"/>
                  </a:lnTo>
                  <a:lnTo>
                    <a:pt x="327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65" y="0"/>
                  </a:lnTo>
                </a:path>
              </a:pathLst>
            </a:custGeom>
            <a:noFill/>
            <a:ln w="36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54360" y="2165400"/>
              <a:ext cx="290520" cy="1440"/>
            </a:xfrm>
            <a:prstGeom prst="line">
              <a:avLst/>
            </a:prstGeom>
            <a:ln w="36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9880" y="2057400"/>
              <a:ext cx="145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ergy Schedu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14600" y="2346480"/>
            <a:ext cx="4403520" cy="1618560"/>
            <a:chOff x="2514600" y="2346480"/>
            <a:chExt cx="4403520" cy="1618560"/>
          </a:xfrm>
        </p:grpSpPr>
        <p:sp>
          <p:nvSpPr>
            <p:cNvPr id="136" name=""/>
            <p:cNvSpPr/>
            <p:nvPr/>
          </p:nvSpPr>
          <p:spPr>
            <a:xfrm>
              <a:off x="2514600" y="3508200"/>
              <a:ext cx="4403520" cy="45684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0" y="38"/>
                  </a:moveTo>
                  <a:lnTo>
                    <a:pt x="13" y="38"/>
                  </a:lnTo>
                  <a:lnTo>
                    <a:pt x="25" y="38"/>
                  </a:lnTo>
                  <a:lnTo>
                    <a:pt x="38" y="38"/>
                  </a:lnTo>
                  <a:lnTo>
                    <a:pt x="51" y="38"/>
                  </a:lnTo>
                  <a:lnTo>
                    <a:pt x="63" y="38"/>
                  </a:lnTo>
                  <a:lnTo>
                    <a:pt x="76" y="38"/>
                  </a:lnTo>
                  <a:lnTo>
                    <a:pt x="88" y="38"/>
                  </a:lnTo>
                  <a:lnTo>
                    <a:pt x="101" y="38"/>
                  </a:lnTo>
                  <a:lnTo>
                    <a:pt x="113" y="38"/>
                  </a:lnTo>
                  <a:lnTo>
                    <a:pt x="126" y="38"/>
                  </a:lnTo>
                  <a:lnTo>
                    <a:pt x="139" y="38"/>
                  </a:lnTo>
                  <a:lnTo>
                    <a:pt x="151" y="38"/>
                  </a:lnTo>
                  <a:lnTo>
                    <a:pt x="164" y="38"/>
                  </a:lnTo>
                  <a:lnTo>
                    <a:pt x="176" y="38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9" y="0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2" y="0"/>
                  </a:lnTo>
                  <a:lnTo>
                    <a:pt x="314" y="0"/>
                  </a:lnTo>
                  <a:lnTo>
                    <a:pt x="327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65" y="0"/>
                  </a:lnTo>
                </a:path>
              </a:pathLst>
            </a:custGeom>
            <a:noFill/>
            <a:ln w="36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54360" y="2455560"/>
              <a:ext cx="290520" cy="1440"/>
            </a:xfrm>
            <a:prstGeom prst="line">
              <a:avLst/>
            </a:prstGeom>
            <a:ln w="36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88800" y="2346480"/>
              <a:ext cx="216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chedules and Balanc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4724280" y="26668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5410080"/>
            <a:ext cx="104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45280" y="5410080"/>
            <a:ext cx="108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8120" y="2924280"/>
            <a:ext cx="3400200" cy="1749240"/>
            <a:chOff x="3048120" y="2924280"/>
            <a:chExt cx="3400200" cy="1749240"/>
          </a:xfrm>
        </p:grpSpPr>
        <p:grpSp>
          <p:nvGrpSpPr>
            <p:cNvPr id="143" name=""/>
            <p:cNvGrpSpPr/>
            <p:nvPr/>
          </p:nvGrpSpPr>
          <p:grpSpPr>
            <a:xfrm>
              <a:off x="3048120" y="4305240"/>
              <a:ext cx="1143000" cy="368280"/>
              <a:chOff x="3048120" y="4305240"/>
              <a:chExt cx="1143000" cy="368280"/>
            </a:xfrm>
          </p:grpSpPr>
          <p:sp>
            <p:nvSpPr>
              <p:cNvPr id="144" name=""/>
              <p:cNvSpPr/>
              <p:nvPr/>
            </p:nvSpPr>
            <p:spPr>
              <a:xfrm>
                <a:off x="3048120" y="430524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UB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105440" y="435240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305320" y="2924280"/>
              <a:ext cx="1143000" cy="368280"/>
              <a:chOff x="5305320" y="2924280"/>
              <a:chExt cx="1143000" cy="368280"/>
            </a:xfrm>
          </p:grpSpPr>
          <p:sp>
            <p:nvSpPr>
              <p:cNvPr id="147" name=""/>
              <p:cNvSpPr/>
              <p:nvPr/>
            </p:nvSpPr>
            <p:spPr>
              <a:xfrm>
                <a:off x="5305320" y="292428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B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53280" y="300996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66E-C4CD-4CEB-B033-35128BB2D2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DA3F2-51E4-4190-A8E6-E6CDF7EC7A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ilateral vs. Balancing Energ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5562720"/>
            <a:ext cx="783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compared to overall energy requirements, Ancillary Services (including Balancing Energy Service) are a relatively small part compared to scheduled ener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76320" y="1147680"/>
            <a:ext cx="6800760" cy="44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22E-2493-40CB-86E1-E5E06F6D60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43617-13ED-42F2-8E26-60626B4706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560" y="38160"/>
            <a:ext cx="71978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Regulation Up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1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ice which raises power output in Resources to control system frequ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 Instructions to Q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atched using RT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second interv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folio-wide disp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B2C-9F43-4EDC-925C-8A7B6EA97F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2F911-4C99-4842-BA6E-9C43F57AC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20:24:30Z</dcterms:created>
  <dc:creator>Brandon T. Whittle</dc:creator>
  <dc:description/>
  <dc:language>en-US</dc:language>
  <cp:lastModifiedBy>vweldon</cp:lastModifiedBy>
  <dcterms:modified xsi:type="dcterms:W3CDTF">2006-03-16T23:49:28Z</dcterms:modified>
  <cp:revision>186</cp:revision>
  <dc:subject/>
  <dc:title>EMMS Release 4 Update</dc:title>
</cp:coreProperties>
</file>