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6.wmf" ContentType="image/x-wmf"/>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36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3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0"/>
          </p:nvPr>
        </p:nvSpPr>
        <p:spPr>
          <a:xfrm>
            <a:off x="3884400" y="0"/>
            <a:ext cx="2971800" cy="45720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4440" y="684360"/>
            <a:ext cx="4570560" cy="3427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1" name="PlaceHolder 4"/>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1"/>
          </p:nvPr>
        </p:nvSpPr>
        <p:spPr>
          <a:xfrm>
            <a:off x="-360" y="8678880"/>
            <a:ext cx="2971800" cy="45720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2"/>
          </p:nvPr>
        </p:nvSpPr>
        <p:spPr>
          <a:xfrm>
            <a:off x="3884400" y="8678880"/>
            <a:ext cx="2971800" cy="45720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148329B-C175-4B46-AFB6-8C413CB42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4440" y="684360"/>
            <a:ext cx="4570560" cy="3427200"/>
          </a:xfrm>
          <a:prstGeom prst="rect">
            <a:avLst/>
          </a:prstGeom>
          <a:ln w="0">
            <a:noFill/>
          </a:ln>
        </p:spPr>
      </p:sp>
      <p:sp>
        <p:nvSpPr>
          <p:cNvPr id="858"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R unit off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hall decide, in its sole discretion, when to make an RMR Unit available for commitment in DRUC, HRUC, or DAM, considering relevant factors such as whether it is likely to be needed in Real-Time for reliability reasons, whether SCED will solve operating constraints, contractual constraints on the Resource, and any other adverse effects on the RMR Unit that may occur as the result of the dispatch of the RMR Resourc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0600 in the Day-Ahead, each QSE representing RMR units shall submit information to ERCOT indicating availability of RMR units for the operating day, and any other information that ERCOT may need to evaluate use of the uni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000 in the Day-Ahead, ERCOT shall submit, in ERCOT’s sole discretion, Three-Part Supply Offers based on RMR Agreement rates and any other relevant information as provided under contract on behalf of RMR Units for any RMR Units to be considered in the DAM, DRUC, or HRUC.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may submit Energy Offer Curves based on RMR Agreement rates and any other relevant information as provided under contract on behalf of RMR Units committed in the DAM, DRUC, or HRUC.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4440" y="684360"/>
            <a:ext cx="4570560" cy="3427200"/>
          </a:xfrm>
          <a:prstGeom prst="rect">
            <a:avLst/>
          </a:prstGeom>
          <a:ln w="0">
            <a:noFill/>
          </a:ln>
        </p:spPr>
      </p:sp>
      <p:sp>
        <p:nvSpPr>
          <p:cNvPr id="860"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long will it take DAM to ru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bout 1-2 hour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ting Forecasted ERCOT System Condi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later than 0600 in the Day-Ahead, ERCOT shall post on the MIS Secure Area, and make available for download, the following information for the Operating Da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twork Operations Model topology that includes known transmission line and other Transmission Facilities Outages for the minimum Load hour and the peak Load hou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ather assumptions used by ERCOT to forecast ERCOT System conditions and used in the Dynamic Rating Processor;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y weather-related changes to the transmission contingency lis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ystem, Weather Zone, and Load Zone Load forecasts for the next seven day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ad forecast distribution factor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ad Profiles for non-IDR metered Customer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on Loss Factors and forecasted  ERCOT-wide Transmission Loss Factor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Electrical Bus Load distribution factor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urrent list of all Settlement Point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apping of Settlement Points to Electrical Buses in the Network Operations Model.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cillary Service Pla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hall analyze the expected Load conditions for the Operating Day and develop an Ancillary Service Plan that identifies the Ancillary Service MW necessary for each hour of the Operating Day.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specified by ERCOT for an hour and published on the MIS Public Area, Ancillary Service quantity requirements for an Operating Day may not be decrease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hall assign part of the Ancillary Service Plan quantity, by service, by hour, to each LSE based on Load Ratio Share and shall then aggregate those quantities, by service, by hour to the QSE level.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hall base the LSE Ancillary Service allocation on the hourly Load Ratio Share from the Initial Settlement data for the Day-Ahead Market, for the same hour and day of the week, for the most recent day for which Initial Settlement Statements are availabl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 Generation Resource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hall produce and update hourly a Short-Term Wind Power Forecast (STWPF) that provides a rolling 48-hour hourly forecast of wind production potential for each Wind-Powered Generation Resource (WGR).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Generation Entity that owns a WGR shall install and telemeter to ERCOT the site-specific meteorological information that ERCOT determines is necessary to produce the STWPF forecast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GR Production Potential (WGRPP) is an hourly 80% confidence level forecast of energy production for each WGR.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WPF, ERCOT shall produce and update WGRPP forecasts each hour for each WGR to be used as input into each RUC proces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QSE representing a WGR shall use the latest WGRPP forecast for each WGR published by ERCOT as the HSL for the WGR in the QSE’s COP.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termine a QSE’s capacity shortage for RUC settlement purposes for each WGR, ERCOT shall use the COP and Trades Snapshot prior to the Day-Ahead RUC regardless of Real-Time capacity or actual generation. </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4440" y="684360"/>
            <a:ext cx="4570560" cy="3427200"/>
          </a:xfrm>
          <a:prstGeom prst="rect">
            <a:avLst/>
          </a:prstGeom>
          <a:ln w="0">
            <a:noFill/>
          </a:ln>
        </p:spPr>
      </p:sp>
      <p:sp>
        <p:nvSpPr>
          <p:cNvPr id="862"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M Offer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ee-part supply offers.  Three-part supply offers that are not cleared by DAM are used by DRUC</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M Energy-Only offer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cillary Service offer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R offer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M Bi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Energy bi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PTP Obligation bi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 (Current Operating Pla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P includ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ame of the Resourc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xpected Resource Status (ONRUC – online and the hour is a RUC-committed interval; ONREG – online Resource with Energy Offer curve providing regulation service; ON – online Resource with Energy Offer Curve; etc.)</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L (High Sustained Limit)</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L (Low Sustained Limit)</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 (High Emergency Limit)</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L (Low Emergency Limit)</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cillary Service capacity in MW for Reg Up, Reg Dn, RRS, NSR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combined-cycle Resources, the above items are required for each operating configu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QSE that represents a Resource must submit a COP to ERCOT that reflects expected operating conditions for each Resource for each hour in the Operating Day and the next seven Operating Day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QSE shall update its COP reflecting changes in availability of any Resource as soon as reasonably practicable, but in no event later than 60 minutes after the event that caused the change.</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Arranged Ancillary Servic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QSE must indicate before 1000 in the Day-Ahead the of Self-Arranged Ancillary Service Quantities,</a:t>
            </a:r>
            <a:r>
              <a:rPr b="1" lang="en-US" sz="800" spc="-1" strike="noStrike" u="sng">
                <a:solidFill>
                  <a:srgbClr val="000000"/>
                </a:solidFill>
                <a:uFillTx/>
                <a:latin typeface="Arial"/>
              </a:rPr>
              <a:t> </a:t>
            </a:r>
            <a:r>
              <a:rPr b="0" lang="en-US" sz="800" spc="-1" strike="noStrike">
                <a:solidFill>
                  <a:srgbClr val="000000"/>
                </a:solidFill>
                <a:latin typeface="Arial"/>
              </a:rPr>
              <a:t>by service, so ERCOT can determine how much Ancillary Service capacity, by service, needs to be obtained through the DAM.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or after 1000 in the Day-Ahead, a QSE may not change its Self-Arranged Ancillary Service Quantities unless ERCOT opens a Supplemental Ancillary Service Marke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1430 in the Day-Ahead, all Self-Arranged Ancillary Service Quantities must be represented by physical capacity, either by Generation Resources or Load Resources, or backed by Ancillary Service Trad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4440" y="684360"/>
            <a:ext cx="4570560" cy="3427200"/>
          </a:xfrm>
          <a:prstGeom prst="rect">
            <a:avLst/>
          </a:prstGeom>
          <a:ln w="0">
            <a:noFill/>
          </a:ln>
        </p:spPr>
      </p:sp>
      <p:sp>
        <p:nvSpPr>
          <p:cNvPr id="864"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FT uses the Day-Ahead Updated Network Model topology and evaluates all CRRs for feasibility to determine hourly oversold quantiti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id-based revenues include revenues from DAM Energy Bids and PTP Obligation Bid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ffer-based costs include costs from Three-part Supply Offers, DAM Energy-Only Offers, CRR Offers, and Ancillary Service Off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constraints include:</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mission constraints </a:t>
            </a:r>
            <a:endParaRPr b="0" lang="en-US" sz="9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mal constraints – protect transmission facilities against thermal overload</a:t>
            </a:r>
            <a:endParaRPr b="0" lang="en-US" sz="9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ic constraints – protect the ERCOT Transmission Grid against transient instability, dynamic stability or voltage collapse</a:t>
            </a:r>
            <a:endParaRPr b="0" lang="en-US" sz="9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 flow constraints – the energy balance at required Electrical Buses in the ERCOT Transmission Grid must be maintained </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constraints</a:t>
            </a:r>
            <a:endParaRPr b="0" lang="en-US" sz="9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output constraints – the minimum and maximum output levels of each Resource </a:t>
            </a:r>
            <a:endParaRPr b="0" lang="en-US" sz="9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operational constraints – includes minimum run time, minimum down time, and configuration constraints </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ther constraints</a:t>
            </a:r>
            <a:endParaRPr b="0" lang="en-US" sz="9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ed offers – the DAM may not select any one part of that Resource capacity to provide more than one Ancillary Service or to provide both energy and an Ancillary Service in the same Operating Hour. The DAM may, however, select part of that Resource capacity to provide one Ancillary Service and another part of that capacity to provide a different Ancillary Service or energy in the same Operating Hour</a:t>
            </a:r>
            <a:endParaRPr b="0" lang="en-US" sz="9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ock Ancillary Service Offers – For a Load Resource offering a block Ancillary Service Offer, the DAM must ignore the offer unless the entire block can be accepted</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4440" y="684360"/>
            <a:ext cx="4570560" cy="3427200"/>
          </a:xfrm>
          <a:prstGeom prst="rect">
            <a:avLst/>
          </a:prstGeom>
          <a:ln w="0">
            <a:noFill/>
          </a:ln>
        </p:spPr>
      </p:sp>
      <p:sp>
        <p:nvSpPr>
          <p:cNvPr id="866"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ecurity Sequence is a set of prerequisite processes for RUC that describes the key system components and inputs that are required to support the RUC process, the RUC process itself, and the ERCOT review of the Resource commitment recommendations made by the RUC proces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ecurity Sequence uses a subset of the computational modules used by the Real-Time Sequence. The main distinction between the two models concerns inputs. The inputs into the Security Sequence are based on a snapshot of projected hourly system conditions and constrain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ecurity Sequence uses the status of all transmission breakers and switches(current status for HRUC and normal status for DRUC), updated for approved Planned Outages for equipment out of service and returned to service for building a representation of the ERCOT Transmission Grid for each hour of the RUC Study Perio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eather forecast obtained by ERCOT must be provided to the Dynamic Rating Processor to create weather-adjusted MVA limits for each hour of the RUC Study Period for all transmission lines and transformers that have Dynamic Rating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shall analyze base configuration, select n-1 contingencies and select n-2 contingencies under the Operating Guid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shall also post to the MIS Secure Area any contingencies temporarily removed from the standard contingency list by ERCOT immediately after successful execution of the Security Sequenc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part of the Network Security Analysis, if there is an approved Remedial Action Plan (RAP) available, it must be used before considering a Resource commit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shall model all approved Special Protection Systems (SPSs) and RAPs in the contingency analysis. The computational modules must enable ERCOT to analyze contingencies, including the effects of all approved automatically deployed SPSs. </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4440" y="684360"/>
            <a:ext cx="4570560" cy="3427200"/>
          </a:xfrm>
          <a:prstGeom prst="rect">
            <a:avLst/>
          </a:prstGeom>
          <a:ln w="0">
            <a:noFill/>
          </a:ln>
        </p:spPr>
      </p:sp>
      <p:sp>
        <p:nvSpPr>
          <p:cNvPr id="868"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tors included in the RUC process 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ERCOT System-wide hourly Load forecast allocated appropriately over Load bu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Transmission constraints – Transfer limits on energy flows through the electricity net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t>
            </a:r>
            <a:r>
              <a:rPr b="0" lang="en-US" sz="800" spc="-1" strike="noStrike">
                <a:solidFill>
                  <a:srgbClr val="000000"/>
                </a:solidFill>
                <a:latin typeface="Arial"/>
              </a:rPr>
              <a:t>	</a:t>
            </a:r>
            <a:r>
              <a:rPr b="0" lang="en-US" sz="800" spc="-1" strike="noStrike">
                <a:solidFill>
                  <a:srgbClr val="000000"/>
                </a:solidFill>
                <a:latin typeface="Arial"/>
              </a:rPr>
              <a:t>Thermal constraints – protect transmission facilities against thermal overlo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a:t>
            </a:r>
            <a:r>
              <a:rPr b="0" lang="en-US" sz="800" spc="-1" strike="noStrike">
                <a:solidFill>
                  <a:srgbClr val="000000"/>
                </a:solidFill>
                <a:latin typeface="Arial"/>
              </a:rPr>
              <a:t>	</a:t>
            </a:r>
            <a:r>
              <a:rPr b="0" lang="en-US" sz="800" spc="-1" strike="noStrike">
                <a:solidFill>
                  <a:srgbClr val="000000"/>
                </a:solidFill>
                <a:latin typeface="Arial"/>
              </a:rPr>
              <a:t>Generic constraints – protect the transmission system against transient instability, dynamic instability or voltage collap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t>
            </a:r>
            <a:r>
              <a:rPr b="0" lang="en-US" sz="800" spc="-1" strike="noStrike">
                <a:solidFill>
                  <a:srgbClr val="000000"/>
                </a:solidFill>
                <a:latin typeface="Arial"/>
              </a:rPr>
              <a:t>	</a:t>
            </a:r>
            <a:r>
              <a:rPr b="0" lang="en-US" sz="800" spc="-1" strike="noStrike">
                <a:solidFill>
                  <a:srgbClr val="000000"/>
                </a:solidFill>
                <a:latin typeface="Arial"/>
              </a:rPr>
              <a:t>Planned transmission topolo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
            </a:r>
            <a:r>
              <a:rPr b="0" lang="en-US" sz="800" spc="-1" strike="noStrike">
                <a:solidFill>
                  <a:srgbClr val="000000"/>
                </a:solidFill>
                <a:latin typeface="Arial"/>
              </a:rPr>
              <a:t>	</a:t>
            </a:r>
            <a:r>
              <a:rPr b="0" lang="en-US" sz="800" spc="-1" strike="noStrike">
                <a:solidFill>
                  <a:srgbClr val="000000"/>
                </a:solidFill>
                <a:latin typeface="Arial"/>
              </a:rPr>
              <a:t>Energy sufficiency constra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a:r>
            <a:r>
              <a:rPr b="0" lang="en-US" sz="800" spc="-1" strike="noStrike">
                <a:solidFill>
                  <a:srgbClr val="000000"/>
                </a:solidFill>
                <a:latin typeface="Arial"/>
              </a:rPr>
              <a:t>	</a:t>
            </a:r>
            <a:r>
              <a:rPr b="0" lang="en-US" sz="800" spc="-1" strike="noStrike">
                <a:solidFill>
                  <a:srgbClr val="000000"/>
                </a:solidFill>
                <a:latin typeface="Arial"/>
              </a:rPr>
              <a:t>Inputs from the COP, as appropri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t>
            </a:r>
            <a:r>
              <a:rPr b="0" lang="en-US" sz="800" spc="-1" strike="noStrike">
                <a:solidFill>
                  <a:srgbClr val="000000"/>
                </a:solidFill>
                <a:latin typeface="Arial"/>
              </a:rPr>
              <a:t>	</a:t>
            </a:r>
            <a:r>
              <a:rPr b="0" lang="en-US" sz="800" spc="-1" strike="noStrike">
                <a:solidFill>
                  <a:srgbClr val="000000"/>
                </a:solidFill>
                <a:latin typeface="Arial"/>
              </a:rPr>
              <a:t>Inputs from Resource Parameters, as appropri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Each Generation Resource’s Minimum-Energy Offer and Startup Offer, from its Three-Part Supply O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a:solidFill>
                  <a:srgbClr val="000000"/>
                </a:solidFill>
                <a:latin typeface="Arial"/>
              </a:rPr>
              <a:t>	</a:t>
            </a:r>
            <a:r>
              <a:rPr b="0" lang="en-US" sz="800" spc="-1" strike="noStrike">
                <a:solidFill>
                  <a:srgbClr val="000000"/>
                </a:solidFill>
                <a:latin typeface="Arial"/>
              </a:rPr>
              <a:t>Any Generation Resource that is Off-Line and available but does not have a Three-Part Supply O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t>
            </a:r>
            <a:r>
              <a:rPr b="0" lang="en-US" sz="800" spc="-1" strike="noStrike">
                <a:solidFill>
                  <a:srgbClr val="000000"/>
                </a:solidFill>
                <a:latin typeface="Arial"/>
              </a:rPr>
              <a:t>	</a:t>
            </a:r>
            <a:r>
              <a:rPr b="0" lang="en-US" sz="800" spc="-1" strike="noStrike">
                <a:solidFill>
                  <a:srgbClr val="000000"/>
                </a:solidFill>
                <a:latin typeface="Arial"/>
              </a:rPr>
              <a:t>Forced Outage information;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t>
            </a:r>
            <a:r>
              <a:rPr b="0" lang="en-US" sz="800" spc="-1" strike="noStrike">
                <a:solidFill>
                  <a:srgbClr val="000000"/>
                </a:solidFill>
                <a:latin typeface="Arial"/>
              </a:rPr>
              <a:t>	</a:t>
            </a:r>
            <a:r>
              <a:rPr b="0" lang="en-US" sz="800" spc="-1" strike="noStrike">
                <a:solidFill>
                  <a:srgbClr val="000000"/>
                </a:solidFill>
                <a:latin typeface="Arial"/>
              </a:rPr>
              <a:t>Inputs from the eight-day look ahead planning tool, which may potentially keep a unit online (or start a unit for the next day) so that a unit minimum duration between starts does not limit the availability of the unit (for security reas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termine the projected energy output level of each Resource and to project potential congestion patterns for each hour of the RUC, ERCOT shall calculate proxy Energy Offer Curves based on the Mitigated Offer Caps for the type of Resource as specified in Section 4.4.8.4, Mitigated Offer Cap and Mitigated Offer Floor , for use in the RUC. Proxy Energy Offer Curves are calculated by multiplying the Mitigated Offer Cap by a constant selected by ERCOT from time to time and applying the cost for all Generation Resource output between HSL and LSL. The constant selected by ERCOT may not be more than 0.00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hall create Three-Part Supply Offers for all Resources that did not submit a Three-Part Supply Offer but are specified as available but Off-Line, excluding Resources with a Resource Status of EMR(Available for commitment only for ERCOT-declared Emergency Condition events). For such Resources, ERCOT shall use in the RUC process 150% of any approved verifiable startup and minimum-energy costs or if verifiable costs have not been approved, the applicable Resource Category Generic Startup Offer and Minimum-Energy Offer Costs.  However for settlement purposes, ERCOT shall use any approved verifiable startup costs and verifiable minimum-energy cost for such Resources, or if verifiable costs have not been approved, the applicable Resource Category Generic Startup Offer Cost and Generic Minimum-Energy Offer Co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C process must treat all Resource capacity providing Ancillary Service as unavailable for the RUC Study Period, unless that treatment leads to infeasibility (</a:t>
            </a:r>
            <a:r>
              <a:rPr b="0" i="1" lang="en-US" sz="800" spc="-1" strike="noStrike">
                <a:solidFill>
                  <a:srgbClr val="000000"/>
                </a:solidFill>
                <a:latin typeface="Arial"/>
              </a:rPr>
              <a:t>i.e.,</a:t>
            </a:r>
            <a:r>
              <a:rPr b="0" lang="en-US" sz="800" spc="-1" strike="noStrike">
                <a:solidFill>
                  <a:srgbClr val="000000"/>
                </a:solidFill>
                <a:latin typeface="Arial"/>
              </a:rPr>
              <a:t> that capacity is needed to resolve some local transmission problem that cannot be resolved by any other means).  In such cases, ERCOT shall inform each affected QSE of the amount of its Resource capacity that does not qualify to provide Ancillary Service, and the projected hours for which this is the case.  In that event, the affected QSE may ei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0" lang="en-US" sz="800" spc="-1" strike="noStrike">
                <a:solidFill>
                  <a:srgbClr val="000000"/>
                </a:solidFill>
                <a:latin typeface="Arial"/>
              </a:rPr>
              <a:t>	</a:t>
            </a:r>
            <a:r>
              <a:rPr b="0" lang="en-US" sz="800" spc="-1" strike="noStrike">
                <a:solidFill>
                  <a:srgbClr val="000000"/>
                </a:solidFill>
                <a:latin typeface="Arial"/>
              </a:rPr>
              <a:t>Substitute capacity from Resources represented by that Q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Substitute capacity from other QSEs using Ancillary Service Trades;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t>
            </a:r>
            <a:r>
              <a:rPr b="0" lang="en-US" sz="800" spc="-1" strike="noStrike">
                <a:solidFill>
                  <a:srgbClr val="000000"/>
                </a:solidFill>
                <a:latin typeface="Arial"/>
              </a:rPr>
              <a:t>	</a:t>
            </a:r>
            <a:r>
              <a:rPr b="0" lang="en-US" sz="800" spc="-1" strike="noStrike">
                <a:solidFill>
                  <a:srgbClr val="000000"/>
                </a:solidFill>
                <a:latin typeface="Arial"/>
              </a:rPr>
              <a:t>Ask ERCOT to replace the capacity.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4440" y="684360"/>
            <a:ext cx="4570560" cy="3427200"/>
          </a:xfrm>
          <a:prstGeom prst="rect">
            <a:avLst/>
          </a:prstGeom>
          <a:ln w="0">
            <a:noFill/>
          </a:ln>
        </p:spPr>
      </p:sp>
      <p:sp>
        <p:nvSpPr>
          <p:cNvPr id="870"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hall conduct at least one Day-Ahead RUC (DRUC) and at least one Hourly RUC (HRUC) before each hour of the Operating Day.  ERCOT, in its sole discretion, may conduct a RUC at any time to evaluate and resolve reliabilit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4440" y="684360"/>
            <a:ext cx="4570560" cy="3427200"/>
          </a:xfrm>
          <a:prstGeom prst="rect">
            <a:avLst/>
          </a:prstGeom>
          <a:ln w="0">
            <a:noFill/>
          </a:ln>
        </p:spPr>
      </p:sp>
      <p:sp>
        <p:nvSpPr>
          <p:cNvPr id="872"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C uses Three-Part Supply Offers submitted before the DAM by QSEs that were considered in the DAM but not awarded in the DAM.  A QSE may not submit a Three-Part Supply Offer to be considered in the DRUC unless the offer was also submitted for consideration in the DA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4440" y="684360"/>
            <a:ext cx="4570560" cy="3427200"/>
          </a:xfrm>
          <a:prstGeom prst="rect">
            <a:avLst/>
          </a:prstGeom>
          <a:ln w="0">
            <a:noFill/>
          </a:ln>
        </p:spPr>
      </p:sp>
      <p:sp>
        <p:nvSpPr>
          <p:cNvPr id="874"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must initiate the HRUC process at least one hour before the Operating Hour to fine-tune the Resource commitments using updated Load forecasts and updated Outag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articipate in HRUC, each QSE must submit any Three-Part Supply Offers before the end of the Adjustment Period for each HRU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4440" y="684360"/>
            <a:ext cx="4570560" cy="3427200"/>
          </a:xfrm>
          <a:prstGeom prst="rect">
            <a:avLst/>
          </a:prstGeom>
          <a:ln w="0">
            <a:noFill/>
          </a:ln>
        </p:spPr>
      </p:sp>
      <p:sp>
        <p:nvSpPr>
          <p:cNvPr id="876"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eal-Time Sequence consists of multiple interdependent processes that are driven by telemetry data and the network topology. </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ADA telemetry provides the actual Real-Time status and output of Resources and the status of observable Transmission Elements of the Network Operations Model. </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twork Topology Builder creates the Updated Network Model based on the observed topology of the ERCOT Transmission Grid.  The Updated Network Model is then used as the basis for the State Estimator solution.</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tate Estimator must use the forecasted Load coupled with the remaining telemetry of line flows and voltages to estimate the actual Load on each Electrical Bus. </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tate Estimator must use the Bus Load Forecast and the remaining telemetry information of line flows and voltages to estimate all the transmission parameters needed to provide, on convergence, a mathematically consistent data set of constrained inputs to the Network Security Analysis (NSA) and the Topology Consistency Analyzer. </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opology Consistency Analyzer identifies possibly erroneous breaker and switch status. </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ynamic Rating Processor provides Dynamic Ratings for all transmission lines and transformer elements with Dynamic Ratings designated by the TSPs.  ERCOT shall obtain Real-Time weather data, where available, from multiple locations and provide it to the Dynamic Rating Processor. </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ing the input provided by the State Estimator, ERCOT shall use the Network Security Analysis (NSA) processor to perform analysis of all contingencies remaining in the active list. ERCOT may not allow any contingency anticipated to be active in SCED, identified by NSA, until it has verified that the contingency is accurate and appropriate given the current operating state of the ERCOT Transmission Grid.  ERCOT may use the information provided by the Hour-Ahead or Day-Ahead Network Security Analysis to assist in determining which contingencies are candidates for activation. </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4440" y="684360"/>
            <a:ext cx="4570560" cy="3427200"/>
          </a:xfrm>
          <a:prstGeom prst="rect">
            <a:avLst/>
          </a:prstGeom>
          <a:ln w="0">
            <a:noFill/>
          </a:ln>
        </p:spPr>
      </p:sp>
      <p:sp>
        <p:nvSpPr>
          <p:cNvPr id="878"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energy settlements use Real-Time Settlement Point Prices that are calculated for Resource Nodes, Load Zones, and Hubs for a 15-minute Settlement Interval, using the LMPs from all of the executions of SCED in the Settlement Interval.  In contrast, the DAM energy settlements will use DAM Settlement Point Prices that are calculated for Resource Nodes, Load Zones, and Hubs for a one-hour Settlement Interval.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4440" y="684360"/>
            <a:ext cx="4570560" cy="3427200"/>
          </a:xfrm>
          <a:prstGeom prst="rect">
            <a:avLst/>
          </a:prstGeom>
          <a:ln w="0">
            <a:noFill/>
          </a:ln>
        </p:spPr>
      </p:sp>
      <p:sp>
        <p:nvSpPr>
          <p:cNvPr id="880"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tervals that the SCED process fails to reach a solution, then the LMPs for the interval for which no solution was reached are equal to the LMPs in the most recently solved inter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hall notify the market of the failure using the Messaging System and by posting on the MIS Secure Are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an Emergency Condition, the ERCOT Operator may relax transmission constraints to provide additional generation at the expense of temporarily creating a security violation as long as the violation does not physically overload any single transmission element above its emergency limit, as defined in the ERCOT Operating Guides.  ERCOT shall report any NERC or FERC penalties assessed for violating those constraints to Market Participants and the PU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laxes HASLs and LASLs for specific Resources by reducing the Ancillary Service Schedules for the affected Resource, if sufficient supply exists to manage total system needs.   LMPs calculated for the affected interval must be used for settl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hall honor all Resource operating parameters in Dispatch Instructions under normal conditions and Emergency Conditions.  During Emergency Conditions, ERCOT may verbally request QSEs to operate its Resources outside normal operating parameters.  If such request is received by a QSE, the QSE shall discuss the request with ERCOT in good faith and may choose to comply with the reque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alifying Facility (QF), a hydro-powered Resource, or a nuclear-powered Resource may be instructed by ERCOT to operate below its Low Sustained Limit only after all other Resource options have been exhaust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ow Ancillary Service Limit (HASL/LASL) : </a:t>
            </a:r>
            <a:r>
              <a:rPr b="0" lang="en-US" sz="1200" spc="-1" strike="noStrike">
                <a:solidFill>
                  <a:srgbClr val="000000"/>
                </a:solidFill>
                <a:latin typeface="Arial"/>
              </a:rPr>
              <a:t>A dynamically calculated MW upper/lower limit on a Resource to reserve the part of the Resource’s capacity committed for Ancillary Service, calculated as described in Section 6.5.7.2, Resource Limit Calcula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ergency Base Point: </a:t>
            </a:r>
            <a:r>
              <a:rPr b="0" lang="en-US" sz="1200" spc="-1" strike="noStrike">
                <a:solidFill>
                  <a:srgbClr val="000000"/>
                </a:solidFill>
                <a:latin typeface="Arial"/>
              </a:rPr>
              <a:t>The target MW output level for a Resource that is selected by ERCOT during an Emergency Cond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ergency Condition is e</a:t>
            </a:r>
            <a:r>
              <a:rPr b="0" lang="en-US" sz="1200" spc="-1" strike="noStrike">
                <a:solidFill>
                  <a:srgbClr val="000000"/>
                </a:solidFill>
                <a:latin typeface="Arial"/>
              </a:rPr>
              <a:t>it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n operating condition in which the safety or reliability of the ERCOT System is compromised or threatened, as determined by ERCOT; or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lure of the SCED proces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mergency Rating: </a:t>
            </a:r>
            <a:r>
              <a:rPr b="0" lang="en-US" sz="1200" spc="-1" strike="noStrike">
                <a:solidFill>
                  <a:srgbClr val="000000"/>
                </a:solidFill>
                <a:latin typeface="Arial"/>
              </a:rPr>
              <a:t>Two-hour MVA rating of a Transmission El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5-Minute Rating: </a:t>
            </a:r>
            <a:r>
              <a:rPr b="0" lang="en-US" sz="1200" spc="-1" strike="noStrike">
                <a:solidFill>
                  <a:srgbClr val="000000"/>
                </a:solidFill>
                <a:latin typeface="Arial"/>
              </a:rPr>
              <a:t>The 15-Minute MVA rating of a Transmission Ele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rmal Rating: </a:t>
            </a:r>
            <a:r>
              <a:rPr b="0" lang="en-US" sz="1200" spc="-1" strike="noStrike">
                <a:solidFill>
                  <a:srgbClr val="000000"/>
                </a:solidFill>
                <a:latin typeface="Arial"/>
              </a:rPr>
              <a:t>The rating at which a Transmission Element can operate without reducing its normal life expectanc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4440" y="684360"/>
            <a:ext cx="4570560" cy="3427200"/>
          </a:xfrm>
          <a:prstGeom prst="rect">
            <a:avLst/>
          </a:prstGeom>
          <a:ln w="0">
            <a:noFill/>
          </a:ln>
        </p:spPr>
      </p:sp>
      <p:sp>
        <p:nvSpPr>
          <p:cNvPr id="882" name="PlaceHolder 2"/>
          <p:cNvSpPr>
            <a:spLocks noGrp="1"/>
          </p:cNvSpPr>
          <p:nvPr>
            <p:ph type="body"/>
          </p:nvPr>
        </p:nvSpPr>
        <p:spPr>
          <a:xfrm>
            <a:off x="685800" y="4341600"/>
            <a:ext cx="5486400" cy="4111560"/>
          </a:xfrm>
          <a:prstGeom prst="rect">
            <a:avLst/>
          </a:prstGeom>
          <a:no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communication ERCOT issues is determined primarily on the basis of the time available for the market to respond before an Emergency Condition occurs.  The timing of these communications could range from days in advance to immediate.  If there is insufficient time to allow the market to react, ERCOT may bypass one or more of the communication ste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issue an OCN to inform all QSEs of a possible future need for more Resources due to conditions that could affect ERCOT System reliability.  OCNs are for informational purposes on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ory: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RCOT shall issue an Advisory whe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en it recognizes that conditions are developing or have changed and more Ancillary Services will be needed to maintain current or near-term operating reliabilit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When weather or ERCOT System conditions require more lead-time than the normal Day-Ahead Market allow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When a Market Participant notifies ERCOT of fuel curtailment that could significantly impact available capabilit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When communications or other controls are significantly limited; o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When ERCOT Transmission Grid conditions are such that operations within first contingency criteria as defined in the Operating Guides are not likely or possible because of Forced Outages or other condition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an Advisory is for information purposes, ERCOT may exercise its authority, in such circumstances, to increase Ancillary Service requirements above the quantities originally specified in the Day-Ahead in accordance with procedur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RCOT shall issue an Alert when ERCOT determines th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onditions have developed such that additional Ancillary Services are needed in the current Operating Perio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re are insufficient Ancillary Services or Energy Offers. in the Day-Ahead Market (DAM) or in a Supplemental Ancillary Services Market (SAS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Market-based Congestion Management techniques embedded in SCED as specified in these Protocols will not be adequate to resolve transmission security viol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orced Outages or other abnormal operating conditions have occurred, or may occur that require operations with active transmission security viol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ith the issuance of an Alert, ERCOT may exercise its authority to immediately procure the following services from existing offer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egulation Servic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Responsive Reserve Services; and</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pinning Reserve Servi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Not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RCOT shall issue an Emergency Notice only for one or more of the following reas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ERCOT cannot maintain minimum reliability standards during the Operating Period using every Resource practicably obtainable from the marke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ERCOT is in an unreliable condition, as defined below;</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Immediate action must be taken to avoid or relieve an overloaded transmission elemen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ERCOT varies from timing requirements or omits one or more Day-Ahead or Adjustment Period and Real-Time proced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ERCOT varies from timing requirements or omits one or more scheduling procedures in the Real-Time proces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r>
              <a:rPr b="0" lang="en-US" sz="1200" spc="-1" strike="noStrike">
                <a:solidFill>
                  <a:srgbClr val="000000"/>
                </a:solidFill>
                <a:latin typeface="Arial"/>
              </a:rPr>
              <a:t>	</a:t>
            </a:r>
            <a:r>
              <a:rPr b="0" lang="en-US" sz="1200" spc="-1" strike="noStrike">
                <a:solidFill>
                  <a:srgbClr val="000000"/>
                </a:solidFill>
                <a:latin typeface="Arial"/>
              </a:rPr>
              <a:t>ERCOT determines that a fuel shortage exists that could significantly impact the available capacity to the grid, based on information provided by the Market Participants; or</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ED process fails to reach a solution, whether or not ERCOT is using one or both of the measures specified in paragraph (3) of Section 6.5.9.2, Failure of the SCED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f the Emergency Condition is the result of a transmission problem that puts the ERCOT System in an unreliable condition, then ERCOT shall act immediately to return the ERCOT System to a reliable condition, including instructing Resources to change output and instructing TSPs or DSPs to drop Lo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f the Emergency Condition is the result of an Ancillary Service insufficiency, then ERCOT shall follow the Emergency Electric Curtailment Plan procedur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DC1BB-B662-481F-93C4-3E1FFCE0A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8534D-CC42-4399-B621-D51DB11D8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D5411-084A-4311-BA29-3C151F34B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72D0B-96BA-4DCA-B8EE-2B410E9AC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A680675-C7C5-45A1-913D-6F3A7F6B1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486D83-CD2F-4C19-9D4A-33E86A5FE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CCF1EE-EEC1-44E5-828E-C651FAB91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041CC2-C1FB-4E93-9B50-91DB9AAD6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25FFA5-A17A-4758-AD2E-A95B10F72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1D3D480-5625-492D-9C01-F75EFD6E1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3D2D5A-ACD5-4D50-9B04-635C4BD19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CB31F-E3D8-456D-8655-F0D324881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725B6C-4EB5-4A89-82C6-4FEB48BC2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B104E3-F801-4C35-97E5-B90641EC2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88D75E3-B2F2-4244-BB7E-5A9484864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AA4EF22-4662-4E54-AB7B-EFA11F494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5E72C3C-EED0-49DB-83BB-63B31DADF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652BCF-A9E5-4766-8741-AEE86FFD7A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4728EA-D0ED-480B-A670-0711BF9CE8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4A25D-3587-4C3C-AE0B-6F913D682E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26568-F543-46AF-B6A5-91A4FE5C3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49AB8-B061-4618-9979-AA2229554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ACFCB-636A-4D2C-8A1E-2F5D56888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FE725F-D433-47A0-8D5B-C248E6249E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81882-3056-41E6-BE49-1D994B874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2A800-ABDA-4905-A1AC-5E6560AC8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EBE7F-119B-494D-A02C-9CEBE6E55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C4EF6-9B28-43D8-9FC0-0480E99F3E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108C2C-7BDF-48D3-9437-3FB998D143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E1EF38-C91B-4D08-A2E8-4CCFE8C801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B8D57-6D61-4FE7-8A7C-2010BC015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10D8F-4E8D-4D28-98B0-756670C4E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C4561-8A58-4134-8C83-6189E88B8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B0D51-96A7-49B8-A0F5-618C0DED7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7736-871D-40B0-94B8-7F76E1E5D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ACF43-BEB6-480F-9DFC-078DD46F9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FF5C-A83E-4267-86B9-79A7B52414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23" name="" descr=""/>
          <p:cNvPicPr/>
          <p:nvPr/>
        </p:nvPicPr>
        <p:blipFill>
          <a:blip r:embed="rId2"/>
          <a:stretch/>
        </p:blipFill>
        <p:spPr>
          <a:xfrm>
            <a:off x="7504200" y="6165720"/>
            <a:ext cx="1676160" cy="755640"/>
          </a:xfrm>
          <a:prstGeom prst="rect">
            <a:avLst/>
          </a:prstGeom>
          <a:ln w="0">
            <a:noFill/>
          </a:ln>
        </p:spPr>
      </p:pic>
      <p:sp>
        <p:nvSpPr>
          <p:cNvPr id="24" name=""/>
          <p:cNvSpPr/>
          <p:nvPr/>
        </p:nvSpPr>
        <p:spPr>
          <a:xfrm>
            <a:off x="2016000" y="1015920"/>
            <a:ext cx="712800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ked"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3" name=""/>
          <p:cNvGrpSpPr/>
          <p:nvPr/>
        </p:nvGrpSpPr>
        <p:grpSpPr>
          <a:xfrm>
            <a:off x="-6480" y="20520"/>
            <a:ext cx="9144000" cy="6858000"/>
            <a:chOff x="-6480" y="20520"/>
            <a:chExt cx="9144000" cy="6858000"/>
          </a:xfrm>
        </p:grpSpPr>
        <p:sp>
          <p:nvSpPr>
            <p:cNvPr id="6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1440" y="6033960"/>
            <a:ext cx="7844400" cy="850680"/>
            <a:chOff x="-1440" y="6033960"/>
            <a:chExt cx="7844400" cy="850680"/>
          </a:xfrm>
        </p:grpSpPr>
        <p:sp>
          <p:nvSpPr>
            <p:cNvPr id="6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 name=""/>
            <p:cNvGrpSpPr/>
            <p:nvPr/>
          </p:nvGrpSpPr>
          <p:grpSpPr>
            <a:xfrm>
              <a:off x="3944880" y="6033960"/>
              <a:ext cx="3898080" cy="850680"/>
              <a:chOff x="3944880" y="6033960"/>
              <a:chExt cx="3898080" cy="850680"/>
            </a:xfrm>
          </p:grpSpPr>
          <p:sp>
            <p:nvSpPr>
              <p:cNvPr id="7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 name=""/>
          <p:cNvGrpSpPr/>
          <p:nvPr/>
        </p:nvGrpSpPr>
        <p:grpSpPr>
          <a:xfrm>
            <a:off x="627120" y="6021360"/>
            <a:ext cx="5684760" cy="849240"/>
            <a:chOff x="627120" y="6021360"/>
            <a:chExt cx="5684760" cy="849240"/>
          </a:xfrm>
        </p:grpSpPr>
        <p:sp>
          <p:nvSpPr>
            <p:cNvPr id="7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5"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2431-A7F7-430F-9259-DEFC03FC1F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pic>
        <p:nvPicPr>
          <p:cNvPr id="87" name="" descr=""/>
          <p:cNvPicPr/>
          <p:nvPr/>
        </p:nvPicPr>
        <p:blipFill>
          <a:blip r:embed="rId2"/>
          <a:stretch/>
        </p:blipFill>
        <p:spPr>
          <a:xfrm>
            <a:off x="7504200" y="6165720"/>
            <a:ext cx="16761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C845-FCB8-477D-A490-3D562EABB7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
          <p:cNvSpPr/>
          <p:nvPr/>
        </p:nvSpPr>
        <p:spPr>
          <a:xfrm>
            <a:off x="2016000" y="1015920"/>
            <a:ext cx="71280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0" name="" descr=""/>
          <p:cNvPicPr/>
          <p:nvPr/>
        </p:nvPicPr>
        <p:blipFill>
          <a:blip r:embed="rId2"/>
          <a:stretch/>
        </p:blipFill>
        <p:spPr>
          <a:xfrm>
            <a:off x="179280" y="189000"/>
            <a:ext cx="158436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7.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7.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27.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27.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27.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14.png"/><Relationship Id="rId8" Type="http://schemas.openxmlformats.org/officeDocument/2006/relationships/slideLayout" Target="../slideLayouts/slideLayout27.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7.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10.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10.png"/><Relationship Id="rId8"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07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xas Nodal Market</a:t>
            </a:r>
            <a:endParaRPr b="0" lang="en-US" sz="4400" spc="-1" strike="noStrike">
              <a:solidFill>
                <a:srgbClr val="000000"/>
              </a:solidFill>
              <a:latin typeface="Arial"/>
            </a:endParaRPr>
          </a:p>
        </p:txBody>
      </p:sp>
      <p:sp>
        <p:nvSpPr>
          <p:cNvPr id="175" name="PlaceHolder 2"/>
          <p:cNvSpPr>
            <a:spLocks noGrp="1"/>
          </p:cNvSpPr>
          <p:nvPr>
            <p:ph type="subTitle"/>
          </p:nvPr>
        </p:nvSpPr>
        <p:spPr>
          <a:xfrm>
            <a:off x="1115640" y="3897360"/>
            <a:ext cx="7093080" cy="13399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Joel Mickey</a:t>
            </a:r>
            <a:endParaRPr b="0" lang="en-US" sz="32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Manager, ERCOT Market Operations Support</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23</a:t>
            </a:r>
            <a:r>
              <a:rPr b="0" lang="en-US" sz="2000" spc="-1" strike="noStrike" baseline="30000">
                <a:solidFill>
                  <a:srgbClr val="000000"/>
                </a:solidFill>
                <a:latin typeface="Bookman Old Style"/>
              </a:rPr>
              <a:t>rd</a:t>
            </a:r>
            <a:r>
              <a:rPr b="0" lang="en-US" sz="2000" spc="-1" strike="noStrike">
                <a:solidFill>
                  <a:srgbClr val="000000"/>
                </a:solidFill>
                <a:latin typeface="Bookman Old Style"/>
              </a:rPr>
              <a:t> ERCOT Operations Training Seminar</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March 30 – April 27, 2006</a:t>
            </a: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73318A24-B37C-46A6-B3D9-B845903A9C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1081080" y="1592280"/>
            <a:ext cx="6840360" cy="4332240"/>
          </a:xfrm>
          <a:prstGeom prst="rect">
            <a:avLst/>
          </a:prstGeom>
          <a:ln w="0">
            <a:noFill/>
          </a:ln>
        </p:spPr>
      </p:pic>
      <p:grpSp>
        <p:nvGrpSpPr>
          <p:cNvPr id="231" name=""/>
          <p:cNvGrpSpPr/>
          <p:nvPr/>
        </p:nvGrpSpPr>
        <p:grpSpPr>
          <a:xfrm>
            <a:off x="108000" y="1592280"/>
            <a:ext cx="4500360" cy="4284720"/>
            <a:chOff x="108000" y="1592280"/>
            <a:chExt cx="4500360" cy="4284720"/>
          </a:xfrm>
        </p:grpSpPr>
        <p:sp>
          <p:nvSpPr>
            <p:cNvPr id="232" name=""/>
            <p:cNvSpPr/>
            <p:nvPr/>
          </p:nvSpPr>
          <p:spPr>
            <a:xfrm>
              <a:off x="108000" y="2364120"/>
              <a:ext cx="4500360" cy="3512880"/>
            </a:xfrm>
            <a:custGeom>
              <a:avLst/>
              <a:gdLst/>
              <a:ahLst/>
              <a:rect l="l" t="t" r="r" b="b"/>
              <a:pathLst>
                <a:path w="5026689" h="4044950">
                  <a:moveTo>
                    <a:pt x="2485910" y="0"/>
                  </a:moveTo>
                  <a:cubicBezTo>
                    <a:pt x="2493397" y="3743"/>
                    <a:pt x="2523379" y="17422"/>
                    <a:pt x="2530360" y="25400"/>
                  </a:cubicBezTo>
                  <a:cubicBezTo>
                    <a:pt x="2540411" y="36887"/>
                    <a:pt x="2548934" y="49848"/>
                    <a:pt x="2555760" y="63500"/>
                  </a:cubicBezTo>
                  <a:cubicBezTo>
                    <a:pt x="2559993" y="71967"/>
                    <a:pt x="2562400" y="81628"/>
                    <a:pt x="2568460" y="88900"/>
                  </a:cubicBezTo>
                  <a:cubicBezTo>
                    <a:pt x="2573346" y="94763"/>
                    <a:pt x="2581160" y="97367"/>
                    <a:pt x="2587510" y="101600"/>
                  </a:cubicBezTo>
                  <a:cubicBezTo>
                    <a:pt x="2598708" y="100480"/>
                    <a:pt x="2655393" y="97907"/>
                    <a:pt x="2676410" y="88900"/>
                  </a:cubicBezTo>
                  <a:cubicBezTo>
                    <a:pt x="2762578" y="51971"/>
                    <a:pt x="2634238" y="96607"/>
                    <a:pt x="2714510" y="69850"/>
                  </a:cubicBezTo>
                  <a:cubicBezTo>
                    <a:pt x="2720860" y="71967"/>
                    <a:pt x="2728333" y="72019"/>
                    <a:pt x="2733560" y="76200"/>
                  </a:cubicBezTo>
                  <a:cubicBezTo>
                    <a:pt x="2739519" y="80968"/>
                    <a:pt x="2743160" y="88276"/>
                    <a:pt x="2746260" y="95250"/>
                  </a:cubicBezTo>
                  <a:cubicBezTo>
                    <a:pt x="2756320" y="117886"/>
                    <a:pt x="2754415" y="135155"/>
                    <a:pt x="2771660" y="152400"/>
                  </a:cubicBezTo>
                  <a:cubicBezTo>
                    <a:pt x="2786278" y="167018"/>
                    <a:pt x="2796679" y="166592"/>
                    <a:pt x="2816110" y="171450"/>
                  </a:cubicBezTo>
                  <a:cubicBezTo>
                    <a:pt x="2855717" y="197855"/>
                    <a:pt x="2814775" y="177800"/>
                    <a:pt x="2854210" y="177800"/>
                  </a:cubicBezTo>
                  <a:cubicBezTo>
                    <a:pt x="2873377" y="177800"/>
                    <a:pt x="2892310" y="182033"/>
                    <a:pt x="2911360" y="184150"/>
                  </a:cubicBezTo>
                  <a:cubicBezTo>
                    <a:pt x="2915593" y="190500"/>
                    <a:pt x="2918664" y="197804"/>
                    <a:pt x="2924060" y="203200"/>
                  </a:cubicBezTo>
                  <a:cubicBezTo>
                    <a:pt x="2938678" y="217818"/>
                    <a:pt x="2949079" y="217392"/>
                    <a:pt x="2968510" y="222250"/>
                  </a:cubicBezTo>
                  <a:cubicBezTo>
                    <a:pt x="2974860" y="220133"/>
                    <a:pt x="2981408" y="218537"/>
                    <a:pt x="2987560" y="215900"/>
                  </a:cubicBezTo>
                  <a:cubicBezTo>
                    <a:pt x="2996261" y="212171"/>
                    <a:pt x="3003561" y="204328"/>
                    <a:pt x="3012960" y="203200"/>
                  </a:cubicBezTo>
                  <a:cubicBezTo>
                    <a:pt x="3057143" y="197898"/>
                    <a:pt x="3101860" y="198967"/>
                    <a:pt x="3146310" y="196850"/>
                  </a:cubicBezTo>
                  <a:cubicBezTo>
                    <a:pt x="3182293" y="172861"/>
                    <a:pt x="3150543" y="184856"/>
                    <a:pt x="3178060" y="203200"/>
                  </a:cubicBezTo>
                  <a:cubicBezTo>
                    <a:pt x="3185322" y="208041"/>
                    <a:pt x="3194993" y="207433"/>
                    <a:pt x="3203460" y="209550"/>
                  </a:cubicBezTo>
                  <a:cubicBezTo>
                    <a:pt x="3205577" y="215900"/>
                    <a:pt x="3205077" y="223867"/>
                    <a:pt x="3209810" y="228600"/>
                  </a:cubicBezTo>
                  <a:cubicBezTo>
                    <a:pt x="3214543" y="233333"/>
                    <a:pt x="3224969" y="229503"/>
                    <a:pt x="3228860" y="234950"/>
                  </a:cubicBezTo>
                  <a:cubicBezTo>
                    <a:pt x="3236641" y="245843"/>
                    <a:pt x="3237327" y="260350"/>
                    <a:pt x="3241560" y="273050"/>
                  </a:cubicBezTo>
                  <a:cubicBezTo>
                    <a:pt x="3243677" y="279400"/>
                    <a:pt x="3242341" y="288387"/>
                    <a:pt x="3247910" y="292100"/>
                  </a:cubicBezTo>
                  <a:cubicBezTo>
                    <a:pt x="3254260" y="296333"/>
                    <a:pt x="3259945" y="301794"/>
                    <a:pt x="3266960" y="304800"/>
                  </a:cubicBezTo>
                  <a:cubicBezTo>
                    <a:pt x="3274982" y="308238"/>
                    <a:pt x="3283893" y="309033"/>
                    <a:pt x="3292360" y="311150"/>
                  </a:cubicBezTo>
                  <a:cubicBezTo>
                    <a:pt x="3305060" y="302683"/>
                    <a:pt x="3319667" y="296543"/>
                    <a:pt x="3330460" y="285750"/>
                  </a:cubicBezTo>
                  <a:cubicBezTo>
                    <a:pt x="3354243" y="261967"/>
                    <a:pt x="3340991" y="269540"/>
                    <a:pt x="3368560" y="260350"/>
                  </a:cubicBezTo>
                  <a:cubicBezTo>
                    <a:pt x="3381260" y="262467"/>
                    <a:pt x="3395481" y="260312"/>
                    <a:pt x="3406660" y="266700"/>
                  </a:cubicBezTo>
                  <a:cubicBezTo>
                    <a:pt x="3412472" y="270021"/>
                    <a:pt x="3408829" y="280523"/>
                    <a:pt x="3413010" y="285750"/>
                  </a:cubicBezTo>
                  <a:cubicBezTo>
                    <a:pt x="3423973" y="299454"/>
                    <a:pt x="3442208" y="300987"/>
                    <a:pt x="3457460" y="304800"/>
                  </a:cubicBezTo>
                  <a:cubicBezTo>
                    <a:pt x="3482860" y="302683"/>
                    <a:pt x="3508396" y="301819"/>
                    <a:pt x="3533660" y="298450"/>
                  </a:cubicBezTo>
                  <a:cubicBezTo>
                    <a:pt x="3540295" y="297565"/>
                    <a:pt x="3546723" y="289107"/>
                    <a:pt x="3552710" y="292100"/>
                  </a:cubicBezTo>
                  <a:cubicBezTo>
                    <a:pt x="3558697" y="295093"/>
                    <a:pt x="3554879" y="305923"/>
                    <a:pt x="3559060" y="311150"/>
                  </a:cubicBezTo>
                  <a:cubicBezTo>
                    <a:pt x="3563828" y="317109"/>
                    <a:pt x="3571760" y="319617"/>
                    <a:pt x="3578110" y="323850"/>
                  </a:cubicBezTo>
                  <a:cubicBezTo>
                    <a:pt x="3586577" y="321733"/>
                    <a:pt x="3596942" y="323247"/>
                    <a:pt x="3603510" y="317500"/>
                  </a:cubicBezTo>
                  <a:cubicBezTo>
                    <a:pt x="3603510" y="317500"/>
                    <a:pt x="3635260" y="269875"/>
                    <a:pt x="3641610" y="260350"/>
                  </a:cubicBezTo>
                  <a:cubicBezTo>
                    <a:pt x="3645323" y="254781"/>
                    <a:pt x="3654310" y="256117"/>
                    <a:pt x="3660660" y="254000"/>
                  </a:cubicBezTo>
                  <a:cubicBezTo>
                    <a:pt x="3669127" y="258233"/>
                    <a:pt x="3677359" y="262971"/>
                    <a:pt x="3686060" y="266700"/>
                  </a:cubicBezTo>
                  <a:cubicBezTo>
                    <a:pt x="3715661" y="279386"/>
                    <a:pt x="3739062" y="276137"/>
                    <a:pt x="3774960" y="279400"/>
                  </a:cubicBezTo>
                  <a:cubicBezTo>
                    <a:pt x="3785543" y="281517"/>
                    <a:pt x="3797730" y="279763"/>
                    <a:pt x="3806710" y="285750"/>
                  </a:cubicBezTo>
                  <a:cubicBezTo>
                    <a:pt x="3812279" y="289463"/>
                    <a:pt x="3808879" y="299573"/>
                    <a:pt x="3813060" y="304800"/>
                  </a:cubicBezTo>
                  <a:cubicBezTo>
                    <a:pt x="3817828" y="310759"/>
                    <a:pt x="3825900" y="313064"/>
                    <a:pt x="3832110" y="317500"/>
                  </a:cubicBezTo>
                  <a:cubicBezTo>
                    <a:pt x="3840722" y="323651"/>
                    <a:pt x="3849043" y="330200"/>
                    <a:pt x="3857510" y="336550"/>
                  </a:cubicBezTo>
                  <a:cubicBezTo>
                    <a:pt x="3870210" y="332317"/>
                    <a:pt x="3882910" y="328083"/>
                    <a:pt x="3895610" y="323850"/>
                  </a:cubicBezTo>
                  <a:cubicBezTo>
                    <a:pt x="3901960" y="321733"/>
                    <a:pt x="3914660" y="317500"/>
                    <a:pt x="3914660" y="317500"/>
                  </a:cubicBezTo>
                  <a:cubicBezTo>
                    <a:pt x="3975431" y="256729"/>
                    <a:pt x="3897621" y="328859"/>
                    <a:pt x="3952760" y="292100"/>
                  </a:cubicBezTo>
                  <a:cubicBezTo>
                    <a:pt x="3960232" y="287119"/>
                    <a:pt x="3963960" y="277411"/>
                    <a:pt x="3971810" y="273050"/>
                  </a:cubicBezTo>
                  <a:cubicBezTo>
                    <a:pt x="3983512" y="266549"/>
                    <a:pt x="3996923" y="263597"/>
                    <a:pt x="4009910" y="260350"/>
                  </a:cubicBezTo>
                  <a:cubicBezTo>
                    <a:pt x="4087484" y="240957"/>
                    <a:pt x="4043307" y="248989"/>
                    <a:pt x="4143260" y="241300"/>
                  </a:cubicBezTo>
                  <a:cubicBezTo>
                    <a:pt x="4149610" y="237067"/>
                    <a:pt x="4154782" y="229855"/>
                    <a:pt x="4162310" y="228600"/>
                  </a:cubicBezTo>
                  <a:cubicBezTo>
                    <a:pt x="4168912" y="227500"/>
                    <a:pt x="4174667" y="234950"/>
                    <a:pt x="4181360" y="234950"/>
                  </a:cubicBezTo>
                  <a:cubicBezTo>
                    <a:pt x="4213180" y="234950"/>
                    <a:pt x="4244860" y="230717"/>
                    <a:pt x="4276610" y="228600"/>
                  </a:cubicBezTo>
                  <a:cubicBezTo>
                    <a:pt x="4285077" y="215900"/>
                    <a:pt x="4297183" y="176020"/>
                    <a:pt x="4302010" y="190500"/>
                  </a:cubicBezTo>
                  <a:cubicBezTo>
                    <a:pt x="4304127" y="196850"/>
                    <a:pt x="4303627" y="204817"/>
                    <a:pt x="4308360" y="209550"/>
                  </a:cubicBezTo>
                  <a:cubicBezTo>
                    <a:pt x="4313093" y="214283"/>
                    <a:pt x="4321060" y="213783"/>
                    <a:pt x="4327410" y="215900"/>
                  </a:cubicBezTo>
                  <a:cubicBezTo>
                    <a:pt x="4331643" y="222250"/>
                    <a:pt x="4334151" y="230182"/>
                    <a:pt x="4340110" y="234950"/>
                  </a:cubicBezTo>
                  <a:cubicBezTo>
                    <a:pt x="4345337" y="239131"/>
                    <a:pt x="4352666" y="239677"/>
                    <a:pt x="4359160" y="241300"/>
                  </a:cubicBezTo>
                  <a:cubicBezTo>
                    <a:pt x="4376910" y="245738"/>
                    <a:pt x="4412026" y="251169"/>
                    <a:pt x="4429010" y="254000"/>
                  </a:cubicBezTo>
                  <a:cubicBezTo>
                    <a:pt x="4433243" y="260350"/>
                    <a:pt x="4438297" y="266224"/>
                    <a:pt x="4441710" y="273050"/>
                  </a:cubicBezTo>
                  <a:cubicBezTo>
                    <a:pt x="4447686" y="285002"/>
                    <a:pt x="4447525" y="302878"/>
                    <a:pt x="4460760" y="311150"/>
                  </a:cubicBezTo>
                  <a:cubicBezTo>
                    <a:pt x="4472112" y="318245"/>
                    <a:pt x="4486160" y="319617"/>
                    <a:pt x="4498860" y="323850"/>
                  </a:cubicBezTo>
                  <a:cubicBezTo>
                    <a:pt x="4538388" y="337026"/>
                    <a:pt x="4511346" y="328887"/>
                    <a:pt x="4581410" y="342900"/>
                  </a:cubicBezTo>
                  <a:cubicBezTo>
                    <a:pt x="4587974" y="344213"/>
                    <a:pt x="4593966" y="347627"/>
                    <a:pt x="4600460" y="349250"/>
                  </a:cubicBezTo>
                  <a:cubicBezTo>
                    <a:pt x="4610931" y="351868"/>
                    <a:pt x="4621627" y="353483"/>
                    <a:pt x="4632210" y="355600"/>
                  </a:cubicBezTo>
                  <a:cubicBezTo>
                    <a:pt x="4680093" y="339639"/>
                    <a:pt x="4621071" y="361169"/>
                    <a:pt x="4670310" y="336550"/>
                  </a:cubicBezTo>
                  <a:cubicBezTo>
                    <a:pt x="4676297" y="333557"/>
                    <a:pt x="4683010" y="332317"/>
                    <a:pt x="4689360" y="330200"/>
                  </a:cubicBezTo>
                  <a:cubicBezTo>
                    <a:pt x="4693593" y="336550"/>
                    <a:pt x="4698647" y="342424"/>
                    <a:pt x="4702060" y="349250"/>
                  </a:cubicBezTo>
                  <a:cubicBezTo>
                    <a:pt x="4706615" y="358360"/>
                    <a:pt x="4712725" y="385562"/>
                    <a:pt x="4714760" y="393700"/>
                  </a:cubicBezTo>
                  <a:cubicBezTo>
                    <a:pt x="4712643" y="421217"/>
                    <a:pt x="4707622" y="448663"/>
                    <a:pt x="4708410" y="476250"/>
                  </a:cubicBezTo>
                  <a:cubicBezTo>
                    <a:pt x="4711341" y="578830"/>
                    <a:pt x="4717352" y="597160"/>
                    <a:pt x="4733810" y="679450"/>
                  </a:cubicBezTo>
                  <a:cubicBezTo>
                    <a:pt x="4736745" y="694126"/>
                    <a:pt x="4737559" y="709161"/>
                    <a:pt x="4740160" y="723900"/>
                  </a:cubicBezTo>
                  <a:cubicBezTo>
                    <a:pt x="4743911" y="745157"/>
                    <a:pt x="4748627" y="766233"/>
                    <a:pt x="4752860" y="787400"/>
                  </a:cubicBezTo>
                  <a:cubicBezTo>
                    <a:pt x="4758731" y="816753"/>
                    <a:pt x="4761327" y="846667"/>
                    <a:pt x="4765560" y="876300"/>
                  </a:cubicBezTo>
                  <a:cubicBezTo>
                    <a:pt x="4767677" y="891117"/>
                    <a:pt x="4769793" y="905933"/>
                    <a:pt x="4771910" y="920750"/>
                  </a:cubicBezTo>
                  <a:cubicBezTo>
                    <a:pt x="4781363" y="986918"/>
                    <a:pt x="4775984" y="961725"/>
                    <a:pt x="4784610" y="1035050"/>
                  </a:cubicBezTo>
                  <a:cubicBezTo>
                    <a:pt x="4786359" y="1049915"/>
                    <a:pt x="4788025" y="1064824"/>
                    <a:pt x="4790960" y="1079500"/>
                  </a:cubicBezTo>
                  <a:cubicBezTo>
                    <a:pt x="4792273" y="1086064"/>
                    <a:pt x="4792577" y="1093817"/>
                    <a:pt x="4797310" y="1098550"/>
                  </a:cubicBezTo>
                  <a:cubicBezTo>
                    <a:pt x="4802043" y="1103283"/>
                    <a:pt x="4810373" y="1101907"/>
                    <a:pt x="4816360" y="1104900"/>
                  </a:cubicBezTo>
                  <a:cubicBezTo>
                    <a:pt x="4823186" y="1108313"/>
                    <a:pt x="4829060" y="1113367"/>
                    <a:pt x="4835410" y="1117600"/>
                  </a:cubicBezTo>
                  <a:cubicBezTo>
                    <a:pt x="4843877" y="1130300"/>
                    <a:pt x="4855983" y="1141220"/>
                    <a:pt x="4860810" y="1155700"/>
                  </a:cubicBezTo>
                  <a:cubicBezTo>
                    <a:pt x="4867934" y="1177072"/>
                    <a:pt x="4867305" y="1178179"/>
                    <a:pt x="4879860" y="1200150"/>
                  </a:cubicBezTo>
                  <a:cubicBezTo>
                    <a:pt x="4883646" y="1206776"/>
                    <a:pt x="4889460" y="1212226"/>
                    <a:pt x="4892560" y="1219200"/>
                  </a:cubicBezTo>
                  <a:cubicBezTo>
                    <a:pt x="4897997" y="1231433"/>
                    <a:pt x="4901027" y="1244600"/>
                    <a:pt x="4905260" y="1257300"/>
                  </a:cubicBezTo>
                  <a:cubicBezTo>
                    <a:pt x="4907377" y="1263650"/>
                    <a:pt x="4909493" y="1270000"/>
                    <a:pt x="4911610" y="1276350"/>
                  </a:cubicBezTo>
                  <a:cubicBezTo>
                    <a:pt x="4915793" y="1288899"/>
                    <a:pt x="4919469" y="1305498"/>
                    <a:pt x="4930660" y="1314450"/>
                  </a:cubicBezTo>
                  <a:cubicBezTo>
                    <a:pt x="4935887" y="1318631"/>
                    <a:pt x="4943360" y="1318683"/>
                    <a:pt x="4949710" y="1320800"/>
                  </a:cubicBezTo>
                  <a:cubicBezTo>
                    <a:pt x="4953943" y="1333500"/>
                    <a:pt x="4958177" y="1346200"/>
                    <a:pt x="4962410" y="1358900"/>
                  </a:cubicBezTo>
                  <a:cubicBezTo>
                    <a:pt x="4964527" y="1365250"/>
                    <a:pt x="4966643" y="1371600"/>
                    <a:pt x="4968760" y="1377950"/>
                  </a:cubicBezTo>
                  <a:cubicBezTo>
                    <a:pt x="4970877" y="1384300"/>
                    <a:pt x="4973797" y="1390436"/>
                    <a:pt x="4975110" y="1397000"/>
                  </a:cubicBezTo>
                  <a:cubicBezTo>
                    <a:pt x="4982957" y="1436234"/>
                    <a:pt x="4975473" y="1419770"/>
                    <a:pt x="4994160" y="1447800"/>
                  </a:cubicBezTo>
                  <a:cubicBezTo>
                    <a:pt x="4996277" y="1456267"/>
                    <a:pt x="4998112" y="1464809"/>
                    <a:pt x="5000510" y="1473200"/>
                  </a:cubicBezTo>
                  <a:cubicBezTo>
                    <a:pt x="5002349" y="1479636"/>
                    <a:pt x="5005408" y="1485716"/>
                    <a:pt x="5006860" y="1492250"/>
                  </a:cubicBezTo>
                  <a:cubicBezTo>
                    <a:pt x="5009653" y="1504819"/>
                    <a:pt x="5011093" y="1517650"/>
                    <a:pt x="5013210" y="1530350"/>
                  </a:cubicBezTo>
                  <a:cubicBezTo>
                    <a:pt x="5014817" y="1556066"/>
                    <a:pt x="5026689" y="1645008"/>
                    <a:pt x="5013210" y="1682750"/>
                  </a:cubicBezTo>
                  <a:cubicBezTo>
                    <a:pt x="5008076" y="1697124"/>
                    <a:pt x="4996277" y="1708150"/>
                    <a:pt x="4987810" y="1720850"/>
                  </a:cubicBezTo>
                  <a:cubicBezTo>
                    <a:pt x="4945493" y="1784326"/>
                    <a:pt x="5001757" y="1741185"/>
                    <a:pt x="4956060" y="1771650"/>
                  </a:cubicBezTo>
                  <a:cubicBezTo>
                    <a:pt x="4980410" y="1808174"/>
                    <a:pt x="4962410" y="1771765"/>
                    <a:pt x="4962410" y="1828800"/>
                  </a:cubicBezTo>
                  <a:cubicBezTo>
                    <a:pt x="4962410" y="1847967"/>
                    <a:pt x="4965001" y="1867155"/>
                    <a:pt x="4968760" y="1885950"/>
                  </a:cubicBezTo>
                  <a:cubicBezTo>
                    <a:pt x="4971385" y="1899077"/>
                    <a:pt x="4977227" y="1911350"/>
                    <a:pt x="4981460" y="1924050"/>
                  </a:cubicBezTo>
                  <a:cubicBezTo>
                    <a:pt x="4983577" y="1930400"/>
                    <a:pt x="4985693" y="1936750"/>
                    <a:pt x="4987810" y="1943100"/>
                  </a:cubicBezTo>
                  <a:cubicBezTo>
                    <a:pt x="4989927" y="1949450"/>
                    <a:pt x="4994160" y="1962150"/>
                    <a:pt x="4994160" y="1962150"/>
                  </a:cubicBezTo>
                  <a:cubicBezTo>
                    <a:pt x="4989927" y="1974850"/>
                    <a:pt x="4988886" y="1989111"/>
                    <a:pt x="4981460" y="2000250"/>
                  </a:cubicBezTo>
                  <a:cubicBezTo>
                    <a:pt x="4951079" y="2045822"/>
                    <a:pt x="4966853" y="2027557"/>
                    <a:pt x="4937010" y="2057400"/>
                  </a:cubicBezTo>
                  <a:cubicBezTo>
                    <a:pt x="4921049" y="2105283"/>
                    <a:pt x="4942579" y="2046261"/>
                    <a:pt x="4917960" y="2095500"/>
                  </a:cubicBezTo>
                  <a:cubicBezTo>
                    <a:pt x="4914967" y="2101487"/>
                    <a:pt x="4913727" y="2108200"/>
                    <a:pt x="4911610" y="2114550"/>
                  </a:cubicBezTo>
                  <a:cubicBezTo>
                    <a:pt x="4909493" y="2133600"/>
                    <a:pt x="4915419" y="2155446"/>
                    <a:pt x="4905260" y="2171700"/>
                  </a:cubicBezTo>
                  <a:cubicBezTo>
                    <a:pt x="4900635" y="2179101"/>
                    <a:pt x="4888587" y="2165350"/>
                    <a:pt x="4879860" y="2165350"/>
                  </a:cubicBezTo>
                  <a:cubicBezTo>
                    <a:pt x="4864893" y="2165350"/>
                    <a:pt x="4850227" y="2169583"/>
                    <a:pt x="4835410" y="2171700"/>
                  </a:cubicBezTo>
                  <a:cubicBezTo>
                    <a:pt x="4776954" y="2210671"/>
                    <a:pt x="4867951" y="2148207"/>
                    <a:pt x="4790960" y="2209800"/>
                  </a:cubicBezTo>
                  <a:cubicBezTo>
                    <a:pt x="4779041" y="2219335"/>
                    <a:pt x="4765560" y="2226733"/>
                    <a:pt x="4752860" y="2235200"/>
                  </a:cubicBezTo>
                  <a:cubicBezTo>
                    <a:pt x="4746510" y="2239433"/>
                    <a:pt x="4741050" y="2245487"/>
                    <a:pt x="4733810" y="2247900"/>
                  </a:cubicBezTo>
                  <a:cubicBezTo>
                    <a:pt x="4721110" y="2252133"/>
                    <a:pt x="4707684" y="2254613"/>
                    <a:pt x="4695710" y="2260600"/>
                  </a:cubicBezTo>
                  <a:cubicBezTo>
                    <a:pt x="4664323" y="2276293"/>
                    <a:pt x="4679290" y="2270307"/>
                    <a:pt x="4651260" y="2279650"/>
                  </a:cubicBezTo>
                  <a:cubicBezTo>
                    <a:pt x="4644910" y="2286000"/>
                    <a:pt x="4639109" y="2292951"/>
                    <a:pt x="4632210" y="2298700"/>
                  </a:cubicBezTo>
                  <a:cubicBezTo>
                    <a:pt x="4626347" y="2303586"/>
                    <a:pt x="4618556" y="2306004"/>
                    <a:pt x="4613160" y="2311400"/>
                  </a:cubicBezTo>
                  <a:cubicBezTo>
                    <a:pt x="4565902" y="2358658"/>
                    <a:pt x="4619955" y="2319570"/>
                    <a:pt x="4575060" y="2349500"/>
                  </a:cubicBezTo>
                  <a:cubicBezTo>
                    <a:pt x="4553893" y="2381250"/>
                    <a:pt x="4568710" y="2364317"/>
                    <a:pt x="4524260" y="2393950"/>
                  </a:cubicBezTo>
                  <a:cubicBezTo>
                    <a:pt x="4514297" y="2400592"/>
                    <a:pt x="4507871" y="2411465"/>
                    <a:pt x="4498860" y="2419350"/>
                  </a:cubicBezTo>
                  <a:cubicBezTo>
                    <a:pt x="4490895" y="2426319"/>
                    <a:pt x="4482072" y="2432249"/>
                    <a:pt x="4473460" y="2438400"/>
                  </a:cubicBezTo>
                  <a:cubicBezTo>
                    <a:pt x="4467250" y="2442836"/>
                    <a:pt x="4460114" y="2446030"/>
                    <a:pt x="4454410" y="2451100"/>
                  </a:cubicBezTo>
                  <a:cubicBezTo>
                    <a:pt x="4389165" y="2509095"/>
                    <a:pt x="4440495" y="2473076"/>
                    <a:pt x="4397260" y="2501900"/>
                  </a:cubicBezTo>
                  <a:cubicBezTo>
                    <a:pt x="4380327" y="2527300"/>
                    <a:pt x="4363393" y="2552700"/>
                    <a:pt x="4346460" y="2578100"/>
                  </a:cubicBezTo>
                  <a:cubicBezTo>
                    <a:pt x="4341479" y="2585572"/>
                    <a:pt x="4332923" y="2590061"/>
                    <a:pt x="4327410" y="2597150"/>
                  </a:cubicBezTo>
                  <a:cubicBezTo>
                    <a:pt x="4318039" y="2609198"/>
                    <a:pt x="4314710" y="2626783"/>
                    <a:pt x="4302010" y="2635250"/>
                  </a:cubicBezTo>
                  <a:cubicBezTo>
                    <a:pt x="4265401" y="2659656"/>
                    <a:pt x="4300716" y="2638526"/>
                    <a:pt x="4263910" y="2654300"/>
                  </a:cubicBezTo>
                  <a:cubicBezTo>
                    <a:pt x="4255209" y="2658029"/>
                    <a:pt x="4247211" y="2663271"/>
                    <a:pt x="4238510" y="2667000"/>
                  </a:cubicBezTo>
                  <a:cubicBezTo>
                    <a:pt x="4232358" y="2669637"/>
                    <a:pt x="4225311" y="2670099"/>
                    <a:pt x="4219460" y="2673350"/>
                  </a:cubicBezTo>
                  <a:cubicBezTo>
                    <a:pt x="4206117" y="2680763"/>
                    <a:pt x="4194060" y="2690283"/>
                    <a:pt x="4181360" y="2698750"/>
                  </a:cubicBezTo>
                  <a:cubicBezTo>
                    <a:pt x="4166837" y="2708432"/>
                    <a:pt x="4147493" y="2707217"/>
                    <a:pt x="4130560" y="2711450"/>
                  </a:cubicBezTo>
                  <a:cubicBezTo>
                    <a:pt x="4117573" y="2714697"/>
                    <a:pt x="4104434" y="2718163"/>
                    <a:pt x="4092460" y="2724150"/>
                  </a:cubicBezTo>
                  <a:cubicBezTo>
                    <a:pt x="4083993" y="2728383"/>
                    <a:pt x="4075279" y="2732154"/>
                    <a:pt x="4067060" y="2736850"/>
                  </a:cubicBezTo>
                  <a:cubicBezTo>
                    <a:pt x="4060434" y="2740636"/>
                    <a:pt x="4054836" y="2746137"/>
                    <a:pt x="4048010" y="2749550"/>
                  </a:cubicBezTo>
                  <a:cubicBezTo>
                    <a:pt x="4019371" y="2763869"/>
                    <a:pt x="4037207" y="2745852"/>
                    <a:pt x="4009910" y="2768600"/>
                  </a:cubicBezTo>
                  <a:cubicBezTo>
                    <a:pt x="3961017" y="2809344"/>
                    <a:pt x="4019108" y="2768818"/>
                    <a:pt x="3971810" y="2800350"/>
                  </a:cubicBezTo>
                  <a:cubicBezTo>
                    <a:pt x="3959110" y="2819400"/>
                    <a:pt x="3946410" y="2838450"/>
                    <a:pt x="3933710" y="2857500"/>
                  </a:cubicBezTo>
                  <a:cubicBezTo>
                    <a:pt x="3929477" y="2863850"/>
                    <a:pt x="3925243" y="2870200"/>
                    <a:pt x="3921010" y="2876550"/>
                  </a:cubicBezTo>
                  <a:cubicBezTo>
                    <a:pt x="3916777" y="2882900"/>
                    <a:pt x="3913706" y="2890204"/>
                    <a:pt x="3908310" y="2895600"/>
                  </a:cubicBezTo>
                  <a:cubicBezTo>
                    <a:pt x="3901960" y="2901950"/>
                    <a:pt x="3894480" y="2907342"/>
                    <a:pt x="3889260" y="2914650"/>
                  </a:cubicBezTo>
                  <a:cubicBezTo>
                    <a:pt x="3883758" y="2922353"/>
                    <a:pt x="3882620" y="2932778"/>
                    <a:pt x="3876560" y="2940050"/>
                  </a:cubicBezTo>
                  <a:cubicBezTo>
                    <a:pt x="3871674" y="2945913"/>
                    <a:pt x="3863720" y="2948314"/>
                    <a:pt x="3857510" y="2952750"/>
                  </a:cubicBezTo>
                  <a:cubicBezTo>
                    <a:pt x="3848898" y="2958901"/>
                    <a:pt x="3840722" y="2965649"/>
                    <a:pt x="3832110" y="2971800"/>
                  </a:cubicBezTo>
                  <a:cubicBezTo>
                    <a:pt x="3825900" y="2976236"/>
                    <a:pt x="3818764" y="2979430"/>
                    <a:pt x="3813060" y="2984500"/>
                  </a:cubicBezTo>
                  <a:cubicBezTo>
                    <a:pt x="3789485" y="3005456"/>
                    <a:pt x="3776360" y="3026336"/>
                    <a:pt x="3749560" y="3041650"/>
                  </a:cubicBezTo>
                  <a:cubicBezTo>
                    <a:pt x="3743748" y="3044971"/>
                    <a:pt x="3736860" y="3045883"/>
                    <a:pt x="3730510" y="3048000"/>
                  </a:cubicBezTo>
                  <a:cubicBezTo>
                    <a:pt x="3726277" y="3054350"/>
                    <a:pt x="3717810" y="3059418"/>
                    <a:pt x="3717810" y="3067050"/>
                  </a:cubicBezTo>
                  <a:cubicBezTo>
                    <a:pt x="3717810" y="3074682"/>
                    <a:pt x="3727097" y="3079274"/>
                    <a:pt x="3730510" y="3086100"/>
                  </a:cubicBezTo>
                  <a:cubicBezTo>
                    <a:pt x="3733503" y="3092087"/>
                    <a:pt x="3734743" y="3098800"/>
                    <a:pt x="3736860" y="3105150"/>
                  </a:cubicBezTo>
                  <a:cubicBezTo>
                    <a:pt x="3704034" y="3154389"/>
                    <a:pt x="3716287" y="3128770"/>
                    <a:pt x="3698760" y="3181350"/>
                  </a:cubicBezTo>
                  <a:cubicBezTo>
                    <a:pt x="3693505" y="3197116"/>
                    <a:pt x="3676835" y="3207660"/>
                    <a:pt x="3667010" y="3219450"/>
                  </a:cubicBezTo>
                  <a:cubicBezTo>
                    <a:pt x="3622807" y="3272494"/>
                    <a:pt x="3690915" y="3201895"/>
                    <a:pt x="3635260" y="3257550"/>
                  </a:cubicBezTo>
                  <a:cubicBezTo>
                    <a:pt x="3624677" y="3289300"/>
                    <a:pt x="3614093" y="3321050"/>
                    <a:pt x="3603510" y="3352800"/>
                  </a:cubicBezTo>
                  <a:cubicBezTo>
                    <a:pt x="3601393" y="3359150"/>
                    <a:pt x="3599277" y="3365500"/>
                    <a:pt x="3597160" y="3371850"/>
                  </a:cubicBezTo>
                  <a:cubicBezTo>
                    <a:pt x="3595043" y="3378200"/>
                    <a:pt x="3590810" y="3390900"/>
                    <a:pt x="3590810" y="3390900"/>
                  </a:cubicBezTo>
                  <a:cubicBezTo>
                    <a:pt x="3592927" y="3409950"/>
                    <a:pt x="3594627" y="3429051"/>
                    <a:pt x="3597160" y="3448050"/>
                  </a:cubicBezTo>
                  <a:cubicBezTo>
                    <a:pt x="3598862" y="3460812"/>
                    <a:pt x="3602867" y="3473291"/>
                    <a:pt x="3603510" y="3486150"/>
                  </a:cubicBezTo>
                  <a:cubicBezTo>
                    <a:pt x="3612299" y="3661924"/>
                    <a:pt x="3602773" y="3650966"/>
                    <a:pt x="3616210" y="3771900"/>
                  </a:cubicBezTo>
                  <a:cubicBezTo>
                    <a:pt x="3617863" y="3786776"/>
                    <a:pt x="3619883" y="3801624"/>
                    <a:pt x="3622560" y="3816350"/>
                  </a:cubicBezTo>
                  <a:cubicBezTo>
                    <a:pt x="3628842" y="3850904"/>
                    <a:pt x="3630662" y="3844377"/>
                    <a:pt x="3654310" y="3879850"/>
                  </a:cubicBezTo>
                  <a:cubicBezTo>
                    <a:pt x="3658543" y="3886200"/>
                    <a:pt x="3664597" y="3891660"/>
                    <a:pt x="3667010" y="3898900"/>
                  </a:cubicBezTo>
                  <a:cubicBezTo>
                    <a:pt x="3671243" y="3911600"/>
                    <a:pt x="3672284" y="3925861"/>
                    <a:pt x="3679710" y="3937000"/>
                  </a:cubicBezTo>
                  <a:cubicBezTo>
                    <a:pt x="3688177" y="3949700"/>
                    <a:pt x="3700283" y="3960620"/>
                    <a:pt x="3705110" y="3975100"/>
                  </a:cubicBezTo>
                  <a:cubicBezTo>
                    <a:pt x="3709343" y="3987800"/>
                    <a:pt x="3717810" y="4013200"/>
                    <a:pt x="3717810" y="4013200"/>
                  </a:cubicBezTo>
                  <a:cubicBezTo>
                    <a:pt x="3715693" y="4021667"/>
                    <a:pt x="3716912" y="4031785"/>
                    <a:pt x="3711460" y="4038600"/>
                  </a:cubicBezTo>
                  <a:cubicBezTo>
                    <a:pt x="3707279" y="4043827"/>
                    <a:pt x="3699103" y="4044950"/>
                    <a:pt x="3692410" y="4044950"/>
                  </a:cubicBezTo>
                  <a:cubicBezTo>
                    <a:pt x="3656364" y="4044950"/>
                    <a:pt x="3620443" y="4040717"/>
                    <a:pt x="3584460" y="4038600"/>
                  </a:cubicBezTo>
                  <a:cubicBezTo>
                    <a:pt x="3580227" y="4032250"/>
                    <a:pt x="3577503" y="4024576"/>
                    <a:pt x="3571760" y="4019550"/>
                  </a:cubicBezTo>
                  <a:cubicBezTo>
                    <a:pt x="3549708" y="4000254"/>
                    <a:pt x="3538660" y="3994672"/>
                    <a:pt x="3514610" y="3987800"/>
                  </a:cubicBezTo>
                  <a:cubicBezTo>
                    <a:pt x="3506219" y="3985402"/>
                    <a:pt x="3497601" y="3983848"/>
                    <a:pt x="3489210" y="3981450"/>
                  </a:cubicBezTo>
                  <a:cubicBezTo>
                    <a:pt x="3438093" y="3966845"/>
                    <a:pt x="3516740" y="3983922"/>
                    <a:pt x="3425710" y="3968750"/>
                  </a:cubicBezTo>
                  <a:cubicBezTo>
                    <a:pt x="3415064" y="3966976"/>
                    <a:pt x="3404712" y="3963335"/>
                    <a:pt x="3393960" y="3962400"/>
                  </a:cubicBezTo>
                  <a:cubicBezTo>
                    <a:pt x="3355945" y="3959094"/>
                    <a:pt x="3317760" y="3958167"/>
                    <a:pt x="3279660" y="3956050"/>
                  </a:cubicBezTo>
                  <a:cubicBezTo>
                    <a:pt x="3266960" y="3951817"/>
                    <a:pt x="3254260" y="3947583"/>
                    <a:pt x="3241560" y="3943350"/>
                  </a:cubicBezTo>
                  <a:cubicBezTo>
                    <a:pt x="3241560" y="3943350"/>
                    <a:pt x="3193935" y="3911600"/>
                    <a:pt x="3184410" y="3905250"/>
                  </a:cubicBezTo>
                  <a:cubicBezTo>
                    <a:pt x="3178060" y="3901017"/>
                    <a:pt x="3171710" y="3896783"/>
                    <a:pt x="3165360" y="3892550"/>
                  </a:cubicBezTo>
                  <a:cubicBezTo>
                    <a:pt x="3159010" y="3888317"/>
                    <a:pt x="3153714" y="3881701"/>
                    <a:pt x="3146310" y="3879850"/>
                  </a:cubicBezTo>
                  <a:cubicBezTo>
                    <a:pt x="3138172" y="3877815"/>
                    <a:pt x="3110970" y="3871705"/>
                    <a:pt x="3101860" y="3867150"/>
                  </a:cubicBezTo>
                  <a:cubicBezTo>
                    <a:pt x="3095034" y="3863737"/>
                    <a:pt x="3089956" y="3857130"/>
                    <a:pt x="3082810" y="3854450"/>
                  </a:cubicBezTo>
                  <a:cubicBezTo>
                    <a:pt x="3072704" y="3850660"/>
                    <a:pt x="3061531" y="3850718"/>
                    <a:pt x="3051060" y="3848100"/>
                  </a:cubicBezTo>
                  <a:cubicBezTo>
                    <a:pt x="3044566" y="3846477"/>
                    <a:pt x="3038446" y="3843589"/>
                    <a:pt x="3032010" y="3841750"/>
                  </a:cubicBezTo>
                  <a:cubicBezTo>
                    <a:pt x="3011085" y="3835772"/>
                    <a:pt x="2996684" y="3833415"/>
                    <a:pt x="2974860" y="3829050"/>
                  </a:cubicBezTo>
                  <a:cubicBezTo>
                    <a:pt x="2968510" y="3822700"/>
                    <a:pt x="2960791" y="3817472"/>
                    <a:pt x="2955810" y="3810000"/>
                  </a:cubicBezTo>
                  <a:cubicBezTo>
                    <a:pt x="2952097" y="3804431"/>
                    <a:pt x="2952453" y="3796937"/>
                    <a:pt x="2949460" y="3790950"/>
                  </a:cubicBezTo>
                  <a:cubicBezTo>
                    <a:pt x="2946047" y="3784124"/>
                    <a:pt x="2940173" y="3778726"/>
                    <a:pt x="2936760" y="3771900"/>
                  </a:cubicBezTo>
                  <a:cubicBezTo>
                    <a:pt x="2933767" y="3765913"/>
                    <a:pt x="2933403" y="3758837"/>
                    <a:pt x="2930410" y="3752850"/>
                  </a:cubicBezTo>
                  <a:cubicBezTo>
                    <a:pt x="2926997" y="3746024"/>
                    <a:pt x="2920810" y="3740774"/>
                    <a:pt x="2917710" y="3733800"/>
                  </a:cubicBezTo>
                  <a:cubicBezTo>
                    <a:pt x="2912273" y="3721567"/>
                    <a:pt x="2909243" y="3708400"/>
                    <a:pt x="2905010" y="3695700"/>
                  </a:cubicBezTo>
                  <a:cubicBezTo>
                    <a:pt x="2900777" y="3683000"/>
                    <a:pt x="2896543" y="3670300"/>
                    <a:pt x="2892310" y="3657600"/>
                  </a:cubicBezTo>
                  <a:cubicBezTo>
                    <a:pt x="2890193" y="3651250"/>
                    <a:pt x="2889673" y="3644119"/>
                    <a:pt x="2885960" y="3638550"/>
                  </a:cubicBezTo>
                  <a:cubicBezTo>
                    <a:pt x="2849564" y="3583955"/>
                    <a:pt x="2893200" y="3653030"/>
                    <a:pt x="2866910" y="3600450"/>
                  </a:cubicBezTo>
                  <a:cubicBezTo>
                    <a:pt x="2853295" y="3573221"/>
                    <a:pt x="2854821" y="3587629"/>
                    <a:pt x="2835160" y="3562350"/>
                  </a:cubicBezTo>
                  <a:cubicBezTo>
                    <a:pt x="2825789" y="3550302"/>
                    <a:pt x="2818227" y="3536950"/>
                    <a:pt x="2809760" y="3524250"/>
                  </a:cubicBezTo>
                  <a:cubicBezTo>
                    <a:pt x="2802334" y="3513111"/>
                    <a:pt x="2801293" y="3498850"/>
                    <a:pt x="2797060" y="3486150"/>
                  </a:cubicBezTo>
                  <a:cubicBezTo>
                    <a:pt x="2794943" y="3479800"/>
                    <a:pt x="2790710" y="3467100"/>
                    <a:pt x="2790710" y="3467100"/>
                  </a:cubicBezTo>
                  <a:cubicBezTo>
                    <a:pt x="2788593" y="3418417"/>
                    <a:pt x="2787832" y="3369655"/>
                    <a:pt x="2784360" y="3321050"/>
                  </a:cubicBezTo>
                  <a:cubicBezTo>
                    <a:pt x="2783736" y="3312320"/>
                    <a:pt x="2774613" y="3274236"/>
                    <a:pt x="2771660" y="3263900"/>
                  </a:cubicBezTo>
                  <a:cubicBezTo>
                    <a:pt x="2769821" y="3257464"/>
                    <a:pt x="2770043" y="3249583"/>
                    <a:pt x="2765310" y="3244850"/>
                  </a:cubicBezTo>
                  <a:cubicBezTo>
                    <a:pt x="2754517" y="3234057"/>
                    <a:pt x="2739910" y="3227917"/>
                    <a:pt x="2727210" y="3219450"/>
                  </a:cubicBezTo>
                  <a:cubicBezTo>
                    <a:pt x="2716071" y="3212024"/>
                    <a:pt x="2689110" y="3206750"/>
                    <a:pt x="2689110" y="3206750"/>
                  </a:cubicBezTo>
                  <a:cubicBezTo>
                    <a:pt x="2676410" y="3187700"/>
                    <a:pt x="2663710" y="3168650"/>
                    <a:pt x="2651010" y="3149600"/>
                  </a:cubicBezTo>
                  <a:cubicBezTo>
                    <a:pt x="2646777" y="3143250"/>
                    <a:pt x="2640723" y="3137790"/>
                    <a:pt x="2638310" y="3130550"/>
                  </a:cubicBezTo>
                  <a:cubicBezTo>
                    <a:pt x="2636193" y="3124200"/>
                    <a:pt x="2636069" y="3116784"/>
                    <a:pt x="2631960" y="3111500"/>
                  </a:cubicBezTo>
                  <a:cubicBezTo>
                    <a:pt x="2584162" y="3050045"/>
                    <a:pt x="2612749" y="3086020"/>
                    <a:pt x="2574810" y="3067050"/>
                  </a:cubicBezTo>
                  <a:cubicBezTo>
                    <a:pt x="2567984" y="3063637"/>
                    <a:pt x="2562110" y="3058583"/>
                    <a:pt x="2555760" y="3054350"/>
                  </a:cubicBezTo>
                  <a:cubicBezTo>
                    <a:pt x="2547293" y="3041650"/>
                    <a:pt x="2538827" y="3028950"/>
                    <a:pt x="2530360" y="3016250"/>
                  </a:cubicBezTo>
                  <a:cubicBezTo>
                    <a:pt x="2518619" y="2998638"/>
                    <a:pt x="2504001" y="2983062"/>
                    <a:pt x="2492260" y="2965450"/>
                  </a:cubicBezTo>
                  <a:cubicBezTo>
                    <a:pt x="2488027" y="2959100"/>
                    <a:pt x="2482660" y="2953374"/>
                    <a:pt x="2479560" y="2946400"/>
                  </a:cubicBezTo>
                  <a:cubicBezTo>
                    <a:pt x="2466344" y="2916664"/>
                    <a:pt x="2467150" y="2906429"/>
                    <a:pt x="2460510" y="2876550"/>
                  </a:cubicBezTo>
                  <a:cubicBezTo>
                    <a:pt x="2458617" y="2868031"/>
                    <a:pt x="2455872" y="2859708"/>
                    <a:pt x="2454160" y="2851150"/>
                  </a:cubicBezTo>
                  <a:cubicBezTo>
                    <a:pt x="2451635" y="2838525"/>
                    <a:pt x="2451881" y="2825264"/>
                    <a:pt x="2447810" y="2813050"/>
                  </a:cubicBezTo>
                  <a:cubicBezTo>
                    <a:pt x="2444329" y="2802607"/>
                    <a:pt x="2423797" y="2780476"/>
                    <a:pt x="2416060" y="2774950"/>
                  </a:cubicBezTo>
                  <a:cubicBezTo>
                    <a:pt x="2408357" y="2769448"/>
                    <a:pt x="2398687" y="2767267"/>
                    <a:pt x="2390660" y="2762250"/>
                  </a:cubicBezTo>
                  <a:cubicBezTo>
                    <a:pt x="2381685" y="2756641"/>
                    <a:pt x="2373872" y="2749351"/>
                    <a:pt x="2365260" y="2743200"/>
                  </a:cubicBezTo>
                  <a:cubicBezTo>
                    <a:pt x="2359050" y="2738764"/>
                    <a:pt x="2351606" y="2735896"/>
                    <a:pt x="2346210" y="2730500"/>
                  </a:cubicBezTo>
                  <a:cubicBezTo>
                    <a:pt x="2338726" y="2723016"/>
                    <a:pt x="2333510" y="2713567"/>
                    <a:pt x="2327160" y="2705100"/>
                  </a:cubicBezTo>
                  <a:cubicBezTo>
                    <a:pt x="2318609" y="2653795"/>
                    <a:pt x="2324881" y="2679214"/>
                    <a:pt x="2308110" y="2628900"/>
                  </a:cubicBezTo>
                  <a:cubicBezTo>
                    <a:pt x="2303522" y="2615137"/>
                    <a:pt x="2298028" y="2595660"/>
                    <a:pt x="2289060" y="2584450"/>
                  </a:cubicBezTo>
                  <a:cubicBezTo>
                    <a:pt x="2277840" y="2570425"/>
                    <a:pt x="2260923" y="2561294"/>
                    <a:pt x="2250960" y="2546350"/>
                  </a:cubicBezTo>
                  <a:cubicBezTo>
                    <a:pt x="2216658" y="2494897"/>
                    <a:pt x="2263214" y="2562032"/>
                    <a:pt x="2219210" y="2508250"/>
                  </a:cubicBezTo>
                  <a:cubicBezTo>
                    <a:pt x="2165075" y="2442085"/>
                    <a:pt x="2196982" y="2478400"/>
                    <a:pt x="2168410" y="2438400"/>
                  </a:cubicBezTo>
                  <a:cubicBezTo>
                    <a:pt x="2162259" y="2429788"/>
                    <a:pt x="2157270" y="2420031"/>
                    <a:pt x="2149360" y="2413000"/>
                  </a:cubicBezTo>
                  <a:cubicBezTo>
                    <a:pt x="2137952" y="2402859"/>
                    <a:pt x="2123960" y="2396067"/>
                    <a:pt x="2111260" y="2387600"/>
                  </a:cubicBezTo>
                  <a:cubicBezTo>
                    <a:pt x="2100121" y="2380174"/>
                    <a:pt x="2085134" y="2380887"/>
                    <a:pt x="2073160" y="2374900"/>
                  </a:cubicBezTo>
                  <a:cubicBezTo>
                    <a:pt x="2064693" y="2370667"/>
                    <a:pt x="2055787" y="2367217"/>
                    <a:pt x="2047760" y="2362200"/>
                  </a:cubicBezTo>
                  <a:cubicBezTo>
                    <a:pt x="2038785" y="2356591"/>
                    <a:pt x="2031335" y="2348759"/>
                    <a:pt x="2022360" y="2343150"/>
                  </a:cubicBezTo>
                  <a:cubicBezTo>
                    <a:pt x="2014333" y="2338133"/>
                    <a:pt x="2005077" y="2335320"/>
                    <a:pt x="1996960" y="2330450"/>
                  </a:cubicBezTo>
                  <a:cubicBezTo>
                    <a:pt x="1983872" y="2322597"/>
                    <a:pt x="1973340" y="2309877"/>
                    <a:pt x="1958860" y="2305050"/>
                  </a:cubicBezTo>
                  <a:cubicBezTo>
                    <a:pt x="1952510" y="2302933"/>
                    <a:pt x="1945797" y="2301693"/>
                    <a:pt x="1939810" y="2298700"/>
                  </a:cubicBezTo>
                  <a:cubicBezTo>
                    <a:pt x="1932984" y="2295287"/>
                    <a:pt x="1927734" y="2289100"/>
                    <a:pt x="1920760" y="2286000"/>
                  </a:cubicBezTo>
                  <a:cubicBezTo>
                    <a:pt x="1908527" y="2280563"/>
                    <a:pt x="1895360" y="2277533"/>
                    <a:pt x="1882660" y="2273300"/>
                  </a:cubicBezTo>
                  <a:cubicBezTo>
                    <a:pt x="1876310" y="2271183"/>
                    <a:pt x="1869179" y="2270663"/>
                    <a:pt x="1863610" y="2266950"/>
                  </a:cubicBezTo>
                  <a:cubicBezTo>
                    <a:pt x="1842738" y="2253035"/>
                    <a:pt x="1848514" y="2254473"/>
                    <a:pt x="1825510" y="2247900"/>
                  </a:cubicBezTo>
                  <a:cubicBezTo>
                    <a:pt x="1790174" y="2237804"/>
                    <a:pt x="1753758" y="2234419"/>
                    <a:pt x="1717560" y="2228850"/>
                  </a:cubicBezTo>
                  <a:cubicBezTo>
                    <a:pt x="1704835" y="2226892"/>
                    <a:pt x="1692029" y="2225293"/>
                    <a:pt x="1679460" y="2222500"/>
                  </a:cubicBezTo>
                  <a:cubicBezTo>
                    <a:pt x="1672926" y="2221048"/>
                    <a:pt x="1666760" y="2218267"/>
                    <a:pt x="1660410" y="2216150"/>
                  </a:cubicBezTo>
                  <a:cubicBezTo>
                    <a:pt x="1651943" y="2218267"/>
                    <a:pt x="1642587" y="2218170"/>
                    <a:pt x="1635010" y="2222500"/>
                  </a:cubicBezTo>
                  <a:cubicBezTo>
                    <a:pt x="1589238" y="2248655"/>
                    <a:pt x="1641555" y="2235116"/>
                    <a:pt x="1596910" y="2254250"/>
                  </a:cubicBezTo>
                  <a:cubicBezTo>
                    <a:pt x="1575893" y="2263257"/>
                    <a:pt x="1519208" y="2265830"/>
                    <a:pt x="1508010" y="2266950"/>
                  </a:cubicBezTo>
                  <a:cubicBezTo>
                    <a:pt x="1501660" y="2273300"/>
                    <a:pt x="1494473" y="2278911"/>
                    <a:pt x="1488960" y="2286000"/>
                  </a:cubicBezTo>
                  <a:cubicBezTo>
                    <a:pt x="1455502" y="2329017"/>
                    <a:pt x="1472127" y="2312283"/>
                    <a:pt x="1450860" y="2349500"/>
                  </a:cubicBezTo>
                  <a:cubicBezTo>
                    <a:pt x="1447074" y="2356126"/>
                    <a:pt x="1441260" y="2361576"/>
                    <a:pt x="1438160" y="2368550"/>
                  </a:cubicBezTo>
                  <a:cubicBezTo>
                    <a:pt x="1432723" y="2380783"/>
                    <a:pt x="1429693" y="2393950"/>
                    <a:pt x="1425460" y="2406650"/>
                  </a:cubicBezTo>
                  <a:cubicBezTo>
                    <a:pt x="1423047" y="2413890"/>
                    <a:pt x="1415860" y="2418726"/>
                    <a:pt x="1412760" y="2425700"/>
                  </a:cubicBezTo>
                  <a:cubicBezTo>
                    <a:pt x="1412760" y="2425700"/>
                    <a:pt x="1396885" y="2473325"/>
                    <a:pt x="1393710" y="2482850"/>
                  </a:cubicBezTo>
                  <a:cubicBezTo>
                    <a:pt x="1386884" y="2503328"/>
                    <a:pt x="1385243" y="2525183"/>
                    <a:pt x="1381010" y="2546350"/>
                  </a:cubicBezTo>
                  <a:cubicBezTo>
                    <a:pt x="1379697" y="2552914"/>
                    <a:pt x="1377911" y="2559549"/>
                    <a:pt x="1374660" y="2565400"/>
                  </a:cubicBezTo>
                  <a:cubicBezTo>
                    <a:pt x="1362453" y="2587373"/>
                    <a:pt x="1349360" y="2606591"/>
                    <a:pt x="1330210" y="2622550"/>
                  </a:cubicBezTo>
                  <a:cubicBezTo>
                    <a:pt x="1324347" y="2627436"/>
                    <a:pt x="1318134" y="2632150"/>
                    <a:pt x="1311160" y="2635250"/>
                  </a:cubicBezTo>
                  <a:cubicBezTo>
                    <a:pt x="1298927" y="2640687"/>
                    <a:pt x="1273060" y="2647950"/>
                    <a:pt x="1273060" y="2647950"/>
                  </a:cubicBezTo>
                  <a:cubicBezTo>
                    <a:pt x="1260360" y="2645833"/>
                    <a:pt x="1246845" y="2646552"/>
                    <a:pt x="1234960" y="2641600"/>
                  </a:cubicBezTo>
                  <a:cubicBezTo>
                    <a:pt x="1220871" y="2635729"/>
                    <a:pt x="1196860" y="2616200"/>
                    <a:pt x="1196860" y="2616200"/>
                  </a:cubicBezTo>
                  <a:cubicBezTo>
                    <a:pt x="1151478" y="2548127"/>
                    <a:pt x="1222152" y="2651439"/>
                    <a:pt x="1165110" y="2578100"/>
                  </a:cubicBezTo>
                  <a:cubicBezTo>
                    <a:pt x="1155739" y="2566052"/>
                    <a:pt x="1154190" y="2544827"/>
                    <a:pt x="1139710" y="2540000"/>
                  </a:cubicBezTo>
                  <a:cubicBezTo>
                    <a:pt x="1070235" y="2516842"/>
                    <a:pt x="1175468" y="2553776"/>
                    <a:pt x="1101610" y="2520950"/>
                  </a:cubicBezTo>
                  <a:cubicBezTo>
                    <a:pt x="1089377" y="2515513"/>
                    <a:pt x="1074649" y="2515676"/>
                    <a:pt x="1063510" y="2508250"/>
                  </a:cubicBezTo>
                  <a:cubicBezTo>
                    <a:pt x="1052682" y="2501031"/>
                    <a:pt x="1021297" y="2480108"/>
                    <a:pt x="1006360" y="2470150"/>
                  </a:cubicBezTo>
                  <a:cubicBezTo>
                    <a:pt x="1000791" y="2466437"/>
                    <a:pt x="993297" y="2466793"/>
                    <a:pt x="987310" y="2463800"/>
                  </a:cubicBezTo>
                  <a:cubicBezTo>
                    <a:pt x="980484" y="2460387"/>
                    <a:pt x="975086" y="2454513"/>
                    <a:pt x="968260" y="2451100"/>
                  </a:cubicBezTo>
                  <a:cubicBezTo>
                    <a:pt x="962273" y="2448107"/>
                    <a:pt x="955477" y="2447100"/>
                    <a:pt x="949210" y="2444750"/>
                  </a:cubicBezTo>
                  <a:cubicBezTo>
                    <a:pt x="938537" y="2440748"/>
                    <a:pt x="928133" y="2436052"/>
                    <a:pt x="917460" y="2432050"/>
                  </a:cubicBezTo>
                  <a:cubicBezTo>
                    <a:pt x="895477" y="2423806"/>
                    <a:pt x="891205" y="2425272"/>
                    <a:pt x="866660" y="2413000"/>
                  </a:cubicBezTo>
                  <a:cubicBezTo>
                    <a:pt x="859834" y="2409587"/>
                    <a:pt x="853960" y="2404533"/>
                    <a:pt x="847610" y="2400300"/>
                  </a:cubicBezTo>
                  <a:cubicBezTo>
                    <a:pt x="835466" y="2363867"/>
                    <a:pt x="849957" y="2397875"/>
                    <a:pt x="822210" y="2362200"/>
                  </a:cubicBezTo>
                  <a:cubicBezTo>
                    <a:pt x="812839" y="2350152"/>
                    <a:pt x="805277" y="2336800"/>
                    <a:pt x="796810" y="2324100"/>
                  </a:cubicBezTo>
                  <a:cubicBezTo>
                    <a:pt x="792577" y="2317750"/>
                    <a:pt x="789506" y="2310446"/>
                    <a:pt x="784110" y="2305050"/>
                  </a:cubicBezTo>
                  <a:cubicBezTo>
                    <a:pt x="777760" y="2298700"/>
                    <a:pt x="771410" y="2292350"/>
                    <a:pt x="765060" y="2286000"/>
                  </a:cubicBezTo>
                  <a:cubicBezTo>
                    <a:pt x="760827" y="2273300"/>
                    <a:pt x="756593" y="2260600"/>
                    <a:pt x="752360" y="2247900"/>
                  </a:cubicBezTo>
                  <a:cubicBezTo>
                    <a:pt x="747876" y="2234448"/>
                    <a:pt x="742176" y="2203332"/>
                    <a:pt x="739660" y="2190750"/>
                  </a:cubicBezTo>
                  <a:cubicBezTo>
                    <a:pt x="741777" y="2163233"/>
                    <a:pt x="740924" y="2135325"/>
                    <a:pt x="746010" y="2108200"/>
                  </a:cubicBezTo>
                  <a:cubicBezTo>
                    <a:pt x="747416" y="2100699"/>
                    <a:pt x="757631" y="2096705"/>
                    <a:pt x="758710" y="2089150"/>
                  </a:cubicBezTo>
                  <a:cubicBezTo>
                    <a:pt x="762697" y="2061243"/>
                    <a:pt x="751466" y="2063452"/>
                    <a:pt x="733310" y="2057400"/>
                  </a:cubicBezTo>
                  <a:cubicBezTo>
                    <a:pt x="729077" y="2044700"/>
                    <a:pt x="724843" y="2032000"/>
                    <a:pt x="720610" y="2019300"/>
                  </a:cubicBezTo>
                  <a:cubicBezTo>
                    <a:pt x="717850" y="2011021"/>
                    <a:pt x="718590" y="2001477"/>
                    <a:pt x="714260" y="1993900"/>
                  </a:cubicBezTo>
                  <a:cubicBezTo>
                    <a:pt x="709805" y="1986103"/>
                    <a:pt x="701560" y="1981200"/>
                    <a:pt x="695210" y="1974850"/>
                  </a:cubicBezTo>
                  <a:cubicBezTo>
                    <a:pt x="674202" y="1911827"/>
                    <a:pt x="709448" y="2008099"/>
                    <a:pt x="669810" y="1936750"/>
                  </a:cubicBezTo>
                  <a:cubicBezTo>
                    <a:pt x="663309" y="1925048"/>
                    <a:pt x="661343" y="1911350"/>
                    <a:pt x="657110" y="1898650"/>
                  </a:cubicBezTo>
                  <a:cubicBezTo>
                    <a:pt x="654993" y="1892300"/>
                    <a:pt x="655493" y="1884333"/>
                    <a:pt x="650760" y="1879600"/>
                  </a:cubicBezTo>
                  <a:cubicBezTo>
                    <a:pt x="622893" y="1851733"/>
                    <a:pt x="624398" y="1851442"/>
                    <a:pt x="580910" y="1822450"/>
                  </a:cubicBezTo>
                  <a:cubicBezTo>
                    <a:pt x="574560" y="1818217"/>
                    <a:pt x="568686" y="1813163"/>
                    <a:pt x="561860" y="1809750"/>
                  </a:cubicBezTo>
                  <a:cubicBezTo>
                    <a:pt x="555873" y="1806757"/>
                    <a:pt x="548797" y="1806393"/>
                    <a:pt x="542810" y="1803400"/>
                  </a:cubicBezTo>
                  <a:cubicBezTo>
                    <a:pt x="527928" y="1795959"/>
                    <a:pt x="502291" y="1772777"/>
                    <a:pt x="492010" y="1765300"/>
                  </a:cubicBezTo>
                  <a:cubicBezTo>
                    <a:pt x="492010" y="1765300"/>
                    <a:pt x="444385" y="1733550"/>
                    <a:pt x="434860" y="1727200"/>
                  </a:cubicBezTo>
                  <a:cubicBezTo>
                    <a:pt x="426054" y="1721329"/>
                    <a:pt x="417927" y="1714500"/>
                    <a:pt x="409460" y="1708150"/>
                  </a:cubicBezTo>
                  <a:cubicBezTo>
                    <a:pt x="407343" y="1701800"/>
                    <a:pt x="407291" y="1694327"/>
                    <a:pt x="403110" y="1689100"/>
                  </a:cubicBezTo>
                  <a:cubicBezTo>
                    <a:pt x="398342" y="1683141"/>
                    <a:pt x="390270" y="1680836"/>
                    <a:pt x="384060" y="1676400"/>
                  </a:cubicBezTo>
                  <a:cubicBezTo>
                    <a:pt x="375448" y="1670249"/>
                    <a:pt x="367272" y="1663501"/>
                    <a:pt x="358660" y="1657350"/>
                  </a:cubicBezTo>
                  <a:cubicBezTo>
                    <a:pt x="352450" y="1652914"/>
                    <a:pt x="345314" y="1649720"/>
                    <a:pt x="339610" y="1644650"/>
                  </a:cubicBezTo>
                  <a:cubicBezTo>
                    <a:pt x="326186" y="1632718"/>
                    <a:pt x="316454" y="1616513"/>
                    <a:pt x="301510" y="1606550"/>
                  </a:cubicBezTo>
                  <a:cubicBezTo>
                    <a:pt x="274988" y="1588869"/>
                    <a:pt x="287856" y="1599246"/>
                    <a:pt x="263410" y="1574800"/>
                  </a:cubicBezTo>
                  <a:cubicBezTo>
                    <a:pt x="247449" y="1526917"/>
                    <a:pt x="268979" y="1585939"/>
                    <a:pt x="244360" y="1536700"/>
                  </a:cubicBezTo>
                  <a:cubicBezTo>
                    <a:pt x="241367" y="1530713"/>
                    <a:pt x="242119" y="1522934"/>
                    <a:pt x="238010" y="1517650"/>
                  </a:cubicBezTo>
                  <a:cubicBezTo>
                    <a:pt x="226983" y="1503473"/>
                    <a:pt x="212610" y="1492250"/>
                    <a:pt x="199910" y="1479550"/>
                  </a:cubicBezTo>
                  <a:cubicBezTo>
                    <a:pt x="185866" y="1465506"/>
                    <a:pt x="179491" y="1456641"/>
                    <a:pt x="161810" y="1447800"/>
                  </a:cubicBezTo>
                  <a:cubicBezTo>
                    <a:pt x="155823" y="1444807"/>
                    <a:pt x="148912" y="1444087"/>
                    <a:pt x="142760" y="1441450"/>
                  </a:cubicBezTo>
                  <a:cubicBezTo>
                    <a:pt x="134059" y="1437721"/>
                    <a:pt x="125827" y="1432983"/>
                    <a:pt x="117360" y="1428750"/>
                  </a:cubicBezTo>
                  <a:cubicBezTo>
                    <a:pt x="113127" y="1420283"/>
                    <a:pt x="106956" y="1412533"/>
                    <a:pt x="104660" y="1403350"/>
                  </a:cubicBezTo>
                  <a:cubicBezTo>
                    <a:pt x="100521" y="1386794"/>
                    <a:pt x="105241" y="1368144"/>
                    <a:pt x="98310" y="1352550"/>
                  </a:cubicBezTo>
                  <a:cubicBezTo>
                    <a:pt x="95592" y="1346433"/>
                    <a:pt x="85111" y="1349451"/>
                    <a:pt x="79260" y="1346200"/>
                  </a:cubicBezTo>
                  <a:cubicBezTo>
                    <a:pt x="65917" y="1338787"/>
                    <a:pt x="53860" y="1329267"/>
                    <a:pt x="41160" y="1320800"/>
                  </a:cubicBezTo>
                  <a:cubicBezTo>
                    <a:pt x="34810" y="1316567"/>
                    <a:pt x="22110" y="1308100"/>
                    <a:pt x="22110" y="1308100"/>
                  </a:cubicBezTo>
                  <a:cubicBezTo>
                    <a:pt x="30163" y="1195359"/>
                    <a:pt x="0" y="1213672"/>
                    <a:pt x="47510" y="1225550"/>
                  </a:cubicBezTo>
                  <a:cubicBezTo>
                    <a:pt x="49563" y="1226063"/>
                    <a:pt x="51743" y="1225550"/>
                    <a:pt x="53860" y="1225550"/>
                  </a:cubicBezTo>
                </a:path>
              </a:pathLst>
            </a:custGeom>
            <a:noFill/>
            <a:ln w="38160">
              <a:solidFill>
                <a:srgbClr val="000000"/>
              </a:solidFill>
              <a:round/>
            </a:ln>
          </p:spPr>
          <p:style>
            <a:lnRef idx="0"/>
            <a:fillRef idx="0"/>
            <a:effectRef idx="0"/>
            <a:fontRef idx="minor"/>
          </p:style>
          <p:txBody>
            <a:bodyPr lIns="36360" rIns="36360" tIns="36360" bIns="36360" anchor="t">
              <a:noAutofit/>
            </a:bodyPr>
            <a:p>
              <a:endParaRPr b="0" lang="en-US" sz="1800" spc="-1" strike="noStrike">
                <a:solidFill>
                  <a:srgbClr val="ffffff"/>
                </a:solidFill>
                <a:latin typeface="Arial"/>
              </a:endParaRPr>
            </a:p>
          </p:txBody>
        </p:sp>
        <p:sp>
          <p:nvSpPr>
            <p:cNvPr id="233" name=""/>
            <p:cNvSpPr/>
            <p:nvPr/>
          </p:nvSpPr>
          <p:spPr>
            <a:xfrm>
              <a:off x="2330640" y="1592280"/>
              <a:ext cx="0" cy="76932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ffffff"/>
                </a:solidFill>
                <a:latin typeface="Arial"/>
              </a:endParaRPr>
            </a:p>
          </p:txBody>
        </p:sp>
        <p:sp>
          <p:nvSpPr>
            <p:cNvPr id="234" name=""/>
            <p:cNvSpPr/>
            <p:nvPr/>
          </p:nvSpPr>
          <p:spPr>
            <a:xfrm>
              <a:off x="1352880" y="1592280"/>
              <a:ext cx="972000" cy="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ffffff"/>
                </a:solidFill>
                <a:latin typeface="Arial"/>
              </a:endParaRPr>
            </a:p>
          </p:txBody>
        </p:sp>
        <p:sp>
          <p:nvSpPr>
            <p:cNvPr id="235" name=""/>
            <p:cNvSpPr/>
            <p:nvPr/>
          </p:nvSpPr>
          <p:spPr>
            <a:xfrm>
              <a:off x="1352880" y="1592280"/>
              <a:ext cx="0" cy="183636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ffffff"/>
                </a:solidFill>
                <a:latin typeface="Arial"/>
              </a:endParaRPr>
            </a:p>
          </p:txBody>
        </p:sp>
        <p:sp>
          <p:nvSpPr>
            <p:cNvPr id="236" name=""/>
            <p:cNvSpPr/>
            <p:nvPr/>
          </p:nvSpPr>
          <p:spPr>
            <a:xfrm>
              <a:off x="124920" y="3428640"/>
              <a:ext cx="1227960" cy="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ffffff"/>
                </a:solidFill>
                <a:latin typeface="Arial"/>
              </a:endParaRPr>
            </a:p>
          </p:txBody>
        </p:sp>
      </p:grpSp>
      <p:sp>
        <p:nvSpPr>
          <p:cNvPr id="237" name=""/>
          <p:cNvSpPr/>
          <p:nvPr/>
        </p:nvSpPr>
        <p:spPr>
          <a:xfrm>
            <a:off x="1655640" y="3537000"/>
            <a:ext cx="4842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W</a:t>
            </a:r>
            <a:endParaRPr b="0" lang="en-US" sz="1800" spc="-1" strike="noStrike">
              <a:solidFill>
                <a:srgbClr val="ffffff"/>
              </a:solidFill>
              <a:latin typeface="Arial"/>
            </a:endParaRPr>
          </a:p>
        </p:txBody>
      </p:sp>
      <p:sp>
        <p:nvSpPr>
          <p:cNvPr id="238" name=""/>
          <p:cNvSpPr/>
          <p:nvPr/>
        </p:nvSpPr>
        <p:spPr>
          <a:xfrm>
            <a:off x="3780000" y="4113360"/>
            <a:ext cx="3236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a:t>
            </a:r>
            <a:endParaRPr b="0" lang="en-US" sz="1800" spc="-1" strike="noStrike">
              <a:solidFill>
                <a:srgbClr val="ffffff"/>
              </a:solidFill>
              <a:latin typeface="Arial"/>
            </a:endParaRPr>
          </a:p>
        </p:txBody>
      </p:sp>
      <p:sp>
        <p:nvSpPr>
          <p:cNvPr id="239" name=""/>
          <p:cNvSpPr/>
          <p:nvPr/>
        </p:nvSpPr>
        <p:spPr>
          <a:xfrm>
            <a:off x="2771640" y="4400640"/>
            <a:ext cx="358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a:t>
            </a:r>
            <a:endParaRPr b="0" lang="en-US" sz="1800" spc="-1" strike="noStrike">
              <a:solidFill>
                <a:srgbClr val="ffffff"/>
              </a:solidFill>
              <a:latin typeface="Arial"/>
            </a:endParaRPr>
          </a:p>
        </p:txBody>
      </p:sp>
      <p:sp>
        <p:nvSpPr>
          <p:cNvPr id="240" name=""/>
          <p:cNvSpPr/>
          <p:nvPr/>
        </p:nvSpPr>
        <p:spPr>
          <a:xfrm>
            <a:off x="3130560" y="3105000"/>
            <a:ext cx="4334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N</a:t>
            </a:r>
            <a:endParaRPr b="0" lang="en-US" sz="1800" spc="-1" strike="noStrike">
              <a:solidFill>
                <a:srgbClr val="ffffff"/>
              </a:solidFill>
              <a:latin typeface="Arial"/>
            </a:endParaRPr>
          </a:p>
        </p:txBody>
      </p:sp>
      <p:sp>
        <p:nvSpPr>
          <p:cNvPr id="241" name=""/>
          <p:cNvSpPr/>
          <p:nvPr/>
        </p:nvSpPr>
        <p:spPr>
          <a:xfrm>
            <a:off x="3525840" y="2560680"/>
            <a:ext cx="544680" cy="507960"/>
          </a:xfrm>
          <a:custGeom>
            <a:avLst/>
            <a:gdLst/>
            <a:ahLst/>
            <a:rect l="l" t="t" r="r" b="b"/>
            <a:pathLst>
              <a:path w="343" h="320">
                <a:moveTo>
                  <a:pt x="33" y="63"/>
                </a:moveTo>
                <a:cubicBezTo>
                  <a:pt x="9" y="78"/>
                  <a:pt x="5" y="85"/>
                  <a:pt x="14" y="113"/>
                </a:cubicBezTo>
                <a:cubicBezTo>
                  <a:pt x="12" y="130"/>
                  <a:pt x="11" y="146"/>
                  <a:pt x="8" y="163"/>
                </a:cubicBezTo>
                <a:cubicBezTo>
                  <a:pt x="7" y="170"/>
                  <a:pt x="0" y="176"/>
                  <a:pt x="2" y="182"/>
                </a:cubicBezTo>
                <a:cubicBezTo>
                  <a:pt x="5" y="189"/>
                  <a:pt x="14" y="190"/>
                  <a:pt x="20" y="194"/>
                </a:cubicBezTo>
                <a:cubicBezTo>
                  <a:pt x="65" y="260"/>
                  <a:pt x="96" y="292"/>
                  <a:pt x="171" y="320"/>
                </a:cubicBezTo>
                <a:cubicBezTo>
                  <a:pt x="177" y="316"/>
                  <a:pt x="186" y="314"/>
                  <a:pt x="189" y="307"/>
                </a:cubicBezTo>
                <a:cubicBezTo>
                  <a:pt x="191" y="301"/>
                  <a:pt x="179" y="293"/>
                  <a:pt x="183" y="288"/>
                </a:cubicBezTo>
                <a:cubicBezTo>
                  <a:pt x="192" y="276"/>
                  <a:pt x="221" y="263"/>
                  <a:pt x="221" y="263"/>
                </a:cubicBezTo>
                <a:cubicBezTo>
                  <a:pt x="235" y="240"/>
                  <a:pt x="246" y="235"/>
                  <a:pt x="271" y="226"/>
                </a:cubicBezTo>
                <a:cubicBezTo>
                  <a:pt x="283" y="222"/>
                  <a:pt x="308" y="213"/>
                  <a:pt x="308" y="213"/>
                </a:cubicBezTo>
                <a:cubicBezTo>
                  <a:pt x="317" y="187"/>
                  <a:pt x="316" y="179"/>
                  <a:pt x="290" y="169"/>
                </a:cubicBezTo>
                <a:cubicBezTo>
                  <a:pt x="298" y="144"/>
                  <a:pt x="312" y="148"/>
                  <a:pt x="327" y="126"/>
                </a:cubicBezTo>
                <a:cubicBezTo>
                  <a:pt x="343" y="76"/>
                  <a:pt x="305" y="17"/>
                  <a:pt x="258" y="0"/>
                </a:cubicBezTo>
                <a:cubicBezTo>
                  <a:pt x="190" y="7"/>
                  <a:pt x="134" y="18"/>
                  <a:pt x="70" y="38"/>
                </a:cubicBezTo>
                <a:cubicBezTo>
                  <a:pt x="62" y="43"/>
                  <a:pt x="33" y="77"/>
                  <a:pt x="33" y="63"/>
                </a:cubicBez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492360" y="2593800"/>
            <a:ext cx="5763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NE</a:t>
            </a:r>
            <a:endParaRPr b="0" lang="en-US" sz="1800" spc="-1" strike="noStrike">
              <a:solidFill>
                <a:srgbClr val="ffffff"/>
              </a:solidFill>
              <a:latin typeface="Arial"/>
            </a:endParaRPr>
          </a:p>
        </p:txBody>
      </p:sp>
      <p:sp>
        <p:nvSpPr>
          <p:cNvPr id="243" name=""/>
          <p:cNvSpPr/>
          <p:nvPr/>
        </p:nvSpPr>
        <p:spPr>
          <a:xfrm>
            <a:off x="2592360" y="1341360"/>
            <a:ext cx="3060720" cy="0"/>
          </a:xfrm>
          <a:prstGeom prst="line">
            <a:avLst/>
          </a:prstGeom>
          <a:ln w="1522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txBox="1"/>
          <p:nvPr/>
        </p:nvSpPr>
        <p:spPr>
          <a:xfrm>
            <a:off x="1187280" y="1160640"/>
            <a:ext cx="1260720" cy="28728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Zonal</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45" name=""/>
          <p:cNvSpPr txBox="1"/>
          <p:nvPr/>
        </p:nvSpPr>
        <p:spPr>
          <a:xfrm>
            <a:off x="5759280" y="1197000"/>
            <a:ext cx="1260720" cy="28728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Nodal</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46" name=""/>
          <p:cNvSpPr/>
          <p:nvPr/>
        </p:nvSpPr>
        <p:spPr>
          <a:xfrm>
            <a:off x="2556000" y="3141720"/>
            <a:ext cx="503280" cy="0"/>
          </a:xfrm>
          <a:prstGeom prst="line">
            <a:avLst/>
          </a:prstGeom>
          <a:ln w="57240">
            <a:solidFill>
              <a:srgbClr val="cc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2987640" y="3644640"/>
            <a:ext cx="144360" cy="431640"/>
          </a:xfrm>
          <a:prstGeom prst="line">
            <a:avLst/>
          </a:prstGeom>
          <a:ln w="57240">
            <a:solidFill>
              <a:srgbClr val="cc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3708360" y="3824280"/>
            <a:ext cx="216000" cy="325440"/>
          </a:xfrm>
          <a:prstGeom prst="line">
            <a:avLst/>
          </a:prstGeom>
          <a:ln w="57240">
            <a:solidFill>
              <a:srgbClr val="cc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V="1">
            <a:off x="3564000" y="4365720"/>
            <a:ext cx="287280" cy="179280"/>
          </a:xfrm>
          <a:prstGeom prst="line">
            <a:avLst/>
          </a:prstGeom>
          <a:ln w="57240">
            <a:solidFill>
              <a:srgbClr val="cc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3455640" y="2924280"/>
            <a:ext cx="252360" cy="252360"/>
          </a:xfrm>
          <a:prstGeom prst="line">
            <a:avLst/>
          </a:prstGeom>
          <a:ln w="57240">
            <a:solidFill>
              <a:srgbClr val="cc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16000" y="6058080"/>
            <a:ext cx="503280" cy="0"/>
          </a:xfrm>
          <a:prstGeom prst="line">
            <a:avLst/>
          </a:prstGeom>
          <a:ln w="57240">
            <a:solidFill>
              <a:srgbClr val="cc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97400" y="5877000"/>
            <a:ext cx="378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ercially Significant Constraint</a:t>
            </a:r>
            <a:endParaRPr b="0" lang="en-US" sz="1800" spc="-1" strike="noStrike">
              <a:solidFill>
                <a:srgbClr val="ffffff"/>
              </a:solidFill>
              <a:latin typeface="Arial"/>
            </a:endParaRPr>
          </a:p>
        </p:txBody>
      </p:sp>
      <p:grpSp>
        <p:nvGrpSpPr>
          <p:cNvPr id="253" name=""/>
          <p:cNvGrpSpPr/>
          <p:nvPr/>
        </p:nvGrpSpPr>
        <p:grpSpPr>
          <a:xfrm>
            <a:off x="4680000" y="1628640"/>
            <a:ext cx="4427280" cy="4321080"/>
            <a:chOff x="4680000" y="1628640"/>
            <a:chExt cx="4427280" cy="4321080"/>
          </a:xfrm>
        </p:grpSpPr>
        <p:grpSp>
          <p:nvGrpSpPr>
            <p:cNvPr id="254" name=""/>
            <p:cNvGrpSpPr/>
            <p:nvPr/>
          </p:nvGrpSpPr>
          <p:grpSpPr>
            <a:xfrm>
              <a:off x="4680000" y="1628640"/>
              <a:ext cx="4427280" cy="4321080"/>
              <a:chOff x="4680000" y="1628640"/>
              <a:chExt cx="4427280" cy="4321080"/>
            </a:xfrm>
          </p:grpSpPr>
          <p:sp>
            <p:nvSpPr>
              <p:cNvPr id="255" name=""/>
              <p:cNvSpPr/>
              <p:nvPr/>
            </p:nvSpPr>
            <p:spPr>
              <a:xfrm>
                <a:off x="5327280" y="2457000"/>
                <a:ext cx="3708360" cy="3492360"/>
              </a:xfrm>
              <a:custGeom>
                <a:avLst/>
                <a:gdLst/>
                <a:ahLst/>
                <a:rect l="l" t="t" r="r" b="b"/>
                <a:pathLst>
                  <a:path w="2380" h="2152">
                    <a:moveTo>
                      <a:pt x="732" y="0"/>
                    </a:moveTo>
                    <a:cubicBezTo>
                      <a:pt x="740" y="25"/>
                      <a:pt x="740" y="16"/>
                      <a:pt x="740" y="28"/>
                    </a:cubicBezTo>
                    <a:cubicBezTo>
                      <a:pt x="711" y="80"/>
                      <a:pt x="734" y="26"/>
                      <a:pt x="764" y="56"/>
                    </a:cubicBezTo>
                    <a:lnTo>
                      <a:pt x="771" y="371"/>
                    </a:lnTo>
                    <a:lnTo>
                      <a:pt x="522" y="371"/>
                    </a:lnTo>
                    <a:lnTo>
                      <a:pt x="522" y="461"/>
                    </a:lnTo>
                    <a:lnTo>
                      <a:pt x="499" y="484"/>
                    </a:lnTo>
                    <a:cubicBezTo>
                      <a:pt x="454" y="492"/>
                      <a:pt x="409" y="503"/>
                      <a:pt x="363" y="507"/>
                    </a:cubicBezTo>
                    <a:cubicBezTo>
                      <a:pt x="358" y="507"/>
                      <a:pt x="367" y="497"/>
                      <a:pt x="372" y="496"/>
                    </a:cubicBezTo>
                    <a:cubicBezTo>
                      <a:pt x="379" y="494"/>
                      <a:pt x="385" y="499"/>
                      <a:pt x="392" y="500"/>
                    </a:cubicBezTo>
                    <a:cubicBezTo>
                      <a:pt x="388" y="501"/>
                      <a:pt x="380" y="504"/>
                      <a:pt x="380" y="504"/>
                    </a:cubicBezTo>
                    <a:lnTo>
                      <a:pt x="363" y="620"/>
                    </a:lnTo>
                    <a:lnTo>
                      <a:pt x="0" y="643"/>
                    </a:lnTo>
                    <a:lnTo>
                      <a:pt x="0" y="1028"/>
                    </a:lnTo>
                    <a:cubicBezTo>
                      <a:pt x="7" y="1050"/>
                      <a:pt x="9" y="1059"/>
                      <a:pt x="28" y="1072"/>
                    </a:cubicBezTo>
                    <a:cubicBezTo>
                      <a:pt x="31" y="1076"/>
                      <a:pt x="36" y="1079"/>
                      <a:pt x="36" y="1084"/>
                    </a:cubicBezTo>
                    <a:cubicBezTo>
                      <a:pt x="36" y="1096"/>
                      <a:pt x="23" y="1126"/>
                      <a:pt x="20" y="1140"/>
                    </a:cubicBezTo>
                    <a:cubicBezTo>
                      <a:pt x="21" y="1155"/>
                      <a:pt x="20" y="1170"/>
                      <a:pt x="24" y="1184"/>
                    </a:cubicBezTo>
                    <a:cubicBezTo>
                      <a:pt x="27" y="1194"/>
                      <a:pt x="61" y="1245"/>
                      <a:pt x="68" y="1252"/>
                    </a:cubicBezTo>
                    <a:cubicBezTo>
                      <a:pt x="82" y="1266"/>
                      <a:pt x="88" y="1265"/>
                      <a:pt x="108" y="1272"/>
                    </a:cubicBezTo>
                    <a:cubicBezTo>
                      <a:pt x="138" y="1282"/>
                      <a:pt x="169" y="1300"/>
                      <a:pt x="200" y="1308"/>
                    </a:cubicBezTo>
                    <a:cubicBezTo>
                      <a:pt x="211" y="1315"/>
                      <a:pt x="236" y="1324"/>
                      <a:pt x="236" y="1324"/>
                    </a:cubicBezTo>
                    <a:cubicBezTo>
                      <a:pt x="253" y="1349"/>
                      <a:pt x="283" y="1382"/>
                      <a:pt x="312" y="1392"/>
                    </a:cubicBezTo>
                    <a:cubicBezTo>
                      <a:pt x="341" y="1382"/>
                      <a:pt x="330" y="1390"/>
                      <a:pt x="348" y="1372"/>
                    </a:cubicBezTo>
                    <a:cubicBezTo>
                      <a:pt x="360" y="1337"/>
                      <a:pt x="380" y="1308"/>
                      <a:pt x="396" y="1276"/>
                    </a:cubicBezTo>
                    <a:cubicBezTo>
                      <a:pt x="406" y="1257"/>
                      <a:pt x="409" y="1232"/>
                      <a:pt x="416" y="1212"/>
                    </a:cubicBezTo>
                    <a:cubicBezTo>
                      <a:pt x="419" y="1203"/>
                      <a:pt x="432" y="1201"/>
                      <a:pt x="440" y="1196"/>
                    </a:cubicBezTo>
                    <a:cubicBezTo>
                      <a:pt x="465" y="1179"/>
                      <a:pt x="483" y="1170"/>
                      <a:pt x="512" y="1160"/>
                    </a:cubicBezTo>
                    <a:cubicBezTo>
                      <a:pt x="520" y="1157"/>
                      <a:pt x="528" y="1155"/>
                      <a:pt x="536" y="1152"/>
                    </a:cubicBezTo>
                    <a:cubicBezTo>
                      <a:pt x="540" y="1151"/>
                      <a:pt x="548" y="1148"/>
                      <a:pt x="548" y="1148"/>
                    </a:cubicBezTo>
                    <a:cubicBezTo>
                      <a:pt x="613" y="1159"/>
                      <a:pt x="665" y="1195"/>
                      <a:pt x="724" y="1220"/>
                    </a:cubicBezTo>
                    <a:cubicBezTo>
                      <a:pt x="743" y="1228"/>
                      <a:pt x="773" y="1237"/>
                      <a:pt x="788" y="1252"/>
                    </a:cubicBezTo>
                    <a:cubicBezTo>
                      <a:pt x="812" y="1276"/>
                      <a:pt x="831" y="1301"/>
                      <a:pt x="860" y="1320"/>
                    </a:cubicBezTo>
                    <a:cubicBezTo>
                      <a:pt x="869" y="1334"/>
                      <a:pt x="878" y="1343"/>
                      <a:pt x="892" y="1352"/>
                    </a:cubicBezTo>
                    <a:cubicBezTo>
                      <a:pt x="897" y="1368"/>
                      <a:pt x="918" y="1442"/>
                      <a:pt x="928" y="1452"/>
                    </a:cubicBezTo>
                    <a:cubicBezTo>
                      <a:pt x="931" y="1455"/>
                      <a:pt x="936" y="1455"/>
                      <a:pt x="940" y="1456"/>
                    </a:cubicBezTo>
                    <a:cubicBezTo>
                      <a:pt x="951" y="1467"/>
                      <a:pt x="976" y="1484"/>
                      <a:pt x="976" y="1484"/>
                    </a:cubicBezTo>
                    <a:cubicBezTo>
                      <a:pt x="987" y="1517"/>
                      <a:pt x="976" y="1568"/>
                      <a:pt x="1004" y="1592"/>
                    </a:cubicBezTo>
                    <a:cubicBezTo>
                      <a:pt x="1017" y="1603"/>
                      <a:pt x="1039" y="1617"/>
                      <a:pt x="1056" y="1624"/>
                    </a:cubicBezTo>
                    <a:cubicBezTo>
                      <a:pt x="1064" y="1627"/>
                      <a:pt x="1080" y="1632"/>
                      <a:pt x="1080" y="1632"/>
                    </a:cubicBezTo>
                    <a:cubicBezTo>
                      <a:pt x="1083" y="1636"/>
                      <a:pt x="1085" y="1641"/>
                      <a:pt x="1088" y="1644"/>
                    </a:cubicBezTo>
                    <a:cubicBezTo>
                      <a:pt x="1091" y="1647"/>
                      <a:pt x="1097" y="1648"/>
                      <a:pt x="1100" y="1652"/>
                    </a:cubicBezTo>
                    <a:cubicBezTo>
                      <a:pt x="1106" y="1659"/>
                      <a:pt x="1107" y="1669"/>
                      <a:pt x="1112" y="1676"/>
                    </a:cubicBezTo>
                    <a:cubicBezTo>
                      <a:pt x="1118" y="1701"/>
                      <a:pt x="1137" y="1724"/>
                      <a:pt x="1160" y="1736"/>
                    </a:cubicBezTo>
                    <a:cubicBezTo>
                      <a:pt x="1165" y="1755"/>
                      <a:pt x="1174" y="1769"/>
                      <a:pt x="1180" y="1788"/>
                    </a:cubicBezTo>
                    <a:cubicBezTo>
                      <a:pt x="1183" y="1796"/>
                      <a:pt x="1188" y="1812"/>
                      <a:pt x="1188" y="1812"/>
                    </a:cubicBezTo>
                    <a:cubicBezTo>
                      <a:pt x="1183" y="1866"/>
                      <a:pt x="1175" y="1927"/>
                      <a:pt x="1216" y="1968"/>
                    </a:cubicBezTo>
                    <a:cubicBezTo>
                      <a:pt x="1235" y="2026"/>
                      <a:pt x="1286" y="2042"/>
                      <a:pt x="1340" y="2060"/>
                    </a:cubicBezTo>
                    <a:cubicBezTo>
                      <a:pt x="1387" y="2076"/>
                      <a:pt x="1435" y="2098"/>
                      <a:pt x="1484" y="2108"/>
                    </a:cubicBezTo>
                    <a:cubicBezTo>
                      <a:pt x="1546" y="2120"/>
                      <a:pt x="1607" y="2137"/>
                      <a:pt x="1668" y="2152"/>
                    </a:cubicBezTo>
                    <a:cubicBezTo>
                      <a:pt x="1684" y="2149"/>
                      <a:pt x="1706" y="2139"/>
                      <a:pt x="1688" y="2116"/>
                    </a:cubicBezTo>
                    <a:cubicBezTo>
                      <a:pt x="1682" y="2108"/>
                      <a:pt x="1664" y="2100"/>
                      <a:pt x="1664" y="2100"/>
                    </a:cubicBezTo>
                    <a:cubicBezTo>
                      <a:pt x="1657" y="2089"/>
                      <a:pt x="1648" y="2064"/>
                      <a:pt x="1648" y="2064"/>
                    </a:cubicBezTo>
                    <a:cubicBezTo>
                      <a:pt x="1642" y="2019"/>
                      <a:pt x="1655" y="1953"/>
                      <a:pt x="1604" y="1936"/>
                    </a:cubicBezTo>
                    <a:cubicBezTo>
                      <a:pt x="1601" y="1928"/>
                      <a:pt x="1599" y="1920"/>
                      <a:pt x="1596" y="1912"/>
                    </a:cubicBezTo>
                    <a:cubicBezTo>
                      <a:pt x="1595" y="1908"/>
                      <a:pt x="1592" y="1900"/>
                      <a:pt x="1592" y="1900"/>
                    </a:cubicBezTo>
                    <a:cubicBezTo>
                      <a:pt x="1595" y="1884"/>
                      <a:pt x="1601" y="1879"/>
                      <a:pt x="1588" y="1868"/>
                    </a:cubicBezTo>
                    <a:cubicBezTo>
                      <a:pt x="1581" y="1862"/>
                      <a:pt x="1564" y="1852"/>
                      <a:pt x="1564" y="1852"/>
                    </a:cubicBezTo>
                    <a:cubicBezTo>
                      <a:pt x="1555" y="1839"/>
                      <a:pt x="1546" y="1830"/>
                      <a:pt x="1560" y="1816"/>
                    </a:cubicBezTo>
                    <a:cubicBezTo>
                      <a:pt x="1569" y="1807"/>
                      <a:pt x="1596" y="1800"/>
                      <a:pt x="1596" y="1800"/>
                    </a:cubicBezTo>
                    <a:cubicBezTo>
                      <a:pt x="1609" y="1781"/>
                      <a:pt x="1613" y="1757"/>
                      <a:pt x="1632" y="1744"/>
                    </a:cubicBezTo>
                    <a:cubicBezTo>
                      <a:pt x="1636" y="1723"/>
                      <a:pt x="1641" y="1712"/>
                      <a:pt x="1632" y="1688"/>
                    </a:cubicBezTo>
                    <a:cubicBezTo>
                      <a:pt x="1629" y="1681"/>
                      <a:pt x="1602" y="1672"/>
                      <a:pt x="1596" y="1668"/>
                    </a:cubicBezTo>
                    <a:cubicBezTo>
                      <a:pt x="1615" y="1655"/>
                      <a:pt x="1628" y="1665"/>
                      <a:pt x="1644" y="1676"/>
                    </a:cubicBezTo>
                    <a:cubicBezTo>
                      <a:pt x="1657" y="1672"/>
                      <a:pt x="1672" y="1648"/>
                      <a:pt x="1672" y="1648"/>
                    </a:cubicBezTo>
                    <a:cubicBezTo>
                      <a:pt x="1669" y="1624"/>
                      <a:pt x="1671" y="1612"/>
                      <a:pt x="1648" y="1604"/>
                    </a:cubicBezTo>
                    <a:cubicBezTo>
                      <a:pt x="1649" y="1600"/>
                      <a:pt x="1649" y="1594"/>
                      <a:pt x="1652" y="1592"/>
                    </a:cubicBezTo>
                    <a:cubicBezTo>
                      <a:pt x="1659" y="1587"/>
                      <a:pt x="1676" y="1584"/>
                      <a:pt x="1676" y="1584"/>
                    </a:cubicBezTo>
                    <a:cubicBezTo>
                      <a:pt x="1708" y="1588"/>
                      <a:pt x="1725" y="1592"/>
                      <a:pt x="1756" y="1588"/>
                    </a:cubicBezTo>
                    <a:cubicBezTo>
                      <a:pt x="1762" y="1569"/>
                      <a:pt x="1751" y="1574"/>
                      <a:pt x="1736" y="1564"/>
                    </a:cubicBezTo>
                    <a:cubicBezTo>
                      <a:pt x="1724" y="1547"/>
                      <a:pt x="1734" y="1542"/>
                      <a:pt x="1740" y="1524"/>
                    </a:cubicBezTo>
                    <a:cubicBezTo>
                      <a:pt x="1756" y="1529"/>
                      <a:pt x="1759" y="1536"/>
                      <a:pt x="1764" y="1552"/>
                    </a:cubicBezTo>
                    <a:cubicBezTo>
                      <a:pt x="1770" y="1544"/>
                      <a:pt x="1769" y="1532"/>
                      <a:pt x="1776" y="1524"/>
                    </a:cubicBezTo>
                    <a:cubicBezTo>
                      <a:pt x="1782" y="1517"/>
                      <a:pt x="1800" y="1508"/>
                      <a:pt x="1800" y="1508"/>
                    </a:cubicBezTo>
                    <a:cubicBezTo>
                      <a:pt x="1807" y="1486"/>
                      <a:pt x="1791" y="1478"/>
                      <a:pt x="1772" y="1472"/>
                    </a:cubicBezTo>
                    <a:cubicBezTo>
                      <a:pt x="1769" y="1468"/>
                      <a:pt x="1761" y="1464"/>
                      <a:pt x="1764" y="1460"/>
                    </a:cubicBezTo>
                    <a:cubicBezTo>
                      <a:pt x="1769" y="1453"/>
                      <a:pt x="1788" y="1452"/>
                      <a:pt x="1788" y="1452"/>
                    </a:cubicBezTo>
                    <a:cubicBezTo>
                      <a:pt x="1828" y="1462"/>
                      <a:pt x="1863" y="1453"/>
                      <a:pt x="1904" y="1448"/>
                    </a:cubicBezTo>
                    <a:cubicBezTo>
                      <a:pt x="1944" y="1435"/>
                      <a:pt x="1916" y="1431"/>
                      <a:pt x="1956" y="1424"/>
                    </a:cubicBezTo>
                    <a:cubicBezTo>
                      <a:pt x="1961" y="1417"/>
                      <a:pt x="1963" y="1407"/>
                      <a:pt x="1968" y="1400"/>
                    </a:cubicBezTo>
                    <a:cubicBezTo>
                      <a:pt x="1968" y="1400"/>
                      <a:pt x="1998" y="1370"/>
                      <a:pt x="2004" y="1364"/>
                    </a:cubicBezTo>
                    <a:cubicBezTo>
                      <a:pt x="2014" y="1354"/>
                      <a:pt x="2040" y="1344"/>
                      <a:pt x="2040" y="1344"/>
                    </a:cubicBezTo>
                    <a:cubicBezTo>
                      <a:pt x="2058" y="1326"/>
                      <a:pt x="2075" y="1306"/>
                      <a:pt x="2096" y="1292"/>
                    </a:cubicBezTo>
                    <a:cubicBezTo>
                      <a:pt x="2103" y="1272"/>
                      <a:pt x="2114" y="1258"/>
                      <a:pt x="2128" y="1244"/>
                    </a:cubicBezTo>
                    <a:cubicBezTo>
                      <a:pt x="2135" y="1222"/>
                      <a:pt x="2136" y="1202"/>
                      <a:pt x="2116" y="1188"/>
                    </a:cubicBezTo>
                    <a:cubicBezTo>
                      <a:pt x="2123" y="1155"/>
                      <a:pt x="2134" y="1158"/>
                      <a:pt x="2164" y="1152"/>
                    </a:cubicBezTo>
                    <a:cubicBezTo>
                      <a:pt x="2168" y="1148"/>
                      <a:pt x="2173" y="1145"/>
                      <a:pt x="2176" y="1140"/>
                    </a:cubicBezTo>
                    <a:cubicBezTo>
                      <a:pt x="2201" y="1096"/>
                      <a:pt x="2126" y="1091"/>
                      <a:pt x="2104" y="1076"/>
                    </a:cubicBezTo>
                    <a:cubicBezTo>
                      <a:pt x="2096" y="1071"/>
                      <a:pt x="2089" y="1063"/>
                      <a:pt x="2080" y="1060"/>
                    </a:cubicBezTo>
                    <a:cubicBezTo>
                      <a:pt x="2067" y="1056"/>
                      <a:pt x="2044" y="1040"/>
                      <a:pt x="2044" y="1040"/>
                    </a:cubicBezTo>
                    <a:cubicBezTo>
                      <a:pt x="2031" y="1021"/>
                      <a:pt x="2029" y="999"/>
                      <a:pt x="2016" y="980"/>
                    </a:cubicBezTo>
                    <a:cubicBezTo>
                      <a:pt x="2007" y="946"/>
                      <a:pt x="1988" y="952"/>
                      <a:pt x="1964" y="936"/>
                    </a:cubicBezTo>
                    <a:cubicBezTo>
                      <a:pt x="1953" y="929"/>
                      <a:pt x="1928" y="920"/>
                      <a:pt x="1928" y="920"/>
                    </a:cubicBezTo>
                    <a:cubicBezTo>
                      <a:pt x="1937" y="907"/>
                      <a:pt x="1951" y="878"/>
                      <a:pt x="1964" y="868"/>
                    </a:cubicBezTo>
                    <a:cubicBezTo>
                      <a:pt x="1971" y="862"/>
                      <a:pt x="1981" y="861"/>
                      <a:pt x="1988" y="856"/>
                    </a:cubicBezTo>
                    <a:cubicBezTo>
                      <a:pt x="1998" y="841"/>
                      <a:pt x="2012" y="804"/>
                      <a:pt x="2028" y="796"/>
                    </a:cubicBezTo>
                    <a:cubicBezTo>
                      <a:pt x="2038" y="791"/>
                      <a:pt x="2050" y="791"/>
                      <a:pt x="2060" y="788"/>
                    </a:cubicBezTo>
                    <a:cubicBezTo>
                      <a:pt x="2097" y="793"/>
                      <a:pt x="2132" y="786"/>
                      <a:pt x="2168" y="792"/>
                    </a:cubicBezTo>
                    <a:cubicBezTo>
                      <a:pt x="2238" y="786"/>
                      <a:pt x="2303" y="764"/>
                      <a:pt x="2372" y="756"/>
                    </a:cubicBezTo>
                    <a:cubicBezTo>
                      <a:pt x="2380" y="733"/>
                      <a:pt x="2375" y="752"/>
                      <a:pt x="2372" y="716"/>
                    </a:cubicBezTo>
                    <a:cubicBezTo>
                      <a:pt x="2370" y="696"/>
                      <a:pt x="2370" y="676"/>
                      <a:pt x="2368" y="656"/>
                    </a:cubicBezTo>
                    <a:cubicBezTo>
                      <a:pt x="2367" y="651"/>
                      <a:pt x="2368" y="644"/>
                      <a:pt x="2364" y="640"/>
                    </a:cubicBezTo>
                    <a:cubicBezTo>
                      <a:pt x="2358" y="635"/>
                      <a:pt x="2348" y="635"/>
                      <a:pt x="2340" y="632"/>
                    </a:cubicBezTo>
                    <a:cubicBezTo>
                      <a:pt x="2315" y="624"/>
                      <a:pt x="2290" y="607"/>
                      <a:pt x="2264" y="600"/>
                    </a:cubicBezTo>
                    <a:cubicBezTo>
                      <a:pt x="2253" y="593"/>
                      <a:pt x="2240" y="585"/>
                      <a:pt x="2228" y="580"/>
                    </a:cubicBezTo>
                    <a:cubicBezTo>
                      <a:pt x="2220" y="577"/>
                      <a:pt x="2212" y="575"/>
                      <a:pt x="2204" y="572"/>
                    </a:cubicBezTo>
                    <a:cubicBezTo>
                      <a:pt x="2200" y="571"/>
                      <a:pt x="2192" y="568"/>
                      <a:pt x="2192" y="568"/>
                    </a:cubicBezTo>
                    <a:cubicBezTo>
                      <a:pt x="2181" y="551"/>
                      <a:pt x="2175" y="536"/>
                      <a:pt x="2164" y="520"/>
                    </a:cubicBezTo>
                    <a:cubicBezTo>
                      <a:pt x="2166" y="503"/>
                      <a:pt x="2174" y="490"/>
                      <a:pt x="2160" y="476"/>
                    </a:cubicBezTo>
                    <a:cubicBezTo>
                      <a:pt x="2148" y="464"/>
                      <a:pt x="2111" y="453"/>
                      <a:pt x="2096" y="448"/>
                    </a:cubicBezTo>
                    <a:cubicBezTo>
                      <a:pt x="2080" y="443"/>
                      <a:pt x="2064" y="431"/>
                      <a:pt x="2048" y="424"/>
                    </a:cubicBezTo>
                    <a:cubicBezTo>
                      <a:pt x="2011" y="407"/>
                      <a:pt x="1967" y="395"/>
                      <a:pt x="1928" y="392"/>
                    </a:cubicBezTo>
                    <a:cubicBezTo>
                      <a:pt x="1911" y="341"/>
                      <a:pt x="1986" y="332"/>
                      <a:pt x="2020" y="324"/>
                    </a:cubicBezTo>
                    <a:cubicBezTo>
                      <a:pt x="2038" y="296"/>
                      <a:pt x="2027" y="303"/>
                      <a:pt x="2048" y="296"/>
                    </a:cubicBezTo>
                    <a:cubicBezTo>
                      <a:pt x="2063" y="251"/>
                      <a:pt x="2050" y="214"/>
                      <a:pt x="2084" y="180"/>
                    </a:cubicBezTo>
                    <a:cubicBezTo>
                      <a:pt x="2096" y="145"/>
                      <a:pt x="2062" y="137"/>
                      <a:pt x="2036" y="128"/>
                    </a:cubicBezTo>
                    <a:cubicBezTo>
                      <a:pt x="2027" y="125"/>
                      <a:pt x="2012" y="112"/>
                      <a:pt x="2012" y="112"/>
                    </a:cubicBezTo>
                    <a:cubicBezTo>
                      <a:pt x="2003" y="86"/>
                      <a:pt x="1972" y="84"/>
                      <a:pt x="1948" y="76"/>
                    </a:cubicBezTo>
                    <a:cubicBezTo>
                      <a:pt x="1940" y="73"/>
                      <a:pt x="1924" y="68"/>
                      <a:pt x="1924" y="68"/>
                    </a:cubicBezTo>
                    <a:cubicBezTo>
                      <a:pt x="1902" y="83"/>
                      <a:pt x="1890" y="97"/>
                      <a:pt x="1868" y="112"/>
                    </a:cubicBezTo>
                    <a:cubicBezTo>
                      <a:pt x="1843" y="129"/>
                      <a:pt x="1803" y="127"/>
                      <a:pt x="1776" y="132"/>
                    </a:cubicBezTo>
                    <a:cubicBezTo>
                      <a:pt x="1765" y="139"/>
                      <a:pt x="1740" y="148"/>
                      <a:pt x="1740" y="148"/>
                    </a:cubicBezTo>
                    <a:cubicBezTo>
                      <a:pt x="1711" y="138"/>
                      <a:pt x="1686" y="121"/>
                      <a:pt x="1660" y="104"/>
                    </a:cubicBezTo>
                    <a:cubicBezTo>
                      <a:pt x="1619" y="112"/>
                      <a:pt x="1652" y="116"/>
                      <a:pt x="1624" y="132"/>
                    </a:cubicBezTo>
                    <a:cubicBezTo>
                      <a:pt x="1617" y="136"/>
                      <a:pt x="1600" y="140"/>
                      <a:pt x="1600" y="140"/>
                    </a:cubicBezTo>
                    <a:cubicBezTo>
                      <a:pt x="1565" y="135"/>
                      <a:pt x="1529" y="139"/>
                      <a:pt x="1496" y="128"/>
                    </a:cubicBezTo>
                    <a:cubicBezTo>
                      <a:pt x="1420" y="139"/>
                      <a:pt x="1397" y="98"/>
                      <a:pt x="1332" y="76"/>
                    </a:cubicBezTo>
                    <a:cubicBezTo>
                      <a:pt x="1282" y="84"/>
                      <a:pt x="1257" y="76"/>
                      <a:pt x="1204" y="72"/>
                    </a:cubicBezTo>
                    <a:cubicBezTo>
                      <a:pt x="1189" y="67"/>
                      <a:pt x="1178" y="58"/>
                      <a:pt x="1164" y="52"/>
                    </a:cubicBezTo>
                    <a:cubicBezTo>
                      <a:pt x="1156" y="49"/>
                      <a:pt x="1140" y="44"/>
                      <a:pt x="1140" y="44"/>
                    </a:cubicBezTo>
                    <a:cubicBezTo>
                      <a:pt x="1137" y="40"/>
                      <a:pt x="1134" y="37"/>
                      <a:pt x="1132" y="32"/>
                    </a:cubicBezTo>
                    <a:cubicBezTo>
                      <a:pt x="1130" y="26"/>
                      <a:pt x="1133" y="17"/>
                      <a:pt x="1128" y="12"/>
                    </a:cubicBezTo>
                    <a:cubicBezTo>
                      <a:pt x="1122" y="6"/>
                      <a:pt x="1104" y="4"/>
                      <a:pt x="1104" y="4"/>
                    </a:cubicBezTo>
                    <a:cubicBezTo>
                      <a:pt x="1051" y="13"/>
                      <a:pt x="1035" y="17"/>
                      <a:pt x="972" y="20"/>
                    </a:cubicBezTo>
                    <a:cubicBezTo>
                      <a:pt x="951" y="17"/>
                      <a:pt x="943" y="10"/>
                      <a:pt x="924" y="4"/>
                    </a:cubicBezTo>
                    <a:cubicBezTo>
                      <a:pt x="858" y="9"/>
                      <a:pt x="798" y="13"/>
                      <a:pt x="732" y="0"/>
                    </a:cubicBezTo>
                    <a:close/>
                  </a:path>
                </a:pathLst>
              </a:custGeom>
              <a:solidFill>
                <a:srgbClr val="33cc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6" name=""/>
              <p:cNvGrpSpPr/>
              <p:nvPr/>
            </p:nvGrpSpPr>
            <p:grpSpPr>
              <a:xfrm>
                <a:off x="4680000" y="1628640"/>
                <a:ext cx="4427280" cy="4321080"/>
                <a:chOff x="4680000" y="1628640"/>
                <a:chExt cx="4427280" cy="4321080"/>
              </a:xfrm>
            </p:grpSpPr>
            <p:sp>
              <p:nvSpPr>
                <p:cNvPr id="257" name=""/>
                <p:cNvSpPr/>
                <p:nvPr/>
              </p:nvSpPr>
              <p:spPr>
                <a:xfrm>
                  <a:off x="4680000" y="2406960"/>
                  <a:ext cx="4427280" cy="3542760"/>
                </a:xfrm>
                <a:custGeom>
                  <a:avLst/>
                  <a:gdLst/>
                  <a:ahLst/>
                  <a:rect l="l" t="t" r="r" b="b"/>
                  <a:pathLst>
                    <a:path w="5026689" h="4044950">
                      <a:moveTo>
                        <a:pt x="2485910" y="0"/>
                      </a:moveTo>
                      <a:cubicBezTo>
                        <a:pt x="2493397" y="3743"/>
                        <a:pt x="2523379" y="17422"/>
                        <a:pt x="2530360" y="25400"/>
                      </a:cubicBezTo>
                      <a:cubicBezTo>
                        <a:pt x="2540411" y="36887"/>
                        <a:pt x="2548934" y="49848"/>
                        <a:pt x="2555760" y="63500"/>
                      </a:cubicBezTo>
                      <a:cubicBezTo>
                        <a:pt x="2559993" y="71967"/>
                        <a:pt x="2562400" y="81628"/>
                        <a:pt x="2568460" y="88900"/>
                      </a:cubicBezTo>
                      <a:cubicBezTo>
                        <a:pt x="2573346" y="94763"/>
                        <a:pt x="2581160" y="97367"/>
                        <a:pt x="2587510" y="101600"/>
                      </a:cubicBezTo>
                      <a:cubicBezTo>
                        <a:pt x="2598708" y="100480"/>
                        <a:pt x="2655393" y="97907"/>
                        <a:pt x="2676410" y="88900"/>
                      </a:cubicBezTo>
                      <a:cubicBezTo>
                        <a:pt x="2762578" y="51971"/>
                        <a:pt x="2634238" y="96607"/>
                        <a:pt x="2714510" y="69850"/>
                      </a:cubicBezTo>
                      <a:cubicBezTo>
                        <a:pt x="2720860" y="71967"/>
                        <a:pt x="2728333" y="72019"/>
                        <a:pt x="2733560" y="76200"/>
                      </a:cubicBezTo>
                      <a:cubicBezTo>
                        <a:pt x="2739519" y="80968"/>
                        <a:pt x="2743160" y="88276"/>
                        <a:pt x="2746260" y="95250"/>
                      </a:cubicBezTo>
                      <a:cubicBezTo>
                        <a:pt x="2756320" y="117886"/>
                        <a:pt x="2754415" y="135155"/>
                        <a:pt x="2771660" y="152400"/>
                      </a:cubicBezTo>
                      <a:cubicBezTo>
                        <a:pt x="2786278" y="167018"/>
                        <a:pt x="2796679" y="166592"/>
                        <a:pt x="2816110" y="171450"/>
                      </a:cubicBezTo>
                      <a:cubicBezTo>
                        <a:pt x="2855717" y="197855"/>
                        <a:pt x="2814775" y="177800"/>
                        <a:pt x="2854210" y="177800"/>
                      </a:cubicBezTo>
                      <a:cubicBezTo>
                        <a:pt x="2873377" y="177800"/>
                        <a:pt x="2892310" y="182033"/>
                        <a:pt x="2911360" y="184150"/>
                      </a:cubicBezTo>
                      <a:cubicBezTo>
                        <a:pt x="2915593" y="190500"/>
                        <a:pt x="2918664" y="197804"/>
                        <a:pt x="2924060" y="203200"/>
                      </a:cubicBezTo>
                      <a:cubicBezTo>
                        <a:pt x="2938678" y="217818"/>
                        <a:pt x="2949079" y="217392"/>
                        <a:pt x="2968510" y="222250"/>
                      </a:cubicBezTo>
                      <a:cubicBezTo>
                        <a:pt x="2974860" y="220133"/>
                        <a:pt x="2981408" y="218537"/>
                        <a:pt x="2987560" y="215900"/>
                      </a:cubicBezTo>
                      <a:cubicBezTo>
                        <a:pt x="2996261" y="212171"/>
                        <a:pt x="3003561" y="204328"/>
                        <a:pt x="3012960" y="203200"/>
                      </a:cubicBezTo>
                      <a:cubicBezTo>
                        <a:pt x="3057143" y="197898"/>
                        <a:pt x="3101860" y="198967"/>
                        <a:pt x="3146310" y="196850"/>
                      </a:cubicBezTo>
                      <a:cubicBezTo>
                        <a:pt x="3182293" y="172861"/>
                        <a:pt x="3150543" y="184856"/>
                        <a:pt x="3178060" y="203200"/>
                      </a:cubicBezTo>
                      <a:cubicBezTo>
                        <a:pt x="3185322" y="208041"/>
                        <a:pt x="3194993" y="207433"/>
                        <a:pt x="3203460" y="209550"/>
                      </a:cubicBezTo>
                      <a:cubicBezTo>
                        <a:pt x="3205577" y="215900"/>
                        <a:pt x="3205077" y="223867"/>
                        <a:pt x="3209810" y="228600"/>
                      </a:cubicBezTo>
                      <a:cubicBezTo>
                        <a:pt x="3214543" y="233333"/>
                        <a:pt x="3224969" y="229503"/>
                        <a:pt x="3228860" y="234950"/>
                      </a:cubicBezTo>
                      <a:cubicBezTo>
                        <a:pt x="3236641" y="245843"/>
                        <a:pt x="3237327" y="260350"/>
                        <a:pt x="3241560" y="273050"/>
                      </a:cubicBezTo>
                      <a:cubicBezTo>
                        <a:pt x="3243677" y="279400"/>
                        <a:pt x="3242341" y="288387"/>
                        <a:pt x="3247910" y="292100"/>
                      </a:cubicBezTo>
                      <a:cubicBezTo>
                        <a:pt x="3254260" y="296333"/>
                        <a:pt x="3259945" y="301794"/>
                        <a:pt x="3266960" y="304800"/>
                      </a:cubicBezTo>
                      <a:cubicBezTo>
                        <a:pt x="3274982" y="308238"/>
                        <a:pt x="3283893" y="309033"/>
                        <a:pt x="3292360" y="311150"/>
                      </a:cubicBezTo>
                      <a:cubicBezTo>
                        <a:pt x="3305060" y="302683"/>
                        <a:pt x="3319667" y="296543"/>
                        <a:pt x="3330460" y="285750"/>
                      </a:cubicBezTo>
                      <a:cubicBezTo>
                        <a:pt x="3354243" y="261967"/>
                        <a:pt x="3340991" y="269540"/>
                        <a:pt x="3368560" y="260350"/>
                      </a:cubicBezTo>
                      <a:cubicBezTo>
                        <a:pt x="3381260" y="262467"/>
                        <a:pt x="3395481" y="260312"/>
                        <a:pt x="3406660" y="266700"/>
                      </a:cubicBezTo>
                      <a:cubicBezTo>
                        <a:pt x="3412472" y="270021"/>
                        <a:pt x="3408829" y="280523"/>
                        <a:pt x="3413010" y="285750"/>
                      </a:cubicBezTo>
                      <a:cubicBezTo>
                        <a:pt x="3423973" y="299454"/>
                        <a:pt x="3442208" y="300987"/>
                        <a:pt x="3457460" y="304800"/>
                      </a:cubicBezTo>
                      <a:cubicBezTo>
                        <a:pt x="3482860" y="302683"/>
                        <a:pt x="3508396" y="301819"/>
                        <a:pt x="3533660" y="298450"/>
                      </a:cubicBezTo>
                      <a:cubicBezTo>
                        <a:pt x="3540295" y="297565"/>
                        <a:pt x="3546723" y="289107"/>
                        <a:pt x="3552710" y="292100"/>
                      </a:cubicBezTo>
                      <a:cubicBezTo>
                        <a:pt x="3558697" y="295093"/>
                        <a:pt x="3554879" y="305923"/>
                        <a:pt x="3559060" y="311150"/>
                      </a:cubicBezTo>
                      <a:cubicBezTo>
                        <a:pt x="3563828" y="317109"/>
                        <a:pt x="3571760" y="319617"/>
                        <a:pt x="3578110" y="323850"/>
                      </a:cubicBezTo>
                      <a:cubicBezTo>
                        <a:pt x="3586577" y="321733"/>
                        <a:pt x="3596942" y="323247"/>
                        <a:pt x="3603510" y="317500"/>
                      </a:cubicBezTo>
                      <a:cubicBezTo>
                        <a:pt x="3603510" y="317500"/>
                        <a:pt x="3635260" y="269875"/>
                        <a:pt x="3641610" y="260350"/>
                      </a:cubicBezTo>
                      <a:cubicBezTo>
                        <a:pt x="3645323" y="254781"/>
                        <a:pt x="3654310" y="256117"/>
                        <a:pt x="3660660" y="254000"/>
                      </a:cubicBezTo>
                      <a:cubicBezTo>
                        <a:pt x="3669127" y="258233"/>
                        <a:pt x="3677359" y="262971"/>
                        <a:pt x="3686060" y="266700"/>
                      </a:cubicBezTo>
                      <a:cubicBezTo>
                        <a:pt x="3715661" y="279386"/>
                        <a:pt x="3739062" y="276137"/>
                        <a:pt x="3774960" y="279400"/>
                      </a:cubicBezTo>
                      <a:cubicBezTo>
                        <a:pt x="3785543" y="281517"/>
                        <a:pt x="3797730" y="279763"/>
                        <a:pt x="3806710" y="285750"/>
                      </a:cubicBezTo>
                      <a:cubicBezTo>
                        <a:pt x="3812279" y="289463"/>
                        <a:pt x="3808879" y="299573"/>
                        <a:pt x="3813060" y="304800"/>
                      </a:cubicBezTo>
                      <a:cubicBezTo>
                        <a:pt x="3817828" y="310759"/>
                        <a:pt x="3825900" y="313064"/>
                        <a:pt x="3832110" y="317500"/>
                      </a:cubicBezTo>
                      <a:cubicBezTo>
                        <a:pt x="3840722" y="323651"/>
                        <a:pt x="3849043" y="330200"/>
                        <a:pt x="3857510" y="336550"/>
                      </a:cubicBezTo>
                      <a:cubicBezTo>
                        <a:pt x="3870210" y="332317"/>
                        <a:pt x="3882910" y="328083"/>
                        <a:pt x="3895610" y="323850"/>
                      </a:cubicBezTo>
                      <a:cubicBezTo>
                        <a:pt x="3901960" y="321733"/>
                        <a:pt x="3914660" y="317500"/>
                        <a:pt x="3914660" y="317500"/>
                      </a:cubicBezTo>
                      <a:cubicBezTo>
                        <a:pt x="3975431" y="256729"/>
                        <a:pt x="3897621" y="328859"/>
                        <a:pt x="3952760" y="292100"/>
                      </a:cubicBezTo>
                      <a:cubicBezTo>
                        <a:pt x="3960232" y="287119"/>
                        <a:pt x="3963960" y="277411"/>
                        <a:pt x="3971810" y="273050"/>
                      </a:cubicBezTo>
                      <a:cubicBezTo>
                        <a:pt x="3983512" y="266549"/>
                        <a:pt x="3996923" y="263597"/>
                        <a:pt x="4009910" y="260350"/>
                      </a:cubicBezTo>
                      <a:cubicBezTo>
                        <a:pt x="4087484" y="240957"/>
                        <a:pt x="4043307" y="248989"/>
                        <a:pt x="4143260" y="241300"/>
                      </a:cubicBezTo>
                      <a:cubicBezTo>
                        <a:pt x="4149610" y="237067"/>
                        <a:pt x="4154782" y="229855"/>
                        <a:pt x="4162310" y="228600"/>
                      </a:cubicBezTo>
                      <a:cubicBezTo>
                        <a:pt x="4168912" y="227500"/>
                        <a:pt x="4174667" y="234950"/>
                        <a:pt x="4181360" y="234950"/>
                      </a:cubicBezTo>
                      <a:cubicBezTo>
                        <a:pt x="4213180" y="234950"/>
                        <a:pt x="4244860" y="230717"/>
                        <a:pt x="4276610" y="228600"/>
                      </a:cubicBezTo>
                      <a:cubicBezTo>
                        <a:pt x="4285077" y="215900"/>
                        <a:pt x="4297183" y="176020"/>
                        <a:pt x="4302010" y="190500"/>
                      </a:cubicBezTo>
                      <a:cubicBezTo>
                        <a:pt x="4304127" y="196850"/>
                        <a:pt x="4303627" y="204817"/>
                        <a:pt x="4308360" y="209550"/>
                      </a:cubicBezTo>
                      <a:cubicBezTo>
                        <a:pt x="4313093" y="214283"/>
                        <a:pt x="4321060" y="213783"/>
                        <a:pt x="4327410" y="215900"/>
                      </a:cubicBezTo>
                      <a:cubicBezTo>
                        <a:pt x="4331643" y="222250"/>
                        <a:pt x="4334151" y="230182"/>
                        <a:pt x="4340110" y="234950"/>
                      </a:cubicBezTo>
                      <a:cubicBezTo>
                        <a:pt x="4345337" y="239131"/>
                        <a:pt x="4352666" y="239677"/>
                        <a:pt x="4359160" y="241300"/>
                      </a:cubicBezTo>
                      <a:cubicBezTo>
                        <a:pt x="4376910" y="245738"/>
                        <a:pt x="4412026" y="251169"/>
                        <a:pt x="4429010" y="254000"/>
                      </a:cubicBezTo>
                      <a:cubicBezTo>
                        <a:pt x="4433243" y="260350"/>
                        <a:pt x="4438297" y="266224"/>
                        <a:pt x="4441710" y="273050"/>
                      </a:cubicBezTo>
                      <a:cubicBezTo>
                        <a:pt x="4447686" y="285002"/>
                        <a:pt x="4447525" y="302878"/>
                        <a:pt x="4460760" y="311150"/>
                      </a:cubicBezTo>
                      <a:cubicBezTo>
                        <a:pt x="4472112" y="318245"/>
                        <a:pt x="4486160" y="319617"/>
                        <a:pt x="4498860" y="323850"/>
                      </a:cubicBezTo>
                      <a:cubicBezTo>
                        <a:pt x="4538388" y="337026"/>
                        <a:pt x="4511346" y="328887"/>
                        <a:pt x="4581410" y="342900"/>
                      </a:cubicBezTo>
                      <a:cubicBezTo>
                        <a:pt x="4587974" y="344213"/>
                        <a:pt x="4593966" y="347627"/>
                        <a:pt x="4600460" y="349250"/>
                      </a:cubicBezTo>
                      <a:cubicBezTo>
                        <a:pt x="4610931" y="351868"/>
                        <a:pt x="4621627" y="353483"/>
                        <a:pt x="4632210" y="355600"/>
                      </a:cubicBezTo>
                      <a:cubicBezTo>
                        <a:pt x="4680093" y="339639"/>
                        <a:pt x="4621071" y="361169"/>
                        <a:pt x="4670310" y="336550"/>
                      </a:cubicBezTo>
                      <a:cubicBezTo>
                        <a:pt x="4676297" y="333557"/>
                        <a:pt x="4683010" y="332317"/>
                        <a:pt x="4689360" y="330200"/>
                      </a:cubicBezTo>
                      <a:cubicBezTo>
                        <a:pt x="4693593" y="336550"/>
                        <a:pt x="4698647" y="342424"/>
                        <a:pt x="4702060" y="349250"/>
                      </a:cubicBezTo>
                      <a:cubicBezTo>
                        <a:pt x="4706615" y="358360"/>
                        <a:pt x="4712725" y="385562"/>
                        <a:pt x="4714760" y="393700"/>
                      </a:cubicBezTo>
                      <a:cubicBezTo>
                        <a:pt x="4712643" y="421217"/>
                        <a:pt x="4707622" y="448663"/>
                        <a:pt x="4708410" y="476250"/>
                      </a:cubicBezTo>
                      <a:cubicBezTo>
                        <a:pt x="4711341" y="578830"/>
                        <a:pt x="4717352" y="597160"/>
                        <a:pt x="4733810" y="679450"/>
                      </a:cubicBezTo>
                      <a:cubicBezTo>
                        <a:pt x="4736745" y="694126"/>
                        <a:pt x="4737559" y="709161"/>
                        <a:pt x="4740160" y="723900"/>
                      </a:cubicBezTo>
                      <a:cubicBezTo>
                        <a:pt x="4743911" y="745157"/>
                        <a:pt x="4748627" y="766233"/>
                        <a:pt x="4752860" y="787400"/>
                      </a:cubicBezTo>
                      <a:cubicBezTo>
                        <a:pt x="4758731" y="816753"/>
                        <a:pt x="4761327" y="846667"/>
                        <a:pt x="4765560" y="876300"/>
                      </a:cubicBezTo>
                      <a:cubicBezTo>
                        <a:pt x="4767677" y="891117"/>
                        <a:pt x="4769793" y="905933"/>
                        <a:pt x="4771910" y="920750"/>
                      </a:cubicBezTo>
                      <a:cubicBezTo>
                        <a:pt x="4781363" y="986918"/>
                        <a:pt x="4775984" y="961725"/>
                        <a:pt x="4784610" y="1035050"/>
                      </a:cubicBezTo>
                      <a:cubicBezTo>
                        <a:pt x="4786359" y="1049915"/>
                        <a:pt x="4788025" y="1064824"/>
                        <a:pt x="4790960" y="1079500"/>
                      </a:cubicBezTo>
                      <a:cubicBezTo>
                        <a:pt x="4792273" y="1086064"/>
                        <a:pt x="4792577" y="1093817"/>
                        <a:pt x="4797310" y="1098550"/>
                      </a:cubicBezTo>
                      <a:cubicBezTo>
                        <a:pt x="4802043" y="1103283"/>
                        <a:pt x="4810373" y="1101907"/>
                        <a:pt x="4816360" y="1104900"/>
                      </a:cubicBezTo>
                      <a:cubicBezTo>
                        <a:pt x="4823186" y="1108313"/>
                        <a:pt x="4829060" y="1113367"/>
                        <a:pt x="4835410" y="1117600"/>
                      </a:cubicBezTo>
                      <a:cubicBezTo>
                        <a:pt x="4843877" y="1130300"/>
                        <a:pt x="4855983" y="1141220"/>
                        <a:pt x="4860810" y="1155700"/>
                      </a:cubicBezTo>
                      <a:cubicBezTo>
                        <a:pt x="4867934" y="1177072"/>
                        <a:pt x="4867305" y="1178179"/>
                        <a:pt x="4879860" y="1200150"/>
                      </a:cubicBezTo>
                      <a:cubicBezTo>
                        <a:pt x="4883646" y="1206776"/>
                        <a:pt x="4889460" y="1212226"/>
                        <a:pt x="4892560" y="1219200"/>
                      </a:cubicBezTo>
                      <a:cubicBezTo>
                        <a:pt x="4897997" y="1231433"/>
                        <a:pt x="4901027" y="1244600"/>
                        <a:pt x="4905260" y="1257300"/>
                      </a:cubicBezTo>
                      <a:cubicBezTo>
                        <a:pt x="4907377" y="1263650"/>
                        <a:pt x="4909493" y="1270000"/>
                        <a:pt x="4911610" y="1276350"/>
                      </a:cubicBezTo>
                      <a:cubicBezTo>
                        <a:pt x="4915793" y="1288899"/>
                        <a:pt x="4919469" y="1305498"/>
                        <a:pt x="4930660" y="1314450"/>
                      </a:cubicBezTo>
                      <a:cubicBezTo>
                        <a:pt x="4935887" y="1318631"/>
                        <a:pt x="4943360" y="1318683"/>
                        <a:pt x="4949710" y="1320800"/>
                      </a:cubicBezTo>
                      <a:cubicBezTo>
                        <a:pt x="4953943" y="1333500"/>
                        <a:pt x="4958177" y="1346200"/>
                        <a:pt x="4962410" y="1358900"/>
                      </a:cubicBezTo>
                      <a:cubicBezTo>
                        <a:pt x="4964527" y="1365250"/>
                        <a:pt x="4966643" y="1371600"/>
                        <a:pt x="4968760" y="1377950"/>
                      </a:cubicBezTo>
                      <a:cubicBezTo>
                        <a:pt x="4970877" y="1384300"/>
                        <a:pt x="4973797" y="1390436"/>
                        <a:pt x="4975110" y="1397000"/>
                      </a:cubicBezTo>
                      <a:cubicBezTo>
                        <a:pt x="4982957" y="1436234"/>
                        <a:pt x="4975473" y="1419770"/>
                        <a:pt x="4994160" y="1447800"/>
                      </a:cubicBezTo>
                      <a:cubicBezTo>
                        <a:pt x="4996277" y="1456267"/>
                        <a:pt x="4998112" y="1464809"/>
                        <a:pt x="5000510" y="1473200"/>
                      </a:cubicBezTo>
                      <a:cubicBezTo>
                        <a:pt x="5002349" y="1479636"/>
                        <a:pt x="5005408" y="1485716"/>
                        <a:pt x="5006860" y="1492250"/>
                      </a:cubicBezTo>
                      <a:cubicBezTo>
                        <a:pt x="5009653" y="1504819"/>
                        <a:pt x="5011093" y="1517650"/>
                        <a:pt x="5013210" y="1530350"/>
                      </a:cubicBezTo>
                      <a:cubicBezTo>
                        <a:pt x="5014817" y="1556066"/>
                        <a:pt x="5026689" y="1645008"/>
                        <a:pt x="5013210" y="1682750"/>
                      </a:cubicBezTo>
                      <a:cubicBezTo>
                        <a:pt x="5008076" y="1697124"/>
                        <a:pt x="4996277" y="1708150"/>
                        <a:pt x="4987810" y="1720850"/>
                      </a:cubicBezTo>
                      <a:cubicBezTo>
                        <a:pt x="4945493" y="1784326"/>
                        <a:pt x="5001757" y="1741185"/>
                        <a:pt x="4956060" y="1771650"/>
                      </a:cubicBezTo>
                      <a:cubicBezTo>
                        <a:pt x="4980410" y="1808174"/>
                        <a:pt x="4962410" y="1771765"/>
                        <a:pt x="4962410" y="1828800"/>
                      </a:cubicBezTo>
                      <a:cubicBezTo>
                        <a:pt x="4962410" y="1847967"/>
                        <a:pt x="4965001" y="1867155"/>
                        <a:pt x="4968760" y="1885950"/>
                      </a:cubicBezTo>
                      <a:cubicBezTo>
                        <a:pt x="4971385" y="1899077"/>
                        <a:pt x="4977227" y="1911350"/>
                        <a:pt x="4981460" y="1924050"/>
                      </a:cubicBezTo>
                      <a:cubicBezTo>
                        <a:pt x="4983577" y="1930400"/>
                        <a:pt x="4985693" y="1936750"/>
                        <a:pt x="4987810" y="1943100"/>
                      </a:cubicBezTo>
                      <a:cubicBezTo>
                        <a:pt x="4989927" y="1949450"/>
                        <a:pt x="4994160" y="1962150"/>
                        <a:pt x="4994160" y="1962150"/>
                      </a:cubicBezTo>
                      <a:cubicBezTo>
                        <a:pt x="4989927" y="1974850"/>
                        <a:pt x="4988886" y="1989111"/>
                        <a:pt x="4981460" y="2000250"/>
                      </a:cubicBezTo>
                      <a:cubicBezTo>
                        <a:pt x="4951079" y="2045822"/>
                        <a:pt x="4966853" y="2027557"/>
                        <a:pt x="4937010" y="2057400"/>
                      </a:cubicBezTo>
                      <a:cubicBezTo>
                        <a:pt x="4921049" y="2105283"/>
                        <a:pt x="4942579" y="2046261"/>
                        <a:pt x="4917960" y="2095500"/>
                      </a:cubicBezTo>
                      <a:cubicBezTo>
                        <a:pt x="4914967" y="2101487"/>
                        <a:pt x="4913727" y="2108200"/>
                        <a:pt x="4911610" y="2114550"/>
                      </a:cubicBezTo>
                      <a:cubicBezTo>
                        <a:pt x="4909493" y="2133600"/>
                        <a:pt x="4915419" y="2155446"/>
                        <a:pt x="4905260" y="2171700"/>
                      </a:cubicBezTo>
                      <a:cubicBezTo>
                        <a:pt x="4900635" y="2179101"/>
                        <a:pt x="4888587" y="2165350"/>
                        <a:pt x="4879860" y="2165350"/>
                      </a:cubicBezTo>
                      <a:cubicBezTo>
                        <a:pt x="4864893" y="2165350"/>
                        <a:pt x="4850227" y="2169583"/>
                        <a:pt x="4835410" y="2171700"/>
                      </a:cubicBezTo>
                      <a:cubicBezTo>
                        <a:pt x="4776954" y="2210671"/>
                        <a:pt x="4867951" y="2148207"/>
                        <a:pt x="4790960" y="2209800"/>
                      </a:cubicBezTo>
                      <a:cubicBezTo>
                        <a:pt x="4779041" y="2219335"/>
                        <a:pt x="4765560" y="2226733"/>
                        <a:pt x="4752860" y="2235200"/>
                      </a:cubicBezTo>
                      <a:cubicBezTo>
                        <a:pt x="4746510" y="2239433"/>
                        <a:pt x="4741050" y="2245487"/>
                        <a:pt x="4733810" y="2247900"/>
                      </a:cubicBezTo>
                      <a:cubicBezTo>
                        <a:pt x="4721110" y="2252133"/>
                        <a:pt x="4707684" y="2254613"/>
                        <a:pt x="4695710" y="2260600"/>
                      </a:cubicBezTo>
                      <a:cubicBezTo>
                        <a:pt x="4664323" y="2276293"/>
                        <a:pt x="4679290" y="2270307"/>
                        <a:pt x="4651260" y="2279650"/>
                      </a:cubicBezTo>
                      <a:cubicBezTo>
                        <a:pt x="4644910" y="2286000"/>
                        <a:pt x="4639109" y="2292951"/>
                        <a:pt x="4632210" y="2298700"/>
                      </a:cubicBezTo>
                      <a:cubicBezTo>
                        <a:pt x="4626347" y="2303586"/>
                        <a:pt x="4618556" y="2306004"/>
                        <a:pt x="4613160" y="2311400"/>
                      </a:cubicBezTo>
                      <a:cubicBezTo>
                        <a:pt x="4565902" y="2358658"/>
                        <a:pt x="4619955" y="2319570"/>
                        <a:pt x="4575060" y="2349500"/>
                      </a:cubicBezTo>
                      <a:cubicBezTo>
                        <a:pt x="4553893" y="2381250"/>
                        <a:pt x="4568710" y="2364317"/>
                        <a:pt x="4524260" y="2393950"/>
                      </a:cubicBezTo>
                      <a:cubicBezTo>
                        <a:pt x="4514297" y="2400592"/>
                        <a:pt x="4507871" y="2411465"/>
                        <a:pt x="4498860" y="2419350"/>
                      </a:cubicBezTo>
                      <a:cubicBezTo>
                        <a:pt x="4490895" y="2426319"/>
                        <a:pt x="4482072" y="2432249"/>
                        <a:pt x="4473460" y="2438400"/>
                      </a:cubicBezTo>
                      <a:cubicBezTo>
                        <a:pt x="4467250" y="2442836"/>
                        <a:pt x="4460114" y="2446030"/>
                        <a:pt x="4454410" y="2451100"/>
                      </a:cubicBezTo>
                      <a:cubicBezTo>
                        <a:pt x="4389165" y="2509095"/>
                        <a:pt x="4440495" y="2473076"/>
                        <a:pt x="4397260" y="2501900"/>
                      </a:cubicBezTo>
                      <a:cubicBezTo>
                        <a:pt x="4380327" y="2527300"/>
                        <a:pt x="4363393" y="2552700"/>
                        <a:pt x="4346460" y="2578100"/>
                      </a:cubicBezTo>
                      <a:cubicBezTo>
                        <a:pt x="4341479" y="2585572"/>
                        <a:pt x="4332923" y="2590061"/>
                        <a:pt x="4327410" y="2597150"/>
                      </a:cubicBezTo>
                      <a:cubicBezTo>
                        <a:pt x="4318039" y="2609198"/>
                        <a:pt x="4314710" y="2626783"/>
                        <a:pt x="4302010" y="2635250"/>
                      </a:cubicBezTo>
                      <a:cubicBezTo>
                        <a:pt x="4265401" y="2659656"/>
                        <a:pt x="4300716" y="2638526"/>
                        <a:pt x="4263910" y="2654300"/>
                      </a:cubicBezTo>
                      <a:cubicBezTo>
                        <a:pt x="4255209" y="2658029"/>
                        <a:pt x="4247211" y="2663271"/>
                        <a:pt x="4238510" y="2667000"/>
                      </a:cubicBezTo>
                      <a:cubicBezTo>
                        <a:pt x="4232358" y="2669637"/>
                        <a:pt x="4225311" y="2670099"/>
                        <a:pt x="4219460" y="2673350"/>
                      </a:cubicBezTo>
                      <a:cubicBezTo>
                        <a:pt x="4206117" y="2680763"/>
                        <a:pt x="4194060" y="2690283"/>
                        <a:pt x="4181360" y="2698750"/>
                      </a:cubicBezTo>
                      <a:cubicBezTo>
                        <a:pt x="4166837" y="2708432"/>
                        <a:pt x="4147493" y="2707217"/>
                        <a:pt x="4130560" y="2711450"/>
                      </a:cubicBezTo>
                      <a:cubicBezTo>
                        <a:pt x="4117573" y="2714697"/>
                        <a:pt x="4104434" y="2718163"/>
                        <a:pt x="4092460" y="2724150"/>
                      </a:cubicBezTo>
                      <a:cubicBezTo>
                        <a:pt x="4083993" y="2728383"/>
                        <a:pt x="4075279" y="2732154"/>
                        <a:pt x="4067060" y="2736850"/>
                      </a:cubicBezTo>
                      <a:cubicBezTo>
                        <a:pt x="4060434" y="2740636"/>
                        <a:pt x="4054836" y="2746137"/>
                        <a:pt x="4048010" y="2749550"/>
                      </a:cubicBezTo>
                      <a:cubicBezTo>
                        <a:pt x="4019371" y="2763869"/>
                        <a:pt x="4037207" y="2745852"/>
                        <a:pt x="4009910" y="2768600"/>
                      </a:cubicBezTo>
                      <a:cubicBezTo>
                        <a:pt x="3961017" y="2809344"/>
                        <a:pt x="4019108" y="2768818"/>
                        <a:pt x="3971810" y="2800350"/>
                      </a:cubicBezTo>
                      <a:cubicBezTo>
                        <a:pt x="3959110" y="2819400"/>
                        <a:pt x="3946410" y="2838450"/>
                        <a:pt x="3933710" y="2857500"/>
                      </a:cubicBezTo>
                      <a:cubicBezTo>
                        <a:pt x="3929477" y="2863850"/>
                        <a:pt x="3925243" y="2870200"/>
                        <a:pt x="3921010" y="2876550"/>
                      </a:cubicBezTo>
                      <a:cubicBezTo>
                        <a:pt x="3916777" y="2882900"/>
                        <a:pt x="3913706" y="2890204"/>
                        <a:pt x="3908310" y="2895600"/>
                      </a:cubicBezTo>
                      <a:cubicBezTo>
                        <a:pt x="3901960" y="2901950"/>
                        <a:pt x="3894480" y="2907342"/>
                        <a:pt x="3889260" y="2914650"/>
                      </a:cubicBezTo>
                      <a:cubicBezTo>
                        <a:pt x="3883758" y="2922353"/>
                        <a:pt x="3882620" y="2932778"/>
                        <a:pt x="3876560" y="2940050"/>
                      </a:cubicBezTo>
                      <a:cubicBezTo>
                        <a:pt x="3871674" y="2945913"/>
                        <a:pt x="3863720" y="2948314"/>
                        <a:pt x="3857510" y="2952750"/>
                      </a:cubicBezTo>
                      <a:cubicBezTo>
                        <a:pt x="3848898" y="2958901"/>
                        <a:pt x="3840722" y="2965649"/>
                        <a:pt x="3832110" y="2971800"/>
                      </a:cubicBezTo>
                      <a:cubicBezTo>
                        <a:pt x="3825900" y="2976236"/>
                        <a:pt x="3818764" y="2979430"/>
                        <a:pt x="3813060" y="2984500"/>
                      </a:cubicBezTo>
                      <a:cubicBezTo>
                        <a:pt x="3789485" y="3005456"/>
                        <a:pt x="3776360" y="3026336"/>
                        <a:pt x="3749560" y="3041650"/>
                      </a:cubicBezTo>
                      <a:cubicBezTo>
                        <a:pt x="3743748" y="3044971"/>
                        <a:pt x="3736860" y="3045883"/>
                        <a:pt x="3730510" y="3048000"/>
                      </a:cubicBezTo>
                      <a:cubicBezTo>
                        <a:pt x="3726277" y="3054350"/>
                        <a:pt x="3717810" y="3059418"/>
                        <a:pt x="3717810" y="3067050"/>
                      </a:cubicBezTo>
                      <a:cubicBezTo>
                        <a:pt x="3717810" y="3074682"/>
                        <a:pt x="3727097" y="3079274"/>
                        <a:pt x="3730510" y="3086100"/>
                      </a:cubicBezTo>
                      <a:cubicBezTo>
                        <a:pt x="3733503" y="3092087"/>
                        <a:pt x="3734743" y="3098800"/>
                        <a:pt x="3736860" y="3105150"/>
                      </a:cubicBezTo>
                      <a:cubicBezTo>
                        <a:pt x="3704034" y="3154389"/>
                        <a:pt x="3716287" y="3128770"/>
                        <a:pt x="3698760" y="3181350"/>
                      </a:cubicBezTo>
                      <a:cubicBezTo>
                        <a:pt x="3693505" y="3197116"/>
                        <a:pt x="3676835" y="3207660"/>
                        <a:pt x="3667010" y="3219450"/>
                      </a:cubicBezTo>
                      <a:cubicBezTo>
                        <a:pt x="3622807" y="3272494"/>
                        <a:pt x="3690915" y="3201895"/>
                        <a:pt x="3635260" y="3257550"/>
                      </a:cubicBezTo>
                      <a:cubicBezTo>
                        <a:pt x="3624677" y="3289300"/>
                        <a:pt x="3614093" y="3321050"/>
                        <a:pt x="3603510" y="3352800"/>
                      </a:cubicBezTo>
                      <a:cubicBezTo>
                        <a:pt x="3601393" y="3359150"/>
                        <a:pt x="3599277" y="3365500"/>
                        <a:pt x="3597160" y="3371850"/>
                      </a:cubicBezTo>
                      <a:cubicBezTo>
                        <a:pt x="3595043" y="3378200"/>
                        <a:pt x="3590810" y="3390900"/>
                        <a:pt x="3590810" y="3390900"/>
                      </a:cubicBezTo>
                      <a:cubicBezTo>
                        <a:pt x="3592927" y="3409950"/>
                        <a:pt x="3594627" y="3429051"/>
                        <a:pt x="3597160" y="3448050"/>
                      </a:cubicBezTo>
                      <a:cubicBezTo>
                        <a:pt x="3598862" y="3460812"/>
                        <a:pt x="3602867" y="3473291"/>
                        <a:pt x="3603510" y="3486150"/>
                      </a:cubicBezTo>
                      <a:cubicBezTo>
                        <a:pt x="3612299" y="3661924"/>
                        <a:pt x="3602773" y="3650966"/>
                        <a:pt x="3616210" y="3771900"/>
                      </a:cubicBezTo>
                      <a:cubicBezTo>
                        <a:pt x="3617863" y="3786776"/>
                        <a:pt x="3619883" y="3801624"/>
                        <a:pt x="3622560" y="3816350"/>
                      </a:cubicBezTo>
                      <a:cubicBezTo>
                        <a:pt x="3628842" y="3850904"/>
                        <a:pt x="3630662" y="3844377"/>
                        <a:pt x="3654310" y="3879850"/>
                      </a:cubicBezTo>
                      <a:cubicBezTo>
                        <a:pt x="3658543" y="3886200"/>
                        <a:pt x="3664597" y="3891660"/>
                        <a:pt x="3667010" y="3898900"/>
                      </a:cubicBezTo>
                      <a:cubicBezTo>
                        <a:pt x="3671243" y="3911600"/>
                        <a:pt x="3672284" y="3925861"/>
                        <a:pt x="3679710" y="3937000"/>
                      </a:cubicBezTo>
                      <a:cubicBezTo>
                        <a:pt x="3688177" y="3949700"/>
                        <a:pt x="3700283" y="3960620"/>
                        <a:pt x="3705110" y="3975100"/>
                      </a:cubicBezTo>
                      <a:cubicBezTo>
                        <a:pt x="3709343" y="3987800"/>
                        <a:pt x="3717810" y="4013200"/>
                        <a:pt x="3717810" y="4013200"/>
                      </a:cubicBezTo>
                      <a:cubicBezTo>
                        <a:pt x="3715693" y="4021667"/>
                        <a:pt x="3716912" y="4031785"/>
                        <a:pt x="3711460" y="4038600"/>
                      </a:cubicBezTo>
                      <a:cubicBezTo>
                        <a:pt x="3707279" y="4043827"/>
                        <a:pt x="3699103" y="4044950"/>
                        <a:pt x="3692410" y="4044950"/>
                      </a:cubicBezTo>
                      <a:cubicBezTo>
                        <a:pt x="3656364" y="4044950"/>
                        <a:pt x="3620443" y="4040717"/>
                        <a:pt x="3584460" y="4038600"/>
                      </a:cubicBezTo>
                      <a:cubicBezTo>
                        <a:pt x="3580227" y="4032250"/>
                        <a:pt x="3577503" y="4024576"/>
                        <a:pt x="3571760" y="4019550"/>
                      </a:cubicBezTo>
                      <a:cubicBezTo>
                        <a:pt x="3549708" y="4000254"/>
                        <a:pt x="3538660" y="3994672"/>
                        <a:pt x="3514610" y="3987800"/>
                      </a:cubicBezTo>
                      <a:cubicBezTo>
                        <a:pt x="3506219" y="3985402"/>
                        <a:pt x="3497601" y="3983848"/>
                        <a:pt x="3489210" y="3981450"/>
                      </a:cubicBezTo>
                      <a:cubicBezTo>
                        <a:pt x="3438093" y="3966845"/>
                        <a:pt x="3516740" y="3983922"/>
                        <a:pt x="3425710" y="3968750"/>
                      </a:cubicBezTo>
                      <a:cubicBezTo>
                        <a:pt x="3415064" y="3966976"/>
                        <a:pt x="3404712" y="3963335"/>
                        <a:pt x="3393960" y="3962400"/>
                      </a:cubicBezTo>
                      <a:cubicBezTo>
                        <a:pt x="3355945" y="3959094"/>
                        <a:pt x="3317760" y="3958167"/>
                        <a:pt x="3279660" y="3956050"/>
                      </a:cubicBezTo>
                      <a:cubicBezTo>
                        <a:pt x="3266960" y="3951817"/>
                        <a:pt x="3254260" y="3947583"/>
                        <a:pt x="3241560" y="3943350"/>
                      </a:cubicBezTo>
                      <a:cubicBezTo>
                        <a:pt x="3241560" y="3943350"/>
                        <a:pt x="3193935" y="3911600"/>
                        <a:pt x="3184410" y="3905250"/>
                      </a:cubicBezTo>
                      <a:cubicBezTo>
                        <a:pt x="3178060" y="3901017"/>
                        <a:pt x="3171710" y="3896783"/>
                        <a:pt x="3165360" y="3892550"/>
                      </a:cubicBezTo>
                      <a:cubicBezTo>
                        <a:pt x="3159010" y="3888317"/>
                        <a:pt x="3153714" y="3881701"/>
                        <a:pt x="3146310" y="3879850"/>
                      </a:cubicBezTo>
                      <a:cubicBezTo>
                        <a:pt x="3138172" y="3877815"/>
                        <a:pt x="3110970" y="3871705"/>
                        <a:pt x="3101860" y="3867150"/>
                      </a:cubicBezTo>
                      <a:cubicBezTo>
                        <a:pt x="3095034" y="3863737"/>
                        <a:pt x="3089956" y="3857130"/>
                        <a:pt x="3082810" y="3854450"/>
                      </a:cubicBezTo>
                      <a:cubicBezTo>
                        <a:pt x="3072704" y="3850660"/>
                        <a:pt x="3061531" y="3850718"/>
                        <a:pt x="3051060" y="3848100"/>
                      </a:cubicBezTo>
                      <a:cubicBezTo>
                        <a:pt x="3044566" y="3846477"/>
                        <a:pt x="3038446" y="3843589"/>
                        <a:pt x="3032010" y="3841750"/>
                      </a:cubicBezTo>
                      <a:cubicBezTo>
                        <a:pt x="3011085" y="3835772"/>
                        <a:pt x="2996684" y="3833415"/>
                        <a:pt x="2974860" y="3829050"/>
                      </a:cubicBezTo>
                      <a:cubicBezTo>
                        <a:pt x="2968510" y="3822700"/>
                        <a:pt x="2960791" y="3817472"/>
                        <a:pt x="2955810" y="3810000"/>
                      </a:cubicBezTo>
                      <a:cubicBezTo>
                        <a:pt x="2952097" y="3804431"/>
                        <a:pt x="2952453" y="3796937"/>
                        <a:pt x="2949460" y="3790950"/>
                      </a:cubicBezTo>
                      <a:cubicBezTo>
                        <a:pt x="2946047" y="3784124"/>
                        <a:pt x="2940173" y="3778726"/>
                        <a:pt x="2936760" y="3771900"/>
                      </a:cubicBezTo>
                      <a:cubicBezTo>
                        <a:pt x="2933767" y="3765913"/>
                        <a:pt x="2933403" y="3758837"/>
                        <a:pt x="2930410" y="3752850"/>
                      </a:cubicBezTo>
                      <a:cubicBezTo>
                        <a:pt x="2926997" y="3746024"/>
                        <a:pt x="2920810" y="3740774"/>
                        <a:pt x="2917710" y="3733800"/>
                      </a:cubicBezTo>
                      <a:cubicBezTo>
                        <a:pt x="2912273" y="3721567"/>
                        <a:pt x="2909243" y="3708400"/>
                        <a:pt x="2905010" y="3695700"/>
                      </a:cubicBezTo>
                      <a:cubicBezTo>
                        <a:pt x="2900777" y="3683000"/>
                        <a:pt x="2896543" y="3670300"/>
                        <a:pt x="2892310" y="3657600"/>
                      </a:cubicBezTo>
                      <a:cubicBezTo>
                        <a:pt x="2890193" y="3651250"/>
                        <a:pt x="2889673" y="3644119"/>
                        <a:pt x="2885960" y="3638550"/>
                      </a:cubicBezTo>
                      <a:cubicBezTo>
                        <a:pt x="2849564" y="3583955"/>
                        <a:pt x="2893200" y="3653030"/>
                        <a:pt x="2866910" y="3600450"/>
                      </a:cubicBezTo>
                      <a:cubicBezTo>
                        <a:pt x="2853295" y="3573221"/>
                        <a:pt x="2854821" y="3587629"/>
                        <a:pt x="2835160" y="3562350"/>
                      </a:cubicBezTo>
                      <a:cubicBezTo>
                        <a:pt x="2825789" y="3550302"/>
                        <a:pt x="2818227" y="3536950"/>
                        <a:pt x="2809760" y="3524250"/>
                      </a:cubicBezTo>
                      <a:cubicBezTo>
                        <a:pt x="2802334" y="3513111"/>
                        <a:pt x="2801293" y="3498850"/>
                        <a:pt x="2797060" y="3486150"/>
                      </a:cubicBezTo>
                      <a:cubicBezTo>
                        <a:pt x="2794943" y="3479800"/>
                        <a:pt x="2790710" y="3467100"/>
                        <a:pt x="2790710" y="3467100"/>
                      </a:cubicBezTo>
                      <a:cubicBezTo>
                        <a:pt x="2788593" y="3418417"/>
                        <a:pt x="2787832" y="3369655"/>
                        <a:pt x="2784360" y="3321050"/>
                      </a:cubicBezTo>
                      <a:cubicBezTo>
                        <a:pt x="2783736" y="3312320"/>
                        <a:pt x="2774613" y="3274236"/>
                        <a:pt x="2771660" y="3263900"/>
                      </a:cubicBezTo>
                      <a:cubicBezTo>
                        <a:pt x="2769821" y="3257464"/>
                        <a:pt x="2770043" y="3249583"/>
                        <a:pt x="2765310" y="3244850"/>
                      </a:cubicBezTo>
                      <a:cubicBezTo>
                        <a:pt x="2754517" y="3234057"/>
                        <a:pt x="2739910" y="3227917"/>
                        <a:pt x="2727210" y="3219450"/>
                      </a:cubicBezTo>
                      <a:cubicBezTo>
                        <a:pt x="2716071" y="3212024"/>
                        <a:pt x="2689110" y="3206750"/>
                        <a:pt x="2689110" y="3206750"/>
                      </a:cubicBezTo>
                      <a:cubicBezTo>
                        <a:pt x="2676410" y="3187700"/>
                        <a:pt x="2663710" y="3168650"/>
                        <a:pt x="2651010" y="3149600"/>
                      </a:cubicBezTo>
                      <a:cubicBezTo>
                        <a:pt x="2646777" y="3143250"/>
                        <a:pt x="2640723" y="3137790"/>
                        <a:pt x="2638310" y="3130550"/>
                      </a:cubicBezTo>
                      <a:cubicBezTo>
                        <a:pt x="2636193" y="3124200"/>
                        <a:pt x="2636069" y="3116784"/>
                        <a:pt x="2631960" y="3111500"/>
                      </a:cubicBezTo>
                      <a:cubicBezTo>
                        <a:pt x="2584162" y="3050045"/>
                        <a:pt x="2612749" y="3086020"/>
                        <a:pt x="2574810" y="3067050"/>
                      </a:cubicBezTo>
                      <a:cubicBezTo>
                        <a:pt x="2567984" y="3063637"/>
                        <a:pt x="2562110" y="3058583"/>
                        <a:pt x="2555760" y="3054350"/>
                      </a:cubicBezTo>
                      <a:cubicBezTo>
                        <a:pt x="2547293" y="3041650"/>
                        <a:pt x="2538827" y="3028950"/>
                        <a:pt x="2530360" y="3016250"/>
                      </a:cubicBezTo>
                      <a:cubicBezTo>
                        <a:pt x="2518619" y="2998638"/>
                        <a:pt x="2504001" y="2983062"/>
                        <a:pt x="2492260" y="2965450"/>
                      </a:cubicBezTo>
                      <a:cubicBezTo>
                        <a:pt x="2488027" y="2959100"/>
                        <a:pt x="2482660" y="2953374"/>
                        <a:pt x="2479560" y="2946400"/>
                      </a:cubicBezTo>
                      <a:cubicBezTo>
                        <a:pt x="2466344" y="2916664"/>
                        <a:pt x="2467150" y="2906429"/>
                        <a:pt x="2460510" y="2876550"/>
                      </a:cubicBezTo>
                      <a:cubicBezTo>
                        <a:pt x="2458617" y="2868031"/>
                        <a:pt x="2455872" y="2859708"/>
                        <a:pt x="2454160" y="2851150"/>
                      </a:cubicBezTo>
                      <a:cubicBezTo>
                        <a:pt x="2451635" y="2838525"/>
                        <a:pt x="2451881" y="2825264"/>
                        <a:pt x="2447810" y="2813050"/>
                      </a:cubicBezTo>
                      <a:cubicBezTo>
                        <a:pt x="2444329" y="2802607"/>
                        <a:pt x="2423797" y="2780476"/>
                        <a:pt x="2416060" y="2774950"/>
                      </a:cubicBezTo>
                      <a:cubicBezTo>
                        <a:pt x="2408357" y="2769448"/>
                        <a:pt x="2398687" y="2767267"/>
                        <a:pt x="2390660" y="2762250"/>
                      </a:cubicBezTo>
                      <a:cubicBezTo>
                        <a:pt x="2381685" y="2756641"/>
                        <a:pt x="2373872" y="2749351"/>
                        <a:pt x="2365260" y="2743200"/>
                      </a:cubicBezTo>
                      <a:cubicBezTo>
                        <a:pt x="2359050" y="2738764"/>
                        <a:pt x="2351606" y="2735896"/>
                        <a:pt x="2346210" y="2730500"/>
                      </a:cubicBezTo>
                      <a:cubicBezTo>
                        <a:pt x="2338726" y="2723016"/>
                        <a:pt x="2333510" y="2713567"/>
                        <a:pt x="2327160" y="2705100"/>
                      </a:cubicBezTo>
                      <a:cubicBezTo>
                        <a:pt x="2318609" y="2653795"/>
                        <a:pt x="2324881" y="2679214"/>
                        <a:pt x="2308110" y="2628900"/>
                      </a:cubicBezTo>
                      <a:cubicBezTo>
                        <a:pt x="2303522" y="2615137"/>
                        <a:pt x="2298028" y="2595660"/>
                        <a:pt x="2289060" y="2584450"/>
                      </a:cubicBezTo>
                      <a:cubicBezTo>
                        <a:pt x="2277840" y="2570425"/>
                        <a:pt x="2260923" y="2561294"/>
                        <a:pt x="2250960" y="2546350"/>
                      </a:cubicBezTo>
                      <a:cubicBezTo>
                        <a:pt x="2216658" y="2494897"/>
                        <a:pt x="2263214" y="2562032"/>
                        <a:pt x="2219210" y="2508250"/>
                      </a:cubicBezTo>
                      <a:cubicBezTo>
                        <a:pt x="2165075" y="2442085"/>
                        <a:pt x="2196982" y="2478400"/>
                        <a:pt x="2168410" y="2438400"/>
                      </a:cubicBezTo>
                      <a:cubicBezTo>
                        <a:pt x="2162259" y="2429788"/>
                        <a:pt x="2157270" y="2420031"/>
                        <a:pt x="2149360" y="2413000"/>
                      </a:cubicBezTo>
                      <a:cubicBezTo>
                        <a:pt x="2137952" y="2402859"/>
                        <a:pt x="2123960" y="2396067"/>
                        <a:pt x="2111260" y="2387600"/>
                      </a:cubicBezTo>
                      <a:cubicBezTo>
                        <a:pt x="2100121" y="2380174"/>
                        <a:pt x="2085134" y="2380887"/>
                        <a:pt x="2073160" y="2374900"/>
                      </a:cubicBezTo>
                      <a:cubicBezTo>
                        <a:pt x="2064693" y="2370667"/>
                        <a:pt x="2055787" y="2367217"/>
                        <a:pt x="2047760" y="2362200"/>
                      </a:cubicBezTo>
                      <a:cubicBezTo>
                        <a:pt x="2038785" y="2356591"/>
                        <a:pt x="2031335" y="2348759"/>
                        <a:pt x="2022360" y="2343150"/>
                      </a:cubicBezTo>
                      <a:cubicBezTo>
                        <a:pt x="2014333" y="2338133"/>
                        <a:pt x="2005077" y="2335320"/>
                        <a:pt x="1996960" y="2330450"/>
                      </a:cubicBezTo>
                      <a:cubicBezTo>
                        <a:pt x="1983872" y="2322597"/>
                        <a:pt x="1973340" y="2309877"/>
                        <a:pt x="1958860" y="2305050"/>
                      </a:cubicBezTo>
                      <a:cubicBezTo>
                        <a:pt x="1952510" y="2302933"/>
                        <a:pt x="1945797" y="2301693"/>
                        <a:pt x="1939810" y="2298700"/>
                      </a:cubicBezTo>
                      <a:cubicBezTo>
                        <a:pt x="1932984" y="2295287"/>
                        <a:pt x="1927734" y="2289100"/>
                        <a:pt x="1920760" y="2286000"/>
                      </a:cubicBezTo>
                      <a:cubicBezTo>
                        <a:pt x="1908527" y="2280563"/>
                        <a:pt x="1895360" y="2277533"/>
                        <a:pt x="1882660" y="2273300"/>
                      </a:cubicBezTo>
                      <a:cubicBezTo>
                        <a:pt x="1876310" y="2271183"/>
                        <a:pt x="1869179" y="2270663"/>
                        <a:pt x="1863610" y="2266950"/>
                      </a:cubicBezTo>
                      <a:cubicBezTo>
                        <a:pt x="1842738" y="2253035"/>
                        <a:pt x="1848514" y="2254473"/>
                        <a:pt x="1825510" y="2247900"/>
                      </a:cubicBezTo>
                      <a:cubicBezTo>
                        <a:pt x="1790174" y="2237804"/>
                        <a:pt x="1753758" y="2234419"/>
                        <a:pt x="1717560" y="2228850"/>
                      </a:cubicBezTo>
                      <a:cubicBezTo>
                        <a:pt x="1704835" y="2226892"/>
                        <a:pt x="1692029" y="2225293"/>
                        <a:pt x="1679460" y="2222500"/>
                      </a:cubicBezTo>
                      <a:cubicBezTo>
                        <a:pt x="1672926" y="2221048"/>
                        <a:pt x="1666760" y="2218267"/>
                        <a:pt x="1660410" y="2216150"/>
                      </a:cubicBezTo>
                      <a:cubicBezTo>
                        <a:pt x="1651943" y="2218267"/>
                        <a:pt x="1642587" y="2218170"/>
                        <a:pt x="1635010" y="2222500"/>
                      </a:cubicBezTo>
                      <a:cubicBezTo>
                        <a:pt x="1589238" y="2248655"/>
                        <a:pt x="1641555" y="2235116"/>
                        <a:pt x="1596910" y="2254250"/>
                      </a:cubicBezTo>
                      <a:cubicBezTo>
                        <a:pt x="1575893" y="2263257"/>
                        <a:pt x="1519208" y="2265830"/>
                        <a:pt x="1508010" y="2266950"/>
                      </a:cubicBezTo>
                      <a:cubicBezTo>
                        <a:pt x="1501660" y="2273300"/>
                        <a:pt x="1494473" y="2278911"/>
                        <a:pt x="1488960" y="2286000"/>
                      </a:cubicBezTo>
                      <a:cubicBezTo>
                        <a:pt x="1455502" y="2329017"/>
                        <a:pt x="1472127" y="2312283"/>
                        <a:pt x="1450860" y="2349500"/>
                      </a:cubicBezTo>
                      <a:cubicBezTo>
                        <a:pt x="1447074" y="2356126"/>
                        <a:pt x="1441260" y="2361576"/>
                        <a:pt x="1438160" y="2368550"/>
                      </a:cubicBezTo>
                      <a:cubicBezTo>
                        <a:pt x="1432723" y="2380783"/>
                        <a:pt x="1429693" y="2393950"/>
                        <a:pt x="1425460" y="2406650"/>
                      </a:cubicBezTo>
                      <a:cubicBezTo>
                        <a:pt x="1423047" y="2413890"/>
                        <a:pt x="1415860" y="2418726"/>
                        <a:pt x="1412760" y="2425700"/>
                      </a:cubicBezTo>
                      <a:cubicBezTo>
                        <a:pt x="1412760" y="2425700"/>
                        <a:pt x="1396885" y="2473325"/>
                        <a:pt x="1393710" y="2482850"/>
                      </a:cubicBezTo>
                      <a:cubicBezTo>
                        <a:pt x="1386884" y="2503328"/>
                        <a:pt x="1385243" y="2525183"/>
                        <a:pt x="1381010" y="2546350"/>
                      </a:cubicBezTo>
                      <a:cubicBezTo>
                        <a:pt x="1379697" y="2552914"/>
                        <a:pt x="1377911" y="2559549"/>
                        <a:pt x="1374660" y="2565400"/>
                      </a:cubicBezTo>
                      <a:cubicBezTo>
                        <a:pt x="1362453" y="2587373"/>
                        <a:pt x="1349360" y="2606591"/>
                        <a:pt x="1330210" y="2622550"/>
                      </a:cubicBezTo>
                      <a:cubicBezTo>
                        <a:pt x="1324347" y="2627436"/>
                        <a:pt x="1318134" y="2632150"/>
                        <a:pt x="1311160" y="2635250"/>
                      </a:cubicBezTo>
                      <a:cubicBezTo>
                        <a:pt x="1298927" y="2640687"/>
                        <a:pt x="1273060" y="2647950"/>
                        <a:pt x="1273060" y="2647950"/>
                      </a:cubicBezTo>
                      <a:cubicBezTo>
                        <a:pt x="1260360" y="2645833"/>
                        <a:pt x="1246845" y="2646552"/>
                        <a:pt x="1234960" y="2641600"/>
                      </a:cubicBezTo>
                      <a:cubicBezTo>
                        <a:pt x="1220871" y="2635729"/>
                        <a:pt x="1196860" y="2616200"/>
                        <a:pt x="1196860" y="2616200"/>
                      </a:cubicBezTo>
                      <a:cubicBezTo>
                        <a:pt x="1151478" y="2548127"/>
                        <a:pt x="1222152" y="2651439"/>
                        <a:pt x="1165110" y="2578100"/>
                      </a:cubicBezTo>
                      <a:cubicBezTo>
                        <a:pt x="1155739" y="2566052"/>
                        <a:pt x="1154190" y="2544827"/>
                        <a:pt x="1139710" y="2540000"/>
                      </a:cubicBezTo>
                      <a:cubicBezTo>
                        <a:pt x="1070235" y="2516842"/>
                        <a:pt x="1175468" y="2553776"/>
                        <a:pt x="1101610" y="2520950"/>
                      </a:cubicBezTo>
                      <a:cubicBezTo>
                        <a:pt x="1089377" y="2515513"/>
                        <a:pt x="1074649" y="2515676"/>
                        <a:pt x="1063510" y="2508250"/>
                      </a:cubicBezTo>
                      <a:cubicBezTo>
                        <a:pt x="1052682" y="2501031"/>
                        <a:pt x="1021297" y="2480108"/>
                        <a:pt x="1006360" y="2470150"/>
                      </a:cubicBezTo>
                      <a:cubicBezTo>
                        <a:pt x="1000791" y="2466437"/>
                        <a:pt x="993297" y="2466793"/>
                        <a:pt x="987310" y="2463800"/>
                      </a:cubicBezTo>
                      <a:cubicBezTo>
                        <a:pt x="980484" y="2460387"/>
                        <a:pt x="975086" y="2454513"/>
                        <a:pt x="968260" y="2451100"/>
                      </a:cubicBezTo>
                      <a:cubicBezTo>
                        <a:pt x="962273" y="2448107"/>
                        <a:pt x="955477" y="2447100"/>
                        <a:pt x="949210" y="2444750"/>
                      </a:cubicBezTo>
                      <a:cubicBezTo>
                        <a:pt x="938537" y="2440748"/>
                        <a:pt x="928133" y="2436052"/>
                        <a:pt x="917460" y="2432050"/>
                      </a:cubicBezTo>
                      <a:cubicBezTo>
                        <a:pt x="895477" y="2423806"/>
                        <a:pt x="891205" y="2425272"/>
                        <a:pt x="866660" y="2413000"/>
                      </a:cubicBezTo>
                      <a:cubicBezTo>
                        <a:pt x="859834" y="2409587"/>
                        <a:pt x="853960" y="2404533"/>
                        <a:pt x="847610" y="2400300"/>
                      </a:cubicBezTo>
                      <a:cubicBezTo>
                        <a:pt x="835466" y="2363867"/>
                        <a:pt x="849957" y="2397875"/>
                        <a:pt x="822210" y="2362200"/>
                      </a:cubicBezTo>
                      <a:cubicBezTo>
                        <a:pt x="812839" y="2350152"/>
                        <a:pt x="805277" y="2336800"/>
                        <a:pt x="796810" y="2324100"/>
                      </a:cubicBezTo>
                      <a:cubicBezTo>
                        <a:pt x="792577" y="2317750"/>
                        <a:pt x="789506" y="2310446"/>
                        <a:pt x="784110" y="2305050"/>
                      </a:cubicBezTo>
                      <a:cubicBezTo>
                        <a:pt x="777760" y="2298700"/>
                        <a:pt x="771410" y="2292350"/>
                        <a:pt x="765060" y="2286000"/>
                      </a:cubicBezTo>
                      <a:cubicBezTo>
                        <a:pt x="760827" y="2273300"/>
                        <a:pt x="756593" y="2260600"/>
                        <a:pt x="752360" y="2247900"/>
                      </a:cubicBezTo>
                      <a:cubicBezTo>
                        <a:pt x="747876" y="2234448"/>
                        <a:pt x="742176" y="2203332"/>
                        <a:pt x="739660" y="2190750"/>
                      </a:cubicBezTo>
                      <a:cubicBezTo>
                        <a:pt x="741777" y="2163233"/>
                        <a:pt x="740924" y="2135325"/>
                        <a:pt x="746010" y="2108200"/>
                      </a:cubicBezTo>
                      <a:cubicBezTo>
                        <a:pt x="747416" y="2100699"/>
                        <a:pt x="757631" y="2096705"/>
                        <a:pt x="758710" y="2089150"/>
                      </a:cubicBezTo>
                      <a:cubicBezTo>
                        <a:pt x="762697" y="2061243"/>
                        <a:pt x="751466" y="2063452"/>
                        <a:pt x="733310" y="2057400"/>
                      </a:cubicBezTo>
                      <a:cubicBezTo>
                        <a:pt x="729077" y="2044700"/>
                        <a:pt x="724843" y="2032000"/>
                        <a:pt x="720610" y="2019300"/>
                      </a:cubicBezTo>
                      <a:cubicBezTo>
                        <a:pt x="717850" y="2011021"/>
                        <a:pt x="718590" y="2001477"/>
                        <a:pt x="714260" y="1993900"/>
                      </a:cubicBezTo>
                      <a:cubicBezTo>
                        <a:pt x="709805" y="1986103"/>
                        <a:pt x="701560" y="1981200"/>
                        <a:pt x="695210" y="1974850"/>
                      </a:cubicBezTo>
                      <a:cubicBezTo>
                        <a:pt x="674202" y="1911827"/>
                        <a:pt x="709448" y="2008099"/>
                        <a:pt x="669810" y="1936750"/>
                      </a:cubicBezTo>
                      <a:cubicBezTo>
                        <a:pt x="663309" y="1925048"/>
                        <a:pt x="661343" y="1911350"/>
                        <a:pt x="657110" y="1898650"/>
                      </a:cubicBezTo>
                      <a:cubicBezTo>
                        <a:pt x="654993" y="1892300"/>
                        <a:pt x="655493" y="1884333"/>
                        <a:pt x="650760" y="1879600"/>
                      </a:cubicBezTo>
                      <a:cubicBezTo>
                        <a:pt x="622893" y="1851733"/>
                        <a:pt x="624398" y="1851442"/>
                        <a:pt x="580910" y="1822450"/>
                      </a:cubicBezTo>
                      <a:cubicBezTo>
                        <a:pt x="574560" y="1818217"/>
                        <a:pt x="568686" y="1813163"/>
                        <a:pt x="561860" y="1809750"/>
                      </a:cubicBezTo>
                      <a:cubicBezTo>
                        <a:pt x="555873" y="1806757"/>
                        <a:pt x="548797" y="1806393"/>
                        <a:pt x="542810" y="1803400"/>
                      </a:cubicBezTo>
                      <a:cubicBezTo>
                        <a:pt x="527928" y="1795959"/>
                        <a:pt x="502291" y="1772777"/>
                        <a:pt x="492010" y="1765300"/>
                      </a:cubicBezTo>
                      <a:cubicBezTo>
                        <a:pt x="492010" y="1765300"/>
                        <a:pt x="444385" y="1733550"/>
                        <a:pt x="434860" y="1727200"/>
                      </a:cubicBezTo>
                      <a:cubicBezTo>
                        <a:pt x="426054" y="1721329"/>
                        <a:pt x="417927" y="1714500"/>
                        <a:pt x="409460" y="1708150"/>
                      </a:cubicBezTo>
                      <a:cubicBezTo>
                        <a:pt x="407343" y="1701800"/>
                        <a:pt x="407291" y="1694327"/>
                        <a:pt x="403110" y="1689100"/>
                      </a:cubicBezTo>
                      <a:cubicBezTo>
                        <a:pt x="398342" y="1683141"/>
                        <a:pt x="390270" y="1680836"/>
                        <a:pt x="384060" y="1676400"/>
                      </a:cubicBezTo>
                      <a:cubicBezTo>
                        <a:pt x="375448" y="1670249"/>
                        <a:pt x="367272" y="1663501"/>
                        <a:pt x="358660" y="1657350"/>
                      </a:cubicBezTo>
                      <a:cubicBezTo>
                        <a:pt x="352450" y="1652914"/>
                        <a:pt x="345314" y="1649720"/>
                        <a:pt x="339610" y="1644650"/>
                      </a:cubicBezTo>
                      <a:cubicBezTo>
                        <a:pt x="326186" y="1632718"/>
                        <a:pt x="316454" y="1616513"/>
                        <a:pt x="301510" y="1606550"/>
                      </a:cubicBezTo>
                      <a:cubicBezTo>
                        <a:pt x="274988" y="1588869"/>
                        <a:pt x="287856" y="1599246"/>
                        <a:pt x="263410" y="1574800"/>
                      </a:cubicBezTo>
                      <a:cubicBezTo>
                        <a:pt x="247449" y="1526917"/>
                        <a:pt x="268979" y="1585939"/>
                        <a:pt x="244360" y="1536700"/>
                      </a:cubicBezTo>
                      <a:cubicBezTo>
                        <a:pt x="241367" y="1530713"/>
                        <a:pt x="242119" y="1522934"/>
                        <a:pt x="238010" y="1517650"/>
                      </a:cubicBezTo>
                      <a:cubicBezTo>
                        <a:pt x="226983" y="1503473"/>
                        <a:pt x="212610" y="1492250"/>
                        <a:pt x="199910" y="1479550"/>
                      </a:cubicBezTo>
                      <a:cubicBezTo>
                        <a:pt x="185866" y="1465506"/>
                        <a:pt x="179491" y="1456641"/>
                        <a:pt x="161810" y="1447800"/>
                      </a:cubicBezTo>
                      <a:cubicBezTo>
                        <a:pt x="155823" y="1444807"/>
                        <a:pt x="148912" y="1444087"/>
                        <a:pt x="142760" y="1441450"/>
                      </a:cubicBezTo>
                      <a:cubicBezTo>
                        <a:pt x="134059" y="1437721"/>
                        <a:pt x="125827" y="1432983"/>
                        <a:pt x="117360" y="1428750"/>
                      </a:cubicBezTo>
                      <a:cubicBezTo>
                        <a:pt x="113127" y="1420283"/>
                        <a:pt x="106956" y="1412533"/>
                        <a:pt x="104660" y="1403350"/>
                      </a:cubicBezTo>
                      <a:cubicBezTo>
                        <a:pt x="100521" y="1386794"/>
                        <a:pt x="105241" y="1368144"/>
                        <a:pt x="98310" y="1352550"/>
                      </a:cubicBezTo>
                      <a:cubicBezTo>
                        <a:pt x="95592" y="1346433"/>
                        <a:pt x="85111" y="1349451"/>
                        <a:pt x="79260" y="1346200"/>
                      </a:cubicBezTo>
                      <a:cubicBezTo>
                        <a:pt x="65917" y="1338787"/>
                        <a:pt x="53860" y="1329267"/>
                        <a:pt x="41160" y="1320800"/>
                      </a:cubicBezTo>
                      <a:cubicBezTo>
                        <a:pt x="34810" y="1316567"/>
                        <a:pt x="22110" y="1308100"/>
                        <a:pt x="22110" y="1308100"/>
                      </a:cubicBezTo>
                      <a:cubicBezTo>
                        <a:pt x="30163" y="1195359"/>
                        <a:pt x="0" y="1213672"/>
                        <a:pt x="47510" y="1225550"/>
                      </a:cubicBezTo>
                      <a:cubicBezTo>
                        <a:pt x="49563" y="1226063"/>
                        <a:pt x="51743" y="1225550"/>
                        <a:pt x="53860" y="1225550"/>
                      </a:cubicBezTo>
                    </a:path>
                  </a:pathLst>
                </a:custGeom>
                <a:noFill/>
                <a:ln w="38160">
                  <a:solidFill>
                    <a:srgbClr val="000000"/>
                  </a:solidFill>
                  <a:round/>
                </a:ln>
              </p:spPr>
              <p:style>
                <a:lnRef idx="0"/>
                <a:fillRef idx="0"/>
                <a:effectRef idx="0"/>
                <a:fontRef idx="minor"/>
              </p:style>
              <p:txBody>
                <a:bodyPr lIns="36360" rIns="36360" tIns="36360" bIns="36360" anchor="t">
                  <a:noAutofit/>
                </a:bodyPr>
                <a:p>
                  <a:endParaRPr b="0" lang="en-US" sz="1800" spc="-1" strike="noStrike">
                    <a:solidFill>
                      <a:srgbClr val="ffffff"/>
                    </a:solidFill>
                    <a:latin typeface="Arial"/>
                  </a:endParaRPr>
                </a:p>
              </p:txBody>
            </p:sp>
            <p:sp>
              <p:nvSpPr>
                <p:cNvPr id="258" name=""/>
                <p:cNvSpPr/>
                <p:nvPr/>
              </p:nvSpPr>
              <p:spPr>
                <a:xfrm>
                  <a:off x="6866640" y="1628640"/>
                  <a:ext cx="0" cy="77580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ffffff"/>
                    </a:solidFill>
                    <a:latin typeface="Arial"/>
                  </a:endParaRPr>
                </a:p>
              </p:txBody>
            </p:sp>
            <p:sp>
              <p:nvSpPr>
                <p:cNvPr id="259" name=""/>
                <p:cNvSpPr/>
                <p:nvPr/>
              </p:nvSpPr>
              <p:spPr>
                <a:xfrm>
                  <a:off x="5904720" y="1628640"/>
                  <a:ext cx="956160" cy="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ffffff"/>
                    </a:solidFill>
                    <a:latin typeface="Arial"/>
                  </a:endParaRPr>
                </a:p>
              </p:txBody>
            </p:sp>
            <p:sp>
              <p:nvSpPr>
                <p:cNvPr id="260" name=""/>
                <p:cNvSpPr/>
                <p:nvPr/>
              </p:nvSpPr>
              <p:spPr>
                <a:xfrm>
                  <a:off x="5904720" y="1628640"/>
                  <a:ext cx="0" cy="185184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ffffff"/>
                    </a:solidFill>
                    <a:latin typeface="Arial"/>
                  </a:endParaRPr>
                </a:p>
              </p:txBody>
            </p:sp>
            <p:sp>
              <p:nvSpPr>
                <p:cNvPr id="261" name=""/>
                <p:cNvSpPr/>
                <p:nvPr/>
              </p:nvSpPr>
              <p:spPr>
                <a:xfrm>
                  <a:off x="4696560" y="3480480"/>
                  <a:ext cx="1207800" cy="0"/>
                </a:xfrm>
                <a:prstGeom prst="line">
                  <a:avLst/>
                </a:prstGeom>
                <a:ln w="38160">
                  <a:solidFill>
                    <a:srgbClr val="000000"/>
                  </a:solidFill>
                  <a:miter/>
                </a:ln>
              </p:spPr>
              <p:style>
                <a:lnRef idx="0"/>
                <a:fillRef idx="0"/>
                <a:effectRef idx="0"/>
                <a:fontRef idx="minor"/>
              </p:style>
              <p:txBody>
                <a:bodyPr lIns="36360" rIns="36360" tIns="-36360" bIns="-36360" anchor="t">
                  <a:noAutofit/>
                </a:bodyPr>
                <a:p>
                  <a:endParaRPr b="0" lang="en-US" sz="1800" spc="-1" strike="noStrike">
                    <a:solidFill>
                      <a:srgbClr val="ffffff"/>
                    </a:solidFill>
                    <a:latin typeface="Arial"/>
                  </a:endParaRPr>
                </a:p>
              </p:txBody>
            </p:sp>
          </p:grpSp>
        </p:grpSp>
        <p:sp>
          <p:nvSpPr>
            <p:cNvPr id="262" name=""/>
            <p:cNvSpPr/>
            <p:nvPr/>
          </p:nvSpPr>
          <p:spPr>
            <a:xfrm>
              <a:off x="5557680" y="3517920"/>
              <a:ext cx="438120" cy="865080"/>
            </a:xfrm>
            <a:custGeom>
              <a:avLst/>
              <a:gdLst/>
              <a:ahLst/>
              <a:rect l="l" t="t" r="r" b="b"/>
              <a:pathLst>
                <a:path w="276" h="545">
                  <a:moveTo>
                    <a:pt x="1" y="0"/>
                  </a:moveTo>
                  <a:cubicBezTo>
                    <a:pt x="13" y="65"/>
                    <a:pt x="30" y="65"/>
                    <a:pt x="82" y="101"/>
                  </a:cubicBezTo>
                  <a:cubicBezTo>
                    <a:pt x="84" y="107"/>
                    <a:pt x="91" y="113"/>
                    <a:pt x="89" y="119"/>
                  </a:cubicBezTo>
                  <a:cubicBezTo>
                    <a:pt x="84" y="134"/>
                    <a:pt x="63" y="157"/>
                    <a:pt x="63" y="157"/>
                  </a:cubicBezTo>
                  <a:cubicBezTo>
                    <a:pt x="52" y="191"/>
                    <a:pt x="61" y="169"/>
                    <a:pt x="32" y="213"/>
                  </a:cubicBezTo>
                  <a:cubicBezTo>
                    <a:pt x="28" y="219"/>
                    <a:pt x="20" y="232"/>
                    <a:pt x="20" y="232"/>
                  </a:cubicBezTo>
                  <a:cubicBezTo>
                    <a:pt x="11" y="263"/>
                    <a:pt x="5" y="287"/>
                    <a:pt x="1" y="320"/>
                  </a:cubicBezTo>
                  <a:cubicBezTo>
                    <a:pt x="3" y="330"/>
                    <a:pt x="0" y="343"/>
                    <a:pt x="7" y="351"/>
                  </a:cubicBezTo>
                  <a:cubicBezTo>
                    <a:pt x="25" y="374"/>
                    <a:pt x="57" y="383"/>
                    <a:pt x="82" y="395"/>
                  </a:cubicBezTo>
                  <a:cubicBezTo>
                    <a:pt x="131" y="418"/>
                    <a:pt x="160" y="440"/>
                    <a:pt x="214" y="457"/>
                  </a:cubicBezTo>
                  <a:cubicBezTo>
                    <a:pt x="235" y="490"/>
                    <a:pt x="248" y="517"/>
                    <a:pt x="276" y="5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6761160" y="2504880"/>
              <a:ext cx="1461960" cy="2286000"/>
            </a:xfrm>
            <a:custGeom>
              <a:avLst/>
              <a:gdLst/>
              <a:ahLst/>
              <a:rect l="l" t="t" r="r" b="b"/>
              <a:pathLst>
                <a:path w="921" h="1440">
                  <a:moveTo>
                    <a:pt x="19" y="0"/>
                  </a:moveTo>
                  <a:cubicBezTo>
                    <a:pt x="14" y="49"/>
                    <a:pt x="9" y="96"/>
                    <a:pt x="0" y="144"/>
                  </a:cubicBezTo>
                  <a:cubicBezTo>
                    <a:pt x="6" y="203"/>
                    <a:pt x="3" y="253"/>
                    <a:pt x="51" y="288"/>
                  </a:cubicBezTo>
                  <a:cubicBezTo>
                    <a:pt x="75" y="326"/>
                    <a:pt x="122" y="337"/>
                    <a:pt x="163" y="350"/>
                  </a:cubicBezTo>
                  <a:cubicBezTo>
                    <a:pt x="200" y="376"/>
                    <a:pt x="222" y="376"/>
                    <a:pt x="238" y="425"/>
                  </a:cubicBezTo>
                  <a:cubicBezTo>
                    <a:pt x="244" y="500"/>
                    <a:pt x="251" y="571"/>
                    <a:pt x="263" y="645"/>
                  </a:cubicBezTo>
                  <a:cubicBezTo>
                    <a:pt x="259" y="731"/>
                    <a:pt x="255" y="772"/>
                    <a:pt x="232" y="845"/>
                  </a:cubicBezTo>
                  <a:cubicBezTo>
                    <a:pt x="240" y="911"/>
                    <a:pt x="239" y="904"/>
                    <a:pt x="276" y="951"/>
                  </a:cubicBezTo>
                  <a:cubicBezTo>
                    <a:pt x="285" y="963"/>
                    <a:pt x="301" y="989"/>
                    <a:pt x="301" y="989"/>
                  </a:cubicBezTo>
                  <a:cubicBezTo>
                    <a:pt x="310" y="1017"/>
                    <a:pt x="322" y="1046"/>
                    <a:pt x="339" y="1070"/>
                  </a:cubicBezTo>
                  <a:cubicBezTo>
                    <a:pt x="350" y="1104"/>
                    <a:pt x="365" y="1130"/>
                    <a:pt x="376" y="1164"/>
                  </a:cubicBezTo>
                  <a:cubicBezTo>
                    <a:pt x="382" y="1183"/>
                    <a:pt x="400" y="1184"/>
                    <a:pt x="414" y="1189"/>
                  </a:cubicBezTo>
                  <a:cubicBezTo>
                    <a:pt x="468" y="1208"/>
                    <a:pt x="519" y="1213"/>
                    <a:pt x="576" y="1221"/>
                  </a:cubicBezTo>
                  <a:cubicBezTo>
                    <a:pt x="614" y="1226"/>
                    <a:pt x="689" y="1239"/>
                    <a:pt x="689" y="1239"/>
                  </a:cubicBezTo>
                  <a:cubicBezTo>
                    <a:pt x="719" y="1250"/>
                    <a:pt x="723" y="1267"/>
                    <a:pt x="745" y="1289"/>
                  </a:cubicBezTo>
                  <a:cubicBezTo>
                    <a:pt x="772" y="1316"/>
                    <a:pt x="811" y="1322"/>
                    <a:pt x="839" y="1346"/>
                  </a:cubicBezTo>
                  <a:cubicBezTo>
                    <a:pt x="859" y="1364"/>
                    <a:pt x="902" y="1396"/>
                    <a:pt x="902" y="1396"/>
                  </a:cubicBezTo>
                  <a:cubicBezTo>
                    <a:pt x="912" y="1411"/>
                    <a:pt x="921" y="1422"/>
                    <a:pt x="921" y="14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8076960" y="4014720"/>
              <a:ext cx="354240" cy="716040"/>
            </a:xfrm>
            <a:custGeom>
              <a:avLst/>
              <a:gdLst/>
              <a:ahLst/>
              <a:rect l="l" t="t" r="r" b="b"/>
              <a:pathLst>
                <a:path w="223" h="451">
                  <a:moveTo>
                    <a:pt x="223" y="0"/>
                  </a:moveTo>
                  <a:cubicBezTo>
                    <a:pt x="204" y="13"/>
                    <a:pt x="186" y="19"/>
                    <a:pt x="167" y="32"/>
                  </a:cubicBezTo>
                  <a:cubicBezTo>
                    <a:pt x="131" y="101"/>
                    <a:pt x="175" y="227"/>
                    <a:pt x="86" y="257"/>
                  </a:cubicBezTo>
                  <a:cubicBezTo>
                    <a:pt x="56" y="301"/>
                    <a:pt x="73" y="286"/>
                    <a:pt x="42" y="307"/>
                  </a:cubicBezTo>
                  <a:cubicBezTo>
                    <a:pt x="23" y="335"/>
                    <a:pt x="0" y="380"/>
                    <a:pt x="48" y="395"/>
                  </a:cubicBezTo>
                  <a:cubicBezTo>
                    <a:pt x="54" y="401"/>
                    <a:pt x="60" y="408"/>
                    <a:pt x="67" y="414"/>
                  </a:cubicBezTo>
                  <a:cubicBezTo>
                    <a:pt x="73" y="419"/>
                    <a:pt x="83" y="419"/>
                    <a:pt x="86" y="426"/>
                  </a:cubicBezTo>
                  <a:cubicBezTo>
                    <a:pt x="89" y="434"/>
                    <a:pt x="79" y="442"/>
                    <a:pt x="79" y="45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8332560" y="4224240"/>
              <a:ext cx="308160" cy="268200"/>
            </a:xfrm>
            <a:custGeom>
              <a:avLst/>
              <a:gdLst/>
              <a:ahLst/>
              <a:rect l="l" t="t" r="r" b="b"/>
              <a:pathLst>
                <a:path w="194" h="169">
                  <a:moveTo>
                    <a:pt x="0" y="0"/>
                  </a:moveTo>
                  <a:cubicBezTo>
                    <a:pt x="11" y="36"/>
                    <a:pt x="1" y="15"/>
                    <a:pt x="50" y="50"/>
                  </a:cubicBezTo>
                  <a:cubicBezTo>
                    <a:pt x="61" y="57"/>
                    <a:pt x="87" y="62"/>
                    <a:pt x="87" y="62"/>
                  </a:cubicBezTo>
                  <a:cubicBezTo>
                    <a:pt x="144" y="51"/>
                    <a:pt x="104" y="48"/>
                    <a:pt x="125" y="106"/>
                  </a:cubicBezTo>
                  <a:cubicBezTo>
                    <a:pt x="126" y="109"/>
                    <a:pt x="171" y="161"/>
                    <a:pt x="175" y="163"/>
                  </a:cubicBezTo>
                  <a:cubicBezTo>
                    <a:pt x="181" y="167"/>
                    <a:pt x="194" y="169"/>
                    <a:pt x="194" y="16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6622920" y="2703600"/>
              <a:ext cx="1789200" cy="1847520"/>
            </a:xfrm>
            <a:custGeom>
              <a:avLst/>
              <a:gdLst/>
              <a:ahLst/>
              <a:rect l="l" t="t" r="r" b="b"/>
              <a:pathLst>
                <a:path w="1127" h="1164">
                  <a:moveTo>
                    <a:pt x="1127" y="0"/>
                  </a:moveTo>
                  <a:cubicBezTo>
                    <a:pt x="1073" y="15"/>
                    <a:pt x="1024" y="40"/>
                    <a:pt x="970" y="50"/>
                  </a:cubicBezTo>
                  <a:cubicBezTo>
                    <a:pt x="931" y="74"/>
                    <a:pt x="884" y="85"/>
                    <a:pt x="839" y="94"/>
                  </a:cubicBezTo>
                  <a:cubicBezTo>
                    <a:pt x="790" y="118"/>
                    <a:pt x="727" y="143"/>
                    <a:pt x="688" y="182"/>
                  </a:cubicBezTo>
                  <a:cubicBezTo>
                    <a:pt x="666" y="204"/>
                    <a:pt x="649" y="229"/>
                    <a:pt x="626" y="250"/>
                  </a:cubicBezTo>
                  <a:cubicBezTo>
                    <a:pt x="617" y="280"/>
                    <a:pt x="605" y="313"/>
                    <a:pt x="588" y="338"/>
                  </a:cubicBezTo>
                  <a:cubicBezTo>
                    <a:pt x="574" y="384"/>
                    <a:pt x="552" y="416"/>
                    <a:pt x="526" y="457"/>
                  </a:cubicBezTo>
                  <a:cubicBezTo>
                    <a:pt x="522" y="463"/>
                    <a:pt x="523" y="471"/>
                    <a:pt x="519" y="476"/>
                  </a:cubicBezTo>
                  <a:cubicBezTo>
                    <a:pt x="513" y="484"/>
                    <a:pt x="459" y="518"/>
                    <a:pt x="457" y="520"/>
                  </a:cubicBezTo>
                  <a:cubicBezTo>
                    <a:pt x="410" y="556"/>
                    <a:pt x="362" y="586"/>
                    <a:pt x="313" y="620"/>
                  </a:cubicBezTo>
                  <a:cubicBezTo>
                    <a:pt x="241" y="669"/>
                    <a:pt x="223" y="751"/>
                    <a:pt x="181" y="820"/>
                  </a:cubicBezTo>
                  <a:cubicBezTo>
                    <a:pt x="169" y="882"/>
                    <a:pt x="161" y="961"/>
                    <a:pt x="125" y="1014"/>
                  </a:cubicBezTo>
                  <a:cubicBezTo>
                    <a:pt x="117" y="1039"/>
                    <a:pt x="110" y="1050"/>
                    <a:pt x="87" y="1064"/>
                  </a:cubicBezTo>
                  <a:cubicBezTo>
                    <a:pt x="53" y="1118"/>
                    <a:pt x="99" y="1055"/>
                    <a:pt x="56" y="1089"/>
                  </a:cubicBezTo>
                  <a:cubicBezTo>
                    <a:pt x="50" y="1094"/>
                    <a:pt x="49" y="1103"/>
                    <a:pt x="44" y="1108"/>
                  </a:cubicBezTo>
                  <a:cubicBezTo>
                    <a:pt x="39" y="1114"/>
                    <a:pt x="31" y="1117"/>
                    <a:pt x="25" y="1121"/>
                  </a:cubicBezTo>
                  <a:cubicBezTo>
                    <a:pt x="15" y="1135"/>
                    <a:pt x="11" y="1153"/>
                    <a:pt x="0" y="11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6254640" y="3190680"/>
              <a:ext cx="546120" cy="1122480"/>
            </a:xfrm>
            <a:custGeom>
              <a:avLst/>
              <a:gdLst/>
              <a:ahLst/>
              <a:rect l="l" t="t" r="r" b="b"/>
              <a:pathLst>
                <a:path w="344" h="707">
                  <a:moveTo>
                    <a:pt x="0" y="0"/>
                  </a:moveTo>
                  <a:cubicBezTo>
                    <a:pt x="2" y="52"/>
                    <a:pt x="2" y="104"/>
                    <a:pt x="6" y="156"/>
                  </a:cubicBezTo>
                  <a:cubicBezTo>
                    <a:pt x="9" y="199"/>
                    <a:pt x="63" y="229"/>
                    <a:pt x="88" y="256"/>
                  </a:cubicBezTo>
                  <a:cubicBezTo>
                    <a:pt x="206" y="386"/>
                    <a:pt x="78" y="263"/>
                    <a:pt x="144" y="325"/>
                  </a:cubicBezTo>
                  <a:cubicBezTo>
                    <a:pt x="174" y="384"/>
                    <a:pt x="199" y="444"/>
                    <a:pt x="232" y="501"/>
                  </a:cubicBezTo>
                  <a:cubicBezTo>
                    <a:pt x="255" y="541"/>
                    <a:pt x="266" y="587"/>
                    <a:pt x="307" y="613"/>
                  </a:cubicBezTo>
                  <a:cubicBezTo>
                    <a:pt x="324" y="640"/>
                    <a:pt x="344" y="675"/>
                    <a:pt x="344" y="70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202600" y="4492440"/>
              <a:ext cx="239760" cy="189000"/>
            </a:xfrm>
            <a:custGeom>
              <a:avLst/>
              <a:gdLst/>
              <a:ahLst/>
              <a:rect l="l" t="t" r="r" b="b"/>
              <a:pathLst>
                <a:path w="151" h="119">
                  <a:moveTo>
                    <a:pt x="0" y="0"/>
                  </a:moveTo>
                  <a:cubicBezTo>
                    <a:pt x="28" y="18"/>
                    <a:pt x="47" y="5"/>
                    <a:pt x="82" y="0"/>
                  </a:cubicBezTo>
                  <a:cubicBezTo>
                    <a:pt x="88" y="1"/>
                    <a:pt x="132" y="3"/>
                    <a:pt x="138" y="19"/>
                  </a:cubicBezTo>
                  <a:cubicBezTo>
                    <a:pt x="147" y="45"/>
                    <a:pt x="151" y="100"/>
                    <a:pt x="151" y="100"/>
                  </a:cubicBezTo>
                  <a:cubicBezTo>
                    <a:pt x="149" y="106"/>
                    <a:pt x="144" y="119"/>
                    <a:pt x="144" y="1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607160" y="3190680"/>
              <a:ext cx="268200" cy="655920"/>
            </a:xfrm>
            <a:custGeom>
              <a:avLst/>
              <a:gdLst/>
              <a:ahLst/>
              <a:rect l="l" t="t" r="r" b="b"/>
              <a:pathLst>
                <a:path w="169" h="413">
                  <a:moveTo>
                    <a:pt x="0" y="0"/>
                  </a:moveTo>
                  <a:cubicBezTo>
                    <a:pt x="27" y="21"/>
                    <a:pt x="49" y="28"/>
                    <a:pt x="81" y="37"/>
                  </a:cubicBezTo>
                  <a:cubicBezTo>
                    <a:pt x="100" y="43"/>
                    <a:pt x="137" y="56"/>
                    <a:pt x="137" y="56"/>
                  </a:cubicBezTo>
                  <a:cubicBezTo>
                    <a:pt x="162" y="73"/>
                    <a:pt x="161" y="83"/>
                    <a:pt x="169" y="112"/>
                  </a:cubicBezTo>
                  <a:cubicBezTo>
                    <a:pt x="162" y="166"/>
                    <a:pt x="166" y="173"/>
                    <a:pt x="131" y="206"/>
                  </a:cubicBezTo>
                  <a:cubicBezTo>
                    <a:pt x="122" y="236"/>
                    <a:pt x="99" y="273"/>
                    <a:pt x="81" y="300"/>
                  </a:cubicBezTo>
                  <a:cubicBezTo>
                    <a:pt x="86" y="339"/>
                    <a:pt x="94" y="363"/>
                    <a:pt x="106" y="400"/>
                  </a:cubicBezTo>
                  <a:cubicBezTo>
                    <a:pt x="108" y="407"/>
                    <a:pt x="125" y="413"/>
                    <a:pt x="125" y="4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8202600" y="4522680"/>
              <a:ext cx="129960" cy="189000"/>
            </a:xfrm>
            <a:custGeom>
              <a:avLst/>
              <a:gdLst/>
              <a:ahLst/>
              <a:rect l="l" t="t" r="r" b="b"/>
              <a:pathLst>
                <a:path w="82" h="119">
                  <a:moveTo>
                    <a:pt x="82" y="0"/>
                  </a:moveTo>
                  <a:cubicBezTo>
                    <a:pt x="73" y="24"/>
                    <a:pt x="56" y="32"/>
                    <a:pt x="38" y="50"/>
                  </a:cubicBezTo>
                  <a:cubicBezTo>
                    <a:pt x="33" y="64"/>
                    <a:pt x="28" y="94"/>
                    <a:pt x="19" y="106"/>
                  </a:cubicBezTo>
                  <a:cubicBezTo>
                    <a:pt x="14" y="112"/>
                    <a:pt x="0" y="119"/>
                    <a:pt x="0" y="1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8442360" y="4549680"/>
              <a:ext cx="93600" cy="52560"/>
            </a:xfrm>
            <a:custGeom>
              <a:avLst/>
              <a:gdLst/>
              <a:ahLst/>
              <a:rect l="l" t="t" r="r" b="b"/>
              <a:pathLst>
                <a:path w="59" h="33">
                  <a:moveTo>
                    <a:pt x="0" y="8"/>
                  </a:moveTo>
                  <a:cubicBezTo>
                    <a:pt x="6" y="6"/>
                    <a:pt x="12" y="0"/>
                    <a:pt x="18" y="1"/>
                  </a:cubicBezTo>
                  <a:cubicBezTo>
                    <a:pt x="26" y="2"/>
                    <a:pt x="30" y="11"/>
                    <a:pt x="37" y="14"/>
                  </a:cubicBezTo>
                  <a:cubicBezTo>
                    <a:pt x="43" y="17"/>
                    <a:pt x="51" y="15"/>
                    <a:pt x="56" y="20"/>
                  </a:cubicBezTo>
                  <a:cubicBezTo>
                    <a:pt x="59" y="23"/>
                    <a:pt x="56" y="29"/>
                    <a:pt x="56" y="33"/>
                  </a:cubicBez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72" name=""/>
            <p:cNvSpPr/>
            <p:nvPr/>
          </p:nvSpPr>
          <p:spPr>
            <a:xfrm>
              <a:off x="8342280" y="4135320"/>
              <a:ext cx="237960" cy="119160"/>
            </a:xfrm>
            <a:custGeom>
              <a:avLst/>
              <a:gdLst/>
              <a:ahLst/>
              <a:rect l="l" t="t" r="r" b="b"/>
              <a:pathLst>
                <a:path w="150" h="75">
                  <a:moveTo>
                    <a:pt x="0" y="0"/>
                  </a:moveTo>
                  <a:cubicBezTo>
                    <a:pt x="20" y="6"/>
                    <a:pt x="36" y="18"/>
                    <a:pt x="56" y="25"/>
                  </a:cubicBezTo>
                  <a:cubicBezTo>
                    <a:pt x="64" y="54"/>
                    <a:pt x="71" y="64"/>
                    <a:pt x="100" y="75"/>
                  </a:cubicBezTo>
                  <a:cubicBezTo>
                    <a:pt x="118" y="68"/>
                    <a:pt x="133" y="59"/>
                    <a:pt x="150" y="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8550000" y="4383000"/>
              <a:ext cx="69840" cy="30240"/>
            </a:xfrm>
            <a:custGeom>
              <a:avLst/>
              <a:gdLst/>
              <a:ahLst/>
              <a:rect l="l" t="t" r="r" b="b"/>
              <a:pathLst>
                <a:path w="44" h="19">
                  <a:moveTo>
                    <a:pt x="0" y="19"/>
                  </a:moveTo>
                  <a:cubicBezTo>
                    <a:pt x="6" y="15"/>
                    <a:pt x="12" y="9"/>
                    <a:pt x="19" y="6"/>
                  </a:cubicBezTo>
                  <a:cubicBezTo>
                    <a:pt x="27" y="3"/>
                    <a:pt x="44" y="0"/>
                    <a:pt x="44" y="0"/>
                  </a:cubicBez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74" name=""/>
            <p:cNvSpPr/>
            <p:nvPr/>
          </p:nvSpPr>
          <p:spPr>
            <a:xfrm>
              <a:off x="6881760" y="3762360"/>
              <a:ext cx="1469880" cy="1245960"/>
            </a:xfrm>
            <a:custGeom>
              <a:avLst/>
              <a:gdLst/>
              <a:ahLst/>
              <a:rect l="l" t="t" r="r" b="b"/>
              <a:pathLst>
                <a:path w="926" h="785">
                  <a:moveTo>
                    <a:pt x="0" y="785"/>
                  </a:moveTo>
                  <a:cubicBezTo>
                    <a:pt x="53" y="749"/>
                    <a:pt x="106" y="707"/>
                    <a:pt x="169" y="692"/>
                  </a:cubicBezTo>
                  <a:cubicBezTo>
                    <a:pt x="186" y="682"/>
                    <a:pt x="201" y="668"/>
                    <a:pt x="219" y="660"/>
                  </a:cubicBezTo>
                  <a:cubicBezTo>
                    <a:pt x="248" y="647"/>
                    <a:pt x="257" y="652"/>
                    <a:pt x="281" y="635"/>
                  </a:cubicBezTo>
                  <a:cubicBezTo>
                    <a:pt x="320" y="607"/>
                    <a:pt x="360" y="577"/>
                    <a:pt x="400" y="548"/>
                  </a:cubicBezTo>
                  <a:cubicBezTo>
                    <a:pt x="442" y="517"/>
                    <a:pt x="476" y="497"/>
                    <a:pt x="500" y="447"/>
                  </a:cubicBezTo>
                  <a:cubicBezTo>
                    <a:pt x="509" y="406"/>
                    <a:pt x="504" y="336"/>
                    <a:pt x="532" y="303"/>
                  </a:cubicBezTo>
                  <a:cubicBezTo>
                    <a:pt x="545" y="287"/>
                    <a:pt x="575" y="278"/>
                    <a:pt x="594" y="272"/>
                  </a:cubicBezTo>
                  <a:cubicBezTo>
                    <a:pt x="617" y="227"/>
                    <a:pt x="615" y="178"/>
                    <a:pt x="619" y="128"/>
                  </a:cubicBezTo>
                  <a:cubicBezTo>
                    <a:pt x="605" y="84"/>
                    <a:pt x="614" y="102"/>
                    <a:pt x="594" y="72"/>
                  </a:cubicBezTo>
                  <a:cubicBezTo>
                    <a:pt x="602" y="68"/>
                    <a:pt x="610" y="62"/>
                    <a:pt x="619" y="59"/>
                  </a:cubicBezTo>
                  <a:cubicBezTo>
                    <a:pt x="631" y="54"/>
                    <a:pt x="657" y="47"/>
                    <a:pt x="657" y="47"/>
                  </a:cubicBezTo>
                  <a:cubicBezTo>
                    <a:pt x="685" y="28"/>
                    <a:pt x="729" y="11"/>
                    <a:pt x="763" y="3"/>
                  </a:cubicBezTo>
                  <a:cubicBezTo>
                    <a:pt x="794" y="5"/>
                    <a:pt x="827" y="0"/>
                    <a:pt x="857" y="9"/>
                  </a:cubicBezTo>
                  <a:cubicBezTo>
                    <a:pt x="866" y="12"/>
                    <a:pt x="864" y="26"/>
                    <a:pt x="870" y="34"/>
                  </a:cubicBezTo>
                  <a:cubicBezTo>
                    <a:pt x="875" y="41"/>
                    <a:pt x="882" y="47"/>
                    <a:pt x="889" y="53"/>
                  </a:cubicBezTo>
                  <a:cubicBezTo>
                    <a:pt x="900" y="62"/>
                    <a:pt x="926" y="72"/>
                    <a:pt x="926" y="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8162640" y="2813040"/>
              <a:ext cx="158760" cy="237960"/>
            </a:xfrm>
            <a:custGeom>
              <a:avLst/>
              <a:gdLst/>
              <a:ahLst/>
              <a:rect l="l" t="t" r="r" b="b"/>
              <a:pathLst>
                <a:path w="100" h="150">
                  <a:moveTo>
                    <a:pt x="0" y="0"/>
                  </a:moveTo>
                  <a:cubicBezTo>
                    <a:pt x="7" y="22"/>
                    <a:pt x="4" y="47"/>
                    <a:pt x="13" y="69"/>
                  </a:cubicBezTo>
                  <a:cubicBezTo>
                    <a:pt x="16" y="76"/>
                    <a:pt x="26" y="76"/>
                    <a:pt x="32" y="81"/>
                  </a:cubicBezTo>
                  <a:cubicBezTo>
                    <a:pt x="39" y="87"/>
                    <a:pt x="43" y="95"/>
                    <a:pt x="50" y="100"/>
                  </a:cubicBezTo>
                  <a:cubicBezTo>
                    <a:pt x="62" y="109"/>
                    <a:pt x="88" y="125"/>
                    <a:pt x="88" y="125"/>
                  </a:cubicBezTo>
                  <a:cubicBezTo>
                    <a:pt x="95" y="147"/>
                    <a:pt x="89" y="139"/>
                    <a:pt x="100" y="1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8400960" y="2624040"/>
              <a:ext cx="69840" cy="326880"/>
            </a:xfrm>
            <a:custGeom>
              <a:avLst/>
              <a:gdLst/>
              <a:ahLst/>
              <a:rect l="l" t="t" r="r" b="b"/>
              <a:pathLst>
                <a:path w="44" h="206">
                  <a:moveTo>
                    <a:pt x="7" y="0"/>
                  </a:moveTo>
                  <a:cubicBezTo>
                    <a:pt x="22" y="46"/>
                    <a:pt x="28" y="28"/>
                    <a:pt x="0" y="56"/>
                  </a:cubicBezTo>
                  <a:cubicBezTo>
                    <a:pt x="14" y="119"/>
                    <a:pt x="7" y="95"/>
                    <a:pt x="19" y="131"/>
                  </a:cubicBezTo>
                  <a:cubicBezTo>
                    <a:pt x="21" y="152"/>
                    <a:pt x="19" y="174"/>
                    <a:pt x="26" y="194"/>
                  </a:cubicBezTo>
                  <a:cubicBezTo>
                    <a:pt x="28" y="201"/>
                    <a:pt x="44" y="206"/>
                    <a:pt x="44" y="2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8221680" y="2663640"/>
              <a:ext cx="50760" cy="88920"/>
            </a:xfrm>
            <a:custGeom>
              <a:avLst/>
              <a:gdLst/>
              <a:ahLst/>
              <a:rect l="l" t="t" r="r" b="b"/>
              <a:pathLst>
                <a:path w="32" h="56">
                  <a:moveTo>
                    <a:pt x="7" y="0"/>
                  </a:moveTo>
                  <a:cubicBezTo>
                    <a:pt x="5" y="10"/>
                    <a:pt x="0" y="21"/>
                    <a:pt x="1" y="31"/>
                  </a:cubicBezTo>
                  <a:cubicBezTo>
                    <a:pt x="2" y="38"/>
                    <a:pt x="7" y="45"/>
                    <a:pt x="13" y="50"/>
                  </a:cubicBezTo>
                  <a:cubicBezTo>
                    <a:pt x="18" y="54"/>
                    <a:pt x="32" y="56"/>
                    <a:pt x="32"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8" name=""/>
            <p:cNvSpPr/>
            <p:nvPr/>
          </p:nvSpPr>
          <p:spPr>
            <a:xfrm>
              <a:off x="7299360" y="2593800"/>
              <a:ext cx="380880" cy="447840"/>
            </a:xfrm>
            <a:custGeom>
              <a:avLst/>
              <a:gdLst/>
              <a:ahLst/>
              <a:rect l="l" t="t" r="r" b="b"/>
              <a:pathLst>
                <a:path w="240" h="282">
                  <a:moveTo>
                    <a:pt x="18" y="0"/>
                  </a:moveTo>
                  <a:cubicBezTo>
                    <a:pt x="16" y="10"/>
                    <a:pt x="15" y="21"/>
                    <a:pt x="12" y="31"/>
                  </a:cubicBezTo>
                  <a:cubicBezTo>
                    <a:pt x="9" y="44"/>
                    <a:pt x="0" y="69"/>
                    <a:pt x="0" y="69"/>
                  </a:cubicBezTo>
                  <a:cubicBezTo>
                    <a:pt x="7" y="110"/>
                    <a:pt x="8" y="115"/>
                    <a:pt x="43" y="132"/>
                  </a:cubicBezTo>
                  <a:cubicBezTo>
                    <a:pt x="60" y="140"/>
                    <a:pt x="93" y="157"/>
                    <a:pt x="93" y="157"/>
                  </a:cubicBezTo>
                  <a:cubicBezTo>
                    <a:pt x="102" y="169"/>
                    <a:pt x="107" y="184"/>
                    <a:pt x="118" y="194"/>
                  </a:cubicBezTo>
                  <a:cubicBezTo>
                    <a:pt x="146" y="218"/>
                    <a:pt x="193" y="224"/>
                    <a:pt x="225" y="244"/>
                  </a:cubicBezTo>
                  <a:cubicBezTo>
                    <a:pt x="228" y="254"/>
                    <a:pt x="240" y="282"/>
                    <a:pt x="219" y="2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169040" y="3220920"/>
              <a:ext cx="295200" cy="187200"/>
            </a:xfrm>
            <a:custGeom>
              <a:avLst/>
              <a:gdLst/>
              <a:ahLst/>
              <a:rect l="l" t="t" r="r" b="b"/>
              <a:pathLst>
                <a:path w="186" h="118">
                  <a:moveTo>
                    <a:pt x="0" y="0"/>
                  </a:moveTo>
                  <a:cubicBezTo>
                    <a:pt x="38" y="12"/>
                    <a:pt x="29" y="19"/>
                    <a:pt x="56" y="43"/>
                  </a:cubicBezTo>
                  <a:cubicBezTo>
                    <a:pt x="66" y="52"/>
                    <a:pt x="87" y="58"/>
                    <a:pt x="100" y="62"/>
                  </a:cubicBezTo>
                  <a:cubicBezTo>
                    <a:pt x="148" y="30"/>
                    <a:pt x="128" y="32"/>
                    <a:pt x="175" y="50"/>
                  </a:cubicBezTo>
                  <a:cubicBezTo>
                    <a:pt x="186" y="89"/>
                    <a:pt x="182" y="66"/>
                    <a:pt x="182" y="11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7845480" y="3438360"/>
              <a:ext cx="515880" cy="69840"/>
            </a:xfrm>
            <a:custGeom>
              <a:avLst/>
              <a:gdLst/>
              <a:ahLst/>
              <a:rect l="l" t="t" r="r" b="b"/>
              <a:pathLst>
                <a:path w="325" h="44">
                  <a:moveTo>
                    <a:pt x="0" y="32"/>
                  </a:moveTo>
                  <a:cubicBezTo>
                    <a:pt x="33" y="20"/>
                    <a:pt x="67" y="12"/>
                    <a:pt x="100" y="0"/>
                  </a:cubicBezTo>
                  <a:cubicBezTo>
                    <a:pt x="119" y="2"/>
                    <a:pt x="138" y="1"/>
                    <a:pt x="156" y="7"/>
                  </a:cubicBezTo>
                  <a:cubicBezTo>
                    <a:pt x="170" y="12"/>
                    <a:pt x="181" y="24"/>
                    <a:pt x="194" y="32"/>
                  </a:cubicBezTo>
                  <a:cubicBezTo>
                    <a:pt x="199" y="35"/>
                    <a:pt x="235" y="43"/>
                    <a:pt x="238" y="44"/>
                  </a:cubicBezTo>
                  <a:cubicBezTo>
                    <a:pt x="255" y="42"/>
                    <a:pt x="272" y="42"/>
                    <a:pt x="288" y="38"/>
                  </a:cubicBezTo>
                  <a:cubicBezTo>
                    <a:pt x="307" y="33"/>
                    <a:pt x="309" y="7"/>
                    <a:pt x="325" y="7"/>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1" name=""/>
            <p:cNvSpPr/>
            <p:nvPr/>
          </p:nvSpPr>
          <p:spPr>
            <a:xfrm>
              <a:off x="8372520" y="3151080"/>
              <a:ext cx="117360" cy="595440"/>
            </a:xfrm>
            <a:custGeom>
              <a:avLst/>
              <a:gdLst/>
              <a:ahLst/>
              <a:rect l="l" t="t" r="r" b="b"/>
              <a:pathLst>
                <a:path w="74" h="375">
                  <a:moveTo>
                    <a:pt x="18" y="0"/>
                  </a:moveTo>
                  <a:cubicBezTo>
                    <a:pt x="16" y="10"/>
                    <a:pt x="15" y="21"/>
                    <a:pt x="12" y="31"/>
                  </a:cubicBezTo>
                  <a:cubicBezTo>
                    <a:pt x="9" y="44"/>
                    <a:pt x="0" y="69"/>
                    <a:pt x="0" y="69"/>
                  </a:cubicBezTo>
                  <a:cubicBezTo>
                    <a:pt x="4" y="96"/>
                    <a:pt x="10" y="166"/>
                    <a:pt x="18" y="188"/>
                  </a:cubicBezTo>
                  <a:cubicBezTo>
                    <a:pt x="21" y="195"/>
                    <a:pt x="31" y="196"/>
                    <a:pt x="37" y="200"/>
                  </a:cubicBezTo>
                  <a:cubicBezTo>
                    <a:pt x="74" y="254"/>
                    <a:pt x="37" y="321"/>
                    <a:pt x="69" y="3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354720" y="3249360"/>
              <a:ext cx="755640" cy="130320"/>
            </a:xfrm>
            <a:custGeom>
              <a:avLst/>
              <a:gdLst/>
              <a:ahLst/>
              <a:rect l="l" t="t" r="r" b="b"/>
              <a:pathLst>
                <a:path w="476" h="82">
                  <a:moveTo>
                    <a:pt x="0" y="82"/>
                  </a:moveTo>
                  <a:cubicBezTo>
                    <a:pt x="58" y="52"/>
                    <a:pt x="110" y="16"/>
                    <a:pt x="175" y="7"/>
                  </a:cubicBezTo>
                  <a:cubicBezTo>
                    <a:pt x="288" y="14"/>
                    <a:pt x="243" y="3"/>
                    <a:pt x="313" y="25"/>
                  </a:cubicBezTo>
                  <a:cubicBezTo>
                    <a:pt x="334" y="32"/>
                    <a:pt x="375" y="50"/>
                    <a:pt x="375" y="50"/>
                  </a:cubicBezTo>
                  <a:cubicBezTo>
                    <a:pt x="388" y="46"/>
                    <a:pt x="400" y="42"/>
                    <a:pt x="413" y="38"/>
                  </a:cubicBezTo>
                  <a:cubicBezTo>
                    <a:pt x="419" y="36"/>
                    <a:pt x="432" y="32"/>
                    <a:pt x="432" y="32"/>
                  </a:cubicBezTo>
                  <a:cubicBezTo>
                    <a:pt x="472" y="5"/>
                    <a:pt x="458" y="18"/>
                    <a:pt x="4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532560" y="3279600"/>
              <a:ext cx="188640" cy="527040"/>
            </a:xfrm>
            <a:custGeom>
              <a:avLst/>
              <a:gdLst/>
              <a:ahLst/>
              <a:rect l="l" t="t" r="r" b="b"/>
              <a:pathLst>
                <a:path w="119" h="332">
                  <a:moveTo>
                    <a:pt x="0" y="332"/>
                  </a:moveTo>
                  <a:cubicBezTo>
                    <a:pt x="28" y="304"/>
                    <a:pt x="77" y="254"/>
                    <a:pt x="94" y="219"/>
                  </a:cubicBezTo>
                  <a:cubicBezTo>
                    <a:pt x="105" y="198"/>
                    <a:pt x="105" y="177"/>
                    <a:pt x="119" y="157"/>
                  </a:cubicBezTo>
                  <a:cubicBezTo>
                    <a:pt x="107" y="105"/>
                    <a:pt x="101" y="53"/>
                    <a:pt x="10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333840" y="3090960"/>
              <a:ext cx="71640" cy="487080"/>
            </a:xfrm>
            <a:custGeom>
              <a:avLst/>
              <a:gdLst/>
              <a:ahLst/>
              <a:rect l="l" t="t" r="r" b="b"/>
              <a:pathLst>
                <a:path w="45" h="307">
                  <a:moveTo>
                    <a:pt x="38" y="0"/>
                  </a:moveTo>
                  <a:cubicBezTo>
                    <a:pt x="25" y="30"/>
                    <a:pt x="7" y="50"/>
                    <a:pt x="0" y="82"/>
                  </a:cubicBezTo>
                  <a:cubicBezTo>
                    <a:pt x="4" y="114"/>
                    <a:pt x="12" y="138"/>
                    <a:pt x="19" y="169"/>
                  </a:cubicBezTo>
                  <a:cubicBezTo>
                    <a:pt x="9" y="202"/>
                    <a:pt x="1" y="237"/>
                    <a:pt x="38" y="251"/>
                  </a:cubicBezTo>
                  <a:cubicBezTo>
                    <a:pt x="45" y="273"/>
                    <a:pt x="42" y="286"/>
                    <a:pt x="32" y="30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08440" y="3871800"/>
              <a:ext cx="993960" cy="173160"/>
            </a:xfrm>
            <a:custGeom>
              <a:avLst/>
              <a:gdLst/>
              <a:ahLst/>
              <a:rect l="l" t="t" r="r" b="b"/>
              <a:pathLst>
                <a:path w="626" h="109">
                  <a:moveTo>
                    <a:pt x="0" y="28"/>
                  </a:moveTo>
                  <a:cubicBezTo>
                    <a:pt x="25" y="22"/>
                    <a:pt x="42" y="17"/>
                    <a:pt x="63" y="3"/>
                  </a:cubicBezTo>
                  <a:cubicBezTo>
                    <a:pt x="92" y="5"/>
                    <a:pt x="122" y="0"/>
                    <a:pt x="150" y="9"/>
                  </a:cubicBezTo>
                  <a:cubicBezTo>
                    <a:pt x="159" y="12"/>
                    <a:pt x="157" y="27"/>
                    <a:pt x="163" y="34"/>
                  </a:cubicBezTo>
                  <a:cubicBezTo>
                    <a:pt x="186" y="63"/>
                    <a:pt x="216" y="84"/>
                    <a:pt x="251" y="97"/>
                  </a:cubicBezTo>
                  <a:cubicBezTo>
                    <a:pt x="291" y="88"/>
                    <a:pt x="325" y="80"/>
                    <a:pt x="363" y="65"/>
                  </a:cubicBezTo>
                  <a:cubicBezTo>
                    <a:pt x="380" y="41"/>
                    <a:pt x="392" y="41"/>
                    <a:pt x="420" y="34"/>
                  </a:cubicBezTo>
                  <a:cubicBezTo>
                    <a:pt x="447" y="36"/>
                    <a:pt x="474" y="35"/>
                    <a:pt x="501" y="40"/>
                  </a:cubicBezTo>
                  <a:cubicBezTo>
                    <a:pt x="542" y="47"/>
                    <a:pt x="567" y="96"/>
                    <a:pt x="607" y="109"/>
                  </a:cubicBezTo>
                  <a:cubicBezTo>
                    <a:pt x="613" y="105"/>
                    <a:pt x="626" y="97"/>
                    <a:pt x="626" y="9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6910200" y="4154400"/>
              <a:ext cx="566640" cy="1649520"/>
            </a:xfrm>
            <a:custGeom>
              <a:avLst/>
              <a:gdLst/>
              <a:ahLst/>
              <a:rect l="l" t="t" r="r" b="b"/>
              <a:pathLst>
                <a:path w="357" h="1039">
                  <a:moveTo>
                    <a:pt x="0" y="0"/>
                  </a:moveTo>
                  <a:cubicBezTo>
                    <a:pt x="16" y="58"/>
                    <a:pt x="45" y="93"/>
                    <a:pt x="82" y="138"/>
                  </a:cubicBezTo>
                  <a:cubicBezTo>
                    <a:pt x="111" y="174"/>
                    <a:pt x="136" y="230"/>
                    <a:pt x="169" y="263"/>
                  </a:cubicBezTo>
                  <a:cubicBezTo>
                    <a:pt x="218" y="312"/>
                    <a:pt x="232" y="332"/>
                    <a:pt x="270" y="382"/>
                  </a:cubicBezTo>
                  <a:cubicBezTo>
                    <a:pt x="290" y="467"/>
                    <a:pt x="280" y="415"/>
                    <a:pt x="295" y="538"/>
                  </a:cubicBezTo>
                  <a:cubicBezTo>
                    <a:pt x="295" y="540"/>
                    <a:pt x="300" y="605"/>
                    <a:pt x="307" y="620"/>
                  </a:cubicBezTo>
                  <a:cubicBezTo>
                    <a:pt x="320" y="646"/>
                    <a:pt x="341" y="676"/>
                    <a:pt x="357" y="701"/>
                  </a:cubicBezTo>
                  <a:cubicBezTo>
                    <a:pt x="340" y="809"/>
                    <a:pt x="323" y="911"/>
                    <a:pt x="313" y="1021"/>
                  </a:cubicBezTo>
                  <a:cubicBezTo>
                    <a:pt x="315" y="1027"/>
                    <a:pt x="320" y="1039"/>
                    <a:pt x="320" y="103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7159680" y="5236920"/>
              <a:ext cx="676080" cy="109800"/>
            </a:xfrm>
            <a:custGeom>
              <a:avLst/>
              <a:gdLst/>
              <a:ahLst/>
              <a:rect l="l" t="t" r="r" b="b"/>
              <a:pathLst>
                <a:path w="426" h="69">
                  <a:moveTo>
                    <a:pt x="0" y="44"/>
                  </a:moveTo>
                  <a:cubicBezTo>
                    <a:pt x="48" y="35"/>
                    <a:pt x="93" y="17"/>
                    <a:pt x="138" y="0"/>
                  </a:cubicBezTo>
                  <a:cubicBezTo>
                    <a:pt x="155" y="5"/>
                    <a:pt x="172" y="6"/>
                    <a:pt x="188" y="13"/>
                  </a:cubicBezTo>
                  <a:cubicBezTo>
                    <a:pt x="195" y="16"/>
                    <a:pt x="199" y="24"/>
                    <a:pt x="206" y="26"/>
                  </a:cubicBezTo>
                  <a:cubicBezTo>
                    <a:pt x="224" y="32"/>
                    <a:pt x="244" y="32"/>
                    <a:pt x="263" y="38"/>
                  </a:cubicBezTo>
                  <a:cubicBezTo>
                    <a:pt x="286" y="24"/>
                    <a:pt x="292" y="10"/>
                    <a:pt x="319" y="19"/>
                  </a:cubicBezTo>
                  <a:cubicBezTo>
                    <a:pt x="349" y="39"/>
                    <a:pt x="389" y="69"/>
                    <a:pt x="426" y="6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7522920" y="4616280"/>
              <a:ext cx="362160" cy="438120"/>
            </a:xfrm>
            <a:custGeom>
              <a:avLst/>
              <a:gdLst/>
              <a:ahLst/>
              <a:rect l="l" t="t" r="r" b="b"/>
              <a:pathLst>
                <a:path w="188" h="248">
                  <a:moveTo>
                    <a:pt x="0" y="0"/>
                  </a:moveTo>
                  <a:cubicBezTo>
                    <a:pt x="21" y="21"/>
                    <a:pt x="36" y="48"/>
                    <a:pt x="56" y="69"/>
                  </a:cubicBezTo>
                  <a:cubicBezTo>
                    <a:pt x="106" y="121"/>
                    <a:pt x="61" y="59"/>
                    <a:pt x="94" y="107"/>
                  </a:cubicBezTo>
                  <a:cubicBezTo>
                    <a:pt x="101" y="128"/>
                    <a:pt x="107" y="144"/>
                    <a:pt x="119" y="163"/>
                  </a:cubicBezTo>
                  <a:cubicBezTo>
                    <a:pt x="124" y="185"/>
                    <a:pt x="140" y="235"/>
                    <a:pt x="163" y="245"/>
                  </a:cubicBezTo>
                  <a:cubicBezTo>
                    <a:pt x="171" y="248"/>
                    <a:pt x="180" y="245"/>
                    <a:pt x="188" y="2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145200" y="3071880"/>
              <a:ext cx="452160" cy="158760"/>
            </a:xfrm>
            <a:custGeom>
              <a:avLst/>
              <a:gdLst/>
              <a:ahLst/>
              <a:rect l="l" t="t" r="r" b="b"/>
              <a:pathLst>
                <a:path w="285" h="100">
                  <a:moveTo>
                    <a:pt x="0" y="87"/>
                  </a:moveTo>
                  <a:cubicBezTo>
                    <a:pt x="70" y="83"/>
                    <a:pt x="104" y="74"/>
                    <a:pt x="169" y="81"/>
                  </a:cubicBezTo>
                  <a:cubicBezTo>
                    <a:pt x="188" y="87"/>
                    <a:pt x="207" y="94"/>
                    <a:pt x="226" y="100"/>
                  </a:cubicBezTo>
                  <a:cubicBezTo>
                    <a:pt x="232" y="98"/>
                    <a:pt x="239" y="98"/>
                    <a:pt x="244" y="94"/>
                  </a:cubicBezTo>
                  <a:cubicBezTo>
                    <a:pt x="285" y="66"/>
                    <a:pt x="244" y="36"/>
                    <a:pt x="24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5986440" y="3309840"/>
              <a:ext cx="88920" cy="1063800"/>
            </a:xfrm>
            <a:custGeom>
              <a:avLst/>
              <a:gdLst/>
              <a:ahLst/>
              <a:rect l="l" t="t" r="r" b="b"/>
              <a:pathLst>
                <a:path w="56" h="670">
                  <a:moveTo>
                    <a:pt x="6" y="0"/>
                  </a:moveTo>
                  <a:cubicBezTo>
                    <a:pt x="49" y="115"/>
                    <a:pt x="0" y="369"/>
                    <a:pt x="0" y="369"/>
                  </a:cubicBezTo>
                  <a:cubicBezTo>
                    <a:pt x="13" y="462"/>
                    <a:pt x="41" y="552"/>
                    <a:pt x="56" y="645"/>
                  </a:cubicBezTo>
                  <a:cubicBezTo>
                    <a:pt x="54" y="653"/>
                    <a:pt x="50" y="670"/>
                    <a:pt x="50" y="6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35400" y="3935160"/>
              <a:ext cx="319320" cy="265320"/>
            </a:xfrm>
            <a:custGeom>
              <a:avLst/>
              <a:gdLst/>
              <a:ahLst/>
              <a:rect l="l" t="t" r="r" b="b"/>
              <a:pathLst>
                <a:path w="201" h="167">
                  <a:moveTo>
                    <a:pt x="0" y="157"/>
                  </a:moveTo>
                  <a:cubicBezTo>
                    <a:pt x="55" y="167"/>
                    <a:pt x="108" y="160"/>
                    <a:pt x="163" y="151"/>
                  </a:cubicBezTo>
                  <a:cubicBezTo>
                    <a:pt x="201" y="137"/>
                    <a:pt x="184" y="120"/>
                    <a:pt x="182" y="82"/>
                  </a:cubicBezTo>
                  <a:cubicBezTo>
                    <a:pt x="181" y="55"/>
                    <a:pt x="182" y="27"/>
                    <a:pt x="1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702480" y="4383000"/>
              <a:ext cx="664920" cy="277920"/>
            </a:xfrm>
            <a:custGeom>
              <a:avLst/>
              <a:gdLst/>
              <a:ahLst/>
              <a:rect l="l" t="t" r="r" b="b"/>
              <a:pathLst>
                <a:path w="419" h="175">
                  <a:moveTo>
                    <a:pt x="0" y="175"/>
                  </a:moveTo>
                  <a:cubicBezTo>
                    <a:pt x="16" y="170"/>
                    <a:pt x="67" y="144"/>
                    <a:pt x="81" y="132"/>
                  </a:cubicBezTo>
                  <a:cubicBezTo>
                    <a:pt x="122" y="96"/>
                    <a:pt x="124" y="75"/>
                    <a:pt x="175" y="56"/>
                  </a:cubicBezTo>
                  <a:cubicBezTo>
                    <a:pt x="213" y="67"/>
                    <a:pt x="317" y="46"/>
                    <a:pt x="350" y="44"/>
                  </a:cubicBezTo>
                  <a:cubicBezTo>
                    <a:pt x="374" y="28"/>
                    <a:pt x="399" y="22"/>
                    <a:pt x="41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921360" y="3997080"/>
              <a:ext cx="924120" cy="47880"/>
            </a:xfrm>
            <a:custGeom>
              <a:avLst/>
              <a:gdLst/>
              <a:ahLst/>
              <a:rect l="l" t="t" r="r" b="b"/>
              <a:pathLst>
                <a:path w="582" h="30">
                  <a:moveTo>
                    <a:pt x="0" y="24"/>
                  </a:moveTo>
                  <a:cubicBezTo>
                    <a:pt x="148" y="0"/>
                    <a:pt x="301" y="19"/>
                    <a:pt x="450" y="30"/>
                  </a:cubicBezTo>
                  <a:cubicBezTo>
                    <a:pt x="473" y="29"/>
                    <a:pt x="547" y="18"/>
                    <a:pt x="582" y="18"/>
                  </a:cubicBezTo>
                </a:path>
              </a:pathLst>
            </a:custGeom>
            <a:noFill/>
            <a:ln w="936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94" name=""/>
            <p:cNvSpPr/>
            <p:nvPr/>
          </p:nvSpPr>
          <p:spPr>
            <a:xfrm>
              <a:off x="7378560" y="3557520"/>
              <a:ext cx="423720" cy="1243080"/>
            </a:xfrm>
            <a:custGeom>
              <a:avLst/>
              <a:gdLst/>
              <a:ahLst/>
              <a:rect l="l" t="t" r="r" b="b"/>
              <a:pathLst>
                <a:path w="267" h="783">
                  <a:moveTo>
                    <a:pt x="0" y="0"/>
                  </a:moveTo>
                  <a:cubicBezTo>
                    <a:pt x="18" y="37"/>
                    <a:pt x="44" y="68"/>
                    <a:pt x="68" y="101"/>
                  </a:cubicBezTo>
                  <a:cubicBezTo>
                    <a:pt x="101" y="147"/>
                    <a:pt x="95" y="236"/>
                    <a:pt x="100" y="288"/>
                  </a:cubicBezTo>
                  <a:cubicBezTo>
                    <a:pt x="94" y="357"/>
                    <a:pt x="78" y="421"/>
                    <a:pt x="68" y="489"/>
                  </a:cubicBezTo>
                  <a:cubicBezTo>
                    <a:pt x="72" y="532"/>
                    <a:pt x="65" y="628"/>
                    <a:pt x="119" y="645"/>
                  </a:cubicBezTo>
                  <a:cubicBezTo>
                    <a:pt x="176" y="687"/>
                    <a:pt x="92" y="629"/>
                    <a:pt x="162" y="664"/>
                  </a:cubicBezTo>
                  <a:cubicBezTo>
                    <a:pt x="180" y="673"/>
                    <a:pt x="195" y="685"/>
                    <a:pt x="212" y="695"/>
                  </a:cubicBezTo>
                  <a:cubicBezTo>
                    <a:pt x="225" y="703"/>
                    <a:pt x="250" y="720"/>
                    <a:pt x="250" y="720"/>
                  </a:cubicBezTo>
                  <a:cubicBezTo>
                    <a:pt x="267" y="775"/>
                    <a:pt x="232" y="757"/>
                    <a:pt x="206" y="7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513480" y="2673360"/>
              <a:ext cx="1298520" cy="209520"/>
            </a:xfrm>
            <a:custGeom>
              <a:avLst/>
              <a:gdLst/>
              <a:ahLst/>
              <a:rect l="l" t="t" r="r" b="b"/>
              <a:pathLst>
                <a:path w="795" h="101">
                  <a:moveTo>
                    <a:pt x="0" y="57"/>
                  </a:moveTo>
                  <a:cubicBezTo>
                    <a:pt x="163" y="61"/>
                    <a:pt x="320" y="70"/>
                    <a:pt x="482" y="63"/>
                  </a:cubicBezTo>
                  <a:cubicBezTo>
                    <a:pt x="541" y="68"/>
                    <a:pt x="598" y="77"/>
                    <a:pt x="657" y="82"/>
                  </a:cubicBezTo>
                  <a:cubicBezTo>
                    <a:pt x="685" y="87"/>
                    <a:pt x="712" y="93"/>
                    <a:pt x="739" y="101"/>
                  </a:cubicBezTo>
                  <a:cubicBezTo>
                    <a:pt x="786" y="83"/>
                    <a:pt x="760" y="62"/>
                    <a:pt x="776" y="13"/>
                  </a:cubicBezTo>
                  <a:cubicBezTo>
                    <a:pt x="778" y="6"/>
                    <a:pt x="795" y="0"/>
                    <a:pt x="79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7080120" y="3068640"/>
              <a:ext cx="1838160" cy="658800"/>
            </a:xfrm>
            <a:custGeom>
              <a:avLst/>
              <a:gdLst/>
              <a:ahLst/>
              <a:rect l="l" t="t" r="r" b="b"/>
              <a:pathLst>
                <a:path w="1158" h="415">
                  <a:moveTo>
                    <a:pt x="0" y="14"/>
                  </a:moveTo>
                  <a:cubicBezTo>
                    <a:pt x="157" y="0"/>
                    <a:pt x="318" y="13"/>
                    <a:pt x="476" y="8"/>
                  </a:cubicBezTo>
                  <a:cubicBezTo>
                    <a:pt x="488" y="10"/>
                    <a:pt x="502" y="8"/>
                    <a:pt x="513" y="14"/>
                  </a:cubicBezTo>
                  <a:cubicBezTo>
                    <a:pt x="519" y="17"/>
                    <a:pt x="515" y="28"/>
                    <a:pt x="519" y="33"/>
                  </a:cubicBezTo>
                  <a:cubicBezTo>
                    <a:pt x="526" y="42"/>
                    <a:pt x="547" y="48"/>
                    <a:pt x="557" y="52"/>
                  </a:cubicBezTo>
                  <a:cubicBezTo>
                    <a:pt x="574" y="75"/>
                    <a:pt x="590" y="91"/>
                    <a:pt x="613" y="108"/>
                  </a:cubicBezTo>
                  <a:cubicBezTo>
                    <a:pt x="629" y="151"/>
                    <a:pt x="585" y="240"/>
                    <a:pt x="645" y="221"/>
                  </a:cubicBezTo>
                  <a:cubicBezTo>
                    <a:pt x="657" y="212"/>
                    <a:pt x="671" y="206"/>
                    <a:pt x="682" y="196"/>
                  </a:cubicBezTo>
                  <a:cubicBezTo>
                    <a:pt x="711" y="168"/>
                    <a:pt x="677" y="183"/>
                    <a:pt x="714" y="171"/>
                  </a:cubicBezTo>
                  <a:cubicBezTo>
                    <a:pt x="748" y="147"/>
                    <a:pt x="780" y="145"/>
                    <a:pt x="820" y="139"/>
                  </a:cubicBezTo>
                  <a:cubicBezTo>
                    <a:pt x="892" y="160"/>
                    <a:pt x="951" y="182"/>
                    <a:pt x="1027" y="189"/>
                  </a:cubicBezTo>
                  <a:cubicBezTo>
                    <a:pt x="994" y="238"/>
                    <a:pt x="1007" y="260"/>
                    <a:pt x="1014" y="333"/>
                  </a:cubicBezTo>
                  <a:cubicBezTo>
                    <a:pt x="1017" y="361"/>
                    <a:pt x="1027" y="415"/>
                    <a:pt x="1027" y="415"/>
                  </a:cubicBezTo>
                  <a:cubicBezTo>
                    <a:pt x="1066" y="406"/>
                    <a:pt x="1060" y="386"/>
                    <a:pt x="1077" y="352"/>
                  </a:cubicBezTo>
                  <a:cubicBezTo>
                    <a:pt x="1092" y="322"/>
                    <a:pt x="1119" y="301"/>
                    <a:pt x="1146" y="283"/>
                  </a:cubicBezTo>
                  <a:cubicBezTo>
                    <a:pt x="1157" y="319"/>
                    <a:pt x="1139" y="357"/>
                    <a:pt x="1158" y="3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435880" y="3360600"/>
              <a:ext cx="463680" cy="385920"/>
            </a:xfrm>
            <a:custGeom>
              <a:avLst/>
              <a:gdLst/>
              <a:ahLst/>
              <a:rect l="l" t="t" r="r" b="b"/>
              <a:pathLst>
                <a:path w="292" h="243">
                  <a:moveTo>
                    <a:pt x="292" y="112"/>
                  </a:moveTo>
                  <a:cubicBezTo>
                    <a:pt x="290" y="102"/>
                    <a:pt x="292" y="88"/>
                    <a:pt x="285" y="81"/>
                  </a:cubicBezTo>
                  <a:cubicBezTo>
                    <a:pt x="276" y="72"/>
                    <a:pt x="248" y="68"/>
                    <a:pt x="248" y="68"/>
                  </a:cubicBezTo>
                  <a:cubicBezTo>
                    <a:pt x="229" y="81"/>
                    <a:pt x="219" y="103"/>
                    <a:pt x="198" y="112"/>
                  </a:cubicBezTo>
                  <a:cubicBezTo>
                    <a:pt x="146" y="135"/>
                    <a:pt x="83" y="134"/>
                    <a:pt x="29" y="137"/>
                  </a:cubicBezTo>
                  <a:cubicBezTo>
                    <a:pt x="21" y="139"/>
                    <a:pt x="8" y="151"/>
                    <a:pt x="4" y="143"/>
                  </a:cubicBezTo>
                  <a:cubicBezTo>
                    <a:pt x="0" y="135"/>
                    <a:pt x="17" y="131"/>
                    <a:pt x="22" y="124"/>
                  </a:cubicBezTo>
                  <a:cubicBezTo>
                    <a:pt x="31" y="110"/>
                    <a:pt x="27" y="101"/>
                    <a:pt x="35" y="87"/>
                  </a:cubicBezTo>
                  <a:cubicBezTo>
                    <a:pt x="49" y="61"/>
                    <a:pt x="68" y="36"/>
                    <a:pt x="85" y="12"/>
                  </a:cubicBezTo>
                  <a:cubicBezTo>
                    <a:pt x="99" y="70"/>
                    <a:pt x="85" y="0"/>
                    <a:pt x="85" y="106"/>
                  </a:cubicBezTo>
                  <a:cubicBezTo>
                    <a:pt x="85" y="153"/>
                    <a:pt x="97" y="197"/>
                    <a:pt x="97" y="2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394320" y="3459240"/>
              <a:ext cx="2295360" cy="377640"/>
            </a:xfrm>
            <a:custGeom>
              <a:avLst/>
              <a:gdLst/>
              <a:ahLst/>
              <a:rect l="l" t="t" r="r" b="b"/>
              <a:pathLst>
                <a:path w="1446" h="238">
                  <a:moveTo>
                    <a:pt x="0" y="19"/>
                  </a:moveTo>
                  <a:cubicBezTo>
                    <a:pt x="65" y="15"/>
                    <a:pt x="109" y="9"/>
                    <a:pt x="169" y="0"/>
                  </a:cubicBezTo>
                  <a:cubicBezTo>
                    <a:pt x="202" y="11"/>
                    <a:pt x="231" y="27"/>
                    <a:pt x="263" y="37"/>
                  </a:cubicBezTo>
                  <a:cubicBezTo>
                    <a:pt x="270" y="66"/>
                    <a:pt x="279" y="78"/>
                    <a:pt x="300" y="100"/>
                  </a:cubicBezTo>
                  <a:cubicBezTo>
                    <a:pt x="320" y="170"/>
                    <a:pt x="334" y="211"/>
                    <a:pt x="407" y="238"/>
                  </a:cubicBezTo>
                  <a:cubicBezTo>
                    <a:pt x="459" y="236"/>
                    <a:pt x="511" y="234"/>
                    <a:pt x="563" y="231"/>
                  </a:cubicBezTo>
                  <a:cubicBezTo>
                    <a:pt x="611" y="228"/>
                    <a:pt x="707" y="219"/>
                    <a:pt x="707" y="219"/>
                  </a:cubicBezTo>
                  <a:cubicBezTo>
                    <a:pt x="743" y="208"/>
                    <a:pt x="777" y="200"/>
                    <a:pt x="814" y="194"/>
                  </a:cubicBezTo>
                  <a:cubicBezTo>
                    <a:pt x="855" y="180"/>
                    <a:pt x="890" y="160"/>
                    <a:pt x="933" y="150"/>
                  </a:cubicBezTo>
                  <a:cubicBezTo>
                    <a:pt x="988" y="113"/>
                    <a:pt x="1042" y="117"/>
                    <a:pt x="1108" y="112"/>
                  </a:cubicBezTo>
                  <a:cubicBezTo>
                    <a:pt x="1148" y="116"/>
                    <a:pt x="1187" y="127"/>
                    <a:pt x="1227" y="131"/>
                  </a:cubicBezTo>
                  <a:cubicBezTo>
                    <a:pt x="1275" y="136"/>
                    <a:pt x="1371" y="144"/>
                    <a:pt x="1371" y="144"/>
                  </a:cubicBezTo>
                  <a:cubicBezTo>
                    <a:pt x="1402" y="140"/>
                    <a:pt x="1420" y="138"/>
                    <a:pt x="1446" y="12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019640" y="2514600"/>
              <a:ext cx="319320" cy="1511280"/>
            </a:xfrm>
            <a:custGeom>
              <a:avLst/>
              <a:gdLst/>
              <a:ahLst/>
              <a:rect l="l" t="t" r="r" b="b"/>
              <a:pathLst>
                <a:path w="201" h="952">
                  <a:moveTo>
                    <a:pt x="0" y="0"/>
                  </a:moveTo>
                  <a:cubicBezTo>
                    <a:pt x="3" y="31"/>
                    <a:pt x="9" y="140"/>
                    <a:pt x="32" y="169"/>
                  </a:cubicBezTo>
                  <a:cubicBezTo>
                    <a:pt x="52" y="195"/>
                    <a:pt x="86" y="218"/>
                    <a:pt x="113" y="238"/>
                  </a:cubicBezTo>
                  <a:cubicBezTo>
                    <a:pt x="128" y="262"/>
                    <a:pt x="163" y="307"/>
                    <a:pt x="163" y="307"/>
                  </a:cubicBezTo>
                  <a:cubicBezTo>
                    <a:pt x="178" y="355"/>
                    <a:pt x="157" y="296"/>
                    <a:pt x="182" y="344"/>
                  </a:cubicBezTo>
                  <a:cubicBezTo>
                    <a:pt x="197" y="373"/>
                    <a:pt x="197" y="421"/>
                    <a:pt x="201" y="451"/>
                  </a:cubicBezTo>
                  <a:cubicBezTo>
                    <a:pt x="192" y="518"/>
                    <a:pt x="184" y="585"/>
                    <a:pt x="169" y="651"/>
                  </a:cubicBezTo>
                  <a:cubicBezTo>
                    <a:pt x="171" y="709"/>
                    <a:pt x="172" y="768"/>
                    <a:pt x="176" y="826"/>
                  </a:cubicBezTo>
                  <a:cubicBezTo>
                    <a:pt x="178" y="856"/>
                    <a:pt x="184" y="885"/>
                    <a:pt x="188" y="914"/>
                  </a:cubicBezTo>
                  <a:cubicBezTo>
                    <a:pt x="190" y="927"/>
                    <a:pt x="201" y="952"/>
                    <a:pt x="201" y="9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5330880" y="3645000"/>
              <a:ext cx="1149120" cy="131760"/>
            </a:xfrm>
            <a:custGeom>
              <a:avLst/>
              <a:gdLst/>
              <a:ahLst/>
              <a:rect l="l" t="t" r="r" b="b"/>
              <a:pathLst>
                <a:path w="551" h="62">
                  <a:moveTo>
                    <a:pt x="0" y="62"/>
                  </a:moveTo>
                  <a:cubicBezTo>
                    <a:pt x="103" y="22"/>
                    <a:pt x="210" y="20"/>
                    <a:pt x="319" y="12"/>
                  </a:cubicBezTo>
                  <a:cubicBezTo>
                    <a:pt x="389" y="22"/>
                    <a:pt x="433" y="23"/>
                    <a:pt x="507" y="18"/>
                  </a:cubicBezTo>
                  <a:cubicBezTo>
                    <a:pt x="548" y="5"/>
                    <a:pt x="536" y="15"/>
                    <a:pt x="55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43640" y="3659040"/>
              <a:ext cx="2174760" cy="1162080"/>
            </a:xfrm>
            <a:custGeom>
              <a:avLst/>
              <a:gdLst/>
              <a:ahLst/>
              <a:rect l="l" t="t" r="r" b="b"/>
              <a:pathLst>
                <a:path w="1370" h="732">
                  <a:moveTo>
                    <a:pt x="0" y="12"/>
                  </a:moveTo>
                  <a:cubicBezTo>
                    <a:pt x="40" y="1"/>
                    <a:pt x="55" y="0"/>
                    <a:pt x="100" y="5"/>
                  </a:cubicBezTo>
                  <a:cubicBezTo>
                    <a:pt x="137" y="19"/>
                    <a:pt x="110" y="7"/>
                    <a:pt x="163" y="43"/>
                  </a:cubicBezTo>
                  <a:cubicBezTo>
                    <a:pt x="169" y="47"/>
                    <a:pt x="182" y="55"/>
                    <a:pt x="182" y="55"/>
                  </a:cubicBezTo>
                  <a:cubicBezTo>
                    <a:pt x="200" y="113"/>
                    <a:pt x="225" y="167"/>
                    <a:pt x="244" y="224"/>
                  </a:cubicBezTo>
                  <a:cubicBezTo>
                    <a:pt x="251" y="246"/>
                    <a:pt x="255" y="287"/>
                    <a:pt x="276" y="300"/>
                  </a:cubicBezTo>
                  <a:cubicBezTo>
                    <a:pt x="319" y="327"/>
                    <a:pt x="385" y="318"/>
                    <a:pt x="432" y="325"/>
                  </a:cubicBezTo>
                  <a:cubicBezTo>
                    <a:pt x="516" y="352"/>
                    <a:pt x="615" y="346"/>
                    <a:pt x="701" y="350"/>
                  </a:cubicBezTo>
                  <a:cubicBezTo>
                    <a:pt x="797" y="345"/>
                    <a:pt x="856" y="345"/>
                    <a:pt x="945" y="356"/>
                  </a:cubicBezTo>
                  <a:cubicBezTo>
                    <a:pt x="987" y="361"/>
                    <a:pt x="1071" y="368"/>
                    <a:pt x="1071" y="368"/>
                  </a:cubicBezTo>
                  <a:cubicBezTo>
                    <a:pt x="1151" y="386"/>
                    <a:pt x="1194" y="466"/>
                    <a:pt x="1271" y="494"/>
                  </a:cubicBezTo>
                  <a:cubicBezTo>
                    <a:pt x="1290" y="520"/>
                    <a:pt x="1312" y="532"/>
                    <a:pt x="1340" y="550"/>
                  </a:cubicBezTo>
                  <a:cubicBezTo>
                    <a:pt x="1346" y="554"/>
                    <a:pt x="1366" y="564"/>
                    <a:pt x="1359" y="562"/>
                  </a:cubicBezTo>
                  <a:cubicBezTo>
                    <a:pt x="1315" y="548"/>
                    <a:pt x="1370" y="565"/>
                    <a:pt x="1309" y="550"/>
                  </a:cubicBezTo>
                  <a:cubicBezTo>
                    <a:pt x="1303" y="548"/>
                    <a:pt x="1296" y="546"/>
                    <a:pt x="1290" y="544"/>
                  </a:cubicBezTo>
                  <a:cubicBezTo>
                    <a:pt x="1246" y="515"/>
                    <a:pt x="1266" y="524"/>
                    <a:pt x="1233" y="512"/>
                  </a:cubicBezTo>
                  <a:cubicBezTo>
                    <a:pt x="1198" y="519"/>
                    <a:pt x="1176" y="531"/>
                    <a:pt x="1140" y="537"/>
                  </a:cubicBezTo>
                  <a:cubicBezTo>
                    <a:pt x="1129" y="535"/>
                    <a:pt x="1119" y="534"/>
                    <a:pt x="1108" y="531"/>
                  </a:cubicBezTo>
                  <a:cubicBezTo>
                    <a:pt x="1095" y="528"/>
                    <a:pt x="1071" y="519"/>
                    <a:pt x="1071" y="519"/>
                  </a:cubicBezTo>
                  <a:cubicBezTo>
                    <a:pt x="1047" y="484"/>
                    <a:pt x="998" y="481"/>
                    <a:pt x="958" y="475"/>
                  </a:cubicBezTo>
                  <a:cubicBezTo>
                    <a:pt x="862" y="412"/>
                    <a:pt x="762" y="429"/>
                    <a:pt x="645" y="425"/>
                  </a:cubicBezTo>
                  <a:cubicBezTo>
                    <a:pt x="581" y="417"/>
                    <a:pt x="528" y="412"/>
                    <a:pt x="463" y="418"/>
                  </a:cubicBezTo>
                  <a:cubicBezTo>
                    <a:pt x="407" y="431"/>
                    <a:pt x="351" y="440"/>
                    <a:pt x="301" y="469"/>
                  </a:cubicBezTo>
                  <a:cubicBezTo>
                    <a:pt x="281" y="480"/>
                    <a:pt x="263" y="494"/>
                    <a:pt x="244" y="506"/>
                  </a:cubicBezTo>
                  <a:cubicBezTo>
                    <a:pt x="238" y="510"/>
                    <a:pt x="225" y="519"/>
                    <a:pt x="225" y="519"/>
                  </a:cubicBezTo>
                  <a:cubicBezTo>
                    <a:pt x="221" y="525"/>
                    <a:pt x="218" y="532"/>
                    <a:pt x="213" y="537"/>
                  </a:cubicBezTo>
                  <a:cubicBezTo>
                    <a:pt x="208" y="542"/>
                    <a:pt x="199" y="544"/>
                    <a:pt x="194" y="550"/>
                  </a:cubicBezTo>
                  <a:cubicBezTo>
                    <a:pt x="145" y="607"/>
                    <a:pt x="192" y="574"/>
                    <a:pt x="150" y="600"/>
                  </a:cubicBezTo>
                  <a:cubicBezTo>
                    <a:pt x="142" y="626"/>
                    <a:pt x="142" y="635"/>
                    <a:pt x="169" y="644"/>
                  </a:cubicBezTo>
                  <a:cubicBezTo>
                    <a:pt x="179" y="659"/>
                    <a:pt x="188" y="698"/>
                    <a:pt x="194" y="706"/>
                  </a:cubicBezTo>
                  <a:cubicBezTo>
                    <a:pt x="205" y="719"/>
                    <a:pt x="224" y="722"/>
                    <a:pt x="238" y="732"/>
                  </a:cubicBezTo>
                  <a:cubicBezTo>
                    <a:pt x="251" y="691"/>
                    <a:pt x="300" y="675"/>
                    <a:pt x="338" y="663"/>
                  </a:cubicBezTo>
                  <a:cubicBezTo>
                    <a:pt x="357" y="657"/>
                    <a:pt x="395" y="644"/>
                    <a:pt x="395" y="644"/>
                  </a:cubicBezTo>
                  <a:cubicBezTo>
                    <a:pt x="401" y="640"/>
                    <a:pt x="406" y="634"/>
                    <a:pt x="413" y="631"/>
                  </a:cubicBezTo>
                  <a:cubicBezTo>
                    <a:pt x="425" y="626"/>
                    <a:pt x="451" y="619"/>
                    <a:pt x="451" y="619"/>
                  </a:cubicBezTo>
                  <a:cubicBezTo>
                    <a:pt x="480" y="599"/>
                    <a:pt x="463" y="608"/>
                    <a:pt x="507" y="594"/>
                  </a:cubicBezTo>
                  <a:cubicBezTo>
                    <a:pt x="513" y="592"/>
                    <a:pt x="526" y="588"/>
                    <a:pt x="526" y="588"/>
                  </a:cubicBezTo>
                  <a:cubicBezTo>
                    <a:pt x="562" y="563"/>
                    <a:pt x="602" y="556"/>
                    <a:pt x="645" y="550"/>
                  </a:cubicBezTo>
                  <a:cubicBezTo>
                    <a:pt x="651" y="546"/>
                    <a:pt x="664" y="537"/>
                    <a:pt x="664" y="5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333840" y="4124160"/>
              <a:ext cx="1560600" cy="1660680"/>
            </a:xfrm>
            <a:custGeom>
              <a:avLst/>
              <a:gdLst/>
              <a:ahLst/>
              <a:rect l="l" t="t" r="r" b="b"/>
              <a:pathLst>
                <a:path w="983" h="1046">
                  <a:moveTo>
                    <a:pt x="0" y="0"/>
                  </a:moveTo>
                  <a:cubicBezTo>
                    <a:pt x="28" y="14"/>
                    <a:pt x="36" y="34"/>
                    <a:pt x="63" y="50"/>
                  </a:cubicBezTo>
                  <a:cubicBezTo>
                    <a:pt x="102" y="72"/>
                    <a:pt x="61" y="36"/>
                    <a:pt x="107" y="75"/>
                  </a:cubicBezTo>
                  <a:cubicBezTo>
                    <a:pt x="114" y="81"/>
                    <a:pt x="117" y="90"/>
                    <a:pt x="125" y="94"/>
                  </a:cubicBezTo>
                  <a:cubicBezTo>
                    <a:pt x="138" y="102"/>
                    <a:pt x="156" y="99"/>
                    <a:pt x="169" y="107"/>
                  </a:cubicBezTo>
                  <a:cubicBezTo>
                    <a:pt x="223" y="137"/>
                    <a:pt x="169" y="116"/>
                    <a:pt x="213" y="132"/>
                  </a:cubicBezTo>
                  <a:cubicBezTo>
                    <a:pt x="228" y="193"/>
                    <a:pt x="244" y="185"/>
                    <a:pt x="276" y="232"/>
                  </a:cubicBezTo>
                  <a:cubicBezTo>
                    <a:pt x="286" y="263"/>
                    <a:pt x="286" y="295"/>
                    <a:pt x="294" y="326"/>
                  </a:cubicBezTo>
                  <a:cubicBezTo>
                    <a:pt x="301" y="352"/>
                    <a:pt x="316" y="362"/>
                    <a:pt x="332" y="382"/>
                  </a:cubicBezTo>
                  <a:cubicBezTo>
                    <a:pt x="354" y="411"/>
                    <a:pt x="370" y="449"/>
                    <a:pt x="395" y="476"/>
                  </a:cubicBezTo>
                  <a:cubicBezTo>
                    <a:pt x="416" y="499"/>
                    <a:pt x="424" y="510"/>
                    <a:pt x="451" y="526"/>
                  </a:cubicBezTo>
                  <a:cubicBezTo>
                    <a:pt x="464" y="534"/>
                    <a:pt x="489" y="551"/>
                    <a:pt x="489" y="551"/>
                  </a:cubicBezTo>
                  <a:cubicBezTo>
                    <a:pt x="496" y="572"/>
                    <a:pt x="520" y="608"/>
                    <a:pt x="520" y="608"/>
                  </a:cubicBezTo>
                  <a:cubicBezTo>
                    <a:pt x="529" y="636"/>
                    <a:pt x="531" y="669"/>
                    <a:pt x="545" y="695"/>
                  </a:cubicBezTo>
                  <a:cubicBezTo>
                    <a:pt x="564" y="731"/>
                    <a:pt x="583" y="751"/>
                    <a:pt x="595" y="789"/>
                  </a:cubicBezTo>
                  <a:cubicBezTo>
                    <a:pt x="597" y="818"/>
                    <a:pt x="594" y="848"/>
                    <a:pt x="601" y="877"/>
                  </a:cubicBezTo>
                  <a:cubicBezTo>
                    <a:pt x="603" y="884"/>
                    <a:pt x="634" y="894"/>
                    <a:pt x="639" y="896"/>
                  </a:cubicBezTo>
                  <a:cubicBezTo>
                    <a:pt x="672" y="906"/>
                    <a:pt x="707" y="914"/>
                    <a:pt x="739" y="927"/>
                  </a:cubicBezTo>
                  <a:cubicBezTo>
                    <a:pt x="758" y="935"/>
                    <a:pt x="786" y="944"/>
                    <a:pt x="802" y="958"/>
                  </a:cubicBezTo>
                  <a:cubicBezTo>
                    <a:pt x="823" y="976"/>
                    <a:pt x="825" y="993"/>
                    <a:pt x="852" y="1002"/>
                  </a:cubicBezTo>
                  <a:cubicBezTo>
                    <a:pt x="888" y="1040"/>
                    <a:pt x="929" y="1046"/>
                    <a:pt x="983" y="104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7199280" y="4437000"/>
              <a:ext cx="450720" cy="1417680"/>
            </a:xfrm>
            <a:custGeom>
              <a:avLst/>
              <a:gdLst/>
              <a:ahLst/>
              <a:rect l="l" t="t" r="r" b="b"/>
              <a:pathLst>
                <a:path w="218" h="796">
                  <a:moveTo>
                    <a:pt x="153" y="796"/>
                  </a:moveTo>
                  <a:cubicBezTo>
                    <a:pt x="158" y="744"/>
                    <a:pt x="172" y="700"/>
                    <a:pt x="191" y="652"/>
                  </a:cubicBezTo>
                  <a:cubicBezTo>
                    <a:pt x="203" y="575"/>
                    <a:pt x="206" y="497"/>
                    <a:pt x="216" y="420"/>
                  </a:cubicBezTo>
                  <a:cubicBezTo>
                    <a:pt x="214" y="399"/>
                    <a:pt x="218" y="376"/>
                    <a:pt x="209" y="357"/>
                  </a:cubicBezTo>
                  <a:cubicBezTo>
                    <a:pt x="202" y="344"/>
                    <a:pt x="184" y="340"/>
                    <a:pt x="172" y="332"/>
                  </a:cubicBezTo>
                  <a:cubicBezTo>
                    <a:pt x="166" y="328"/>
                    <a:pt x="153" y="320"/>
                    <a:pt x="153" y="320"/>
                  </a:cubicBezTo>
                  <a:cubicBezTo>
                    <a:pt x="132" y="252"/>
                    <a:pt x="143" y="148"/>
                    <a:pt x="109" y="101"/>
                  </a:cubicBezTo>
                  <a:cubicBezTo>
                    <a:pt x="91" y="44"/>
                    <a:pt x="82" y="38"/>
                    <a:pt x="28" y="13"/>
                  </a:cubicBezTo>
                  <a:cubicBezTo>
                    <a:pt x="0" y="0"/>
                    <a:pt x="18" y="1"/>
                    <a:pt x="3" y="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7785000" y="3498840"/>
              <a:ext cx="377640" cy="1481040"/>
            </a:xfrm>
            <a:custGeom>
              <a:avLst/>
              <a:gdLst/>
              <a:ahLst/>
              <a:rect l="l" t="t" r="r" b="b"/>
              <a:pathLst>
                <a:path w="238" h="933">
                  <a:moveTo>
                    <a:pt x="238" y="0"/>
                  </a:moveTo>
                  <a:cubicBezTo>
                    <a:pt x="232" y="79"/>
                    <a:pt x="230" y="202"/>
                    <a:pt x="207" y="275"/>
                  </a:cubicBezTo>
                  <a:cubicBezTo>
                    <a:pt x="189" y="332"/>
                    <a:pt x="157" y="380"/>
                    <a:pt x="144" y="438"/>
                  </a:cubicBezTo>
                  <a:cubicBezTo>
                    <a:pt x="148" y="461"/>
                    <a:pt x="157" y="484"/>
                    <a:pt x="157" y="507"/>
                  </a:cubicBezTo>
                  <a:cubicBezTo>
                    <a:pt x="157" y="532"/>
                    <a:pt x="137" y="570"/>
                    <a:pt x="132" y="595"/>
                  </a:cubicBezTo>
                  <a:cubicBezTo>
                    <a:pt x="137" y="634"/>
                    <a:pt x="144" y="660"/>
                    <a:pt x="132" y="701"/>
                  </a:cubicBezTo>
                  <a:cubicBezTo>
                    <a:pt x="123" y="731"/>
                    <a:pt x="72" y="792"/>
                    <a:pt x="50" y="814"/>
                  </a:cubicBezTo>
                  <a:cubicBezTo>
                    <a:pt x="42" y="837"/>
                    <a:pt x="36" y="866"/>
                    <a:pt x="25" y="889"/>
                  </a:cubicBezTo>
                  <a:cubicBezTo>
                    <a:pt x="18" y="903"/>
                    <a:pt x="0" y="917"/>
                    <a:pt x="0" y="93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7535880" y="3338280"/>
              <a:ext cx="133200" cy="876600"/>
            </a:xfrm>
            <a:custGeom>
              <a:avLst/>
              <a:gdLst/>
              <a:ahLst/>
              <a:rect l="l" t="t" r="r" b="b"/>
              <a:pathLst>
                <a:path w="84" h="552">
                  <a:moveTo>
                    <a:pt x="1" y="7"/>
                  </a:moveTo>
                  <a:cubicBezTo>
                    <a:pt x="15" y="52"/>
                    <a:pt x="0" y="0"/>
                    <a:pt x="13" y="88"/>
                  </a:cubicBezTo>
                  <a:cubicBezTo>
                    <a:pt x="24" y="165"/>
                    <a:pt x="40" y="246"/>
                    <a:pt x="63" y="320"/>
                  </a:cubicBezTo>
                  <a:cubicBezTo>
                    <a:pt x="67" y="393"/>
                    <a:pt x="84" y="481"/>
                    <a:pt x="51" y="5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7040520" y="4681440"/>
              <a:ext cx="1063440" cy="447840"/>
            </a:xfrm>
            <a:custGeom>
              <a:avLst/>
              <a:gdLst/>
              <a:ahLst/>
              <a:rect l="l" t="t" r="r" b="b"/>
              <a:pathLst>
                <a:path w="670" h="282">
                  <a:moveTo>
                    <a:pt x="0" y="282"/>
                  </a:moveTo>
                  <a:cubicBezTo>
                    <a:pt x="43" y="253"/>
                    <a:pt x="23" y="262"/>
                    <a:pt x="56" y="250"/>
                  </a:cubicBezTo>
                  <a:cubicBezTo>
                    <a:pt x="80" y="227"/>
                    <a:pt x="106" y="217"/>
                    <a:pt x="137" y="206"/>
                  </a:cubicBezTo>
                  <a:cubicBezTo>
                    <a:pt x="150" y="202"/>
                    <a:pt x="175" y="194"/>
                    <a:pt x="175" y="194"/>
                  </a:cubicBezTo>
                  <a:cubicBezTo>
                    <a:pt x="254" y="199"/>
                    <a:pt x="325" y="213"/>
                    <a:pt x="400" y="238"/>
                  </a:cubicBezTo>
                  <a:cubicBezTo>
                    <a:pt x="413" y="230"/>
                    <a:pt x="425" y="221"/>
                    <a:pt x="438" y="213"/>
                  </a:cubicBezTo>
                  <a:cubicBezTo>
                    <a:pt x="444" y="209"/>
                    <a:pt x="457" y="200"/>
                    <a:pt x="457" y="200"/>
                  </a:cubicBezTo>
                  <a:cubicBezTo>
                    <a:pt x="476" y="169"/>
                    <a:pt x="510" y="149"/>
                    <a:pt x="544" y="138"/>
                  </a:cubicBezTo>
                  <a:cubicBezTo>
                    <a:pt x="568" y="114"/>
                    <a:pt x="592" y="106"/>
                    <a:pt x="620" y="88"/>
                  </a:cubicBezTo>
                  <a:cubicBezTo>
                    <a:pt x="639" y="58"/>
                    <a:pt x="643" y="25"/>
                    <a:pt x="6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7178400" y="5406840"/>
              <a:ext cx="617760" cy="158760"/>
            </a:xfrm>
            <a:custGeom>
              <a:avLst/>
              <a:gdLst/>
              <a:ahLst/>
              <a:rect l="l" t="t" r="r" b="b"/>
              <a:pathLst>
                <a:path w="389" h="100">
                  <a:moveTo>
                    <a:pt x="0" y="31"/>
                  </a:moveTo>
                  <a:cubicBezTo>
                    <a:pt x="52" y="21"/>
                    <a:pt x="106" y="16"/>
                    <a:pt x="157" y="0"/>
                  </a:cubicBezTo>
                  <a:cubicBezTo>
                    <a:pt x="180" y="2"/>
                    <a:pt x="203" y="3"/>
                    <a:pt x="226" y="6"/>
                  </a:cubicBezTo>
                  <a:cubicBezTo>
                    <a:pt x="256" y="10"/>
                    <a:pt x="281" y="41"/>
                    <a:pt x="307" y="56"/>
                  </a:cubicBezTo>
                  <a:cubicBezTo>
                    <a:pt x="323" y="65"/>
                    <a:pt x="335" y="80"/>
                    <a:pt x="351" y="88"/>
                  </a:cubicBezTo>
                  <a:cubicBezTo>
                    <a:pt x="363" y="94"/>
                    <a:pt x="389" y="100"/>
                    <a:pt x="389"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811920" y="4333680"/>
              <a:ext cx="555480" cy="1113120"/>
            </a:xfrm>
            <a:custGeom>
              <a:avLst/>
              <a:gdLst/>
              <a:ahLst/>
              <a:rect l="l" t="t" r="r" b="b"/>
              <a:pathLst>
                <a:path w="350" h="701">
                  <a:moveTo>
                    <a:pt x="0" y="0"/>
                  </a:moveTo>
                  <a:cubicBezTo>
                    <a:pt x="10" y="51"/>
                    <a:pt x="16" y="54"/>
                    <a:pt x="56" y="87"/>
                  </a:cubicBezTo>
                  <a:cubicBezTo>
                    <a:pt x="70" y="99"/>
                    <a:pt x="100" y="119"/>
                    <a:pt x="100" y="119"/>
                  </a:cubicBezTo>
                  <a:cubicBezTo>
                    <a:pt x="110" y="140"/>
                    <a:pt x="118" y="159"/>
                    <a:pt x="125" y="181"/>
                  </a:cubicBezTo>
                  <a:cubicBezTo>
                    <a:pt x="122" y="235"/>
                    <a:pt x="96" y="317"/>
                    <a:pt x="163" y="338"/>
                  </a:cubicBezTo>
                  <a:cubicBezTo>
                    <a:pt x="193" y="358"/>
                    <a:pt x="228" y="367"/>
                    <a:pt x="263" y="375"/>
                  </a:cubicBezTo>
                  <a:cubicBezTo>
                    <a:pt x="276" y="416"/>
                    <a:pt x="282" y="451"/>
                    <a:pt x="288" y="494"/>
                  </a:cubicBezTo>
                  <a:cubicBezTo>
                    <a:pt x="291" y="513"/>
                    <a:pt x="288" y="536"/>
                    <a:pt x="300" y="551"/>
                  </a:cubicBezTo>
                  <a:cubicBezTo>
                    <a:pt x="307" y="559"/>
                    <a:pt x="317" y="563"/>
                    <a:pt x="325" y="569"/>
                  </a:cubicBezTo>
                  <a:cubicBezTo>
                    <a:pt x="344" y="620"/>
                    <a:pt x="350" y="647"/>
                    <a:pt x="350" y="70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881760" y="2884320"/>
              <a:ext cx="1406520" cy="1736640"/>
            </a:xfrm>
            <a:custGeom>
              <a:avLst/>
              <a:gdLst/>
              <a:ahLst/>
              <a:rect l="l" t="t" r="r" b="b"/>
              <a:pathLst>
                <a:path w="886" h="1094">
                  <a:moveTo>
                    <a:pt x="0" y="61"/>
                  </a:moveTo>
                  <a:cubicBezTo>
                    <a:pt x="25" y="59"/>
                    <a:pt x="71" y="57"/>
                    <a:pt x="100" y="49"/>
                  </a:cubicBezTo>
                  <a:cubicBezTo>
                    <a:pt x="113" y="46"/>
                    <a:pt x="125" y="40"/>
                    <a:pt x="137" y="36"/>
                  </a:cubicBezTo>
                  <a:cubicBezTo>
                    <a:pt x="143" y="34"/>
                    <a:pt x="156" y="30"/>
                    <a:pt x="156" y="30"/>
                  </a:cubicBezTo>
                  <a:cubicBezTo>
                    <a:pt x="200" y="0"/>
                    <a:pt x="227" y="18"/>
                    <a:pt x="275" y="36"/>
                  </a:cubicBezTo>
                  <a:cubicBezTo>
                    <a:pt x="293" y="43"/>
                    <a:pt x="331" y="55"/>
                    <a:pt x="331" y="55"/>
                  </a:cubicBezTo>
                  <a:cubicBezTo>
                    <a:pt x="449" y="51"/>
                    <a:pt x="553" y="41"/>
                    <a:pt x="669" y="55"/>
                  </a:cubicBezTo>
                  <a:cubicBezTo>
                    <a:pt x="698" y="64"/>
                    <a:pt x="729" y="64"/>
                    <a:pt x="757" y="74"/>
                  </a:cubicBezTo>
                  <a:cubicBezTo>
                    <a:pt x="774" y="80"/>
                    <a:pt x="786" y="95"/>
                    <a:pt x="801" y="105"/>
                  </a:cubicBezTo>
                  <a:cubicBezTo>
                    <a:pt x="825" y="154"/>
                    <a:pt x="849" y="200"/>
                    <a:pt x="857" y="255"/>
                  </a:cubicBezTo>
                  <a:cubicBezTo>
                    <a:pt x="860" y="276"/>
                    <a:pt x="860" y="297"/>
                    <a:pt x="864" y="318"/>
                  </a:cubicBezTo>
                  <a:cubicBezTo>
                    <a:pt x="866" y="331"/>
                    <a:pt x="876" y="356"/>
                    <a:pt x="876" y="356"/>
                  </a:cubicBezTo>
                  <a:cubicBezTo>
                    <a:pt x="886" y="456"/>
                    <a:pt x="884" y="410"/>
                    <a:pt x="876" y="550"/>
                  </a:cubicBezTo>
                  <a:cubicBezTo>
                    <a:pt x="871" y="644"/>
                    <a:pt x="851" y="735"/>
                    <a:pt x="826" y="825"/>
                  </a:cubicBezTo>
                  <a:cubicBezTo>
                    <a:pt x="816" y="861"/>
                    <a:pt x="815" y="885"/>
                    <a:pt x="782" y="906"/>
                  </a:cubicBezTo>
                  <a:cubicBezTo>
                    <a:pt x="770" y="925"/>
                    <a:pt x="764" y="942"/>
                    <a:pt x="757" y="963"/>
                  </a:cubicBezTo>
                  <a:cubicBezTo>
                    <a:pt x="753" y="996"/>
                    <a:pt x="746" y="1019"/>
                    <a:pt x="738" y="1050"/>
                  </a:cubicBezTo>
                  <a:cubicBezTo>
                    <a:pt x="736" y="1059"/>
                    <a:pt x="734" y="1067"/>
                    <a:pt x="732" y="1076"/>
                  </a:cubicBezTo>
                  <a:cubicBezTo>
                    <a:pt x="730" y="1082"/>
                    <a:pt x="726" y="1094"/>
                    <a:pt x="726" y="109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016840" y="4322520"/>
              <a:ext cx="334800" cy="417600"/>
            </a:xfrm>
            <a:custGeom>
              <a:avLst/>
              <a:gdLst/>
              <a:ahLst/>
              <a:rect l="l" t="t" r="r" b="b"/>
              <a:pathLst>
                <a:path w="211" h="263">
                  <a:moveTo>
                    <a:pt x="11" y="0"/>
                  </a:moveTo>
                  <a:cubicBezTo>
                    <a:pt x="55" y="16"/>
                    <a:pt x="0" y="0"/>
                    <a:pt x="61" y="0"/>
                  </a:cubicBezTo>
                  <a:cubicBezTo>
                    <a:pt x="76" y="0"/>
                    <a:pt x="90" y="5"/>
                    <a:pt x="105" y="7"/>
                  </a:cubicBezTo>
                  <a:cubicBezTo>
                    <a:pt x="114" y="35"/>
                    <a:pt x="131" y="66"/>
                    <a:pt x="155" y="82"/>
                  </a:cubicBezTo>
                  <a:cubicBezTo>
                    <a:pt x="179" y="121"/>
                    <a:pt x="155" y="134"/>
                    <a:pt x="142" y="170"/>
                  </a:cubicBezTo>
                  <a:cubicBezTo>
                    <a:pt x="159" y="203"/>
                    <a:pt x="185" y="237"/>
                    <a:pt x="211" y="2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342280" y="4114800"/>
              <a:ext cx="149040" cy="387360"/>
            </a:xfrm>
            <a:custGeom>
              <a:avLst/>
              <a:gdLst/>
              <a:ahLst/>
              <a:rect l="l" t="t" r="r" b="b"/>
              <a:pathLst>
                <a:path w="94" h="244">
                  <a:moveTo>
                    <a:pt x="94" y="0"/>
                  </a:moveTo>
                  <a:cubicBezTo>
                    <a:pt x="90" y="21"/>
                    <a:pt x="74" y="97"/>
                    <a:pt x="63" y="113"/>
                  </a:cubicBezTo>
                  <a:cubicBezTo>
                    <a:pt x="59" y="119"/>
                    <a:pt x="50" y="121"/>
                    <a:pt x="44" y="125"/>
                  </a:cubicBezTo>
                  <a:cubicBezTo>
                    <a:pt x="33" y="155"/>
                    <a:pt x="21" y="185"/>
                    <a:pt x="6" y="213"/>
                  </a:cubicBezTo>
                  <a:cubicBezTo>
                    <a:pt x="0" y="240"/>
                    <a:pt x="0" y="229"/>
                    <a:pt x="0" y="2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470800" y="4243320"/>
              <a:ext cx="179280" cy="349200"/>
            </a:xfrm>
            <a:custGeom>
              <a:avLst/>
              <a:gdLst/>
              <a:ahLst/>
              <a:rect l="l" t="t" r="r" b="b"/>
              <a:pathLst>
                <a:path w="113" h="220">
                  <a:moveTo>
                    <a:pt x="113" y="0"/>
                  </a:moveTo>
                  <a:cubicBezTo>
                    <a:pt x="97" y="24"/>
                    <a:pt x="86" y="55"/>
                    <a:pt x="63" y="69"/>
                  </a:cubicBezTo>
                  <a:cubicBezTo>
                    <a:pt x="42" y="100"/>
                    <a:pt x="28" y="126"/>
                    <a:pt x="19" y="163"/>
                  </a:cubicBezTo>
                  <a:cubicBezTo>
                    <a:pt x="16" y="174"/>
                    <a:pt x="16" y="220"/>
                    <a:pt x="0" y="2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149960" y="3011400"/>
              <a:ext cx="1197000" cy="934920"/>
            </a:xfrm>
            <a:custGeom>
              <a:avLst/>
              <a:gdLst/>
              <a:ahLst/>
              <a:rect l="l" t="t" r="r" b="b"/>
              <a:pathLst>
                <a:path w="754" h="589">
                  <a:moveTo>
                    <a:pt x="0" y="470"/>
                  </a:moveTo>
                  <a:cubicBezTo>
                    <a:pt x="56" y="465"/>
                    <a:pt x="103" y="462"/>
                    <a:pt x="156" y="445"/>
                  </a:cubicBezTo>
                  <a:cubicBezTo>
                    <a:pt x="189" y="423"/>
                    <a:pt x="224" y="399"/>
                    <a:pt x="250" y="369"/>
                  </a:cubicBezTo>
                  <a:cubicBezTo>
                    <a:pt x="260" y="358"/>
                    <a:pt x="265" y="343"/>
                    <a:pt x="275" y="332"/>
                  </a:cubicBezTo>
                  <a:cubicBezTo>
                    <a:pt x="310" y="296"/>
                    <a:pt x="279" y="345"/>
                    <a:pt x="313" y="301"/>
                  </a:cubicBezTo>
                  <a:cubicBezTo>
                    <a:pt x="337" y="271"/>
                    <a:pt x="347" y="237"/>
                    <a:pt x="369" y="207"/>
                  </a:cubicBezTo>
                  <a:cubicBezTo>
                    <a:pt x="372" y="193"/>
                    <a:pt x="385" y="155"/>
                    <a:pt x="394" y="144"/>
                  </a:cubicBezTo>
                  <a:cubicBezTo>
                    <a:pt x="404" y="131"/>
                    <a:pt x="420" y="125"/>
                    <a:pt x="432" y="113"/>
                  </a:cubicBezTo>
                  <a:cubicBezTo>
                    <a:pt x="444" y="75"/>
                    <a:pt x="469" y="56"/>
                    <a:pt x="507" y="44"/>
                  </a:cubicBezTo>
                  <a:cubicBezTo>
                    <a:pt x="534" y="23"/>
                    <a:pt x="556" y="10"/>
                    <a:pt x="588" y="0"/>
                  </a:cubicBezTo>
                  <a:cubicBezTo>
                    <a:pt x="640" y="4"/>
                    <a:pt x="688" y="9"/>
                    <a:pt x="738" y="19"/>
                  </a:cubicBezTo>
                  <a:cubicBezTo>
                    <a:pt x="754" y="63"/>
                    <a:pt x="729" y="83"/>
                    <a:pt x="695" y="106"/>
                  </a:cubicBezTo>
                  <a:cubicBezTo>
                    <a:pt x="642" y="142"/>
                    <a:pt x="586" y="167"/>
                    <a:pt x="526" y="188"/>
                  </a:cubicBezTo>
                  <a:cubicBezTo>
                    <a:pt x="519" y="190"/>
                    <a:pt x="514" y="197"/>
                    <a:pt x="507" y="200"/>
                  </a:cubicBezTo>
                  <a:cubicBezTo>
                    <a:pt x="501" y="203"/>
                    <a:pt x="494" y="205"/>
                    <a:pt x="488" y="207"/>
                  </a:cubicBezTo>
                  <a:cubicBezTo>
                    <a:pt x="475" y="211"/>
                    <a:pt x="450" y="219"/>
                    <a:pt x="450" y="219"/>
                  </a:cubicBezTo>
                  <a:cubicBezTo>
                    <a:pt x="422" y="262"/>
                    <a:pt x="399" y="296"/>
                    <a:pt x="356" y="326"/>
                  </a:cubicBezTo>
                  <a:cubicBezTo>
                    <a:pt x="336" y="386"/>
                    <a:pt x="281" y="424"/>
                    <a:pt x="231" y="457"/>
                  </a:cubicBezTo>
                  <a:cubicBezTo>
                    <a:pt x="210" y="471"/>
                    <a:pt x="175" y="507"/>
                    <a:pt x="175" y="507"/>
                  </a:cubicBezTo>
                  <a:cubicBezTo>
                    <a:pt x="165" y="540"/>
                    <a:pt x="157" y="575"/>
                    <a:pt x="194" y="589"/>
                  </a:cubicBezTo>
                  <a:cubicBezTo>
                    <a:pt x="292" y="581"/>
                    <a:pt x="390" y="558"/>
                    <a:pt x="488" y="545"/>
                  </a:cubicBezTo>
                  <a:cubicBezTo>
                    <a:pt x="500" y="507"/>
                    <a:pt x="503" y="471"/>
                    <a:pt x="526" y="438"/>
                  </a:cubicBezTo>
                  <a:cubicBezTo>
                    <a:pt x="534" y="413"/>
                    <a:pt x="545" y="396"/>
                    <a:pt x="551" y="369"/>
                  </a:cubicBezTo>
                  <a:cubicBezTo>
                    <a:pt x="541" y="333"/>
                    <a:pt x="524" y="299"/>
                    <a:pt x="513" y="263"/>
                  </a:cubicBezTo>
                  <a:cubicBezTo>
                    <a:pt x="509" y="234"/>
                    <a:pt x="505" y="180"/>
                    <a:pt x="482" y="157"/>
                  </a:cubicBezTo>
                  <a:cubicBezTo>
                    <a:pt x="473" y="148"/>
                    <a:pt x="444" y="143"/>
                    <a:pt x="444" y="1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7824600" y="2892240"/>
              <a:ext cx="366840" cy="417600"/>
            </a:xfrm>
            <a:custGeom>
              <a:avLst/>
              <a:gdLst/>
              <a:ahLst/>
              <a:rect l="l" t="t" r="r" b="b"/>
              <a:pathLst>
                <a:path w="231" h="263">
                  <a:moveTo>
                    <a:pt x="0" y="263"/>
                  </a:moveTo>
                  <a:cubicBezTo>
                    <a:pt x="15" y="223"/>
                    <a:pt x="36" y="213"/>
                    <a:pt x="75" y="200"/>
                  </a:cubicBezTo>
                  <a:cubicBezTo>
                    <a:pt x="88" y="196"/>
                    <a:pt x="113" y="188"/>
                    <a:pt x="113" y="188"/>
                  </a:cubicBezTo>
                  <a:cubicBezTo>
                    <a:pt x="138" y="171"/>
                    <a:pt x="163" y="154"/>
                    <a:pt x="188" y="138"/>
                  </a:cubicBezTo>
                  <a:cubicBezTo>
                    <a:pt x="231" y="72"/>
                    <a:pt x="213" y="115"/>
                    <a:pt x="21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7149960" y="3002040"/>
              <a:ext cx="754200" cy="198360"/>
            </a:xfrm>
            <a:custGeom>
              <a:avLst/>
              <a:gdLst/>
              <a:ahLst/>
              <a:rect l="l" t="t" r="r" b="b"/>
              <a:pathLst>
                <a:path w="475" h="125">
                  <a:moveTo>
                    <a:pt x="0" y="112"/>
                  </a:moveTo>
                  <a:cubicBezTo>
                    <a:pt x="73" y="103"/>
                    <a:pt x="147" y="111"/>
                    <a:pt x="219" y="125"/>
                  </a:cubicBezTo>
                  <a:cubicBezTo>
                    <a:pt x="269" y="120"/>
                    <a:pt x="330" y="112"/>
                    <a:pt x="375" y="87"/>
                  </a:cubicBezTo>
                  <a:cubicBezTo>
                    <a:pt x="404" y="71"/>
                    <a:pt x="423" y="50"/>
                    <a:pt x="450" y="31"/>
                  </a:cubicBezTo>
                  <a:cubicBezTo>
                    <a:pt x="466" y="7"/>
                    <a:pt x="458" y="17"/>
                    <a:pt x="47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7796160" y="2801880"/>
              <a:ext cx="744480" cy="66600"/>
            </a:xfrm>
            <a:custGeom>
              <a:avLst/>
              <a:gdLst/>
              <a:ahLst/>
              <a:rect l="l" t="t" r="r" b="b"/>
              <a:pathLst>
                <a:path w="469" h="42">
                  <a:moveTo>
                    <a:pt x="0" y="7"/>
                  </a:moveTo>
                  <a:cubicBezTo>
                    <a:pt x="90" y="0"/>
                    <a:pt x="174" y="9"/>
                    <a:pt x="263" y="19"/>
                  </a:cubicBezTo>
                  <a:cubicBezTo>
                    <a:pt x="323" y="42"/>
                    <a:pt x="383" y="19"/>
                    <a:pt x="444" y="13"/>
                  </a:cubicBezTo>
                  <a:cubicBezTo>
                    <a:pt x="466" y="6"/>
                    <a:pt x="458" y="12"/>
                    <a:pt x="469" y="1"/>
                  </a:cubicBez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17" name=""/>
            <p:cNvSpPr/>
            <p:nvPr/>
          </p:nvSpPr>
          <p:spPr>
            <a:xfrm>
              <a:off x="7308720" y="3946320"/>
              <a:ext cx="128520" cy="257400"/>
            </a:xfrm>
            <a:custGeom>
              <a:avLst/>
              <a:gdLst/>
              <a:ahLst/>
              <a:rect l="l" t="t" r="r" b="b"/>
              <a:pathLst>
                <a:path w="81" h="162">
                  <a:moveTo>
                    <a:pt x="81" y="0"/>
                  </a:moveTo>
                  <a:cubicBezTo>
                    <a:pt x="24" y="14"/>
                    <a:pt x="25" y="44"/>
                    <a:pt x="12" y="100"/>
                  </a:cubicBezTo>
                  <a:cubicBezTo>
                    <a:pt x="7" y="121"/>
                    <a:pt x="0" y="162"/>
                    <a:pt x="0" y="1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7864200" y="3956040"/>
              <a:ext cx="547920" cy="69840"/>
            </a:xfrm>
            <a:custGeom>
              <a:avLst/>
              <a:gdLst/>
              <a:ahLst/>
              <a:rect l="l" t="t" r="r" b="b"/>
              <a:pathLst>
                <a:path w="345" h="44">
                  <a:moveTo>
                    <a:pt x="0" y="19"/>
                  </a:moveTo>
                  <a:cubicBezTo>
                    <a:pt x="19" y="12"/>
                    <a:pt x="57" y="0"/>
                    <a:pt x="57" y="0"/>
                  </a:cubicBezTo>
                  <a:cubicBezTo>
                    <a:pt x="151" y="6"/>
                    <a:pt x="142" y="4"/>
                    <a:pt x="238" y="19"/>
                  </a:cubicBezTo>
                  <a:cubicBezTo>
                    <a:pt x="264" y="23"/>
                    <a:pt x="302" y="28"/>
                    <a:pt x="326" y="37"/>
                  </a:cubicBezTo>
                  <a:cubicBezTo>
                    <a:pt x="332" y="39"/>
                    <a:pt x="345" y="44"/>
                    <a:pt x="345" y="44"/>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9" name=""/>
            <p:cNvSpPr/>
            <p:nvPr/>
          </p:nvSpPr>
          <p:spPr>
            <a:xfrm>
              <a:off x="7845480" y="4114800"/>
              <a:ext cx="488880" cy="119160"/>
            </a:xfrm>
            <a:custGeom>
              <a:avLst/>
              <a:gdLst/>
              <a:ahLst/>
              <a:rect l="l" t="t" r="r" b="b"/>
              <a:pathLst>
                <a:path w="308" h="75">
                  <a:moveTo>
                    <a:pt x="0" y="25"/>
                  </a:moveTo>
                  <a:cubicBezTo>
                    <a:pt x="21" y="12"/>
                    <a:pt x="37" y="6"/>
                    <a:pt x="62" y="0"/>
                  </a:cubicBezTo>
                  <a:cubicBezTo>
                    <a:pt x="102" y="5"/>
                    <a:pt x="142" y="11"/>
                    <a:pt x="181" y="19"/>
                  </a:cubicBezTo>
                  <a:cubicBezTo>
                    <a:pt x="198" y="22"/>
                    <a:pt x="232" y="31"/>
                    <a:pt x="232" y="31"/>
                  </a:cubicBezTo>
                  <a:cubicBezTo>
                    <a:pt x="254" y="43"/>
                    <a:pt x="308" y="48"/>
                    <a:pt x="294" y="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397640" y="4903560"/>
              <a:ext cx="358920" cy="25560"/>
            </a:xfrm>
            <a:custGeom>
              <a:avLst/>
              <a:gdLst/>
              <a:ahLst/>
              <a:rect l="l" t="t" r="r" b="b"/>
              <a:pathLst>
                <a:path w="226" h="16">
                  <a:moveTo>
                    <a:pt x="0" y="10"/>
                  </a:moveTo>
                  <a:cubicBezTo>
                    <a:pt x="77" y="0"/>
                    <a:pt x="150" y="16"/>
                    <a:pt x="226" y="16"/>
                  </a:cubicBezTo>
                </a:path>
              </a:pathLst>
            </a:custGeom>
            <a:noFill/>
            <a:ln w="936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21" name=""/>
            <p:cNvSpPr/>
            <p:nvPr/>
          </p:nvSpPr>
          <p:spPr>
            <a:xfrm>
              <a:off x="7675560" y="5575320"/>
              <a:ext cx="90360" cy="298440"/>
            </a:xfrm>
            <a:custGeom>
              <a:avLst/>
              <a:gdLst/>
              <a:ahLst/>
              <a:rect l="l" t="t" r="r" b="b"/>
              <a:pathLst>
                <a:path w="57" h="188">
                  <a:moveTo>
                    <a:pt x="57" y="0"/>
                  </a:moveTo>
                  <a:cubicBezTo>
                    <a:pt x="40" y="24"/>
                    <a:pt x="36" y="51"/>
                    <a:pt x="19" y="75"/>
                  </a:cubicBezTo>
                  <a:cubicBezTo>
                    <a:pt x="12" y="96"/>
                    <a:pt x="8" y="117"/>
                    <a:pt x="0" y="138"/>
                  </a:cubicBezTo>
                  <a:cubicBezTo>
                    <a:pt x="7" y="156"/>
                    <a:pt x="16" y="171"/>
                    <a:pt x="25" y="1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7711920" y="4508280"/>
              <a:ext cx="208080" cy="128880"/>
            </a:xfrm>
            <a:custGeom>
              <a:avLst/>
              <a:gdLst/>
              <a:ahLst/>
              <a:rect l="l" t="t" r="r" b="b"/>
              <a:pathLst>
                <a:path w="131" h="81">
                  <a:moveTo>
                    <a:pt x="0" y="81"/>
                  </a:moveTo>
                  <a:cubicBezTo>
                    <a:pt x="30" y="61"/>
                    <a:pt x="59" y="36"/>
                    <a:pt x="94" y="25"/>
                  </a:cubicBezTo>
                  <a:cubicBezTo>
                    <a:pt x="106" y="17"/>
                    <a:pt x="131" y="0"/>
                    <a:pt x="13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7765920" y="4471920"/>
              <a:ext cx="128520" cy="293760"/>
            </a:xfrm>
            <a:custGeom>
              <a:avLst/>
              <a:gdLst/>
              <a:ahLst/>
              <a:rect l="l" t="t" r="r" b="b"/>
              <a:pathLst>
                <a:path w="81" h="185">
                  <a:moveTo>
                    <a:pt x="0" y="0"/>
                  </a:moveTo>
                  <a:cubicBezTo>
                    <a:pt x="6" y="67"/>
                    <a:pt x="6" y="139"/>
                    <a:pt x="81" y="163"/>
                  </a:cubicBezTo>
                  <a:cubicBezTo>
                    <a:pt x="48" y="185"/>
                    <a:pt x="70" y="176"/>
                    <a:pt x="12" y="1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6999120" y="4019400"/>
              <a:ext cx="200160" cy="433440"/>
            </a:xfrm>
            <a:custGeom>
              <a:avLst/>
              <a:gdLst/>
              <a:ahLst/>
              <a:rect l="l" t="t" r="r" b="b"/>
              <a:pathLst>
                <a:path w="126" h="273">
                  <a:moveTo>
                    <a:pt x="7" y="16"/>
                  </a:moveTo>
                  <a:cubicBezTo>
                    <a:pt x="24" y="87"/>
                    <a:pt x="0" y="0"/>
                    <a:pt x="26" y="60"/>
                  </a:cubicBezTo>
                  <a:cubicBezTo>
                    <a:pt x="45" y="105"/>
                    <a:pt x="48" y="156"/>
                    <a:pt x="76" y="198"/>
                  </a:cubicBezTo>
                  <a:cubicBezTo>
                    <a:pt x="92" y="247"/>
                    <a:pt x="91" y="238"/>
                    <a:pt x="126" y="27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8550000" y="3170160"/>
              <a:ext cx="28800" cy="237960"/>
            </a:xfrm>
            <a:custGeom>
              <a:avLst/>
              <a:gdLst/>
              <a:ahLst/>
              <a:rect l="l" t="t" r="r" b="b"/>
              <a:pathLst>
                <a:path w="18" h="150">
                  <a:moveTo>
                    <a:pt x="0" y="0"/>
                  </a:moveTo>
                  <a:cubicBezTo>
                    <a:pt x="18" y="48"/>
                    <a:pt x="13" y="99"/>
                    <a:pt x="13" y="1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570720" y="3498840"/>
              <a:ext cx="598320" cy="836640"/>
            </a:xfrm>
            <a:custGeom>
              <a:avLst/>
              <a:gdLst/>
              <a:ahLst/>
              <a:rect l="l" t="t" r="r" b="b"/>
              <a:pathLst>
                <a:path w="377" h="527">
                  <a:moveTo>
                    <a:pt x="8" y="513"/>
                  </a:moveTo>
                  <a:cubicBezTo>
                    <a:pt x="24" y="448"/>
                    <a:pt x="0" y="527"/>
                    <a:pt x="33" y="469"/>
                  </a:cubicBezTo>
                  <a:cubicBezTo>
                    <a:pt x="44" y="450"/>
                    <a:pt x="57" y="402"/>
                    <a:pt x="64" y="382"/>
                  </a:cubicBezTo>
                  <a:cubicBezTo>
                    <a:pt x="66" y="375"/>
                    <a:pt x="73" y="370"/>
                    <a:pt x="77" y="363"/>
                  </a:cubicBezTo>
                  <a:cubicBezTo>
                    <a:pt x="86" y="347"/>
                    <a:pt x="96" y="331"/>
                    <a:pt x="102" y="313"/>
                  </a:cubicBezTo>
                  <a:cubicBezTo>
                    <a:pt x="123" y="246"/>
                    <a:pt x="107" y="302"/>
                    <a:pt x="120" y="250"/>
                  </a:cubicBezTo>
                  <a:cubicBezTo>
                    <a:pt x="129" y="215"/>
                    <a:pt x="127" y="170"/>
                    <a:pt x="164" y="156"/>
                  </a:cubicBezTo>
                  <a:cubicBezTo>
                    <a:pt x="177" y="122"/>
                    <a:pt x="206" y="114"/>
                    <a:pt x="227" y="87"/>
                  </a:cubicBezTo>
                  <a:cubicBezTo>
                    <a:pt x="236" y="75"/>
                    <a:pt x="240" y="58"/>
                    <a:pt x="252" y="50"/>
                  </a:cubicBezTo>
                  <a:cubicBezTo>
                    <a:pt x="287" y="26"/>
                    <a:pt x="333" y="0"/>
                    <a:pt x="37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6921360" y="3041640"/>
              <a:ext cx="128520" cy="735120"/>
            </a:xfrm>
            <a:custGeom>
              <a:avLst/>
              <a:gdLst/>
              <a:ahLst/>
              <a:rect l="l" t="t" r="r" b="b"/>
              <a:pathLst>
                <a:path w="81" h="463">
                  <a:moveTo>
                    <a:pt x="0" y="0"/>
                  </a:moveTo>
                  <a:cubicBezTo>
                    <a:pt x="19" y="99"/>
                    <a:pt x="13" y="205"/>
                    <a:pt x="50" y="300"/>
                  </a:cubicBezTo>
                  <a:cubicBezTo>
                    <a:pt x="56" y="335"/>
                    <a:pt x="62" y="366"/>
                    <a:pt x="68" y="401"/>
                  </a:cubicBezTo>
                  <a:cubicBezTo>
                    <a:pt x="72" y="422"/>
                    <a:pt x="81" y="441"/>
                    <a:pt x="81" y="4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321400" y="4572000"/>
              <a:ext cx="90720" cy="128520"/>
            </a:xfrm>
            <a:custGeom>
              <a:avLst/>
              <a:gdLst/>
              <a:ahLst/>
              <a:rect l="l" t="t" r="r" b="b"/>
              <a:pathLst>
                <a:path w="57" h="81">
                  <a:moveTo>
                    <a:pt x="0" y="0"/>
                  </a:moveTo>
                  <a:cubicBezTo>
                    <a:pt x="11" y="40"/>
                    <a:pt x="28" y="56"/>
                    <a:pt x="57" y="8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292960" y="4602240"/>
              <a:ext cx="108000" cy="88920"/>
            </a:xfrm>
            <a:custGeom>
              <a:avLst/>
              <a:gdLst/>
              <a:ahLst/>
              <a:rect l="l" t="t" r="r" b="b"/>
              <a:pathLst>
                <a:path w="68" h="56">
                  <a:moveTo>
                    <a:pt x="0" y="56"/>
                  </a:moveTo>
                  <a:cubicBezTo>
                    <a:pt x="6" y="50"/>
                    <a:pt x="11" y="43"/>
                    <a:pt x="18" y="37"/>
                  </a:cubicBezTo>
                  <a:cubicBezTo>
                    <a:pt x="24" y="32"/>
                    <a:pt x="32" y="30"/>
                    <a:pt x="37" y="25"/>
                  </a:cubicBezTo>
                  <a:cubicBezTo>
                    <a:pt x="43" y="20"/>
                    <a:pt x="44" y="11"/>
                    <a:pt x="50" y="6"/>
                  </a:cubicBezTo>
                  <a:cubicBezTo>
                    <a:pt x="55" y="2"/>
                    <a:pt x="68" y="0"/>
                    <a:pt x="68" y="0"/>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30" name=""/>
            <p:cNvSpPr/>
            <p:nvPr/>
          </p:nvSpPr>
          <p:spPr>
            <a:xfrm>
              <a:off x="8421480" y="4254480"/>
              <a:ext cx="100080" cy="228600"/>
            </a:xfrm>
            <a:custGeom>
              <a:avLst/>
              <a:gdLst/>
              <a:ahLst/>
              <a:rect l="l" t="t" r="r" b="b"/>
              <a:pathLst>
                <a:path w="63" h="144">
                  <a:moveTo>
                    <a:pt x="63" y="0"/>
                  </a:moveTo>
                  <a:cubicBezTo>
                    <a:pt x="53" y="26"/>
                    <a:pt x="40" y="52"/>
                    <a:pt x="25" y="75"/>
                  </a:cubicBezTo>
                  <a:cubicBezTo>
                    <a:pt x="17" y="99"/>
                    <a:pt x="10" y="122"/>
                    <a:pt x="0"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8262720" y="4005360"/>
              <a:ext cx="173160" cy="447480"/>
            </a:xfrm>
            <a:custGeom>
              <a:avLst/>
              <a:gdLst/>
              <a:ahLst/>
              <a:rect l="l" t="t" r="r" b="b"/>
              <a:pathLst>
                <a:path w="109" h="282">
                  <a:moveTo>
                    <a:pt x="100" y="31"/>
                  </a:moveTo>
                  <a:cubicBezTo>
                    <a:pt x="83" y="84"/>
                    <a:pt x="109" y="0"/>
                    <a:pt x="87" y="113"/>
                  </a:cubicBezTo>
                  <a:cubicBezTo>
                    <a:pt x="80" y="151"/>
                    <a:pt x="61" y="192"/>
                    <a:pt x="44" y="226"/>
                  </a:cubicBezTo>
                  <a:cubicBezTo>
                    <a:pt x="35" y="243"/>
                    <a:pt x="25" y="282"/>
                    <a:pt x="0" y="2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580240" y="4214880"/>
              <a:ext cx="79560" cy="118800"/>
            </a:xfrm>
            <a:custGeom>
              <a:avLst/>
              <a:gdLst/>
              <a:ahLst/>
              <a:rect l="l" t="t" r="r" b="b"/>
              <a:pathLst>
                <a:path w="50" h="75">
                  <a:moveTo>
                    <a:pt x="0" y="0"/>
                  </a:moveTo>
                  <a:cubicBezTo>
                    <a:pt x="5" y="15"/>
                    <a:pt x="8" y="51"/>
                    <a:pt x="19" y="62"/>
                  </a:cubicBezTo>
                  <a:cubicBezTo>
                    <a:pt x="27" y="70"/>
                    <a:pt x="40" y="69"/>
                    <a:pt x="50" y="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845480" y="3816360"/>
              <a:ext cx="203040" cy="655560"/>
            </a:xfrm>
            <a:custGeom>
              <a:avLst/>
              <a:gdLst/>
              <a:ahLst/>
              <a:rect l="l" t="t" r="r" b="b"/>
              <a:pathLst>
                <a:path w="128" h="413">
                  <a:moveTo>
                    <a:pt x="100" y="0"/>
                  </a:moveTo>
                  <a:cubicBezTo>
                    <a:pt x="128" y="41"/>
                    <a:pt x="115" y="14"/>
                    <a:pt x="106" y="100"/>
                  </a:cubicBezTo>
                  <a:cubicBezTo>
                    <a:pt x="103" y="129"/>
                    <a:pt x="96" y="175"/>
                    <a:pt x="81" y="201"/>
                  </a:cubicBezTo>
                  <a:cubicBezTo>
                    <a:pt x="45" y="264"/>
                    <a:pt x="0" y="337"/>
                    <a:pt x="0" y="4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975280" y="36450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35" name=""/>
            <p:cNvSpPr/>
            <p:nvPr/>
          </p:nvSpPr>
          <p:spPr>
            <a:xfrm>
              <a:off x="5975280" y="39704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36" name=""/>
            <p:cNvSpPr/>
            <p:nvPr/>
          </p:nvSpPr>
          <p:spPr>
            <a:xfrm>
              <a:off x="6327720" y="33289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37" name=""/>
            <p:cNvSpPr/>
            <p:nvPr/>
          </p:nvSpPr>
          <p:spPr>
            <a:xfrm>
              <a:off x="5641920" y="36622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38" name=""/>
            <p:cNvSpPr/>
            <p:nvPr/>
          </p:nvSpPr>
          <p:spPr>
            <a:xfrm>
              <a:off x="5541840" y="38955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39" name=""/>
            <p:cNvSpPr/>
            <p:nvPr/>
          </p:nvSpPr>
          <p:spPr>
            <a:xfrm>
              <a:off x="6594480" y="396216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40" name=""/>
            <p:cNvSpPr/>
            <p:nvPr/>
          </p:nvSpPr>
          <p:spPr>
            <a:xfrm>
              <a:off x="6008400" y="41529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41" name=""/>
            <p:cNvSpPr/>
            <p:nvPr/>
          </p:nvSpPr>
          <p:spPr>
            <a:xfrm>
              <a:off x="6303960" y="41050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42" name=""/>
            <p:cNvSpPr/>
            <p:nvPr/>
          </p:nvSpPr>
          <p:spPr>
            <a:xfrm>
              <a:off x="6221160" y="31669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43" name=""/>
            <p:cNvSpPr/>
            <p:nvPr/>
          </p:nvSpPr>
          <p:spPr>
            <a:xfrm>
              <a:off x="6551640" y="424800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44" name=""/>
            <p:cNvSpPr/>
            <p:nvPr/>
          </p:nvSpPr>
          <p:spPr>
            <a:xfrm>
              <a:off x="6294240" y="39002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45" name=""/>
            <p:cNvSpPr/>
            <p:nvPr/>
          </p:nvSpPr>
          <p:spPr>
            <a:xfrm>
              <a:off x="6325920" y="35496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46" name=""/>
            <p:cNvSpPr/>
            <p:nvPr/>
          </p:nvSpPr>
          <p:spPr>
            <a:xfrm>
              <a:off x="6422760" y="36385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47" name=""/>
            <p:cNvSpPr/>
            <p:nvPr/>
          </p:nvSpPr>
          <p:spPr>
            <a:xfrm>
              <a:off x="6503760" y="37670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48" name=""/>
            <p:cNvSpPr/>
            <p:nvPr/>
          </p:nvSpPr>
          <p:spPr>
            <a:xfrm>
              <a:off x="6656400" y="324324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49" name=""/>
            <p:cNvSpPr/>
            <p:nvPr/>
          </p:nvSpPr>
          <p:spPr>
            <a:xfrm>
              <a:off x="6680160" y="34430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50" name=""/>
            <p:cNvSpPr/>
            <p:nvPr/>
          </p:nvSpPr>
          <p:spPr>
            <a:xfrm>
              <a:off x="6608520" y="36478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51" name=""/>
            <p:cNvSpPr/>
            <p:nvPr/>
          </p:nvSpPr>
          <p:spPr>
            <a:xfrm>
              <a:off x="6737400" y="381456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52" name=""/>
            <p:cNvSpPr/>
            <p:nvPr/>
          </p:nvSpPr>
          <p:spPr>
            <a:xfrm>
              <a:off x="6770520" y="43052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53" name=""/>
            <p:cNvSpPr/>
            <p:nvPr/>
          </p:nvSpPr>
          <p:spPr>
            <a:xfrm>
              <a:off x="6846840" y="41050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54" name=""/>
            <p:cNvSpPr/>
            <p:nvPr/>
          </p:nvSpPr>
          <p:spPr>
            <a:xfrm>
              <a:off x="6746760" y="44625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55" name=""/>
            <p:cNvSpPr/>
            <p:nvPr/>
          </p:nvSpPr>
          <p:spPr>
            <a:xfrm>
              <a:off x="6675480" y="439092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56" name=""/>
            <p:cNvSpPr/>
            <p:nvPr/>
          </p:nvSpPr>
          <p:spPr>
            <a:xfrm>
              <a:off x="6913440" y="32814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57" name=""/>
            <p:cNvSpPr/>
            <p:nvPr/>
          </p:nvSpPr>
          <p:spPr>
            <a:xfrm>
              <a:off x="6966000" y="351000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58" name=""/>
            <p:cNvSpPr/>
            <p:nvPr/>
          </p:nvSpPr>
          <p:spPr>
            <a:xfrm>
              <a:off x="6851520" y="36385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59" name=""/>
            <p:cNvSpPr/>
            <p:nvPr/>
          </p:nvSpPr>
          <p:spPr>
            <a:xfrm>
              <a:off x="6980040" y="37576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60" name=""/>
            <p:cNvSpPr/>
            <p:nvPr/>
          </p:nvSpPr>
          <p:spPr>
            <a:xfrm>
              <a:off x="6852960" y="29620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1" name=""/>
            <p:cNvSpPr/>
            <p:nvPr/>
          </p:nvSpPr>
          <p:spPr>
            <a:xfrm>
              <a:off x="7113600" y="318132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62" name=""/>
            <p:cNvSpPr/>
            <p:nvPr/>
          </p:nvSpPr>
          <p:spPr>
            <a:xfrm>
              <a:off x="7137360" y="34621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3" name=""/>
            <p:cNvSpPr/>
            <p:nvPr/>
          </p:nvSpPr>
          <p:spPr>
            <a:xfrm>
              <a:off x="6732360" y="27622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64" name=""/>
            <p:cNvSpPr/>
            <p:nvPr/>
          </p:nvSpPr>
          <p:spPr>
            <a:xfrm>
              <a:off x="7061040" y="27669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65" name=""/>
            <p:cNvSpPr/>
            <p:nvPr/>
          </p:nvSpPr>
          <p:spPr>
            <a:xfrm>
              <a:off x="7180200" y="28670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66" name=""/>
            <p:cNvSpPr/>
            <p:nvPr/>
          </p:nvSpPr>
          <p:spPr>
            <a:xfrm>
              <a:off x="7065720" y="30621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67" name=""/>
            <p:cNvSpPr/>
            <p:nvPr/>
          </p:nvSpPr>
          <p:spPr>
            <a:xfrm>
              <a:off x="7132680" y="361008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68" name=""/>
            <p:cNvSpPr/>
            <p:nvPr/>
          </p:nvSpPr>
          <p:spPr>
            <a:xfrm>
              <a:off x="7122960" y="37148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69" name=""/>
            <p:cNvSpPr/>
            <p:nvPr/>
          </p:nvSpPr>
          <p:spPr>
            <a:xfrm>
              <a:off x="6975360" y="39956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70" name=""/>
            <p:cNvSpPr/>
            <p:nvPr/>
          </p:nvSpPr>
          <p:spPr>
            <a:xfrm>
              <a:off x="6870600" y="39909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71" name=""/>
            <p:cNvSpPr/>
            <p:nvPr/>
          </p:nvSpPr>
          <p:spPr>
            <a:xfrm>
              <a:off x="7351560" y="27763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72" name=""/>
            <p:cNvSpPr/>
            <p:nvPr/>
          </p:nvSpPr>
          <p:spPr>
            <a:xfrm>
              <a:off x="7565760" y="29145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73" name=""/>
            <p:cNvSpPr/>
            <p:nvPr/>
          </p:nvSpPr>
          <p:spPr>
            <a:xfrm>
              <a:off x="7280280" y="304776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74" name=""/>
            <p:cNvSpPr/>
            <p:nvPr/>
          </p:nvSpPr>
          <p:spPr>
            <a:xfrm>
              <a:off x="7294320" y="31431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75" name=""/>
            <p:cNvSpPr/>
            <p:nvPr/>
          </p:nvSpPr>
          <p:spPr>
            <a:xfrm>
              <a:off x="7294320" y="32716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76" name=""/>
            <p:cNvSpPr/>
            <p:nvPr/>
          </p:nvSpPr>
          <p:spPr>
            <a:xfrm>
              <a:off x="7256520" y="352908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77" name=""/>
            <p:cNvSpPr/>
            <p:nvPr/>
          </p:nvSpPr>
          <p:spPr>
            <a:xfrm>
              <a:off x="7432560" y="33814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78" name=""/>
            <p:cNvSpPr/>
            <p:nvPr/>
          </p:nvSpPr>
          <p:spPr>
            <a:xfrm>
              <a:off x="7151400" y="39783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79" name=""/>
            <p:cNvSpPr/>
            <p:nvPr/>
          </p:nvSpPr>
          <p:spPr>
            <a:xfrm>
              <a:off x="7294320" y="39909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80" name=""/>
            <p:cNvSpPr/>
            <p:nvPr/>
          </p:nvSpPr>
          <p:spPr>
            <a:xfrm>
              <a:off x="7014960" y="414000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81" name=""/>
            <p:cNvSpPr/>
            <p:nvPr/>
          </p:nvSpPr>
          <p:spPr>
            <a:xfrm>
              <a:off x="6989760" y="43178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82" name=""/>
            <p:cNvSpPr/>
            <p:nvPr/>
          </p:nvSpPr>
          <p:spPr>
            <a:xfrm>
              <a:off x="7735680" y="27781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83" name=""/>
            <p:cNvSpPr/>
            <p:nvPr/>
          </p:nvSpPr>
          <p:spPr>
            <a:xfrm>
              <a:off x="6761160" y="458460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84" name=""/>
            <p:cNvSpPr/>
            <p:nvPr/>
          </p:nvSpPr>
          <p:spPr>
            <a:xfrm>
              <a:off x="6837120" y="44006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85" name=""/>
            <p:cNvSpPr/>
            <p:nvPr/>
          </p:nvSpPr>
          <p:spPr>
            <a:xfrm>
              <a:off x="6904080" y="447048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86" name=""/>
            <p:cNvSpPr/>
            <p:nvPr/>
          </p:nvSpPr>
          <p:spPr>
            <a:xfrm>
              <a:off x="6837120" y="47149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87" name=""/>
            <p:cNvSpPr/>
            <p:nvPr/>
          </p:nvSpPr>
          <p:spPr>
            <a:xfrm>
              <a:off x="6970680" y="46641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88" name=""/>
            <p:cNvSpPr/>
            <p:nvPr/>
          </p:nvSpPr>
          <p:spPr>
            <a:xfrm>
              <a:off x="7065720" y="44355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89" name=""/>
            <p:cNvSpPr/>
            <p:nvPr/>
          </p:nvSpPr>
          <p:spPr>
            <a:xfrm>
              <a:off x="7265880" y="37940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90" name=""/>
            <p:cNvSpPr/>
            <p:nvPr/>
          </p:nvSpPr>
          <p:spPr>
            <a:xfrm>
              <a:off x="7256520" y="369576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91" name=""/>
            <p:cNvSpPr/>
            <p:nvPr/>
          </p:nvSpPr>
          <p:spPr>
            <a:xfrm>
              <a:off x="7259400" y="41720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92" name=""/>
            <p:cNvSpPr/>
            <p:nvPr/>
          </p:nvSpPr>
          <p:spPr>
            <a:xfrm>
              <a:off x="7084800" y="42958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93" name=""/>
            <p:cNvSpPr/>
            <p:nvPr/>
          </p:nvSpPr>
          <p:spPr>
            <a:xfrm>
              <a:off x="7196040" y="44132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94" name=""/>
            <p:cNvSpPr/>
            <p:nvPr/>
          </p:nvSpPr>
          <p:spPr>
            <a:xfrm>
              <a:off x="7164360" y="45752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95" name=""/>
            <p:cNvSpPr/>
            <p:nvPr/>
          </p:nvSpPr>
          <p:spPr>
            <a:xfrm>
              <a:off x="6316560" y="31687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96" name=""/>
            <p:cNvSpPr/>
            <p:nvPr/>
          </p:nvSpPr>
          <p:spPr>
            <a:xfrm>
              <a:off x="6643440" y="407340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97" name=""/>
            <p:cNvSpPr/>
            <p:nvPr/>
          </p:nvSpPr>
          <p:spPr>
            <a:xfrm>
              <a:off x="8358120" y="26766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398" name=""/>
            <p:cNvSpPr/>
            <p:nvPr/>
          </p:nvSpPr>
          <p:spPr>
            <a:xfrm>
              <a:off x="7522920" y="35240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399" name=""/>
            <p:cNvSpPr/>
            <p:nvPr/>
          </p:nvSpPr>
          <p:spPr>
            <a:xfrm>
              <a:off x="7554960" y="315288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00" name=""/>
            <p:cNvSpPr/>
            <p:nvPr/>
          </p:nvSpPr>
          <p:spPr>
            <a:xfrm>
              <a:off x="7494480" y="327960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01" name=""/>
            <p:cNvSpPr/>
            <p:nvPr/>
          </p:nvSpPr>
          <p:spPr>
            <a:xfrm>
              <a:off x="8211960" y="27176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02" name=""/>
            <p:cNvSpPr/>
            <p:nvPr/>
          </p:nvSpPr>
          <p:spPr>
            <a:xfrm>
              <a:off x="6373800" y="34480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03" name=""/>
            <p:cNvSpPr/>
            <p:nvPr/>
          </p:nvSpPr>
          <p:spPr>
            <a:xfrm>
              <a:off x="8047080" y="278424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04" name=""/>
            <p:cNvSpPr/>
            <p:nvPr/>
          </p:nvSpPr>
          <p:spPr>
            <a:xfrm>
              <a:off x="7414920" y="36450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05" name=""/>
            <p:cNvSpPr/>
            <p:nvPr/>
          </p:nvSpPr>
          <p:spPr>
            <a:xfrm>
              <a:off x="7557840" y="36478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06" name=""/>
            <p:cNvSpPr/>
            <p:nvPr/>
          </p:nvSpPr>
          <p:spPr>
            <a:xfrm>
              <a:off x="7599240" y="30384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07" name=""/>
            <p:cNvSpPr/>
            <p:nvPr/>
          </p:nvSpPr>
          <p:spPr>
            <a:xfrm>
              <a:off x="7726320" y="29178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08" name=""/>
            <p:cNvSpPr/>
            <p:nvPr/>
          </p:nvSpPr>
          <p:spPr>
            <a:xfrm>
              <a:off x="7891200" y="29336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09" name=""/>
            <p:cNvSpPr/>
            <p:nvPr/>
          </p:nvSpPr>
          <p:spPr>
            <a:xfrm>
              <a:off x="8056440" y="29811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10" name=""/>
            <p:cNvSpPr/>
            <p:nvPr/>
          </p:nvSpPr>
          <p:spPr>
            <a:xfrm>
              <a:off x="8132760" y="28098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11" name=""/>
            <p:cNvSpPr/>
            <p:nvPr/>
          </p:nvSpPr>
          <p:spPr>
            <a:xfrm>
              <a:off x="7710480" y="322560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12" name=""/>
            <p:cNvSpPr/>
            <p:nvPr/>
          </p:nvSpPr>
          <p:spPr>
            <a:xfrm>
              <a:off x="7780320" y="30384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13" name=""/>
            <p:cNvSpPr/>
            <p:nvPr/>
          </p:nvSpPr>
          <p:spPr>
            <a:xfrm>
              <a:off x="7418160" y="38955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14" name=""/>
            <p:cNvSpPr/>
            <p:nvPr/>
          </p:nvSpPr>
          <p:spPr>
            <a:xfrm>
              <a:off x="7513560" y="38923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15" name=""/>
            <p:cNvSpPr/>
            <p:nvPr/>
          </p:nvSpPr>
          <p:spPr>
            <a:xfrm>
              <a:off x="8396280" y="28004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16" name=""/>
            <p:cNvSpPr/>
            <p:nvPr/>
          </p:nvSpPr>
          <p:spPr>
            <a:xfrm>
              <a:off x="8132760" y="30193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17" name=""/>
            <p:cNvSpPr/>
            <p:nvPr/>
          </p:nvSpPr>
          <p:spPr>
            <a:xfrm>
              <a:off x="8192880" y="31622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18" name=""/>
            <p:cNvSpPr/>
            <p:nvPr/>
          </p:nvSpPr>
          <p:spPr>
            <a:xfrm>
              <a:off x="7808760" y="34574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19" name=""/>
            <p:cNvSpPr/>
            <p:nvPr/>
          </p:nvSpPr>
          <p:spPr>
            <a:xfrm>
              <a:off x="7967520" y="31543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20" name=""/>
            <p:cNvSpPr/>
            <p:nvPr/>
          </p:nvSpPr>
          <p:spPr>
            <a:xfrm>
              <a:off x="7827840" y="33368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21" name=""/>
            <p:cNvSpPr/>
            <p:nvPr/>
          </p:nvSpPr>
          <p:spPr>
            <a:xfrm>
              <a:off x="8123040" y="34700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22" name=""/>
            <p:cNvSpPr/>
            <p:nvPr/>
          </p:nvSpPr>
          <p:spPr>
            <a:xfrm>
              <a:off x="7885080" y="30668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23" name=""/>
            <p:cNvSpPr/>
            <p:nvPr/>
          </p:nvSpPr>
          <p:spPr>
            <a:xfrm>
              <a:off x="8030880" y="32544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24" name=""/>
            <p:cNvSpPr/>
            <p:nvPr/>
          </p:nvSpPr>
          <p:spPr>
            <a:xfrm>
              <a:off x="8208720" y="32925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25" name=""/>
            <p:cNvSpPr/>
            <p:nvPr/>
          </p:nvSpPr>
          <p:spPr>
            <a:xfrm>
              <a:off x="7818480" y="323208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26" name=""/>
            <p:cNvSpPr/>
            <p:nvPr/>
          </p:nvSpPr>
          <p:spPr>
            <a:xfrm>
              <a:off x="8339040" y="32605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27" name=""/>
            <p:cNvSpPr/>
            <p:nvPr/>
          </p:nvSpPr>
          <p:spPr>
            <a:xfrm>
              <a:off x="7942320" y="341640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28" name=""/>
            <p:cNvSpPr/>
            <p:nvPr/>
          </p:nvSpPr>
          <p:spPr>
            <a:xfrm>
              <a:off x="8361360" y="34164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29" name=""/>
            <p:cNvSpPr/>
            <p:nvPr/>
          </p:nvSpPr>
          <p:spPr>
            <a:xfrm>
              <a:off x="7726320" y="37148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30" name=""/>
            <p:cNvSpPr/>
            <p:nvPr/>
          </p:nvSpPr>
          <p:spPr>
            <a:xfrm>
              <a:off x="7377120" y="378468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31" name=""/>
            <p:cNvSpPr/>
            <p:nvPr/>
          </p:nvSpPr>
          <p:spPr>
            <a:xfrm>
              <a:off x="7497720" y="37684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32" name=""/>
            <p:cNvSpPr/>
            <p:nvPr/>
          </p:nvSpPr>
          <p:spPr>
            <a:xfrm>
              <a:off x="7964280" y="361620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33" name=""/>
            <p:cNvSpPr/>
            <p:nvPr/>
          </p:nvSpPr>
          <p:spPr>
            <a:xfrm>
              <a:off x="8123040" y="36100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34" name=""/>
            <p:cNvSpPr/>
            <p:nvPr/>
          </p:nvSpPr>
          <p:spPr>
            <a:xfrm>
              <a:off x="8246880" y="36259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35" name=""/>
            <p:cNvSpPr/>
            <p:nvPr/>
          </p:nvSpPr>
          <p:spPr>
            <a:xfrm>
              <a:off x="8243640" y="34700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36" name=""/>
            <p:cNvSpPr/>
            <p:nvPr/>
          </p:nvSpPr>
          <p:spPr>
            <a:xfrm>
              <a:off x="8526240" y="33274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37" name=""/>
            <p:cNvSpPr/>
            <p:nvPr/>
          </p:nvSpPr>
          <p:spPr>
            <a:xfrm>
              <a:off x="8427960" y="35370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38" name=""/>
            <p:cNvSpPr/>
            <p:nvPr/>
          </p:nvSpPr>
          <p:spPr>
            <a:xfrm>
              <a:off x="8535960" y="35337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39" name=""/>
            <p:cNvSpPr/>
            <p:nvPr/>
          </p:nvSpPr>
          <p:spPr>
            <a:xfrm>
              <a:off x="8646840" y="35114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40" name=""/>
            <p:cNvSpPr/>
            <p:nvPr/>
          </p:nvSpPr>
          <p:spPr>
            <a:xfrm>
              <a:off x="8866080" y="34956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41" name=""/>
            <p:cNvSpPr/>
            <p:nvPr/>
          </p:nvSpPr>
          <p:spPr>
            <a:xfrm>
              <a:off x="8665920" y="36478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42" name=""/>
            <p:cNvSpPr/>
            <p:nvPr/>
          </p:nvSpPr>
          <p:spPr>
            <a:xfrm>
              <a:off x="8542080" y="36450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43" name=""/>
            <p:cNvSpPr/>
            <p:nvPr/>
          </p:nvSpPr>
          <p:spPr>
            <a:xfrm>
              <a:off x="8437320" y="36478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44" name=""/>
            <p:cNvSpPr/>
            <p:nvPr/>
          </p:nvSpPr>
          <p:spPr>
            <a:xfrm>
              <a:off x="8224560" y="37846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45" name=""/>
            <p:cNvSpPr/>
            <p:nvPr/>
          </p:nvSpPr>
          <p:spPr>
            <a:xfrm>
              <a:off x="8107200" y="373680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46" name=""/>
            <p:cNvSpPr/>
            <p:nvPr/>
          </p:nvSpPr>
          <p:spPr>
            <a:xfrm>
              <a:off x="7770600" y="38322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47" name=""/>
            <p:cNvSpPr/>
            <p:nvPr/>
          </p:nvSpPr>
          <p:spPr>
            <a:xfrm>
              <a:off x="7599240" y="37558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48" name=""/>
            <p:cNvSpPr/>
            <p:nvPr/>
          </p:nvSpPr>
          <p:spPr>
            <a:xfrm>
              <a:off x="7364160" y="34956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49" name=""/>
            <p:cNvSpPr/>
            <p:nvPr/>
          </p:nvSpPr>
          <p:spPr>
            <a:xfrm>
              <a:off x="7923240" y="378756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50" name=""/>
            <p:cNvSpPr/>
            <p:nvPr/>
          </p:nvSpPr>
          <p:spPr>
            <a:xfrm>
              <a:off x="7611840" y="38764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51" name=""/>
            <p:cNvSpPr/>
            <p:nvPr/>
          </p:nvSpPr>
          <p:spPr>
            <a:xfrm>
              <a:off x="7500960" y="401328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52" name=""/>
            <p:cNvSpPr/>
            <p:nvPr/>
          </p:nvSpPr>
          <p:spPr>
            <a:xfrm>
              <a:off x="7611840" y="40132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53" name=""/>
            <p:cNvSpPr/>
            <p:nvPr/>
          </p:nvSpPr>
          <p:spPr>
            <a:xfrm>
              <a:off x="7827840" y="39686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54" name=""/>
            <p:cNvSpPr/>
            <p:nvPr/>
          </p:nvSpPr>
          <p:spPr>
            <a:xfrm>
              <a:off x="7974000" y="39211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55" name=""/>
            <p:cNvSpPr/>
            <p:nvPr/>
          </p:nvSpPr>
          <p:spPr>
            <a:xfrm>
              <a:off x="8208720" y="39528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56" name=""/>
            <p:cNvSpPr/>
            <p:nvPr/>
          </p:nvSpPr>
          <p:spPr>
            <a:xfrm>
              <a:off x="8361360" y="40100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57" name=""/>
            <p:cNvSpPr/>
            <p:nvPr/>
          </p:nvSpPr>
          <p:spPr>
            <a:xfrm>
              <a:off x="8072280" y="39337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58" name=""/>
            <p:cNvSpPr/>
            <p:nvPr/>
          </p:nvSpPr>
          <p:spPr>
            <a:xfrm>
              <a:off x="7751520" y="41814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59" name=""/>
            <p:cNvSpPr/>
            <p:nvPr/>
          </p:nvSpPr>
          <p:spPr>
            <a:xfrm>
              <a:off x="7964280" y="40892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60" name=""/>
            <p:cNvSpPr/>
            <p:nvPr/>
          </p:nvSpPr>
          <p:spPr>
            <a:xfrm>
              <a:off x="8164440" y="41241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61" name=""/>
            <p:cNvSpPr/>
            <p:nvPr/>
          </p:nvSpPr>
          <p:spPr>
            <a:xfrm>
              <a:off x="7885080" y="41907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62" name=""/>
            <p:cNvSpPr/>
            <p:nvPr/>
          </p:nvSpPr>
          <p:spPr>
            <a:xfrm>
              <a:off x="7446960" y="43876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63" name=""/>
            <p:cNvSpPr/>
            <p:nvPr/>
          </p:nvSpPr>
          <p:spPr>
            <a:xfrm>
              <a:off x="7462800" y="44733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64" name=""/>
            <p:cNvSpPr/>
            <p:nvPr/>
          </p:nvSpPr>
          <p:spPr>
            <a:xfrm>
              <a:off x="7361280" y="451152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65" name=""/>
            <p:cNvSpPr/>
            <p:nvPr/>
          </p:nvSpPr>
          <p:spPr>
            <a:xfrm>
              <a:off x="7449840" y="42958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66" name=""/>
            <p:cNvSpPr/>
            <p:nvPr/>
          </p:nvSpPr>
          <p:spPr>
            <a:xfrm>
              <a:off x="7313400" y="43210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67" name=""/>
            <p:cNvSpPr/>
            <p:nvPr/>
          </p:nvSpPr>
          <p:spPr>
            <a:xfrm>
              <a:off x="7589880" y="418140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68" name=""/>
            <p:cNvSpPr/>
            <p:nvPr/>
          </p:nvSpPr>
          <p:spPr>
            <a:xfrm>
              <a:off x="7466040" y="417816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69" name=""/>
            <p:cNvSpPr/>
            <p:nvPr/>
          </p:nvSpPr>
          <p:spPr>
            <a:xfrm>
              <a:off x="8002440" y="41907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70" name=""/>
            <p:cNvSpPr/>
            <p:nvPr/>
          </p:nvSpPr>
          <p:spPr>
            <a:xfrm>
              <a:off x="8285040" y="41050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71" name=""/>
            <p:cNvSpPr/>
            <p:nvPr/>
          </p:nvSpPr>
          <p:spPr>
            <a:xfrm>
              <a:off x="6960960" y="48927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72" name=""/>
            <p:cNvSpPr/>
            <p:nvPr/>
          </p:nvSpPr>
          <p:spPr>
            <a:xfrm>
              <a:off x="7827840" y="41050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73" name=""/>
            <p:cNvSpPr/>
            <p:nvPr/>
          </p:nvSpPr>
          <p:spPr>
            <a:xfrm>
              <a:off x="7738920" y="44100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74" name=""/>
            <p:cNvSpPr/>
            <p:nvPr/>
          </p:nvSpPr>
          <p:spPr>
            <a:xfrm>
              <a:off x="7827840" y="43336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75" name=""/>
            <p:cNvSpPr/>
            <p:nvPr/>
          </p:nvSpPr>
          <p:spPr>
            <a:xfrm>
              <a:off x="7745400" y="45496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76" name=""/>
            <p:cNvSpPr/>
            <p:nvPr/>
          </p:nvSpPr>
          <p:spPr>
            <a:xfrm>
              <a:off x="7843680" y="44514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77" name=""/>
            <p:cNvSpPr/>
            <p:nvPr/>
          </p:nvSpPr>
          <p:spPr>
            <a:xfrm>
              <a:off x="7640640" y="44193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78" name=""/>
            <p:cNvSpPr/>
            <p:nvPr/>
          </p:nvSpPr>
          <p:spPr>
            <a:xfrm>
              <a:off x="7542000" y="45464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79" name=""/>
            <p:cNvSpPr/>
            <p:nvPr/>
          </p:nvSpPr>
          <p:spPr>
            <a:xfrm>
              <a:off x="7646760" y="430200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80" name=""/>
            <p:cNvSpPr/>
            <p:nvPr/>
          </p:nvSpPr>
          <p:spPr>
            <a:xfrm>
              <a:off x="7065720" y="48387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81" name=""/>
            <p:cNvSpPr/>
            <p:nvPr/>
          </p:nvSpPr>
          <p:spPr>
            <a:xfrm>
              <a:off x="7116480" y="50324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82" name=""/>
            <p:cNvSpPr/>
            <p:nvPr/>
          </p:nvSpPr>
          <p:spPr>
            <a:xfrm>
              <a:off x="7218360" y="49626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83" name=""/>
            <p:cNvSpPr/>
            <p:nvPr/>
          </p:nvSpPr>
          <p:spPr>
            <a:xfrm>
              <a:off x="7199280" y="52480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84" name=""/>
            <p:cNvSpPr/>
            <p:nvPr/>
          </p:nvSpPr>
          <p:spPr>
            <a:xfrm>
              <a:off x="7294320" y="47149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85" name=""/>
            <p:cNvSpPr/>
            <p:nvPr/>
          </p:nvSpPr>
          <p:spPr>
            <a:xfrm>
              <a:off x="7338960" y="49147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86" name=""/>
            <p:cNvSpPr/>
            <p:nvPr/>
          </p:nvSpPr>
          <p:spPr>
            <a:xfrm>
              <a:off x="7237440" y="541008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87" name=""/>
            <p:cNvSpPr/>
            <p:nvPr/>
          </p:nvSpPr>
          <p:spPr>
            <a:xfrm>
              <a:off x="7396200" y="553716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88" name=""/>
            <p:cNvSpPr/>
            <p:nvPr/>
          </p:nvSpPr>
          <p:spPr>
            <a:xfrm>
              <a:off x="7656480" y="57052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89" name=""/>
            <p:cNvSpPr/>
            <p:nvPr/>
          </p:nvSpPr>
          <p:spPr>
            <a:xfrm>
              <a:off x="7297560" y="52196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90" name=""/>
            <p:cNvSpPr/>
            <p:nvPr/>
          </p:nvSpPr>
          <p:spPr>
            <a:xfrm>
              <a:off x="7545240" y="55944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91" name=""/>
            <p:cNvSpPr/>
            <p:nvPr/>
          </p:nvSpPr>
          <p:spPr>
            <a:xfrm>
              <a:off x="8383320" y="45622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92" name=""/>
            <p:cNvSpPr/>
            <p:nvPr/>
          </p:nvSpPr>
          <p:spPr>
            <a:xfrm>
              <a:off x="8265960" y="46386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93" name=""/>
            <p:cNvSpPr/>
            <p:nvPr/>
          </p:nvSpPr>
          <p:spPr>
            <a:xfrm>
              <a:off x="7897680" y="47019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94" name=""/>
            <p:cNvSpPr/>
            <p:nvPr/>
          </p:nvSpPr>
          <p:spPr>
            <a:xfrm>
              <a:off x="7414920" y="46386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95" name=""/>
            <p:cNvSpPr/>
            <p:nvPr/>
          </p:nvSpPr>
          <p:spPr>
            <a:xfrm>
              <a:off x="7456320" y="48765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96" name=""/>
            <p:cNvSpPr/>
            <p:nvPr/>
          </p:nvSpPr>
          <p:spPr>
            <a:xfrm>
              <a:off x="7440480" y="52322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97" name=""/>
            <p:cNvSpPr/>
            <p:nvPr/>
          </p:nvSpPr>
          <p:spPr>
            <a:xfrm>
              <a:off x="7580160" y="54259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98" name=""/>
            <p:cNvSpPr/>
            <p:nvPr/>
          </p:nvSpPr>
          <p:spPr>
            <a:xfrm>
              <a:off x="7599240" y="52354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99" name=""/>
            <p:cNvSpPr/>
            <p:nvPr/>
          </p:nvSpPr>
          <p:spPr>
            <a:xfrm>
              <a:off x="7332480" y="53848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00" name=""/>
            <p:cNvSpPr/>
            <p:nvPr/>
          </p:nvSpPr>
          <p:spPr>
            <a:xfrm>
              <a:off x="7437240" y="53751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01" name=""/>
            <p:cNvSpPr/>
            <p:nvPr/>
          </p:nvSpPr>
          <p:spPr>
            <a:xfrm>
              <a:off x="7665840" y="47689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02" name=""/>
            <p:cNvSpPr/>
            <p:nvPr/>
          </p:nvSpPr>
          <p:spPr>
            <a:xfrm>
              <a:off x="7522920" y="49910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03" name=""/>
            <p:cNvSpPr/>
            <p:nvPr/>
          </p:nvSpPr>
          <p:spPr>
            <a:xfrm>
              <a:off x="7710480" y="55306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04" name=""/>
            <p:cNvSpPr/>
            <p:nvPr/>
          </p:nvSpPr>
          <p:spPr>
            <a:xfrm>
              <a:off x="7726320" y="49276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05" name=""/>
            <p:cNvSpPr/>
            <p:nvPr/>
          </p:nvSpPr>
          <p:spPr>
            <a:xfrm>
              <a:off x="7840440" y="50194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06" name=""/>
            <p:cNvSpPr/>
            <p:nvPr/>
          </p:nvSpPr>
          <p:spPr>
            <a:xfrm>
              <a:off x="7958160" y="440064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07" name=""/>
            <p:cNvSpPr/>
            <p:nvPr/>
          </p:nvSpPr>
          <p:spPr>
            <a:xfrm>
              <a:off x="8056440" y="46386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08" name=""/>
            <p:cNvSpPr/>
            <p:nvPr/>
          </p:nvSpPr>
          <p:spPr>
            <a:xfrm>
              <a:off x="7650000" y="46180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09" name=""/>
            <p:cNvSpPr/>
            <p:nvPr/>
          </p:nvSpPr>
          <p:spPr>
            <a:xfrm>
              <a:off x="7751520" y="47149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10" name=""/>
            <p:cNvSpPr/>
            <p:nvPr/>
          </p:nvSpPr>
          <p:spPr>
            <a:xfrm>
              <a:off x="7491240" y="461304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11" name=""/>
            <p:cNvSpPr/>
            <p:nvPr/>
          </p:nvSpPr>
          <p:spPr>
            <a:xfrm>
              <a:off x="7980120" y="45622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12" name=""/>
            <p:cNvSpPr/>
            <p:nvPr/>
          </p:nvSpPr>
          <p:spPr>
            <a:xfrm>
              <a:off x="7986600" y="430200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13" name=""/>
            <p:cNvSpPr/>
            <p:nvPr/>
          </p:nvSpPr>
          <p:spPr>
            <a:xfrm>
              <a:off x="8084880" y="42861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14" name=""/>
            <p:cNvSpPr/>
            <p:nvPr/>
          </p:nvSpPr>
          <p:spPr>
            <a:xfrm>
              <a:off x="8119800" y="420696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15" name=""/>
            <p:cNvSpPr/>
            <p:nvPr/>
          </p:nvSpPr>
          <p:spPr>
            <a:xfrm>
              <a:off x="8132760" y="44575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16" name=""/>
            <p:cNvSpPr/>
            <p:nvPr/>
          </p:nvSpPr>
          <p:spPr>
            <a:xfrm>
              <a:off x="8208720" y="45622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17" name=""/>
            <p:cNvSpPr/>
            <p:nvPr/>
          </p:nvSpPr>
          <p:spPr>
            <a:xfrm>
              <a:off x="8151840" y="468288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18" name=""/>
            <p:cNvSpPr/>
            <p:nvPr/>
          </p:nvSpPr>
          <p:spPr>
            <a:xfrm>
              <a:off x="8208720" y="43783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19" name=""/>
            <p:cNvSpPr/>
            <p:nvPr/>
          </p:nvSpPr>
          <p:spPr>
            <a:xfrm>
              <a:off x="8294400" y="44863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20" name=""/>
            <p:cNvSpPr/>
            <p:nvPr/>
          </p:nvSpPr>
          <p:spPr>
            <a:xfrm>
              <a:off x="8049960" y="44100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21" name=""/>
            <p:cNvSpPr/>
            <p:nvPr/>
          </p:nvSpPr>
          <p:spPr>
            <a:xfrm>
              <a:off x="8361360" y="41353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22" name=""/>
            <p:cNvSpPr/>
            <p:nvPr/>
          </p:nvSpPr>
          <p:spPr>
            <a:xfrm>
              <a:off x="8281800" y="430380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23" name=""/>
            <p:cNvSpPr/>
            <p:nvPr/>
          </p:nvSpPr>
          <p:spPr>
            <a:xfrm>
              <a:off x="8447040" y="418464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24" name=""/>
            <p:cNvSpPr/>
            <p:nvPr/>
          </p:nvSpPr>
          <p:spPr>
            <a:xfrm>
              <a:off x="8574120" y="4270320"/>
              <a:ext cx="7272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25" name=""/>
            <p:cNvSpPr/>
            <p:nvPr/>
          </p:nvSpPr>
          <p:spPr>
            <a:xfrm>
              <a:off x="8478720" y="427968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26" name=""/>
            <p:cNvSpPr/>
            <p:nvPr/>
          </p:nvSpPr>
          <p:spPr>
            <a:xfrm>
              <a:off x="8285040" y="42037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27" name=""/>
            <p:cNvSpPr/>
            <p:nvPr/>
          </p:nvSpPr>
          <p:spPr>
            <a:xfrm>
              <a:off x="8358120" y="436860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28" name=""/>
            <p:cNvSpPr/>
            <p:nvPr/>
          </p:nvSpPr>
          <p:spPr>
            <a:xfrm>
              <a:off x="8377200" y="42577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29" name=""/>
            <p:cNvSpPr/>
            <p:nvPr/>
          </p:nvSpPr>
          <p:spPr>
            <a:xfrm>
              <a:off x="8475480" y="447336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30" name=""/>
            <p:cNvSpPr/>
            <p:nvPr/>
          </p:nvSpPr>
          <p:spPr>
            <a:xfrm>
              <a:off x="8507160" y="437832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31" name=""/>
            <p:cNvSpPr/>
            <p:nvPr/>
          </p:nvSpPr>
          <p:spPr>
            <a:xfrm>
              <a:off x="8386560" y="4457520"/>
              <a:ext cx="7308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32" name=""/>
            <p:cNvSpPr/>
            <p:nvPr/>
          </p:nvSpPr>
          <p:spPr>
            <a:xfrm>
              <a:off x="7456320" y="3716280"/>
              <a:ext cx="73080" cy="7128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33" name=""/>
            <p:cNvSpPr/>
            <p:nvPr/>
          </p:nvSpPr>
          <p:spPr>
            <a:xfrm>
              <a:off x="8047080" y="3384360"/>
              <a:ext cx="72720" cy="716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grpSp>
      <p:sp>
        <p:nvSpPr>
          <p:cNvPr id="534" name=""/>
          <p:cNvSpPr/>
          <p:nvPr/>
        </p:nvSpPr>
        <p:spPr>
          <a:xfrm flipH="1">
            <a:off x="2518920" y="3321000"/>
            <a:ext cx="468360" cy="0"/>
          </a:xfrm>
          <a:prstGeom prst="line">
            <a:avLst/>
          </a:prstGeom>
          <a:ln w="57240">
            <a:solidFill>
              <a:srgbClr val="cc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9"/>
          </p:nvPr>
        </p:nvSpPr>
        <p:spPr/>
        <p:txBody>
          <a:bodyPr/>
          <a:p>
            <a:fld id="{9A87791F-ED30-41A1-BB22-FD537E89EE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1297080" y="225360"/>
            <a:ext cx="7704000" cy="577800"/>
          </a:xfrm>
          <a:prstGeom prst="rect">
            <a:avLst/>
          </a:prstGeom>
          <a:noFill/>
          <a:ln w="0">
            <a:noFill/>
          </a:ln>
        </p:spPr>
        <p:style>
          <a:lnRef idx="0"/>
          <a:fillRef idx="0"/>
          <a:effectRef idx="0"/>
          <a:fontRef idx="minor"/>
        </p:style>
        <p:txBody>
          <a:bodyPr lIns="0" rIns="0" tIns="0" bIns="0" anchor="t">
            <a:normAutofit/>
          </a:bodyPr>
          <a:p>
            <a:pPr marL="798480" indent="-7984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What is Nodal?</a:t>
            </a:r>
            <a:endParaRPr b="0" lang="en-US" sz="3200" spc="-1" strike="noStrike">
              <a:solidFill>
                <a:srgbClr val="ffffff"/>
              </a:solidFill>
              <a:latin typeface="Arial"/>
            </a:endParaRPr>
          </a:p>
        </p:txBody>
      </p:sp>
      <p:sp>
        <p:nvSpPr>
          <p:cNvPr id="536" name=""/>
          <p:cNvSpPr/>
          <p:nvPr/>
        </p:nvSpPr>
        <p:spPr>
          <a:xfrm>
            <a:off x="2664000" y="1341360"/>
            <a:ext cx="3060360" cy="0"/>
          </a:xfrm>
          <a:prstGeom prst="line">
            <a:avLst/>
          </a:prstGeom>
          <a:ln w="1522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txBox="1"/>
          <p:nvPr/>
        </p:nvSpPr>
        <p:spPr>
          <a:xfrm>
            <a:off x="1187280" y="1160640"/>
            <a:ext cx="1260720" cy="28728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Zonal</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538" name=""/>
          <p:cNvSpPr txBox="1"/>
          <p:nvPr/>
        </p:nvSpPr>
        <p:spPr>
          <a:xfrm>
            <a:off x="5832360" y="1197000"/>
            <a:ext cx="1260720" cy="28728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Nodal</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graphicFrame>
        <p:nvGraphicFramePr>
          <p:cNvPr id="539" name=""/>
          <p:cNvGraphicFramePr/>
          <p:nvPr/>
        </p:nvGraphicFramePr>
        <p:xfrm>
          <a:off x="358920" y="1844640"/>
          <a:ext cx="8497800" cy="4065480"/>
        </p:xfrm>
        <a:graphic>
          <a:graphicData uri="http://schemas.openxmlformats.org/drawingml/2006/table">
            <a:tbl>
              <a:tblPr/>
              <a:tblGrid>
                <a:gridCol w="3846240"/>
                <a:gridCol w="4651560"/>
              </a:tblGrid>
              <a:tr h="858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ay-Ahead Energy Market</a:t>
                      </a:r>
                      <a:endParaRPr b="0" lang="en-US" sz="24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Day-Ahead Energy and A/S Market</a:t>
                      </a:r>
                      <a:endParaRPr b="0" lang="en-US" sz="24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 Bidding, and Pricing at Zonal Level</a:t>
                      </a:r>
                      <a:endParaRPr b="0" lang="en-US" sz="24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 Offering, and Pricing at Nodal Level </a:t>
                      </a:r>
                      <a:r>
                        <a:rPr b="0" lang="en-US" sz="2000" spc="-1" strike="noStrike">
                          <a:solidFill>
                            <a:srgbClr val="000000"/>
                          </a:solidFill>
                          <a:latin typeface="Arial"/>
                        </a:rPr>
                        <a:t>(Gen at Node level, Load at Load-Zone level)</a:t>
                      </a:r>
                      <a:endParaRPr b="0" lang="en-US" sz="20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85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folio Scheduling and Bidding</a:t>
                      </a:r>
                      <a:endParaRPr b="0" lang="en-US" sz="24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pecific Scheduling, Offering, and Dispatching</a:t>
                      </a:r>
                      <a:endParaRPr b="0" lang="en-US" sz="24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Flowgate Congestion Revenue Rights for crossing-zone CSCs</a:t>
                      </a:r>
                      <a:endParaRPr b="0" lang="en-US" sz="24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least thousands of Congestion Revenue Rights </a:t>
                      </a:r>
                      <a:r>
                        <a:rPr b="0" lang="en-US" sz="2000" spc="-1" strike="noStrike">
                          <a:solidFill>
                            <a:srgbClr val="000000"/>
                          </a:solidFill>
                          <a:latin typeface="Arial"/>
                        </a:rPr>
                        <a:t>(PTP Obligation, PTP Option, FGR)</a:t>
                      </a:r>
                      <a:endParaRPr b="0" lang="en-US" sz="20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9"/>
          </p:nvPr>
        </p:nvSpPr>
        <p:spPr/>
        <p:txBody>
          <a:bodyPr/>
          <a:p>
            <a:fld id="{C41102E5-8DB3-4794-95DE-A432B77704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297080" y="225360"/>
            <a:ext cx="7704000" cy="577800"/>
          </a:xfrm>
          <a:prstGeom prst="rect">
            <a:avLst/>
          </a:prstGeom>
          <a:noFill/>
          <a:ln w="0">
            <a:noFill/>
          </a:ln>
        </p:spPr>
        <p:style>
          <a:lnRef idx="0"/>
          <a:fillRef idx="0"/>
          <a:effectRef idx="0"/>
          <a:fontRef idx="minor"/>
        </p:style>
        <p:txBody>
          <a:bodyPr lIns="0" rIns="0" tIns="0" bIns="0" anchor="t">
            <a:normAutofit/>
          </a:bodyPr>
          <a:p>
            <a:pPr marL="798480" indent="-7984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What is Nodal?</a:t>
            </a:r>
            <a:endParaRPr b="0" lang="en-US" sz="3200" spc="-1" strike="noStrike">
              <a:solidFill>
                <a:srgbClr val="ffffff"/>
              </a:solidFill>
              <a:latin typeface="Arial"/>
            </a:endParaRPr>
          </a:p>
        </p:txBody>
      </p:sp>
      <p:graphicFrame>
        <p:nvGraphicFramePr>
          <p:cNvPr id="541" name=""/>
          <p:cNvGraphicFramePr/>
          <p:nvPr/>
        </p:nvGraphicFramePr>
        <p:xfrm>
          <a:off x="250920" y="1449360"/>
          <a:ext cx="8605800" cy="5183280"/>
        </p:xfrm>
        <a:graphic>
          <a:graphicData uri="http://schemas.openxmlformats.org/drawingml/2006/table">
            <a:tbl>
              <a:tblPr/>
              <a:tblGrid>
                <a:gridCol w="1460520"/>
                <a:gridCol w="1168560"/>
                <a:gridCol w="1187280"/>
                <a:gridCol w="1189080"/>
                <a:gridCol w="1187280"/>
                <a:gridCol w="1152720"/>
                <a:gridCol w="1260360"/>
              </a:tblGrid>
              <a:tr h="336600">
                <a:tc>
                  <a: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2160" marR="92160">
                    <a:lnL>
                      <a:noFill/>
                    </a:lnL>
                    <a:lnR w="13680">
                      <a:solidFill>
                        <a:srgbClr val="000000"/>
                      </a:solidFill>
                    </a:lnR>
                    <a:lnT>
                      <a:noFill/>
                    </a:lnT>
                    <a:lnB w="1368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JM</a:t>
                      </a:r>
                      <a:endParaRPr b="0" lang="en-US" sz="1600" spc="-1" strike="noStrike">
                        <a:solidFill>
                          <a:srgbClr val="ffffff"/>
                        </a:solidFill>
                        <a:latin typeface="Arial"/>
                      </a:endParaRPr>
                    </a:p>
                  </a:txBody>
                  <a:tcPr anchor="ctr">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ffffff"/>
                        </a:gs>
                        <a:gs pos="100000">
                          <a:srgbClr val="66ccff"/>
                        </a:gs>
                      </a:gsLst>
                      <a:path path="rect">
                        <a:fillToRect l="50000" t="50000" r="50000" b="50000"/>
                      </a:path>
                    </a:grad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t>
                      </a:r>
                      <a:endParaRPr b="0" lang="en-US" sz="1600" spc="-1" strike="noStrike">
                        <a:solidFill>
                          <a:srgbClr val="ffffff"/>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ffff"/>
                        </a:gs>
                        <a:gs pos="100000">
                          <a:srgbClr val="66ccff"/>
                        </a:gs>
                      </a:gsLst>
                      <a:path path="rect">
                        <a:fillToRect l="50000" t="50000" r="50000" b="50000"/>
                      </a:path>
                    </a:grad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O</a:t>
                      </a:r>
                      <a:endParaRPr b="0" lang="en-US" sz="1600" spc="-1" strike="noStrike">
                        <a:solidFill>
                          <a:srgbClr val="ffffff"/>
                        </a:solidFill>
                        <a:latin typeface="Arial"/>
                      </a:endParaRPr>
                    </a:p>
                  </a:txBody>
                  <a:tcPr anchor="ctr">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ffffff"/>
                        </a:gs>
                        <a:gs pos="100000">
                          <a:srgbClr val="66ccff"/>
                        </a:gs>
                      </a:gsLst>
                      <a:path path="rect">
                        <a:fillToRect l="50000" t="50000" r="50000" b="50000"/>
                      </a:path>
                    </a:grad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Y</a:t>
                      </a:r>
                      <a:endParaRPr b="0" lang="en-US" sz="1600" spc="-1" strike="noStrike">
                        <a:solidFill>
                          <a:srgbClr val="ffffff"/>
                        </a:solidFill>
                        <a:latin typeface="Arial"/>
                      </a:endParaRPr>
                    </a:p>
                  </a:txBody>
                  <a:tcPr anchor="ctr">
                    <a:lnL w="13680">
                      <a:solidFill>
                        <a:srgbClr val="000000"/>
                      </a:solidFill>
                    </a:lnL>
                    <a:lnR w="13680">
                      <a:solidFill>
                        <a:srgbClr val="000000"/>
                      </a:solidFill>
                    </a:lnR>
                    <a:lnT w="13680">
                      <a:solidFill>
                        <a:srgbClr val="000000"/>
                      </a:solidFill>
                    </a:lnT>
                    <a:lnB w="13680">
                      <a:solidFill>
                        <a:srgbClr val="000000"/>
                      </a:solidFill>
                    </a:lnB>
                    <a:gradFill rotWithShape="0">
                      <a:gsLst>
                        <a:gs pos="0">
                          <a:srgbClr val="ffffff"/>
                        </a:gs>
                        <a:gs pos="100000">
                          <a:srgbClr val="66ccff"/>
                        </a:gs>
                      </a:gsLst>
                      <a:path path="rect">
                        <a:fillToRect l="50000" t="50000" r="50000" b="50000"/>
                      </a:path>
                    </a:grad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ffffff"/>
                        </a:solidFill>
                        <a:latin typeface="Arial"/>
                      </a:endParaRPr>
                    </a:p>
                  </a:txBody>
                  <a:tcPr anchor="ctr">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ffffff"/>
                        </a:gs>
                        <a:gs pos="100000">
                          <a:srgbClr val="ff7c80"/>
                        </a:gs>
                      </a:gsLst>
                      <a:path path="rect">
                        <a:fillToRect l="50000" t="50000" r="50000" b="50000"/>
                      </a:path>
                    </a:grad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a:t>
                      </a:r>
                      <a:endParaRPr b="0" lang="en-US" sz="1600" spc="-1" strike="noStrike">
                        <a:solidFill>
                          <a:srgbClr val="ffffff"/>
                        </a:solidFill>
                        <a:latin typeface="Arial"/>
                      </a:endParaRPr>
                    </a:p>
                  </a:txBody>
                  <a:tcPr anchor="ctr">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ffffff"/>
                        </a:gs>
                        <a:gs pos="100000">
                          <a:srgbClr val="ff7c80"/>
                        </a:gs>
                      </a:gsLst>
                      <a:path path="rect">
                        <a:fillToRect l="50000" t="50000" r="50000" b="50000"/>
                      </a:path>
                    </a:gradFill>
                  </a:tcPr>
                </a:tc>
              </a:tr>
              <a:tr h="612720">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stion Management</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13680">
                      <a:solidFill>
                        <a:srgbClr val="000000"/>
                      </a:solidFill>
                    </a:lnT>
                    <a:lnB w="5760">
                      <a:solidFill>
                        <a:srgbClr val="000000"/>
                      </a:solidFill>
                    </a:lnB>
                    <a:gradFill rotWithShape="0">
                      <a:gsLst>
                        <a:gs pos="0">
                          <a:srgbClr val="ffffff"/>
                        </a:gs>
                        <a:gs pos="100000">
                          <a:srgbClr val="66ff66"/>
                        </a:gs>
                      </a:gsLst>
                      <a:path path="rect">
                        <a:fillToRect l="50000" t="50000" r="50000" b="50000"/>
                      </a:path>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LMP</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LMP</a:t>
                      </a:r>
                      <a:endParaRPr b="0" lang="en-US" sz="1600" spc="-1" strike="noStrike">
                        <a:solidFill>
                          <a:srgbClr val="ffffff"/>
                        </a:solidFill>
                        <a:latin typeface="Arial"/>
                      </a:endParaRPr>
                    </a:p>
                  </a:txBody>
                  <a:tcPr anchor="ctr" marL="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LMP</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LMP</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1368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ntra-zonal</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9999"/>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al CSC/ Local</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9999"/>
                        </a:gs>
                        <a:gs pos="100000">
                          <a:srgbClr val="ffffff"/>
                        </a:gs>
                      </a:gsLst>
                      <a:lin ang="13500000"/>
                    </a:gradFill>
                  </a:tcPr>
                </a:tc>
              </a:tr>
              <a:tr h="633600">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ssion Rights</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66ff66"/>
                        </a:gs>
                      </a:gsLst>
                      <a:path path="rect">
                        <a:fillToRect l="50000" t="50000" r="50000" b="50000"/>
                      </a:path>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ffffff"/>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al</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9999"/>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9999"/>
                        </a:gs>
                        <a:gs pos="100000">
                          <a:srgbClr val="ffffff"/>
                        </a:gs>
                      </a:gsLst>
                      <a:lin ang="13500000"/>
                    </a:gradFill>
                  </a:tcPr>
                </a:tc>
              </a:tr>
              <a:tr h="768240">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s</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66ff66"/>
                        </a:gs>
                      </a:gsLst>
                      <a:path path="rect">
                        <a:fillToRect l="50000" t="50000" r="50000" b="50000"/>
                      </a:path>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 RT, FTR</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 RT, FTR</a:t>
                      </a:r>
                      <a:endParaRPr b="0" lang="en-US" sz="1600" spc="-1" strike="noStrike">
                        <a:solidFill>
                          <a:srgbClr val="ffffff"/>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 RT, FTR</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 RT, TCR</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 HA, RT</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9999"/>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TCR</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9999"/>
                        </a:gs>
                        <a:gs pos="100000">
                          <a:srgbClr val="ffffff"/>
                        </a:gs>
                      </a:gsLst>
                      <a:lin ang="13500000"/>
                    </a:gradFill>
                  </a:tcPr>
                </a:tc>
              </a:tr>
              <a:tr h="871560">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ateral Trans-action (Internal)</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66ff66"/>
                        </a:gs>
                      </a:gsLst>
                      <a:path path="rect">
                        <a:fillToRect l="50000" t="50000" r="50000" b="50000"/>
                      </a:path>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ffffff"/>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 / Physical</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9999"/>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al</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9999"/>
                        </a:gs>
                        <a:gs pos="100000">
                          <a:srgbClr val="ffffff"/>
                        </a:gs>
                      </a:gsLst>
                      <a:lin ang="13500000"/>
                    </a:gradFill>
                  </a:tcPr>
                </a:tc>
              </a:tr>
              <a:tr h="614160">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tion Model</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66ff66"/>
                        </a:gs>
                      </a:gsLst>
                      <a:path path="rect">
                        <a:fillToRect l="50000" t="50000" r="50000" b="50000"/>
                      </a:path>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zone, hub</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zone, hub</a:t>
                      </a:r>
                      <a:endParaRPr b="0" lang="en-US" sz="1600" spc="-1" strike="noStrike">
                        <a:solidFill>
                          <a:srgbClr val="ffffff"/>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zone, hub</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zone, hub</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no loop)</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9999"/>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al (meshed)</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9999"/>
                        </a:gs>
                        <a:gs pos="100000">
                          <a:srgbClr val="ffffff"/>
                        </a:gs>
                      </a:gsLst>
                      <a:lin ang="13500000"/>
                    </a:gradFill>
                  </a:tcPr>
                </a:tc>
              </a:tr>
              <a:tr h="733680">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 Model</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ffffff"/>
                        </a:gs>
                        <a:gs pos="100000">
                          <a:srgbClr val="66ff66"/>
                        </a:gs>
                      </a:gsLst>
                      <a:path path="rect">
                        <a:fillToRect l="50000" t="50000" r="50000" b="50000"/>
                      </a:path>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Specific</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Specific</a:t>
                      </a:r>
                      <a:endParaRPr b="0" lang="en-US" sz="1600" spc="-1" strike="noStrike">
                        <a:solidFill>
                          <a:srgbClr val="ffffff"/>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Specific</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Specific</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folio &amp; Unit Specific</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9999"/>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folio</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9999"/>
                        </a:gs>
                        <a:gs pos="100000">
                          <a:srgbClr val="ffffff"/>
                        </a:gs>
                      </a:gsLst>
                      <a:lin ang="13500000"/>
                    </a:gradFill>
                  </a:tcPr>
                </a:tc>
              </a:tr>
              <a:tr h="612720">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Commitment</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13680">
                      <a:solidFill>
                        <a:srgbClr val="000000"/>
                      </a:solidFill>
                    </a:lnB>
                    <a:gradFill rotWithShape="0">
                      <a:gsLst>
                        <a:gs pos="0">
                          <a:srgbClr val="ffffff"/>
                        </a:gs>
                        <a:gs pos="100000">
                          <a:srgbClr val="66ff66"/>
                        </a:gs>
                      </a:gsLst>
                      <a:path path="rect">
                        <a:fillToRect l="50000" t="50000" r="50000" b="50000"/>
                      </a:path>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 + DA + RUC</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 + DA + RUC</a:t>
                      </a:r>
                      <a:endParaRPr b="0" lang="en-US" sz="1600" spc="-1" strike="noStrike">
                        <a:solidFill>
                          <a:srgbClr val="ffffff"/>
                        </a:solidFill>
                        <a:latin typeface="Arial"/>
                      </a:endParaRPr>
                    </a:p>
                  </a:txBody>
                  <a:tcPr anchor="ctr" marL="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 + DA + RUC</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 + DA + RUC</a:t>
                      </a:r>
                      <a:endParaRPr b="0" lang="en-US" sz="1600" spc="-1" strike="noStrike">
                        <a:solidFill>
                          <a:srgbClr val="ffffff"/>
                        </a:solidFill>
                        <a:latin typeface="Arial"/>
                      </a:endParaRPr>
                    </a:p>
                  </a:txBody>
                  <a:tcPr anchor="ctr" marL="90000">
                    <a:lnL w="13680">
                      <a:solidFill>
                        <a:srgbClr val="000000"/>
                      </a:solidFill>
                    </a:lnL>
                    <a:lnR w="13680">
                      <a:solidFill>
                        <a:srgbClr val="000000"/>
                      </a:solidFill>
                    </a:lnR>
                    <a:lnT w="5760">
                      <a:solidFill>
                        <a:srgbClr val="000000"/>
                      </a:solidFill>
                    </a:lnT>
                    <a:lnB w="13680">
                      <a:solidFill>
                        <a:srgbClr val="000000"/>
                      </a:solidFill>
                    </a:lnB>
                    <a:gradFill rotWithShape="0">
                      <a:gsLst>
                        <a:gs pos="0">
                          <a:srgbClr val="66ccff"/>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 + RUC</a:t>
                      </a:r>
                      <a:endParaRPr b="0" lang="en-US" sz="1600" spc="-1" strike="noStrike">
                        <a:solidFill>
                          <a:srgbClr val="ffffff"/>
                        </a:solidFill>
                        <a:latin typeface="Arial"/>
                      </a:endParaRPr>
                    </a:p>
                  </a:txBody>
                  <a:tcPr anchor="ctr" marL="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9999"/>
                        </a:gs>
                        <a:gs pos="100000">
                          <a:srgbClr val="ffffff"/>
                        </a:gs>
                      </a:gsLst>
                      <a:lin ang="13500000"/>
                    </a:gradFill>
                  </a:tcPr>
                </a:tc>
                <a:tc>
                  <a:txBody>
                    <a:bodyPr lIns="9000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 + RPRS</a:t>
                      </a:r>
                      <a:endParaRPr b="0" lang="en-US" sz="1600" spc="-1" strike="noStrike">
                        <a:solidFill>
                          <a:srgbClr val="ffffff"/>
                        </a:solidFill>
                        <a:latin typeface="Arial"/>
                      </a:endParaRPr>
                    </a:p>
                  </a:txBody>
                  <a:tcPr anchor="ctr" marL="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9999"/>
                        </a:gs>
                        <a:gs pos="100000">
                          <a:srgbClr val="ffffff"/>
                        </a:gs>
                      </a:gsLst>
                      <a:lin ang="13500000"/>
                    </a:gradFill>
                  </a:tcPr>
                </a:tc>
              </a:tr>
            </a:tbl>
          </a:graphicData>
        </a:graphic>
      </p:graphicFrame>
      <p:sp>
        <p:nvSpPr>
          <p:cNvPr id="542" name=""/>
          <p:cNvSpPr txBox="1"/>
          <p:nvPr/>
        </p:nvSpPr>
        <p:spPr>
          <a:xfrm rot="21232800">
            <a:off x="2268000" y="1052280"/>
            <a:ext cx="3422880" cy="32364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solidFill>
                  <a:srgbClr val="3366ff">
                    <a:alpha val="25000"/>
                  </a:srgbClr>
                </a:solidFill>
                <a:effectLst>
                  <a:outerShdw dist="17819" dir="2700000" blurRad="0" rotWithShape="0">
                    <a:srgbClr val="c0c0c0">
                      <a:alpha val="80000"/>
                    </a:srgbClr>
                  </a:outerShdw>
                </a:effectLst>
                <a:latin typeface="Impact"/>
              </a:rPr>
              <a:t>Nodal elsewhere</a:t>
            </a:r>
            <a:endParaRPr b="0" lang="en-US" sz="3200" spc="1" strike="noStrike">
              <a:ln w="9360">
                <a:solidFill>
                  <a:srgbClr val="008000"/>
                </a:solidFill>
                <a:miter/>
              </a:ln>
              <a:solidFill>
                <a:srgbClr val="3366ff">
                  <a:alpha val="25000"/>
                </a:srgbClr>
              </a:solidFill>
              <a:effectLst>
                <a:outerShdw dist="17819" dir="2700000" blurRad="0" rotWithShape="0">
                  <a:srgbClr val="c0c0c0">
                    <a:alpha val="80000"/>
                  </a:srgbClr>
                </a:outerShdw>
              </a:effectLst>
              <a:latin typeface="Impact"/>
              <a:ea typeface="Impact"/>
            </a:endParaRPr>
          </a:p>
        </p:txBody>
      </p:sp>
      <p:sp>
        <p:nvSpPr>
          <p:cNvPr id="543" name=""/>
          <p:cNvSpPr txBox="1"/>
          <p:nvPr/>
        </p:nvSpPr>
        <p:spPr>
          <a:xfrm rot="21131400">
            <a:off x="6551640" y="1052280"/>
            <a:ext cx="2449440" cy="32364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solidFill>
                  <a:srgbClr val="ff6600">
                    <a:alpha val="25000"/>
                  </a:srgbClr>
                </a:solidFill>
                <a:effectLst>
                  <a:outerShdw dist="17819" dir="2700000" blurRad="0" rotWithShape="0">
                    <a:srgbClr val="c0c0c0">
                      <a:alpha val="80000"/>
                    </a:srgbClr>
                  </a:outerShdw>
                </a:effectLst>
                <a:latin typeface="Impact"/>
              </a:rPr>
              <a:t>in transition</a:t>
            </a:r>
            <a:endParaRPr b="0" lang="en-US" sz="3200" spc="1" strike="noStrike">
              <a:ln w="9360">
                <a:solidFill>
                  <a:srgbClr val="008000"/>
                </a:solidFill>
                <a:miter/>
              </a:ln>
              <a:solidFill>
                <a:srgbClr val="ff6600">
                  <a:alpha val="25000"/>
                </a:srgbClr>
              </a:solid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9"/>
          </p:nvPr>
        </p:nvSpPr>
        <p:spPr/>
        <p:txBody>
          <a:bodyPr/>
          <a:p>
            <a:fld id="{EF2116A1-EC78-4BC2-8DBA-A7631C1BEC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468360" y="2781360"/>
            <a:ext cx="8244000" cy="576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PlaceHolder 1"/>
          <p:cNvSpPr>
            <a:spLocks noGrp="1"/>
          </p:cNvSpPr>
          <p:nvPr>
            <p:ph/>
          </p:nvPr>
        </p:nvSpPr>
        <p:spPr>
          <a:xfrm>
            <a:off x="468000" y="2060640"/>
            <a:ext cx="8172360" cy="3162240"/>
          </a:xfrm>
          <a:prstGeom prst="rect">
            <a:avLst/>
          </a:prstGeom>
          <a:noFill/>
          <a:ln w="0">
            <a:noFill/>
          </a:ln>
        </p:spPr>
        <p:txBody>
          <a:bodyPr lIns="90000" rIns="0" tIns="46800" bIns="46800" anchor="t">
            <a:normAutofit/>
          </a:bodyPr>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hat is Nodal?</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hy Nodal?</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Elements of Texas Nodal Market</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imeline for Implementation</a:t>
            </a:r>
            <a:endParaRPr b="0" lang="en-US" sz="3600" spc="-1" strike="noStrike">
              <a:solidFill>
                <a:srgbClr val="000000"/>
              </a:solidFill>
              <a:latin typeface="Arial"/>
            </a:endParaRPr>
          </a:p>
        </p:txBody>
      </p:sp>
      <p:sp>
        <p:nvSpPr>
          <p:cNvPr id="546" name=""/>
          <p:cNvSpPr txBox="1"/>
          <p:nvPr/>
        </p:nvSpPr>
        <p:spPr>
          <a:xfrm>
            <a:off x="6948360" y="260280"/>
            <a:ext cx="1963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Road Map</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 name="PlaceHolder 2"/>
          <p:cNvSpPr>
            <a:spLocks noGrp="1"/>
          </p:cNvSpPr>
          <p:nvPr>
            <p:ph type="sldNum" idx="9"/>
          </p:nvPr>
        </p:nvSpPr>
        <p:spPr/>
        <p:txBody>
          <a:bodyPr/>
          <a:p>
            <a:fld id="{82F89CB2-0513-4BAE-8BD4-83ABFA6ABB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1258920" y="225360"/>
            <a:ext cx="7704000" cy="577800"/>
          </a:xfrm>
          <a:prstGeom prst="rect">
            <a:avLst/>
          </a:prstGeom>
          <a:noFill/>
          <a:ln w="0">
            <a:noFill/>
          </a:ln>
        </p:spPr>
        <p:style>
          <a:lnRef idx="0"/>
          <a:fillRef idx="0"/>
          <a:effectRef idx="0"/>
          <a:fontRef idx="minor"/>
        </p:style>
        <p:txBody>
          <a:bodyPr lIns="0" rIns="0" tIns="0" bIns="0" anchor="t">
            <a:normAutofit/>
          </a:bodyPr>
          <a:p>
            <a:pPr marL="798480" indent="-7984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 Why Nodal?</a:t>
            </a:r>
            <a:endParaRPr b="0" lang="en-US" sz="3200" spc="-1" strike="noStrike">
              <a:solidFill>
                <a:srgbClr val="ffffff"/>
              </a:solidFill>
              <a:latin typeface="Arial"/>
            </a:endParaRPr>
          </a:p>
        </p:txBody>
      </p:sp>
      <p:sp>
        <p:nvSpPr>
          <p:cNvPr id="548" name=""/>
          <p:cNvSpPr/>
          <p:nvPr/>
        </p:nvSpPr>
        <p:spPr>
          <a:xfrm>
            <a:off x="539640" y="1376280"/>
            <a:ext cx="8280360" cy="420804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buSzPct val="102884"/>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2400" spc="-1" strike="noStrike">
                <a:solidFill>
                  <a:srgbClr val="ffffff"/>
                </a:solidFill>
                <a:latin typeface="Arial Rounded MT Bold"/>
              </a:rPr>
              <a:t>Precise market-based pricing of energy</a:t>
            </a:r>
            <a:endParaRPr b="0" lang="en-US" sz="2400" spc="-1" strike="noStrike">
              <a:solidFill>
                <a:srgbClr val="ffffff"/>
              </a:solidFill>
              <a:latin typeface="Arial"/>
            </a:endParaRPr>
          </a:p>
          <a:p>
            <a:pPr marL="345960" indent="-345960">
              <a:lnSpc>
                <a:spcPct val="100000"/>
              </a:lnSpc>
              <a:spcBef>
                <a:spcPts val="1500"/>
              </a:spcBef>
              <a:buSzPct val="102884"/>
              <a:buBlip>
                <a:blip r:embed="rId2"/>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2400" spc="-1" strike="noStrike">
                <a:solidFill>
                  <a:srgbClr val="ffffff"/>
                </a:solidFill>
                <a:latin typeface="Arial Rounded MT Bold"/>
              </a:rPr>
              <a:t>More granular price signals</a:t>
            </a:r>
            <a:endParaRPr b="0" lang="en-US" sz="2400" spc="-1" strike="noStrike">
              <a:solidFill>
                <a:srgbClr val="ffffff"/>
              </a:solidFill>
              <a:latin typeface="Arial"/>
            </a:endParaRPr>
          </a:p>
          <a:p>
            <a:pPr marL="345960" indent="-345960">
              <a:lnSpc>
                <a:spcPct val="100000"/>
              </a:lnSpc>
              <a:spcBef>
                <a:spcPts val="1500"/>
              </a:spcBef>
              <a:buSzPct val="102884"/>
              <a:buBlip>
                <a:blip r:embed="rId3"/>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2400" spc="-1" strike="noStrike">
                <a:solidFill>
                  <a:srgbClr val="ffffff"/>
                </a:solidFill>
                <a:latin typeface="Arial Rounded MT Bold"/>
              </a:rPr>
              <a:t>Encourage Resource competition</a:t>
            </a:r>
            <a:endParaRPr b="0" lang="en-US" sz="2400" spc="-1" strike="noStrike">
              <a:solidFill>
                <a:srgbClr val="ffffff"/>
              </a:solidFill>
              <a:latin typeface="Arial"/>
            </a:endParaRPr>
          </a:p>
          <a:p>
            <a:pPr lvl="1" marL="469800" indent="-9360">
              <a:lnSpc>
                <a:spcPct val="100000"/>
              </a:lnSpc>
              <a:spcBef>
                <a:spcPts val="751"/>
              </a:spcBef>
              <a:tabLst>
                <a:tab algn="l" pos="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i="1" lang="en-US" sz="2000" spc="-1" strike="noStrike">
                <a:solidFill>
                  <a:srgbClr val="008000"/>
                </a:solidFill>
                <a:latin typeface="Arial"/>
              </a:rPr>
              <a:t>Nodal prices send proper price signals to encourage additional generation and/or transmission investment in proper locations</a:t>
            </a:r>
            <a:r>
              <a:rPr b="1" lang="en-US" sz="2000" spc="-1" strike="noStrike">
                <a:solidFill>
                  <a:srgbClr val="008000"/>
                </a:solidFill>
                <a:latin typeface="Arial"/>
              </a:rPr>
              <a:t>.</a:t>
            </a:r>
            <a:endParaRPr b="0" lang="en-US" sz="2000" spc="-1" strike="noStrike">
              <a:solidFill>
                <a:srgbClr val="ffffff"/>
              </a:solidFill>
              <a:latin typeface="Arial"/>
            </a:endParaRPr>
          </a:p>
          <a:p>
            <a:pPr marL="345960" indent="-345960">
              <a:lnSpc>
                <a:spcPct val="100000"/>
              </a:lnSpc>
              <a:spcBef>
                <a:spcPts val="1500"/>
              </a:spcBef>
              <a:buSzPct val="102884"/>
              <a:buBlip>
                <a:blip r:embed="rId4"/>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2400" spc="-1" strike="noStrike">
                <a:solidFill>
                  <a:srgbClr val="ffffff"/>
                </a:solidFill>
                <a:latin typeface="Arial Rounded MT Bold"/>
              </a:rPr>
              <a:t>Easier and more accurate management of congestion.  </a:t>
            </a:r>
            <a:endParaRPr b="0" lang="en-US" sz="2400" spc="-1" strike="noStrike">
              <a:solidFill>
                <a:srgbClr val="ffffff"/>
              </a:solidFill>
              <a:latin typeface="Arial"/>
            </a:endParaRPr>
          </a:p>
          <a:p>
            <a:pPr lvl="1" marL="469800" indent="-9360">
              <a:lnSpc>
                <a:spcPct val="100000"/>
              </a:lnSpc>
              <a:spcBef>
                <a:spcPts val="751"/>
              </a:spcBef>
              <a:tabLst>
                <a:tab algn="l" pos="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i="1" lang="en-US" sz="2000" spc="-1" strike="noStrike">
                <a:solidFill>
                  <a:srgbClr val="008000"/>
                </a:solidFill>
                <a:latin typeface="Arial"/>
              </a:rPr>
              <a:t>More accurate Resource information.  Market model and operations model are more consistent than current structure.</a:t>
            </a:r>
            <a:endParaRPr b="0" lang="en-US" sz="2000" spc="-1" strike="noStrike">
              <a:solidFill>
                <a:srgbClr val="ffffff"/>
              </a:solidFill>
              <a:latin typeface="Arial"/>
            </a:endParaRPr>
          </a:p>
        </p:txBody>
      </p:sp>
      <p:sp>
        <p:nvSpPr>
          <p:cNvPr id="2" name="PlaceHolder 1"/>
          <p:cNvSpPr>
            <a:spLocks noGrp="1"/>
          </p:cNvSpPr>
          <p:nvPr>
            <p:ph type="sldNum" idx="9"/>
          </p:nvPr>
        </p:nvSpPr>
        <p:spPr/>
        <p:txBody>
          <a:bodyPr/>
          <a:p>
            <a:fld id="{732C2990-4E4F-4E0B-BBC0-7D75A03686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68360" y="3429000"/>
            <a:ext cx="8244000" cy="576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PlaceHolder 1"/>
          <p:cNvSpPr>
            <a:spLocks noGrp="1"/>
          </p:cNvSpPr>
          <p:nvPr>
            <p:ph/>
          </p:nvPr>
        </p:nvSpPr>
        <p:spPr>
          <a:xfrm>
            <a:off x="468000" y="2060640"/>
            <a:ext cx="8172360" cy="3162240"/>
          </a:xfrm>
          <a:prstGeom prst="rect">
            <a:avLst/>
          </a:prstGeom>
          <a:noFill/>
          <a:ln w="0">
            <a:noFill/>
          </a:ln>
        </p:spPr>
        <p:txBody>
          <a:bodyPr lIns="90000" rIns="0" tIns="46800" bIns="46800" anchor="t">
            <a:normAutofit/>
          </a:bodyPr>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hat is Nodal?</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hy Nodal?</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Elements of Texas Nodal Market</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imeline for Implementation</a:t>
            </a:r>
            <a:endParaRPr b="0" lang="en-US" sz="3600" spc="-1" strike="noStrike">
              <a:solidFill>
                <a:srgbClr val="000000"/>
              </a:solidFill>
              <a:latin typeface="Arial"/>
            </a:endParaRPr>
          </a:p>
        </p:txBody>
      </p:sp>
      <p:sp>
        <p:nvSpPr>
          <p:cNvPr id="551" name=""/>
          <p:cNvSpPr txBox="1"/>
          <p:nvPr/>
        </p:nvSpPr>
        <p:spPr>
          <a:xfrm>
            <a:off x="6948360" y="260280"/>
            <a:ext cx="1963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Road Map</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 name="PlaceHolder 2"/>
          <p:cNvSpPr>
            <a:spLocks noGrp="1"/>
          </p:cNvSpPr>
          <p:nvPr>
            <p:ph type="sldNum" idx="9"/>
          </p:nvPr>
        </p:nvSpPr>
        <p:spPr/>
        <p:txBody>
          <a:bodyPr/>
          <a:p>
            <a:fld id="{4C29785D-96F7-445F-BE9A-D0FE7012B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696000" y="1233360"/>
            <a:ext cx="2340000" cy="5291280"/>
          </a:xfrm>
          <a:prstGeom prst="rightArrow">
            <a:avLst>
              <a:gd name="adj1" fmla="val 50000"/>
              <a:gd name="adj2" fmla="val 25000"/>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554" name=""/>
          <p:cNvSpPr/>
          <p:nvPr/>
        </p:nvSpPr>
        <p:spPr>
          <a:xfrm>
            <a:off x="4643280" y="2563920"/>
            <a:ext cx="1944720" cy="2628720"/>
          </a:xfrm>
          <a:prstGeom prst="rect">
            <a:avLst/>
          </a:prstGeom>
          <a:solidFill>
            <a:srgbClr val="66ccff">
              <a:alpha val="40000"/>
            </a:srgbClr>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ffffff"/>
              </a:solidFill>
              <a:latin typeface="Arial"/>
            </a:endParaRPr>
          </a:p>
        </p:txBody>
      </p:sp>
      <p:sp>
        <p:nvSpPr>
          <p:cNvPr id="555" name=""/>
          <p:cNvSpPr/>
          <p:nvPr/>
        </p:nvSpPr>
        <p:spPr>
          <a:xfrm>
            <a:off x="2484360" y="2563920"/>
            <a:ext cx="2052720" cy="2628720"/>
          </a:xfrm>
          <a:prstGeom prst="rect">
            <a:avLst/>
          </a:prstGeom>
          <a:solidFill>
            <a:srgbClr val="66ccff">
              <a:alpha val="40000"/>
            </a:srgbClr>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ffffff"/>
              </a:solidFill>
              <a:latin typeface="Arial"/>
            </a:endParaRPr>
          </a:p>
        </p:txBody>
      </p:sp>
      <p:sp>
        <p:nvSpPr>
          <p:cNvPr id="556" name=""/>
          <p:cNvSpPr/>
          <p:nvPr/>
        </p:nvSpPr>
        <p:spPr>
          <a:xfrm>
            <a:off x="179280" y="2563920"/>
            <a:ext cx="2052720" cy="2628720"/>
          </a:xfrm>
          <a:prstGeom prst="rect">
            <a:avLst/>
          </a:prstGeom>
          <a:solidFill>
            <a:srgbClr val="66ccff">
              <a:alpha val="40000"/>
            </a:srgbClr>
          </a:solidFill>
          <a:ln w="28440">
            <a:solidFill>
              <a:srgbClr val="000000"/>
            </a:solidFill>
            <a:miter/>
          </a:ln>
        </p:spPr>
        <p:style>
          <a:lnRef idx="0"/>
          <a:fillRef idx="0"/>
          <a:effectRef idx="0"/>
          <a:fontRef idx="minor"/>
        </p:style>
        <p:txBody>
          <a:bodyPr lIns="91800" rIns="91800" anchor="ctr">
            <a:spAutoFit/>
          </a:bodyPr>
          <a:p>
            <a:endParaRPr b="0" lang="en-US" sz="1800" spc="-1" strike="noStrike">
              <a:solidFill>
                <a:srgbClr val="ffffff"/>
              </a:solidFill>
              <a:latin typeface="Arial"/>
            </a:endParaRPr>
          </a:p>
        </p:txBody>
      </p:sp>
      <p:sp>
        <p:nvSpPr>
          <p:cNvPr id="557" name=""/>
          <p:cNvSpPr/>
          <p:nvPr/>
        </p:nvSpPr>
        <p:spPr>
          <a:xfrm>
            <a:off x="372960" y="3447720"/>
            <a:ext cx="1665360" cy="702360"/>
          </a:xfrm>
          <a:prstGeom prst="rect">
            <a:avLst/>
          </a:prstGeom>
          <a:solidFill>
            <a:srgbClr val="ffff99"/>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Rounded MT Bold"/>
              </a:rPr>
              <a:t>Bilateral Market</a:t>
            </a:r>
            <a:endParaRPr b="0" lang="en-US" sz="2000" spc="-1" strike="noStrike">
              <a:solidFill>
                <a:srgbClr val="ffffff"/>
              </a:solidFill>
              <a:latin typeface="Arial"/>
            </a:endParaRPr>
          </a:p>
        </p:txBody>
      </p:sp>
      <p:sp>
        <p:nvSpPr>
          <p:cNvPr id="558" name=""/>
          <p:cNvSpPr/>
          <p:nvPr/>
        </p:nvSpPr>
        <p:spPr>
          <a:xfrm>
            <a:off x="360360" y="2779200"/>
            <a:ext cx="1692360" cy="458280"/>
          </a:xfrm>
          <a:prstGeom prst="rect">
            <a:avLst/>
          </a:prstGeom>
          <a:solidFill>
            <a:srgbClr val="993300"/>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Rounded MT Bold"/>
              </a:rPr>
              <a:t>Forward</a:t>
            </a:r>
            <a:endParaRPr b="0" lang="en-US" sz="2400" spc="-1" strike="noStrike">
              <a:solidFill>
                <a:srgbClr val="ffffff"/>
              </a:solidFill>
              <a:latin typeface="Arial"/>
            </a:endParaRPr>
          </a:p>
        </p:txBody>
      </p:sp>
      <p:sp>
        <p:nvSpPr>
          <p:cNvPr id="559" name=""/>
          <p:cNvSpPr/>
          <p:nvPr/>
        </p:nvSpPr>
        <p:spPr>
          <a:xfrm>
            <a:off x="372960" y="4480920"/>
            <a:ext cx="1665360" cy="397440"/>
          </a:xfrm>
          <a:prstGeom prst="rect">
            <a:avLst/>
          </a:prstGeom>
          <a:solidFill>
            <a:srgbClr val="ffff99"/>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Rounded MT Bold"/>
              </a:rPr>
              <a:t>CRR Auction</a:t>
            </a:r>
            <a:endParaRPr b="0" lang="en-US" sz="2000" spc="-1" strike="noStrike">
              <a:solidFill>
                <a:srgbClr val="ffffff"/>
              </a:solidFill>
              <a:latin typeface="Arial"/>
            </a:endParaRPr>
          </a:p>
        </p:txBody>
      </p:sp>
      <p:sp>
        <p:nvSpPr>
          <p:cNvPr id="560" name=""/>
          <p:cNvSpPr/>
          <p:nvPr/>
        </p:nvSpPr>
        <p:spPr>
          <a:xfrm>
            <a:off x="2676600" y="3472920"/>
            <a:ext cx="1665360" cy="702360"/>
          </a:xfrm>
          <a:prstGeom prst="rect">
            <a:avLst/>
          </a:prstGeom>
          <a:solidFill>
            <a:srgbClr val="ffff99"/>
          </a:solidFill>
          <a:ln w="0">
            <a:noFill/>
          </a:ln>
        </p:spPr>
        <p:style>
          <a:lnRef idx="0"/>
          <a:fillRef idx="0"/>
          <a:effectRef idx="0"/>
          <a:fontRef idx="minor"/>
        </p:style>
        <p:txBody>
          <a:bodyPr lIns="0" rIns="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Rounded MT Bold"/>
              </a:rPr>
              <a:t>Energy, A/S, &amp; CRR Market</a:t>
            </a:r>
            <a:endParaRPr b="0" lang="en-US" sz="2000" spc="-1" strike="noStrike">
              <a:solidFill>
                <a:srgbClr val="ffffff"/>
              </a:solidFill>
              <a:latin typeface="Arial"/>
            </a:endParaRPr>
          </a:p>
        </p:txBody>
      </p:sp>
      <p:sp>
        <p:nvSpPr>
          <p:cNvPr id="561" name=""/>
          <p:cNvSpPr/>
          <p:nvPr/>
        </p:nvSpPr>
        <p:spPr>
          <a:xfrm>
            <a:off x="2664000" y="2779200"/>
            <a:ext cx="1692000" cy="458280"/>
          </a:xfrm>
          <a:prstGeom prst="rect">
            <a:avLst/>
          </a:prstGeom>
          <a:solidFill>
            <a:srgbClr val="993300"/>
          </a:solidFill>
          <a:ln w="0">
            <a:noFill/>
          </a:ln>
        </p:spPr>
        <p:style>
          <a:lnRef idx="0"/>
          <a:fillRef idx="0"/>
          <a:effectRef idx="0"/>
          <a:fontRef idx="minor"/>
        </p:style>
        <p:txBody>
          <a:bodyPr lIns="0" rIns="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Rounded MT Bold"/>
              </a:rPr>
              <a:t>Day-ahead</a:t>
            </a:r>
            <a:endParaRPr b="0" lang="en-US" sz="2400" spc="-1" strike="noStrike">
              <a:solidFill>
                <a:srgbClr val="ffffff"/>
              </a:solidFill>
              <a:latin typeface="Arial"/>
            </a:endParaRPr>
          </a:p>
        </p:txBody>
      </p:sp>
      <p:sp>
        <p:nvSpPr>
          <p:cNvPr id="562" name=""/>
          <p:cNvSpPr/>
          <p:nvPr/>
        </p:nvSpPr>
        <p:spPr>
          <a:xfrm>
            <a:off x="2678040" y="4588920"/>
            <a:ext cx="1665360" cy="397440"/>
          </a:xfrm>
          <a:prstGeom prst="rect">
            <a:avLst/>
          </a:prstGeom>
          <a:solidFill>
            <a:srgbClr val="ffff99"/>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Rounded MT Bold"/>
              </a:rPr>
              <a:t>RUC Market</a:t>
            </a:r>
            <a:endParaRPr b="0" lang="en-US" sz="2000" spc="-1" strike="noStrike">
              <a:solidFill>
                <a:srgbClr val="ffffff"/>
              </a:solidFill>
              <a:latin typeface="Arial"/>
            </a:endParaRPr>
          </a:p>
        </p:txBody>
      </p:sp>
      <p:sp>
        <p:nvSpPr>
          <p:cNvPr id="563" name=""/>
          <p:cNvSpPr/>
          <p:nvPr/>
        </p:nvSpPr>
        <p:spPr>
          <a:xfrm>
            <a:off x="4764240" y="3573360"/>
            <a:ext cx="1665000" cy="397440"/>
          </a:xfrm>
          <a:prstGeom prst="rect">
            <a:avLst/>
          </a:prstGeom>
          <a:solidFill>
            <a:srgbClr val="ffff99"/>
          </a:solidFill>
          <a:ln w="0">
            <a:noFill/>
          </a:ln>
        </p:spPr>
        <p:style>
          <a:lnRef idx="0"/>
          <a:fillRef idx="0"/>
          <a:effectRef idx="0"/>
          <a:fontRef idx="minor"/>
        </p:style>
        <p:txBody>
          <a:bodyPr lIns="0" rIns="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Rounded MT Bold"/>
              </a:rPr>
              <a:t>RUC Market</a:t>
            </a:r>
            <a:endParaRPr b="0" lang="en-US" sz="2000" spc="-1" strike="noStrike">
              <a:solidFill>
                <a:srgbClr val="ffffff"/>
              </a:solidFill>
              <a:latin typeface="Arial"/>
            </a:endParaRPr>
          </a:p>
        </p:txBody>
      </p:sp>
      <p:sp>
        <p:nvSpPr>
          <p:cNvPr id="564" name=""/>
          <p:cNvSpPr/>
          <p:nvPr/>
        </p:nvSpPr>
        <p:spPr>
          <a:xfrm>
            <a:off x="4751280" y="2779200"/>
            <a:ext cx="1692360" cy="458280"/>
          </a:xfrm>
          <a:prstGeom prst="rect">
            <a:avLst/>
          </a:prstGeom>
          <a:solidFill>
            <a:srgbClr val="993300"/>
          </a:solidFill>
          <a:ln w="0">
            <a:noFill/>
          </a:ln>
        </p:spPr>
        <p:style>
          <a:lnRef idx="0"/>
          <a:fillRef idx="0"/>
          <a:effectRef idx="0"/>
          <a:fontRef idx="minor"/>
        </p:style>
        <p:txBody>
          <a:bodyPr lIns="0" rIns="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Rounded MT Bold"/>
              </a:rPr>
              <a:t>HR-ahead</a:t>
            </a:r>
            <a:endParaRPr b="0" lang="en-US" sz="2400" spc="-1" strike="noStrike">
              <a:solidFill>
                <a:srgbClr val="ffffff"/>
              </a:solidFill>
              <a:latin typeface="Arial"/>
            </a:endParaRPr>
          </a:p>
        </p:txBody>
      </p:sp>
      <p:sp>
        <p:nvSpPr>
          <p:cNvPr id="565" name=""/>
          <p:cNvSpPr/>
          <p:nvPr/>
        </p:nvSpPr>
        <p:spPr>
          <a:xfrm>
            <a:off x="6781680" y="3435120"/>
            <a:ext cx="1665360" cy="702360"/>
          </a:xfrm>
          <a:prstGeom prst="rect">
            <a:avLst/>
          </a:prstGeom>
          <a:solidFill>
            <a:srgbClr val="ffff99"/>
          </a:solidFill>
          <a:ln w="0">
            <a:noFill/>
          </a:ln>
        </p:spPr>
        <p:style>
          <a:lnRef idx="0"/>
          <a:fillRef idx="0"/>
          <a:effectRef idx="0"/>
          <a:fontRef idx="minor"/>
        </p:style>
        <p:txBody>
          <a:bodyPr lIns="0" rIns="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Rounded MT Bold"/>
              </a:rPr>
              <a:t>Energy Market</a:t>
            </a:r>
            <a:endParaRPr b="0" lang="en-US" sz="2000" spc="-1" strike="noStrike">
              <a:solidFill>
                <a:srgbClr val="ffffff"/>
              </a:solidFill>
              <a:latin typeface="Arial"/>
            </a:endParaRPr>
          </a:p>
        </p:txBody>
      </p:sp>
      <p:sp>
        <p:nvSpPr>
          <p:cNvPr id="566" name=""/>
          <p:cNvSpPr/>
          <p:nvPr/>
        </p:nvSpPr>
        <p:spPr>
          <a:xfrm>
            <a:off x="6769080" y="2755440"/>
            <a:ext cx="1692360" cy="458280"/>
          </a:xfrm>
          <a:prstGeom prst="rect">
            <a:avLst/>
          </a:prstGeom>
          <a:solidFill>
            <a:srgbClr val="993300"/>
          </a:solidFill>
          <a:ln w="0">
            <a:noFill/>
          </a:ln>
        </p:spPr>
        <p:style>
          <a:lnRef idx="0"/>
          <a:fillRef idx="0"/>
          <a:effectRef idx="0"/>
          <a:fontRef idx="minor"/>
        </p:style>
        <p:txBody>
          <a:bodyPr lIns="0" rIns="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Rounded MT Bold"/>
              </a:rPr>
              <a:t>Real-Time</a:t>
            </a:r>
            <a:endParaRPr b="0" lang="en-US" sz="2400" spc="-1" strike="noStrike">
              <a:solidFill>
                <a:srgbClr val="ffffff"/>
              </a:solidFill>
              <a:latin typeface="Arial"/>
            </a:endParaRPr>
          </a:p>
        </p:txBody>
      </p:sp>
      <p:sp>
        <p:nvSpPr>
          <p:cNvPr id="2" name="PlaceHolder 1"/>
          <p:cNvSpPr>
            <a:spLocks noGrp="1"/>
          </p:cNvSpPr>
          <p:nvPr>
            <p:ph type="sldNum" idx="9"/>
          </p:nvPr>
        </p:nvSpPr>
        <p:spPr/>
        <p:txBody>
          <a:bodyPr/>
          <a:p>
            <a:fld id="{A1C6EC0E-2A6A-468A-9F29-FD78076D73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568" name=""/>
          <p:cNvSpPr/>
          <p:nvPr/>
        </p:nvSpPr>
        <p:spPr>
          <a:xfrm>
            <a:off x="216000" y="1844640"/>
            <a:ext cx="8785080" cy="359280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The Day-Ahead (DA) Market is a daily, co-optimized market in the DA for Energy, Ancillary Service capacity and certain Congestion Revenue Rights</a:t>
            </a:r>
            <a:endParaRPr b="0" lang="en-US" sz="2200" spc="-1" strike="noStrike">
              <a:solidFill>
                <a:srgbClr val="ffffff"/>
              </a:solidFill>
              <a:latin typeface="Arial"/>
            </a:endParaRPr>
          </a:p>
          <a:p>
            <a:pPr marL="457200" indent="-457200">
              <a:lnSpc>
                <a:spcPct val="100000"/>
              </a:lnSpc>
              <a:spcBef>
                <a:spcPts val="1375"/>
              </a:spcBef>
              <a:buSzPct val="102909"/>
              <a:buBlip>
                <a:blip r:embed="rId2"/>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The Primary purposes of DAM are:</a:t>
            </a:r>
            <a:endParaRPr b="0" lang="en-US" sz="2200" spc="-1" strike="noStrike">
              <a:solidFill>
                <a:srgbClr val="ffffff"/>
              </a:solidFill>
              <a:latin typeface="Arial"/>
            </a:endParaRPr>
          </a:p>
          <a:p>
            <a:pPr lvl="1" marL="797040" indent="-225360">
              <a:lnSpc>
                <a:spcPct val="100000"/>
              </a:lnSpc>
              <a:spcBef>
                <a:spcPts val="675"/>
              </a:spcBef>
              <a:buSzPct val="102812"/>
              <a:buBlip>
                <a:blip r:embed="rId3"/>
              </a:buBlip>
              <a:tabLst>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Lst>
            </a:pPr>
            <a:r>
              <a:rPr b="0" lang="en-US" sz="1800" spc="-1" strike="noStrike">
                <a:solidFill>
                  <a:srgbClr val="008000"/>
                </a:solidFill>
                <a:latin typeface="Arial"/>
              </a:rPr>
              <a:t>Arrange for energy and Ancillary Service for tomorrow</a:t>
            </a:r>
            <a:endParaRPr b="0" lang="en-US" sz="1800" spc="-1" strike="noStrike">
              <a:solidFill>
                <a:srgbClr val="ffffff"/>
              </a:solidFill>
              <a:latin typeface="Arial"/>
            </a:endParaRPr>
          </a:p>
          <a:p>
            <a:pPr lvl="1" marL="797040" indent="-225360">
              <a:lnSpc>
                <a:spcPct val="100000"/>
              </a:lnSpc>
              <a:spcBef>
                <a:spcPts val="224"/>
              </a:spcBef>
              <a:buSzPct val="102812"/>
              <a:buBlip>
                <a:blip r:embed="rId4"/>
              </a:buBlip>
              <a:tabLst>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Lst>
            </a:pPr>
            <a:r>
              <a:rPr b="0" lang="en-US" sz="1800" spc="-1" strike="noStrike">
                <a:solidFill>
                  <a:srgbClr val="008000"/>
                </a:solidFill>
                <a:latin typeface="Arial"/>
              </a:rPr>
              <a:t>Provide price discovery for tomorrow</a:t>
            </a:r>
            <a:endParaRPr b="0" lang="en-US" sz="1800" spc="-1" strike="noStrike">
              <a:solidFill>
                <a:srgbClr val="ffffff"/>
              </a:solidFill>
              <a:latin typeface="Arial"/>
            </a:endParaRPr>
          </a:p>
          <a:p>
            <a:pPr lvl="1" marL="797040" indent="-225360">
              <a:lnSpc>
                <a:spcPct val="100000"/>
              </a:lnSpc>
              <a:spcBef>
                <a:spcPts val="224"/>
              </a:spcBef>
              <a:buSzPct val="102812"/>
              <a:buBlip>
                <a:blip r:embed="rId5"/>
              </a:buBlip>
              <a:tabLst>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Lst>
            </a:pPr>
            <a:r>
              <a:rPr b="0" lang="en-US" sz="1800" spc="-1" strike="noStrike">
                <a:solidFill>
                  <a:srgbClr val="008000"/>
                </a:solidFill>
                <a:latin typeface="Arial"/>
              </a:rPr>
              <a:t>Provide price certainty for tomorrow</a:t>
            </a:r>
            <a:endParaRPr b="0" lang="en-US" sz="1800" spc="-1" strike="noStrike">
              <a:solidFill>
                <a:srgbClr val="ffffff"/>
              </a:solidFill>
              <a:latin typeface="Arial"/>
            </a:endParaRPr>
          </a:p>
          <a:p>
            <a:pPr marL="457200" indent="-457200">
              <a:lnSpc>
                <a:spcPct val="100000"/>
              </a:lnSpc>
              <a:spcBef>
                <a:spcPts val="1375"/>
              </a:spcBef>
              <a:buSzPct val="102909"/>
              <a:buBlip>
                <a:blip r:embed="rId6"/>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DAM is not necessary for reliability of the electric grid</a:t>
            </a:r>
            <a:endParaRPr b="0" lang="en-US" sz="2200" spc="-1" strike="noStrike">
              <a:solidFill>
                <a:srgbClr val="ffffff"/>
              </a:solidFill>
              <a:latin typeface="Arial"/>
            </a:endParaRPr>
          </a:p>
          <a:p>
            <a:pPr marL="457200" indent="-457200">
              <a:lnSpc>
                <a:spcPct val="100000"/>
              </a:lnSpc>
              <a:spcBef>
                <a:spcPts val="1375"/>
              </a:spcBef>
              <a:buSzPct val="102909"/>
              <a:buBlip>
                <a:blip r:embed="rId7"/>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Participation in DAM is voluntary, except for RMR units</a:t>
            </a:r>
            <a:endParaRPr b="0" lang="en-US" sz="2200" spc="-1" strike="noStrike">
              <a:solidFill>
                <a:srgbClr val="ffffff"/>
              </a:solidFill>
              <a:latin typeface="Arial"/>
            </a:endParaRPr>
          </a:p>
        </p:txBody>
      </p:sp>
      <p:sp>
        <p:nvSpPr>
          <p:cNvPr id="569" name=""/>
          <p:cNvSpPr txBox="1"/>
          <p:nvPr/>
        </p:nvSpPr>
        <p:spPr>
          <a:xfrm>
            <a:off x="324000" y="1341360"/>
            <a:ext cx="381636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Day-Ahead Market (DAM)</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9"/>
          </p:nvPr>
        </p:nvSpPr>
        <p:spPr/>
        <p:txBody>
          <a:bodyPr/>
          <a:p>
            <a:fld id="{A9E367B3-99F9-4637-8447-6C9A0FBAD2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4179960" y="127944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571"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572" name=""/>
          <p:cNvSpPr txBox="1"/>
          <p:nvPr/>
        </p:nvSpPr>
        <p:spPr>
          <a:xfrm>
            <a:off x="324000" y="1341360"/>
            <a:ext cx="381636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Day-Ahead Market (DAM)</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grpSp>
        <p:nvGrpSpPr>
          <p:cNvPr id="573" name=""/>
          <p:cNvGrpSpPr/>
          <p:nvPr/>
        </p:nvGrpSpPr>
        <p:grpSpPr>
          <a:xfrm>
            <a:off x="1720800" y="3067200"/>
            <a:ext cx="6134040" cy="1807920"/>
            <a:chOff x="1720800" y="3067200"/>
            <a:chExt cx="6134040" cy="1807920"/>
          </a:xfrm>
        </p:grpSpPr>
        <p:sp>
          <p:nvSpPr>
            <p:cNvPr id="574" name=""/>
            <p:cNvSpPr/>
            <p:nvPr/>
          </p:nvSpPr>
          <p:spPr>
            <a:xfrm>
              <a:off x="1720800" y="3067200"/>
              <a:ext cx="6134040" cy="1807920"/>
            </a:xfrm>
            <a:custGeom>
              <a:avLst/>
              <a:gdLst/>
              <a:ahLst/>
              <a:rect l="l" t="t" r="r" b="b"/>
              <a:pathLst>
                <a:path w="9661" h="2849">
                  <a:moveTo>
                    <a:pt x="7246" y="0"/>
                  </a:moveTo>
                  <a:lnTo>
                    <a:pt x="7246" y="712"/>
                  </a:lnTo>
                  <a:lnTo>
                    <a:pt x="0" y="712"/>
                  </a:lnTo>
                  <a:lnTo>
                    <a:pt x="0" y="2136"/>
                  </a:lnTo>
                  <a:lnTo>
                    <a:pt x="7246" y="2136"/>
                  </a:lnTo>
                  <a:lnTo>
                    <a:pt x="7246" y="2849"/>
                  </a:lnTo>
                  <a:lnTo>
                    <a:pt x="9661" y="1424"/>
                  </a:lnTo>
                  <a:lnTo>
                    <a:pt x="7246"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1720800" y="3067200"/>
              <a:ext cx="6134040" cy="1807920"/>
            </a:xfrm>
            <a:custGeom>
              <a:avLst/>
              <a:gdLst/>
              <a:ahLst/>
              <a:rect l="l" t="t" r="r" b="b"/>
              <a:pathLst>
                <a:path w="9661" h="2849">
                  <a:moveTo>
                    <a:pt x="7246" y="0"/>
                  </a:moveTo>
                  <a:lnTo>
                    <a:pt x="7246" y="712"/>
                  </a:lnTo>
                  <a:lnTo>
                    <a:pt x="0" y="712"/>
                  </a:lnTo>
                  <a:lnTo>
                    <a:pt x="0" y="2136"/>
                  </a:lnTo>
                  <a:lnTo>
                    <a:pt x="7246" y="2136"/>
                  </a:lnTo>
                  <a:lnTo>
                    <a:pt x="7246" y="2849"/>
                  </a:lnTo>
                  <a:lnTo>
                    <a:pt x="9661" y="1424"/>
                  </a:lnTo>
                  <a:lnTo>
                    <a:pt x="7246" y="0"/>
                  </a:lnTo>
                  <a:close/>
                </a:path>
              </a:pathLst>
            </a:custGeom>
            <a:noFill/>
            <a:ln cap="rnd" w="151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76" name=""/>
          <p:cNvGrpSpPr/>
          <p:nvPr/>
        </p:nvGrpSpPr>
        <p:grpSpPr>
          <a:xfrm>
            <a:off x="4695840" y="3573360"/>
            <a:ext cx="717480" cy="795600"/>
            <a:chOff x="4695840" y="3573360"/>
            <a:chExt cx="717480" cy="795600"/>
          </a:xfrm>
        </p:grpSpPr>
        <p:sp>
          <p:nvSpPr>
            <p:cNvPr id="577" name=""/>
            <p:cNvSpPr/>
            <p:nvPr/>
          </p:nvSpPr>
          <p:spPr>
            <a:xfrm>
              <a:off x="4698360" y="3575880"/>
              <a:ext cx="711720" cy="789840"/>
            </a:xfrm>
            <a:custGeom>
              <a:avLst/>
              <a:gdLst/>
              <a:ahLst/>
              <a:rect l="l" t="t" r="r" b="b"/>
              <a:pathLst>
                <a:path w="6400" h="6800">
                  <a:moveTo>
                    <a:pt x="1067" y="0"/>
                  </a:moveTo>
                  <a:cubicBezTo>
                    <a:pt x="478" y="0"/>
                    <a:pt x="0" y="478"/>
                    <a:pt x="0" y="1067"/>
                  </a:cubicBezTo>
                  <a:lnTo>
                    <a:pt x="0" y="5734"/>
                  </a:lnTo>
                  <a:cubicBezTo>
                    <a:pt x="0" y="6323"/>
                    <a:pt x="478" y="6800"/>
                    <a:pt x="1067" y="6800"/>
                  </a:cubicBezTo>
                  <a:lnTo>
                    <a:pt x="5334" y="6800"/>
                  </a:lnTo>
                  <a:cubicBezTo>
                    <a:pt x="5923" y="6800"/>
                    <a:pt x="6400" y="6323"/>
                    <a:pt x="6400" y="5734"/>
                  </a:cubicBezTo>
                  <a:lnTo>
                    <a:pt x="6400" y="1067"/>
                  </a:lnTo>
                  <a:cubicBezTo>
                    <a:pt x="6400" y="478"/>
                    <a:pt x="5923" y="0"/>
                    <a:pt x="5334" y="0"/>
                  </a:cubicBezTo>
                  <a:lnTo>
                    <a:pt x="1067"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695840" y="3573360"/>
              <a:ext cx="717480" cy="795600"/>
            </a:xfrm>
            <a:custGeom>
              <a:avLst/>
              <a:gdLst/>
              <a:ahLst/>
              <a:rect l="l" t="t" r="r" b="b"/>
              <a:pathLst>
                <a:path w="6450" h="6851">
                  <a:moveTo>
                    <a:pt x="5309" y="50"/>
                  </a:moveTo>
                  <a:lnTo>
                    <a:pt x="5309" y="50"/>
                  </a:lnTo>
                  <a:cubicBezTo>
                    <a:pt x="5296" y="50"/>
                    <a:pt x="5284" y="39"/>
                    <a:pt x="5284" y="25"/>
                  </a:cubicBezTo>
                  <a:cubicBezTo>
                    <a:pt x="5284" y="12"/>
                    <a:pt x="5296" y="0"/>
                    <a:pt x="5309" y="0"/>
                  </a:cubicBezTo>
                  <a:lnTo>
                    <a:pt x="5309" y="0"/>
                  </a:lnTo>
                  <a:cubicBezTo>
                    <a:pt x="5323" y="0"/>
                    <a:pt x="5334" y="12"/>
                    <a:pt x="5334" y="25"/>
                  </a:cubicBezTo>
                  <a:cubicBezTo>
                    <a:pt x="5334" y="39"/>
                    <a:pt x="5323" y="50"/>
                    <a:pt x="5309" y="50"/>
                  </a:cubicBezTo>
                  <a:close/>
                  <a:moveTo>
                    <a:pt x="5209" y="50"/>
                  </a:moveTo>
                  <a:lnTo>
                    <a:pt x="5209" y="50"/>
                  </a:lnTo>
                  <a:cubicBezTo>
                    <a:pt x="5196" y="50"/>
                    <a:pt x="5184" y="39"/>
                    <a:pt x="5184" y="25"/>
                  </a:cubicBezTo>
                  <a:cubicBezTo>
                    <a:pt x="5184" y="12"/>
                    <a:pt x="5196" y="0"/>
                    <a:pt x="5209" y="0"/>
                  </a:cubicBezTo>
                  <a:lnTo>
                    <a:pt x="5209" y="0"/>
                  </a:lnTo>
                  <a:cubicBezTo>
                    <a:pt x="5223" y="0"/>
                    <a:pt x="5234" y="12"/>
                    <a:pt x="5234" y="25"/>
                  </a:cubicBezTo>
                  <a:cubicBezTo>
                    <a:pt x="5234" y="39"/>
                    <a:pt x="5223" y="50"/>
                    <a:pt x="5209" y="50"/>
                  </a:cubicBezTo>
                  <a:close/>
                  <a:moveTo>
                    <a:pt x="5109" y="50"/>
                  </a:moveTo>
                  <a:lnTo>
                    <a:pt x="5109" y="50"/>
                  </a:lnTo>
                  <a:cubicBezTo>
                    <a:pt x="5096" y="50"/>
                    <a:pt x="5084" y="39"/>
                    <a:pt x="5084" y="25"/>
                  </a:cubicBezTo>
                  <a:cubicBezTo>
                    <a:pt x="5084" y="12"/>
                    <a:pt x="5096" y="0"/>
                    <a:pt x="5109" y="0"/>
                  </a:cubicBezTo>
                  <a:lnTo>
                    <a:pt x="5109" y="0"/>
                  </a:lnTo>
                  <a:cubicBezTo>
                    <a:pt x="5123" y="0"/>
                    <a:pt x="5134" y="12"/>
                    <a:pt x="5134" y="25"/>
                  </a:cubicBezTo>
                  <a:cubicBezTo>
                    <a:pt x="5134" y="39"/>
                    <a:pt x="5123" y="50"/>
                    <a:pt x="5109" y="50"/>
                  </a:cubicBezTo>
                  <a:close/>
                  <a:moveTo>
                    <a:pt x="5009" y="50"/>
                  </a:moveTo>
                  <a:lnTo>
                    <a:pt x="5009" y="50"/>
                  </a:lnTo>
                  <a:cubicBezTo>
                    <a:pt x="4995" y="50"/>
                    <a:pt x="4984" y="39"/>
                    <a:pt x="4984" y="25"/>
                  </a:cubicBezTo>
                  <a:cubicBezTo>
                    <a:pt x="4984" y="12"/>
                    <a:pt x="4995" y="0"/>
                    <a:pt x="5009" y="0"/>
                  </a:cubicBezTo>
                  <a:lnTo>
                    <a:pt x="5009" y="0"/>
                  </a:lnTo>
                  <a:cubicBezTo>
                    <a:pt x="5023" y="0"/>
                    <a:pt x="5034" y="12"/>
                    <a:pt x="5034" y="25"/>
                  </a:cubicBezTo>
                  <a:cubicBezTo>
                    <a:pt x="5034" y="39"/>
                    <a:pt x="5023" y="50"/>
                    <a:pt x="5009" y="50"/>
                  </a:cubicBezTo>
                  <a:close/>
                  <a:moveTo>
                    <a:pt x="4909" y="50"/>
                  </a:moveTo>
                  <a:lnTo>
                    <a:pt x="4909" y="50"/>
                  </a:lnTo>
                  <a:cubicBezTo>
                    <a:pt x="4895" y="50"/>
                    <a:pt x="4884" y="39"/>
                    <a:pt x="4884" y="25"/>
                  </a:cubicBezTo>
                  <a:cubicBezTo>
                    <a:pt x="4884" y="12"/>
                    <a:pt x="4895" y="0"/>
                    <a:pt x="4909" y="0"/>
                  </a:cubicBezTo>
                  <a:lnTo>
                    <a:pt x="4909" y="0"/>
                  </a:lnTo>
                  <a:cubicBezTo>
                    <a:pt x="4923" y="0"/>
                    <a:pt x="4934" y="12"/>
                    <a:pt x="4934" y="25"/>
                  </a:cubicBezTo>
                  <a:cubicBezTo>
                    <a:pt x="4934" y="39"/>
                    <a:pt x="4923" y="50"/>
                    <a:pt x="4909" y="50"/>
                  </a:cubicBezTo>
                  <a:close/>
                  <a:moveTo>
                    <a:pt x="4809" y="50"/>
                  </a:moveTo>
                  <a:lnTo>
                    <a:pt x="4809" y="50"/>
                  </a:lnTo>
                  <a:cubicBezTo>
                    <a:pt x="4795" y="50"/>
                    <a:pt x="4784" y="39"/>
                    <a:pt x="4784" y="25"/>
                  </a:cubicBezTo>
                  <a:cubicBezTo>
                    <a:pt x="4784" y="12"/>
                    <a:pt x="4795" y="0"/>
                    <a:pt x="4809" y="0"/>
                  </a:cubicBezTo>
                  <a:lnTo>
                    <a:pt x="4809" y="0"/>
                  </a:lnTo>
                  <a:cubicBezTo>
                    <a:pt x="4823" y="0"/>
                    <a:pt x="4834" y="12"/>
                    <a:pt x="4834" y="25"/>
                  </a:cubicBezTo>
                  <a:cubicBezTo>
                    <a:pt x="4834" y="39"/>
                    <a:pt x="4823" y="50"/>
                    <a:pt x="4809" y="50"/>
                  </a:cubicBezTo>
                  <a:close/>
                  <a:moveTo>
                    <a:pt x="4709" y="50"/>
                  </a:moveTo>
                  <a:lnTo>
                    <a:pt x="4709" y="50"/>
                  </a:lnTo>
                  <a:cubicBezTo>
                    <a:pt x="4695" y="50"/>
                    <a:pt x="4684" y="39"/>
                    <a:pt x="4684" y="25"/>
                  </a:cubicBezTo>
                  <a:cubicBezTo>
                    <a:pt x="4684" y="12"/>
                    <a:pt x="4695" y="0"/>
                    <a:pt x="4709" y="0"/>
                  </a:cubicBezTo>
                  <a:lnTo>
                    <a:pt x="4709" y="0"/>
                  </a:lnTo>
                  <a:cubicBezTo>
                    <a:pt x="4723" y="0"/>
                    <a:pt x="4734" y="12"/>
                    <a:pt x="4734" y="25"/>
                  </a:cubicBezTo>
                  <a:cubicBezTo>
                    <a:pt x="4734" y="39"/>
                    <a:pt x="4723" y="50"/>
                    <a:pt x="4709" y="50"/>
                  </a:cubicBezTo>
                  <a:close/>
                  <a:moveTo>
                    <a:pt x="4609" y="50"/>
                  </a:moveTo>
                  <a:lnTo>
                    <a:pt x="4609" y="50"/>
                  </a:lnTo>
                  <a:cubicBezTo>
                    <a:pt x="4595" y="50"/>
                    <a:pt x="4584" y="39"/>
                    <a:pt x="4584" y="25"/>
                  </a:cubicBezTo>
                  <a:cubicBezTo>
                    <a:pt x="4584" y="12"/>
                    <a:pt x="4595" y="0"/>
                    <a:pt x="4609" y="0"/>
                  </a:cubicBezTo>
                  <a:lnTo>
                    <a:pt x="4609" y="0"/>
                  </a:lnTo>
                  <a:cubicBezTo>
                    <a:pt x="4623" y="0"/>
                    <a:pt x="4634" y="12"/>
                    <a:pt x="4634" y="25"/>
                  </a:cubicBezTo>
                  <a:cubicBezTo>
                    <a:pt x="4634" y="39"/>
                    <a:pt x="4623" y="50"/>
                    <a:pt x="4609" y="50"/>
                  </a:cubicBezTo>
                  <a:close/>
                  <a:moveTo>
                    <a:pt x="4509" y="50"/>
                  </a:moveTo>
                  <a:lnTo>
                    <a:pt x="4509" y="50"/>
                  </a:lnTo>
                  <a:cubicBezTo>
                    <a:pt x="4495" y="50"/>
                    <a:pt x="4484" y="39"/>
                    <a:pt x="4484" y="25"/>
                  </a:cubicBezTo>
                  <a:cubicBezTo>
                    <a:pt x="4484" y="12"/>
                    <a:pt x="4495" y="0"/>
                    <a:pt x="4509" y="0"/>
                  </a:cubicBezTo>
                  <a:lnTo>
                    <a:pt x="4509" y="0"/>
                  </a:lnTo>
                  <a:cubicBezTo>
                    <a:pt x="4523" y="0"/>
                    <a:pt x="4534" y="12"/>
                    <a:pt x="4534" y="25"/>
                  </a:cubicBezTo>
                  <a:cubicBezTo>
                    <a:pt x="4534" y="39"/>
                    <a:pt x="4523" y="50"/>
                    <a:pt x="4509" y="50"/>
                  </a:cubicBezTo>
                  <a:close/>
                  <a:moveTo>
                    <a:pt x="4409" y="50"/>
                  </a:moveTo>
                  <a:lnTo>
                    <a:pt x="4409" y="50"/>
                  </a:lnTo>
                  <a:cubicBezTo>
                    <a:pt x="4395" y="50"/>
                    <a:pt x="4384" y="39"/>
                    <a:pt x="4384" y="25"/>
                  </a:cubicBezTo>
                  <a:cubicBezTo>
                    <a:pt x="4384" y="12"/>
                    <a:pt x="4395" y="0"/>
                    <a:pt x="4409" y="0"/>
                  </a:cubicBezTo>
                  <a:lnTo>
                    <a:pt x="4409" y="0"/>
                  </a:lnTo>
                  <a:cubicBezTo>
                    <a:pt x="4423" y="0"/>
                    <a:pt x="4434" y="12"/>
                    <a:pt x="4434" y="25"/>
                  </a:cubicBezTo>
                  <a:cubicBezTo>
                    <a:pt x="4434" y="39"/>
                    <a:pt x="4423" y="50"/>
                    <a:pt x="4409" y="50"/>
                  </a:cubicBezTo>
                  <a:close/>
                  <a:moveTo>
                    <a:pt x="4309" y="50"/>
                  </a:moveTo>
                  <a:lnTo>
                    <a:pt x="4309" y="50"/>
                  </a:lnTo>
                  <a:cubicBezTo>
                    <a:pt x="4295" y="50"/>
                    <a:pt x="4284" y="39"/>
                    <a:pt x="4284" y="25"/>
                  </a:cubicBezTo>
                  <a:cubicBezTo>
                    <a:pt x="4284" y="12"/>
                    <a:pt x="4295" y="0"/>
                    <a:pt x="4309" y="0"/>
                  </a:cubicBezTo>
                  <a:lnTo>
                    <a:pt x="4309" y="0"/>
                  </a:lnTo>
                  <a:cubicBezTo>
                    <a:pt x="4323" y="0"/>
                    <a:pt x="4334" y="12"/>
                    <a:pt x="4334" y="25"/>
                  </a:cubicBezTo>
                  <a:cubicBezTo>
                    <a:pt x="4334" y="39"/>
                    <a:pt x="4323" y="50"/>
                    <a:pt x="4309" y="50"/>
                  </a:cubicBezTo>
                  <a:close/>
                  <a:moveTo>
                    <a:pt x="4209" y="50"/>
                  </a:moveTo>
                  <a:lnTo>
                    <a:pt x="4209" y="50"/>
                  </a:lnTo>
                  <a:cubicBezTo>
                    <a:pt x="4195" y="50"/>
                    <a:pt x="4184" y="39"/>
                    <a:pt x="4184" y="25"/>
                  </a:cubicBezTo>
                  <a:cubicBezTo>
                    <a:pt x="4184" y="12"/>
                    <a:pt x="4195" y="0"/>
                    <a:pt x="4209" y="0"/>
                  </a:cubicBezTo>
                  <a:lnTo>
                    <a:pt x="4209" y="0"/>
                  </a:lnTo>
                  <a:cubicBezTo>
                    <a:pt x="4223" y="0"/>
                    <a:pt x="4234" y="12"/>
                    <a:pt x="4234" y="25"/>
                  </a:cubicBezTo>
                  <a:cubicBezTo>
                    <a:pt x="4234" y="39"/>
                    <a:pt x="4223" y="50"/>
                    <a:pt x="4209" y="50"/>
                  </a:cubicBezTo>
                  <a:close/>
                  <a:moveTo>
                    <a:pt x="4109" y="50"/>
                  </a:moveTo>
                  <a:lnTo>
                    <a:pt x="4109" y="50"/>
                  </a:lnTo>
                  <a:cubicBezTo>
                    <a:pt x="4095" y="50"/>
                    <a:pt x="4084" y="39"/>
                    <a:pt x="4084" y="25"/>
                  </a:cubicBezTo>
                  <a:cubicBezTo>
                    <a:pt x="4084" y="12"/>
                    <a:pt x="4095" y="0"/>
                    <a:pt x="4109" y="0"/>
                  </a:cubicBezTo>
                  <a:lnTo>
                    <a:pt x="4109" y="0"/>
                  </a:lnTo>
                  <a:cubicBezTo>
                    <a:pt x="4123" y="0"/>
                    <a:pt x="4134" y="12"/>
                    <a:pt x="4134" y="25"/>
                  </a:cubicBezTo>
                  <a:cubicBezTo>
                    <a:pt x="4134" y="39"/>
                    <a:pt x="4123" y="50"/>
                    <a:pt x="4109" y="50"/>
                  </a:cubicBezTo>
                  <a:close/>
                  <a:moveTo>
                    <a:pt x="4009" y="50"/>
                  </a:moveTo>
                  <a:lnTo>
                    <a:pt x="4009" y="50"/>
                  </a:lnTo>
                  <a:cubicBezTo>
                    <a:pt x="3995" y="50"/>
                    <a:pt x="3984" y="39"/>
                    <a:pt x="3984" y="25"/>
                  </a:cubicBezTo>
                  <a:cubicBezTo>
                    <a:pt x="3984" y="12"/>
                    <a:pt x="3995" y="0"/>
                    <a:pt x="4009" y="0"/>
                  </a:cubicBezTo>
                  <a:lnTo>
                    <a:pt x="4009" y="0"/>
                  </a:lnTo>
                  <a:cubicBezTo>
                    <a:pt x="4023" y="0"/>
                    <a:pt x="4034" y="12"/>
                    <a:pt x="4034" y="25"/>
                  </a:cubicBezTo>
                  <a:cubicBezTo>
                    <a:pt x="4034" y="39"/>
                    <a:pt x="4023" y="50"/>
                    <a:pt x="4009" y="50"/>
                  </a:cubicBezTo>
                  <a:close/>
                  <a:moveTo>
                    <a:pt x="3909" y="50"/>
                  </a:moveTo>
                  <a:lnTo>
                    <a:pt x="3909" y="50"/>
                  </a:lnTo>
                  <a:cubicBezTo>
                    <a:pt x="3895" y="50"/>
                    <a:pt x="3884" y="39"/>
                    <a:pt x="3884" y="25"/>
                  </a:cubicBezTo>
                  <a:cubicBezTo>
                    <a:pt x="3884" y="12"/>
                    <a:pt x="3895" y="0"/>
                    <a:pt x="3909" y="0"/>
                  </a:cubicBezTo>
                  <a:lnTo>
                    <a:pt x="3909" y="0"/>
                  </a:lnTo>
                  <a:cubicBezTo>
                    <a:pt x="3923" y="0"/>
                    <a:pt x="3934" y="12"/>
                    <a:pt x="3934" y="25"/>
                  </a:cubicBezTo>
                  <a:cubicBezTo>
                    <a:pt x="3934" y="39"/>
                    <a:pt x="3923" y="50"/>
                    <a:pt x="3909" y="50"/>
                  </a:cubicBezTo>
                  <a:close/>
                  <a:moveTo>
                    <a:pt x="3809" y="50"/>
                  </a:moveTo>
                  <a:lnTo>
                    <a:pt x="3809" y="50"/>
                  </a:lnTo>
                  <a:cubicBezTo>
                    <a:pt x="3795" y="50"/>
                    <a:pt x="3784" y="39"/>
                    <a:pt x="3784" y="25"/>
                  </a:cubicBezTo>
                  <a:cubicBezTo>
                    <a:pt x="3784" y="12"/>
                    <a:pt x="3795" y="0"/>
                    <a:pt x="3809" y="0"/>
                  </a:cubicBezTo>
                  <a:lnTo>
                    <a:pt x="3809" y="0"/>
                  </a:lnTo>
                  <a:cubicBezTo>
                    <a:pt x="3823" y="0"/>
                    <a:pt x="3834" y="12"/>
                    <a:pt x="3834" y="25"/>
                  </a:cubicBezTo>
                  <a:cubicBezTo>
                    <a:pt x="3834" y="39"/>
                    <a:pt x="3823" y="50"/>
                    <a:pt x="3809" y="50"/>
                  </a:cubicBezTo>
                  <a:close/>
                  <a:moveTo>
                    <a:pt x="3709" y="50"/>
                  </a:moveTo>
                  <a:lnTo>
                    <a:pt x="3709" y="50"/>
                  </a:lnTo>
                  <a:cubicBezTo>
                    <a:pt x="3695" y="50"/>
                    <a:pt x="3684" y="39"/>
                    <a:pt x="3684" y="25"/>
                  </a:cubicBezTo>
                  <a:cubicBezTo>
                    <a:pt x="3684" y="12"/>
                    <a:pt x="3695" y="0"/>
                    <a:pt x="3709" y="0"/>
                  </a:cubicBezTo>
                  <a:lnTo>
                    <a:pt x="3709" y="0"/>
                  </a:lnTo>
                  <a:cubicBezTo>
                    <a:pt x="3722" y="0"/>
                    <a:pt x="3734" y="12"/>
                    <a:pt x="3734" y="25"/>
                  </a:cubicBezTo>
                  <a:cubicBezTo>
                    <a:pt x="3734" y="39"/>
                    <a:pt x="3722" y="50"/>
                    <a:pt x="3709" y="50"/>
                  </a:cubicBezTo>
                  <a:close/>
                  <a:moveTo>
                    <a:pt x="3609" y="50"/>
                  </a:moveTo>
                  <a:lnTo>
                    <a:pt x="3609" y="50"/>
                  </a:lnTo>
                  <a:cubicBezTo>
                    <a:pt x="3595" y="50"/>
                    <a:pt x="3584" y="39"/>
                    <a:pt x="3584" y="25"/>
                  </a:cubicBezTo>
                  <a:cubicBezTo>
                    <a:pt x="3584" y="12"/>
                    <a:pt x="3595" y="0"/>
                    <a:pt x="3609" y="0"/>
                  </a:cubicBezTo>
                  <a:lnTo>
                    <a:pt x="3609" y="0"/>
                  </a:lnTo>
                  <a:cubicBezTo>
                    <a:pt x="3622" y="0"/>
                    <a:pt x="3634" y="12"/>
                    <a:pt x="3634" y="25"/>
                  </a:cubicBezTo>
                  <a:cubicBezTo>
                    <a:pt x="3634" y="39"/>
                    <a:pt x="3622" y="50"/>
                    <a:pt x="3609" y="50"/>
                  </a:cubicBezTo>
                  <a:close/>
                  <a:moveTo>
                    <a:pt x="3509" y="50"/>
                  </a:moveTo>
                  <a:lnTo>
                    <a:pt x="3509" y="50"/>
                  </a:lnTo>
                  <a:cubicBezTo>
                    <a:pt x="3495" y="50"/>
                    <a:pt x="3484" y="39"/>
                    <a:pt x="3484" y="25"/>
                  </a:cubicBezTo>
                  <a:cubicBezTo>
                    <a:pt x="3484" y="12"/>
                    <a:pt x="3495" y="0"/>
                    <a:pt x="3509" y="0"/>
                  </a:cubicBezTo>
                  <a:lnTo>
                    <a:pt x="3509" y="0"/>
                  </a:lnTo>
                  <a:cubicBezTo>
                    <a:pt x="3522" y="0"/>
                    <a:pt x="3534" y="12"/>
                    <a:pt x="3534" y="25"/>
                  </a:cubicBezTo>
                  <a:cubicBezTo>
                    <a:pt x="3534" y="39"/>
                    <a:pt x="3522" y="50"/>
                    <a:pt x="3509" y="50"/>
                  </a:cubicBezTo>
                  <a:close/>
                  <a:moveTo>
                    <a:pt x="3409" y="50"/>
                  </a:moveTo>
                  <a:lnTo>
                    <a:pt x="3408" y="50"/>
                  </a:lnTo>
                  <a:cubicBezTo>
                    <a:pt x="3395" y="50"/>
                    <a:pt x="3383" y="39"/>
                    <a:pt x="3383" y="25"/>
                  </a:cubicBezTo>
                  <a:cubicBezTo>
                    <a:pt x="3383" y="12"/>
                    <a:pt x="3395" y="0"/>
                    <a:pt x="3408" y="0"/>
                  </a:cubicBezTo>
                  <a:lnTo>
                    <a:pt x="3409" y="0"/>
                  </a:lnTo>
                  <a:cubicBezTo>
                    <a:pt x="3422" y="0"/>
                    <a:pt x="3434" y="12"/>
                    <a:pt x="3434" y="25"/>
                  </a:cubicBezTo>
                  <a:cubicBezTo>
                    <a:pt x="3434" y="39"/>
                    <a:pt x="3422" y="50"/>
                    <a:pt x="3409" y="50"/>
                  </a:cubicBezTo>
                  <a:close/>
                  <a:moveTo>
                    <a:pt x="3308" y="50"/>
                  </a:moveTo>
                  <a:lnTo>
                    <a:pt x="3308" y="50"/>
                  </a:lnTo>
                  <a:cubicBezTo>
                    <a:pt x="3295" y="50"/>
                    <a:pt x="3283" y="39"/>
                    <a:pt x="3283" y="25"/>
                  </a:cubicBezTo>
                  <a:cubicBezTo>
                    <a:pt x="3283" y="12"/>
                    <a:pt x="3295" y="0"/>
                    <a:pt x="3308" y="0"/>
                  </a:cubicBezTo>
                  <a:lnTo>
                    <a:pt x="3308" y="0"/>
                  </a:lnTo>
                  <a:cubicBezTo>
                    <a:pt x="3322" y="0"/>
                    <a:pt x="3333" y="12"/>
                    <a:pt x="3333" y="25"/>
                  </a:cubicBezTo>
                  <a:cubicBezTo>
                    <a:pt x="3333" y="39"/>
                    <a:pt x="3322" y="50"/>
                    <a:pt x="3308" y="50"/>
                  </a:cubicBezTo>
                  <a:close/>
                  <a:moveTo>
                    <a:pt x="3208" y="50"/>
                  </a:moveTo>
                  <a:lnTo>
                    <a:pt x="3208" y="50"/>
                  </a:lnTo>
                  <a:cubicBezTo>
                    <a:pt x="3195" y="50"/>
                    <a:pt x="3183" y="39"/>
                    <a:pt x="3183" y="25"/>
                  </a:cubicBezTo>
                  <a:cubicBezTo>
                    <a:pt x="3183" y="12"/>
                    <a:pt x="3195" y="0"/>
                    <a:pt x="3208" y="0"/>
                  </a:cubicBezTo>
                  <a:lnTo>
                    <a:pt x="3208" y="0"/>
                  </a:lnTo>
                  <a:cubicBezTo>
                    <a:pt x="3222" y="0"/>
                    <a:pt x="3233" y="12"/>
                    <a:pt x="3233" y="25"/>
                  </a:cubicBezTo>
                  <a:cubicBezTo>
                    <a:pt x="3233" y="39"/>
                    <a:pt x="3222" y="50"/>
                    <a:pt x="3208" y="50"/>
                  </a:cubicBezTo>
                  <a:close/>
                  <a:moveTo>
                    <a:pt x="3108" y="50"/>
                  </a:moveTo>
                  <a:lnTo>
                    <a:pt x="3108" y="50"/>
                  </a:lnTo>
                  <a:cubicBezTo>
                    <a:pt x="3094" y="50"/>
                    <a:pt x="3083" y="39"/>
                    <a:pt x="3083" y="25"/>
                  </a:cubicBezTo>
                  <a:cubicBezTo>
                    <a:pt x="3083" y="12"/>
                    <a:pt x="3094" y="0"/>
                    <a:pt x="3108" y="0"/>
                  </a:cubicBezTo>
                  <a:lnTo>
                    <a:pt x="3108" y="0"/>
                  </a:lnTo>
                  <a:cubicBezTo>
                    <a:pt x="3122" y="0"/>
                    <a:pt x="3133" y="12"/>
                    <a:pt x="3133" y="25"/>
                  </a:cubicBezTo>
                  <a:cubicBezTo>
                    <a:pt x="3133" y="39"/>
                    <a:pt x="3122" y="50"/>
                    <a:pt x="3108" y="50"/>
                  </a:cubicBezTo>
                  <a:close/>
                  <a:moveTo>
                    <a:pt x="3008" y="50"/>
                  </a:moveTo>
                  <a:lnTo>
                    <a:pt x="3008" y="50"/>
                  </a:lnTo>
                  <a:cubicBezTo>
                    <a:pt x="2994" y="50"/>
                    <a:pt x="2983" y="39"/>
                    <a:pt x="2983" y="25"/>
                  </a:cubicBezTo>
                  <a:cubicBezTo>
                    <a:pt x="2983" y="12"/>
                    <a:pt x="2994" y="0"/>
                    <a:pt x="3008" y="0"/>
                  </a:cubicBezTo>
                  <a:lnTo>
                    <a:pt x="3008" y="0"/>
                  </a:lnTo>
                  <a:cubicBezTo>
                    <a:pt x="3022" y="0"/>
                    <a:pt x="3033" y="12"/>
                    <a:pt x="3033" y="25"/>
                  </a:cubicBezTo>
                  <a:cubicBezTo>
                    <a:pt x="3033" y="39"/>
                    <a:pt x="3022" y="50"/>
                    <a:pt x="3008" y="50"/>
                  </a:cubicBezTo>
                  <a:close/>
                  <a:moveTo>
                    <a:pt x="2908" y="50"/>
                  </a:moveTo>
                  <a:lnTo>
                    <a:pt x="2908" y="50"/>
                  </a:lnTo>
                  <a:cubicBezTo>
                    <a:pt x="2894" y="50"/>
                    <a:pt x="2883" y="39"/>
                    <a:pt x="2883" y="25"/>
                  </a:cubicBezTo>
                  <a:cubicBezTo>
                    <a:pt x="2883" y="12"/>
                    <a:pt x="2894" y="0"/>
                    <a:pt x="2908" y="0"/>
                  </a:cubicBezTo>
                  <a:lnTo>
                    <a:pt x="2908" y="0"/>
                  </a:lnTo>
                  <a:cubicBezTo>
                    <a:pt x="2922" y="0"/>
                    <a:pt x="2933" y="12"/>
                    <a:pt x="2933" y="25"/>
                  </a:cubicBezTo>
                  <a:cubicBezTo>
                    <a:pt x="2933" y="39"/>
                    <a:pt x="2922" y="50"/>
                    <a:pt x="2908" y="50"/>
                  </a:cubicBezTo>
                  <a:close/>
                  <a:moveTo>
                    <a:pt x="2808" y="50"/>
                  </a:moveTo>
                  <a:lnTo>
                    <a:pt x="2808" y="50"/>
                  </a:lnTo>
                  <a:cubicBezTo>
                    <a:pt x="2794" y="50"/>
                    <a:pt x="2783" y="39"/>
                    <a:pt x="2783" y="25"/>
                  </a:cubicBezTo>
                  <a:cubicBezTo>
                    <a:pt x="2783" y="12"/>
                    <a:pt x="2794" y="0"/>
                    <a:pt x="2808" y="0"/>
                  </a:cubicBezTo>
                  <a:lnTo>
                    <a:pt x="2808" y="0"/>
                  </a:lnTo>
                  <a:cubicBezTo>
                    <a:pt x="2822" y="0"/>
                    <a:pt x="2833" y="12"/>
                    <a:pt x="2833" y="25"/>
                  </a:cubicBezTo>
                  <a:cubicBezTo>
                    <a:pt x="2833" y="39"/>
                    <a:pt x="2822" y="50"/>
                    <a:pt x="2808" y="50"/>
                  </a:cubicBezTo>
                  <a:close/>
                  <a:moveTo>
                    <a:pt x="2708" y="50"/>
                  </a:moveTo>
                  <a:lnTo>
                    <a:pt x="2708" y="50"/>
                  </a:lnTo>
                  <a:cubicBezTo>
                    <a:pt x="2694" y="50"/>
                    <a:pt x="2683" y="39"/>
                    <a:pt x="2683" y="25"/>
                  </a:cubicBezTo>
                  <a:cubicBezTo>
                    <a:pt x="2683" y="12"/>
                    <a:pt x="2694" y="0"/>
                    <a:pt x="2708" y="0"/>
                  </a:cubicBezTo>
                  <a:lnTo>
                    <a:pt x="2708" y="0"/>
                  </a:lnTo>
                  <a:cubicBezTo>
                    <a:pt x="2722" y="0"/>
                    <a:pt x="2733" y="12"/>
                    <a:pt x="2733" y="25"/>
                  </a:cubicBezTo>
                  <a:cubicBezTo>
                    <a:pt x="2733" y="39"/>
                    <a:pt x="2722" y="50"/>
                    <a:pt x="2708" y="50"/>
                  </a:cubicBezTo>
                  <a:close/>
                  <a:moveTo>
                    <a:pt x="2608" y="50"/>
                  </a:moveTo>
                  <a:lnTo>
                    <a:pt x="2608" y="50"/>
                  </a:lnTo>
                  <a:cubicBezTo>
                    <a:pt x="2594" y="50"/>
                    <a:pt x="2583" y="39"/>
                    <a:pt x="2583" y="25"/>
                  </a:cubicBezTo>
                  <a:cubicBezTo>
                    <a:pt x="2583" y="12"/>
                    <a:pt x="2594" y="0"/>
                    <a:pt x="2608" y="0"/>
                  </a:cubicBezTo>
                  <a:lnTo>
                    <a:pt x="2608" y="0"/>
                  </a:lnTo>
                  <a:cubicBezTo>
                    <a:pt x="2622" y="0"/>
                    <a:pt x="2633" y="12"/>
                    <a:pt x="2633" y="25"/>
                  </a:cubicBezTo>
                  <a:cubicBezTo>
                    <a:pt x="2633" y="39"/>
                    <a:pt x="2622" y="50"/>
                    <a:pt x="2608" y="50"/>
                  </a:cubicBezTo>
                  <a:close/>
                  <a:moveTo>
                    <a:pt x="2508" y="50"/>
                  </a:moveTo>
                  <a:lnTo>
                    <a:pt x="2508" y="50"/>
                  </a:lnTo>
                  <a:cubicBezTo>
                    <a:pt x="2494" y="50"/>
                    <a:pt x="2483" y="39"/>
                    <a:pt x="2483" y="25"/>
                  </a:cubicBezTo>
                  <a:cubicBezTo>
                    <a:pt x="2483" y="12"/>
                    <a:pt x="2494" y="0"/>
                    <a:pt x="2508" y="0"/>
                  </a:cubicBezTo>
                  <a:lnTo>
                    <a:pt x="2508" y="0"/>
                  </a:lnTo>
                  <a:cubicBezTo>
                    <a:pt x="2522" y="0"/>
                    <a:pt x="2533" y="12"/>
                    <a:pt x="2533" y="25"/>
                  </a:cubicBezTo>
                  <a:cubicBezTo>
                    <a:pt x="2533" y="39"/>
                    <a:pt x="2522" y="50"/>
                    <a:pt x="2508" y="50"/>
                  </a:cubicBezTo>
                  <a:close/>
                  <a:moveTo>
                    <a:pt x="2408" y="50"/>
                  </a:moveTo>
                  <a:lnTo>
                    <a:pt x="2408" y="50"/>
                  </a:lnTo>
                  <a:cubicBezTo>
                    <a:pt x="2394" y="50"/>
                    <a:pt x="2383" y="39"/>
                    <a:pt x="2383" y="25"/>
                  </a:cubicBezTo>
                  <a:cubicBezTo>
                    <a:pt x="2383" y="12"/>
                    <a:pt x="2394" y="0"/>
                    <a:pt x="2408" y="0"/>
                  </a:cubicBezTo>
                  <a:lnTo>
                    <a:pt x="2408" y="0"/>
                  </a:lnTo>
                  <a:cubicBezTo>
                    <a:pt x="2422" y="0"/>
                    <a:pt x="2433" y="12"/>
                    <a:pt x="2433" y="25"/>
                  </a:cubicBezTo>
                  <a:cubicBezTo>
                    <a:pt x="2433" y="39"/>
                    <a:pt x="2422" y="50"/>
                    <a:pt x="2408" y="50"/>
                  </a:cubicBezTo>
                  <a:close/>
                  <a:moveTo>
                    <a:pt x="2308" y="50"/>
                  </a:moveTo>
                  <a:lnTo>
                    <a:pt x="2308" y="50"/>
                  </a:lnTo>
                  <a:cubicBezTo>
                    <a:pt x="2294" y="50"/>
                    <a:pt x="2283" y="39"/>
                    <a:pt x="2283" y="25"/>
                  </a:cubicBezTo>
                  <a:cubicBezTo>
                    <a:pt x="2283" y="12"/>
                    <a:pt x="2294" y="0"/>
                    <a:pt x="2308" y="0"/>
                  </a:cubicBezTo>
                  <a:lnTo>
                    <a:pt x="2308" y="0"/>
                  </a:lnTo>
                  <a:cubicBezTo>
                    <a:pt x="2322" y="0"/>
                    <a:pt x="2333" y="12"/>
                    <a:pt x="2333" y="25"/>
                  </a:cubicBezTo>
                  <a:cubicBezTo>
                    <a:pt x="2333" y="39"/>
                    <a:pt x="2322" y="50"/>
                    <a:pt x="2308" y="50"/>
                  </a:cubicBezTo>
                  <a:close/>
                  <a:moveTo>
                    <a:pt x="2208" y="50"/>
                  </a:moveTo>
                  <a:lnTo>
                    <a:pt x="2208" y="50"/>
                  </a:lnTo>
                  <a:cubicBezTo>
                    <a:pt x="2194" y="50"/>
                    <a:pt x="2183" y="39"/>
                    <a:pt x="2183" y="25"/>
                  </a:cubicBezTo>
                  <a:cubicBezTo>
                    <a:pt x="2183" y="12"/>
                    <a:pt x="2194" y="0"/>
                    <a:pt x="2208" y="0"/>
                  </a:cubicBezTo>
                  <a:lnTo>
                    <a:pt x="2208" y="0"/>
                  </a:lnTo>
                  <a:cubicBezTo>
                    <a:pt x="2222" y="0"/>
                    <a:pt x="2233" y="12"/>
                    <a:pt x="2233" y="25"/>
                  </a:cubicBezTo>
                  <a:cubicBezTo>
                    <a:pt x="2233" y="39"/>
                    <a:pt x="2222" y="50"/>
                    <a:pt x="2208" y="50"/>
                  </a:cubicBezTo>
                  <a:close/>
                  <a:moveTo>
                    <a:pt x="2108" y="50"/>
                  </a:moveTo>
                  <a:lnTo>
                    <a:pt x="2108" y="50"/>
                  </a:lnTo>
                  <a:cubicBezTo>
                    <a:pt x="2094" y="50"/>
                    <a:pt x="2083" y="39"/>
                    <a:pt x="2083" y="25"/>
                  </a:cubicBezTo>
                  <a:cubicBezTo>
                    <a:pt x="2083" y="12"/>
                    <a:pt x="2094" y="0"/>
                    <a:pt x="2108" y="0"/>
                  </a:cubicBezTo>
                  <a:lnTo>
                    <a:pt x="2108" y="0"/>
                  </a:lnTo>
                  <a:cubicBezTo>
                    <a:pt x="2122" y="0"/>
                    <a:pt x="2133" y="12"/>
                    <a:pt x="2133" y="25"/>
                  </a:cubicBezTo>
                  <a:cubicBezTo>
                    <a:pt x="2133" y="39"/>
                    <a:pt x="2122" y="50"/>
                    <a:pt x="2108" y="50"/>
                  </a:cubicBezTo>
                  <a:close/>
                  <a:moveTo>
                    <a:pt x="2008" y="50"/>
                  </a:moveTo>
                  <a:lnTo>
                    <a:pt x="2008" y="50"/>
                  </a:lnTo>
                  <a:cubicBezTo>
                    <a:pt x="1994" y="50"/>
                    <a:pt x="1983" y="39"/>
                    <a:pt x="1983" y="25"/>
                  </a:cubicBezTo>
                  <a:cubicBezTo>
                    <a:pt x="1983" y="12"/>
                    <a:pt x="1994" y="0"/>
                    <a:pt x="2008" y="0"/>
                  </a:cubicBezTo>
                  <a:lnTo>
                    <a:pt x="2008" y="0"/>
                  </a:lnTo>
                  <a:cubicBezTo>
                    <a:pt x="2022" y="0"/>
                    <a:pt x="2033" y="12"/>
                    <a:pt x="2033" y="25"/>
                  </a:cubicBezTo>
                  <a:cubicBezTo>
                    <a:pt x="2033" y="39"/>
                    <a:pt x="2022" y="50"/>
                    <a:pt x="2008" y="50"/>
                  </a:cubicBezTo>
                  <a:close/>
                  <a:moveTo>
                    <a:pt x="1908" y="50"/>
                  </a:moveTo>
                  <a:lnTo>
                    <a:pt x="1908" y="50"/>
                  </a:lnTo>
                  <a:cubicBezTo>
                    <a:pt x="1894" y="50"/>
                    <a:pt x="1883" y="39"/>
                    <a:pt x="1883" y="25"/>
                  </a:cubicBezTo>
                  <a:cubicBezTo>
                    <a:pt x="1883" y="12"/>
                    <a:pt x="1894" y="0"/>
                    <a:pt x="1908" y="0"/>
                  </a:cubicBezTo>
                  <a:lnTo>
                    <a:pt x="1908" y="0"/>
                  </a:lnTo>
                  <a:cubicBezTo>
                    <a:pt x="1922" y="0"/>
                    <a:pt x="1933" y="12"/>
                    <a:pt x="1933" y="25"/>
                  </a:cubicBezTo>
                  <a:cubicBezTo>
                    <a:pt x="1933" y="39"/>
                    <a:pt x="1922" y="50"/>
                    <a:pt x="1908" y="50"/>
                  </a:cubicBezTo>
                  <a:close/>
                  <a:moveTo>
                    <a:pt x="1808" y="50"/>
                  </a:moveTo>
                  <a:lnTo>
                    <a:pt x="1808" y="50"/>
                  </a:lnTo>
                  <a:cubicBezTo>
                    <a:pt x="1794" y="50"/>
                    <a:pt x="1783" y="39"/>
                    <a:pt x="1783" y="25"/>
                  </a:cubicBezTo>
                  <a:cubicBezTo>
                    <a:pt x="1783" y="12"/>
                    <a:pt x="1794" y="0"/>
                    <a:pt x="1808" y="0"/>
                  </a:cubicBezTo>
                  <a:lnTo>
                    <a:pt x="1808" y="0"/>
                  </a:lnTo>
                  <a:cubicBezTo>
                    <a:pt x="1822" y="0"/>
                    <a:pt x="1833" y="12"/>
                    <a:pt x="1833" y="25"/>
                  </a:cubicBezTo>
                  <a:cubicBezTo>
                    <a:pt x="1833" y="39"/>
                    <a:pt x="1822" y="50"/>
                    <a:pt x="1808" y="50"/>
                  </a:cubicBezTo>
                  <a:close/>
                  <a:moveTo>
                    <a:pt x="1708" y="50"/>
                  </a:moveTo>
                  <a:lnTo>
                    <a:pt x="1708" y="50"/>
                  </a:lnTo>
                  <a:cubicBezTo>
                    <a:pt x="1694" y="50"/>
                    <a:pt x="1683" y="39"/>
                    <a:pt x="1683" y="25"/>
                  </a:cubicBezTo>
                  <a:cubicBezTo>
                    <a:pt x="1683" y="12"/>
                    <a:pt x="1694" y="0"/>
                    <a:pt x="1708" y="0"/>
                  </a:cubicBezTo>
                  <a:lnTo>
                    <a:pt x="1708" y="0"/>
                  </a:lnTo>
                  <a:cubicBezTo>
                    <a:pt x="1721" y="0"/>
                    <a:pt x="1733" y="12"/>
                    <a:pt x="1733" y="25"/>
                  </a:cubicBezTo>
                  <a:cubicBezTo>
                    <a:pt x="1733" y="39"/>
                    <a:pt x="1721" y="50"/>
                    <a:pt x="1708" y="50"/>
                  </a:cubicBezTo>
                  <a:close/>
                  <a:moveTo>
                    <a:pt x="1608" y="50"/>
                  </a:moveTo>
                  <a:lnTo>
                    <a:pt x="1608" y="50"/>
                  </a:lnTo>
                  <a:cubicBezTo>
                    <a:pt x="1594" y="50"/>
                    <a:pt x="1583" y="39"/>
                    <a:pt x="1583" y="25"/>
                  </a:cubicBezTo>
                  <a:cubicBezTo>
                    <a:pt x="1583" y="12"/>
                    <a:pt x="1594" y="0"/>
                    <a:pt x="1608" y="0"/>
                  </a:cubicBezTo>
                  <a:lnTo>
                    <a:pt x="1608" y="0"/>
                  </a:lnTo>
                  <a:cubicBezTo>
                    <a:pt x="1621" y="0"/>
                    <a:pt x="1633" y="12"/>
                    <a:pt x="1633" y="25"/>
                  </a:cubicBezTo>
                  <a:cubicBezTo>
                    <a:pt x="1633" y="39"/>
                    <a:pt x="1621" y="50"/>
                    <a:pt x="1608" y="50"/>
                  </a:cubicBezTo>
                  <a:close/>
                  <a:moveTo>
                    <a:pt x="1508" y="50"/>
                  </a:moveTo>
                  <a:lnTo>
                    <a:pt x="1508" y="50"/>
                  </a:lnTo>
                  <a:cubicBezTo>
                    <a:pt x="1494" y="50"/>
                    <a:pt x="1483" y="39"/>
                    <a:pt x="1483" y="25"/>
                  </a:cubicBezTo>
                  <a:cubicBezTo>
                    <a:pt x="1483" y="12"/>
                    <a:pt x="1494" y="0"/>
                    <a:pt x="1508" y="0"/>
                  </a:cubicBezTo>
                  <a:lnTo>
                    <a:pt x="1508" y="0"/>
                  </a:lnTo>
                  <a:cubicBezTo>
                    <a:pt x="1521" y="0"/>
                    <a:pt x="1533" y="12"/>
                    <a:pt x="1533" y="25"/>
                  </a:cubicBezTo>
                  <a:cubicBezTo>
                    <a:pt x="1533" y="39"/>
                    <a:pt x="1521" y="50"/>
                    <a:pt x="1508" y="50"/>
                  </a:cubicBezTo>
                  <a:close/>
                  <a:moveTo>
                    <a:pt x="1408" y="50"/>
                  </a:moveTo>
                  <a:lnTo>
                    <a:pt x="1407" y="50"/>
                  </a:lnTo>
                  <a:cubicBezTo>
                    <a:pt x="1394" y="50"/>
                    <a:pt x="1382" y="39"/>
                    <a:pt x="1382" y="25"/>
                  </a:cubicBezTo>
                  <a:cubicBezTo>
                    <a:pt x="1382" y="12"/>
                    <a:pt x="1394" y="0"/>
                    <a:pt x="1407" y="0"/>
                  </a:cubicBezTo>
                  <a:lnTo>
                    <a:pt x="1408" y="0"/>
                  </a:lnTo>
                  <a:cubicBezTo>
                    <a:pt x="1421" y="0"/>
                    <a:pt x="1433" y="12"/>
                    <a:pt x="1433" y="25"/>
                  </a:cubicBezTo>
                  <a:cubicBezTo>
                    <a:pt x="1433" y="39"/>
                    <a:pt x="1421" y="50"/>
                    <a:pt x="1408" y="50"/>
                  </a:cubicBezTo>
                  <a:close/>
                  <a:moveTo>
                    <a:pt x="1307" y="50"/>
                  </a:moveTo>
                  <a:lnTo>
                    <a:pt x="1307" y="50"/>
                  </a:lnTo>
                  <a:cubicBezTo>
                    <a:pt x="1294" y="50"/>
                    <a:pt x="1282" y="39"/>
                    <a:pt x="1282" y="25"/>
                  </a:cubicBezTo>
                  <a:cubicBezTo>
                    <a:pt x="1282" y="12"/>
                    <a:pt x="1294" y="0"/>
                    <a:pt x="1307" y="0"/>
                  </a:cubicBezTo>
                  <a:lnTo>
                    <a:pt x="1307" y="0"/>
                  </a:lnTo>
                  <a:cubicBezTo>
                    <a:pt x="1321" y="0"/>
                    <a:pt x="1332" y="12"/>
                    <a:pt x="1332" y="25"/>
                  </a:cubicBezTo>
                  <a:cubicBezTo>
                    <a:pt x="1332" y="39"/>
                    <a:pt x="1321" y="50"/>
                    <a:pt x="1307" y="50"/>
                  </a:cubicBezTo>
                  <a:close/>
                  <a:moveTo>
                    <a:pt x="1207" y="50"/>
                  </a:moveTo>
                  <a:lnTo>
                    <a:pt x="1207" y="50"/>
                  </a:lnTo>
                  <a:cubicBezTo>
                    <a:pt x="1194" y="50"/>
                    <a:pt x="1182" y="39"/>
                    <a:pt x="1182" y="25"/>
                  </a:cubicBezTo>
                  <a:cubicBezTo>
                    <a:pt x="1182" y="12"/>
                    <a:pt x="1194" y="0"/>
                    <a:pt x="1207" y="0"/>
                  </a:cubicBezTo>
                  <a:lnTo>
                    <a:pt x="1207" y="0"/>
                  </a:lnTo>
                  <a:cubicBezTo>
                    <a:pt x="1221" y="0"/>
                    <a:pt x="1232" y="12"/>
                    <a:pt x="1232" y="25"/>
                  </a:cubicBezTo>
                  <a:cubicBezTo>
                    <a:pt x="1232" y="39"/>
                    <a:pt x="1221" y="50"/>
                    <a:pt x="1207" y="50"/>
                  </a:cubicBezTo>
                  <a:close/>
                  <a:moveTo>
                    <a:pt x="1107" y="50"/>
                  </a:moveTo>
                  <a:lnTo>
                    <a:pt x="1107" y="50"/>
                  </a:lnTo>
                  <a:cubicBezTo>
                    <a:pt x="1094" y="50"/>
                    <a:pt x="1082" y="39"/>
                    <a:pt x="1082" y="25"/>
                  </a:cubicBezTo>
                  <a:cubicBezTo>
                    <a:pt x="1082" y="12"/>
                    <a:pt x="1094" y="0"/>
                    <a:pt x="1107" y="0"/>
                  </a:cubicBezTo>
                  <a:lnTo>
                    <a:pt x="1107" y="0"/>
                  </a:lnTo>
                  <a:cubicBezTo>
                    <a:pt x="1121" y="0"/>
                    <a:pt x="1132" y="12"/>
                    <a:pt x="1132" y="25"/>
                  </a:cubicBezTo>
                  <a:cubicBezTo>
                    <a:pt x="1132" y="39"/>
                    <a:pt x="1121" y="50"/>
                    <a:pt x="1107" y="50"/>
                  </a:cubicBezTo>
                  <a:close/>
                  <a:moveTo>
                    <a:pt x="1008" y="55"/>
                  </a:moveTo>
                  <a:lnTo>
                    <a:pt x="1008" y="55"/>
                  </a:lnTo>
                  <a:cubicBezTo>
                    <a:pt x="995" y="56"/>
                    <a:pt x="983" y="45"/>
                    <a:pt x="982" y="31"/>
                  </a:cubicBezTo>
                  <a:cubicBezTo>
                    <a:pt x="982" y="17"/>
                    <a:pt x="993" y="6"/>
                    <a:pt x="1006" y="5"/>
                  </a:cubicBezTo>
                  <a:lnTo>
                    <a:pt x="1006" y="5"/>
                  </a:lnTo>
                  <a:cubicBezTo>
                    <a:pt x="1020" y="5"/>
                    <a:pt x="1032" y="15"/>
                    <a:pt x="1032" y="29"/>
                  </a:cubicBezTo>
                  <a:cubicBezTo>
                    <a:pt x="1033" y="43"/>
                    <a:pt x="1022" y="55"/>
                    <a:pt x="1008" y="55"/>
                  </a:cubicBezTo>
                  <a:close/>
                  <a:moveTo>
                    <a:pt x="912" y="68"/>
                  </a:moveTo>
                  <a:lnTo>
                    <a:pt x="912" y="68"/>
                  </a:lnTo>
                  <a:cubicBezTo>
                    <a:pt x="898" y="69"/>
                    <a:pt x="885" y="60"/>
                    <a:pt x="883" y="46"/>
                  </a:cubicBezTo>
                  <a:cubicBezTo>
                    <a:pt x="882" y="32"/>
                    <a:pt x="891" y="20"/>
                    <a:pt x="905" y="18"/>
                  </a:cubicBezTo>
                  <a:lnTo>
                    <a:pt x="905" y="18"/>
                  </a:lnTo>
                  <a:cubicBezTo>
                    <a:pt x="919" y="16"/>
                    <a:pt x="931" y="26"/>
                    <a:pt x="933" y="39"/>
                  </a:cubicBezTo>
                  <a:cubicBezTo>
                    <a:pt x="935" y="53"/>
                    <a:pt x="925" y="66"/>
                    <a:pt x="912" y="68"/>
                  </a:cubicBezTo>
                  <a:close/>
                  <a:moveTo>
                    <a:pt x="817" y="89"/>
                  </a:moveTo>
                  <a:lnTo>
                    <a:pt x="817" y="89"/>
                  </a:lnTo>
                  <a:cubicBezTo>
                    <a:pt x="803" y="92"/>
                    <a:pt x="790" y="84"/>
                    <a:pt x="786" y="70"/>
                  </a:cubicBezTo>
                  <a:cubicBezTo>
                    <a:pt x="783" y="57"/>
                    <a:pt x="791" y="43"/>
                    <a:pt x="805" y="40"/>
                  </a:cubicBezTo>
                  <a:lnTo>
                    <a:pt x="805" y="40"/>
                  </a:lnTo>
                  <a:cubicBezTo>
                    <a:pt x="818" y="37"/>
                    <a:pt x="832" y="45"/>
                    <a:pt x="835" y="59"/>
                  </a:cubicBezTo>
                  <a:cubicBezTo>
                    <a:pt x="838" y="72"/>
                    <a:pt x="830" y="86"/>
                    <a:pt x="817" y="89"/>
                  </a:cubicBezTo>
                  <a:close/>
                  <a:moveTo>
                    <a:pt x="724" y="119"/>
                  </a:moveTo>
                  <a:lnTo>
                    <a:pt x="724" y="119"/>
                  </a:lnTo>
                  <a:cubicBezTo>
                    <a:pt x="711" y="124"/>
                    <a:pt x="696" y="117"/>
                    <a:pt x="692" y="103"/>
                  </a:cubicBezTo>
                  <a:cubicBezTo>
                    <a:pt x="688" y="90"/>
                    <a:pt x="695" y="76"/>
                    <a:pt x="708" y="72"/>
                  </a:cubicBezTo>
                  <a:lnTo>
                    <a:pt x="708" y="72"/>
                  </a:lnTo>
                  <a:cubicBezTo>
                    <a:pt x="721" y="67"/>
                    <a:pt x="735" y="74"/>
                    <a:pt x="739" y="87"/>
                  </a:cubicBezTo>
                  <a:cubicBezTo>
                    <a:pt x="744" y="100"/>
                    <a:pt x="737" y="115"/>
                    <a:pt x="724" y="119"/>
                  </a:cubicBezTo>
                  <a:close/>
                  <a:moveTo>
                    <a:pt x="634" y="158"/>
                  </a:moveTo>
                  <a:lnTo>
                    <a:pt x="634" y="158"/>
                  </a:lnTo>
                  <a:cubicBezTo>
                    <a:pt x="622" y="164"/>
                    <a:pt x="607" y="158"/>
                    <a:pt x="601" y="146"/>
                  </a:cubicBezTo>
                  <a:cubicBezTo>
                    <a:pt x="596" y="133"/>
                    <a:pt x="601" y="118"/>
                    <a:pt x="614" y="113"/>
                  </a:cubicBezTo>
                  <a:lnTo>
                    <a:pt x="614" y="113"/>
                  </a:lnTo>
                  <a:cubicBezTo>
                    <a:pt x="626" y="107"/>
                    <a:pt x="641" y="112"/>
                    <a:pt x="647" y="125"/>
                  </a:cubicBezTo>
                  <a:cubicBezTo>
                    <a:pt x="653" y="137"/>
                    <a:pt x="647" y="152"/>
                    <a:pt x="634" y="158"/>
                  </a:cubicBezTo>
                  <a:close/>
                  <a:moveTo>
                    <a:pt x="549" y="205"/>
                  </a:moveTo>
                  <a:lnTo>
                    <a:pt x="549" y="205"/>
                  </a:lnTo>
                  <a:cubicBezTo>
                    <a:pt x="537" y="212"/>
                    <a:pt x="522" y="208"/>
                    <a:pt x="515" y="196"/>
                  </a:cubicBezTo>
                  <a:cubicBezTo>
                    <a:pt x="508" y="184"/>
                    <a:pt x="512" y="169"/>
                    <a:pt x="524" y="162"/>
                  </a:cubicBezTo>
                  <a:lnTo>
                    <a:pt x="524" y="162"/>
                  </a:lnTo>
                  <a:cubicBezTo>
                    <a:pt x="536" y="155"/>
                    <a:pt x="551" y="159"/>
                    <a:pt x="558" y="171"/>
                  </a:cubicBezTo>
                  <a:cubicBezTo>
                    <a:pt x="565" y="183"/>
                    <a:pt x="561" y="198"/>
                    <a:pt x="549" y="205"/>
                  </a:cubicBezTo>
                  <a:close/>
                  <a:moveTo>
                    <a:pt x="468" y="260"/>
                  </a:moveTo>
                  <a:lnTo>
                    <a:pt x="468" y="260"/>
                  </a:lnTo>
                  <a:cubicBezTo>
                    <a:pt x="457" y="268"/>
                    <a:pt x="441" y="265"/>
                    <a:pt x="433" y="254"/>
                  </a:cubicBezTo>
                  <a:cubicBezTo>
                    <a:pt x="425" y="243"/>
                    <a:pt x="428" y="227"/>
                    <a:pt x="439" y="219"/>
                  </a:cubicBezTo>
                  <a:lnTo>
                    <a:pt x="439" y="219"/>
                  </a:lnTo>
                  <a:cubicBezTo>
                    <a:pt x="450" y="211"/>
                    <a:pt x="466" y="214"/>
                    <a:pt x="474" y="225"/>
                  </a:cubicBezTo>
                  <a:cubicBezTo>
                    <a:pt x="482" y="236"/>
                    <a:pt x="479" y="252"/>
                    <a:pt x="468" y="260"/>
                  </a:cubicBezTo>
                  <a:close/>
                  <a:moveTo>
                    <a:pt x="393" y="322"/>
                  </a:moveTo>
                  <a:lnTo>
                    <a:pt x="393" y="322"/>
                  </a:lnTo>
                  <a:cubicBezTo>
                    <a:pt x="383" y="331"/>
                    <a:pt x="367" y="330"/>
                    <a:pt x="358" y="320"/>
                  </a:cubicBezTo>
                  <a:cubicBezTo>
                    <a:pt x="349" y="310"/>
                    <a:pt x="350" y="294"/>
                    <a:pt x="360" y="285"/>
                  </a:cubicBezTo>
                  <a:lnTo>
                    <a:pt x="360" y="285"/>
                  </a:lnTo>
                  <a:cubicBezTo>
                    <a:pt x="370" y="275"/>
                    <a:pt x="386" y="276"/>
                    <a:pt x="395" y="287"/>
                  </a:cubicBezTo>
                  <a:cubicBezTo>
                    <a:pt x="405" y="297"/>
                    <a:pt x="404" y="313"/>
                    <a:pt x="393" y="322"/>
                  </a:cubicBezTo>
                  <a:close/>
                  <a:moveTo>
                    <a:pt x="324" y="391"/>
                  </a:moveTo>
                  <a:lnTo>
                    <a:pt x="324" y="391"/>
                  </a:lnTo>
                  <a:cubicBezTo>
                    <a:pt x="314" y="401"/>
                    <a:pt x="298" y="401"/>
                    <a:pt x="289" y="392"/>
                  </a:cubicBezTo>
                  <a:cubicBezTo>
                    <a:pt x="279" y="382"/>
                    <a:pt x="278" y="366"/>
                    <a:pt x="288" y="356"/>
                  </a:cubicBezTo>
                  <a:lnTo>
                    <a:pt x="288" y="356"/>
                  </a:lnTo>
                  <a:cubicBezTo>
                    <a:pt x="298" y="346"/>
                    <a:pt x="314" y="346"/>
                    <a:pt x="323" y="356"/>
                  </a:cubicBezTo>
                  <a:cubicBezTo>
                    <a:pt x="333" y="365"/>
                    <a:pt x="334" y="381"/>
                    <a:pt x="324" y="391"/>
                  </a:cubicBezTo>
                  <a:close/>
                  <a:moveTo>
                    <a:pt x="262" y="466"/>
                  </a:moveTo>
                  <a:lnTo>
                    <a:pt x="262" y="466"/>
                  </a:lnTo>
                  <a:cubicBezTo>
                    <a:pt x="253" y="477"/>
                    <a:pt x="237" y="479"/>
                    <a:pt x="226" y="470"/>
                  </a:cubicBezTo>
                  <a:cubicBezTo>
                    <a:pt x="216" y="462"/>
                    <a:pt x="214" y="446"/>
                    <a:pt x="222" y="435"/>
                  </a:cubicBezTo>
                  <a:lnTo>
                    <a:pt x="222" y="435"/>
                  </a:lnTo>
                  <a:cubicBezTo>
                    <a:pt x="231" y="424"/>
                    <a:pt x="246" y="422"/>
                    <a:pt x="257" y="431"/>
                  </a:cubicBezTo>
                  <a:cubicBezTo>
                    <a:pt x="268" y="439"/>
                    <a:pt x="270" y="455"/>
                    <a:pt x="262" y="466"/>
                  </a:cubicBezTo>
                  <a:close/>
                  <a:moveTo>
                    <a:pt x="206" y="547"/>
                  </a:moveTo>
                  <a:lnTo>
                    <a:pt x="206" y="547"/>
                  </a:lnTo>
                  <a:cubicBezTo>
                    <a:pt x="199" y="558"/>
                    <a:pt x="183" y="561"/>
                    <a:pt x="172" y="554"/>
                  </a:cubicBezTo>
                  <a:cubicBezTo>
                    <a:pt x="160" y="546"/>
                    <a:pt x="157" y="531"/>
                    <a:pt x="165" y="519"/>
                  </a:cubicBezTo>
                  <a:lnTo>
                    <a:pt x="165" y="519"/>
                  </a:lnTo>
                  <a:cubicBezTo>
                    <a:pt x="172" y="508"/>
                    <a:pt x="188" y="504"/>
                    <a:pt x="199" y="512"/>
                  </a:cubicBezTo>
                  <a:cubicBezTo>
                    <a:pt x="211" y="520"/>
                    <a:pt x="214" y="535"/>
                    <a:pt x="206" y="547"/>
                  </a:cubicBezTo>
                  <a:close/>
                  <a:moveTo>
                    <a:pt x="159" y="632"/>
                  </a:moveTo>
                  <a:lnTo>
                    <a:pt x="159" y="632"/>
                  </a:lnTo>
                  <a:cubicBezTo>
                    <a:pt x="153" y="644"/>
                    <a:pt x="138" y="649"/>
                    <a:pt x="126" y="643"/>
                  </a:cubicBezTo>
                  <a:cubicBezTo>
                    <a:pt x="113" y="636"/>
                    <a:pt x="109" y="621"/>
                    <a:pt x="115" y="609"/>
                  </a:cubicBezTo>
                  <a:lnTo>
                    <a:pt x="115" y="609"/>
                  </a:lnTo>
                  <a:cubicBezTo>
                    <a:pt x="121" y="597"/>
                    <a:pt x="136" y="592"/>
                    <a:pt x="149" y="598"/>
                  </a:cubicBezTo>
                  <a:cubicBezTo>
                    <a:pt x="161" y="605"/>
                    <a:pt x="166" y="620"/>
                    <a:pt x="159" y="632"/>
                  </a:cubicBezTo>
                  <a:close/>
                  <a:moveTo>
                    <a:pt x="120" y="721"/>
                  </a:moveTo>
                  <a:lnTo>
                    <a:pt x="120" y="721"/>
                  </a:lnTo>
                  <a:cubicBezTo>
                    <a:pt x="115" y="734"/>
                    <a:pt x="101" y="740"/>
                    <a:pt x="88" y="735"/>
                  </a:cubicBezTo>
                  <a:cubicBezTo>
                    <a:pt x="75" y="730"/>
                    <a:pt x="69" y="716"/>
                    <a:pt x="73" y="703"/>
                  </a:cubicBezTo>
                  <a:lnTo>
                    <a:pt x="73" y="703"/>
                  </a:lnTo>
                  <a:cubicBezTo>
                    <a:pt x="78" y="690"/>
                    <a:pt x="93" y="684"/>
                    <a:pt x="106" y="688"/>
                  </a:cubicBezTo>
                  <a:cubicBezTo>
                    <a:pt x="119" y="693"/>
                    <a:pt x="125" y="708"/>
                    <a:pt x="120" y="721"/>
                  </a:cubicBezTo>
                  <a:close/>
                  <a:moveTo>
                    <a:pt x="90" y="814"/>
                  </a:moveTo>
                  <a:lnTo>
                    <a:pt x="90" y="814"/>
                  </a:lnTo>
                  <a:cubicBezTo>
                    <a:pt x="86" y="827"/>
                    <a:pt x="72" y="835"/>
                    <a:pt x="59" y="831"/>
                  </a:cubicBezTo>
                  <a:cubicBezTo>
                    <a:pt x="45" y="827"/>
                    <a:pt x="38" y="813"/>
                    <a:pt x="41" y="800"/>
                  </a:cubicBezTo>
                  <a:lnTo>
                    <a:pt x="41" y="800"/>
                  </a:lnTo>
                  <a:cubicBezTo>
                    <a:pt x="45" y="787"/>
                    <a:pt x="59" y="779"/>
                    <a:pt x="72" y="783"/>
                  </a:cubicBezTo>
                  <a:cubicBezTo>
                    <a:pt x="86" y="786"/>
                    <a:pt x="93" y="800"/>
                    <a:pt x="90" y="814"/>
                  </a:cubicBezTo>
                  <a:close/>
                  <a:moveTo>
                    <a:pt x="68" y="908"/>
                  </a:moveTo>
                  <a:lnTo>
                    <a:pt x="68" y="908"/>
                  </a:lnTo>
                  <a:cubicBezTo>
                    <a:pt x="66" y="922"/>
                    <a:pt x="53" y="931"/>
                    <a:pt x="39" y="929"/>
                  </a:cubicBezTo>
                  <a:cubicBezTo>
                    <a:pt x="26" y="927"/>
                    <a:pt x="17" y="914"/>
                    <a:pt x="19" y="900"/>
                  </a:cubicBezTo>
                  <a:lnTo>
                    <a:pt x="19" y="900"/>
                  </a:lnTo>
                  <a:cubicBezTo>
                    <a:pt x="21" y="887"/>
                    <a:pt x="34" y="877"/>
                    <a:pt x="47" y="880"/>
                  </a:cubicBezTo>
                  <a:cubicBezTo>
                    <a:pt x="61" y="882"/>
                    <a:pt x="70" y="895"/>
                    <a:pt x="68" y="908"/>
                  </a:cubicBezTo>
                  <a:close/>
                  <a:moveTo>
                    <a:pt x="55" y="1005"/>
                  </a:moveTo>
                  <a:lnTo>
                    <a:pt x="55" y="1005"/>
                  </a:lnTo>
                  <a:cubicBezTo>
                    <a:pt x="54" y="1019"/>
                    <a:pt x="42" y="1029"/>
                    <a:pt x="28" y="1028"/>
                  </a:cubicBezTo>
                  <a:cubicBezTo>
                    <a:pt x="15" y="1027"/>
                    <a:pt x="4" y="1015"/>
                    <a:pt x="5" y="1001"/>
                  </a:cubicBezTo>
                  <a:lnTo>
                    <a:pt x="5" y="1001"/>
                  </a:lnTo>
                  <a:cubicBezTo>
                    <a:pt x="7" y="988"/>
                    <a:pt x="19" y="977"/>
                    <a:pt x="32" y="978"/>
                  </a:cubicBezTo>
                  <a:cubicBezTo>
                    <a:pt x="46" y="979"/>
                    <a:pt x="56" y="992"/>
                    <a:pt x="55" y="1005"/>
                  </a:cubicBezTo>
                  <a:close/>
                  <a:moveTo>
                    <a:pt x="50" y="1103"/>
                  </a:moveTo>
                  <a:lnTo>
                    <a:pt x="50" y="1103"/>
                  </a:lnTo>
                  <a:cubicBezTo>
                    <a:pt x="50" y="1117"/>
                    <a:pt x="39" y="1128"/>
                    <a:pt x="25" y="1128"/>
                  </a:cubicBezTo>
                  <a:cubicBezTo>
                    <a:pt x="12" y="1128"/>
                    <a:pt x="0" y="1117"/>
                    <a:pt x="0" y="1103"/>
                  </a:cubicBezTo>
                  <a:lnTo>
                    <a:pt x="0" y="1103"/>
                  </a:lnTo>
                  <a:cubicBezTo>
                    <a:pt x="0" y="1089"/>
                    <a:pt x="12" y="1078"/>
                    <a:pt x="25" y="1078"/>
                  </a:cubicBezTo>
                  <a:cubicBezTo>
                    <a:pt x="39" y="1078"/>
                    <a:pt x="50" y="1089"/>
                    <a:pt x="50" y="1103"/>
                  </a:cubicBezTo>
                  <a:close/>
                  <a:moveTo>
                    <a:pt x="50" y="1203"/>
                  </a:moveTo>
                  <a:lnTo>
                    <a:pt x="50" y="1203"/>
                  </a:lnTo>
                  <a:cubicBezTo>
                    <a:pt x="50" y="1217"/>
                    <a:pt x="39" y="1228"/>
                    <a:pt x="25" y="1228"/>
                  </a:cubicBezTo>
                  <a:cubicBezTo>
                    <a:pt x="12" y="1228"/>
                    <a:pt x="0" y="1217"/>
                    <a:pt x="0" y="1203"/>
                  </a:cubicBezTo>
                  <a:lnTo>
                    <a:pt x="0" y="1203"/>
                  </a:lnTo>
                  <a:cubicBezTo>
                    <a:pt x="0" y="1189"/>
                    <a:pt x="12" y="1178"/>
                    <a:pt x="25" y="1178"/>
                  </a:cubicBezTo>
                  <a:cubicBezTo>
                    <a:pt x="39" y="1178"/>
                    <a:pt x="50" y="1189"/>
                    <a:pt x="50" y="1203"/>
                  </a:cubicBezTo>
                  <a:close/>
                  <a:moveTo>
                    <a:pt x="50" y="1303"/>
                  </a:moveTo>
                  <a:lnTo>
                    <a:pt x="50" y="1303"/>
                  </a:lnTo>
                  <a:cubicBezTo>
                    <a:pt x="50" y="1317"/>
                    <a:pt x="39" y="1328"/>
                    <a:pt x="25" y="1328"/>
                  </a:cubicBezTo>
                  <a:cubicBezTo>
                    <a:pt x="12" y="1328"/>
                    <a:pt x="0" y="1317"/>
                    <a:pt x="0" y="1303"/>
                  </a:cubicBezTo>
                  <a:lnTo>
                    <a:pt x="0" y="1303"/>
                  </a:lnTo>
                  <a:cubicBezTo>
                    <a:pt x="0" y="1290"/>
                    <a:pt x="12" y="1278"/>
                    <a:pt x="25" y="1278"/>
                  </a:cubicBezTo>
                  <a:cubicBezTo>
                    <a:pt x="39" y="1278"/>
                    <a:pt x="50" y="1290"/>
                    <a:pt x="50" y="1303"/>
                  </a:cubicBezTo>
                  <a:close/>
                  <a:moveTo>
                    <a:pt x="50" y="1403"/>
                  </a:moveTo>
                  <a:lnTo>
                    <a:pt x="50" y="1403"/>
                  </a:lnTo>
                  <a:cubicBezTo>
                    <a:pt x="50" y="1417"/>
                    <a:pt x="39" y="1428"/>
                    <a:pt x="25" y="1428"/>
                  </a:cubicBezTo>
                  <a:cubicBezTo>
                    <a:pt x="12" y="1428"/>
                    <a:pt x="0" y="1417"/>
                    <a:pt x="0" y="1403"/>
                  </a:cubicBezTo>
                  <a:lnTo>
                    <a:pt x="0" y="1403"/>
                  </a:lnTo>
                  <a:cubicBezTo>
                    <a:pt x="0" y="1390"/>
                    <a:pt x="12" y="1378"/>
                    <a:pt x="25" y="1378"/>
                  </a:cubicBezTo>
                  <a:cubicBezTo>
                    <a:pt x="39" y="1378"/>
                    <a:pt x="50" y="1390"/>
                    <a:pt x="50" y="1403"/>
                  </a:cubicBezTo>
                  <a:close/>
                  <a:moveTo>
                    <a:pt x="50" y="1503"/>
                  </a:moveTo>
                  <a:lnTo>
                    <a:pt x="50" y="1504"/>
                  </a:lnTo>
                  <a:cubicBezTo>
                    <a:pt x="50" y="1517"/>
                    <a:pt x="39" y="1528"/>
                    <a:pt x="25" y="1528"/>
                  </a:cubicBezTo>
                  <a:cubicBezTo>
                    <a:pt x="12" y="1528"/>
                    <a:pt x="0" y="1517"/>
                    <a:pt x="0" y="1504"/>
                  </a:cubicBezTo>
                  <a:lnTo>
                    <a:pt x="0" y="1503"/>
                  </a:lnTo>
                  <a:cubicBezTo>
                    <a:pt x="0" y="1490"/>
                    <a:pt x="12" y="1478"/>
                    <a:pt x="25" y="1478"/>
                  </a:cubicBezTo>
                  <a:cubicBezTo>
                    <a:pt x="39" y="1478"/>
                    <a:pt x="50" y="1490"/>
                    <a:pt x="50" y="1503"/>
                  </a:cubicBezTo>
                  <a:close/>
                  <a:moveTo>
                    <a:pt x="50" y="1604"/>
                  </a:moveTo>
                  <a:lnTo>
                    <a:pt x="50" y="1604"/>
                  </a:lnTo>
                  <a:cubicBezTo>
                    <a:pt x="50" y="1617"/>
                    <a:pt x="39" y="1629"/>
                    <a:pt x="25" y="1629"/>
                  </a:cubicBezTo>
                  <a:cubicBezTo>
                    <a:pt x="12" y="1629"/>
                    <a:pt x="0" y="1617"/>
                    <a:pt x="0" y="1604"/>
                  </a:cubicBezTo>
                  <a:lnTo>
                    <a:pt x="0" y="1604"/>
                  </a:lnTo>
                  <a:cubicBezTo>
                    <a:pt x="0" y="1590"/>
                    <a:pt x="12" y="1579"/>
                    <a:pt x="25" y="1579"/>
                  </a:cubicBezTo>
                  <a:cubicBezTo>
                    <a:pt x="39" y="1579"/>
                    <a:pt x="50" y="1590"/>
                    <a:pt x="50" y="1604"/>
                  </a:cubicBezTo>
                  <a:close/>
                  <a:moveTo>
                    <a:pt x="50" y="1704"/>
                  </a:moveTo>
                  <a:lnTo>
                    <a:pt x="50" y="1704"/>
                  </a:lnTo>
                  <a:cubicBezTo>
                    <a:pt x="50" y="1717"/>
                    <a:pt x="39" y="1729"/>
                    <a:pt x="25" y="1729"/>
                  </a:cubicBezTo>
                  <a:cubicBezTo>
                    <a:pt x="12" y="1729"/>
                    <a:pt x="0" y="1717"/>
                    <a:pt x="0" y="1704"/>
                  </a:cubicBezTo>
                  <a:lnTo>
                    <a:pt x="0" y="1704"/>
                  </a:lnTo>
                  <a:cubicBezTo>
                    <a:pt x="0" y="1690"/>
                    <a:pt x="12" y="1679"/>
                    <a:pt x="25" y="1679"/>
                  </a:cubicBezTo>
                  <a:cubicBezTo>
                    <a:pt x="39" y="1679"/>
                    <a:pt x="50" y="1690"/>
                    <a:pt x="50" y="1704"/>
                  </a:cubicBezTo>
                  <a:close/>
                  <a:moveTo>
                    <a:pt x="50" y="1804"/>
                  </a:moveTo>
                  <a:lnTo>
                    <a:pt x="50" y="1804"/>
                  </a:lnTo>
                  <a:cubicBezTo>
                    <a:pt x="50" y="1817"/>
                    <a:pt x="39" y="1829"/>
                    <a:pt x="25" y="1829"/>
                  </a:cubicBezTo>
                  <a:cubicBezTo>
                    <a:pt x="12" y="1829"/>
                    <a:pt x="0" y="1817"/>
                    <a:pt x="0" y="1804"/>
                  </a:cubicBezTo>
                  <a:lnTo>
                    <a:pt x="0" y="1804"/>
                  </a:lnTo>
                  <a:cubicBezTo>
                    <a:pt x="0" y="1790"/>
                    <a:pt x="12" y="1779"/>
                    <a:pt x="25" y="1779"/>
                  </a:cubicBezTo>
                  <a:cubicBezTo>
                    <a:pt x="39" y="1779"/>
                    <a:pt x="50" y="1790"/>
                    <a:pt x="50" y="1804"/>
                  </a:cubicBezTo>
                  <a:close/>
                  <a:moveTo>
                    <a:pt x="50" y="1904"/>
                  </a:moveTo>
                  <a:lnTo>
                    <a:pt x="50" y="1904"/>
                  </a:lnTo>
                  <a:cubicBezTo>
                    <a:pt x="50" y="1918"/>
                    <a:pt x="39" y="1929"/>
                    <a:pt x="25" y="1929"/>
                  </a:cubicBezTo>
                  <a:cubicBezTo>
                    <a:pt x="12" y="1929"/>
                    <a:pt x="0" y="1918"/>
                    <a:pt x="0" y="1904"/>
                  </a:cubicBezTo>
                  <a:lnTo>
                    <a:pt x="0" y="1904"/>
                  </a:lnTo>
                  <a:cubicBezTo>
                    <a:pt x="0" y="1890"/>
                    <a:pt x="12" y="1879"/>
                    <a:pt x="25" y="1879"/>
                  </a:cubicBezTo>
                  <a:cubicBezTo>
                    <a:pt x="39" y="1879"/>
                    <a:pt x="50" y="1890"/>
                    <a:pt x="50" y="1904"/>
                  </a:cubicBezTo>
                  <a:close/>
                  <a:moveTo>
                    <a:pt x="50" y="2004"/>
                  </a:moveTo>
                  <a:lnTo>
                    <a:pt x="50" y="2004"/>
                  </a:lnTo>
                  <a:cubicBezTo>
                    <a:pt x="50" y="2018"/>
                    <a:pt x="39" y="2029"/>
                    <a:pt x="25" y="2029"/>
                  </a:cubicBezTo>
                  <a:cubicBezTo>
                    <a:pt x="12" y="2029"/>
                    <a:pt x="0" y="2018"/>
                    <a:pt x="0" y="2004"/>
                  </a:cubicBezTo>
                  <a:lnTo>
                    <a:pt x="0" y="2004"/>
                  </a:lnTo>
                  <a:cubicBezTo>
                    <a:pt x="0" y="1990"/>
                    <a:pt x="12" y="1979"/>
                    <a:pt x="25" y="1979"/>
                  </a:cubicBezTo>
                  <a:cubicBezTo>
                    <a:pt x="39" y="1979"/>
                    <a:pt x="50" y="1990"/>
                    <a:pt x="50" y="2004"/>
                  </a:cubicBezTo>
                  <a:close/>
                  <a:moveTo>
                    <a:pt x="50" y="2104"/>
                  </a:moveTo>
                  <a:lnTo>
                    <a:pt x="50" y="2104"/>
                  </a:lnTo>
                  <a:cubicBezTo>
                    <a:pt x="50" y="2118"/>
                    <a:pt x="39" y="2129"/>
                    <a:pt x="25" y="2129"/>
                  </a:cubicBezTo>
                  <a:cubicBezTo>
                    <a:pt x="12" y="2129"/>
                    <a:pt x="0" y="2118"/>
                    <a:pt x="0" y="2104"/>
                  </a:cubicBezTo>
                  <a:lnTo>
                    <a:pt x="0" y="2104"/>
                  </a:lnTo>
                  <a:cubicBezTo>
                    <a:pt x="0" y="2090"/>
                    <a:pt x="12" y="2079"/>
                    <a:pt x="25" y="2079"/>
                  </a:cubicBezTo>
                  <a:cubicBezTo>
                    <a:pt x="39" y="2079"/>
                    <a:pt x="50" y="2090"/>
                    <a:pt x="50" y="2104"/>
                  </a:cubicBezTo>
                  <a:close/>
                  <a:moveTo>
                    <a:pt x="50" y="2204"/>
                  </a:moveTo>
                  <a:lnTo>
                    <a:pt x="50" y="2204"/>
                  </a:lnTo>
                  <a:cubicBezTo>
                    <a:pt x="50" y="2218"/>
                    <a:pt x="39" y="2229"/>
                    <a:pt x="25" y="2229"/>
                  </a:cubicBezTo>
                  <a:cubicBezTo>
                    <a:pt x="12" y="2229"/>
                    <a:pt x="0" y="2218"/>
                    <a:pt x="0" y="2204"/>
                  </a:cubicBezTo>
                  <a:lnTo>
                    <a:pt x="0" y="2204"/>
                  </a:lnTo>
                  <a:cubicBezTo>
                    <a:pt x="0" y="2190"/>
                    <a:pt x="12" y="2179"/>
                    <a:pt x="25" y="2179"/>
                  </a:cubicBezTo>
                  <a:cubicBezTo>
                    <a:pt x="39" y="2179"/>
                    <a:pt x="50" y="2190"/>
                    <a:pt x="50" y="2204"/>
                  </a:cubicBezTo>
                  <a:close/>
                  <a:moveTo>
                    <a:pt x="50" y="2304"/>
                  </a:moveTo>
                  <a:lnTo>
                    <a:pt x="50" y="2304"/>
                  </a:lnTo>
                  <a:cubicBezTo>
                    <a:pt x="50" y="2318"/>
                    <a:pt x="39" y="2329"/>
                    <a:pt x="25" y="2329"/>
                  </a:cubicBezTo>
                  <a:cubicBezTo>
                    <a:pt x="12" y="2329"/>
                    <a:pt x="0" y="2318"/>
                    <a:pt x="0" y="2304"/>
                  </a:cubicBezTo>
                  <a:lnTo>
                    <a:pt x="0" y="2304"/>
                  </a:lnTo>
                  <a:cubicBezTo>
                    <a:pt x="0" y="2290"/>
                    <a:pt x="12" y="2279"/>
                    <a:pt x="25" y="2279"/>
                  </a:cubicBezTo>
                  <a:cubicBezTo>
                    <a:pt x="39" y="2279"/>
                    <a:pt x="50" y="2290"/>
                    <a:pt x="50" y="2304"/>
                  </a:cubicBezTo>
                  <a:close/>
                  <a:moveTo>
                    <a:pt x="50" y="2404"/>
                  </a:moveTo>
                  <a:lnTo>
                    <a:pt x="50" y="2404"/>
                  </a:lnTo>
                  <a:cubicBezTo>
                    <a:pt x="50" y="2418"/>
                    <a:pt x="39" y="2429"/>
                    <a:pt x="25" y="2429"/>
                  </a:cubicBezTo>
                  <a:cubicBezTo>
                    <a:pt x="12" y="2429"/>
                    <a:pt x="0" y="2418"/>
                    <a:pt x="0" y="2404"/>
                  </a:cubicBezTo>
                  <a:lnTo>
                    <a:pt x="0" y="2404"/>
                  </a:lnTo>
                  <a:cubicBezTo>
                    <a:pt x="0" y="2390"/>
                    <a:pt x="12" y="2379"/>
                    <a:pt x="25" y="2379"/>
                  </a:cubicBezTo>
                  <a:cubicBezTo>
                    <a:pt x="39" y="2379"/>
                    <a:pt x="50" y="2390"/>
                    <a:pt x="50" y="2404"/>
                  </a:cubicBezTo>
                  <a:close/>
                  <a:moveTo>
                    <a:pt x="50" y="2504"/>
                  </a:moveTo>
                  <a:lnTo>
                    <a:pt x="50" y="2504"/>
                  </a:lnTo>
                  <a:cubicBezTo>
                    <a:pt x="50" y="2518"/>
                    <a:pt x="39" y="2529"/>
                    <a:pt x="25" y="2529"/>
                  </a:cubicBezTo>
                  <a:cubicBezTo>
                    <a:pt x="12" y="2529"/>
                    <a:pt x="0" y="2518"/>
                    <a:pt x="0" y="2504"/>
                  </a:cubicBezTo>
                  <a:lnTo>
                    <a:pt x="0" y="2504"/>
                  </a:lnTo>
                  <a:cubicBezTo>
                    <a:pt x="0" y="2490"/>
                    <a:pt x="12" y="2479"/>
                    <a:pt x="25" y="2479"/>
                  </a:cubicBezTo>
                  <a:cubicBezTo>
                    <a:pt x="39" y="2479"/>
                    <a:pt x="50" y="2490"/>
                    <a:pt x="50" y="2504"/>
                  </a:cubicBezTo>
                  <a:close/>
                  <a:moveTo>
                    <a:pt x="50" y="2604"/>
                  </a:moveTo>
                  <a:lnTo>
                    <a:pt x="50" y="2604"/>
                  </a:lnTo>
                  <a:cubicBezTo>
                    <a:pt x="50" y="2618"/>
                    <a:pt x="39" y="2629"/>
                    <a:pt x="25" y="2629"/>
                  </a:cubicBezTo>
                  <a:cubicBezTo>
                    <a:pt x="12" y="2629"/>
                    <a:pt x="0" y="2618"/>
                    <a:pt x="0" y="2604"/>
                  </a:cubicBezTo>
                  <a:lnTo>
                    <a:pt x="0" y="2604"/>
                  </a:lnTo>
                  <a:cubicBezTo>
                    <a:pt x="0" y="2590"/>
                    <a:pt x="12" y="2579"/>
                    <a:pt x="25" y="2579"/>
                  </a:cubicBezTo>
                  <a:cubicBezTo>
                    <a:pt x="39" y="2579"/>
                    <a:pt x="50" y="2590"/>
                    <a:pt x="50" y="2604"/>
                  </a:cubicBezTo>
                  <a:close/>
                  <a:moveTo>
                    <a:pt x="50" y="2704"/>
                  </a:moveTo>
                  <a:lnTo>
                    <a:pt x="50" y="2704"/>
                  </a:lnTo>
                  <a:cubicBezTo>
                    <a:pt x="50" y="2718"/>
                    <a:pt x="39" y="2729"/>
                    <a:pt x="25" y="2729"/>
                  </a:cubicBezTo>
                  <a:cubicBezTo>
                    <a:pt x="12" y="2729"/>
                    <a:pt x="0" y="2718"/>
                    <a:pt x="0" y="2704"/>
                  </a:cubicBezTo>
                  <a:lnTo>
                    <a:pt x="0" y="2704"/>
                  </a:lnTo>
                  <a:cubicBezTo>
                    <a:pt x="0" y="2690"/>
                    <a:pt x="12" y="2679"/>
                    <a:pt x="25" y="2679"/>
                  </a:cubicBezTo>
                  <a:cubicBezTo>
                    <a:pt x="39" y="2679"/>
                    <a:pt x="50" y="2690"/>
                    <a:pt x="50" y="2704"/>
                  </a:cubicBezTo>
                  <a:close/>
                  <a:moveTo>
                    <a:pt x="50" y="2804"/>
                  </a:moveTo>
                  <a:lnTo>
                    <a:pt x="50" y="2804"/>
                  </a:lnTo>
                  <a:cubicBezTo>
                    <a:pt x="50" y="2818"/>
                    <a:pt x="39" y="2829"/>
                    <a:pt x="25" y="2829"/>
                  </a:cubicBezTo>
                  <a:cubicBezTo>
                    <a:pt x="12" y="2829"/>
                    <a:pt x="0" y="2818"/>
                    <a:pt x="0" y="2804"/>
                  </a:cubicBezTo>
                  <a:lnTo>
                    <a:pt x="0" y="2804"/>
                  </a:lnTo>
                  <a:cubicBezTo>
                    <a:pt x="0" y="2790"/>
                    <a:pt x="12" y="2779"/>
                    <a:pt x="25" y="2779"/>
                  </a:cubicBezTo>
                  <a:cubicBezTo>
                    <a:pt x="39" y="2779"/>
                    <a:pt x="50" y="2790"/>
                    <a:pt x="50" y="2804"/>
                  </a:cubicBezTo>
                  <a:close/>
                  <a:moveTo>
                    <a:pt x="50" y="2904"/>
                  </a:moveTo>
                  <a:lnTo>
                    <a:pt x="50" y="2904"/>
                  </a:lnTo>
                  <a:cubicBezTo>
                    <a:pt x="50" y="2918"/>
                    <a:pt x="39" y="2929"/>
                    <a:pt x="25" y="2929"/>
                  </a:cubicBezTo>
                  <a:cubicBezTo>
                    <a:pt x="12" y="2929"/>
                    <a:pt x="0" y="2918"/>
                    <a:pt x="0" y="2904"/>
                  </a:cubicBezTo>
                  <a:lnTo>
                    <a:pt x="0" y="2904"/>
                  </a:lnTo>
                  <a:cubicBezTo>
                    <a:pt x="0" y="2890"/>
                    <a:pt x="12" y="2879"/>
                    <a:pt x="25" y="2879"/>
                  </a:cubicBezTo>
                  <a:cubicBezTo>
                    <a:pt x="39" y="2879"/>
                    <a:pt x="50" y="2890"/>
                    <a:pt x="50" y="2904"/>
                  </a:cubicBezTo>
                  <a:close/>
                  <a:moveTo>
                    <a:pt x="50" y="3004"/>
                  </a:moveTo>
                  <a:lnTo>
                    <a:pt x="50" y="3004"/>
                  </a:lnTo>
                  <a:cubicBezTo>
                    <a:pt x="50" y="3018"/>
                    <a:pt x="39" y="3029"/>
                    <a:pt x="25" y="3029"/>
                  </a:cubicBezTo>
                  <a:cubicBezTo>
                    <a:pt x="12" y="3029"/>
                    <a:pt x="0" y="3018"/>
                    <a:pt x="0" y="3004"/>
                  </a:cubicBezTo>
                  <a:lnTo>
                    <a:pt x="0" y="3004"/>
                  </a:lnTo>
                  <a:cubicBezTo>
                    <a:pt x="0" y="2990"/>
                    <a:pt x="12" y="2979"/>
                    <a:pt x="25" y="2979"/>
                  </a:cubicBezTo>
                  <a:cubicBezTo>
                    <a:pt x="39" y="2979"/>
                    <a:pt x="50" y="2990"/>
                    <a:pt x="50" y="3004"/>
                  </a:cubicBezTo>
                  <a:close/>
                  <a:moveTo>
                    <a:pt x="50" y="3104"/>
                  </a:moveTo>
                  <a:lnTo>
                    <a:pt x="50" y="3104"/>
                  </a:lnTo>
                  <a:cubicBezTo>
                    <a:pt x="50" y="3118"/>
                    <a:pt x="39" y="3129"/>
                    <a:pt x="25" y="3129"/>
                  </a:cubicBezTo>
                  <a:cubicBezTo>
                    <a:pt x="12" y="3129"/>
                    <a:pt x="0" y="3118"/>
                    <a:pt x="0" y="3104"/>
                  </a:cubicBezTo>
                  <a:lnTo>
                    <a:pt x="0" y="3104"/>
                  </a:lnTo>
                  <a:cubicBezTo>
                    <a:pt x="0" y="3090"/>
                    <a:pt x="12" y="3079"/>
                    <a:pt x="25" y="3079"/>
                  </a:cubicBezTo>
                  <a:cubicBezTo>
                    <a:pt x="39" y="3079"/>
                    <a:pt x="50" y="3090"/>
                    <a:pt x="50" y="3104"/>
                  </a:cubicBezTo>
                  <a:close/>
                  <a:moveTo>
                    <a:pt x="50" y="3204"/>
                  </a:moveTo>
                  <a:lnTo>
                    <a:pt x="50" y="3204"/>
                  </a:lnTo>
                  <a:cubicBezTo>
                    <a:pt x="50" y="3218"/>
                    <a:pt x="39" y="3229"/>
                    <a:pt x="25" y="3229"/>
                  </a:cubicBezTo>
                  <a:cubicBezTo>
                    <a:pt x="12" y="3229"/>
                    <a:pt x="0" y="3218"/>
                    <a:pt x="0" y="3204"/>
                  </a:cubicBezTo>
                  <a:lnTo>
                    <a:pt x="0" y="3204"/>
                  </a:lnTo>
                  <a:cubicBezTo>
                    <a:pt x="0" y="3190"/>
                    <a:pt x="12" y="3179"/>
                    <a:pt x="25" y="3179"/>
                  </a:cubicBezTo>
                  <a:cubicBezTo>
                    <a:pt x="39" y="3179"/>
                    <a:pt x="50" y="3190"/>
                    <a:pt x="50" y="3204"/>
                  </a:cubicBezTo>
                  <a:close/>
                  <a:moveTo>
                    <a:pt x="50" y="3304"/>
                  </a:moveTo>
                  <a:lnTo>
                    <a:pt x="50" y="3304"/>
                  </a:lnTo>
                  <a:cubicBezTo>
                    <a:pt x="50" y="3318"/>
                    <a:pt x="39" y="3329"/>
                    <a:pt x="25" y="3329"/>
                  </a:cubicBezTo>
                  <a:cubicBezTo>
                    <a:pt x="12" y="3329"/>
                    <a:pt x="0" y="3318"/>
                    <a:pt x="0" y="3304"/>
                  </a:cubicBezTo>
                  <a:lnTo>
                    <a:pt x="0" y="3304"/>
                  </a:lnTo>
                  <a:cubicBezTo>
                    <a:pt x="0" y="3291"/>
                    <a:pt x="12" y="3279"/>
                    <a:pt x="25" y="3279"/>
                  </a:cubicBezTo>
                  <a:cubicBezTo>
                    <a:pt x="39" y="3279"/>
                    <a:pt x="50" y="3291"/>
                    <a:pt x="50" y="3304"/>
                  </a:cubicBezTo>
                  <a:close/>
                  <a:moveTo>
                    <a:pt x="50" y="3404"/>
                  </a:moveTo>
                  <a:lnTo>
                    <a:pt x="50" y="3404"/>
                  </a:lnTo>
                  <a:cubicBezTo>
                    <a:pt x="50" y="3418"/>
                    <a:pt x="39" y="3429"/>
                    <a:pt x="25" y="3429"/>
                  </a:cubicBezTo>
                  <a:cubicBezTo>
                    <a:pt x="12" y="3429"/>
                    <a:pt x="0" y="3418"/>
                    <a:pt x="0" y="3404"/>
                  </a:cubicBezTo>
                  <a:lnTo>
                    <a:pt x="0" y="3404"/>
                  </a:lnTo>
                  <a:cubicBezTo>
                    <a:pt x="0" y="3391"/>
                    <a:pt x="12" y="3379"/>
                    <a:pt x="25" y="3379"/>
                  </a:cubicBezTo>
                  <a:cubicBezTo>
                    <a:pt x="39" y="3379"/>
                    <a:pt x="50" y="3391"/>
                    <a:pt x="50" y="3404"/>
                  </a:cubicBezTo>
                  <a:close/>
                  <a:moveTo>
                    <a:pt x="50" y="3504"/>
                  </a:moveTo>
                  <a:lnTo>
                    <a:pt x="50" y="3504"/>
                  </a:lnTo>
                  <a:cubicBezTo>
                    <a:pt x="50" y="3518"/>
                    <a:pt x="39" y="3529"/>
                    <a:pt x="25" y="3529"/>
                  </a:cubicBezTo>
                  <a:cubicBezTo>
                    <a:pt x="12" y="3529"/>
                    <a:pt x="0" y="3518"/>
                    <a:pt x="0" y="3504"/>
                  </a:cubicBezTo>
                  <a:lnTo>
                    <a:pt x="0" y="3504"/>
                  </a:lnTo>
                  <a:cubicBezTo>
                    <a:pt x="0" y="3491"/>
                    <a:pt x="12" y="3479"/>
                    <a:pt x="25" y="3479"/>
                  </a:cubicBezTo>
                  <a:cubicBezTo>
                    <a:pt x="39" y="3479"/>
                    <a:pt x="50" y="3491"/>
                    <a:pt x="50" y="3504"/>
                  </a:cubicBezTo>
                  <a:close/>
                  <a:moveTo>
                    <a:pt x="50" y="3604"/>
                  </a:moveTo>
                  <a:lnTo>
                    <a:pt x="50" y="3605"/>
                  </a:lnTo>
                  <a:cubicBezTo>
                    <a:pt x="50" y="3618"/>
                    <a:pt x="39" y="3630"/>
                    <a:pt x="25" y="3630"/>
                  </a:cubicBezTo>
                  <a:cubicBezTo>
                    <a:pt x="12" y="3630"/>
                    <a:pt x="0" y="3618"/>
                    <a:pt x="0" y="3605"/>
                  </a:cubicBezTo>
                  <a:lnTo>
                    <a:pt x="0" y="3604"/>
                  </a:lnTo>
                  <a:cubicBezTo>
                    <a:pt x="0" y="3591"/>
                    <a:pt x="12" y="3579"/>
                    <a:pt x="25" y="3579"/>
                  </a:cubicBezTo>
                  <a:cubicBezTo>
                    <a:pt x="39" y="3579"/>
                    <a:pt x="50" y="3591"/>
                    <a:pt x="50" y="3604"/>
                  </a:cubicBezTo>
                  <a:close/>
                  <a:moveTo>
                    <a:pt x="50" y="3705"/>
                  </a:moveTo>
                  <a:lnTo>
                    <a:pt x="50" y="3705"/>
                  </a:lnTo>
                  <a:cubicBezTo>
                    <a:pt x="50" y="3718"/>
                    <a:pt x="39" y="3730"/>
                    <a:pt x="25" y="3730"/>
                  </a:cubicBezTo>
                  <a:cubicBezTo>
                    <a:pt x="12" y="3730"/>
                    <a:pt x="0" y="3718"/>
                    <a:pt x="0" y="3705"/>
                  </a:cubicBezTo>
                  <a:lnTo>
                    <a:pt x="0" y="3705"/>
                  </a:lnTo>
                  <a:cubicBezTo>
                    <a:pt x="0" y="3691"/>
                    <a:pt x="12" y="3680"/>
                    <a:pt x="25" y="3680"/>
                  </a:cubicBezTo>
                  <a:cubicBezTo>
                    <a:pt x="39" y="3680"/>
                    <a:pt x="50" y="3691"/>
                    <a:pt x="50" y="3705"/>
                  </a:cubicBezTo>
                  <a:close/>
                  <a:moveTo>
                    <a:pt x="50" y="3805"/>
                  </a:moveTo>
                  <a:lnTo>
                    <a:pt x="50" y="3805"/>
                  </a:lnTo>
                  <a:cubicBezTo>
                    <a:pt x="50" y="3818"/>
                    <a:pt x="39" y="3830"/>
                    <a:pt x="25" y="3830"/>
                  </a:cubicBezTo>
                  <a:cubicBezTo>
                    <a:pt x="12" y="3830"/>
                    <a:pt x="0" y="3818"/>
                    <a:pt x="0" y="3805"/>
                  </a:cubicBezTo>
                  <a:lnTo>
                    <a:pt x="0" y="3805"/>
                  </a:lnTo>
                  <a:cubicBezTo>
                    <a:pt x="0" y="3791"/>
                    <a:pt x="12" y="3780"/>
                    <a:pt x="25" y="3780"/>
                  </a:cubicBezTo>
                  <a:cubicBezTo>
                    <a:pt x="39" y="3780"/>
                    <a:pt x="50" y="3791"/>
                    <a:pt x="50" y="3805"/>
                  </a:cubicBezTo>
                  <a:close/>
                  <a:moveTo>
                    <a:pt x="50" y="3905"/>
                  </a:moveTo>
                  <a:lnTo>
                    <a:pt x="50" y="3905"/>
                  </a:lnTo>
                  <a:cubicBezTo>
                    <a:pt x="50" y="3918"/>
                    <a:pt x="39" y="3930"/>
                    <a:pt x="25" y="3930"/>
                  </a:cubicBezTo>
                  <a:cubicBezTo>
                    <a:pt x="12" y="3930"/>
                    <a:pt x="0" y="3918"/>
                    <a:pt x="0" y="3905"/>
                  </a:cubicBezTo>
                  <a:lnTo>
                    <a:pt x="0" y="3905"/>
                  </a:lnTo>
                  <a:cubicBezTo>
                    <a:pt x="0" y="3891"/>
                    <a:pt x="12" y="3880"/>
                    <a:pt x="25" y="3880"/>
                  </a:cubicBezTo>
                  <a:cubicBezTo>
                    <a:pt x="39" y="3880"/>
                    <a:pt x="50" y="3891"/>
                    <a:pt x="50" y="3905"/>
                  </a:cubicBezTo>
                  <a:close/>
                  <a:moveTo>
                    <a:pt x="50" y="4005"/>
                  </a:moveTo>
                  <a:lnTo>
                    <a:pt x="50" y="4005"/>
                  </a:lnTo>
                  <a:cubicBezTo>
                    <a:pt x="50" y="4019"/>
                    <a:pt x="39" y="4030"/>
                    <a:pt x="25" y="4030"/>
                  </a:cubicBezTo>
                  <a:cubicBezTo>
                    <a:pt x="12" y="4030"/>
                    <a:pt x="0" y="4019"/>
                    <a:pt x="0" y="4005"/>
                  </a:cubicBezTo>
                  <a:lnTo>
                    <a:pt x="0" y="4005"/>
                  </a:lnTo>
                  <a:cubicBezTo>
                    <a:pt x="0" y="3991"/>
                    <a:pt x="12" y="3980"/>
                    <a:pt x="25" y="3980"/>
                  </a:cubicBezTo>
                  <a:cubicBezTo>
                    <a:pt x="39" y="3980"/>
                    <a:pt x="50" y="3991"/>
                    <a:pt x="50" y="4005"/>
                  </a:cubicBezTo>
                  <a:close/>
                  <a:moveTo>
                    <a:pt x="50" y="4105"/>
                  </a:moveTo>
                  <a:lnTo>
                    <a:pt x="50" y="4105"/>
                  </a:lnTo>
                  <a:cubicBezTo>
                    <a:pt x="50" y="4119"/>
                    <a:pt x="39" y="4130"/>
                    <a:pt x="25" y="4130"/>
                  </a:cubicBezTo>
                  <a:cubicBezTo>
                    <a:pt x="12" y="4130"/>
                    <a:pt x="0" y="4119"/>
                    <a:pt x="0" y="4105"/>
                  </a:cubicBezTo>
                  <a:lnTo>
                    <a:pt x="0" y="4105"/>
                  </a:lnTo>
                  <a:cubicBezTo>
                    <a:pt x="0" y="4091"/>
                    <a:pt x="12" y="4080"/>
                    <a:pt x="25" y="4080"/>
                  </a:cubicBezTo>
                  <a:cubicBezTo>
                    <a:pt x="39" y="4080"/>
                    <a:pt x="50" y="4091"/>
                    <a:pt x="50" y="4105"/>
                  </a:cubicBezTo>
                  <a:close/>
                  <a:moveTo>
                    <a:pt x="50" y="4205"/>
                  </a:moveTo>
                  <a:lnTo>
                    <a:pt x="50" y="4205"/>
                  </a:lnTo>
                  <a:cubicBezTo>
                    <a:pt x="50" y="4219"/>
                    <a:pt x="39" y="4230"/>
                    <a:pt x="25" y="4230"/>
                  </a:cubicBezTo>
                  <a:cubicBezTo>
                    <a:pt x="12" y="4230"/>
                    <a:pt x="0" y="4219"/>
                    <a:pt x="0" y="4205"/>
                  </a:cubicBezTo>
                  <a:lnTo>
                    <a:pt x="0" y="4205"/>
                  </a:lnTo>
                  <a:cubicBezTo>
                    <a:pt x="0" y="4191"/>
                    <a:pt x="12" y="4180"/>
                    <a:pt x="25" y="4180"/>
                  </a:cubicBezTo>
                  <a:cubicBezTo>
                    <a:pt x="39" y="4180"/>
                    <a:pt x="50" y="4191"/>
                    <a:pt x="50" y="4205"/>
                  </a:cubicBezTo>
                  <a:close/>
                  <a:moveTo>
                    <a:pt x="50" y="4305"/>
                  </a:moveTo>
                  <a:lnTo>
                    <a:pt x="50" y="4305"/>
                  </a:lnTo>
                  <a:cubicBezTo>
                    <a:pt x="50" y="4319"/>
                    <a:pt x="39" y="4330"/>
                    <a:pt x="25" y="4330"/>
                  </a:cubicBezTo>
                  <a:cubicBezTo>
                    <a:pt x="12" y="4330"/>
                    <a:pt x="0" y="4319"/>
                    <a:pt x="0" y="4305"/>
                  </a:cubicBezTo>
                  <a:lnTo>
                    <a:pt x="0" y="4305"/>
                  </a:lnTo>
                  <a:cubicBezTo>
                    <a:pt x="0" y="4291"/>
                    <a:pt x="12" y="4280"/>
                    <a:pt x="25" y="4280"/>
                  </a:cubicBezTo>
                  <a:cubicBezTo>
                    <a:pt x="39" y="4280"/>
                    <a:pt x="50" y="4291"/>
                    <a:pt x="50" y="4305"/>
                  </a:cubicBezTo>
                  <a:close/>
                  <a:moveTo>
                    <a:pt x="50" y="4405"/>
                  </a:moveTo>
                  <a:lnTo>
                    <a:pt x="50" y="4405"/>
                  </a:lnTo>
                  <a:cubicBezTo>
                    <a:pt x="50" y="4419"/>
                    <a:pt x="39" y="4430"/>
                    <a:pt x="25" y="4430"/>
                  </a:cubicBezTo>
                  <a:cubicBezTo>
                    <a:pt x="12" y="4430"/>
                    <a:pt x="0" y="4419"/>
                    <a:pt x="0" y="4405"/>
                  </a:cubicBezTo>
                  <a:lnTo>
                    <a:pt x="0" y="4405"/>
                  </a:lnTo>
                  <a:cubicBezTo>
                    <a:pt x="0" y="4391"/>
                    <a:pt x="12" y="4380"/>
                    <a:pt x="25" y="4380"/>
                  </a:cubicBezTo>
                  <a:cubicBezTo>
                    <a:pt x="39" y="4380"/>
                    <a:pt x="50" y="4391"/>
                    <a:pt x="50" y="4405"/>
                  </a:cubicBezTo>
                  <a:close/>
                  <a:moveTo>
                    <a:pt x="50" y="4505"/>
                  </a:moveTo>
                  <a:lnTo>
                    <a:pt x="50" y="4505"/>
                  </a:lnTo>
                  <a:cubicBezTo>
                    <a:pt x="50" y="4519"/>
                    <a:pt x="39" y="4530"/>
                    <a:pt x="25" y="4530"/>
                  </a:cubicBezTo>
                  <a:cubicBezTo>
                    <a:pt x="12" y="4530"/>
                    <a:pt x="0" y="4519"/>
                    <a:pt x="0" y="4505"/>
                  </a:cubicBezTo>
                  <a:lnTo>
                    <a:pt x="0" y="4505"/>
                  </a:lnTo>
                  <a:cubicBezTo>
                    <a:pt x="0" y="4491"/>
                    <a:pt x="12" y="4480"/>
                    <a:pt x="25" y="4480"/>
                  </a:cubicBezTo>
                  <a:cubicBezTo>
                    <a:pt x="39" y="4480"/>
                    <a:pt x="50" y="4491"/>
                    <a:pt x="50" y="4505"/>
                  </a:cubicBezTo>
                  <a:close/>
                  <a:moveTo>
                    <a:pt x="50" y="4605"/>
                  </a:moveTo>
                  <a:lnTo>
                    <a:pt x="50" y="4605"/>
                  </a:lnTo>
                  <a:cubicBezTo>
                    <a:pt x="50" y="4619"/>
                    <a:pt x="39" y="4630"/>
                    <a:pt x="25" y="4630"/>
                  </a:cubicBezTo>
                  <a:cubicBezTo>
                    <a:pt x="12" y="4630"/>
                    <a:pt x="0" y="4619"/>
                    <a:pt x="0" y="4605"/>
                  </a:cubicBezTo>
                  <a:lnTo>
                    <a:pt x="0" y="4605"/>
                  </a:lnTo>
                  <a:cubicBezTo>
                    <a:pt x="0" y="4591"/>
                    <a:pt x="12" y="4580"/>
                    <a:pt x="25" y="4580"/>
                  </a:cubicBezTo>
                  <a:cubicBezTo>
                    <a:pt x="39" y="4580"/>
                    <a:pt x="50" y="4591"/>
                    <a:pt x="50" y="4605"/>
                  </a:cubicBezTo>
                  <a:close/>
                  <a:moveTo>
                    <a:pt x="50" y="4705"/>
                  </a:moveTo>
                  <a:lnTo>
                    <a:pt x="50" y="4705"/>
                  </a:lnTo>
                  <a:cubicBezTo>
                    <a:pt x="50" y="4719"/>
                    <a:pt x="39" y="4730"/>
                    <a:pt x="25" y="4730"/>
                  </a:cubicBezTo>
                  <a:cubicBezTo>
                    <a:pt x="12" y="4730"/>
                    <a:pt x="0" y="4719"/>
                    <a:pt x="0" y="4705"/>
                  </a:cubicBezTo>
                  <a:lnTo>
                    <a:pt x="0" y="4705"/>
                  </a:lnTo>
                  <a:cubicBezTo>
                    <a:pt x="0" y="4691"/>
                    <a:pt x="12" y="4680"/>
                    <a:pt x="25" y="4680"/>
                  </a:cubicBezTo>
                  <a:cubicBezTo>
                    <a:pt x="39" y="4680"/>
                    <a:pt x="50" y="4691"/>
                    <a:pt x="50" y="4705"/>
                  </a:cubicBezTo>
                  <a:close/>
                  <a:moveTo>
                    <a:pt x="50" y="4805"/>
                  </a:moveTo>
                  <a:lnTo>
                    <a:pt x="50" y="4805"/>
                  </a:lnTo>
                  <a:cubicBezTo>
                    <a:pt x="50" y="4819"/>
                    <a:pt x="39" y="4830"/>
                    <a:pt x="25" y="4830"/>
                  </a:cubicBezTo>
                  <a:cubicBezTo>
                    <a:pt x="12" y="4830"/>
                    <a:pt x="0" y="4819"/>
                    <a:pt x="0" y="4805"/>
                  </a:cubicBezTo>
                  <a:lnTo>
                    <a:pt x="0" y="4805"/>
                  </a:lnTo>
                  <a:cubicBezTo>
                    <a:pt x="0" y="4791"/>
                    <a:pt x="12" y="4780"/>
                    <a:pt x="25" y="4780"/>
                  </a:cubicBezTo>
                  <a:cubicBezTo>
                    <a:pt x="39" y="4780"/>
                    <a:pt x="50" y="4791"/>
                    <a:pt x="50" y="4805"/>
                  </a:cubicBezTo>
                  <a:close/>
                  <a:moveTo>
                    <a:pt x="50" y="4905"/>
                  </a:moveTo>
                  <a:lnTo>
                    <a:pt x="50" y="4905"/>
                  </a:lnTo>
                  <a:cubicBezTo>
                    <a:pt x="50" y="4919"/>
                    <a:pt x="39" y="4930"/>
                    <a:pt x="25" y="4930"/>
                  </a:cubicBezTo>
                  <a:cubicBezTo>
                    <a:pt x="12" y="4930"/>
                    <a:pt x="0" y="4919"/>
                    <a:pt x="0" y="4905"/>
                  </a:cubicBezTo>
                  <a:lnTo>
                    <a:pt x="0" y="4905"/>
                  </a:lnTo>
                  <a:cubicBezTo>
                    <a:pt x="0" y="4891"/>
                    <a:pt x="12" y="4880"/>
                    <a:pt x="25" y="4880"/>
                  </a:cubicBezTo>
                  <a:cubicBezTo>
                    <a:pt x="39" y="4880"/>
                    <a:pt x="50" y="4891"/>
                    <a:pt x="50" y="4905"/>
                  </a:cubicBezTo>
                  <a:close/>
                  <a:moveTo>
                    <a:pt x="50" y="5005"/>
                  </a:moveTo>
                  <a:lnTo>
                    <a:pt x="50" y="5005"/>
                  </a:lnTo>
                  <a:cubicBezTo>
                    <a:pt x="50" y="5019"/>
                    <a:pt x="39" y="5030"/>
                    <a:pt x="25" y="5030"/>
                  </a:cubicBezTo>
                  <a:cubicBezTo>
                    <a:pt x="12" y="5030"/>
                    <a:pt x="0" y="5019"/>
                    <a:pt x="0" y="5005"/>
                  </a:cubicBezTo>
                  <a:lnTo>
                    <a:pt x="0" y="5005"/>
                  </a:lnTo>
                  <a:cubicBezTo>
                    <a:pt x="0" y="4991"/>
                    <a:pt x="12" y="4980"/>
                    <a:pt x="25" y="4980"/>
                  </a:cubicBezTo>
                  <a:cubicBezTo>
                    <a:pt x="39" y="4980"/>
                    <a:pt x="50" y="4991"/>
                    <a:pt x="50" y="5005"/>
                  </a:cubicBezTo>
                  <a:close/>
                  <a:moveTo>
                    <a:pt x="50" y="5105"/>
                  </a:moveTo>
                  <a:lnTo>
                    <a:pt x="50" y="5105"/>
                  </a:lnTo>
                  <a:cubicBezTo>
                    <a:pt x="50" y="5119"/>
                    <a:pt x="39" y="5130"/>
                    <a:pt x="25" y="5130"/>
                  </a:cubicBezTo>
                  <a:cubicBezTo>
                    <a:pt x="12" y="5130"/>
                    <a:pt x="0" y="5119"/>
                    <a:pt x="0" y="5105"/>
                  </a:cubicBezTo>
                  <a:lnTo>
                    <a:pt x="0" y="5105"/>
                  </a:lnTo>
                  <a:cubicBezTo>
                    <a:pt x="0" y="5091"/>
                    <a:pt x="12" y="5080"/>
                    <a:pt x="25" y="5080"/>
                  </a:cubicBezTo>
                  <a:cubicBezTo>
                    <a:pt x="39" y="5080"/>
                    <a:pt x="50" y="5091"/>
                    <a:pt x="50" y="5105"/>
                  </a:cubicBezTo>
                  <a:close/>
                  <a:moveTo>
                    <a:pt x="50" y="5205"/>
                  </a:moveTo>
                  <a:lnTo>
                    <a:pt x="50" y="5205"/>
                  </a:lnTo>
                  <a:cubicBezTo>
                    <a:pt x="50" y="5219"/>
                    <a:pt x="39" y="5230"/>
                    <a:pt x="25" y="5230"/>
                  </a:cubicBezTo>
                  <a:cubicBezTo>
                    <a:pt x="12" y="5230"/>
                    <a:pt x="0" y="5219"/>
                    <a:pt x="0" y="5205"/>
                  </a:cubicBezTo>
                  <a:lnTo>
                    <a:pt x="0" y="5205"/>
                  </a:lnTo>
                  <a:cubicBezTo>
                    <a:pt x="0" y="5191"/>
                    <a:pt x="12" y="5180"/>
                    <a:pt x="25" y="5180"/>
                  </a:cubicBezTo>
                  <a:cubicBezTo>
                    <a:pt x="39" y="5180"/>
                    <a:pt x="50" y="5191"/>
                    <a:pt x="50" y="5205"/>
                  </a:cubicBezTo>
                  <a:close/>
                  <a:moveTo>
                    <a:pt x="50" y="5305"/>
                  </a:moveTo>
                  <a:lnTo>
                    <a:pt x="50" y="5305"/>
                  </a:lnTo>
                  <a:cubicBezTo>
                    <a:pt x="50" y="5319"/>
                    <a:pt x="39" y="5330"/>
                    <a:pt x="25" y="5330"/>
                  </a:cubicBezTo>
                  <a:cubicBezTo>
                    <a:pt x="12" y="5330"/>
                    <a:pt x="0" y="5319"/>
                    <a:pt x="0" y="5305"/>
                  </a:cubicBezTo>
                  <a:lnTo>
                    <a:pt x="0" y="5305"/>
                  </a:lnTo>
                  <a:cubicBezTo>
                    <a:pt x="0" y="5292"/>
                    <a:pt x="12" y="5280"/>
                    <a:pt x="25" y="5280"/>
                  </a:cubicBezTo>
                  <a:cubicBezTo>
                    <a:pt x="39" y="5280"/>
                    <a:pt x="50" y="5292"/>
                    <a:pt x="50" y="5305"/>
                  </a:cubicBezTo>
                  <a:close/>
                  <a:moveTo>
                    <a:pt x="50" y="5405"/>
                  </a:moveTo>
                  <a:lnTo>
                    <a:pt x="50" y="5405"/>
                  </a:lnTo>
                  <a:cubicBezTo>
                    <a:pt x="50" y="5419"/>
                    <a:pt x="39" y="5430"/>
                    <a:pt x="25" y="5430"/>
                  </a:cubicBezTo>
                  <a:cubicBezTo>
                    <a:pt x="12" y="5430"/>
                    <a:pt x="0" y="5419"/>
                    <a:pt x="0" y="5405"/>
                  </a:cubicBezTo>
                  <a:lnTo>
                    <a:pt x="0" y="5405"/>
                  </a:lnTo>
                  <a:cubicBezTo>
                    <a:pt x="0" y="5392"/>
                    <a:pt x="12" y="5380"/>
                    <a:pt x="25" y="5380"/>
                  </a:cubicBezTo>
                  <a:cubicBezTo>
                    <a:pt x="39" y="5380"/>
                    <a:pt x="50" y="5392"/>
                    <a:pt x="50" y="5405"/>
                  </a:cubicBezTo>
                  <a:close/>
                  <a:moveTo>
                    <a:pt x="50" y="5505"/>
                  </a:moveTo>
                  <a:lnTo>
                    <a:pt x="50" y="5505"/>
                  </a:lnTo>
                  <a:cubicBezTo>
                    <a:pt x="50" y="5519"/>
                    <a:pt x="39" y="5530"/>
                    <a:pt x="25" y="5530"/>
                  </a:cubicBezTo>
                  <a:cubicBezTo>
                    <a:pt x="12" y="5530"/>
                    <a:pt x="0" y="5519"/>
                    <a:pt x="0" y="5505"/>
                  </a:cubicBezTo>
                  <a:lnTo>
                    <a:pt x="0" y="5505"/>
                  </a:lnTo>
                  <a:cubicBezTo>
                    <a:pt x="0" y="5492"/>
                    <a:pt x="12" y="5480"/>
                    <a:pt x="25" y="5480"/>
                  </a:cubicBezTo>
                  <a:cubicBezTo>
                    <a:pt x="39" y="5480"/>
                    <a:pt x="50" y="5492"/>
                    <a:pt x="50" y="5505"/>
                  </a:cubicBezTo>
                  <a:close/>
                  <a:moveTo>
                    <a:pt x="50" y="5605"/>
                  </a:moveTo>
                  <a:lnTo>
                    <a:pt x="50" y="5606"/>
                  </a:lnTo>
                  <a:cubicBezTo>
                    <a:pt x="50" y="5619"/>
                    <a:pt x="39" y="5631"/>
                    <a:pt x="25" y="5631"/>
                  </a:cubicBezTo>
                  <a:cubicBezTo>
                    <a:pt x="12" y="5631"/>
                    <a:pt x="0" y="5619"/>
                    <a:pt x="0" y="5606"/>
                  </a:cubicBezTo>
                  <a:lnTo>
                    <a:pt x="0" y="5605"/>
                  </a:lnTo>
                  <a:cubicBezTo>
                    <a:pt x="0" y="5592"/>
                    <a:pt x="12" y="5580"/>
                    <a:pt x="25" y="5580"/>
                  </a:cubicBezTo>
                  <a:cubicBezTo>
                    <a:pt x="39" y="5580"/>
                    <a:pt x="50" y="5592"/>
                    <a:pt x="50" y="5605"/>
                  </a:cubicBezTo>
                  <a:close/>
                  <a:moveTo>
                    <a:pt x="50" y="5706"/>
                  </a:moveTo>
                  <a:lnTo>
                    <a:pt x="50" y="5706"/>
                  </a:lnTo>
                  <a:cubicBezTo>
                    <a:pt x="50" y="5719"/>
                    <a:pt x="39" y="5731"/>
                    <a:pt x="25" y="5731"/>
                  </a:cubicBezTo>
                  <a:cubicBezTo>
                    <a:pt x="12" y="5731"/>
                    <a:pt x="0" y="5719"/>
                    <a:pt x="0" y="5706"/>
                  </a:cubicBezTo>
                  <a:lnTo>
                    <a:pt x="0" y="5706"/>
                  </a:lnTo>
                  <a:cubicBezTo>
                    <a:pt x="0" y="5692"/>
                    <a:pt x="12" y="5681"/>
                    <a:pt x="25" y="5681"/>
                  </a:cubicBezTo>
                  <a:cubicBezTo>
                    <a:pt x="39" y="5681"/>
                    <a:pt x="50" y="5692"/>
                    <a:pt x="50" y="5706"/>
                  </a:cubicBezTo>
                  <a:close/>
                  <a:moveTo>
                    <a:pt x="53" y="5805"/>
                  </a:moveTo>
                  <a:lnTo>
                    <a:pt x="53" y="5805"/>
                  </a:lnTo>
                  <a:cubicBezTo>
                    <a:pt x="54" y="5818"/>
                    <a:pt x="43" y="5830"/>
                    <a:pt x="29" y="5831"/>
                  </a:cubicBezTo>
                  <a:cubicBezTo>
                    <a:pt x="15" y="5831"/>
                    <a:pt x="4" y="5820"/>
                    <a:pt x="3" y="5807"/>
                  </a:cubicBezTo>
                  <a:lnTo>
                    <a:pt x="3" y="5807"/>
                  </a:lnTo>
                  <a:cubicBezTo>
                    <a:pt x="2" y="5793"/>
                    <a:pt x="13" y="5781"/>
                    <a:pt x="27" y="5781"/>
                  </a:cubicBezTo>
                  <a:cubicBezTo>
                    <a:pt x="41" y="5780"/>
                    <a:pt x="52" y="5791"/>
                    <a:pt x="53" y="5805"/>
                  </a:cubicBezTo>
                  <a:close/>
                  <a:moveTo>
                    <a:pt x="62" y="5902"/>
                  </a:moveTo>
                  <a:lnTo>
                    <a:pt x="62" y="5902"/>
                  </a:lnTo>
                  <a:cubicBezTo>
                    <a:pt x="63" y="5916"/>
                    <a:pt x="54" y="5928"/>
                    <a:pt x="40" y="5930"/>
                  </a:cubicBezTo>
                  <a:cubicBezTo>
                    <a:pt x="26" y="5932"/>
                    <a:pt x="14" y="5922"/>
                    <a:pt x="12" y="5908"/>
                  </a:cubicBezTo>
                  <a:lnTo>
                    <a:pt x="12" y="5908"/>
                  </a:lnTo>
                  <a:cubicBezTo>
                    <a:pt x="11" y="5894"/>
                    <a:pt x="20" y="5882"/>
                    <a:pt x="34" y="5880"/>
                  </a:cubicBezTo>
                  <a:cubicBezTo>
                    <a:pt x="48" y="5879"/>
                    <a:pt x="60" y="5888"/>
                    <a:pt x="62" y="5902"/>
                  </a:cubicBezTo>
                  <a:close/>
                  <a:moveTo>
                    <a:pt x="79" y="5997"/>
                  </a:moveTo>
                  <a:lnTo>
                    <a:pt x="79" y="5997"/>
                  </a:lnTo>
                  <a:cubicBezTo>
                    <a:pt x="82" y="6011"/>
                    <a:pt x="74" y="6024"/>
                    <a:pt x="61" y="6028"/>
                  </a:cubicBezTo>
                  <a:cubicBezTo>
                    <a:pt x="48" y="6031"/>
                    <a:pt x="34" y="6023"/>
                    <a:pt x="31" y="6010"/>
                  </a:cubicBezTo>
                  <a:lnTo>
                    <a:pt x="31" y="6009"/>
                  </a:lnTo>
                  <a:cubicBezTo>
                    <a:pt x="27" y="5996"/>
                    <a:pt x="35" y="5983"/>
                    <a:pt x="49" y="5979"/>
                  </a:cubicBezTo>
                  <a:cubicBezTo>
                    <a:pt x="62" y="5976"/>
                    <a:pt x="76" y="5984"/>
                    <a:pt x="79" y="5997"/>
                  </a:cubicBezTo>
                  <a:close/>
                  <a:moveTo>
                    <a:pt x="106" y="6092"/>
                  </a:moveTo>
                  <a:lnTo>
                    <a:pt x="106" y="6092"/>
                  </a:lnTo>
                  <a:cubicBezTo>
                    <a:pt x="110" y="6105"/>
                    <a:pt x="103" y="6119"/>
                    <a:pt x="90" y="6123"/>
                  </a:cubicBezTo>
                  <a:cubicBezTo>
                    <a:pt x="77" y="6128"/>
                    <a:pt x="63" y="6121"/>
                    <a:pt x="58" y="6108"/>
                  </a:cubicBezTo>
                  <a:lnTo>
                    <a:pt x="58" y="6108"/>
                  </a:lnTo>
                  <a:cubicBezTo>
                    <a:pt x="54" y="6094"/>
                    <a:pt x="61" y="6080"/>
                    <a:pt x="74" y="6076"/>
                  </a:cubicBezTo>
                  <a:cubicBezTo>
                    <a:pt x="87" y="6072"/>
                    <a:pt x="101" y="6079"/>
                    <a:pt x="106" y="6092"/>
                  </a:cubicBezTo>
                  <a:close/>
                  <a:moveTo>
                    <a:pt x="141" y="6182"/>
                  </a:moveTo>
                  <a:lnTo>
                    <a:pt x="141" y="6182"/>
                  </a:lnTo>
                  <a:cubicBezTo>
                    <a:pt x="147" y="6194"/>
                    <a:pt x="142" y="6209"/>
                    <a:pt x="129" y="6215"/>
                  </a:cubicBezTo>
                  <a:cubicBezTo>
                    <a:pt x="117" y="6221"/>
                    <a:pt x="102" y="6216"/>
                    <a:pt x="96" y="6204"/>
                  </a:cubicBezTo>
                  <a:lnTo>
                    <a:pt x="96" y="6204"/>
                  </a:lnTo>
                  <a:cubicBezTo>
                    <a:pt x="90" y="6191"/>
                    <a:pt x="95" y="6176"/>
                    <a:pt x="108" y="6170"/>
                  </a:cubicBezTo>
                  <a:cubicBezTo>
                    <a:pt x="120" y="6164"/>
                    <a:pt x="135" y="6170"/>
                    <a:pt x="141" y="6182"/>
                  </a:cubicBezTo>
                  <a:close/>
                  <a:moveTo>
                    <a:pt x="185" y="6269"/>
                  </a:moveTo>
                  <a:lnTo>
                    <a:pt x="185" y="6269"/>
                  </a:lnTo>
                  <a:cubicBezTo>
                    <a:pt x="192" y="6281"/>
                    <a:pt x="188" y="6296"/>
                    <a:pt x="176" y="6303"/>
                  </a:cubicBezTo>
                  <a:cubicBezTo>
                    <a:pt x="165" y="6311"/>
                    <a:pt x="149" y="6307"/>
                    <a:pt x="142" y="6295"/>
                  </a:cubicBezTo>
                  <a:lnTo>
                    <a:pt x="142" y="6295"/>
                  </a:lnTo>
                  <a:cubicBezTo>
                    <a:pt x="135" y="6283"/>
                    <a:pt x="138" y="6268"/>
                    <a:pt x="150" y="6261"/>
                  </a:cubicBezTo>
                  <a:cubicBezTo>
                    <a:pt x="162" y="6254"/>
                    <a:pt x="177" y="6257"/>
                    <a:pt x="185" y="6269"/>
                  </a:cubicBezTo>
                  <a:close/>
                  <a:moveTo>
                    <a:pt x="236" y="6352"/>
                  </a:moveTo>
                  <a:lnTo>
                    <a:pt x="236" y="6352"/>
                  </a:lnTo>
                  <a:cubicBezTo>
                    <a:pt x="244" y="6363"/>
                    <a:pt x="242" y="6379"/>
                    <a:pt x="231" y="6387"/>
                  </a:cubicBezTo>
                  <a:cubicBezTo>
                    <a:pt x="220" y="6395"/>
                    <a:pt x="204" y="6393"/>
                    <a:pt x="196" y="6382"/>
                  </a:cubicBezTo>
                  <a:lnTo>
                    <a:pt x="196" y="6382"/>
                  </a:lnTo>
                  <a:cubicBezTo>
                    <a:pt x="188" y="6371"/>
                    <a:pt x="190" y="6355"/>
                    <a:pt x="201" y="6347"/>
                  </a:cubicBezTo>
                  <a:cubicBezTo>
                    <a:pt x="212" y="6339"/>
                    <a:pt x="228" y="6341"/>
                    <a:pt x="236" y="6352"/>
                  </a:cubicBezTo>
                  <a:close/>
                  <a:moveTo>
                    <a:pt x="295" y="6429"/>
                  </a:moveTo>
                  <a:lnTo>
                    <a:pt x="295" y="6429"/>
                  </a:lnTo>
                  <a:cubicBezTo>
                    <a:pt x="305" y="6439"/>
                    <a:pt x="305" y="6455"/>
                    <a:pt x="294" y="6464"/>
                  </a:cubicBezTo>
                  <a:cubicBezTo>
                    <a:pt x="284" y="6474"/>
                    <a:pt x="269" y="6473"/>
                    <a:pt x="259" y="6463"/>
                  </a:cubicBezTo>
                  <a:lnTo>
                    <a:pt x="259" y="6463"/>
                  </a:lnTo>
                  <a:cubicBezTo>
                    <a:pt x="250" y="6453"/>
                    <a:pt x="250" y="6437"/>
                    <a:pt x="260" y="6428"/>
                  </a:cubicBezTo>
                  <a:cubicBezTo>
                    <a:pt x="270" y="6418"/>
                    <a:pt x="286" y="6419"/>
                    <a:pt x="295" y="6429"/>
                  </a:cubicBezTo>
                  <a:close/>
                  <a:moveTo>
                    <a:pt x="362" y="6501"/>
                  </a:moveTo>
                  <a:lnTo>
                    <a:pt x="362" y="6501"/>
                  </a:lnTo>
                  <a:cubicBezTo>
                    <a:pt x="372" y="6511"/>
                    <a:pt x="373" y="6527"/>
                    <a:pt x="363" y="6537"/>
                  </a:cubicBezTo>
                  <a:cubicBezTo>
                    <a:pt x="354" y="6547"/>
                    <a:pt x="338" y="6547"/>
                    <a:pt x="328" y="6538"/>
                  </a:cubicBezTo>
                  <a:lnTo>
                    <a:pt x="328" y="6538"/>
                  </a:lnTo>
                  <a:cubicBezTo>
                    <a:pt x="318" y="6528"/>
                    <a:pt x="317" y="6512"/>
                    <a:pt x="327" y="6502"/>
                  </a:cubicBezTo>
                  <a:cubicBezTo>
                    <a:pt x="336" y="6492"/>
                    <a:pt x="352" y="6492"/>
                    <a:pt x="362" y="6501"/>
                  </a:cubicBezTo>
                  <a:close/>
                  <a:moveTo>
                    <a:pt x="434" y="6567"/>
                  </a:moveTo>
                  <a:lnTo>
                    <a:pt x="434" y="6567"/>
                  </a:lnTo>
                  <a:cubicBezTo>
                    <a:pt x="445" y="6575"/>
                    <a:pt x="448" y="6591"/>
                    <a:pt x="439" y="6602"/>
                  </a:cubicBezTo>
                  <a:cubicBezTo>
                    <a:pt x="431" y="6613"/>
                    <a:pt x="415" y="6615"/>
                    <a:pt x="404" y="6607"/>
                  </a:cubicBezTo>
                  <a:lnTo>
                    <a:pt x="404" y="6607"/>
                  </a:lnTo>
                  <a:cubicBezTo>
                    <a:pt x="393" y="6598"/>
                    <a:pt x="391" y="6583"/>
                    <a:pt x="399" y="6572"/>
                  </a:cubicBezTo>
                  <a:cubicBezTo>
                    <a:pt x="408" y="6561"/>
                    <a:pt x="423" y="6558"/>
                    <a:pt x="434" y="6567"/>
                  </a:cubicBezTo>
                  <a:close/>
                  <a:moveTo>
                    <a:pt x="513" y="6624"/>
                  </a:moveTo>
                  <a:lnTo>
                    <a:pt x="513" y="6624"/>
                  </a:lnTo>
                  <a:cubicBezTo>
                    <a:pt x="525" y="6632"/>
                    <a:pt x="529" y="6647"/>
                    <a:pt x="521" y="6659"/>
                  </a:cubicBezTo>
                  <a:cubicBezTo>
                    <a:pt x="514" y="6671"/>
                    <a:pt x="499" y="6674"/>
                    <a:pt x="487" y="6667"/>
                  </a:cubicBezTo>
                  <a:lnTo>
                    <a:pt x="487" y="6667"/>
                  </a:lnTo>
                  <a:cubicBezTo>
                    <a:pt x="475" y="6660"/>
                    <a:pt x="472" y="6644"/>
                    <a:pt x="479" y="6632"/>
                  </a:cubicBezTo>
                  <a:cubicBezTo>
                    <a:pt x="486" y="6621"/>
                    <a:pt x="501" y="6617"/>
                    <a:pt x="513" y="6624"/>
                  </a:cubicBezTo>
                  <a:close/>
                  <a:moveTo>
                    <a:pt x="597" y="6675"/>
                  </a:moveTo>
                  <a:lnTo>
                    <a:pt x="597" y="6675"/>
                  </a:lnTo>
                  <a:cubicBezTo>
                    <a:pt x="609" y="6681"/>
                    <a:pt x="614" y="6695"/>
                    <a:pt x="608" y="6708"/>
                  </a:cubicBezTo>
                  <a:cubicBezTo>
                    <a:pt x="602" y="6720"/>
                    <a:pt x="588" y="6726"/>
                    <a:pt x="575" y="6720"/>
                  </a:cubicBezTo>
                  <a:lnTo>
                    <a:pt x="575" y="6720"/>
                  </a:lnTo>
                  <a:cubicBezTo>
                    <a:pt x="563" y="6714"/>
                    <a:pt x="557" y="6699"/>
                    <a:pt x="563" y="6686"/>
                  </a:cubicBezTo>
                  <a:cubicBezTo>
                    <a:pt x="569" y="6674"/>
                    <a:pt x="584" y="6669"/>
                    <a:pt x="597" y="6675"/>
                  </a:cubicBezTo>
                  <a:close/>
                  <a:moveTo>
                    <a:pt x="687" y="6718"/>
                  </a:moveTo>
                  <a:lnTo>
                    <a:pt x="687" y="6718"/>
                  </a:lnTo>
                  <a:cubicBezTo>
                    <a:pt x="699" y="6724"/>
                    <a:pt x="704" y="6739"/>
                    <a:pt x="698" y="6752"/>
                  </a:cubicBezTo>
                  <a:cubicBezTo>
                    <a:pt x="693" y="6764"/>
                    <a:pt x="678" y="6769"/>
                    <a:pt x="665" y="6763"/>
                  </a:cubicBezTo>
                  <a:lnTo>
                    <a:pt x="665" y="6763"/>
                  </a:lnTo>
                  <a:cubicBezTo>
                    <a:pt x="653" y="6757"/>
                    <a:pt x="647" y="6742"/>
                    <a:pt x="653" y="6730"/>
                  </a:cubicBezTo>
                  <a:cubicBezTo>
                    <a:pt x="659" y="6717"/>
                    <a:pt x="674" y="6712"/>
                    <a:pt x="687" y="6718"/>
                  </a:cubicBezTo>
                  <a:close/>
                  <a:moveTo>
                    <a:pt x="778" y="6752"/>
                  </a:moveTo>
                  <a:lnTo>
                    <a:pt x="778" y="6752"/>
                  </a:lnTo>
                  <a:cubicBezTo>
                    <a:pt x="791" y="6756"/>
                    <a:pt x="798" y="6770"/>
                    <a:pt x="794" y="6783"/>
                  </a:cubicBezTo>
                  <a:cubicBezTo>
                    <a:pt x="789" y="6796"/>
                    <a:pt x="775" y="6803"/>
                    <a:pt x="762" y="6799"/>
                  </a:cubicBezTo>
                  <a:lnTo>
                    <a:pt x="762" y="6799"/>
                  </a:lnTo>
                  <a:cubicBezTo>
                    <a:pt x="749" y="6795"/>
                    <a:pt x="742" y="6781"/>
                    <a:pt x="746" y="6767"/>
                  </a:cubicBezTo>
                  <a:cubicBezTo>
                    <a:pt x="750" y="6754"/>
                    <a:pt x="765" y="6747"/>
                    <a:pt x="778" y="6752"/>
                  </a:cubicBezTo>
                  <a:close/>
                  <a:moveTo>
                    <a:pt x="873" y="6776"/>
                  </a:moveTo>
                  <a:lnTo>
                    <a:pt x="873" y="6776"/>
                  </a:lnTo>
                  <a:cubicBezTo>
                    <a:pt x="886" y="6780"/>
                    <a:pt x="894" y="6793"/>
                    <a:pt x="891" y="6807"/>
                  </a:cubicBezTo>
                  <a:cubicBezTo>
                    <a:pt x="887" y="6820"/>
                    <a:pt x="874" y="6828"/>
                    <a:pt x="860" y="6825"/>
                  </a:cubicBezTo>
                  <a:lnTo>
                    <a:pt x="860" y="6825"/>
                  </a:lnTo>
                  <a:cubicBezTo>
                    <a:pt x="847" y="6822"/>
                    <a:pt x="839" y="6808"/>
                    <a:pt x="842" y="6795"/>
                  </a:cubicBezTo>
                  <a:cubicBezTo>
                    <a:pt x="846" y="6781"/>
                    <a:pt x="859" y="6773"/>
                    <a:pt x="873" y="6776"/>
                  </a:cubicBezTo>
                  <a:close/>
                  <a:moveTo>
                    <a:pt x="969" y="6793"/>
                  </a:moveTo>
                  <a:lnTo>
                    <a:pt x="969" y="6793"/>
                  </a:lnTo>
                  <a:cubicBezTo>
                    <a:pt x="983" y="6795"/>
                    <a:pt x="992" y="6808"/>
                    <a:pt x="990" y="6821"/>
                  </a:cubicBezTo>
                  <a:cubicBezTo>
                    <a:pt x="988" y="6835"/>
                    <a:pt x="975" y="6844"/>
                    <a:pt x="961" y="6842"/>
                  </a:cubicBezTo>
                  <a:lnTo>
                    <a:pt x="961" y="6842"/>
                  </a:lnTo>
                  <a:cubicBezTo>
                    <a:pt x="948" y="6840"/>
                    <a:pt x="938" y="6827"/>
                    <a:pt x="940" y="6814"/>
                  </a:cubicBezTo>
                  <a:cubicBezTo>
                    <a:pt x="943" y="6800"/>
                    <a:pt x="955" y="6791"/>
                    <a:pt x="969" y="6793"/>
                  </a:cubicBezTo>
                  <a:close/>
                  <a:moveTo>
                    <a:pt x="1066" y="6799"/>
                  </a:moveTo>
                  <a:lnTo>
                    <a:pt x="1066" y="6799"/>
                  </a:lnTo>
                  <a:cubicBezTo>
                    <a:pt x="1080" y="6800"/>
                    <a:pt x="1090" y="6811"/>
                    <a:pt x="1090" y="6825"/>
                  </a:cubicBezTo>
                  <a:cubicBezTo>
                    <a:pt x="1089" y="6839"/>
                    <a:pt x="1078" y="6850"/>
                    <a:pt x="1064" y="6849"/>
                  </a:cubicBezTo>
                  <a:lnTo>
                    <a:pt x="1064" y="6849"/>
                  </a:lnTo>
                  <a:cubicBezTo>
                    <a:pt x="1050" y="6849"/>
                    <a:pt x="1039" y="6837"/>
                    <a:pt x="1040" y="6823"/>
                  </a:cubicBezTo>
                  <a:cubicBezTo>
                    <a:pt x="1040" y="6809"/>
                    <a:pt x="1052" y="6799"/>
                    <a:pt x="1066" y="6799"/>
                  </a:cubicBezTo>
                  <a:close/>
                  <a:moveTo>
                    <a:pt x="1165" y="6800"/>
                  </a:moveTo>
                  <a:lnTo>
                    <a:pt x="1165" y="6800"/>
                  </a:lnTo>
                  <a:cubicBezTo>
                    <a:pt x="1179" y="6800"/>
                    <a:pt x="1190" y="6812"/>
                    <a:pt x="1190" y="6825"/>
                  </a:cubicBezTo>
                  <a:cubicBezTo>
                    <a:pt x="1190" y="6839"/>
                    <a:pt x="1179" y="6850"/>
                    <a:pt x="1165" y="6850"/>
                  </a:cubicBezTo>
                  <a:lnTo>
                    <a:pt x="1165" y="6850"/>
                  </a:lnTo>
                  <a:cubicBezTo>
                    <a:pt x="1151" y="6850"/>
                    <a:pt x="1140" y="6839"/>
                    <a:pt x="1140" y="6825"/>
                  </a:cubicBezTo>
                  <a:cubicBezTo>
                    <a:pt x="1140" y="6812"/>
                    <a:pt x="1151" y="6800"/>
                    <a:pt x="1165" y="6800"/>
                  </a:cubicBezTo>
                  <a:close/>
                  <a:moveTo>
                    <a:pt x="1265" y="6800"/>
                  </a:moveTo>
                  <a:lnTo>
                    <a:pt x="1265" y="6800"/>
                  </a:lnTo>
                  <a:cubicBezTo>
                    <a:pt x="1279" y="6800"/>
                    <a:pt x="1290" y="6812"/>
                    <a:pt x="1290" y="6825"/>
                  </a:cubicBezTo>
                  <a:cubicBezTo>
                    <a:pt x="1290" y="6839"/>
                    <a:pt x="1279" y="6850"/>
                    <a:pt x="1265" y="6850"/>
                  </a:cubicBezTo>
                  <a:lnTo>
                    <a:pt x="1265" y="6850"/>
                  </a:lnTo>
                  <a:cubicBezTo>
                    <a:pt x="1251" y="6850"/>
                    <a:pt x="1240" y="6839"/>
                    <a:pt x="1240" y="6825"/>
                  </a:cubicBezTo>
                  <a:cubicBezTo>
                    <a:pt x="1240" y="6812"/>
                    <a:pt x="1251" y="6800"/>
                    <a:pt x="1265" y="6800"/>
                  </a:cubicBezTo>
                  <a:close/>
                  <a:moveTo>
                    <a:pt x="1365" y="6800"/>
                  </a:moveTo>
                  <a:lnTo>
                    <a:pt x="1365" y="6800"/>
                  </a:lnTo>
                  <a:cubicBezTo>
                    <a:pt x="1379" y="6800"/>
                    <a:pt x="1390" y="6812"/>
                    <a:pt x="1390" y="6825"/>
                  </a:cubicBezTo>
                  <a:cubicBezTo>
                    <a:pt x="1390" y="6839"/>
                    <a:pt x="1379" y="6850"/>
                    <a:pt x="1365" y="6850"/>
                  </a:cubicBezTo>
                  <a:lnTo>
                    <a:pt x="1365" y="6850"/>
                  </a:lnTo>
                  <a:cubicBezTo>
                    <a:pt x="1351" y="6850"/>
                    <a:pt x="1340" y="6839"/>
                    <a:pt x="1340" y="6825"/>
                  </a:cubicBezTo>
                  <a:cubicBezTo>
                    <a:pt x="1340" y="6812"/>
                    <a:pt x="1351" y="6800"/>
                    <a:pt x="1365" y="6800"/>
                  </a:cubicBezTo>
                  <a:close/>
                  <a:moveTo>
                    <a:pt x="1465" y="6800"/>
                  </a:moveTo>
                  <a:lnTo>
                    <a:pt x="1465" y="6800"/>
                  </a:lnTo>
                  <a:cubicBezTo>
                    <a:pt x="1479" y="6800"/>
                    <a:pt x="1490" y="6812"/>
                    <a:pt x="1490" y="6825"/>
                  </a:cubicBezTo>
                  <a:cubicBezTo>
                    <a:pt x="1490" y="6839"/>
                    <a:pt x="1479" y="6850"/>
                    <a:pt x="1465" y="6850"/>
                  </a:cubicBezTo>
                  <a:lnTo>
                    <a:pt x="1465" y="6850"/>
                  </a:lnTo>
                  <a:cubicBezTo>
                    <a:pt x="1451" y="6850"/>
                    <a:pt x="1440" y="6839"/>
                    <a:pt x="1440" y="6825"/>
                  </a:cubicBezTo>
                  <a:cubicBezTo>
                    <a:pt x="1440" y="6812"/>
                    <a:pt x="1451" y="6800"/>
                    <a:pt x="1465" y="6800"/>
                  </a:cubicBezTo>
                  <a:close/>
                  <a:moveTo>
                    <a:pt x="1565" y="6800"/>
                  </a:moveTo>
                  <a:lnTo>
                    <a:pt x="1565" y="6800"/>
                  </a:lnTo>
                  <a:cubicBezTo>
                    <a:pt x="1579" y="6800"/>
                    <a:pt x="1590" y="6812"/>
                    <a:pt x="1590" y="6825"/>
                  </a:cubicBezTo>
                  <a:cubicBezTo>
                    <a:pt x="1590" y="6839"/>
                    <a:pt x="1579" y="6850"/>
                    <a:pt x="1565" y="6850"/>
                  </a:cubicBezTo>
                  <a:lnTo>
                    <a:pt x="1565" y="6850"/>
                  </a:lnTo>
                  <a:cubicBezTo>
                    <a:pt x="1551" y="6850"/>
                    <a:pt x="1540" y="6839"/>
                    <a:pt x="1540" y="6825"/>
                  </a:cubicBezTo>
                  <a:cubicBezTo>
                    <a:pt x="1540" y="6812"/>
                    <a:pt x="1551" y="6800"/>
                    <a:pt x="1565" y="6800"/>
                  </a:cubicBezTo>
                  <a:close/>
                  <a:moveTo>
                    <a:pt x="1665" y="6800"/>
                  </a:moveTo>
                  <a:lnTo>
                    <a:pt x="1665" y="6800"/>
                  </a:lnTo>
                  <a:cubicBezTo>
                    <a:pt x="1679" y="6800"/>
                    <a:pt x="1690" y="6812"/>
                    <a:pt x="1690" y="6825"/>
                  </a:cubicBezTo>
                  <a:cubicBezTo>
                    <a:pt x="1690" y="6839"/>
                    <a:pt x="1679" y="6850"/>
                    <a:pt x="1665" y="6850"/>
                  </a:cubicBezTo>
                  <a:lnTo>
                    <a:pt x="1665" y="6850"/>
                  </a:lnTo>
                  <a:cubicBezTo>
                    <a:pt x="1651" y="6850"/>
                    <a:pt x="1640" y="6839"/>
                    <a:pt x="1640" y="6825"/>
                  </a:cubicBezTo>
                  <a:cubicBezTo>
                    <a:pt x="1640" y="6812"/>
                    <a:pt x="1651" y="6800"/>
                    <a:pt x="1665" y="6800"/>
                  </a:cubicBezTo>
                  <a:close/>
                  <a:moveTo>
                    <a:pt x="1765" y="6800"/>
                  </a:moveTo>
                  <a:lnTo>
                    <a:pt x="1765" y="6800"/>
                  </a:lnTo>
                  <a:cubicBezTo>
                    <a:pt x="1779" y="6800"/>
                    <a:pt x="1790" y="6812"/>
                    <a:pt x="1790" y="6825"/>
                  </a:cubicBezTo>
                  <a:cubicBezTo>
                    <a:pt x="1790" y="6839"/>
                    <a:pt x="1779" y="6850"/>
                    <a:pt x="1765" y="6850"/>
                  </a:cubicBezTo>
                  <a:lnTo>
                    <a:pt x="1765" y="6850"/>
                  </a:lnTo>
                  <a:cubicBezTo>
                    <a:pt x="1751" y="6850"/>
                    <a:pt x="1740" y="6839"/>
                    <a:pt x="1740" y="6825"/>
                  </a:cubicBezTo>
                  <a:cubicBezTo>
                    <a:pt x="1740" y="6812"/>
                    <a:pt x="1751" y="6800"/>
                    <a:pt x="1765" y="6800"/>
                  </a:cubicBezTo>
                  <a:close/>
                  <a:moveTo>
                    <a:pt x="1865" y="6800"/>
                  </a:moveTo>
                  <a:lnTo>
                    <a:pt x="1865" y="6800"/>
                  </a:lnTo>
                  <a:cubicBezTo>
                    <a:pt x="1879" y="6800"/>
                    <a:pt x="1890" y="6812"/>
                    <a:pt x="1890" y="6825"/>
                  </a:cubicBezTo>
                  <a:cubicBezTo>
                    <a:pt x="1890" y="6839"/>
                    <a:pt x="1879" y="6850"/>
                    <a:pt x="1865" y="6850"/>
                  </a:cubicBezTo>
                  <a:lnTo>
                    <a:pt x="1865" y="6850"/>
                  </a:lnTo>
                  <a:cubicBezTo>
                    <a:pt x="1851" y="6850"/>
                    <a:pt x="1840" y="6839"/>
                    <a:pt x="1840" y="6825"/>
                  </a:cubicBezTo>
                  <a:cubicBezTo>
                    <a:pt x="1840" y="6812"/>
                    <a:pt x="1851" y="6800"/>
                    <a:pt x="1865" y="6800"/>
                  </a:cubicBezTo>
                  <a:close/>
                  <a:moveTo>
                    <a:pt x="1965" y="6800"/>
                  </a:moveTo>
                  <a:lnTo>
                    <a:pt x="1965" y="6800"/>
                  </a:lnTo>
                  <a:cubicBezTo>
                    <a:pt x="1979" y="6800"/>
                    <a:pt x="1990" y="6812"/>
                    <a:pt x="1990" y="6825"/>
                  </a:cubicBezTo>
                  <a:cubicBezTo>
                    <a:pt x="1990" y="6839"/>
                    <a:pt x="1979" y="6850"/>
                    <a:pt x="1965" y="6850"/>
                  </a:cubicBezTo>
                  <a:lnTo>
                    <a:pt x="1965" y="6850"/>
                  </a:lnTo>
                  <a:cubicBezTo>
                    <a:pt x="1951" y="6850"/>
                    <a:pt x="1940" y="6839"/>
                    <a:pt x="1940" y="6825"/>
                  </a:cubicBezTo>
                  <a:cubicBezTo>
                    <a:pt x="1940" y="6812"/>
                    <a:pt x="1951" y="6800"/>
                    <a:pt x="1965" y="6800"/>
                  </a:cubicBezTo>
                  <a:close/>
                  <a:moveTo>
                    <a:pt x="2065" y="6800"/>
                  </a:moveTo>
                  <a:lnTo>
                    <a:pt x="2065" y="6800"/>
                  </a:lnTo>
                  <a:cubicBezTo>
                    <a:pt x="2079" y="6800"/>
                    <a:pt x="2090" y="6812"/>
                    <a:pt x="2090" y="6825"/>
                  </a:cubicBezTo>
                  <a:cubicBezTo>
                    <a:pt x="2090" y="6839"/>
                    <a:pt x="2079" y="6850"/>
                    <a:pt x="2065" y="6850"/>
                  </a:cubicBezTo>
                  <a:lnTo>
                    <a:pt x="2065" y="6850"/>
                  </a:lnTo>
                  <a:cubicBezTo>
                    <a:pt x="2051" y="6850"/>
                    <a:pt x="2040" y="6839"/>
                    <a:pt x="2040" y="6825"/>
                  </a:cubicBezTo>
                  <a:cubicBezTo>
                    <a:pt x="2040" y="6812"/>
                    <a:pt x="2051" y="6800"/>
                    <a:pt x="2065" y="6800"/>
                  </a:cubicBezTo>
                  <a:close/>
                  <a:moveTo>
                    <a:pt x="2165" y="6800"/>
                  </a:moveTo>
                  <a:lnTo>
                    <a:pt x="2165" y="6800"/>
                  </a:lnTo>
                  <a:cubicBezTo>
                    <a:pt x="2179" y="6800"/>
                    <a:pt x="2190" y="6812"/>
                    <a:pt x="2190" y="6825"/>
                  </a:cubicBezTo>
                  <a:cubicBezTo>
                    <a:pt x="2190" y="6839"/>
                    <a:pt x="2179" y="6850"/>
                    <a:pt x="2165" y="6850"/>
                  </a:cubicBezTo>
                  <a:lnTo>
                    <a:pt x="2165" y="6850"/>
                  </a:lnTo>
                  <a:cubicBezTo>
                    <a:pt x="2152" y="6850"/>
                    <a:pt x="2140" y="6839"/>
                    <a:pt x="2140" y="6825"/>
                  </a:cubicBezTo>
                  <a:cubicBezTo>
                    <a:pt x="2140" y="6812"/>
                    <a:pt x="2152" y="6800"/>
                    <a:pt x="2165" y="6800"/>
                  </a:cubicBezTo>
                  <a:close/>
                  <a:moveTo>
                    <a:pt x="2265" y="6800"/>
                  </a:moveTo>
                  <a:lnTo>
                    <a:pt x="2265" y="6800"/>
                  </a:lnTo>
                  <a:cubicBezTo>
                    <a:pt x="2279" y="6800"/>
                    <a:pt x="2290" y="6812"/>
                    <a:pt x="2290" y="6825"/>
                  </a:cubicBezTo>
                  <a:cubicBezTo>
                    <a:pt x="2290" y="6839"/>
                    <a:pt x="2279" y="6850"/>
                    <a:pt x="2265" y="6850"/>
                  </a:cubicBezTo>
                  <a:lnTo>
                    <a:pt x="2265" y="6850"/>
                  </a:lnTo>
                  <a:cubicBezTo>
                    <a:pt x="2252" y="6850"/>
                    <a:pt x="2240" y="6839"/>
                    <a:pt x="2240" y="6825"/>
                  </a:cubicBezTo>
                  <a:cubicBezTo>
                    <a:pt x="2240" y="6812"/>
                    <a:pt x="2252" y="6800"/>
                    <a:pt x="2265" y="6800"/>
                  </a:cubicBezTo>
                  <a:close/>
                  <a:moveTo>
                    <a:pt x="2365" y="6800"/>
                  </a:moveTo>
                  <a:lnTo>
                    <a:pt x="2365" y="6800"/>
                  </a:lnTo>
                  <a:cubicBezTo>
                    <a:pt x="2379" y="6800"/>
                    <a:pt x="2390" y="6812"/>
                    <a:pt x="2390" y="6825"/>
                  </a:cubicBezTo>
                  <a:cubicBezTo>
                    <a:pt x="2390" y="6839"/>
                    <a:pt x="2379" y="6850"/>
                    <a:pt x="2365" y="6850"/>
                  </a:cubicBezTo>
                  <a:lnTo>
                    <a:pt x="2365" y="6850"/>
                  </a:lnTo>
                  <a:cubicBezTo>
                    <a:pt x="2352" y="6850"/>
                    <a:pt x="2340" y="6839"/>
                    <a:pt x="2340" y="6825"/>
                  </a:cubicBezTo>
                  <a:cubicBezTo>
                    <a:pt x="2340" y="6812"/>
                    <a:pt x="2352" y="6800"/>
                    <a:pt x="2365" y="6800"/>
                  </a:cubicBezTo>
                  <a:close/>
                  <a:moveTo>
                    <a:pt x="2465" y="6800"/>
                  </a:moveTo>
                  <a:lnTo>
                    <a:pt x="2466" y="6800"/>
                  </a:lnTo>
                  <a:cubicBezTo>
                    <a:pt x="2479" y="6800"/>
                    <a:pt x="2491" y="6812"/>
                    <a:pt x="2491" y="6825"/>
                  </a:cubicBezTo>
                  <a:cubicBezTo>
                    <a:pt x="2491" y="6839"/>
                    <a:pt x="2479" y="6850"/>
                    <a:pt x="2466" y="6850"/>
                  </a:cubicBezTo>
                  <a:lnTo>
                    <a:pt x="2465" y="6850"/>
                  </a:lnTo>
                  <a:cubicBezTo>
                    <a:pt x="2452" y="6850"/>
                    <a:pt x="2440" y="6839"/>
                    <a:pt x="2440" y="6825"/>
                  </a:cubicBezTo>
                  <a:cubicBezTo>
                    <a:pt x="2440" y="6812"/>
                    <a:pt x="2452" y="6800"/>
                    <a:pt x="2465" y="6800"/>
                  </a:cubicBezTo>
                  <a:close/>
                  <a:moveTo>
                    <a:pt x="2566" y="6800"/>
                  </a:moveTo>
                  <a:lnTo>
                    <a:pt x="2566" y="6800"/>
                  </a:lnTo>
                  <a:cubicBezTo>
                    <a:pt x="2579" y="6800"/>
                    <a:pt x="2591" y="6812"/>
                    <a:pt x="2591" y="6825"/>
                  </a:cubicBezTo>
                  <a:cubicBezTo>
                    <a:pt x="2591" y="6839"/>
                    <a:pt x="2579" y="6850"/>
                    <a:pt x="2566" y="6850"/>
                  </a:cubicBezTo>
                  <a:lnTo>
                    <a:pt x="2566" y="6850"/>
                  </a:lnTo>
                  <a:cubicBezTo>
                    <a:pt x="2552" y="6850"/>
                    <a:pt x="2541" y="6839"/>
                    <a:pt x="2541" y="6825"/>
                  </a:cubicBezTo>
                  <a:cubicBezTo>
                    <a:pt x="2541" y="6812"/>
                    <a:pt x="2552" y="6800"/>
                    <a:pt x="2566" y="6800"/>
                  </a:cubicBezTo>
                  <a:close/>
                  <a:moveTo>
                    <a:pt x="2666" y="6800"/>
                  </a:moveTo>
                  <a:lnTo>
                    <a:pt x="2666" y="6800"/>
                  </a:lnTo>
                  <a:cubicBezTo>
                    <a:pt x="2679" y="6800"/>
                    <a:pt x="2691" y="6812"/>
                    <a:pt x="2691" y="6825"/>
                  </a:cubicBezTo>
                  <a:cubicBezTo>
                    <a:pt x="2691" y="6839"/>
                    <a:pt x="2679" y="6850"/>
                    <a:pt x="2666" y="6850"/>
                  </a:cubicBezTo>
                  <a:lnTo>
                    <a:pt x="2666" y="6850"/>
                  </a:lnTo>
                  <a:cubicBezTo>
                    <a:pt x="2652" y="6850"/>
                    <a:pt x="2641" y="6839"/>
                    <a:pt x="2641" y="6825"/>
                  </a:cubicBezTo>
                  <a:cubicBezTo>
                    <a:pt x="2641" y="6812"/>
                    <a:pt x="2652" y="6800"/>
                    <a:pt x="2666" y="6800"/>
                  </a:cubicBezTo>
                  <a:close/>
                  <a:moveTo>
                    <a:pt x="2766" y="6800"/>
                  </a:moveTo>
                  <a:lnTo>
                    <a:pt x="2766" y="6800"/>
                  </a:lnTo>
                  <a:cubicBezTo>
                    <a:pt x="2779" y="6800"/>
                    <a:pt x="2791" y="6812"/>
                    <a:pt x="2791" y="6825"/>
                  </a:cubicBezTo>
                  <a:cubicBezTo>
                    <a:pt x="2791" y="6839"/>
                    <a:pt x="2779" y="6850"/>
                    <a:pt x="2766" y="6850"/>
                  </a:cubicBezTo>
                  <a:lnTo>
                    <a:pt x="2766" y="6850"/>
                  </a:lnTo>
                  <a:cubicBezTo>
                    <a:pt x="2752" y="6850"/>
                    <a:pt x="2741" y="6839"/>
                    <a:pt x="2741" y="6825"/>
                  </a:cubicBezTo>
                  <a:cubicBezTo>
                    <a:pt x="2741" y="6812"/>
                    <a:pt x="2752" y="6800"/>
                    <a:pt x="2766" y="6800"/>
                  </a:cubicBezTo>
                  <a:close/>
                  <a:moveTo>
                    <a:pt x="2866" y="6800"/>
                  </a:moveTo>
                  <a:lnTo>
                    <a:pt x="2866" y="6800"/>
                  </a:lnTo>
                  <a:cubicBezTo>
                    <a:pt x="2880" y="6800"/>
                    <a:pt x="2891" y="6812"/>
                    <a:pt x="2891" y="6825"/>
                  </a:cubicBezTo>
                  <a:cubicBezTo>
                    <a:pt x="2891" y="6839"/>
                    <a:pt x="2880" y="6850"/>
                    <a:pt x="2866" y="6850"/>
                  </a:cubicBezTo>
                  <a:lnTo>
                    <a:pt x="2866" y="6850"/>
                  </a:lnTo>
                  <a:cubicBezTo>
                    <a:pt x="2852" y="6850"/>
                    <a:pt x="2841" y="6839"/>
                    <a:pt x="2841" y="6825"/>
                  </a:cubicBezTo>
                  <a:cubicBezTo>
                    <a:pt x="2841" y="6812"/>
                    <a:pt x="2852" y="6800"/>
                    <a:pt x="2866" y="6800"/>
                  </a:cubicBezTo>
                  <a:close/>
                  <a:moveTo>
                    <a:pt x="2966" y="6800"/>
                  </a:moveTo>
                  <a:lnTo>
                    <a:pt x="2966" y="6800"/>
                  </a:lnTo>
                  <a:cubicBezTo>
                    <a:pt x="2980" y="6800"/>
                    <a:pt x="2991" y="6812"/>
                    <a:pt x="2991" y="6825"/>
                  </a:cubicBezTo>
                  <a:cubicBezTo>
                    <a:pt x="2991" y="6839"/>
                    <a:pt x="2980" y="6850"/>
                    <a:pt x="2966" y="6850"/>
                  </a:cubicBezTo>
                  <a:lnTo>
                    <a:pt x="2966" y="6850"/>
                  </a:lnTo>
                  <a:cubicBezTo>
                    <a:pt x="2952" y="6850"/>
                    <a:pt x="2941" y="6839"/>
                    <a:pt x="2941" y="6825"/>
                  </a:cubicBezTo>
                  <a:cubicBezTo>
                    <a:pt x="2941" y="6812"/>
                    <a:pt x="2952" y="6800"/>
                    <a:pt x="2966" y="6800"/>
                  </a:cubicBezTo>
                  <a:close/>
                  <a:moveTo>
                    <a:pt x="3066" y="6800"/>
                  </a:moveTo>
                  <a:lnTo>
                    <a:pt x="3066" y="6800"/>
                  </a:lnTo>
                  <a:cubicBezTo>
                    <a:pt x="3080" y="6800"/>
                    <a:pt x="3091" y="6812"/>
                    <a:pt x="3091" y="6825"/>
                  </a:cubicBezTo>
                  <a:cubicBezTo>
                    <a:pt x="3091" y="6839"/>
                    <a:pt x="3080" y="6850"/>
                    <a:pt x="3066" y="6850"/>
                  </a:cubicBezTo>
                  <a:lnTo>
                    <a:pt x="3066" y="6850"/>
                  </a:lnTo>
                  <a:cubicBezTo>
                    <a:pt x="3052" y="6850"/>
                    <a:pt x="3041" y="6839"/>
                    <a:pt x="3041" y="6825"/>
                  </a:cubicBezTo>
                  <a:cubicBezTo>
                    <a:pt x="3041" y="6812"/>
                    <a:pt x="3052" y="6800"/>
                    <a:pt x="3066" y="6800"/>
                  </a:cubicBezTo>
                  <a:close/>
                  <a:moveTo>
                    <a:pt x="3166" y="6800"/>
                  </a:moveTo>
                  <a:lnTo>
                    <a:pt x="3166" y="6800"/>
                  </a:lnTo>
                  <a:cubicBezTo>
                    <a:pt x="3180" y="6800"/>
                    <a:pt x="3191" y="6812"/>
                    <a:pt x="3191" y="6825"/>
                  </a:cubicBezTo>
                  <a:cubicBezTo>
                    <a:pt x="3191" y="6839"/>
                    <a:pt x="3180" y="6850"/>
                    <a:pt x="3166" y="6850"/>
                  </a:cubicBezTo>
                  <a:lnTo>
                    <a:pt x="3166" y="6850"/>
                  </a:lnTo>
                  <a:cubicBezTo>
                    <a:pt x="3152" y="6850"/>
                    <a:pt x="3141" y="6839"/>
                    <a:pt x="3141" y="6825"/>
                  </a:cubicBezTo>
                  <a:cubicBezTo>
                    <a:pt x="3141" y="6812"/>
                    <a:pt x="3152" y="6800"/>
                    <a:pt x="3166" y="6800"/>
                  </a:cubicBezTo>
                  <a:close/>
                  <a:moveTo>
                    <a:pt x="3266" y="6800"/>
                  </a:moveTo>
                  <a:lnTo>
                    <a:pt x="3266" y="6800"/>
                  </a:lnTo>
                  <a:cubicBezTo>
                    <a:pt x="3280" y="6800"/>
                    <a:pt x="3291" y="6812"/>
                    <a:pt x="3291" y="6825"/>
                  </a:cubicBezTo>
                  <a:cubicBezTo>
                    <a:pt x="3291" y="6839"/>
                    <a:pt x="3280" y="6850"/>
                    <a:pt x="3266" y="6850"/>
                  </a:cubicBezTo>
                  <a:lnTo>
                    <a:pt x="3266" y="6850"/>
                  </a:lnTo>
                  <a:cubicBezTo>
                    <a:pt x="3252" y="6850"/>
                    <a:pt x="3241" y="6839"/>
                    <a:pt x="3241" y="6825"/>
                  </a:cubicBezTo>
                  <a:cubicBezTo>
                    <a:pt x="3241" y="6812"/>
                    <a:pt x="3252" y="6800"/>
                    <a:pt x="3266" y="6800"/>
                  </a:cubicBezTo>
                  <a:close/>
                  <a:moveTo>
                    <a:pt x="3366" y="6800"/>
                  </a:moveTo>
                  <a:lnTo>
                    <a:pt x="3366" y="6800"/>
                  </a:lnTo>
                  <a:cubicBezTo>
                    <a:pt x="3380" y="6800"/>
                    <a:pt x="3391" y="6812"/>
                    <a:pt x="3391" y="6825"/>
                  </a:cubicBezTo>
                  <a:cubicBezTo>
                    <a:pt x="3391" y="6839"/>
                    <a:pt x="3380" y="6850"/>
                    <a:pt x="3366" y="6850"/>
                  </a:cubicBezTo>
                  <a:lnTo>
                    <a:pt x="3366" y="6850"/>
                  </a:lnTo>
                  <a:cubicBezTo>
                    <a:pt x="3352" y="6850"/>
                    <a:pt x="3341" y="6839"/>
                    <a:pt x="3341" y="6825"/>
                  </a:cubicBezTo>
                  <a:cubicBezTo>
                    <a:pt x="3341" y="6812"/>
                    <a:pt x="3352" y="6800"/>
                    <a:pt x="3366" y="6800"/>
                  </a:cubicBezTo>
                  <a:close/>
                  <a:moveTo>
                    <a:pt x="3466" y="6800"/>
                  </a:moveTo>
                  <a:lnTo>
                    <a:pt x="3466" y="6800"/>
                  </a:lnTo>
                  <a:cubicBezTo>
                    <a:pt x="3480" y="6800"/>
                    <a:pt x="3491" y="6812"/>
                    <a:pt x="3491" y="6825"/>
                  </a:cubicBezTo>
                  <a:cubicBezTo>
                    <a:pt x="3491" y="6839"/>
                    <a:pt x="3480" y="6850"/>
                    <a:pt x="3466" y="6850"/>
                  </a:cubicBezTo>
                  <a:lnTo>
                    <a:pt x="3466" y="6850"/>
                  </a:lnTo>
                  <a:cubicBezTo>
                    <a:pt x="3452" y="6850"/>
                    <a:pt x="3441" y="6839"/>
                    <a:pt x="3441" y="6825"/>
                  </a:cubicBezTo>
                  <a:cubicBezTo>
                    <a:pt x="3441" y="6812"/>
                    <a:pt x="3452" y="6800"/>
                    <a:pt x="3466" y="6800"/>
                  </a:cubicBezTo>
                  <a:close/>
                  <a:moveTo>
                    <a:pt x="3566" y="6800"/>
                  </a:moveTo>
                  <a:lnTo>
                    <a:pt x="3566" y="6800"/>
                  </a:lnTo>
                  <a:cubicBezTo>
                    <a:pt x="3580" y="6800"/>
                    <a:pt x="3591" y="6812"/>
                    <a:pt x="3591" y="6825"/>
                  </a:cubicBezTo>
                  <a:cubicBezTo>
                    <a:pt x="3591" y="6839"/>
                    <a:pt x="3580" y="6850"/>
                    <a:pt x="3566" y="6850"/>
                  </a:cubicBezTo>
                  <a:lnTo>
                    <a:pt x="3566" y="6850"/>
                  </a:lnTo>
                  <a:cubicBezTo>
                    <a:pt x="3552" y="6850"/>
                    <a:pt x="3541" y="6839"/>
                    <a:pt x="3541" y="6825"/>
                  </a:cubicBezTo>
                  <a:cubicBezTo>
                    <a:pt x="3541" y="6812"/>
                    <a:pt x="3552" y="6800"/>
                    <a:pt x="3566" y="6800"/>
                  </a:cubicBezTo>
                  <a:close/>
                  <a:moveTo>
                    <a:pt x="3666" y="6800"/>
                  </a:moveTo>
                  <a:lnTo>
                    <a:pt x="3666" y="6800"/>
                  </a:lnTo>
                  <a:cubicBezTo>
                    <a:pt x="3680" y="6800"/>
                    <a:pt x="3691" y="6812"/>
                    <a:pt x="3691" y="6825"/>
                  </a:cubicBezTo>
                  <a:cubicBezTo>
                    <a:pt x="3691" y="6839"/>
                    <a:pt x="3680" y="6850"/>
                    <a:pt x="3666" y="6850"/>
                  </a:cubicBezTo>
                  <a:lnTo>
                    <a:pt x="3666" y="6850"/>
                  </a:lnTo>
                  <a:cubicBezTo>
                    <a:pt x="3652" y="6850"/>
                    <a:pt x="3641" y="6839"/>
                    <a:pt x="3641" y="6825"/>
                  </a:cubicBezTo>
                  <a:cubicBezTo>
                    <a:pt x="3641" y="6812"/>
                    <a:pt x="3652" y="6800"/>
                    <a:pt x="3666" y="6800"/>
                  </a:cubicBezTo>
                  <a:close/>
                  <a:moveTo>
                    <a:pt x="3766" y="6800"/>
                  </a:moveTo>
                  <a:lnTo>
                    <a:pt x="3766" y="6800"/>
                  </a:lnTo>
                  <a:cubicBezTo>
                    <a:pt x="3780" y="6800"/>
                    <a:pt x="3791" y="6812"/>
                    <a:pt x="3791" y="6825"/>
                  </a:cubicBezTo>
                  <a:cubicBezTo>
                    <a:pt x="3791" y="6839"/>
                    <a:pt x="3780" y="6850"/>
                    <a:pt x="3766" y="6850"/>
                  </a:cubicBezTo>
                  <a:lnTo>
                    <a:pt x="3766" y="6850"/>
                  </a:lnTo>
                  <a:cubicBezTo>
                    <a:pt x="3752" y="6850"/>
                    <a:pt x="3741" y="6839"/>
                    <a:pt x="3741" y="6825"/>
                  </a:cubicBezTo>
                  <a:cubicBezTo>
                    <a:pt x="3741" y="6812"/>
                    <a:pt x="3752" y="6800"/>
                    <a:pt x="3766" y="6800"/>
                  </a:cubicBezTo>
                  <a:close/>
                  <a:moveTo>
                    <a:pt x="3866" y="6800"/>
                  </a:moveTo>
                  <a:lnTo>
                    <a:pt x="3866" y="6800"/>
                  </a:lnTo>
                  <a:cubicBezTo>
                    <a:pt x="3880" y="6800"/>
                    <a:pt x="3891" y="6812"/>
                    <a:pt x="3891" y="6825"/>
                  </a:cubicBezTo>
                  <a:cubicBezTo>
                    <a:pt x="3891" y="6839"/>
                    <a:pt x="3880" y="6850"/>
                    <a:pt x="3866" y="6850"/>
                  </a:cubicBezTo>
                  <a:lnTo>
                    <a:pt x="3866" y="6850"/>
                  </a:lnTo>
                  <a:cubicBezTo>
                    <a:pt x="3852" y="6850"/>
                    <a:pt x="3841" y="6839"/>
                    <a:pt x="3841" y="6825"/>
                  </a:cubicBezTo>
                  <a:cubicBezTo>
                    <a:pt x="3841" y="6812"/>
                    <a:pt x="3852" y="6800"/>
                    <a:pt x="3866" y="6800"/>
                  </a:cubicBezTo>
                  <a:close/>
                  <a:moveTo>
                    <a:pt x="3966" y="6800"/>
                  </a:moveTo>
                  <a:lnTo>
                    <a:pt x="3966" y="6800"/>
                  </a:lnTo>
                  <a:cubicBezTo>
                    <a:pt x="3980" y="6800"/>
                    <a:pt x="3991" y="6812"/>
                    <a:pt x="3991" y="6825"/>
                  </a:cubicBezTo>
                  <a:cubicBezTo>
                    <a:pt x="3991" y="6839"/>
                    <a:pt x="3980" y="6850"/>
                    <a:pt x="3966" y="6850"/>
                  </a:cubicBezTo>
                  <a:lnTo>
                    <a:pt x="3966" y="6850"/>
                  </a:lnTo>
                  <a:cubicBezTo>
                    <a:pt x="3952" y="6850"/>
                    <a:pt x="3941" y="6839"/>
                    <a:pt x="3941" y="6825"/>
                  </a:cubicBezTo>
                  <a:cubicBezTo>
                    <a:pt x="3941" y="6812"/>
                    <a:pt x="3952" y="6800"/>
                    <a:pt x="3966" y="6800"/>
                  </a:cubicBezTo>
                  <a:close/>
                  <a:moveTo>
                    <a:pt x="4066" y="6800"/>
                  </a:moveTo>
                  <a:lnTo>
                    <a:pt x="4066" y="6800"/>
                  </a:lnTo>
                  <a:cubicBezTo>
                    <a:pt x="4080" y="6800"/>
                    <a:pt x="4091" y="6812"/>
                    <a:pt x="4091" y="6825"/>
                  </a:cubicBezTo>
                  <a:cubicBezTo>
                    <a:pt x="4091" y="6839"/>
                    <a:pt x="4080" y="6850"/>
                    <a:pt x="4066" y="6850"/>
                  </a:cubicBezTo>
                  <a:lnTo>
                    <a:pt x="4066" y="6850"/>
                  </a:lnTo>
                  <a:cubicBezTo>
                    <a:pt x="4052" y="6850"/>
                    <a:pt x="4041" y="6839"/>
                    <a:pt x="4041" y="6825"/>
                  </a:cubicBezTo>
                  <a:cubicBezTo>
                    <a:pt x="4041" y="6812"/>
                    <a:pt x="4052" y="6800"/>
                    <a:pt x="4066" y="6800"/>
                  </a:cubicBezTo>
                  <a:close/>
                  <a:moveTo>
                    <a:pt x="4166" y="6800"/>
                  </a:moveTo>
                  <a:lnTo>
                    <a:pt x="4166" y="6800"/>
                  </a:lnTo>
                  <a:cubicBezTo>
                    <a:pt x="4180" y="6800"/>
                    <a:pt x="4191" y="6812"/>
                    <a:pt x="4191" y="6825"/>
                  </a:cubicBezTo>
                  <a:cubicBezTo>
                    <a:pt x="4191" y="6839"/>
                    <a:pt x="4180" y="6850"/>
                    <a:pt x="4166" y="6850"/>
                  </a:cubicBezTo>
                  <a:lnTo>
                    <a:pt x="4166" y="6850"/>
                  </a:lnTo>
                  <a:cubicBezTo>
                    <a:pt x="4153" y="6850"/>
                    <a:pt x="4141" y="6839"/>
                    <a:pt x="4141" y="6825"/>
                  </a:cubicBezTo>
                  <a:cubicBezTo>
                    <a:pt x="4141" y="6812"/>
                    <a:pt x="4153" y="6800"/>
                    <a:pt x="4166" y="6800"/>
                  </a:cubicBezTo>
                  <a:close/>
                  <a:moveTo>
                    <a:pt x="4266" y="6800"/>
                  </a:moveTo>
                  <a:lnTo>
                    <a:pt x="4266" y="6800"/>
                  </a:lnTo>
                  <a:cubicBezTo>
                    <a:pt x="4280" y="6800"/>
                    <a:pt x="4291" y="6812"/>
                    <a:pt x="4291" y="6825"/>
                  </a:cubicBezTo>
                  <a:cubicBezTo>
                    <a:pt x="4291" y="6839"/>
                    <a:pt x="4280" y="6850"/>
                    <a:pt x="4266" y="6850"/>
                  </a:cubicBezTo>
                  <a:lnTo>
                    <a:pt x="4266" y="6850"/>
                  </a:lnTo>
                  <a:cubicBezTo>
                    <a:pt x="4253" y="6850"/>
                    <a:pt x="4241" y="6839"/>
                    <a:pt x="4241" y="6825"/>
                  </a:cubicBezTo>
                  <a:cubicBezTo>
                    <a:pt x="4241" y="6812"/>
                    <a:pt x="4253" y="6800"/>
                    <a:pt x="4266" y="6800"/>
                  </a:cubicBezTo>
                  <a:close/>
                  <a:moveTo>
                    <a:pt x="4366" y="6800"/>
                  </a:moveTo>
                  <a:lnTo>
                    <a:pt x="4366" y="6800"/>
                  </a:lnTo>
                  <a:cubicBezTo>
                    <a:pt x="4380" y="6800"/>
                    <a:pt x="4391" y="6812"/>
                    <a:pt x="4391" y="6825"/>
                  </a:cubicBezTo>
                  <a:cubicBezTo>
                    <a:pt x="4391" y="6839"/>
                    <a:pt x="4380" y="6850"/>
                    <a:pt x="4366" y="6850"/>
                  </a:cubicBezTo>
                  <a:lnTo>
                    <a:pt x="4366" y="6850"/>
                  </a:lnTo>
                  <a:cubicBezTo>
                    <a:pt x="4353" y="6850"/>
                    <a:pt x="4341" y="6839"/>
                    <a:pt x="4341" y="6825"/>
                  </a:cubicBezTo>
                  <a:cubicBezTo>
                    <a:pt x="4341" y="6812"/>
                    <a:pt x="4353" y="6800"/>
                    <a:pt x="4366" y="6800"/>
                  </a:cubicBezTo>
                  <a:close/>
                  <a:moveTo>
                    <a:pt x="4466" y="6800"/>
                  </a:moveTo>
                  <a:lnTo>
                    <a:pt x="4467" y="6800"/>
                  </a:lnTo>
                  <a:cubicBezTo>
                    <a:pt x="4480" y="6800"/>
                    <a:pt x="4492" y="6812"/>
                    <a:pt x="4492" y="6825"/>
                  </a:cubicBezTo>
                  <a:cubicBezTo>
                    <a:pt x="4492" y="6839"/>
                    <a:pt x="4480" y="6850"/>
                    <a:pt x="4467" y="6850"/>
                  </a:cubicBezTo>
                  <a:lnTo>
                    <a:pt x="4466" y="6850"/>
                  </a:lnTo>
                  <a:cubicBezTo>
                    <a:pt x="4453" y="6850"/>
                    <a:pt x="4441" y="6839"/>
                    <a:pt x="4441" y="6825"/>
                  </a:cubicBezTo>
                  <a:cubicBezTo>
                    <a:pt x="4441" y="6812"/>
                    <a:pt x="4453" y="6800"/>
                    <a:pt x="4466" y="6800"/>
                  </a:cubicBezTo>
                  <a:close/>
                  <a:moveTo>
                    <a:pt x="4567" y="6800"/>
                  </a:moveTo>
                  <a:lnTo>
                    <a:pt x="4567" y="6800"/>
                  </a:lnTo>
                  <a:cubicBezTo>
                    <a:pt x="4580" y="6800"/>
                    <a:pt x="4592" y="6812"/>
                    <a:pt x="4592" y="6825"/>
                  </a:cubicBezTo>
                  <a:cubicBezTo>
                    <a:pt x="4592" y="6839"/>
                    <a:pt x="4580" y="6850"/>
                    <a:pt x="4567" y="6850"/>
                  </a:cubicBezTo>
                  <a:lnTo>
                    <a:pt x="4567" y="6850"/>
                  </a:lnTo>
                  <a:cubicBezTo>
                    <a:pt x="4553" y="6850"/>
                    <a:pt x="4542" y="6839"/>
                    <a:pt x="4542" y="6825"/>
                  </a:cubicBezTo>
                  <a:cubicBezTo>
                    <a:pt x="4542" y="6812"/>
                    <a:pt x="4553" y="6800"/>
                    <a:pt x="4567" y="6800"/>
                  </a:cubicBezTo>
                  <a:close/>
                  <a:moveTo>
                    <a:pt x="4667" y="6800"/>
                  </a:moveTo>
                  <a:lnTo>
                    <a:pt x="4667" y="6800"/>
                  </a:lnTo>
                  <a:cubicBezTo>
                    <a:pt x="4680" y="6800"/>
                    <a:pt x="4692" y="6812"/>
                    <a:pt x="4692" y="6825"/>
                  </a:cubicBezTo>
                  <a:cubicBezTo>
                    <a:pt x="4692" y="6839"/>
                    <a:pt x="4680" y="6850"/>
                    <a:pt x="4667" y="6850"/>
                  </a:cubicBezTo>
                  <a:lnTo>
                    <a:pt x="4667" y="6850"/>
                  </a:lnTo>
                  <a:cubicBezTo>
                    <a:pt x="4653" y="6850"/>
                    <a:pt x="4642" y="6839"/>
                    <a:pt x="4642" y="6825"/>
                  </a:cubicBezTo>
                  <a:cubicBezTo>
                    <a:pt x="4642" y="6812"/>
                    <a:pt x="4653" y="6800"/>
                    <a:pt x="4667" y="6800"/>
                  </a:cubicBezTo>
                  <a:close/>
                  <a:moveTo>
                    <a:pt x="4767" y="6800"/>
                  </a:moveTo>
                  <a:lnTo>
                    <a:pt x="4767" y="6800"/>
                  </a:lnTo>
                  <a:cubicBezTo>
                    <a:pt x="4780" y="6800"/>
                    <a:pt x="4792" y="6812"/>
                    <a:pt x="4792" y="6825"/>
                  </a:cubicBezTo>
                  <a:cubicBezTo>
                    <a:pt x="4792" y="6839"/>
                    <a:pt x="4780" y="6850"/>
                    <a:pt x="4767" y="6850"/>
                  </a:cubicBezTo>
                  <a:lnTo>
                    <a:pt x="4767" y="6850"/>
                  </a:lnTo>
                  <a:cubicBezTo>
                    <a:pt x="4753" y="6850"/>
                    <a:pt x="4742" y="6839"/>
                    <a:pt x="4742" y="6825"/>
                  </a:cubicBezTo>
                  <a:cubicBezTo>
                    <a:pt x="4742" y="6812"/>
                    <a:pt x="4753" y="6800"/>
                    <a:pt x="4767" y="6800"/>
                  </a:cubicBezTo>
                  <a:close/>
                  <a:moveTo>
                    <a:pt x="4867" y="6800"/>
                  </a:moveTo>
                  <a:lnTo>
                    <a:pt x="4867" y="6800"/>
                  </a:lnTo>
                  <a:cubicBezTo>
                    <a:pt x="4881" y="6800"/>
                    <a:pt x="4892" y="6812"/>
                    <a:pt x="4892" y="6825"/>
                  </a:cubicBezTo>
                  <a:cubicBezTo>
                    <a:pt x="4892" y="6839"/>
                    <a:pt x="4881" y="6850"/>
                    <a:pt x="4867" y="6850"/>
                  </a:cubicBezTo>
                  <a:lnTo>
                    <a:pt x="4867" y="6850"/>
                  </a:lnTo>
                  <a:cubicBezTo>
                    <a:pt x="4853" y="6850"/>
                    <a:pt x="4842" y="6839"/>
                    <a:pt x="4842" y="6825"/>
                  </a:cubicBezTo>
                  <a:cubicBezTo>
                    <a:pt x="4842" y="6812"/>
                    <a:pt x="4853" y="6800"/>
                    <a:pt x="4867" y="6800"/>
                  </a:cubicBezTo>
                  <a:close/>
                  <a:moveTo>
                    <a:pt x="4967" y="6800"/>
                  </a:moveTo>
                  <a:lnTo>
                    <a:pt x="4967" y="6800"/>
                  </a:lnTo>
                  <a:cubicBezTo>
                    <a:pt x="4981" y="6800"/>
                    <a:pt x="4992" y="6812"/>
                    <a:pt x="4992" y="6825"/>
                  </a:cubicBezTo>
                  <a:cubicBezTo>
                    <a:pt x="4992" y="6839"/>
                    <a:pt x="4981" y="6850"/>
                    <a:pt x="4967" y="6850"/>
                  </a:cubicBezTo>
                  <a:lnTo>
                    <a:pt x="4967" y="6850"/>
                  </a:lnTo>
                  <a:cubicBezTo>
                    <a:pt x="4953" y="6850"/>
                    <a:pt x="4942" y="6839"/>
                    <a:pt x="4942" y="6825"/>
                  </a:cubicBezTo>
                  <a:cubicBezTo>
                    <a:pt x="4942" y="6812"/>
                    <a:pt x="4953" y="6800"/>
                    <a:pt x="4967" y="6800"/>
                  </a:cubicBezTo>
                  <a:close/>
                  <a:moveTo>
                    <a:pt x="5067" y="6800"/>
                  </a:moveTo>
                  <a:lnTo>
                    <a:pt x="5067" y="6800"/>
                  </a:lnTo>
                  <a:cubicBezTo>
                    <a:pt x="5081" y="6800"/>
                    <a:pt x="5092" y="6812"/>
                    <a:pt x="5092" y="6825"/>
                  </a:cubicBezTo>
                  <a:cubicBezTo>
                    <a:pt x="5092" y="6839"/>
                    <a:pt x="5081" y="6850"/>
                    <a:pt x="5067" y="6850"/>
                  </a:cubicBezTo>
                  <a:lnTo>
                    <a:pt x="5067" y="6850"/>
                  </a:lnTo>
                  <a:cubicBezTo>
                    <a:pt x="5053" y="6850"/>
                    <a:pt x="5042" y="6839"/>
                    <a:pt x="5042" y="6825"/>
                  </a:cubicBezTo>
                  <a:cubicBezTo>
                    <a:pt x="5042" y="6812"/>
                    <a:pt x="5053" y="6800"/>
                    <a:pt x="5067" y="6800"/>
                  </a:cubicBezTo>
                  <a:close/>
                  <a:moveTo>
                    <a:pt x="5167" y="6800"/>
                  </a:moveTo>
                  <a:lnTo>
                    <a:pt x="5167" y="6800"/>
                  </a:lnTo>
                  <a:cubicBezTo>
                    <a:pt x="5181" y="6800"/>
                    <a:pt x="5192" y="6812"/>
                    <a:pt x="5192" y="6825"/>
                  </a:cubicBezTo>
                  <a:cubicBezTo>
                    <a:pt x="5192" y="6839"/>
                    <a:pt x="5181" y="6850"/>
                    <a:pt x="5167" y="6850"/>
                  </a:cubicBezTo>
                  <a:lnTo>
                    <a:pt x="5167" y="6850"/>
                  </a:lnTo>
                  <a:cubicBezTo>
                    <a:pt x="5153" y="6850"/>
                    <a:pt x="5142" y="6839"/>
                    <a:pt x="5142" y="6825"/>
                  </a:cubicBezTo>
                  <a:cubicBezTo>
                    <a:pt x="5142" y="6812"/>
                    <a:pt x="5153" y="6800"/>
                    <a:pt x="5167" y="6800"/>
                  </a:cubicBezTo>
                  <a:close/>
                  <a:moveTo>
                    <a:pt x="5267" y="6800"/>
                  </a:moveTo>
                  <a:lnTo>
                    <a:pt x="5267" y="6800"/>
                  </a:lnTo>
                  <a:cubicBezTo>
                    <a:pt x="5281" y="6800"/>
                    <a:pt x="5292" y="6812"/>
                    <a:pt x="5292" y="6825"/>
                  </a:cubicBezTo>
                  <a:cubicBezTo>
                    <a:pt x="5292" y="6839"/>
                    <a:pt x="5281" y="6850"/>
                    <a:pt x="5267" y="6850"/>
                  </a:cubicBezTo>
                  <a:lnTo>
                    <a:pt x="5267" y="6850"/>
                  </a:lnTo>
                  <a:cubicBezTo>
                    <a:pt x="5253" y="6850"/>
                    <a:pt x="5242" y="6839"/>
                    <a:pt x="5242" y="6825"/>
                  </a:cubicBezTo>
                  <a:cubicBezTo>
                    <a:pt x="5242" y="6812"/>
                    <a:pt x="5253" y="6800"/>
                    <a:pt x="5267" y="6800"/>
                  </a:cubicBezTo>
                  <a:close/>
                  <a:moveTo>
                    <a:pt x="5365" y="6800"/>
                  </a:moveTo>
                  <a:lnTo>
                    <a:pt x="5365" y="6800"/>
                  </a:lnTo>
                  <a:cubicBezTo>
                    <a:pt x="5379" y="6799"/>
                    <a:pt x="5391" y="6809"/>
                    <a:pt x="5392" y="6823"/>
                  </a:cubicBezTo>
                  <a:cubicBezTo>
                    <a:pt x="5393" y="6837"/>
                    <a:pt x="5383" y="6849"/>
                    <a:pt x="5369" y="6850"/>
                  </a:cubicBezTo>
                  <a:lnTo>
                    <a:pt x="5369" y="6850"/>
                  </a:lnTo>
                  <a:cubicBezTo>
                    <a:pt x="5355" y="6851"/>
                    <a:pt x="5343" y="6841"/>
                    <a:pt x="5342" y="6827"/>
                  </a:cubicBezTo>
                  <a:cubicBezTo>
                    <a:pt x="5341" y="6813"/>
                    <a:pt x="5351" y="6801"/>
                    <a:pt x="5365" y="6800"/>
                  </a:cubicBezTo>
                  <a:close/>
                  <a:moveTo>
                    <a:pt x="5465" y="6795"/>
                  </a:moveTo>
                  <a:lnTo>
                    <a:pt x="5465" y="6795"/>
                  </a:lnTo>
                  <a:cubicBezTo>
                    <a:pt x="5479" y="6794"/>
                    <a:pt x="5491" y="6804"/>
                    <a:pt x="5492" y="6818"/>
                  </a:cubicBezTo>
                  <a:cubicBezTo>
                    <a:pt x="5493" y="6831"/>
                    <a:pt x="5483" y="6843"/>
                    <a:pt x="5469" y="6844"/>
                  </a:cubicBezTo>
                  <a:lnTo>
                    <a:pt x="5469" y="6844"/>
                  </a:lnTo>
                  <a:cubicBezTo>
                    <a:pt x="5455" y="6846"/>
                    <a:pt x="5443" y="6835"/>
                    <a:pt x="5442" y="6822"/>
                  </a:cubicBezTo>
                  <a:cubicBezTo>
                    <a:pt x="5441" y="6808"/>
                    <a:pt x="5451" y="6796"/>
                    <a:pt x="5465" y="6795"/>
                  </a:cubicBezTo>
                  <a:close/>
                  <a:moveTo>
                    <a:pt x="5562" y="6780"/>
                  </a:moveTo>
                  <a:lnTo>
                    <a:pt x="5562" y="6780"/>
                  </a:lnTo>
                  <a:cubicBezTo>
                    <a:pt x="5576" y="6778"/>
                    <a:pt x="5588" y="6787"/>
                    <a:pt x="5591" y="6801"/>
                  </a:cubicBezTo>
                  <a:cubicBezTo>
                    <a:pt x="5593" y="6814"/>
                    <a:pt x="5583" y="6827"/>
                    <a:pt x="5570" y="6829"/>
                  </a:cubicBezTo>
                  <a:lnTo>
                    <a:pt x="5570" y="6829"/>
                  </a:lnTo>
                  <a:cubicBezTo>
                    <a:pt x="5556" y="6832"/>
                    <a:pt x="5543" y="6822"/>
                    <a:pt x="5541" y="6809"/>
                  </a:cubicBezTo>
                  <a:cubicBezTo>
                    <a:pt x="5539" y="6795"/>
                    <a:pt x="5548" y="6782"/>
                    <a:pt x="5562" y="6780"/>
                  </a:cubicBezTo>
                  <a:close/>
                  <a:moveTo>
                    <a:pt x="5656" y="6757"/>
                  </a:moveTo>
                  <a:lnTo>
                    <a:pt x="5656" y="6757"/>
                  </a:lnTo>
                  <a:cubicBezTo>
                    <a:pt x="5669" y="6753"/>
                    <a:pt x="5683" y="6761"/>
                    <a:pt x="5687" y="6774"/>
                  </a:cubicBezTo>
                  <a:cubicBezTo>
                    <a:pt x="5691" y="6787"/>
                    <a:pt x="5683" y="6801"/>
                    <a:pt x="5670" y="6805"/>
                  </a:cubicBezTo>
                  <a:lnTo>
                    <a:pt x="5670" y="6805"/>
                  </a:lnTo>
                  <a:cubicBezTo>
                    <a:pt x="5657" y="6809"/>
                    <a:pt x="5643" y="6801"/>
                    <a:pt x="5639" y="6788"/>
                  </a:cubicBezTo>
                  <a:cubicBezTo>
                    <a:pt x="5635" y="6775"/>
                    <a:pt x="5643" y="6761"/>
                    <a:pt x="5656" y="6757"/>
                  </a:cubicBezTo>
                  <a:close/>
                  <a:moveTo>
                    <a:pt x="5748" y="6724"/>
                  </a:moveTo>
                  <a:lnTo>
                    <a:pt x="5749" y="6724"/>
                  </a:lnTo>
                  <a:cubicBezTo>
                    <a:pt x="5761" y="6720"/>
                    <a:pt x="5776" y="6726"/>
                    <a:pt x="5781" y="6739"/>
                  </a:cubicBezTo>
                  <a:cubicBezTo>
                    <a:pt x="5786" y="6752"/>
                    <a:pt x="5779" y="6766"/>
                    <a:pt x="5766" y="6771"/>
                  </a:cubicBezTo>
                  <a:lnTo>
                    <a:pt x="5766" y="6771"/>
                  </a:lnTo>
                  <a:cubicBezTo>
                    <a:pt x="5753" y="6776"/>
                    <a:pt x="5739" y="6770"/>
                    <a:pt x="5734" y="6757"/>
                  </a:cubicBezTo>
                  <a:cubicBezTo>
                    <a:pt x="5729" y="6744"/>
                    <a:pt x="5736" y="6729"/>
                    <a:pt x="5748" y="6724"/>
                  </a:cubicBezTo>
                  <a:close/>
                  <a:moveTo>
                    <a:pt x="5836" y="6684"/>
                  </a:moveTo>
                  <a:lnTo>
                    <a:pt x="5836" y="6684"/>
                  </a:lnTo>
                  <a:cubicBezTo>
                    <a:pt x="5849" y="6677"/>
                    <a:pt x="5864" y="6682"/>
                    <a:pt x="5870" y="6694"/>
                  </a:cubicBezTo>
                  <a:cubicBezTo>
                    <a:pt x="5877" y="6707"/>
                    <a:pt x="5872" y="6722"/>
                    <a:pt x="5860" y="6728"/>
                  </a:cubicBezTo>
                  <a:lnTo>
                    <a:pt x="5860" y="6728"/>
                  </a:lnTo>
                  <a:cubicBezTo>
                    <a:pt x="5847" y="6734"/>
                    <a:pt x="5832" y="6730"/>
                    <a:pt x="5826" y="6717"/>
                  </a:cubicBezTo>
                  <a:cubicBezTo>
                    <a:pt x="5819" y="6705"/>
                    <a:pt x="5824" y="6690"/>
                    <a:pt x="5836" y="6684"/>
                  </a:cubicBezTo>
                  <a:close/>
                  <a:moveTo>
                    <a:pt x="5921" y="6635"/>
                  </a:moveTo>
                  <a:lnTo>
                    <a:pt x="5921" y="6635"/>
                  </a:lnTo>
                  <a:cubicBezTo>
                    <a:pt x="5932" y="6628"/>
                    <a:pt x="5948" y="6631"/>
                    <a:pt x="5955" y="6642"/>
                  </a:cubicBezTo>
                  <a:cubicBezTo>
                    <a:pt x="5963" y="6654"/>
                    <a:pt x="5960" y="6669"/>
                    <a:pt x="5949" y="6677"/>
                  </a:cubicBezTo>
                  <a:lnTo>
                    <a:pt x="5949" y="6677"/>
                  </a:lnTo>
                  <a:cubicBezTo>
                    <a:pt x="5937" y="6684"/>
                    <a:pt x="5922" y="6681"/>
                    <a:pt x="5914" y="6670"/>
                  </a:cubicBezTo>
                  <a:cubicBezTo>
                    <a:pt x="5906" y="6658"/>
                    <a:pt x="5909" y="6643"/>
                    <a:pt x="5921" y="6635"/>
                  </a:cubicBezTo>
                  <a:close/>
                  <a:moveTo>
                    <a:pt x="6001" y="6579"/>
                  </a:moveTo>
                  <a:lnTo>
                    <a:pt x="6001" y="6579"/>
                  </a:lnTo>
                  <a:cubicBezTo>
                    <a:pt x="6011" y="6570"/>
                    <a:pt x="6027" y="6572"/>
                    <a:pt x="6036" y="6583"/>
                  </a:cubicBezTo>
                  <a:cubicBezTo>
                    <a:pt x="6044" y="6593"/>
                    <a:pt x="6043" y="6609"/>
                    <a:pt x="6032" y="6618"/>
                  </a:cubicBezTo>
                  <a:lnTo>
                    <a:pt x="6032" y="6618"/>
                  </a:lnTo>
                  <a:cubicBezTo>
                    <a:pt x="6021" y="6626"/>
                    <a:pt x="6005" y="6625"/>
                    <a:pt x="5997" y="6614"/>
                  </a:cubicBezTo>
                  <a:cubicBezTo>
                    <a:pt x="5988" y="6603"/>
                    <a:pt x="5990" y="6587"/>
                    <a:pt x="6001" y="6579"/>
                  </a:cubicBezTo>
                  <a:close/>
                  <a:moveTo>
                    <a:pt x="6074" y="6515"/>
                  </a:moveTo>
                  <a:lnTo>
                    <a:pt x="6074" y="6515"/>
                  </a:lnTo>
                  <a:cubicBezTo>
                    <a:pt x="6084" y="6506"/>
                    <a:pt x="6100" y="6506"/>
                    <a:pt x="6110" y="6515"/>
                  </a:cubicBezTo>
                  <a:cubicBezTo>
                    <a:pt x="6119" y="6525"/>
                    <a:pt x="6119" y="6541"/>
                    <a:pt x="6110" y="6551"/>
                  </a:cubicBezTo>
                  <a:lnTo>
                    <a:pt x="6110" y="6551"/>
                  </a:lnTo>
                  <a:cubicBezTo>
                    <a:pt x="6100" y="6560"/>
                    <a:pt x="6084" y="6560"/>
                    <a:pt x="6074" y="6551"/>
                  </a:cubicBezTo>
                  <a:cubicBezTo>
                    <a:pt x="6065" y="6541"/>
                    <a:pt x="6065" y="6525"/>
                    <a:pt x="6074" y="6515"/>
                  </a:cubicBezTo>
                  <a:close/>
                  <a:moveTo>
                    <a:pt x="6143" y="6444"/>
                  </a:moveTo>
                  <a:lnTo>
                    <a:pt x="6143" y="6444"/>
                  </a:lnTo>
                  <a:cubicBezTo>
                    <a:pt x="6152" y="6434"/>
                    <a:pt x="6168" y="6433"/>
                    <a:pt x="6178" y="6442"/>
                  </a:cubicBezTo>
                  <a:cubicBezTo>
                    <a:pt x="6188" y="6451"/>
                    <a:pt x="6189" y="6467"/>
                    <a:pt x="6180" y="6478"/>
                  </a:cubicBezTo>
                  <a:lnTo>
                    <a:pt x="6180" y="6478"/>
                  </a:lnTo>
                  <a:cubicBezTo>
                    <a:pt x="6171" y="6488"/>
                    <a:pt x="6155" y="6489"/>
                    <a:pt x="6145" y="6480"/>
                  </a:cubicBezTo>
                  <a:cubicBezTo>
                    <a:pt x="6134" y="6470"/>
                    <a:pt x="6133" y="6455"/>
                    <a:pt x="6143" y="6444"/>
                  </a:cubicBezTo>
                  <a:close/>
                  <a:moveTo>
                    <a:pt x="6203" y="6368"/>
                  </a:moveTo>
                  <a:lnTo>
                    <a:pt x="6203" y="6368"/>
                  </a:lnTo>
                  <a:cubicBezTo>
                    <a:pt x="6211" y="6357"/>
                    <a:pt x="6227" y="6354"/>
                    <a:pt x="6238" y="6362"/>
                  </a:cubicBezTo>
                  <a:cubicBezTo>
                    <a:pt x="6249" y="6370"/>
                    <a:pt x="6252" y="6386"/>
                    <a:pt x="6244" y="6397"/>
                  </a:cubicBezTo>
                  <a:lnTo>
                    <a:pt x="6244" y="6397"/>
                  </a:lnTo>
                  <a:cubicBezTo>
                    <a:pt x="6236" y="6408"/>
                    <a:pt x="6220" y="6411"/>
                    <a:pt x="6209" y="6403"/>
                  </a:cubicBezTo>
                  <a:cubicBezTo>
                    <a:pt x="6198" y="6395"/>
                    <a:pt x="6195" y="6379"/>
                    <a:pt x="6203" y="6368"/>
                  </a:cubicBezTo>
                  <a:close/>
                  <a:moveTo>
                    <a:pt x="6256" y="6286"/>
                  </a:moveTo>
                  <a:lnTo>
                    <a:pt x="6256" y="6286"/>
                  </a:lnTo>
                  <a:cubicBezTo>
                    <a:pt x="6263" y="6274"/>
                    <a:pt x="6279" y="6270"/>
                    <a:pt x="6290" y="6277"/>
                  </a:cubicBezTo>
                  <a:cubicBezTo>
                    <a:pt x="6302" y="6284"/>
                    <a:pt x="6306" y="6300"/>
                    <a:pt x="6299" y="6311"/>
                  </a:cubicBezTo>
                  <a:lnTo>
                    <a:pt x="6299" y="6311"/>
                  </a:lnTo>
                  <a:cubicBezTo>
                    <a:pt x="6292" y="6323"/>
                    <a:pt x="6277" y="6327"/>
                    <a:pt x="6265" y="6320"/>
                  </a:cubicBezTo>
                  <a:cubicBezTo>
                    <a:pt x="6253" y="6313"/>
                    <a:pt x="6249" y="6298"/>
                    <a:pt x="6256" y="6286"/>
                  </a:cubicBezTo>
                  <a:close/>
                  <a:moveTo>
                    <a:pt x="6301" y="6200"/>
                  </a:moveTo>
                  <a:lnTo>
                    <a:pt x="6301" y="6200"/>
                  </a:lnTo>
                  <a:cubicBezTo>
                    <a:pt x="6307" y="6187"/>
                    <a:pt x="6322" y="6182"/>
                    <a:pt x="6335" y="6187"/>
                  </a:cubicBezTo>
                  <a:cubicBezTo>
                    <a:pt x="6347" y="6193"/>
                    <a:pt x="6353" y="6208"/>
                    <a:pt x="6347" y="6221"/>
                  </a:cubicBezTo>
                  <a:lnTo>
                    <a:pt x="6347" y="6221"/>
                  </a:lnTo>
                  <a:cubicBezTo>
                    <a:pt x="6341" y="6233"/>
                    <a:pt x="6326" y="6239"/>
                    <a:pt x="6314" y="6233"/>
                  </a:cubicBezTo>
                  <a:cubicBezTo>
                    <a:pt x="6301" y="6227"/>
                    <a:pt x="6296" y="6212"/>
                    <a:pt x="6301" y="6200"/>
                  </a:cubicBezTo>
                  <a:close/>
                  <a:moveTo>
                    <a:pt x="6338" y="6110"/>
                  </a:moveTo>
                  <a:lnTo>
                    <a:pt x="6338" y="6110"/>
                  </a:lnTo>
                  <a:cubicBezTo>
                    <a:pt x="6343" y="6097"/>
                    <a:pt x="6357" y="6090"/>
                    <a:pt x="6370" y="6094"/>
                  </a:cubicBezTo>
                  <a:cubicBezTo>
                    <a:pt x="6383" y="6098"/>
                    <a:pt x="6390" y="6112"/>
                    <a:pt x="6386" y="6125"/>
                  </a:cubicBezTo>
                  <a:lnTo>
                    <a:pt x="6386" y="6125"/>
                  </a:lnTo>
                  <a:cubicBezTo>
                    <a:pt x="6382" y="6139"/>
                    <a:pt x="6368" y="6146"/>
                    <a:pt x="6355" y="6142"/>
                  </a:cubicBezTo>
                  <a:cubicBezTo>
                    <a:pt x="6341" y="6137"/>
                    <a:pt x="6334" y="6123"/>
                    <a:pt x="6338" y="6110"/>
                  </a:cubicBezTo>
                  <a:close/>
                  <a:moveTo>
                    <a:pt x="6367" y="6016"/>
                  </a:moveTo>
                  <a:lnTo>
                    <a:pt x="6367" y="6016"/>
                  </a:lnTo>
                  <a:cubicBezTo>
                    <a:pt x="6370" y="6003"/>
                    <a:pt x="6384" y="5995"/>
                    <a:pt x="6397" y="5998"/>
                  </a:cubicBezTo>
                  <a:cubicBezTo>
                    <a:pt x="6411" y="6001"/>
                    <a:pt x="6419" y="6015"/>
                    <a:pt x="6416" y="6028"/>
                  </a:cubicBezTo>
                  <a:lnTo>
                    <a:pt x="6416" y="6028"/>
                  </a:lnTo>
                  <a:cubicBezTo>
                    <a:pt x="6412" y="6042"/>
                    <a:pt x="6399" y="6050"/>
                    <a:pt x="6385" y="6047"/>
                  </a:cubicBezTo>
                  <a:cubicBezTo>
                    <a:pt x="6372" y="6043"/>
                    <a:pt x="6364" y="6030"/>
                    <a:pt x="6367" y="6016"/>
                  </a:cubicBezTo>
                  <a:close/>
                  <a:moveTo>
                    <a:pt x="6387" y="5921"/>
                  </a:moveTo>
                  <a:lnTo>
                    <a:pt x="6387" y="5921"/>
                  </a:lnTo>
                  <a:cubicBezTo>
                    <a:pt x="6389" y="5907"/>
                    <a:pt x="6402" y="5898"/>
                    <a:pt x="6415" y="5900"/>
                  </a:cubicBezTo>
                  <a:cubicBezTo>
                    <a:pt x="6429" y="5902"/>
                    <a:pt x="6438" y="5914"/>
                    <a:pt x="6436" y="5928"/>
                  </a:cubicBezTo>
                  <a:lnTo>
                    <a:pt x="6436" y="5928"/>
                  </a:lnTo>
                  <a:cubicBezTo>
                    <a:pt x="6434" y="5942"/>
                    <a:pt x="6421" y="5951"/>
                    <a:pt x="6408" y="5949"/>
                  </a:cubicBezTo>
                  <a:cubicBezTo>
                    <a:pt x="6394" y="5947"/>
                    <a:pt x="6385" y="5934"/>
                    <a:pt x="6387" y="5921"/>
                  </a:cubicBezTo>
                  <a:close/>
                  <a:moveTo>
                    <a:pt x="6397" y="5824"/>
                  </a:moveTo>
                  <a:lnTo>
                    <a:pt x="6397" y="5824"/>
                  </a:lnTo>
                  <a:cubicBezTo>
                    <a:pt x="6398" y="5810"/>
                    <a:pt x="6410" y="5800"/>
                    <a:pt x="6423" y="5800"/>
                  </a:cubicBezTo>
                  <a:cubicBezTo>
                    <a:pt x="6437" y="5801"/>
                    <a:pt x="6448" y="5812"/>
                    <a:pt x="6447" y="5826"/>
                  </a:cubicBezTo>
                  <a:lnTo>
                    <a:pt x="6447" y="5826"/>
                  </a:lnTo>
                  <a:cubicBezTo>
                    <a:pt x="6447" y="5840"/>
                    <a:pt x="6435" y="5851"/>
                    <a:pt x="6421" y="5850"/>
                  </a:cubicBezTo>
                  <a:cubicBezTo>
                    <a:pt x="6408" y="5850"/>
                    <a:pt x="6397" y="5838"/>
                    <a:pt x="6397" y="5824"/>
                  </a:cubicBezTo>
                  <a:close/>
                  <a:moveTo>
                    <a:pt x="6400" y="5725"/>
                  </a:moveTo>
                  <a:lnTo>
                    <a:pt x="6400" y="5725"/>
                  </a:lnTo>
                  <a:cubicBezTo>
                    <a:pt x="6400" y="5711"/>
                    <a:pt x="6412" y="5700"/>
                    <a:pt x="6425" y="5700"/>
                  </a:cubicBezTo>
                  <a:cubicBezTo>
                    <a:pt x="6439" y="5700"/>
                    <a:pt x="6450" y="5711"/>
                    <a:pt x="6450" y="5725"/>
                  </a:cubicBezTo>
                  <a:lnTo>
                    <a:pt x="6450" y="5725"/>
                  </a:lnTo>
                  <a:cubicBezTo>
                    <a:pt x="6450" y="5739"/>
                    <a:pt x="6439" y="5750"/>
                    <a:pt x="6425" y="5750"/>
                  </a:cubicBezTo>
                  <a:cubicBezTo>
                    <a:pt x="6412" y="5750"/>
                    <a:pt x="6400" y="5739"/>
                    <a:pt x="6400" y="5725"/>
                  </a:cubicBezTo>
                  <a:close/>
                  <a:moveTo>
                    <a:pt x="6400" y="5625"/>
                  </a:moveTo>
                  <a:lnTo>
                    <a:pt x="6400" y="5625"/>
                  </a:lnTo>
                  <a:cubicBezTo>
                    <a:pt x="6400" y="5611"/>
                    <a:pt x="6412" y="5600"/>
                    <a:pt x="6425" y="5600"/>
                  </a:cubicBezTo>
                  <a:cubicBezTo>
                    <a:pt x="6439" y="5600"/>
                    <a:pt x="6450" y="5611"/>
                    <a:pt x="6450" y="5625"/>
                  </a:cubicBezTo>
                  <a:lnTo>
                    <a:pt x="6450" y="5625"/>
                  </a:lnTo>
                  <a:cubicBezTo>
                    <a:pt x="6450" y="5639"/>
                    <a:pt x="6439" y="5650"/>
                    <a:pt x="6425" y="5650"/>
                  </a:cubicBezTo>
                  <a:cubicBezTo>
                    <a:pt x="6412" y="5650"/>
                    <a:pt x="6400" y="5639"/>
                    <a:pt x="6400" y="5625"/>
                  </a:cubicBezTo>
                  <a:close/>
                  <a:moveTo>
                    <a:pt x="6400" y="5525"/>
                  </a:moveTo>
                  <a:lnTo>
                    <a:pt x="6400" y="5525"/>
                  </a:lnTo>
                  <a:cubicBezTo>
                    <a:pt x="6400" y="5511"/>
                    <a:pt x="6412" y="5500"/>
                    <a:pt x="6425" y="5500"/>
                  </a:cubicBezTo>
                  <a:cubicBezTo>
                    <a:pt x="6439" y="5500"/>
                    <a:pt x="6450" y="5511"/>
                    <a:pt x="6450" y="5525"/>
                  </a:cubicBezTo>
                  <a:lnTo>
                    <a:pt x="6450" y="5525"/>
                  </a:lnTo>
                  <a:cubicBezTo>
                    <a:pt x="6450" y="5539"/>
                    <a:pt x="6439" y="5550"/>
                    <a:pt x="6425" y="5550"/>
                  </a:cubicBezTo>
                  <a:cubicBezTo>
                    <a:pt x="6412" y="5550"/>
                    <a:pt x="6400" y="5539"/>
                    <a:pt x="6400" y="5525"/>
                  </a:cubicBezTo>
                  <a:close/>
                  <a:moveTo>
                    <a:pt x="6400" y="5425"/>
                  </a:moveTo>
                  <a:lnTo>
                    <a:pt x="6400" y="5425"/>
                  </a:lnTo>
                  <a:cubicBezTo>
                    <a:pt x="6400" y="5411"/>
                    <a:pt x="6412" y="5400"/>
                    <a:pt x="6425" y="5400"/>
                  </a:cubicBezTo>
                  <a:cubicBezTo>
                    <a:pt x="6439" y="5400"/>
                    <a:pt x="6450" y="5411"/>
                    <a:pt x="6450" y="5425"/>
                  </a:cubicBezTo>
                  <a:lnTo>
                    <a:pt x="6450" y="5425"/>
                  </a:lnTo>
                  <a:cubicBezTo>
                    <a:pt x="6450" y="5439"/>
                    <a:pt x="6439" y="5450"/>
                    <a:pt x="6425" y="5450"/>
                  </a:cubicBezTo>
                  <a:cubicBezTo>
                    <a:pt x="6412" y="5450"/>
                    <a:pt x="6400" y="5439"/>
                    <a:pt x="6400" y="5425"/>
                  </a:cubicBezTo>
                  <a:close/>
                  <a:moveTo>
                    <a:pt x="6400" y="5325"/>
                  </a:moveTo>
                  <a:lnTo>
                    <a:pt x="6400" y="5325"/>
                  </a:lnTo>
                  <a:cubicBezTo>
                    <a:pt x="6400" y="5311"/>
                    <a:pt x="6412" y="5300"/>
                    <a:pt x="6425" y="5300"/>
                  </a:cubicBezTo>
                  <a:cubicBezTo>
                    <a:pt x="6439" y="5300"/>
                    <a:pt x="6450" y="5311"/>
                    <a:pt x="6450" y="5325"/>
                  </a:cubicBezTo>
                  <a:lnTo>
                    <a:pt x="6450" y="5325"/>
                  </a:lnTo>
                  <a:cubicBezTo>
                    <a:pt x="6450" y="5339"/>
                    <a:pt x="6439" y="5350"/>
                    <a:pt x="6425" y="5350"/>
                  </a:cubicBezTo>
                  <a:cubicBezTo>
                    <a:pt x="6412" y="5350"/>
                    <a:pt x="6400" y="5339"/>
                    <a:pt x="6400" y="5325"/>
                  </a:cubicBezTo>
                  <a:close/>
                  <a:moveTo>
                    <a:pt x="6400" y="5225"/>
                  </a:moveTo>
                  <a:lnTo>
                    <a:pt x="6400" y="5225"/>
                  </a:lnTo>
                  <a:cubicBezTo>
                    <a:pt x="6400" y="5211"/>
                    <a:pt x="6412" y="5200"/>
                    <a:pt x="6425" y="5200"/>
                  </a:cubicBezTo>
                  <a:cubicBezTo>
                    <a:pt x="6439" y="5200"/>
                    <a:pt x="6450" y="5211"/>
                    <a:pt x="6450" y="5225"/>
                  </a:cubicBezTo>
                  <a:lnTo>
                    <a:pt x="6450" y="5225"/>
                  </a:lnTo>
                  <a:cubicBezTo>
                    <a:pt x="6450" y="5239"/>
                    <a:pt x="6439" y="5250"/>
                    <a:pt x="6425" y="5250"/>
                  </a:cubicBezTo>
                  <a:cubicBezTo>
                    <a:pt x="6412" y="5250"/>
                    <a:pt x="6400" y="5239"/>
                    <a:pt x="6400" y="5225"/>
                  </a:cubicBezTo>
                  <a:close/>
                  <a:moveTo>
                    <a:pt x="6400" y="5125"/>
                  </a:moveTo>
                  <a:lnTo>
                    <a:pt x="6400" y="5125"/>
                  </a:lnTo>
                  <a:cubicBezTo>
                    <a:pt x="6400" y="5111"/>
                    <a:pt x="6412" y="5100"/>
                    <a:pt x="6425" y="5100"/>
                  </a:cubicBezTo>
                  <a:cubicBezTo>
                    <a:pt x="6439" y="5100"/>
                    <a:pt x="6450" y="5111"/>
                    <a:pt x="6450" y="5125"/>
                  </a:cubicBezTo>
                  <a:lnTo>
                    <a:pt x="6450" y="5125"/>
                  </a:lnTo>
                  <a:cubicBezTo>
                    <a:pt x="6450" y="5139"/>
                    <a:pt x="6439" y="5150"/>
                    <a:pt x="6425" y="5150"/>
                  </a:cubicBezTo>
                  <a:cubicBezTo>
                    <a:pt x="6412" y="5150"/>
                    <a:pt x="6400" y="5139"/>
                    <a:pt x="6400" y="5125"/>
                  </a:cubicBezTo>
                  <a:close/>
                  <a:moveTo>
                    <a:pt x="6400" y="5025"/>
                  </a:moveTo>
                  <a:lnTo>
                    <a:pt x="6400" y="5025"/>
                  </a:lnTo>
                  <a:cubicBezTo>
                    <a:pt x="6400" y="5011"/>
                    <a:pt x="6412" y="5000"/>
                    <a:pt x="6425" y="5000"/>
                  </a:cubicBezTo>
                  <a:cubicBezTo>
                    <a:pt x="6439" y="5000"/>
                    <a:pt x="6450" y="5011"/>
                    <a:pt x="6450" y="5025"/>
                  </a:cubicBezTo>
                  <a:lnTo>
                    <a:pt x="6450" y="5025"/>
                  </a:lnTo>
                  <a:cubicBezTo>
                    <a:pt x="6450" y="5039"/>
                    <a:pt x="6439" y="5050"/>
                    <a:pt x="6425" y="5050"/>
                  </a:cubicBezTo>
                  <a:cubicBezTo>
                    <a:pt x="6412" y="5050"/>
                    <a:pt x="6400" y="5039"/>
                    <a:pt x="6400" y="5025"/>
                  </a:cubicBezTo>
                  <a:close/>
                  <a:moveTo>
                    <a:pt x="6400" y="4925"/>
                  </a:moveTo>
                  <a:lnTo>
                    <a:pt x="6400" y="4925"/>
                  </a:lnTo>
                  <a:cubicBezTo>
                    <a:pt x="6400" y="4911"/>
                    <a:pt x="6412" y="4900"/>
                    <a:pt x="6425" y="4900"/>
                  </a:cubicBezTo>
                  <a:cubicBezTo>
                    <a:pt x="6439" y="4900"/>
                    <a:pt x="6450" y="4911"/>
                    <a:pt x="6450" y="4925"/>
                  </a:cubicBezTo>
                  <a:lnTo>
                    <a:pt x="6450" y="4925"/>
                  </a:lnTo>
                  <a:cubicBezTo>
                    <a:pt x="6450" y="4938"/>
                    <a:pt x="6439" y="4950"/>
                    <a:pt x="6425" y="4950"/>
                  </a:cubicBezTo>
                  <a:cubicBezTo>
                    <a:pt x="6412" y="4950"/>
                    <a:pt x="6400" y="4938"/>
                    <a:pt x="6400" y="4925"/>
                  </a:cubicBezTo>
                  <a:close/>
                  <a:moveTo>
                    <a:pt x="6400" y="4825"/>
                  </a:moveTo>
                  <a:lnTo>
                    <a:pt x="6400" y="4825"/>
                  </a:lnTo>
                  <a:cubicBezTo>
                    <a:pt x="6400" y="4811"/>
                    <a:pt x="6412" y="4800"/>
                    <a:pt x="6425" y="4800"/>
                  </a:cubicBezTo>
                  <a:cubicBezTo>
                    <a:pt x="6439" y="4800"/>
                    <a:pt x="6450" y="4811"/>
                    <a:pt x="6450" y="4825"/>
                  </a:cubicBezTo>
                  <a:lnTo>
                    <a:pt x="6450" y="4825"/>
                  </a:lnTo>
                  <a:cubicBezTo>
                    <a:pt x="6450" y="4838"/>
                    <a:pt x="6439" y="4850"/>
                    <a:pt x="6425" y="4850"/>
                  </a:cubicBezTo>
                  <a:cubicBezTo>
                    <a:pt x="6412" y="4850"/>
                    <a:pt x="6400" y="4838"/>
                    <a:pt x="6400" y="4825"/>
                  </a:cubicBezTo>
                  <a:close/>
                  <a:moveTo>
                    <a:pt x="6400" y="4725"/>
                  </a:moveTo>
                  <a:lnTo>
                    <a:pt x="6400" y="4725"/>
                  </a:lnTo>
                  <a:cubicBezTo>
                    <a:pt x="6400" y="4711"/>
                    <a:pt x="6412" y="4700"/>
                    <a:pt x="6425" y="4700"/>
                  </a:cubicBezTo>
                  <a:cubicBezTo>
                    <a:pt x="6439" y="4700"/>
                    <a:pt x="6450" y="4711"/>
                    <a:pt x="6450" y="4725"/>
                  </a:cubicBezTo>
                  <a:lnTo>
                    <a:pt x="6450" y="4725"/>
                  </a:lnTo>
                  <a:cubicBezTo>
                    <a:pt x="6450" y="4738"/>
                    <a:pt x="6439" y="4750"/>
                    <a:pt x="6425" y="4750"/>
                  </a:cubicBezTo>
                  <a:cubicBezTo>
                    <a:pt x="6412" y="4750"/>
                    <a:pt x="6400" y="4738"/>
                    <a:pt x="6400" y="4725"/>
                  </a:cubicBezTo>
                  <a:close/>
                  <a:moveTo>
                    <a:pt x="6400" y="4625"/>
                  </a:moveTo>
                  <a:lnTo>
                    <a:pt x="6400" y="4624"/>
                  </a:lnTo>
                  <a:cubicBezTo>
                    <a:pt x="6400" y="4611"/>
                    <a:pt x="6412" y="4599"/>
                    <a:pt x="6425" y="4599"/>
                  </a:cubicBezTo>
                  <a:cubicBezTo>
                    <a:pt x="6439" y="4599"/>
                    <a:pt x="6450" y="4611"/>
                    <a:pt x="6450" y="4624"/>
                  </a:cubicBezTo>
                  <a:lnTo>
                    <a:pt x="6450" y="4625"/>
                  </a:lnTo>
                  <a:cubicBezTo>
                    <a:pt x="6450" y="4638"/>
                    <a:pt x="6439" y="4650"/>
                    <a:pt x="6425" y="4650"/>
                  </a:cubicBezTo>
                  <a:cubicBezTo>
                    <a:pt x="6412" y="4650"/>
                    <a:pt x="6400" y="4638"/>
                    <a:pt x="6400" y="4625"/>
                  </a:cubicBezTo>
                  <a:close/>
                  <a:moveTo>
                    <a:pt x="6400" y="4524"/>
                  </a:moveTo>
                  <a:lnTo>
                    <a:pt x="6400" y="4524"/>
                  </a:lnTo>
                  <a:cubicBezTo>
                    <a:pt x="6400" y="4511"/>
                    <a:pt x="6412" y="4499"/>
                    <a:pt x="6425" y="4499"/>
                  </a:cubicBezTo>
                  <a:cubicBezTo>
                    <a:pt x="6439" y="4499"/>
                    <a:pt x="6450" y="4511"/>
                    <a:pt x="6450" y="4524"/>
                  </a:cubicBezTo>
                  <a:lnTo>
                    <a:pt x="6450" y="4524"/>
                  </a:lnTo>
                  <a:cubicBezTo>
                    <a:pt x="6450" y="4538"/>
                    <a:pt x="6439" y="4549"/>
                    <a:pt x="6425" y="4549"/>
                  </a:cubicBezTo>
                  <a:cubicBezTo>
                    <a:pt x="6412" y="4549"/>
                    <a:pt x="6400" y="4538"/>
                    <a:pt x="6400" y="4524"/>
                  </a:cubicBezTo>
                  <a:close/>
                  <a:moveTo>
                    <a:pt x="6400" y="4424"/>
                  </a:moveTo>
                  <a:lnTo>
                    <a:pt x="6400" y="4424"/>
                  </a:lnTo>
                  <a:cubicBezTo>
                    <a:pt x="6400" y="4411"/>
                    <a:pt x="6412" y="4399"/>
                    <a:pt x="6425" y="4399"/>
                  </a:cubicBezTo>
                  <a:cubicBezTo>
                    <a:pt x="6439" y="4399"/>
                    <a:pt x="6450" y="4411"/>
                    <a:pt x="6450" y="4424"/>
                  </a:cubicBezTo>
                  <a:lnTo>
                    <a:pt x="6450" y="4424"/>
                  </a:lnTo>
                  <a:cubicBezTo>
                    <a:pt x="6450" y="4438"/>
                    <a:pt x="6439" y="4449"/>
                    <a:pt x="6425" y="4449"/>
                  </a:cubicBezTo>
                  <a:cubicBezTo>
                    <a:pt x="6412" y="4449"/>
                    <a:pt x="6400" y="4438"/>
                    <a:pt x="6400" y="4424"/>
                  </a:cubicBezTo>
                  <a:close/>
                  <a:moveTo>
                    <a:pt x="6400" y="4324"/>
                  </a:moveTo>
                  <a:lnTo>
                    <a:pt x="6400" y="4324"/>
                  </a:lnTo>
                  <a:cubicBezTo>
                    <a:pt x="6400" y="4311"/>
                    <a:pt x="6412" y="4299"/>
                    <a:pt x="6425" y="4299"/>
                  </a:cubicBezTo>
                  <a:cubicBezTo>
                    <a:pt x="6439" y="4299"/>
                    <a:pt x="6450" y="4311"/>
                    <a:pt x="6450" y="4324"/>
                  </a:cubicBezTo>
                  <a:lnTo>
                    <a:pt x="6450" y="4324"/>
                  </a:lnTo>
                  <a:cubicBezTo>
                    <a:pt x="6450" y="4338"/>
                    <a:pt x="6439" y="4349"/>
                    <a:pt x="6425" y="4349"/>
                  </a:cubicBezTo>
                  <a:cubicBezTo>
                    <a:pt x="6412" y="4349"/>
                    <a:pt x="6400" y="4338"/>
                    <a:pt x="6400" y="4324"/>
                  </a:cubicBezTo>
                  <a:close/>
                  <a:moveTo>
                    <a:pt x="6400" y="4224"/>
                  </a:moveTo>
                  <a:lnTo>
                    <a:pt x="6400" y="4224"/>
                  </a:lnTo>
                  <a:cubicBezTo>
                    <a:pt x="6400" y="4210"/>
                    <a:pt x="6412" y="4199"/>
                    <a:pt x="6425" y="4199"/>
                  </a:cubicBezTo>
                  <a:cubicBezTo>
                    <a:pt x="6439" y="4199"/>
                    <a:pt x="6450" y="4210"/>
                    <a:pt x="6450" y="4224"/>
                  </a:cubicBezTo>
                  <a:lnTo>
                    <a:pt x="6450" y="4224"/>
                  </a:lnTo>
                  <a:cubicBezTo>
                    <a:pt x="6450" y="4238"/>
                    <a:pt x="6439" y="4249"/>
                    <a:pt x="6425" y="4249"/>
                  </a:cubicBezTo>
                  <a:cubicBezTo>
                    <a:pt x="6412" y="4249"/>
                    <a:pt x="6400" y="4238"/>
                    <a:pt x="6400" y="4224"/>
                  </a:cubicBezTo>
                  <a:close/>
                  <a:moveTo>
                    <a:pt x="6400" y="4124"/>
                  </a:moveTo>
                  <a:lnTo>
                    <a:pt x="6400" y="4124"/>
                  </a:lnTo>
                  <a:cubicBezTo>
                    <a:pt x="6400" y="4110"/>
                    <a:pt x="6412" y="4099"/>
                    <a:pt x="6425" y="4099"/>
                  </a:cubicBezTo>
                  <a:cubicBezTo>
                    <a:pt x="6439" y="4099"/>
                    <a:pt x="6450" y="4110"/>
                    <a:pt x="6450" y="4124"/>
                  </a:cubicBezTo>
                  <a:lnTo>
                    <a:pt x="6450" y="4124"/>
                  </a:lnTo>
                  <a:cubicBezTo>
                    <a:pt x="6450" y="4138"/>
                    <a:pt x="6439" y="4149"/>
                    <a:pt x="6425" y="4149"/>
                  </a:cubicBezTo>
                  <a:cubicBezTo>
                    <a:pt x="6412" y="4149"/>
                    <a:pt x="6400" y="4138"/>
                    <a:pt x="6400" y="4124"/>
                  </a:cubicBezTo>
                  <a:close/>
                  <a:moveTo>
                    <a:pt x="6400" y="4024"/>
                  </a:moveTo>
                  <a:lnTo>
                    <a:pt x="6400" y="4024"/>
                  </a:lnTo>
                  <a:cubicBezTo>
                    <a:pt x="6400" y="4010"/>
                    <a:pt x="6412" y="3999"/>
                    <a:pt x="6425" y="3999"/>
                  </a:cubicBezTo>
                  <a:cubicBezTo>
                    <a:pt x="6439" y="3999"/>
                    <a:pt x="6450" y="4010"/>
                    <a:pt x="6450" y="4024"/>
                  </a:cubicBezTo>
                  <a:lnTo>
                    <a:pt x="6450" y="4024"/>
                  </a:lnTo>
                  <a:cubicBezTo>
                    <a:pt x="6450" y="4038"/>
                    <a:pt x="6439" y="4049"/>
                    <a:pt x="6425" y="4049"/>
                  </a:cubicBezTo>
                  <a:cubicBezTo>
                    <a:pt x="6412" y="4049"/>
                    <a:pt x="6400" y="4038"/>
                    <a:pt x="6400" y="4024"/>
                  </a:cubicBezTo>
                  <a:close/>
                  <a:moveTo>
                    <a:pt x="6400" y="3924"/>
                  </a:moveTo>
                  <a:lnTo>
                    <a:pt x="6400" y="3924"/>
                  </a:lnTo>
                  <a:cubicBezTo>
                    <a:pt x="6400" y="3910"/>
                    <a:pt x="6412" y="3899"/>
                    <a:pt x="6425" y="3899"/>
                  </a:cubicBezTo>
                  <a:cubicBezTo>
                    <a:pt x="6439" y="3899"/>
                    <a:pt x="6450" y="3910"/>
                    <a:pt x="6450" y="3924"/>
                  </a:cubicBezTo>
                  <a:lnTo>
                    <a:pt x="6450" y="3924"/>
                  </a:lnTo>
                  <a:cubicBezTo>
                    <a:pt x="6450" y="3938"/>
                    <a:pt x="6439" y="3949"/>
                    <a:pt x="6425" y="3949"/>
                  </a:cubicBezTo>
                  <a:cubicBezTo>
                    <a:pt x="6412" y="3949"/>
                    <a:pt x="6400" y="3938"/>
                    <a:pt x="6400" y="3924"/>
                  </a:cubicBezTo>
                  <a:close/>
                  <a:moveTo>
                    <a:pt x="6400" y="3824"/>
                  </a:moveTo>
                  <a:lnTo>
                    <a:pt x="6400" y="3824"/>
                  </a:lnTo>
                  <a:cubicBezTo>
                    <a:pt x="6400" y="3810"/>
                    <a:pt x="6412" y="3799"/>
                    <a:pt x="6425" y="3799"/>
                  </a:cubicBezTo>
                  <a:cubicBezTo>
                    <a:pt x="6439" y="3799"/>
                    <a:pt x="6450" y="3810"/>
                    <a:pt x="6450" y="3824"/>
                  </a:cubicBezTo>
                  <a:lnTo>
                    <a:pt x="6450" y="3824"/>
                  </a:lnTo>
                  <a:cubicBezTo>
                    <a:pt x="6450" y="3838"/>
                    <a:pt x="6439" y="3849"/>
                    <a:pt x="6425" y="3849"/>
                  </a:cubicBezTo>
                  <a:cubicBezTo>
                    <a:pt x="6412" y="3849"/>
                    <a:pt x="6400" y="3838"/>
                    <a:pt x="6400" y="3824"/>
                  </a:cubicBezTo>
                  <a:close/>
                  <a:moveTo>
                    <a:pt x="6400" y="3724"/>
                  </a:moveTo>
                  <a:lnTo>
                    <a:pt x="6400" y="3724"/>
                  </a:lnTo>
                  <a:cubicBezTo>
                    <a:pt x="6400" y="3710"/>
                    <a:pt x="6412" y="3699"/>
                    <a:pt x="6425" y="3699"/>
                  </a:cubicBezTo>
                  <a:cubicBezTo>
                    <a:pt x="6439" y="3699"/>
                    <a:pt x="6450" y="3710"/>
                    <a:pt x="6450" y="3724"/>
                  </a:cubicBezTo>
                  <a:lnTo>
                    <a:pt x="6450" y="3724"/>
                  </a:lnTo>
                  <a:cubicBezTo>
                    <a:pt x="6450" y="3738"/>
                    <a:pt x="6439" y="3749"/>
                    <a:pt x="6425" y="3749"/>
                  </a:cubicBezTo>
                  <a:cubicBezTo>
                    <a:pt x="6412" y="3749"/>
                    <a:pt x="6400" y="3738"/>
                    <a:pt x="6400" y="3724"/>
                  </a:cubicBezTo>
                  <a:close/>
                  <a:moveTo>
                    <a:pt x="6400" y="3624"/>
                  </a:moveTo>
                  <a:lnTo>
                    <a:pt x="6400" y="3624"/>
                  </a:lnTo>
                  <a:cubicBezTo>
                    <a:pt x="6400" y="3610"/>
                    <a:pt x="6412" y="3599"/>
                    <a:pt x="6425" y="3599"/>
                  </a:cubicBezTo>
                  <a:cubicBezTo>
                    <a:pt x="6439" y="3599"/>
                    <a:pt x="6450" y="3610"/>
                    <a:pt x="6450" y="3624"/>
                  </a:cubicBezTo>
                  <a:lnTo>
                    <a:pt x="6450" y="3624"/>
                  </a:lnTo>
                  <a:cubicBezTo>
                    <a:pt x="6450" y="3638"/>
                    <a:pt x="6439" y="3649"/>
                    <a:pt x="6425" y="3649"/>
                  </a:cubicBezTo>
                  <a:cubicBezTo>
                    <a:pt x="6412" y="3649"/>
                    <a:pt x="6400" y="3638"/>
                    <a:pt x="6400" y="3624"/>
                  </a:cubicBezTo>
                  <a:close/>
                  <a:moveTo>
                    <a:pt x="6400" y="3524"/>
                  </a:moveTo>
                  <a:lnTo>
                    <a:pt x="6400" y="3524"/>
                  </a:lnTo>
                  <a:cubicBezTo>
                    <a:pt x="6400" y="3510"/>
                    <a:pt x="6412" y="3499"/>
                    <a:pt x="6425" y="3499"/>
                  </a:cubicBezTo>
                  <a:cubicBezTo>
                    <a:pt x="6439" y="3499"/>
                    <a:pt x="6450" y="3510"/>
                    <a:pt x="6450" y="3524"/>
                  </a:cubicBezTo>
                  <a:lnTo>
                    <a:pt x="6450" y="3524"/>
                  </a:lnTo>
                  <a:cubicBezTo>
                    <a:pt x="6450" y="3538"/>
                    <a:pt x="6439" y="3549"/>
                    <a:pt x="6425" y="3549"/>
                  </a:cubicBezTo>
                  <a:cubicBezTo>
                    <a:pt x="6412" y="3549"/>
                    <a:pt x="6400" y="3538"/>
                    <a:pt x="6400" y="3524"/>
                  </a:cubicBezTo>
                  <a:close/>
                  <a:moveTo>
                    <a:pt x="6400" y="3424"/>
                  </a:moveTo>
                  <a:lnTo>
                    <a:pt x="6400" y="3424"/>
                  </a:lnTo>
                  <a:cubicBezTo>
                    <a:pt x="6400" y="3410"/>
                    <a:pt x="6412" y="3399"/>
                    <a:pt x="6425" y="3399"/>
                  </a:cubicBezTo>
                  <a:cubicBezTo>
                    <a:pt x="6439" y="3399"/>
                    <a:pt x="6450" y="3410"/>
                    <a:pt x="6450" y="3424"/>
                  </a:cubicBezTo>
                  <a:lnTo>
                    <a:pt x="6450" y="3424"/>
                  </a:lnTo>
                  <a:cubicBezTo>
                    <a:pt x="6450" y="3438"/>
                    <a:pt x="6439" y="3449"/>
                    <a:pt x="6425" y="3449"/>
                  </a:cubicBezTo>
                  <a:cubicBezTo>
                    <a:pt x="6412" y="3449"/>
                    <a:pt x="6400" y="3438"/>
                    <a:pt x="6400" y="3424"/>
                  </a:cubicBezTo>
                  <a:close/>
                  <a:moveTo>
                    <a:pt x="6400" y="3324"/>
                  </a:moveTo>
                  <a:lnTo>
                    <a:pt x="6400" y="3324"/>
                  </a:lnTo>
                  <a:cubicBezTo>
                    <a:pt x="6400" y="3310"/>
                    <a:pt x="6412" y="3299"/>
                    <a:pt x="6425" y="3299"/>
                  </a:cubicBezTo>
                  <a:cubicBezTo>
                    <a:pt x="6439" y="3299"/>
                    <a:pt x="6450" y="3310"/>
                    <a:pt x="6450" y="3324"/>
                  </a:cubicBezTo>
                  <a:lnTo>
                    <a:pt x="6450" y="3324"/>
                  </a:lnTo>
                  <a:cubicBezTo>
                    <a:pt x="6450" y="3338"/>
                    <a:pt x="6439" y="3349"/>
                    <a:pt x="6425" y="3349"/>
                  </a:cubicBezTo>
                  <a:cubicBezTo>
                    <a:pt x="6412" y="3349"/>
                    <a:pt x="6400" y="3338"/>
                    <a:pt x="6400" y="3324"/>
                  </a:cubicBezTo>
                  <a:close/>
                  <a:moveTo>
                    <a:pt x="6400" y="3224"/>
                  </a:moveTo>
                  <a:lnTo>
                    <a:pt x="6400" y="3224"/>
                  </a:lnTo>
                  <a:cubicBezTo>
                    <a:pt x="6400" y="3210"/>
                    <a:pt x="6412" y="3199"/>
                    <a:pt x="6425" y="3199"/>
                  </a:cubicBezTo>
                  <a:cubicBezTo>
                    <a:pt x="6439" y="3199"/>
                    <a:pt x="6450" y="3210"/>
                    <a:pt x="6450" y="3224"/>
                  </a:cubicBezTo>
                  <a:lnTo>
                    <a:pt x="6450" y="3224"/>
                  </a:lnTo>
                  <a:cubicBezTo>
                    <a:pt x="6450" y="3238"/>
                    <a:pt x="6439" y="3249"/>
                    <a:pt x="6425" y="3249"/>
                  </a:cubicBezTo>
                  <a:cubicBezTo>
                    <a:pt x="6412" y="3249"/>
                    <a:pt x="6400" y="3238"/>
                    <a:pt x="6400" y="3224"/>
                  </a:cubicBezTo>
                  <a:close/>
                  <a:moveTo>
                    <a:pt x="6400" y="3124"/>
                  </a:moveTo>
                  <a:lnTo>
                    <a:pt x="6400" y="3124"/>
                  </a:lnTo>
                  <a:cubicBezTo>
                    <a:pt x="6400" y="3110"/>
                    <a:pt x="6412" y="3099"/>
                    <a:pt x="6425" y="3099"/>
                  </a:cubicBezTo>
                  <a:cubicBezTo>
                    <a:pt x="6439" y="3099"/>
                    <a:pt x="6450" y="3110"/>
                    <a:pt x="6450" y="3124"/>
                  </a:cubicBezTo>
                  <a:lnTo>
                    <a:pt x="6450" y="3124"/>
                  </a:lnTo>
                  <a:cubicBezTo>
                    <a:pt x="6450" y="3138"/>
                    <a:pt x="6439" y="3149"/>
                    <a:pt x="6425" y="3149"/>
                  </a:cubicBezTo>
                  <a:cubicBezTo>
                    <a:pt x="6412" y="3149"/>
                    <a:pt x="6400" y="3138"/>
                    <a:pt x="6400" y="3124"/>
                  </a:cubicBezTo>
                  <a:close/>
                  <a:moveTo>
                    <a:pt x="6400" y="3024"/>
                  </a:moveTo>
                  <a:lnTo>
                    <a:pt x="6400" y="3024"/>
                  </a:lnTo>
                  <a:cubicBezTo>
                    <a:pt x="6400" y="3010"/>
                    <a:pt x="6412" y="2999"/>
                    <a:pt x="6425" y="2999"/>
                  </a:cubicBezTo>
                  <a:cubicBezTo>
                    <a:pt x="6439" y="2999"/>
                    <a:pt x="6450" y="3010"/>
                    <a:pt x="6450" y="3024"/>
                  </a:cubicBezTo>
                  <a:lnTo>
                    <a:pt x="6450" y="3024"/>
                  </a:lnTo>
                  <a:cubicBezTo>
                    <a:pt x="6450" y="3038"/>
                    <a:pt x="6439" y="3049"/>
                    <a:pt x="6425" y="3049"/>
                  </a:cubicBezTo>
                  <a:cubicBezTo>
                    <a:pt x="6412" y="3049"/>
                    <a:pt x="6400" y="3038"/>
                    <a:pt x="6400" y="3024"/>
                  </a:cubicBezTo>
                  <a:close/>
                  <a:moveTo>
                    <a:pt x="6400" y="2924"/>
                  </a:moveTo>
                  <a:lnTo>
                    <a:pt x="6400" y="2924"/>
                  </a:lnTo>
                  <a:cubicBezTo>
                    <a:pt x="6400" y="2910"/>
                    <a:pt x="6412" y="2899"/>
                    <a:pt x="6425" y="2899"/>
                  </a:cubicBezTo>
                  <a:cubicBezTo>
                    <a:pt x="6439" y="2899"/>
                    <a:pt x="6450" y="2910"/>
                    <a:pt x="6450" y="2924"/>
                  </a:cubicBezTo>
                  <a:lnTo>
                    <a:pt x="6450" y="2924"/>
                  </a:lnTo>
                  <a:cubicBezTo>
                    <a:pt x="6450" y="2937"/>
                    <a:pt x="6439" y="2949"/>
                    <a:pt x="6425" y="2949"/>
                  </a:cubicBezTo>
                  <a:cubicBezTo>
                    <a:pt x="6412" y="2949"/>
                    <a:pt x="6400" y="2937"/>
                    <a:pt x="6400" y="2924"/>
                  </a:cubicBezTo>
                  <a:close/>
                  <a:moveTo>
                    <a:pt x="6400" y="2824"/>
                  </a:moveTo>
                  <a:lnTo>
                    <a:pt x="6400" y="2824"/>
                  </a:lnTo>
                  <a:cubicBezTo>
                    <a:pt x="6400" y="2810"/>
                    <a:pt x="6412" y="2799"/>
                    <a:pt x="6425" y="2799"/>
                  </a:cubicBezTo>
                  <a:cubicBezTo>
                    <a:pt x="6439" y="2799"/>
                    <a:pt x="6450" y="2810"/>
                    <a:pt x="6450" y="2824"/>
                  </a:cubicBezTo>
                  <a:lnTo>
                    <a:pt x="6450" y="2824"/>
                  </a:lnTo>
                  <a:cubicBezTo>
                    <a:pt x="6450" y="2837"/>
                    <a:pt x="6439" y="2849"/>
                    <a:pt x="6425" y="2849"/>
                  </a:cubicBezTo>
                  <a:cubicBezTo>
                    <a:pt x="6412" y="2849"/>
                    <a:pt x="6400" y="2837"/>
                    <a:pt x="6400" y="2824"/>
                  </a:cubicBezTo>
                  <a:close/>
                  <a:moveTo>
                    <a:pt x="6400" y="2724"/>
                  </a:moveTo>
                  <a:lnTo>
                    <a:pt x="6400" y="2724"/>
                  </a:lnTo>
                  <a:cubicBezTo>
                    <a:pt x="6400" y="2710"/>
                    <a:pt x="6412" y="2699"/>
                    <a:pt x="6425" y="2699"/>
                  </a:cubicBezTo>
                  <a:cubicBezTo>
                    <a:pt x="6439" y="2699"/>
                    <a:pt x="6450" y="2710"/>
                    <a:pt x="6450" y="2724"/>
                  </a:cubicBezTo>
                  <a:lnTo>
                    <a:pt x="6450" y="2724"/>
                  </a:lnTo>
                  <a:cubicBezTo>
                    <a:pt x="6450" y="2737"/>
                    <a:pt x="6439" y="2749"/>
                    <a:pt x="6425" y="2749"/>
                  </a:cubicBezTo>
                  <a:cubicBezTo>
                    <a:pt x="6412" y="2749"/>
                    <a:pt x="6400" y="2737"/>
                    <a:pt x="6400" y="2724"/>
                  </a:cubicBezTo>
                  <a:close/>
                  <a:moveTo>
                    <a:pt x="6400" y="2624"/>
                  </a:moveTo>
                  <a:lnTo>
                    <a:pt x="6400" y="2623"/>
                  </a:lnTo>
                  <a:cubicBezTo>
                    <a:pt x="6400" y="2610"/>
                    <a:pt x="6412" y="2598"/>
                    <a:pt x="6425" y="2598"/>
                  </a:cubicBezTo>
                  <a:cubicBezTo>
                    <a:pt x="6439" y="2598"/>
                    <a:pt x="6450" y="2610"/>
                    <a:pt x="6450" y="2623"/>
                  </a:cubicBezTo>
                  <a:lnTo>
                    <a:pt x="6450" y="2624"/>
                  </a:lnTo>
                  <a:cubicBezTo>
                    <a:pt x="6450" y="2637"/>
                    <a:pt x="6439" y="2649"/>
                    <a:pt x="6425" y="2649"/>
                  </a:cubicBezTo>
                  <a:cubicBezTo>
                    <a:pt x="6412" y="2649"/>
                    <a:pt x="6400" y="2637"/>
                    <a:pt x="6400" y="2624"/>
                  </a:cubicBezTo>
                  <a:close/>
                  <a:moveTo>
                    <a:pt x="6400" y="2523"/>
                  </a:moveTo>
                  <a:lnTo>
                    <a:pt x="6400" y="2523"/>
                  </a:lnTo>
                  <a:cubicBezTo>
                    <a:pt x="6400" y="2510"/>
                    <a:pt x="6412" y="2498"/>
                    <a:pt x="6425" y="2498"/>
                  </a:cubicBezTo>
                  <a:cubicBezTo>
                    <a:pt x="6439" y="2498"/>
                    <a:pt x="6450" y="2510"/>
                    <a:pt x="6450" y="2523"/>
                  </a:cubicBezTo>
                  <a:lnTo>
                    <a:pt x="6450" y="2523"/>
                  </a:lnTo>
                  <a:cubicBezTo>
                    <a:pt x="6450" y="2537"/>
                    <a:pt x="6439" y="2548"/>
                    <a:pt x="6425" y="2548"/>
                  </a:cubicBezTo>
                  <a:cubicBezTo>
                    <a:pt x="6412" y="2548"/>
                    <a:pt x="6400" y="2537"/>
                    <a:pt x="6400" y="2523"/>
                  </a:cubicBezTo>
                  <a:close/>
                  <a:moveTo>
                    <a:pt x="6400" y="2423"/>
                  </a:moveTo>
                  <a:lnTo>
                    <a:pt x="6400" y="2423"/>
                  </a:lnTo>
                  <a:cubicBezTo>
                    <a:pt x="6400" y="2410"/>
                    <a:pt x="6412" y="2398"/>
                    <a:pt x="6425" y="2398"/>
                  </a:cubicBezTo>
                  <a:cubicBezTo>
                    <a:pt x="6439" y="2398"/>
                    <a:pt x="6450" y="2410"/>
                    <a:pt x="6450" y="2423"/>
                  </a:cubicBezTo>
                  <a:lnTo>
                    <a:pt x="6450" y="2423"/>
                  </a:lnTo>
                  <a:cubicBezTo>
                    <a:pt x="6450" y="2437"/>
                    <a:pt x="6439" y="2448"/>
                    <a:pt x="6425" y="2448"/>
                  </a:cubicBezTo>
                  <a:cubicBezTo>
                    <a:pt x="6412" y="2448"/>
                    <a:pt x="6400" y="2437"/>
                    <a:pt x="6400" y="2423"/>
                  </a:cubicBezTo>
                  <a:close/>
                  <a:moveTo>
                    <a:pt x="6400" y="2323"/>
                  </a:moveTo>
                  <a:lnTo>
                    <a:pt x="6400" y="2323"/>
                  </a:lnTo>
                  <a:cubicBezTo>
                    <a:pt x="6400" y="2310"/>
                    <a:pt x="6412" y="2298"/>
                    <a:pt x="6425" y="2298"/>
                  </a:cubicBezTo>
                  <a:cubicBezTo>
                    <a:pt x="6439" y="2298"/>
                    <a:pt x="6450" y="2310"/>
                    <a:pt x="6450" y="2323"/>
                  </a:cubicBezTo>
                  <a:lnTo>
                    <a:pt x="6450" y="2323"/>
                  </a:lnTo>
                  <a:cubicBezTo>
                    <a:pt x="6450" y="2337"/>
                    <a:pt x="6439" y="2348"/>
                    <a:pt x="6425" y="2348"/>
                  </a:cubicBezTo>
                  <a:cubicBezTo>
                    <a:pt x="6412" y="2348"/>
                    <a:pt x="6400" y="2337"/>
                    <a:pt x="6400" y="2323"/>
                  </a:cubicBezTo>
                  <a:close/>
                  <a:moveTo>
                    <a:pt x="6400" y="2223"/>
                  </a:moveTo>
                  <a:lnTo>
                    <a:pt x="6400" y="2223"/>
                  </a:lnTo>
                  <a:cubicBezTo>
                    <a:pt x="6400" y="2209"/>
                    <a:pt x="6412" y="2198"/>
                    <a:pt x="6425" y="2198"/>
                  </a:cubicBezTo>
                  <a:cubicBezTo>
                    <a:pt x="6439" y="2198"/>
                    <a:pt x="6450" y="2209"/>
                    <a:pt x="6450" y="2223"/>
                  </a:cubicBezTo>
                  <a:lnTo>
                    <a:pt x="6450" y="2223"/>
                  </a:lnTo>
                  <a:cubicBezTo>
                    <a:pt x="6450" y="2237"/>
                    <a:pt x="6439" y="2248"/>
                    <a:pt x="6425" y="2248"/>
                  </a:cubicBezTo>
                  <a:cubicBezTo>
                    <a:pt x="6412" y="2248"/>
                    <a:pt x="6400" y="2237"/>
                    <a:pt x="6400" y="2223"/>
                  </a:cubicBezTo>
                  <a:close/>
                  <a:moveTo>
                    <a:pt x="6400" y="2123"/>
                  </a:moveTo>
                  <a:lnTo>
                    <a:pt x="6400" y="2123"/>
                  </a:lnTo>
                  <a:cubicBezTo>
                    <a:pt x="6400" y="2109"/>
                    <a:pt x="6412" y="2098"/>
                    <a:pt x="6425" y="2098"/>
                  </a:cubicBezTo>
                  <a:cubicBezTo>
                    <a:pt x="6439" y="2098"/>
                    <a:pt x="6450" y="2109"/>
                    <a:pt x="6450" y="2123"/>
                  </a:cubicBezTo>
                  <a:lnTo>
                    <a:pt x="6450" y="2123"/>
                  </a:lnTo>
                  <a:cubicBezTo>
                    <a:pt x="6450" y="2137"/>
                    <a:pt x="6439" y="2148"/>
                    <a:pt x="6425" y="2148"/>
                  </a:cubicBezTo>
                  <a:cubicBezTo>
                    <a:pt x="6412" y="2148"/>
                    <a:pt x="6400" y="2137"/>
                    <a:pt x="6400" y="2123"/>
                  </a:cubicBezTo>
                  <a:close/>
                  <a:moveTo>
                    <a:pt x="6400" y="2023"/>
                  </a:moveTo>
                  <a:lnTo>
                    <a:pt x="6400" y="2023"/>
                  </a:lnTo>
                  <a:cubicBezTo>
                    <a:pt x="6400" y="2009"/>
                    <a:pt x="6412" y="1998"/>
                    <a:pt x="6425" y="1998"/>
                  </a:cubicBezTo>
                  <a:cubicBezTo>
                    <a:pt x="6439" y="1998"/>
                    <a:pt x="6450" y="2009"/>
                    <a:pt x="6450" y="2023"/>
                  </a:cubicBezTo>
                  <a:lnTo>
                    <a:pt x="6450" y="2023"/>
                  </a:lnTo>
                  <a:cubicBezTo>
                    <a:pt x="6450" y="2037"/>
                    <a:pt x="6439" y="2048"/>
                    <a:pt x="6425" y="2048"/>
                  </a:cubicBezTo>
                  <a:cubicBezTo>
                    <a:pt x="6412" y="2048"/>
                    <a:pt x="6400" y="2037"/>
                    <a:pt x="6400" y="2023"/>
                  </a:cubicBezTo>
                  <a:close/>
                  <a:moveTo>
                    <a:pt x="6400" y="1923"/>
                  </a:moveTo>
                  <a:lnTo>
                    <a:pt x="6400" y="1923"/>
                  </a:lnTo>
                  <a:cubicBezTo>
                    <a:pt x="6400" y="1909"/>
                    <a:pt x="6412" y="1898"/>
                    <a:pt x="6425" y="1898"/>
                  </a:cubicBezTo>
                  <a:cubicBezTo>
                    <a:pt x="6439" y="1898"/>
                    <a:pt x="6450" y="1909"/>
                    <a:pt x="6450" y="1923"/>
                  </a:cubicBezTo>
                  <a:lnTo>
                    <a:pt x="6450" y="1923"/>
                  </a:lnTo>
                  <a:cubicBezTo>
                    <a:pt x="6450" y="1937"/>
                    <a:pt x="6439" y="1948"/>
                    <a:pt x="6425" y="1948"/>
                  </a:cubicBezTo>
                  <a:cubicBezTo>
                    <a:pt x="6412" y="1948"/>
                    <a:pt x="6400" y="1937"/>
                    <a:pt x="6400" y="1923"/>
                  </a:cubicBezTo>
                  <a:close/>
                  <a:moveTo>
                    <a:pt x="6400" y="1823"/>
                  </a:moveTo>
                  <a:lnTo>
                    <a:pt x="6400" y="1823"/>
                  </a:lnTo>
                  <a:cubicBezTo>
                    <a:pt x="6400" y="1809"/>
                    <a:pt x="6412" y="1798"/>
                    <a:pt x="6425" y="1798"/>
                  </a:cubicBezTo>
                  <a:cubicBezTo>
                    <a:pt x="6439" y="1798"/>
                    <a:pt x="6450" y="1809"/>
                    <a:pt x="6450" y="1823"/>
                  </a:cubicBezTo>
                  <a:lnTo>
                    <a:pt x="6450" y="1823"/>
                  </a:lnTo>
                  <a:cubicBezTo>
                    <a:pt x="6450" y="1837"/>
                    <a:pt x="6439" y="1848"/>
                    <a:pt x="6425" y="1848"/>
                  </a:cubicBezTo>
                  <a:cubicBezTo>
                    <a:pt x="6412" y="1848"/>
                    <a:pt x="6400" y="1837"/>
                    <a:pt x="6400" y="1823"/>
                  </a:cubicBezTo>
                  <a:close/>
                  <a:moveTo>
                    <a:pt x="6400" y="1723"/>
                  </a:moveTo>
                  <a:lnTo>
                    <a:pt x="6400" y="1723"/>
                  </a:lnTo>
                  <a:cubicBezTo>
                    <a:pt x="6400" y="1709"/>
                    <a:pt x="6412" y="1698"/>
                    <a:pt x="6425" y="1698"/>
                  </a:cubicBezTo>
                  <a:cubicBezTo>
                    <a:pt x="6439" y="1698"/>
                    <a:pt x="6450" y="1709"/>
                    <a:pt x="6450" y="1723"/>
                  </a:cubicBezTo>
                  <a:lnTo>
                    <a:pt x="6450" y="1723"/>
                  </a:lnTo>
                  <a:cubicBezTo>
                    <a:pt x="6450" y="1737"/>
                    <a:pt x="6439" y="1748"/>
                    <a:pt x="6425" y="1748"/>
                  </a:cubicBezTo>
                  <a:cubicBezTo>
                    <a:pt x="6412" y="1748"/>
                    <a:pt x="6400" y="1737"/>
                    <a:pt x="6400" y="1723"/>
                  </a:cubicBezTo>
                  <a:close/>
                  <a:moveTo>
                    <a:pt x="6400" y="1623"/>
                  </a:moveTo>
                  <a:lnTo>
                    <a:pt x="6400" y="1623"/>
                  </a:lnTo>
                  <a:cubicBezTo>
                    <a:pt x="6400" y="1609"/>
                    <a:pt x="6412" y="1598"/>
                    <a:pt x="6425" y="1598"/>
                  </a:cubicBezTo>
                  <a:cubicBezTo>
                    <a:pt x="6439" y="1598"/>
                    <a:pt x="6450" y="1609"/>
                    <a:pt x="6450" y="1623"/>
                  </a:cubicBezTo>
                  <a:lnTo>
                    <a:pt x="6450" y="1623"/>
                  </a:lnTo>
                  <a:cubicBezTo>
                    <a:pt x="6450" y="1637"/>
                    <a:pt x="6439" y="1648"/>
                    <a:pt x="6425" y="1648"/>
                  </a:cubicBezTo>
                  <a:cubicBezTo>
                    <a:pt x="6412" y="1648"/>
                    <a:pt x="6400" y="1637"/>
                    <a:pt x="6400" y="1623"/>
                  </a:cubicBezTo>
                  <a:close/>
                  <a:moveTo>
                    <a:pt x="6400" y="1523"/>
                  </a:moveTo>
                  <a:lnTo>
                    <a:pt x="6400" y="1523"/>
                  </a:lnTo>
                  <a:cubicBezTo>
                    <a:pt x="6400" y="1509"/>
                    <a:pt x="6412" y="1498"/>
                    <a:pt x="6425" y="1498"/>
                  </a:cubicBezTo>
                  <a:cubicBezTo>
                    <a:pt x="6439" y="1498"/>
                    <a:pt x="6450" y="1509"/>
                    <a:pt x="6450" y="1523"/>
                  </a:cubicBezTo>
                  <a:lnTo>
                    <a:pt x="6450" y="1523"/>
                  </a:lnTo>
                  <a:cubicBezTo>
                    <a:pt x="6450" y="1537"/>
                    <a:pt x="6439" y="1548"/>
                    <a:pt x="6425" y="1548"/>
                  </a:cubicBezTo>
                  <a:cubicBezTo>
                    <a:pt x="6412" y="1548"/>
                    <a:pt x="6400" y="1537"/>
                    <a:pt x="6400" y="1523"/>
                  </a:cubicBezTo>
                  <a:close/>
                  <a:moveTo>
                    <a:pt x="6400" y="1423"/>
                  </a:moveTo>
                  <a:lnTo>
                    <a:pt x="6400" y="1423"/>
                  </a:lnTo>
                  <a:cubicBezTo>
                    <a:pt x="6400" y="1409"/>
                    <a:pt x="6412" y="1398"/>
                    <a:pt x="6425" y="1398"/>
                  </a:cubicBezTo>
                  <a:cubicBezTo>
                    <a:pt x="6439" y="1398"/>
                    <a:pt x="6450" y="1409"/>
                    <a:pt x="6450" y="1423"/>
                  </a:cubicBezTo>
                  <a:lnTo>
                    <a:pt x="6450" y="1423"/>
                  </a:lnTo>
                  <a:cubicBezTo>
                    <a:pt x="6450" y="1437"/>
                    <a:pt x="6439" y="1448"/>
                    <a:pt x="6425" y="1448"/>
                  </a:cubicBezTo>
                  <a:cubicBezTo>
                    <a:pt x="6412" y="1448"/>
                    <a:pt x="6400" y="1437"/>
                    <a:pt x="6400" y="1423"/>
                  </a:cubicBezTo>
                  <a:close/>
                  <a:moveTo>
                    <a:pt x="6400" y="1323"/>
                  </a:moveTo>
                  <a:lnTo>
                    <a:pt x="6400" y="1323"/>
                  </a:lnTo>
                  <a:cubicBezTo>
                    <a:pt x="6400" y="1309"/>
                    <a:pt x="6412" y="1298"/>
                    <a:pt x="6425" y="1298"/>
                  </a:cubicBezTo>
                  <a:cubicBezTo>
                    <a:pt x="6439" y="1298"/>
                    <a:pt x="6450" y="1309"/>
                    <a:pt x="6450" y="1323"/>
                  </a:cubicBezTo>
                  <a:lnTo>
                    <a:pt x="6450" y="1323"/>
                  </a:lnTo>
                  <a:cubicBezTo>
                    <a:pt x="6450" y="1337"/>
                    <a:pt x="6439" y="1348"/>
                    <a:pt x="6425" y="1348"/>
                  </a:cubicBezTo>
                  <a:cubicBezTo>
                    <a:pt x="6412" y="1348"/>
                    <a:pt x="6400" y="1337"/>
                    <a:pt x="6400" y="1323"/>
                  </a:cubicBezTo>
                  <a:close/>
                  <a:moveTo>
                    <a:pt x="6400" y="1223"/>
                  </a:moveTo>
                  <a:lnTo>
                    <a:pt x="6400" y="1223"/>
                  </a:lnTo>
                  <a:cubicBezTo>
                    <a:pt x="6400" y="1209"/>
                    <a:pt x="6412" y="1198"/>
                    <a:pt x="6425" y="1198"/>
                  </a:cubicBezTo>
                  <a:cubicBezTo>
                    <a:pt x="6439" y="1198"/>
                    <a:pt x="6450" y="1209"/>
                    <a:pt x="6450" y="1223"/>
                  </a:cubicBezTo>
                  <a:lnTo>
                    <a:pt x="6450" y="1223"/>
                  </a:lnTo>
                  <a:cubicBezTo>
                    <a:pt x="6450" y="1237"/>
                    <a:pt x="6439" y="1248"/>
                    <a:pt x="6425" y="1248"/>
                  </a:cubicBezTo>
                  <a:cubicBezTo>
                    <a:pt x="6412" y="1248"/>
                    <a:pt x="6400" y="1237"/>
                    <a:pt x="6400" y="1223"/>
                  </a:cubicBezTo>
                  <a:close/>
                  <a:moveTo>
                    <a:pt x="6400" y="1123"/>
                  </a:moveTo>
                  <a:lnTo>
                    <a:pt x="6400" y="1123"/>
                  </a:lnTo>
                  <a:cubicBezTo>
                    <a:pt x="6400" y="1109"/>
                    <a:pt x="6412" y="1098"/>
                    <a:pt x="6425" y="1098"/>
                  </a:cubicBezTo>
                  <a:cubicBezTo>
                    <a:pt x="6439" y="1098"/>
                    <a:pt x="6450" y="1109"/>
                    <a:pt x="6450" y="1123"/>
                  </a:cubicBezTo>
                  <a:lnTo>
                    <a:pt x="6450" y="1123"/>
                  </a:lnTo>
                  <a:cubicBezTo>
                    <a:pt x="6450" y="1137"/>
                    <a:pt x="6439" y="1148"/>
                    <a:pt x="6425" y="1148"/>
                  </a:cubicBezTo>
                  <a:cubicBezTo>
                    <a:pt x="6412" y="1148"/>
                    <a:pt x="6400" y="1137"/>
                    <a:pt x="6400" y="1123"/>
                  </a:cubicBezTo>
                  <a:close/>
                  <a:moveTo>
                    <a:pt x="6397" y="1025"/>
                  </a:moveTo>
                  <a:lnTo>
                    <a:pt x="6397" y="1025"/>
                  </a:lnTo>
                  <a:cubicBezTo>
                    <a:pt x="6396" y="1011"/>
                    <a:pt x="6406" y="999"/>
                    <a:pt x="6420" y="998"/>
                  </a:cubicBezTo>
                  <a:cubicBezTo>
                    <a:pt x="6433" y="997"/>
                    <a:pt x="6445" y="1007"/>
                    <a:pt x="6447" y="1021"/>
                  </a:cubicBezTo>
                  <a:lnTo>
                    <a:pt x="6447" y="1021"/>
                  </a:lnTo>
                  <a:cubicBezTo>
                    <a:pt x="6448" y="1035"/>
                    <a:pt x="6437" y="1047"/>
                    <a:pt x="6424" y="1048"/>
                  </a:cubicBezTo>
                  <a:cubicBezTo>
                    <a:pt x="6410" y="1049"/>
                    <a:pt x="6398" y="1039"/>
                    <a:pt x="6397" y="1025"/>
                  </a:cubicBezTo>
                  <a:close/>
                  <a:moveTo>
                    <a:pt x="6386" y="927"/>
                  </a:moveTo>
                  <a:lnTo>
                    <a:pt x="6386" y="927"/>
                  </a:lnTo>
                  <a:cubicBezTo>
                    <a:pt x="6384" y="914"/>
                    <a:pt x="6393" y="901"/>
                    <a:pt x="6407" y="899"/>
                  </a:cubicBezTo>
                  <a:cubicBezTo>
                    <a:pt x="6420" y="897"/>
                    <a:pt x="6433" y="906"/>
                    <a:pt x="6435" y="920"/>
                  </a:cubicBezTo>
                  <a:lnTo>
                    <a:pt x="6435" y="920"/>
                  </a:lnTo>
                  <a:cubicBezTo>
                    <a:pt x="6437" y="933"/>
                    <a:pt x="6428" y="946"/>
                    <a:pt x="6414" y="948"/>
                  </a:cubicBezTo>
                  <a:cubicBezTo>
                    <a:pt x="6401" y="950"/>
                    <a:pt x="6388" y="941"/>
                    <a:pt x="6386" y="927"/>
                  </a:cubicBezTo>
                  <a:close/>
                  <a:moveTo>
                    <a:pt x="6366" y="832"/>
                  </a:moveTo>
                  <a:lnTo>
                    <a:pt x="6366" y="832"/>
                  </a:lnTo>
                  <a:cubicBezTo>
                    <a:pt x="6362" y="819"/>
                    <a:pt x="6370" y="805"/>
                    <a:pt x="6384" y="802"/>
                  </a:cubicBezTo>
                  <a:cubicBezTo>
                    <a:pt x="6397" y="798"/>
                    <a:pt x="6411" y="806"/>
                    <a:pt x="6414" y="819"/>
                  </a:cubicBezTo>
                  <a:lnTo>
                    <a:pt x="6414" y="819"/>
                  </a:lnTo>
                  <a:cubicBezTo>
                    <a:pt x="6418" y="832"/>
                    <a:pt x="6410" y="846"/>
                    <a:pt x="6397" y="850"/>
                  </a:cubicBezTo>
                  <a:cubicBezTo>
                    <a:pt x="6384" y="853"/>
                    <a:pt x="6370" y="846"/>
                    <a:pt x="6366" y="832"/>
                  </a:cubicBezTo>
                  <a:close/>
                  <a:moveTo>
                    <a:pt x="6337" y="739"/>
                  </a:moveTo>
                  <a:lnTo>
                    <a:pt x="6337" y="739"/>
                  </a:lnTo>
                  <a:cubicBezTo>
                    <a:pt x="6333" y="726"/>
                    <a:pt x="6339" y="711"/>
                    <a:pt x="6352" y="707"/>
                  </a:cubicBezTo>
                  <a:cubicBezTo>
                    <a:pt x="6365" y="702"/>
                    <a:pt x="6380" y="709"/>
                    <a:pt x="6384" y="722"/>
                  </a:cubicBezTo>
                  <a:lnTo>
                    <a:pt x="6384" y="722"/>
                  </a:lnTo>
                  <a:cubicBezTo>
                    <a:pt x="6389" y="735"/>
                    <a:pt x="6382" y="749"/>
                    <a:pt x="6369" y="754"/>
                  </a:cubicBezTo>
                  <a:cubicBezTo>
                    <a:pt x="6356" y="758"/>
                    <a:pt x="6342" y="752"/>
                    <a:pt x="6337" y="739"/>
                  </a:cubicBezTo>
                  <a:close/>
                  <a:moveTo>
                    <a:pt x="6300" y="649"/>
                  </a:moveTo>
                  <a:lnTo>
                    <a:pt x="6300" y="649"/>
                  </a:lnTo>
                  <a:cubicBezTo>
                    <a:pt x="6294" y="637"/>
                    <a:pt x="6299" y="622"/>
                    <a:pt x="6311" y="616"/>
                  </a:cubicBezTo>
                  <a:cubicBezTo>
                    <a:pt x="6323" y="609"/>
                    <a:pt x="6338" y="614"/>
                    <a:pt x="6345" y="627"/>
                  </a:cubicBezTo>
                  <a:lnTo>
                    <a:pt x="6345" y="627"/>
                  </a:lnTo>
                  <a:cubicBezTo>
                    <a:pt x="6351" y="639"/>
                    <a:pt x="6346" y="654"/>
                    <a:pt x="6334" y="660"/>
                  </a:cubicBezTo>
                  <a:cubicBezTo>
                    <a:pt x="6321" y="666"/>
                    <a:pt x="6306" y="662"/>
                    <a:pt x="6300" y="649"/>
                  </a:cubicBezTo>
                  <a:close/>
                  <a:moveTo>
                    <a:pt x="6254" y="563"/>
                  </a:moveTo>
                  <a:lnTo>
                    <a:pt x="6254" y="563"/>
                  </a:lnTo>
                  <a:cubicBezTo>
                    <a:pt x="6247" y="551"/>
                    <a:pt x="6250" y="536"/>
                    <a:pt x="6262" y="529"/>
                  </a:cubicBezTo>
                  <a:cubicBezTo>
                    <a:pt x="6274" y="521"/>
                    <a:pt x="6289" y="525"/>
                    <a:pt x="6297" y="536"/>
                  </a:cubicBezTo>
                  <a:lnTo>
                    <a:pt x="6297" y="536"/>
                  </a:lnTo>
                  <a:cubicBezTo>
                    <a:pt x="6304" y="548"/>
                    <a:pt x="6301" y="563"/>
                    <a:pt x="6289" y="571"/>
                  </a:cubicBezTo>
                  <a:cubicBezTo>
                    <a:pt x="6277" y="578"/>
                    <a:pt x="6262" y="575"/>
                    <a:pt x="6254" y="563"/>
                  </a:cubicBezTo>
                  <a:close/>
                  <a:moveTo>
                    <a:pt x="6201" y="481"/>
                  </a:moveTo>
                  <a:lnTo>
                    <a:pt x="6201" y="481"/>
                  </a:lnTo>
                  <a:cubicBezTo>
                    <a:pt x="6193" y="470"/>
                    <a:pt x="6195" y="454"/>
                    <a:pt x="6206" y="446"/>
                  </a:cubicBezTo>
                  <a:cubicBezTo>
                    <a:pt x="6217" y="438"/>
                    <a:pt x="6232" y="440"/>
                    <a:pt x="6241" y="451"/>
                  </a:cubicBezTo>
                  <a:lnTo>
                    <a:pt x="6241" y="451"/>
                  </a:lnTo>
                  <a:cubicBezTo>
                    <a:pt x="6249" y="462"/>
                    <a:pt x="6247" y="477"/>
                    <a:pt x="6236" y="486"/>
                  </a:cubicBezTo>
                  <a:cubicBezTo>
                    <a:pt x="6225" y="494"/>
                    <a:pt x="6209" y="492"/>
                    <a:pt x="6201" y="481"/>
                  </a:cubicBezTo>
                  <a:close/>
                  <a:moveTo>
                    <a:pt x="6141" y="405"/>
                  </a:moveTo>
                  <a:lnTo>
                    <a:pt x="6141" y="405"/>
                  </a:lnTo>
                  <a:cubicBezTo>
                    <a:pt x="6131" y="395"/>
                    <a:pt x="6132" y="379"/>
                    <a:pt x="6142" y="370"/>
                  </a:cubicBezTo>
                  <a:cubicBezTo>
                    <a:pt x="6152" y="360"/>
                    <a:pt x="6167" y="360"/>
                    <a:pt x="6177" y="370"/>
                  </a:cubicBezTo>
                  <a:lnTo>
                    <a:pt x="6177" y="371"/>
                  </a:lnTo>
                  <a:cubicBezTo>
                    <a:pt x="6186" y="381"/>
                    <a:pt x="6186" y="396"/>
                    <a:pt x="6176" y="406"/>
                  </a:cubicBezTo>
                  <a:cubicBezTo>
                    <a:pt x="6166" y="415"/>
                    <a:pt x="6150" y="415"/>
                    <a:pt x="6141" y="405"/>
                  </a:cubicBezTo>
                  <a:close/>
                  <a:moveTo>
                    <a:pt x="6072" y="335"/>
                  </a:moveTo>
                  <a:lnTo>
                    <a:pt x="6072" y="335"/>
                  </a:lnTo>
                  <a:cubicBezTo>
                    <a:pt x="6062" y="325"/>
                    <a:pt x="6061" y="309"/>
                    <a:pt x="6071" y="299"/>
                  </a:cubicBezTo>
                  <a:cubicBezTo>
                    <a:pt x="6080" y="289"/>
                    <a:pt x="6096" y="288"/>
                    <a:pt x="6106" y="298"/>
                  </a:cubicBezTo>
                  <a:lnTo>
                    <a:pt x="6106" y="298"/>
                  </a:lnTo>
                  <a:cubicBezTo>
                    <a:pt x="6116" y="307"/>
                    <a:pt x="6117" y="323"/>
                    <a:pt x="6107" y="333"/>
                  </a:cubicBezTo>
                  <a:cubicBezTo>
                    <a:pt x="6098" y="343"/>
                    <a:pt x="6082" y="344"/>
                    <a:pt x="6072" y="335"/>
                  </a:cubicBezTo>
                  <a:close/>
                  <a:moveTo>
                    <a:pt x="5998" y="271"/>
                  </a:moveTo>
                  <a:lnTo>
                    <a:pt x="5998" y="271"/>
                  </a:lnTo>
                  <a:cubicBezTo>
                    <a:pt x="5987" y="263"/>
                    <a:pt x="5985" y="247"/>
                    <a:pt x="5993" y="236"/>
                  </a:cubicBezTo>
                  <a:cubicBezTo>
                    <a:pt x="6001" y="225"/>
                    <a:pt x="6017" y="223"/>
                    <a:pt x="6028" y="231"/>
                  </a:cubicBezTo>
                  <a:lnTo>
                    <a:pt x="6028" y="231"/>
                  </a:lnTo>
                  <a:cubicBezTo>
                    <a:pt x="6039" y="239"/>
                    <a:pt x="6041" y="255"/>
                    <a:pt x="6033" y="266"/>
                  </a:cubicBezTo>
                  <a:cubicBezTo>
                    <a:pt x="6025" y="277"/>
                    <a:pt x="6009" y="279"/>
                    <a:pt x="5998" y="271"/>
                  </a:cubicBezTo>
                  <a:close/>
                  <a:moveTo>
                    <a:pt x="5919" y="214"/>
                  </a:moveTo>
                  <a:lnTo>
                    <a:pt x="5919" y="214"/>
                  </a:lnTo>
                  <a:cubicBezTo>
                    <a:pt x="5907" y="207"/>
                    <a:pt x="5903" y="192"/>
                    <a:pt x="5910" y="180"/>
                  </a:cubicBezTo>
                  <a:cubicBezTo>
                    <a:pt x="5918" y="168"/>
                    <a:pt x="5933" y="165"/>
                    <a:pt x="5945" y="172"/>
                  </a:cubicBezTo>
                  <a:lnTo>
                    <a:pt x="5945" y="172"/>
                  </a:lnTo>
                  <a:cubicBezTo>
                    <a:pt x="5957" y="179"/>
                    <a:pt x="5960" y="194"/>
                    <a:pt x="5953" y="206"/>
                  </a:cubicBezTo>
                  <a:cubicBezTo>
                    <a:pt x="5946" y="218"/>
                    <a:pt x="5930" y="222"/>
                    <a:pt x="5919" y="214"/>
                  </a:cubicBezTo>
                  <a:close/>
                  <a:moveTo>
                    <a:pt x="5834" y="166"/>
                  </a:moveTo>
                  <a:lnTo>
                    <a:pt x="5834" y="166"/>
                  </a:lnTo>
                  <a:cubicBezTo>
                    <a:pt x="5822" y="160"/>
                    <a:pt x="5816" y="145"/>
                    <a:pt x="5822" y="133"/>
                  </a:cubicBezTo>
                  <a:cubicBezTo>
                    <a:pt x="5828" y="120"/>
                    <a:pt x="5843" y="115"/>
                    <a:pt x="5856" y="121"/>
                  </a:cubicBezTo>
                  <a:lnTo>
                    <a:pt x="5856" y="121"/>
                  </a:lnTo>
                  <a:cubicBezTo>
                    <a:pt x="5868" y="127"/>
                    <a:pt x="5873" y="142"/>
                    <a:pt x="5867" y="154"/>
                  </a:cubicBezTo>
                  <a:cubicBezTo>
                    <a:pt x="5861" y="167"/>
                    <a:pt x="5847" y="172"/>
                    <a:pt x="5834" y="166"/>
                  </a:cubicBezTo>
                  <a:close/>
                  <a:moveTo>
                    <a:pt x="5745" y="125"/>
                  </a:moveTo>
                  <a:lnTo>
                    <a:pt x="5745" y="125"/>
                  </a:lnTo>
                  <a:cubicBezTo>
                    <a:pt x="5732" y="121"/>
                    <a:pt x="5726" y="106"/>
                    <a:pt x="5730" y="93"/>
                  </a:cubicBezTo>
                  <a:cubicBezTo>
                    <a:pt x="5735" y="80"/>
                    <a:pt x="5749" y="74"/>
                    <a:pt x="5762" y="78"/>
                  </a:cubicBezTo>
                  <a:lnTo>
                    <a:pt x="5762" y="78"/>
                  </a:lnTo>
                  <a:cubicBezTo>
                    <a:pt x="5775" y="83"/>
                    <a:pt x="5782" y="97"/>
                    <a:pt x="5777" y="110"/>
                  </a:cubicBezTo>
                  <a:cubicBezTo>
                    <a:pt x="5773" y="123"/>
                    <a:pt x="5758" y="130"/>
                    <a:pt x="5745" y="125"/>
                  </a:cubicBezTo>
                  <a:close/>
                  <a:moveTo>
                    <a:pt x="5653" y="93"/>
                  </a:moveTo>
                  <a:lnTo>
                    <a:pt x="5653" y="93"/>
                  </a:lnTo>
                  <a:cubicBezTo>
                    <a:pt x="5640" y="90"/>
                    <a:pt x="5632" y="76"/>
                    <a:pt x="5635" y="63"/>
                  </a:cubicBezTo>
                  <a:cubicBezTo>
                    <a:pt x="5639" y="49"/>
                    <a:pt x="5652" y="41"/>
                    <a:pt x="5666" y="45"/>
                  </a:cubicBezTo>
                  <a:lnTo>
                    <a:pt x="5666" y="45"/>
                  </a:lnTo>
                  <a:cubicBezTo>
                    <a:pt x="5679" y="48"/>
                    <a:pt x="5687" y="62"/>
                    <a:pt x="5684" y="75"/>
                  </a:cubicBezTo>
                  <a:cubicBezTo>
                    <a:pt x="5680" y="89"/>
                    <a:pt x="5667" y="97"/>
                    <a:pt x="5653" y="93"/>
                  </a:cubicBezTo>
                  <a:close/>
                  <a:moveTo>
                    <a:pt x="5559" y="70"/>
                  </a:moveTo>
                  <a:lnTo>
                    <a:pt x="5558" y="70"/>
                  </a:lnTo>
                  <a:cubicBezTo>
                    <a:pt x="5545" y="68"/>
                    <a:pt x="5535" y="55"/>
                    <a:pt x="5538" y="42"/>
                  </a:cubicBezTo>
                  <a:cubicBezTo>
                    <a:pt x="5540" y="28"/>
                    <a:pt x="5552" y="19"/>
                    <a:pt x="5566" y="21"/>
                  </a:cubicBezTo>
                  <a:lnTo>
                    <a:pt x="5566" y="21"/>
                  </a:lnTo>
                  <a:cubicBezTo>
                    <a:pt x="5580" y="23"/>
                    <a:pt x="5589" y="36"/>
                    <a:pt x="5587" y="49"/>
                  </a:cubicBezTo>
                  <a:cubicBezTo>
                    <a:pt x="5585" y="63"/>
                    <a:pt x="5572" y="72"/>
                    <a:pt x="5559" y="70"/>
                  </a:cubicBezTo>
                  <a:close/>
                  <a:moveTo>
                    <a:pt x="5462" y="56"/>
                  </a:moveTo>
                  <a:lnTo>
                    <a:pt x="5462" y="56"/>
                  </a:lnTo>
                  <a:cubicBezTo>
                    <a:pt x="5448" y="55"/>
                    <a:pt x="5438" y="44"/>
                    <a:pt x="5438" y="30"/>
                  </a:cubicBezTo>
                  <a:cubicBezTo>
                    <a:pt x="5439" y="16"/>
                    <a:pt x="5451" y="5"/>
                    <a:pt x="5465" y="6"/>
                  </a:cubicBezTo>
                  <a:lnTo>
                    <a:pt x="5465" y="6"/>
                  </a:lnTo>
                  <a:cubicBezTo>
                    <a:pt x="5479" y="7"/>
                    <a:pt x="5489" y="19"/>
                    <a:pt x="5488" y="33"/>
                  </a:cubicBezTo>
                  <a:cubicBezTo>
                    <a:pt x="5488" y="46"/>
                    <a:pt x="5476" y="57"/>
                    <a:pt x="5462" y="56"/>
                  </a:cubicBezTo>
                  <a:close/>
                  <a:moveTo>
                    <a:pt x="5362" y="51"/>
                  </a:moveTo>
                  <a:lnTo>
                    <a:pt x="5362" y="51"/>
                  </a:lnTo>
                  <a:cubicBezTo>
                    <a:pt x="5348" y="50"/>
                    <a:pt x="5338" y="38"/>
                    <a:pt x="5338" y="24"/>
                  </a:cubicBezTo>
                  <a:cubicBezTo>
                    <a:pt x="5339" y="10"/>
                    <a:pt x="5351" y="0"/>
                    <a:pt x="5365" y="1"/>
                  </a:cubicBezTo>
                  <a:lnTo>
                    <a:pt x="5365" y="1"/>
                  </a:lnTo>
                  <a:cubicBezTo>
                    <a:pt x="5379" y="2"/>
                    <a:pt x="5389" y="13"/>
                    <a:pt x="5388" y="27"/>
                  </a:cubicBezTo>
                  <a:cubicBezTo>
                    <a:pt x="5388" y="41"/>
                    <a:pt x="5376" y="51"/>
                    <a:pt x="5362" y="51"/>
                  </a:cubicBezTo>
                  <a:close/>
                </a:path>
              </a:pathLst>
            </a:custGeom>
            <a:solidFill>
              <a:srgbClr val="000000"/>
            </a:solidFill>
            <a:ln w="18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9" name=""/>
          <p:cNvSpPr/>
          <p:nvPr/>
        </p:nvSpPr>
        <p:spPr>
          <a:xfrm>
            <a:off x="2076480" y="4513320"/>
            <a:ext cx="0" cy="13788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2921040" y="4503600"/>
            <a:ext cx="0" cy="1857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908000" y="469908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600</a:t>
            </a:r>
            <a:endParaRPr b="0" lang="en-US" sz="1100" spc="-1" strike="noStrike">
              <a:solidFill>
                <a:srgbClr val="ffffff"/>
              </a:solidFill>
              <a:latin typeface="Arial"/>
            </a:endParaRPr>
          </a:p>
        </p:txBody>
      </p:sp>
      <p:sp>
        <p:nvSpPr>
          <p:cNvPr id="582" name=""/>
          <p:cNvSpPr/>
          <p:nvPr/>
        </p:nvSpPr>
        <p:spPr>
          <a:xfrm>
            <a:off x="2752560" y="469908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0</a:t>
            </a:r>
            <a:endParaRPr b="0" lang="en-US" sz="1100" spc="-1" strike="noStrike">
              <a:solidFill>
                <a:srgbClr val="ffffff"/>
              </a:solidFill>
              <a:latin typeface="Arial"/>
            </a:endParaRPr>
          </a:p>
        </p:txBody>
      </p:sp>
      <p:grpSp>
        <p:nvGrpSpPr>
          <p:cNvPr id="583" name=""/>
          <p:cNvGrpSpPr/>
          <p:nvPr/>
        </p:nvGrpSpPr>
        <p:grpSpPr>
          <a:xfrm>
            <a:off x="5410080" y="3576600"/>
            <a:ext cx="755640" cy="789120"/>
            <a:chOff x="5410080" y="3576600"/>
            <a:chExt cx="755640" cy="789120"/>
          </a:xfrm>
        </p:grpSpPr>
        <p:sp>
          <p:nvSpPr>
            <p:cNvPr id="584" name=""/>
            <p:cNvSpPr/>
            <p:nvPr/>
          </p:nvSpPr>
          <p:spPr>
            <a:xfrm>
              <a:off x="5410080" y="3576600"/>
              <a:ext cx="755640" cy="789120"/>
            </a:xfrm>
            <a:custGeom>
              <a:avLst/>
              <a:gdLst/>
              <a:ahLst/>
              <a:rect l="l" t="t" r="r" b="b"/>
              <a:pathLst>
                <a:path w="3400" h="3400">
                  <a:moveTo>
                    <a:pt x="567" y="0"/>
                  </a:moveTo>
                  <a:cubicBezTo>
                    <a:pt x="254" y="0"/>
                    <a:pt x="0" y="254"/>
                    <a:pt x="0" y="567"/>
                  </a:cubicBezTo>
                  <a:lnTo>
                    <a:pt x="0" y="2834"/>
                  </a:lnTo>
                  <a:cubicBezTo>
                    <a:pt x="0" y="3147"/>
                    <a:pt x="254" y="3400"/>
                    <a:pt x="567" y="3400"/>
                  </a:cubicBezTo>
                  <a:lnTo>
                    <a:pt x="2834" y="3400"/>
                  </a:lnTo>
                  <a:cubicBezTo>
                    <a:pt x="3147" y="3400"/>
                    <a:pt x="3400" y="3147"/>
                    <a:pt x="3400" y="2834"/>
                  </a:cubicBezTo>
                  <a:lnTo>
                    <a:pt x="3400" y="567"/>
                  </a:lnTo>
                  <a:cubicBezTo>
                    <a:pt x="3400" y="254"/>
                    <a:pt x="3147" y="0"/>
                    <a:pt x="2834" y="0"/>
                  </a:cubicBezTo>
                  <a:lnTo>
                    <a:pt x="567" y="0"/>
                  </a:lnTo>
                  <a:close/>
                </a:path>
              </a:pathLst>
            </a:custGeom>
            <a:solidFill>
              <a:srgbClr val="3333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410080" y="3576600"/>
              <a:ext cx="755640" cy="789120"/>
            </a:xfrm>
            <a:custGeom>
              <a:avLst/>
              <a:gdLst/>
              <a:ahLst/>
              <a:rect l="l" t="t" r="r" b="b"/>
              <a:pathLst>
                <a:path w="3400" h="3400">
                  <a:moveTo>
                    <a:pt x="567" y="0"/>
                  </a:moveTo>
                  <a:cubicBezTo>
                    <a:pt x="254" y="0"/>
                    <a:pt x="0" y="254"/>
                    <a:pt x="0" y="567"/>
                  </a:cubicBezTo>
                  <a:lnTo>
                    <a:pt x="0" y="2834"/>
                  </a:lnTo>
                  <a:cubicBezTo>
                    <a:pt x="0" y="3147"/>
                    <a:pt x="254" y="3400"/>
                    <a:pt x="567" y="3400"/>
                  </a:cubicBezTo>
                  <a:lnTo>
                    <a:pt x="2834" y="3400"/>
                  </a:lnTo>
                  <a:cubicBezTo>
                    <a:pt x="3147" y="3400"/>
                    <a:pt x="3400" y="3147"/>
                    <a:pt x="3400" y="2834"/>
                  </a:cubicBezTo>
                  <a:lnTo>
                    <a:pt x="3400" y="567"/>
                  </a:lnTo>
                  <a:cubicBezTo>
                    <a:pt x="3400" y="254"/>
                    <a:pt x="3147" y="0"/>
                    <a:pt x="2834" y="0"/>
                  </a:cubicBezTo>
                  <a:lnTo>
                    <a:pt x="567" y="0"/>
                  </a:lnTo>
                  <a:close/>
                </a:path>
              </a:pathLst>
            </a:custGeom>
            <a:noFill/>
            <a:ln cap="rnd" w="5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6" name=""/>
          <p:cNvSpPr/>
          <p:nvPr/>
        </p:nvSpPr>
        <p:spPr>
          <a:xfrm>
            <a:off x="5533920" y="3813120"/>
            <a:ext cx="537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xecute</a:t>
            </a:r>
            <a:endParaRPr b="0" lang="en-US" sz="1100" spc="-1" strike="noStrike">
              <a:solidFill>
                <a:srgbClr val="ffffff"/>
              </a:solidFill>
              <a:latin typeface="Arial"/>
            </a:endParaRPr>
          </a:p>
        </p:txBody>
      </p:sp>
      <p:sp>
        <p:nvSpPr>
          <p:cNvPr id="587" name=""/>
          <p:cNvSpPr/>
          <p:nvPr/>
        </p:nvSpPr>
        <p:spPr>
          <a:xfrm>
            <a:off x="5597280" y="3979800"/>
            <a:ext cx="40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RUC</a:t>
            </a:r>
            <a:endParaRPr b="0" lang="en-US" sz="1100" spc="-1" strike="noStrike">
              <a:solidFill>
                <a:srgbClr val="ffffff"/>
              </a:solidFill>
              <a:latin typeface="Arial"/>
            </a:endParaRPr>
          </a:p>
        </p:txBody>
      </p:sp>
      <p:grpSp>
        <p:nvGrpSpPr>
          <p:cNvPr id="588" name=""/>
          <p:cNvGrpSpPr/>
          <p:nvPr/>
        </p:nvGrpSpPr>
        <p:grpSpPr>
          <a:xfrm>
            <a:off x="5148360" y="5273640"/>
            <a:ext cx="1155600" cy="603360"/>
            <a:chOff x="5148360" y="5273640"/>
            <a:chExt cx="1155600" cy="603360"/>
          </a:xfrm>
        </p:grpSpPr>
        <p:sp>
          <p:nvSpPr>
            <p:cNvPr id="589" name=""/>
            <p:cNvSpPr/>
            <p:nvPr/>
          </p:nvSpPr>
          <p:spPr>
            <a:xfrm>
              <a:off x="5148360" y="5273640"/>
              <a:ext cx="1155600" cy="603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148360" y="5273640"/>
              <a:ext cx="1155600" cy="603360"/>
            </a:xfrm>
            <a:prstGeom prst="rect">
              <a:avLst/>
            </a:prstGeom>
            <a:noFill/>
            <a:ln cap="rnd" w="5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1" name=""/>
          <p:cNvSpPr/>
          <p:nvPr/>
        </p:nvSpPr>
        <p:spPr>
          <a:xfrm>
            <a:off x="5341680" y="5302080"/>
            <a:ext cx="786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COT Activity:</a:t>
            </a:r>
            <a:endParaRPr b="0" lang="en-US" sz="800" spc="-1" strike="noStrike">
              <a:solidFill>
                <a:srgbClr val="ffffff"/>
              </a:solidFill>
              <a:latin typeface="Arial"/>
            </a:endParaRPr>
          </a:p>
        </p:txBody>
      </p:sp>
      <p:sp>
        <p:nvSpPr>
          <p:cNvPr id="592" name=""/>
          <p:cNvSpPr/>
          <p:nvPr/>
        </p:nvSpPr>
        <p:spPr>
          <a:xfrm>
            <a:off x="5342040" y="5413320"/>
            <a:ext cx="798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93" name=""/>
          <p:cNvSpPr/>
          <p:nvPr/>
        </p:nvSpPr>
        <p:spPr>
          <a:xfrm>
            <a:off x="5243400" y="5432400"/>
            <a:ext cx="954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gin Execution of </a:t>
            </a:r>
            <a:endParaRPr b="0" lang="en-US" sz="800" spc="-1" strike="noStrike">
              <a:solidFill>
                <a:srgbClr val="ffffff"/>
              </a:solidFill>
              <a:latin typeface="Arial"/>
            </a:endParaRPr>
          </a:p>
        </p:txBody>
      </p:sp>
      <p:sp>
        <p:nvSpPr>
          <p:cNvPr id="594" name=""/>
          <p:cNvSpPr/>
          <p:nvPr/>
        </p:nvSpPr>
        <p:spPr>
          <a:xfrm>
            <a:off x="5388840" y="5559480"/>
            <a:ext cx="666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RUC at 1430</a:t>
            </a:r>
            <a:endParaRPr b="0" lang="en-US" sz="800" spc="-1" strike="noStrike">
              <a:solidFill>
                <a:srgbClr val="ffffff"/>
              </a:solidFill>
              <a:latin typeface="Arial"/>
            </a:endParaRPr>
          </a:p>
        </p:txBody>
      </p:sp>
      <p:grpSp>
        <p:nvGrpSpPr>
          <p:cNvPr id="595" name=""/>
          <p:cNvGrpSpPr/>
          <p:nvPr/>
        </p:nvGrpSpPr>
        <p:grpSpPr>
          <a:xfrm>
            <a:off x="1403280" y="5200560"/>
            <a:ext cx="1155600" cy="787320"/>
            <a:chOff x="1403280" y="5200560"/>
            <a:chExt cx="1155600" cy="787320"/>
          </a:xfrm>
        </p:grpSpPr>
        <p:sp>
          <p:nvSpPr>
            <p:cNvPr id="596" name=""/>
            <p:cNvSpPr/>
            <p:nvPr/>
          </p:nvSpPr>
          <p:spPr>
            <a:xfrm>
              <a:off x="1403280" y="5200560"/>
              <a:ext cx="1155600" cy="787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1403280" y="5200560"/>
              <a:ext cx="1155600" cy="787320"/>
            </a:xfrm>
            <a:prstGeom prst="rect">
              <a:avLst/>
            </a:prstGeom>
            <a:noFill/>
            <a:ln cap="rnd" w="5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8" name=""/>
          <p:cNvSpPr/>
          <p:nvPr/>
        </p:nvSpPr>
        <p:spPr>
          <a:xfrm>
            <a:off x="1580760" y="5210280"/>
            <a:ext cx="786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COT Activity:</a:t>
            </a:r>
            <a:endParaRPr b="0" lang="en-US" sz="800" spc="-1" strike="noStrike">
              <a:solidFill>
                <a:srgbClr val="ffffff"/>
              </a:solidFill>
              <a:latin typeface="Arial"/>
            </a:endParaRPr>
          </a:p>
        </p:txBody>
      </p:sp>
      <p:sp>
        <p:nvSpPr>
          <p:cNvPr id="599" name=""/>
          <p:cNvSpPr/>
          <p:nvPr/>
        </p:nvSpPr>
        <p:spPr>
          <a:xfrm>
            <a:off x="1581120" y="5321160"/>
            <a:ext cx="797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00" name=""/>
          <p:cNvSpPr/>
          <p:nvPr/>
        </p:nvSpPr>
        <p:spPr>
          <a:xfrm>
            <a:off x="1601280" y="5340240"/>
            <a:ext cx="750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sh system</a:t>
            </a:r>
            <a:endParaRPr b="0" lang="en-US" sz="800" spc="-1" strike="noStrike">
              <a:solidFill>
                <a:srgbClr val="ffffff"/>
              </a:solidFill>
              <a:latin typeface="Arial"/>
            </a:endParaRPr>
          </a:p>
        </p:txBody>
      </p:sp>
      <p:sp>
        <p:nvSpPr>
          <p:cNvPr id="601" name=""/>
          <p:cNvSpPr/>
          <p:nvPr/>
        </p:nvSpPr>
        <p:spPr>
          <a:xfrm>
            <a:off x="1447560" y="5470560"/>
            <a:ext cx="1055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ditions, forecasts,</a:t>
            </a:r>
            <a:endParaRPr b="0" lang="en-US" sz="800" spc="-1" strike="noStrike">
              <a:solidFill>
                <a:srgbClr val="ffffff"/>
              </a:solidFill>
              <a:latin typeface="Arial"/>
            </a:endParaRPr>
          </a:p>
        </p:txBody>
      </p:sp>
      <p:sp>
        <p:nvSpPr>
          <p:cNvPr id="602" name=""/>
          <p:cNvSpPr/>
          <p:nvPr/>
        </p:nvSpPr>
        <p:spPr>
          <a:xfrm>
            <a:off x="1595160" y="5597640"/>
            <a:ext cx="762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 Obligations,</a:t>
            </a:r>
            <a:endParaRPr b="0" lang="en-US" sz="800" spc="-1" strike="noStrike">
              <a:solidFill>
                <a:srgbClr val="ffffff"/>
              </a:solidFill>
              <a:latin typeface="Arial"/>
            </a:endParaRPr>
          </a:p>
        </p:txBody>
      </p:sp>
      <p:sp>
        <p:nvSpPr>
          <p:cNvPr id="603" name=""/>
          <p:cNvSpPr/>
          <p:nvPr/>
        </p:nvSpPr>
        <p:spPr>
          <a:xfrm>
            <a:off x="1821240" y="5727600"/>
            <a:ext cx="31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sses</a:t>
            </a:r>
            <a:endParaRPr b="0" lang="en-US" sz="800" spc="-1" strike="noStrike">
              <a:solidFill>
                <a:srgbClr val="ffffff"/>
              </a:solidFill>
              <a:latin typeface="Arial"/>
            </a:endParaRPr>
          </a:p>
        </p:txBody>
      </p:sp>
      <p:sp>
        <p:nvSpPr>
          <p:cNvPr id="604" name=""/>
          <p:cNvSpPr/>
          <p:nvPr/>
        </p:nvSpPr>
        <p:spPr>
          <a:xfrm>
            <a:off x="1649880" y="5857920"/>
            <a:ext cx="653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p; other items</a:t>
            </a:r>
            <a:endParaRPr b="0" lang="en-US" sz="800" spc="-1" strike="noStrike">
              <a:solidFill>
                <a:srgbClr val="ffffff"/>
              </a:solidFill>
              <a:latin typeface="Arial"/>
            </a:endParaRPr>
          </a:p>
        </p:txBody>
      </p:sp>
      <p:sp>
        <p:nvSpPr>
          <p:cNvPr id="605" name=""/>
          <p:cNvSpPr/>
          <p:nvPr/>
        </p:nvSpPr>
        <p:spPr>
          <a:xfrm>
            <a:off x="2676600" y="3159000"/>
            <a:ext cx="44280" cy="324000"/>
          </a:xfrm>
          <a:custGeom>
            <a:avLst/>
            <a:gdLst/>
            <a:ahLst/>
            <a:rect l="l" t="t" r="r" b="b"/>
            <a:pathLst>
              <a:path w="70" h="511">
                <a:moveTo>
                  <a:pt x="47" y="0"/>
                </a:moveTo>
                <a:lnTo>
                  <a:pt x="47" y="450"/>
                </a:lnTo>
                <a:lnTo>
                  <a:pt x="23" y="450"/>
                </a:lnTo>
                <a:lnTo>
                  <a:pt x="23" y="0"/>
                </a:lnTo>
                <a:lnTo>
                  <a:pt x="47" y="0"/>
                </a:lnTo>
                <a:close/>
                <a:moveTo>
                  <a:pt x="70" y="438"/>
                </a:moveTo>
                <a:lnTo>
                  <a:pt x="35" y="511"/>
                </a:lnTo>
                <a:lnTo>
                  <a:pt x="0" y="438"/>
                </a:lnTo>
                <a:lnTo>
                  <a:pt x="70" y="438"/>
                </a:lnTo>
                <a:close/>
              </a:path>
            </a:pathLst>
          </a:custGeom>
          <a:solidFill>
            <a:srgbClr val="000000"/>
          </a:solidFill>
          <a:ln w="18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6" name=""/>
          <p:cNvGrpSpPr/>
          <p:nvPr/>
        </p:nvGrpSpPr>
        <p:grpSpPr>
          <a:xfrm>
            <a:off x="4121280" y="2463840"/>
            <a:ext cx="1066680" cy="695160"/>
            <a:chOff x="4121280" y="2463840"/>
            <a:chExt cx="1066680" cy="695160"/>
          </a:xfrm>
        </p:grpSpPr>
        <p:sp>
          <p:nvSpPr>
            <p:cNvPr id="607" name=""/>
            <p:cNvSpPr/>
            <p:nvPr/>
          </p:nvSpPr>
          <p:spPr>
            <a:xfrm>
              <a:off x="4121280" y="2463840"/>
              <a:ext cx="1066680" cy="69516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121280" y="2463840"/>
              <a:ext cx="1066680" cy="695160"/>
            </a:xfrm>
            <a:prstGeom prst="rect">
              <a:avLst/>
            </a:prstGeom>
            <a:noFill/>
            <a:ln cap="rnd" w="5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9" name=""/>
          <p:cNvSpPr/>
          <p:nvPr/>
        </p:nvSpPr>
        <p:spPr>
          <a:xfrm>
            <a:off x="4311360" y="2473200"/>
            <a:ext cx="646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QSE Activity:</a:t>
            </a:r>
            <a:endParaRPr b="0" lang="en-US" sz="800" spc="-1" strike="noStrike">
              <a:solidFill>
                <a:srgbClr val="ffffff"/>
              </a:solidFill>
              <a:latin typeface="Arial"/>
            </a:endParaRPr>
          </a:p>
        </p:txBody>
      </p:sp>
      <p:sp>
        <p:nvSpPr>
          <p:cNvPr id="610" name=""/>
          <p:cNvSpPr/>
          <p:nvPr/>
        </p:nvSpPr>
        <p:spPr>
          <a:xfrm>
            <a:off x="4311720" y="2584440"/>
            <a:ext cx="655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11" name=""/>
          <p:cNvSpPr/>
          <p:nvPr/>
        </p:nvSpPr>
        <p:spPr>
          <a:xfrm>
            <a:off x="4338000" y="2603520"/>
            <a:ext cx="623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pdate COP,</a:t>
            </a:r>
            <a:endParaRPr b="0" lang="en-US" sz="800" spc="-1" strike="noStrike">
              <a:solidFill>
                <a:srgbClr val="ffffff"/>
              </a:solidFill>
              <a:latin typeface="Arial"/>
            </a:endParaRPr>
          </a:p>
        </p:txBody>
      </p:sp>
      <p:sp>
        <p:nvSpPr>
          <p:cNvPr id="612" name=""/>
          <p:cNvSpPr/>
          <p:nvPr/>
        </p:nvSpPr>
        <p:spPr>
          <a:xfrm>
            <a:off x="4234320" y="2733840"/>
            <a:ext cx="829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mit Capacity </a:t>
            </a:r>
            <a:endParaRPr b="0" lang="en-US" sz="800" spc="-1" strike="noStrike">
              <a:solidFill>
                <a:srgbClr val="ffffff"/>
              </a:solidFill>
              <a:latin typeface="Arial"/>
            </a:endParaRPr>
          </a:p>
        </p:txBody>
      </p:sp>
      <p:sp>
        <p:nvSpPr>
          <p:cNvPr id="613" name=""/>
          <p:cNvSpPr/>
          <p:nvPr/>
        </p:nvSpPr>
        <p:spPr>
          <a:xfrm>
            <a:off x="4435560" y="2860560"/>
            <a:ext cx="43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es &amp;</a:t>
            </a:r>
            <a:endParaRPr b="0" lang="en-US" sz="800" spc="-1" strike="noStrike">
              <a:solidFill>
                <a:srgbClr val="ffffff"/>
              </a:solidFill>
              <a:latin typeface="Arial"/>
            </a:endParaRPr>
          </a:p>
        </p:txBody>
      </p:sp>
      <p:sp>
        <p:nvSpPr>
          <p:cNvPr id="614" name=""/>
          <p:cNvSpPr/>
          <p:nvPr/>
        </p:nvSpPr>
        <p:spPr>
          <a:xfrm>
            <a:off x="4282920" y="2990880"/>
            <a:ext cx="738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ergy Trades </a:t>
            </a:r>
            <a:endParaRPr b="0" lang="en-US" sz="800" spc="-1" strike="noStrike">
              <a:solidFill>
                <a:srgbClr val="ffffff"/>
              </a:solidFill>
              <a:latin typeface="Arial"/>
            </a:endParaRPr>
          </a:p>
        </p:txBody>
      </p:sp>
      <p:sp>
        <p:nvSpPr>
          <p:cNvPr id="615" name=""/>
          <p:cNvSpPr/>
          <p:nvPr/>
        </p:nvSpPr>
        <p:spPr>
          <a:xfrm>
            <a:off x="4809960" y="3159000"/>
            <a:ext cx="44640" cy="324000"/>
          </a:xfrm>
          <a:custGeom>
            <a:avLst/>
            <a:gdLst/>
            <a:ahLst/>
            <a:rect l="l" t="t" r="r" b="b"/>
            <a:pathLst>
              <a:path w="70" h="511">
                <a:moveTo>
                  <a:pt x="47" y="0"/>
                </a:moveTo>
                <a:lnTo>
                  <a:pt x="47" y="450"/>
                </a:lnTo>
                <a:lnTo>
                  <a:pt x="24" y="450"/>
                </a:lnTo>
                <a:lnTo>
                  <a:pt x="24" y="0"/>
                </a:lnTo>
                <a:lnTo>
                  <a:pt x="47" y="0"/>
                </a:lnTo>
                <a:close/>
                <a:moveTo>
                  <a:pt x="70" y="438"/>
                </a:moveTo>
                <a:lnTo>
                  <a:pt x="35" y="511"/>
                </a:lnTo>
                <a:lnTo>
                  <a:pt x="0" y="438"/>
                </a:lnTo>
                <a:lnTo>
                  <a:pt x="70" y="438"/>
                </a:lnTo>
                <a:close/>
              </a:path>
            </a:pathLst>
          </a:custGeom>
          <a:solidFill>
            <a:srgbClr val="000000"/>
          </a:solidFill>
          <a:ln w="18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2774880" y="1881360"/>
            <a:ext cx="29955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y Ahead Operations</a:t>
            </a:r>
            <a:endParaRPr b="0" lang="en-US" sz="2200" spc="-1" strike="noStrike">
              <a:solidFill>
                <a:srgbClr val="ffffff"/>
              </a:solidFill>
              <a:latin typeface="Arial"/>
            </a:endParaRPr>
          </a:p>
        </p:txBody>
      </p:sp>
      <p:sp>
        <p:nvSpPr>
          <p:cNvPr id="617" name=""/>
          <p:cNvSpPr/>
          <p:nvPr/>
        </p:nvSpPr>
        <p:spPr>
          <a:xfrm>
            <a:off x="5959440" y="4513320"/>
            <a:ext cx="0" cy="13788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8" name=""/>
          <p:cNvGrpSpPr/>
          <p:nvPr/>
        </p:nvGrpSpPr>
        <p:grpSpPr>
          <a:xfrm>
            <a:off x="5276880" y="2463840"/>
            <a:ext cx="933480" cy="695160"/>
            <a:chOff x="5276880" y="2463840"/>
            <a:chExt cx="933480" cy="695160"/>
          </a:xfrm>
        </p:grpSpPr>
        <p:sp>
          <p:nvSpPr>
            <p:cNvPr id="619" name=""/>
            <p:cNvSpPr/>
            <p:nvPr/>
          </p:nvSpPr>
          <p:spPr>
            <a:xfrm>
              <a:off x="5276880" y="2463840"/>
              <a:ext cx="933480" cy="69516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5276880" y="2463840"/>
              <a:ext cx="933480" cy="695160"/>
            </a:xfrm>
            <a:prstGeom prst="rect">
              <a:avLst/>
            </a:prstGeom>
            <a:noFill/>
            <a:ln cap="rnd" w="5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1" name=""/>
          <p:cNvSpPr/>
          <p:nvPr/>
        </p:nvSpPr>
        <p:spPr>
          <a:xfrm>
            <a:off x="5401800" y="2603520"/>
            <a:ext cx="646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QSE Activity:</a:t>
            </a:r>
            <a:endParaRPr b="0" lang="en-US" sz="800" spc="-1" strike="noStrike">
              <a:solidFill>
                <a:srgbClr val="ffffff"/>
              </a:solidFill>
              <a:latin typeface="Arial"/>
            </a:endParaRPr>
          </a:p>
        </p:txBody>
      </p:sp>
      <p:sp>
        <p:nvSpPr>
          <p:cNvPr id="622" name=""/>
          <p:cNvSpPr/>
          <p:nvPr/>
        </p:nvSpPr>
        <p:spPr>
          <a:xfrm>
            <a:off x="5402160" y="2714760"/>
            <a:ext cx="654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23" name=""/>
          <p:cNvSpPr/>
          <p:nvPr/>
        </p:nvSpPr>
        <p:spPr>
          <a:xfrm>
            <a:off x="5364360" y="2733840"/>
            <a:ext cx="749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pdate COP to </a:t>
            </a:r>
            <a:endParaRPr b="0" lang="en-US" sz="800" spc="-1" strike="noStrike">
              <a:solidFill>
                <a:srgbClr val="ffffff"/>
              </a:solidFill>
              <a:latin typeface="Arial"/>
            </a:endParaRPr>
          </a:p>
        </p:txBody>
      </p:sp>
      <p:sp>
        <p:nvSpPr>
          <p:cNvPr id="624" name=""/>
          <p:cNvSpPr/>
          <p:nvPr/>
        </p:nvSpPr>
        <p:spPr>
          <a:xfrm>
            <a:off x="5371200" y="2860560"/>
            <a:ext cx="735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flect Awards</a:t>
            </a:r>
            <a:endParaRPr b="0" lang="en-US" sz="800" spc="-1" strike="noStrike">
              <a:solidFill>
                <a:srgbClr val="ffffff"/>
              </a:solidFill>
              <a:latin typeface="Arial"/>
            </a:endParaRPr>
          </a:p>
        </p:txBody>
      </p:sp>
      <p:sp>
        <p:nvSpPr>
          <p:cNvPr id="625" name=""/>
          <p:cNvSpPr/>
          <p:nvPr/>
        </p:nvSpPr>
        <p:spPr>
          <a:xfrm>
            <a:off x="5965920" y="3159000"/>
            <a:ext cx="44280" cy="324000"/>
          </a:xfrm>
          <a:custGeom>
            <a:avLst/>
            <a:gdLst/>
            <a:ahLst/>
            <a:rect l="l" t="t" r="r" b="b"/>
            <a:pathLst>
              <a:path w="70" h="511">
                <a:moveTo>
                  <a:pt x="46" y="0"/>
                </a:moveTo>
                <a:lnTo>
                  <a:pt x="46" y="450"/>
                </a:lnTo>
                <a:lnTo>
                  <a:pt x="23" y="450"/>
                </a:lnTo>
                <a:lnTo>
                  <a:pt x="23" y="0"/>
                </a:lnTo>
                <a:lnTo>
                  <a:pt x="46" y="0"/>
                </a:lnTo>
                <a:close/>
                <a:moveTo>
                  <a:pt x="70" y="438"/>
                </a:moveTo>
                <a:lnTo>
                  <a:pt x="35" y="511"/>
                </a:lnTo>
                <a:lnTo>
                  <a:pt x="0" y="438"/>
                </a:lnTo>
                <a:lnTo>
                  <a:pt x="70" y="438"/>
                </a:lnTo>
                <a:close/>
              </a:path>
            </a:pathLst>
          </a:custGeom>
          <a:solidFill>
            <a:srgbClr val="000000"/>
          </a:solidFill>
          <a:ln w="18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6" name=""/>
          <p:cNvGrpSpPr/>
          <p:nvPr/>
        </p:nvGrpSpPr>
        <p:grpSpPr>
          <a:xfrm>
            <a:off x="2921040" y="3576600"/>
            <a:ext cx="1778040" cy="789120"/>
            <a:chOff x="2921040" y="3576600"/>
            <a:chExt cx="1778040" cy="789120"/>
          </a:xfrm>
        </p:grpSpPr>
        <p:sp>
          <p:nvSpPr>
            <p:cNvPr id="627" name=""/>
            <p:cNvSpPr/>
            <p:nvPr/>
          </p:nvSpPr>
          <p:spPr>
            <a:xfrm>
              <a:off x="2921040" y="3576600"/>
              <a:ext cx="1778040" cy="789120"/>
            </a:xfrm>
            <a:custGeom>
              <a:avLst/>
              <a:gdLst/>
              <a:ahLst/>
              <a:rect l="l" t="t" r="r" b="b"/>
              <a:pathLst>
                <a:path w="16000" h="6800">
                  <a:moveTo>
                    <a:pt x="1134" y="0"/>
                  </a:moveTo>
                  <a:cubicBezTo>
                    <a:pt x="508" y="0"/>
                    <a:pt x="0" y="508"/>
                    <a:pt x="0" y="1134"/>
                  </a:cubicBezTo>
                  <a:lnTo>
                    <a:pt x="0" y="5667"/>
                  </a:lnTo>
                  <a:cubicBezTo>
                    <a:pt x="0" y="6293"/>
                    <a:pt x="508" y="6800"/>
                    <a:pt x="1134" y="6800"/>
                  </a:cubicBezTo>
                  <a:lnTo>
                    <a:pt x="14867" y="6800"/>
                  </a:lnTo>
                  <a:cubicBezTo>
                    <a:pt x="15493" y="6800"/>
                    <a:pt x="16000" y="6293"/>
                    <a:pt x="16000" y="5667"/>
                  </a:cubicBezTo>
                  <a:lnTo>
                    <a:pt x="16000" y="1134"/>
                  </a:lnTo>
                  <a:cubicBezTo>
                    <a:pt x="16000" y="508"/>
                    <a:pt x="15493" y="0"/>
                    <a:pt x="14867" y="0"/>
                  </a:cubicBezTo>
                  <a:lnTo>
                    <a:pt x="1134" y="0"/>
                  </a:lnTo>
                  <a:close/>
                </a:path>
              </a:pathLst>
            </a:custGeom>
            <a:solidFill>
              <a:srgbClr val="3333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2921040" y="3576600"/>
              <a:ext cx="1778040" cy="789120"/>
            </a:xfrm>
            <a:custGeom>
              <a:avLst/>
              <a:gdLst/>
              <a:ahLst/>
              <a:rect l="l" t="t" r="r" b="b"/>
              <a:pathLst>
                <a:path w="16000" h="6800">
                  <a:moveTo>
                    <a:pt x="1134" y="0"/>
                  </a:moveTo>
                  <a:cubicBezTo>
                    <a:pt x="508" y="0"/>
                    <a:pt x="0" y="508"/>
                    <a:pt x="0" y="1134"/>
                  </a:cubicBezTo>
                  <a:lnTo>
                    <a:pt x="0" y="5667"/>
                  </a:lnTo>
                  <a:cubicBezTo>
                    <a:pt x="0" y="6293"/>
                    <a:pt x="508" y="6800"/>
                    <a:pt x="1134" y="6800"/>
                  </a:cubicBezTo>
                  <a:lnTo>
                    <a:pt x="14867" y="6800"/>
                  </a:lnTo>
                  <a:cubicBezTo>
                    <a:pt x="15493" y="6800"/>
                    <a:pt x="16000" y="6293"/>
                    <a:pt x="16000" y="5667"/>
                  </a:cubicBezTo>
                  <a:lnTo>
                    <a:pt x="16000" y="1134"/>
                  </a:lnTo>
                  <a:cubicBezTo>
                    <a:pt x="16000" y="508"/>
                    <a:pt x="15493" y="0"/>
                    <a:pt x="14867" y="0"/>
                  </a:cubicBezTo>
                  <a:lnTo>
                    <a:pt x="1134" y="0"/>
                  </a:lnTo>
                  <a:close/>
                </a:path>
              </a:pathLst>
            </a:custGeom>
            <a:noFill/>
            <a:ln cap="rnd" w="5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9" name=""/>
          <p:cNvSpPr/>
          <p:nvPr/>
        </p:nvSpPr>
        <p:spPr>
          <a:xfrm>
            <a:off x="3384000" y="3897360"/>
            <a:ext cx="895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xecute DAM</a:t>
            </a:r>
            <a:endParaRPr b="0" lang="en-US" sz="1100" spc="-1" strike="noStrike">
              <a:solidFill>
                <a:srgbClr val="ffffff"/>
              </a:solidFill>
              <a:latin typeface="Arial"/>
            </a:endParaRPr>
          </a:p>
        </p:txBody>
      </p:sp>
      <p:sp>
        <p:nvSpPr>
          <p:cNvPr id="630" name=""/>
          <p:cNvSpPr/>
          <p:nvPr/>
        </p:nvSpPr>
        <p:spPr>
          <a:xfrm>
            <a:off x="5403960" y="4513320"/>
            <a:ext cx="0" cy="13788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286240" y="4689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430</a:t>
            </a:r>
            <a:endParaRPr b="0" lang="en-US" sz="1100" spc="-1" strike="noStrike">
              <a:solidFill>
                <a:srgbClr val="ffffff"/>
              </a:solidFill>
              <a:latin typeface="Arial"/>
            </a:endParaRPr>
          </a:p>
        </p:txBody>
      </p:sp>
      <p:grpSp>
        <p:nvGrpSpPr>
          <p:cNvPr id="632" name=""/>
          <p:cNvGrpSpPr/>
          <p:nvPr/>
        </p:nvGrpSpPr>
        <p:grpSpPr>
          <a:xfrm>
            <a:off x="2076480" y="2370240"/>
            <a:ext cx="1289160" cy="788760"/>
            <a:chOff x="2076480" y="2370240"/>
            <a:chExt cx="1289160" cy="788760"/>
          </a:xfrm>
        </p:grpSpPr>
        <p:sp>
          <p:nvSpPr>
            <p:cNvPr id="633" name=""/>
            <p:cNvSpPr/>
            <p:nvPr/>
          </p:nvSpPr>
          <p:spPr>
            <a:xfrm>
              <a:off x="2076480" y="2370240"/>
              <a:ext cx="1289160" cy="78876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2076480" y="2370240"/>
              <a:ext cx="1289160" cy="788760"/>
            </a:xfrm>
            <a:prstGeom prst="rect">
              <a:avLst/>
            </a:prstGeom>
            <a:noFill/>
            <a:ln cap="rnd" w="5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5" name=""/>
          <p:cNvSpPr/>
          <p:nvPr/>
        </p:nvSpPr>
        <p:spPr>
          <a:xfrm>
            <a:off x="2393640" y="2362320"/>
            <a:ext cx="646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QSE Activity:</a:t>
            </a:r>
            <a:endParaRPr b="0" lang="en-US" sz="800" spc="-1" strike="noStrike">
              <a:solidFill>
                <a:srgbClr val="ffffff"/>
              </a:solidFill>
              <a:latin typeface="Arial"/>
            </a:endParaRPr>
          </a:p>
        </p:txBody>
      </p:sp>
      <p:sp>
        <p:nvSpPr>
          <p:cNvPr id="636" name=""/>
          <p:cNvSpPr/>
          <p:nvPr/>
        </p:nvSpPr>
        <p:spPr>
          <a:xfrm>
            <a:off x="2394000" y="2473200"/>
            <a:ext cx="6541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37" name=""/>
          <p:cNvSpPr/>
          <p:nvPr/>
        </p:nvSpPr>
        <p:spPr>
          <a:xfrm>
            <a:off x="2395800" y="2492280"/>
            <a:ext cx="63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mit DAM </a:t>
            </a:r>
            <a:endParaRPr b="0" lang="en-US" sz="800" spc="-1" strike="noStrike">
              <a:solidFill>
                <a:srgbClr val="ffffff"/>
              </a:solidFill>
              <a:latin typeface="Arial"/>
            </a:endParaRPr>
          </a:p>
        </p:txBody>
      </p:sp>
      <p:sp>
        <p:nvSpPr>
          <p:cNvPr id="638" name=""/>
          <p:cNvSpPr/>
          <p:nvPr/>
        </p:nvSpPr>
        <p:spPr>
          <a:xfrm>
            <a:off x="2347200" y="2622600"/>
            <a:ext cx="738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ffers &amp;  Bids, </a:t>
            </a:r>
            <a:endParaRPr b="0" lang="en-US" sz="800" spc="-1" strike="noStrike">
              <a:solidFill>
                <a:srgbClr val="ffffff"/>
              </a:solidFill>
              <a:latin typeface="Arial"/>
            </a:endParaRPr>
          </a:p>
        </p:txBody>
      </p:sp>
      <p:sp>
        <p:nvSpPr>
          <p:cNvPr id="639" name=""/>
          <p:cNvSpPr/>
          <p:nvPr/>
        </p:nvSpPr>
        <p:spPr>
          <a:xfrm>
            <a:off x="2405160" y="2749680"/>
            <a:ext cx="621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RUC Offers</a:t>
            </a:r>
            <a:endParaRPr b="0" lang="en-US" sz="800" spc="-1" strike="noStrike">
              <a:solidFill>
                <a:srgbClr val="ffffff"/>
              </a:solidFill>
              <a:latin typeface="Arial"/>
            </a:endParaRPr>
          </a:p>
        </p:txBody>
      </p:sp>
      <p:sp>
        <p:nvSpPr>
          <p:cNvPr id="640" name=""/>
          <p:cNvSpPr/>
          <p:nvPr/>
        </p:nvSpPr>
        <p:spPr>
          <a:xfrm>
            <a:off x="2221920" y="2879640"/>
            <a:ext cx="466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 Self</a:t>
            </a:r>
            <a:endParaRPr b="0" lang="en-US" sz="800" spc="-1" strike="noStrike">
              <a:solidFill>
                <a:srgbClr val="ffffff"/>
              </a:solidFill>
              <a:latin typeface="Arial"/>
            </a:endParaRPr>
          </a:p>
        </p:txBody>
      </p:sp>
      <p:sp>
        <p:nvSpPr>
          <p:cNvPr id="641" name=""/>
          <p:cNvSpPr/>
          <p:nvPr/>
        </p:nvSpPr>
        <p:spPr>
          <a:xfrm>
            <a:off x="2693520" y="287964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t>
            </a:r>
            <a:endParaRPr b="0" lang="en-US" sz="800" spc="-1" strike="noStrike">
              <a:solidFill>
                <a:srgbClr val="ffffff"/>
              </a:solidFill>
              <a:latin typeface="Arial"/>
            </a:endParaRPr>
          </a:p>
        </p:txBody>
      </p:sp>
      <p:sp>
        <p:nvSpPr>
          <p:cNvPr id="642" name=""/>
          <p:cNvSpPr/>
          <p:nvPr/>
        </p:nvSpPr>
        <p:spPr>
          <a:xfrm>
            <a:off x="2729880" y="2879640"/>
            <a:ext cx="48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rranged </a:t>
            </a:r>
            <a:endParaRPr b="0" lang="en-US" sz="800" spc="-1" strike="noStrike">
              <a:solidFill>
                <a:srgbClr val="ffffff"/>
              </a:solidFill>
              <a:latin typeface="Arial"/>
            </a:endParaRPr>
          </a:p>
        </p:txBody>
      </p:sp>
      <p:sp>
        <p:nvSpPr>
          <p:cNvPr id="643" name=""/>
          <p:cNvSpPr/>
          <p:nvPr/>
        </p:nvSpPr>
        <p:spPr>
          <a:xfrm>
            <a:off x="2382120" y="3009960"/>
            <a:ext cx="669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S Quantities</a:t>
            </a:r>
            <a:endParaRPr b="0" lang="en-US" sz="800" spc="-1" strike="noStrike">
              <a:solidFill>
                <a:srgbClr val="ffffff"/>
              </a:solidFill>
              <a:latin typeface="Arial"/>
            </a:endParaRPr>
          </a:p>
        </p:txBody>
      </p:sp>
      <p:grpSp>
        <p:nvGrpSpPr>
          <p:cNvPr id="644" name=""/>
          <p:cNvGrpSpPr/>
          <p:nvPr/>
        </p:nvGrpSpPr>
        <p:grpSpPr>
          <a:xfrm>
            <a:off x="3924360" y="5265720"/>
            <a:ext cx="1111320" cy="649440"/>
            <a:chOff x="3924360" y="5265720"/>
            <a:chExt cx="1111320" cy="649440"/>
          </a:xfrm>
        </p:grpSpPr>
        <p:sp>
          <p:nvSpPr>
            <p:cNvPr id="645" name=""/>
            <p:cNvSpPr/>
            <p:nvPr/>
          </p:nvSpPr>
          <p:spPr>
            <a:xfrm>
              <a:off x="3924360" y="5265720"/>
              <a:ext cx="1111320" cy="649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3924360" y="5265720"/>
              <a:ext cx="1111320" cy="649440"/>
            </a:xfrm>
            <a:prstGeom prst="rect">
              <a:avLst/>
            </a:prstGeom>
            <a:noFill/>
            <a:ln cap="rnd" w="5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7" name=""/>
          <p:cNvSpPr/>
          <p:nvPr/>
        </p:nvSpPr>
        <p:spPr>
          <a:xfrm>
            <a:off x="4080960" y="5334120"/>
            <a:ext cx="786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COT Activity:</a:t>
            </a:r>
            <a:endParaRPr b="0" lang="en-US" sz="800" spc="-1" strike="noStrike">
              <a:solidFill>
                <a:srgbClr val="ffffff"/>
              </a:solidFill>
              <a:latin typeface="Arial"/>
            </a:endParaRPr>
          </a:p>
        </p:txBody>
      </p:sp>
      <p:sp>
        <p:nvSpPr>
          <p:cNvPr id="648" name=""/>
          <p:cNvSpPr/>
          <p:nvPr/>
        </p:nvSpPr>
        <p:spPr>
          <a:xfrm>
            <a:off x="4081320" y="5446800"/>
            <a:ext cx="797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49" name=""/>
          <p:cNvSpPr/>
          <p:nvPr/>
        </p:nvSpPr>
        <p:spPr>
          <a:xfrm>
            <a:off x="3989880" y="5464080"/>
            <a:ext cx="965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cate DAM </a:t>
            </a:r>
            <a:endParaRPr b="0" lang="en-US" sz="800" spc="-1" strike="noStrike">
              <a:solidFill>
                <a:srgbClr val="ffffff"/>
              </a:solidFill>
              <a:latin typeface="Arial"/>
            </a:endParaRPr>
          </a:p>
        </p:txBody>
      </p:sp>
      <p:sp>
        <p:nvSpPr>
          <p:cNvPr id="650" name=""/>
          <p:cNvSpPr/>
          <p:nvPr/>
        </p:nvSpPr>
        <p:spPr>
          <a:xfrm>
            <a:off x="3949560" y="5594400"/>
            <a:ext cx="1049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wards, AS Capacity </a:t>
            </a:r>
            <a:endParaRPr b="0" lang="en-US" sz="800" spc="-1" strike="noStrike">
              <a:solidFill>
                <a:srgbClr val="ffffff"/>
              </a:solidFill>
              <a:latin typeface="Arial"/>
            </a:endParaRPr>
          </a:p>
        </p:txBody>
      </p:sp>
      <p:sp>
        <p:nvSpPr>
          <p:cNvPr id="651" name=""/>
          <p:cNvSpPr/>
          <p:nvPr/>
        </p:nvSpPr>
        <p:spPr>
          <a:xfrm>
            <a:off x="4292640" y="5724360"/>
            <a:ext cx="36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wards</a:t>
            </a:r>
            <a:endParaRPr b="0" lang="en-US" sz="800" spc="-1" strike="noStrike">
              <a:solidFill>
                <a:srgbClr val="ffffff"/>
              </a:solidFill>
              <a:latin typeface="Arial"/>
            </a:endParaRPr>
          </a:p>
        </p:txBody>
      </p:sp>
      <p:sp>
        <p:nvSpPr>
          <p:cNvPr id="652" name=""/>
          <p:cNvSpPr/>
          <p:nvPr/>
        </p:nvSpPr>
        <p:spPr>
          <a:xfrm>
            <a:off x="2031840" y="4503600"/>
            <a:ext cx="4000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653" name=""/>
          <p:cNvGrpSpPr/>
          <p:nvPr/>
        </p:nvGrpSpPr>
        <p:grpSpPr>
          <a:xfrm>
            <a:off x="2664000" y="5265720"/>
            <a:ext cx="977760" cy="650880"/>
            <a:chOff x="2664000" y="5265720"/>
            <a:chExt cx="977760" cy="650880"/>
          </a:xfrm>
        </p:grpSpPr>
        <p:sp>
          <p:nvSpPr>
            <p:cNvPr id="654" name=""/>
            <p:cNvSpPr/>
            <p:nvPr/>
          </p:nvSpPr>
          <p:spPr>
            <a:xfrm>
              <a:off x="2664000" y="5265720"/>
              <a:ext cx="977760" cy="650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2664000" y="5265720"/>
              <a:ext cx="977760" cy="650880"/>
            </a:xfrm>
            <a:prstGeom prst="rect">
              <a:avLst/>
            </a:prstGeom>
            <a:noFill/>
            <a:ln cap="rnd" w="5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6" name=""/>
          <p:cNvSpPr/>
          <p:nvPr/>
        </p:nvSpPr>
        <p:spPr>
          <a:xfrm>
            <a:off x="2754000" y="5400720"/>
            <a:ext cx="786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COT Activity:</a:t>
            </a:r>
            <a:endParaRPr b="0" lang="en-US" sz="800" spc="-1" strike="noStrike">
              <a:solidFill>
                <a:srgbClr val="ffffff"/>
              </a:solidFill>
              <a:latin typeface="Arial"/>
            </a:endParaRPr>
          </a:p>
        </p:txBody>
      </p:sp>
      <p:sp>
        <p:nvSpPr>
          <p:cNvPr id="657" name=""/>
          <p:cNvSpPr/>
          <p:nvPr/>
        </p:nvSpPr>
        <p:spPr>
          <a:xfrm>
            <a:off x="2754360" y="5511960"/>
            <a:ext cx="795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58" name=""/>
          <p:cNvSpPr/>
          <p:nvPr/>
        </p:nvSpPr>
        <p:spPr>
          <a:xfrm>
            <a:off x="2670120" y="5530680"/>
            <a:ext cx="954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gin Execution of </a:t>
            </a:r>
            <a:endParaRPr b="0" lang="en-US" sz="800" spc="-1" strike="noStrike">
              <a:solidFill>
                <a:srgbClr val="ffffff"/>
              </a:solidFill>
              <a:latin typeface="Arial"/>
            </a:endParaRPr>
          </a:p>
        </p:txBody>
      </p:sp>
      <p:sp>
        <p:nvSpPr>
          <p:cNvPr id="659" name=""/>
          <p:cNvSpPr/>
          <p:nvPr/>
        </p:nvSpPr>
        <p:spPr>
          <a:xfrm>
            <a:off x="2846520" y="5661000"/>
            <a:ext cx="605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M at 1000</a:t>
            </a:r>
            <a:endParaRPr b="0" lang="en-US" sz="800" spc="-1" strike="noStrike">
              <a:solidFill>
                <a:srgbClr val="ffffff"/>
              </a:solidFill>
              <a:latin typeface="Arial"/>
            </a:endParaRPr>
          </a:p>
        </p:txBody>
      </p:sp>
      <p:sp>
        <p:nvSpPr>
          <p:cNvPr id="660" name=""/>
          <p:cNvSpPr/>
          <p:nvPr/>
        </p:nvSpPr>
        <p:spPr>
          <a:xfrm flipV="1">
            <a:off x="2050920" y="4869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flipV="1">
            <a:off x="2916360" y="4833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flipV="1">
            <a:off x="4680000" y="4544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flipV="1">
            <a:off x="5435640" y="486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9"/>
          </p:nvPr>
        </p:nvSpPr>
        <p:spPr/>
        <p:txBody>
          <a:bodyPr/>
          <a:p>
            <a:fld id="{8D64D7B4-7F77-4DD2-A607-4EF493EA63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179960" y="127944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665"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666" name=""/>
          <p:cNvSpPr/>
          <p:nvPr/>
        </p:nvSpPr>
        <p:spPr>
          <a:xfrm>
            <a:off x="324000" y="1844640"/>
            <a:ext cx="8604000" cy="39679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QSE activity: </a:t>
            </a:r>
            <a:endParaRPr b="0" lang="en-US" sz="2200" spc="-1" strike="noStrike">
              <a:solidFill>
                <a:srgbClr val="ffffff"/>
              </a:solidFill>
              <a:latin typeface="Arial"/>
            </a:endParaRPr>
          </a:p>
          <a:p>
            <a:pPr lvl="1" marL="914400" indent="-342720">
              <a:lnSpc>
                <a:spcPct val="100000"/>
              </a:lnSpc>
              <a:spcBef>
                <a:spcPts val="550"/>
              </a:spcBef>
              <a:buSzPct val="102909"/>
              <a:buBlip>
                <a:blip r:embed="rId2"/>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200" spc="-1" strike="noStrike">
                <a:solidFill>
                  <a:srgbClr val="000000"/>
                </a:solidFill>
                <a:latin typeface="Arial Rounded MT Bold"/>
              </a:rPr>
              <a:t>Submit DAM Offers &amp; Bids, DRUC Offers, COP, Self-Arranged AS Quantities</a:t>
            </a:r>
            <a:endParaRPr b="0" lang="en-US" sz="2200" spc="-1" strike="noStrike">
              <a:solidFill>
                <a:srgbClr val="ffffff"/>
              </a:solidFill>
              <a:latin typeface="Arial"/>
            </a:endParaRPr>
          </a:p>
          <a:p>
            <a:pPr lvl="1" marL="914400" indent="-342720">
              <a:lnSpc>
                <a:spcPct val="100000"/>
              </a:lnSpc>
              <a:spcBef>
                <a:spcPts val="550"/>
              </a:spcBef>
              <a:buSzPct val="102909"/>
              <a:buBlip>
                <a:blip r:embed="rId3"/>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200" spc="-1" strike="noStrike">
                <a:solidFill>
                  <a:srgbClr val="000000"/>
                </a:solidFill>
                <a:latin typeface="Arial Rounded MT Bold"/>
              </a:rPr>
              <a:t>After execution of DAM, update COP</a:t>
            </a:r>
            <a:endParaRPr b="0" lang="en-US" sz="2200" spc="-1" strike="noStrike">
              <a:solidFill>
                <a:srgbClr val="ffffff"/>
              </a:solidFill>
              <a:latin typeface="Arial"/>
            </a:endParaRPr>
          </a:p>
          <a:p>
            <a:pPr marL="457200" indent="-457200">
              <a:lnSpc>
                <a:spcPct val="100000"/>
              </a:lnSpc>
              <a:spcBef>
                <a:spcPts val="1375"/>
              </a:spcBef>
              <a:buSzPct val="102909"/>
              <a:buBlip>
                <a:blip r:embed="rId4"/>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ERCOT activity:</a:t>
            </a:r>
            <a:endParaRPr b="0" lang="en-US" sz="2200" spc="-1" strike="noStrike">
              <a:solidFill>
                <a:srgbClr val="ffffff"/>
              </a:solidFill>
              <a:latin typeface="Arial"/>
            </a:endParaRPr>
          </a:p>
          <a:p>
            <a:pPr lvl="1" marL="914400" indent="-342720">
              <a:lnSpc>
                <a:spcPct val="100000"/>
              </a:lnSpc>
              <a:spcBef>
                <a:spcPts val="550"/>
              </a:spcBef>
              <a:buSzPct val="102909"/>
              <a:buBlip>
                <a:blip r:embed="rId5"/>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200" spc="-1" strike="noStrike">
                <a:solidFill>
                  <a:srgbClr val="000000"/>
                </a:solidFill>
                <a:latin typeface="Arial Rounded MT Bold"/>
              </a:rPr>
              <a:t>Publish system conditions, forecasts, AS Obligations, losses, &amp; other items</a:t>
            </a:r>
            <a:endParaRPr b="0" lang="en-US" sz="2200" spc="-1" strike="noStrike">
              <a:solidFill>
                <a:srgbClr val="ffffff"/>
              </a:solidFill>
              <a:latin typeface="Arial"/>
            </a:endParaRPr>
          </a:p>
          <a:p>
            <a:pPr lvl="1" marL="914400" indent="-342720">
              <a:lnSpc>
                <a:spcPct val="100000"/>
              </a:lnSpc>
              <a:spcBef>
                <a:spcPts val="550"/>
              </a:spcBef>
              <a:buSzPct val="102909"/>
              <a:buBlip>
                <a:blip r:embed="rId6"/>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200" spc="-1" strike="noStrike">
                <a:solidFill>
                  <a:srgbClr val="000000"/>
                </a:solidFill>
                <a:latin typeface="Arial Rounded MT Bold"/>
              </a:rPr>
              <a:t>Begin execution of DAM at 1000</a:t>
            </a:r>
            <a:endParaRPr b="0" lang="en-US" sz="2200" spc="-1" strike="noStrike">
              <a:solidFill>
                <a:srgbClr val="ffffff"/>
              </a:solidFill>
              <a:latin typeface="Arial"/>
            </a:endParaRPr>
          </a:p>
          <a:p>
            <a:pPr lvl="1" marL="914400" indent="-342720">
              <a:lnSpc>
                <a:spcPct val="100000"/>
              </a:lnSpc>
              <a:spcBef>
                <a:spcPts val="550"/>
              </a:spcBef>
              <a:buSzPct val="102909"/>
              <a:buBlip>
                <a:blip r:embed="rId7"/>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200" spc="-1" strike="noStrike">
                <a:solidFill>
                  <a:srgbClr val="000000"/>
                </a:solidFill>
                <a:latin typeface="Arial Rounded MT Bold"/>
              </a:rPr>
              <a:t>After execution of DAM, communicate DAM Awards including AS Capacity Awards</a:t>
            </a:r>
            <a:endParaRPr b="0" lang="en-US" sz="2200" spc="-1" strike="noStrike">
              <a:solidFill>
                <a:srgbClr val="ffffff"/>
              </a:solidFill>
              <a:latin typeface="Arial"/>
            </a:endParaRPr>
          </a:p>
        </p:txBody>
      </p:sp>
      <p:sp>
        <p:nvSpPr>
          <p:cNvPr id="667" name=""/>
          <p:cNvSpPr txBox="1"/>
          <p:nvPr/>
        </p:nvSpPr>
        <p:spPr>
          <a:xfrm>
            <a:off x="324000" y="1341360"/>
            <a:ext cx="381636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Day-Ahead Market (DAM)</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9"/>
          </p:nvPr>
        </p:nvSpPr>
        <p:spPr/>
        <p:txBody>
          <a:bodyPr/>
          <a:p>
            <a:fld id="{58C45DF2-79E0-41B0-94FB-CC8D6160BF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826920" y="1409760"/>
            <a:ext cx="7848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R</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Congestion Revenue Right</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AM</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Day-Ahead Market</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Hour-Ahead</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MP</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Locational Marginal Pricing/Locational Marginal Price</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TP</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Point-to-Point</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T</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Real-Time</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UC</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Reliability Unit Commitment</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SM</a:t>
            </a:r>
            <a:r>
              <a:rPr b="0" lang="en-US" sz="2000" spc="-1" strike="noStrike">
                <a:solidFill>
                  <a:srgbClr val="ffffff"/>
                </a:solidFill>
                <a:latin typeface="Verdana"/>
              </a:rPr>
              <a:t>	</a:t>
            </a:r>
            <a:r>
              <a:rPr b="0" lang="en-US" sz="2000" spc="-1" strike="noStrike">
                <a:solidFill>
                  <a:srgbClr val="ffffff"/>
                </a:solidFill>
                <a:latin typeface="Verdana"/>
              </a:rPr>
              <a:t>Supplemental Ancillary Service Market</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ED</a:t>
            </a:r>
            <a:r>
              <a:rPr b="0" lang="en-US" sz="2000" spc="-1" strike="noStrike">
                <a:solidFill>
                  <a:srgbClr val="ffffff"/>
                </a:solidFill>
                <a:latin typeface="Verdana"/>
              </a:rPr>
              <a:t>	</a:t>
            </a:r>
            <a:r>
              <a:rPr b="0" lang="en-US" sz="2000" spc="-1" strike="noStrike">
                <a:solidFill>
                  <a:srgbClr val="ffffff"/>
                </a:solidFill>
                <a:latin typeface="Verdana"/>
              </a:rPr>
              <a:t>Security Constrained Economic Dispatch</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UC</a:t>
            </a:r>
            <a:r>
              <a:rPr b="0" lang="en-US" sz="2000" spc="-1" strike="noStrike">
                <a:solidFill>
                  <a:srgbClr val="ffffff"/>
                </a:solidFill>
                <a:latin typeface="Verdana"/>
              </a:rPr>
              <a:t>	</a:t>
            </a:r>
            <a:r>
              <a:rPr b="0" lang="en-US" sz="2000" spc="-1" strike="noStrike">
                <a:solidFill>
                  <a:srgbClr val="ffffff"/>
                </a:solidFill>
                <a:latin typeface="Verdana"/>
              </a:rPr>
              <a:t>Security Constrained Unit Commitment</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FT</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Simultaneous Feasibility Test</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P</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Settlement Point Price</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CR</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Transmission Congestion Right</a:t>
            </a:r>
            <a:endParaRPr b="0" lang="en-US" sz="20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NM</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Texas Nodal Market</a:t>
            </a:r>
            <a:endParaRPr b="0" lang="en-US" sz="2000" spc="-1" strike="noStrike">
              <a:solidFill>
                <a:srgbClr val="ffffff"/>
              </a:solidFill>
              <a:latin typeface="Arial"/>
            </a:endParaRPr>
          </a:p>
        </p:txBody>
      </p:sp>
      <p:sp>
        <p:nvSpPr>
          <p:cNvPr id="177" name=""/>
          <p:cNvSpPr/>
          <p:nvPr/>
        </p:nvSpPr>
        <p:spPr>
          <a:xfrm>
            <a:off x="1297080" y="225360"/>
            <a:ext cx="7704000" cy="577800"/>
          </a:xfrm>
          <a:prstGeom prst="rect">
            <a:avLst/>
          </a:prstGeom>
          <a:noFill/>
          <a:ln w="0">
            <a:noFill/>
          </a:ln>
        </p:spPr>
        <p:style>
          <a:lnRef idx="0"/>
          <a:fillRef idx="0"/>
          <a:effectRef idx="0"/>
          <a:fontRef idx="minor"/>
        </p:style>
        <p:txBody>
          <a:bodyPr lIns="0" rIns="0" tIns="0" bIns="0" anchor="t">
            <a:normAutofit/>
          </a:bodyPr>
          <a:p>
            <a:pPr marL="798480" indent="-7984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Acronyms</a:t>
            </a:r>
            <a:endParaRPr b="0" lang="en-US" sz="3200" spc="-1" strike="noStrike">
              <a:solidFill>
                <a:srgbClr val="ffffff"/>
              </a:solidFill>
              <a:latin typeface="Arial"/>
            </a:endParaRPr>
          </a:p>
        </p:txBody>
      </p:sp>
      <p:sp>
        <p:nvSpPr>
          <p:cNvPr id="2" name="PlaceHolder 1"/>
          <p:cNvSpPr>
            <a:spLocks noGrp="1"/>
          </p:cNvSpPr>
          <p:nvPr>
            <p:ph type="sldNum" idx="9"/>
          </p:nvPr>
        </p:nvSpPr>
        <p:spPr/>
        <p:txBody>
          <a:bodyPr/>
          <a:p>
            <a:fld id="{7710742F-2EB2-4C33-BEFE-CC02236894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4179960" y="127944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669"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670" name=""/>
          <p:cNvSpPr txBox="1"/>
          <p:nvPr/>
        </p:nvSpPr>
        <p:spPr>
          <a:xfrm>
            <a:off x="324000" y="1341360"/>
            <a:ext cx="381636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Day-Ahead Market (DAM)</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671" name=""/>
          <p:cNvSpPr/>
          <p:nvPr/>
        </p:nvSpPr>
        <p:spPr>
          <a:xfrm>
            <a:off x="324000" y="1844640"/>
            <a:ext cx="8424720" cy="305316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Prior to execution of the DAM, ERCOT shall complete a Day-Ahead SFT.</a:t>
            </a:r>
            <a:endParaRPr b="0" lang="en-US" sz="2200" spc="-1" strike="noStrike">
              <a:solidFill>
                <a:srgbClr val="ffffff"/>
              </a:solidFill>
              <a:latin typeface="Arial"/>
            </a:endParaRPr>
          </a:p>
          <a:p>
            <a:pPr marL="457200" indent="-457200">
              <a:lnSpc>
                <a:spcPct val="100000"/>
              </a:lnSpc>
              <a:spcBef>
                <a:spcPts val="1100"/>
              </a:spcBef>
              <a:buSzPct val="102909"/>
              <a:buBlip>
                <a:blip r:embed="rId2"/>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The DAM maximizes bid-based revenues minus offer-based costs over the Operating Day, subject to security and other constraints and ERCOT A/S procurement requirements.</a:t>
            </a:r>
            <a:endParaRPr b="0" lang="en-US" sz="2200" spc="-1" strike="noStrike">
              <a:solidFill>
                <a:srgbClr val="ffffff"/>
              </a:solidFill>
              <a:latin typeface="Arial"/>
            </a:endParaRPr>
          </a:p>
          <a:p>
            <a:pPr marL="457200" indent="-457200">
              <a:lnSpc>
                <a:spcPct val="100000"/>
              </a:lnSpc>
              <a:spcBef>
                <a:spcPts val="1100"/>
              </a:spcBef>
              <a:buSzPct val="102909"/>
              <a:buBlip>
                <a:blip r:embed="rId3"/>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The DAM settlement is based on hourly MW awards and on Day-Ahead hourly Settlement Point Price (SPP).</a:t>
            </a:r>
            <a:endParaRPr b="0" lang="en-US" sz="2200" spc="-1" strike="noStrike">
              <a:solidFill>
                <a:srgbClr val="ffffff"/>
              </a:solidFill>
              <a:latin typeface="Arial"/>
            </a:endParaRPr>
          </a:p>
        </p:txBody>
      </p:sp>
      <p:sp>
        <p:nvSpPr>
          <p:cNvPr id="2" name="PlaceHolder 1"/>
          <p:cNvSpPr>
            <a:spLocks noGrp="1"/>
          </p:cNvSpPr>
          <p:nvPr>
            <p:ph type="sldNum" idx="9"/>
          </p:nvPr>
        </p:nvSpPr>
        <p:spPr/>
        <p:txBody>
          <a:bodyPr/>
          <a:p>
            <a:fld id="{F935BDE3-5B5A-47B4-B343-A72F2DA1B0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pic>
        <p:nvPicPr>
          <p:cNvPr id="673" name="" descr=""/>
          <p:cNvPicPr/>
          <p:nvPr/>
        </p:nvPicPr>
        <p:blipFill>
          <a:blip r:embed="rId1"/>
          <a:stretch/>
        </p:blipFill>
        <p:spPr>
          <a:xfrm>
            <a:off x="324000" y="1336680"/>
            <a:ext cx="8532720" cy="5348160"/>
          </a:xfrm>
          <a:prstGeom prst="rect">
            <a:avLst/>
          </a:prstGeom>
          <a:ln w="0">
            <a:noFill/>
          </a:ln>
        </p:spPr>
      </p:pic>
      <p:sp>
        <p:nvSpPr>
          <p:cNvPr id="674" name=""/>
          <p:cNvSpPr/>
          <p:nvPr/>
        </p:nvSpPr>
        <p:spPr>
          <a:xfrm>
            <a:off x="2232000" y="1413000"/>
            <a:ext cx="4319640" cy="68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txBox="1"/>
          <p:nvPr/>
        </p:nvSpPr>
        <p:spPr>
          <a:xfrm>
            <a:off x="324000" y="1160640"/>
            <a:ext cx="5688000" cy="36036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Security Sequence including RUC</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9"/>
          </p:nvPr>
        </p:nvSpPr>
        <p:spPr/>
        <p:txBody>
          <a:bodyPr/>
          <a:p>
            <a:fld id="{AC9AFC22-77F5-4BCB-A2D7-4470316407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0" y="1673280"/>
            <a:ext cx="8820000" cy="3680640"/>
          </a:xfrm>
          <a:prstGeom prst="rect">
            <a:avLst/>
          </a:prstGeom>
          <a:noFill/>
          <a:ln w="0">
            <a:noFill/>
          </a:ln>
        </p:spPr>
        <p:style>
          <a:lnRef idx="0"/>
          <a:fillRef idx="0"/>
          <a:effectRef idx="0"/>
          <a:fontRef idx="minor"/>
        </p:style>
        <p:txBody>
          <a:bodyPr lIns="92160" rIns="0" tIns="46080" bIns="46080" anchor="t">
            <a:spAutoFit/>
          </a:bodyPr>
          <a:p>
            <a:pPr marL="345960" indent="-345960">
              <a:lnSpc>
                <a:spcPct val="100000"/>
              </a:lnSpc>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RUC is used to</a:t>
            </a:r>
            <a:endParaRPr b="0" lang="en-US" sz="2200" spc="-1" strike="noStrike">
              <a:solidFill>
                <a:srgbClr val="ffffff"/>
              </a:solidFill>
              <a:latin typeface="Arial"/>
            </a:endParaRPr>
          </a:p>
          <a:p>
            <a:pPr lvl="1" marL="804960" indent="-228600">
              <a:lnSpc>
                <a:spcPct val="100000"/>
              </a:lnSpc>
              <a:buSzPct val="102812"/>
              <a:buBlip>
                <a:blip r:embed="rId2"/>
              </a:buBlip>
              <a:tabLst>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Lst>
            </a:pPr>
            <a:r>
              <a:rPr b="0" lang="en-US" sz="1800" spc="-1" strike="noStrike">
                <a:solidFill>
                  <a:srgbClr val="008000"/>
                </a:solidFill>
                <a:latin typeface="Arial Rounded MT Bold"/>
              </a:rPr>
              <a:t>Ensure Transmission System reliability</a:t>
            </a:r>
            <a:endParaRPr b="0" lang="en-US" sz="1800" spc="-1" strike="noStrike">
              <a:solidFill>
                <a:srgbClr val="ffffff"/>
              </a:solidFill>
              <a:latin typeface="Arial"/>
            </a:endParaRPr>
          </a:p>
          <a:p>
            <a:pPr lvl="1" marL="804960" indent="-228600">
              <a:lnSpc>
                <a:spcPct val="100000"/>
              </a:lnSpc>
              <a:buSzPct val="102812"/>
              <a:buBlip>
                <a:blip r:embed="rId3"/>
              </a:buBlip>
              <a:tabLst>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Lst>
            </a:pPr>
            <a:r>
              <a:rPr b="0" lang="en-US" sz="1800" spc="-1" strike="noStrike">
                <a:solidFill>
                  <a:srgbClr val="008000"/>
                </a:solidFill>
                <a:latin typeface="Arial Rounded MT Bold"/>
              </a:rPr>
              <a:t>Ensure enough Resource capacity, including A/S capacity, is committed in the right locations to reliably serve the forecasted Load</a:t>
            </a:r>
            <a:endParaRPr b="0" lang="en-US" sz="1800" spc="-1" strike="noStrike">
              <a:solidFill>
                <a:srgbClr val="ffffff"/>
              </a:solidFill>
              <a:latin typeface="Arial"/>
            </a:endParaRPr>
          </a:p>
          <a:p>
            <a:pPr marL="345960" indent="-345960">
              <a:lnSpc>
                <a:spcPct val="100000"/>
              </a:lnSpc>
              <a:spcBef>
                <a:spcPts val="1100"/>
              </a:spcBef>
              <a:buSzPct val="102909"/>
              <a:buBlip>
                <a:blip r:embed="rId4"/>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RUC uses Security Constrained Unit Commitment (SCUC) algorithm</a:t>
            </a:r>
            <a:endParaRPr b="0" lang="en-US" sz="2200" spc="-1" strike="noStrike">
              <a:solidFill>
                <a:srgbClr val="ffffff"/>
              </a:solidFill>
              <a:latin typeface="Arial"/>
            </a:endParaRPr>
          </a:p>
          <a:p>
            <a:pPr marL="345960" indent="-345960">
              <a:lnSpc>
                <a:spcPct val="100000"/>
              </a:lnSpc>
              <a:spcBef>
                <a:spcPts val="1100"/>
              </a:spcBef>
              <a:buSzPct val="102909"/>
              <a:buBlip>
                <a:blip r:embed="rId5"/>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RUC in the Nodal system is similar to the current RPRS </a:t>
            </a:r>
            <a:endParaRPr b="0" lang="en-US" sz="2200" spc="-1" strike="noStrike">
              <a:solidFill>
                <a:srgbClr val="ffffff"/>
              </a:solidFill>
              <a:latin typeface="Arial"/>
            </a:endParaRPr>
          </a:p>
          <a:p>
            <a:pPr marL="345960" indent="-345960">
              <a:lnSpc>
                <a:spcPct val="100000"/>
              </a:lnSpc>
              <a:spcBef>
                <a:spcPts val="1100"/>
              </a:spcBef>
              <a:buSzPct val="102909"/>
              <a:buBlip>
                <a:blip r:embed="rId6"/>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The objective of the RUC process is to minimize costs based on Three-Part Supply Offers, substituting a proxy Energy Offer Curve for the Energy Offer Curve, over the RUC study period</a:t>
            </a:r>
            <a:endParaRPr b="0" lang="en-US" sz="2200" spc="-1" strike="noStrike">
              <a:solidFill>
                <a:srgbClr val="ffffff"/>
              </a:solidFill>
              <a:latin typeface="Arial"/>
            </a:endParaRPr>
          </a:p>
        </p:txBody>
      </p:sp>
      <p:sp>
        <p:nvSpPr>
          <p:cNvPr id="677" name=""/>
          <p:cNvSpPr txBox="1"/>
          <p:nvPr/>
        </p:nvSpPr>
        <p:spPr>
          <a:xfrm>
            <a:off x="324000" y="1160640"/>
            <a:ext cx="5184720" cy="36036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liability Unit Commitment (RUC)</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678"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2" name="PlaceHolder 1"/>
          <p:cNvSpPr>
            <a:spLocks noGrp="1"/>
          </p:cNvSpPr>
          <p:nvPr>
            <p:ph type="sldNum" idx="9"/>
          </p:nvPr>
        </p:nvSpPr>
        <p:spPr/>
        <p:txBody>
          <a:bodyPr/>
          <a:p>
            <a:fld id="{42E97A69-19C5-4E5A-99C5-623C9E6D7E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4430880" y="12081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680" name=""/>
          <p:cNvSpPr txBox="1"/>
          <p:nvPr/>
        </p:nvSpPr>
        <p:spPr>
          <a:xfrm>
            <a:off x="324000" y="1305000"/>
            <a:ext cx="4103640" cy="36036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liability Unit Commitmen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681"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682" name=""/>
          <p:cNvSpPr/>
          <p:nvPr/>
        </p:nvSpPr>
        <p:spPr>
          <a:xfrm>
            <a:off x="8747280" y="357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683" name="" descr=""/>
          <p:cNvPicPr/>
          <p:nvPr/>
        </p:nvPicPr>
        <p:blipFill>
          <a:blip r:embed="rId1"/>
          <a:stretch/>
        </p:blipFill>
        <p:spPr>
          <a:xfrm>
            <a:off x="971640" y="1951200"/>
            <a:ext cx="6624720" cy="3890880"/>
          </a:xfrm>
          <a:prstGeom prst="rect">
            <a:avLst/>
          </a:prstGeom>
          <a:ln w="0">
            <a:noFill/>
          </a:ln>
        </p:spPr>
      </p:pic>
      <p:sp>
        <p:nvSpPr>
          <p:cNvPr id="2" name="PlaceHolder 1"/>
          <p:cNvSpPr>
            <a:spLocks noGrp="1"/>
          </p:cNvSpPr>
          <p:nvPr>
            <p:ph type="sldNum" idx="9"/>
          </p:nvPr>
        </p:nvSpPr>
        <p:spPr/>
        <p:txBody>
          <a:bodyPr/>
          <a:p>
            <a:fld id="{B25BAD60-5959-4098-A99C-589606AE46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4430880" y="12081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685" name=""/>
          <p:cNvSpPr txBox="1"/>
          <p:nvPr/>
        </p:nvSpPr>
        <p:spPr>
          <a:xfrm>
            <a:off x="324000" y="1305000"/>
            <a:ext cx="4103640" cy="36036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liability Unit Commitmen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686"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687" name=""/>
          <p:cNvSpPr/>
          <p:nvPr/>
        </p:nvSpPr>
        <p:spPr>
          <a:xfrm>
            <a:off x="8747280" y="357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8" name=""/>
          <p:cNvSpPr/>
          <p:nvPr/>
        </p:nvSpPr>
        <p:spPr>
          <a:xfrm>
            <a:off x="882648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689" name="" descr=""/>
          <p:cNvPicPr/>
          <p:nvPr/>
        </p:nvPicPr>
        <p:blipFill>
          <a:blip r:embed="rId1"/>
          <a:stretch/>
        </p:blipFill>
        <p:spPr>
          <a:xfrm>
            <a:off x="1008000" y="2060640"/>
            <a:ext cx="6659640" cy="3913200"/>
          </a:xfrm>
          <a:prstGeom prst="rect">
            <a:avLst/>
          </a:prstGeom>
          <a:ln w="0">
            <a:noFill/>
          </a:ln>
        </p:spPr>
      </p:pic>
      <p:sp>
        <p:nvSpPr>
          <p:cNvPr id="2" name="PlaceHolder 1"/>
          <p:cNvSpPr>
            <a:spLocks noGrp="1"/>
          </p:cNvSpPr>
          <p:nvPr>
            <p:ph type="sldNum" idx="9"/>
          </p:nvPr>
        </p:nvSpPr>
        <p:spPr/>
        <p:txBody>
          <a:bodyPr/>
          <a:p>
            <a:fld id="{8F1F842C-CEB5-4B9C-826E-49D6677043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16000" y="1844640"/>
            <a:ext cx="8732880" cy="319284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spcBef>
                <a:spcPts val="689"/>
              </a:spcBef>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Day-Ahead RUC (DRUC) runs after the close of Day-Ahead Market.</a:t>
            </a:r>
            <a:endParaRPr b="0" lang="en-US" sz="2200" spc="-1" strike="noStrike">
              <a:solidFill>
                <a:srgbClr val="ffffff"/>
              </a:solidFill>
              <a:latin typeface="Arial"/>
            </a:endParaRPr>
          </a:p>
          <a:p>
            <a:pPr marL="345960" indent="-345960">
              <a:lnSpc>
                <a:spcPct val="100000"/>
              </a:lnSpc>
              <a:spcBef>
                <a:spcPts val="1100"/>
              </a:spcBef>
              <a:buSzPct val="102909"/>
              <a:buBlip>
                <a:blip r:embed="rId2"/>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The RUC study period for DRUC is the next Operating Day.</a:t>
            </a:r>
            <a:endParaRPr b="0" lang="en-US" sz="2200" spc="-1" strike="noStrike">
              <a:solidFill>
                <a:srgbClr val="ffffff"/>
              </a:solidFill>
              <a:latin typeface="Arial"/>
            </a:endParaRPr>
          </a:p>
          <a:p>
            <a:pPr marL="345960" indent="-345960">
              <a:lnSpc>
                <a:spcPct val="100000"/>
              </a:lnSpc>
              <a:spcBef>
                <a:spcPts val="1100"/>
              </a:spcBef>
              <a:buSzPct val="102909"/>
              <a:buBlip>
                <a:blip r:embed="rId3"/>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The output will be a list of Resources that need to be committed for tomorrow’s 24-hour Operating Period and the hours they need to be operated.  </a:t>
            </a:r>
            <a:endParaRPr b="0" lang="en-US" sz="2200" spc="-1" strike="noStrike">
              <a:solidFill>
                <a:srgbClr val="ffffff"/>
              </a:solidFill>
              <a:latin typeface="Arial"/>
            </a:endParaRPr>
          </a:p>
          <a:p>
            <a:pPr marL="345960" indent="-345960">
              <a:lnSpc>
                <a:spcPct val="100000"/>
              </a:lnSpc>
              <a:spcBef>
                <a:spcPts val="1100"/>
              </a:spcBef>
              <a:buSzPct val="102909"/>
              <a:buBlip>
                <a:blip r:embed="rId4"/>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It is assumed that the Resources will operate at minimum output unless instructed otherwise by ERCOT.</a:t>
            </a:r>
            <a:endParaRPr b="0" lang="en-US" sz="2200" spc="-1" strike="noStrike">
              <a:solidFill>
                <a:srgbClr val="ffffff"/>
              </a:solidFill>
              <a:latin typeface="Arial"/>
            </a:endParaRPr>
          </a:p>
        </p:txBody>
      </p:sp>
      <p:sp>
        <p:nvSpPr>
          <p:cNvPr id="691" name=""/>
          <p:cNvSpPr/>
          <p:nvPr/>
        </p:nvSpPr>
        <p:spPr>
          <a:xfrm>
            <a:off x="4430880" y="12081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692" name=""/>
          <p:cNvSpPr txBox="1"/>
          <p:nvPr/>
        </p:nvSpPr>
        <p:spPr>
          <a:xfrm>
            <a:off x="324000" y="1305000"/>
            <a:ext cx="4103640" cy="36036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liability Unit Commitmen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693"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2" name="PlaceHolder 1"/>
          <p:cNvSpPr>
            <a:spLocks noGrp="1"/>
          </p:cNvSpPr>
          <p:nvPr>
            <p:ph type="sldNum" idx="9"/>
          </p:nvPr>
        </p:nvSpPr>
        <p:spPr/>
        <p:txBody>
          <a:bodyPr/>
          <a:p>
            <a:fld id="{C85EB0BE-3489-4592-864E-34A3A112BD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16000" y="1844640"/>
            <a:ext cx="8732880" cy="294876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spcBef>
                <a:spcPts val="689"/>
              </a:spcBef>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Hour-Ahead RUC (HRUC) runs every hour approximately one hour ahead of the Operating Period after the security analysis is run.</a:t>
            </a:r>
            <a:endParaRPr b="0" lang="en-US" sz="2200" spc="-1" strike="noStrike">
              <a:solidFill>
                <a:srgbClr val="ffffff"/>
              </a:solidFill>
              <a:latin typeface="Arial"/>
            </a:endParaRPr>
          </a:p>
          <a:p>
            <a:pPr marL="345960" indent="-345960">
              <a:lnSpc>
                <a:spcPct val="100000"/>
              </a:lnSpc>
              <a:spcBef>
                <a:spcPts val="689"/>
              </a:spcBef>
              <a:buSzPct val="102909"/>
              <a:buBlip>
                <a:blip r:embed="rId2"/>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The RUC study period for HRUC is the balance of the current Operating Day plus the next Operating Day if the DRUC for the next Operating Day has been solved.</a:t>
            </a:r>
            <a:endParaRPr b="0" lang="en-US" sz="2200" spc="-1" strike="noStrike">
              <a:solidFill>
                <a:srgbClr val="ffffff"/>
              </a:solidFill>
              <a:latin typeface="Arial"/>
            </a:endParaRPr>
          </a:p>
          <a:p>
            <a:pPr marL="345960" indent="-345960">
              <a:lnSpc>
                <a:spcPct val="100000"/>
              </a:lnSpc>
              <a:spcBef>
                <a:spcPts val="689"/>
              </a:spcBef>
              <a:buSzPct val="102909"/>
              <a:buBlip>
                <a:blip r:embed="rId3"/>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ERCOT will perform the Hour-Ahead RUC using its updated forecast of hourly Load.</a:t>
            </a:r>
            <a:endParaRPr b="0" lang="en-US" sz="2200" spc="-1" strike="noStrike">
              <a:solidFill>
                <a:srgbClr val="ffffff"/>
              </a:solidFill>
              <a:latin typeface="Arial"/>
            </a:endParaRPr>
          </a:p>
        </p:txBody>
      </p:sp>
      <p:sp>
        <p:nvSpPr>
          <p:cNvPr id="695" name=""/>
          <p:cNvSpPr/>
          <p:nvPr/>
        </p:nvSpPr>
        <p:spPr>
          <a:xfrm>
            <a:off x="4430880" y="12081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696" name=""/>
          <p:cNvSpPr txBox="1"/>
          <p:nvPr/>
        </p:nvSpPr>
        <p:spPr>
          <a:xfrm>
            <a:off x="324000" y="1305000"/>
            <a:ext cx="4103640" cy="36036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liability Unit Commitmen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697"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2" name="PlaceHolder 1"/>
          <p:cNvSpPr>
            <a:spLocks noGrp="1"/>
          </p:cNvSpPr>
          <p:nvPr>
            <p:ph type="sldNum" idx="9"/>
          </p:nvPr>
        </p:nvSpPr>
        <p:spPr/>
        <p:txBody>
          <a:bodyPr/>
          <a:p>
            <a:fld id="{44809435-7AA7-4D62-8E86-71362AA256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16000" y="1844640"/>
            <a:ext cx="8732880" cy="361908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spcBef>
                <a:spcPts val="689"/>
              </a:spcBef>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ERCOT shall review the RUC-recommended Resource commitments to assess feasibility and shall make any changes that it considers necessary, in its sole discretion.</a:t>
            </a:r>
            <a:endParaRPr b="0" lang="en-US" sz="2200" spc="-1" strike="noStrike">
              <a:solidFill>
                <a:srgbClr val="ffffff"/>
              </a:solidFill>
              <a:latin typeface="Arial"/>
            </a:endParaRPr>
          </a:p>
          <a:p>
            <a:pPr marL="345960" indent="-345960">
              <a:lnSpc>
                <a:spcPct val="100000"/>
              </a:lnSpc>
              <a:spcBef>
                <a:spcPts val="689"/>
              </a:spcBef>
              <a:buSzPct val="102909"/>
              <a:buBlip>
                <a:blip r:embed="rId2"/>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The RUC process can recommend Resource de-commitment.  ERCOT may only de-commit a Resource to resolve transmission constraints that are otherwise incapable of resolution.</a:t>
            </a:r>
            <a:endParaRPr b="0" lang="en-US" sz="2200" spc="-1" strike="noStrike">
              <a:solidFill>
                <a:srgbClr val="ffffff"/>
              </a:solidFill>
              <a:latin typeface="Arial"/>
            </a:endParaRPr>
          </a:p>
          <a:p>
            <a:pPr marL="345960" indent="-345960">
              <a:lnSpc>
                <a:spcPct val="100000"/>
              </a:lnSpc>
              <a:spcBef>
                <a:spcPts val="689"/>
              </a:spcBef>
              <a:buSzPct val="102909"/>
              <a:buBlip>
                <a:blip r:embed="rId3"/>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For each RUC, ERCOT shall use a snapshot of Resource Commitments from each QSE’s most recently submitted COP before RUC execution to settle RUC charges.</a:t>
            </a:r>
            <a:endParaRPr b="0" lang="en-US" sz="2200" spc="-1" strike="noStrike">
              <a:solidFill>
                <a:srgbClr val="ffffff"/>
              </a:solidFill>
              <a:latin typeface="Arial"/>
            </a:endParaRPr>
          </a:p>
        </p:txBody>
      </p:sp>
      <p:sp>
        <p:nvSpPr>
          <p:cNvPr id="699" name=""/>
          <p:cNvSpPr/>
          <p:nvPr/>
        </p:nvSpPr>
        <p:spPr>
          <a:xfrm>
            <a:off x="4430880" y="12081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700" name=""/>
          <p:cNvSpPr txBox="1"/>
          <p:nvPr/>
        </p:nvSpPr>
        <p:spPr>
          <a:xfrm>
            <a:off x="324000" y="1305000"/>
            <a:ext cx="4103640" cy="36036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liability Unit Commitmen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701"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2" name="PlaceHolder 1"/>
          <p:cNvSpPr>
            <a:spLocks noGrp="1"/>
          </p:cNvSpPr>
          <p:nvPr>
            <p:ph type="sldNum" idx="9"/>
          </p:nvPr>
        </p:nvSpPr>
        <p:spPr/>
        <p:txBody>
          <a:bodyPr/>
          <a:p>
            <a:fld id="{F5136FA2-E726-4BCD-8373-CBEC652B2A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pic>
        <p:nvPicPr>
          <p:cNvPr id="703" name="" descr=""/>
          <p:cNvPicPr/>
          <p:nvPr/>
        </p:nvPicPr>
        <p:blipFill>
          <a:blip r:embed="rId1"/>
          <a:stretch/>
        </p:blipFill>
        <p:spPr>
          <a:xfrm>
            <a:off x="863640" y="1015920"/>
            <a:ext cx="7597800" cy="5689800"/>
          </a:xfrm>
          <a:prstGeom prst="rect">
            <a:avLst/>
          </a:prstGeom>
          <a:ln w="0">
            <a:noFill/>
          </a:ln>
        </p:spPr>
      </p:pic>
      <p:sp>
        <p:nvSpPr>
          <p:cNvPr id="704" name=""/>
          <p:cNvSpPr/>
          <p:nvPr/>
        </p:nvSpPr>
        <p:spPr>
          <a:xfrm>
            <a:off x="971640" y="1125360"/>
            <a:ext cx="7129440" cy="46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5" name=""/>
          <p:cNvSpPr txBox="1"/>
          <p:nvPr/>
        </p:nvSpPr>
        <p:spPr>
          <a:xfrm>
            <a:off x="324000" y="1197000"/>
            <a:ext cx="8532720" cy="46836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al Time Network Security Analysis including SCED</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9"/>
          </p:nvPr>
        </p:nvSpPr>
        <p:spPr/>
        <p:txBody>
          <a:bodyPr/>
          <a:p>
            <a:fld id="{89FBE876-FB9E-45DF-BC0A-9A60B7691E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txBox="1"/>
          <p:nvPr/>
        </p:nvSpPr>
        <p:spPr>
          <a:xfrm>
            <a:off x="324000" y="1341360"/>
            <a:ext cx="2842920" cy="28728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al-Time Marke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707" name=""/>
          <p:cNvSpPr/>
          <p:nvPr/>
        </p:nvSpPr>
        <p:spPr>
          <a:xfrm>
            <a:off x="216000" y="1916280"/>
            <a:ext cx="8696160" cy="481284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Security Constrained Economic Dispatch (LMP Calculator) is used to determine Resource Base Points and LMPs.</a:t>
            </a:r>
            <a:endParaRPr b="0" lang="en-US" sz="2200" spc="-1" strike="noStrike">
              <a:solidFill>
                <a:srgbClr val="ffffff"/>
              </a:solidFill>
              <a:latin typeface="Arial"/>
            </a:endParaRPr>
          </a:p>
          <a:p>
            <a:pPr marL="345960" indent="-345960">
              <a:lnSpc>
                <a:spcPct val="100000"/>
              </a:lnSpc>
              <a:spcBef>
                <a:spcPts val="1375"/>
              </a:spcBef>
              <a:buSzPct val="102909"/>
              <a:buBlip>
                <a:blip r:embed="rId2"/>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SCED will run every 5 minutes based on state estimator output, linearized binding constraints from security analysis and may include 5-minute Load forecast.</a:t>
            </a:r>
            <a:endParaRPr b="0" lang="en-US" sz="2200" spc="-1" strike="noStrike">
              <a:solidFill>
                <a:srgbClr val="ffffff"/>
              </a:solidFill>
              <a:latin typeface="Arial"/>
            </a:endParaRPr>
          </a:p>
          <a:p>
            <a:pPr marL="345960" indent="-345960">
              <a:lnSpc>
                <a:spcPct val="100000"/>
              </a:lnSpc>
              <a:spcBef>
                <a:spcPts val="1375"/>
              </a:spcBef>
              <a:buSzPct val="102909"/>
              <a:buBlip>
                <a:blip r:embed="rId3"/>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The SCED process uses a two-step methodology that applies mitigation prospectively to resolve Non-Competitive Constraints for the current Operating Hour.</a:t>
            </a:r>
            <a:endParaRPr b="0" lang="en-US" sz="2200" spc="-1" strike="noStrike">
              <a:solidFill>
                <a:srgbClr val="ffffff"/>
              </a:solidFill>
              <a:latin typeface="Arial"/>
            </a:endParaRPr>
          </a:p>
          <a:p>
            <a:pPr marL="345960" indent="-345960">
              <a:lnSpc>
                <a:spcPct val="100000"/>
              </a:lnSpc>
              <a:spcBef>
                <a:spcPts val="1375"/>
              </a:spcBef>
              <a:buSzPct val="102909"/>
              <a:buBlip>
                <a:blip r:embed="rId4"/>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Energy will be settled on a 15-minute interval based on net injection-weighted average of the LMPs calculated in the three 5-minute intervals.</a:t>
            </a:r>
            <a:endParaRPr b="0" lang="en-US" sz="2200" spc="-1" strike="noStrike">
              <a:solidFill>
                <a:srgbClr val="ffffff"/>
              </a:solidFill>
              <a:latin typeface="Arial"/>
            </a:endParaRPr>
          </a:p>
          <a:p>
            <a:pPr marL="345960" indent="-345960">
              <a:lnSpc>
                <a:spcPct val="100000"/>
              </a:lnSpc>
              <a:spcBef>
                <a:spcPts val="1375"/>
              </a:spcBef>
              <a:tabLst>
                <a:tab algn="l" pos="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endParaRPr b="0" lang="en-US" sz="2200" spc="-1" strike="noStrike">
              <a:solidFill>
                <a:srgbClr val="ffffff"/>
              </a:solidFill>
              <a:latin typeface="Arial"/>
            </a:endParaRPr>
          </a:p>
        </p:txBody>
      </p:sp>
      <p:sp>
        <p:nvSpPr>
          <p:cNvPr id="708"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2" name="PlaceHolder 1"/>
          <p:cNvSpPr>
            <a:spLocks noGrp="1"/>
          </p:cNvSpPr>
          <p:nvPr>
            <p:ph type="sldNum" idx="9"/>
          </p:nvPr>
        </p:nvSpPr>
        <p:spPr/>
        <p:txBody>
          <a:bodyPr/>
          <a:p>
            <a:fld id="{D3506D63-41BA-4993-AEE0-7163406804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2060640"/>
            <a:ext cx="8244000" cy="576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PlaceHolder 1"/>
          <p:cNvSpPr>
            <a:spLocks noGrp="1"/>
          </p:cNvSpPr>
          <p:nvPr>
            <p:ph/>
          </p:nvPr>
        </p:nvSpPr>
        <p:spPr>
          <a:xfrm>
            <a:off x="468000" y="2060640"/>
            <a:ext cx="8172360" cy="3162240"/>
          </a:xfrm>
          <a:prstGeom prst="rect">
            <a:avLst/>
          </a:prstGeom>
          <a:noFill/>
          <a:ln w="0">
            <a:noFill/>
          </a:ln>
        </p:spPr>
        <p:txBody>
          <a:bodyPr lIns="90000" rIns="0" tIns="46800" bIns="46800" anchor="t">
            <a:normAutofit/>
          </a:bodyPr>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hat is Nodal?</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hy Nodal?</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Elements of Texas Nodal Market</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imeline for Implementation</a:t>
            </a:r>
            <a:endParaRPr b="0" lang="en-US" sz="3600" spc="-1" strike="noStrike">
              <a:solidFill>
                <a:srgbClr val="000000"/>
              </a:solidFill>
              <a:latin typeface="Arial"/>
            </a:endParaRPr>
          </a:p>
        </p:txBody>
      </p:sp>
      <p:sp>
        <p:nvSpPr>
          <p:cNvPr id="180" name=""/>
          <p:cNvSpPr txBox="1"/>
          <p:nvPr/>
        </p:nvSpPr>
        <p:spPr>
          <a:xfrm>
            <a:off x="6948360" y="260280"/>
            <a:ext cx="1963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Road Map</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 name="PlaceHolder 2"/>
          <p:cNvSpPr>
            <a:spLocks noGrp="1"/>
          </p:cNvSpPr>
          <p:nvPr>
            <p:ph type="sldNum" idx="9"/>
          </p:nvPr>
        </p:nvSpPr>
        <p:spPr/>
        <p:txBody>
          <a:bodyPr/>
          <a:p>
            <a:fld id="{B57BF216-D05F-48D4-8FC3-15C69FF741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txBox="1"/>
          <p:nvPr/>
        </p:nvSpPr>
        <p:spPr>
          <a:xfrm>
            <a:off x="324000" y="1341360"/>
            <a:ext cx="2842920" cy="28728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al-Time Marke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710" name=""/>
          <p:cNvSpPr/>
          <p:nvPr/>
        </p:nvSpPr>
        <p:spPr>
          <a:xfrm>
            <a:off x="216000" y="1916280"/>
            <a:ext cx="8696160" cy="464580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When the SCED process cannot reach a solution, ERCOT shall declare an Emergency Condition (EC).</a:t>
            </a:r>
            <a:endParaRPr b="0" lang="en-US" sz="2200" spc="-1" strike="noStrike">
              <a:solidFill>
                <a:srgbClr val="ffffff"/>
              </a:solidFill>
              <a:latin typeface="Arial"/>
            </a:endParaRPr>
          </a:p>
          <a:p>
            <a:pPr marL="345960" indent="-345960">
              <a:lnSpc>
                <a:spcPct val="100000"/>
              </a:lnSpc>
              <a:spcBef>
                <a:spcPts val="1375"/>
              </a:spcBef>
              <a:buSzPct val="102909"/>
              <a:buBlip>
                <a:blip r:embed="rId2"/>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Once ERCOT declares an EC, ERCOT may:</a:t>
            </a:r>
            <a:endParaRPr b="0" lang="en-US" sz="2200" spc="-1" strike="noStrike">
              <a:solidFill>
                <a:srgbClr val="ffffff"/>
              </a:solidFill>
              <a:latin typeface="Arial"/>
            </a:endParaRPr>
          </a:p>
          <a:p>
            <a:pPr lvl="1" marL="923760" indent="-347400">
              <a:lnSpc>
                <a:spcPct val="100000"/>
              </a:lnSpc>
              <a:spcBef>
                <a:spcPts val="624"/>
              </a:spcBef>
              <a:buSzPct val="102792"/>
              <a:buBlip>
                <a:blip r:embed="rId3"/>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000" spc="-1" strike="noStrike">
                <a:solidFill>
                  <a:srgbClr val="008000"/>
                </a:solidFill>
                <a:latin typeface="Arial Rounded MT Bold"/>
              </a:rPr>
              <a:t>Direct the SCED process to relax active transmission constraints and/or HASLs and LASLs and resume calculation of LMPs;</a:t>
            </a:r>
            <a:endParaRPr b="0" lang="en-US" sz="2000" spc="-1" strike="noStrike">
              <a:solidFill>
                <a:srgbClr val="ffffff"/>
              </a:solidFill>
              <a:latin typeface="Arial"/>
            </a:endParaRPr>
          </a:p>
          <a:p>
            <a:pPr lvl="1" marL="923760" indent="-347400">
              <a:lnSpc>
                <a:spcPct val="100000"/>
              </a:lnSpc>
              <a:spcBef>
                <a:spcPts val="624"/>
              </a:spcBef>
              <a:buSzPct val="102792"/>
              <a:buBlip>
                <a:blip r:embed="rId4"/>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000" spc="-1" strike="noStrike">
                <a:solidFill>
                  <a:srgbClr val="008000"/>
                </a:solidFill>
                <a:latin typeface="Arial Rounded MT Bold"/>
              </a:rPr>
              <a:t>Issue Emergency Base Points for Resources;</a:t>
            </a:r>
            <a:endParaRPr b="0" lang="en-US" sz="2000" spc="-1" strike="noStrike">
              <a:solidFill>
                <a:srgbClr val="ffffff"/>
              </a:solidFill>
              <a:latin typeface="Arial"/>
            </a:endParaRPr>
          </a:p>
          <a:p>
            <a:pPr lvl="1" marL="923760" indent="-347400">
              <a:lnSpc>
                <a:spcPct val="100000"/>
              </a:lnSpc>
              <a:spcBef>
                <a:spcPts val="624"/>
              </a:spcBef>
              <a:buSzPct val="102792"/>
              <a:buBlip>
                <a:blip r:embed="rId5"/>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000" spc="-1" strike="noStrike">
                <a:solidFill>
                  <a:srgbClr val="008000"/>
                </a:solidFill>
                <a:latin typeface="Arial Rounded MT Bold"/>
              </a:rPr>
              <a:t>Issue an instruction to hold the previous interval;</a:t>
            </a:r>
            <a:endParaRPr b="0" lang="en-US" sz="2000" spc="-1" strike="noStrike">
              <a:solidFill>
                <a:srgbClr val="ffffff"/>
              </a:solidFill>
              <a:latin typeface="Arial"/>
            </a:endParaRPr>
          </a:p>
          <a:p>
            <a:pPr lvl="1" marL="923760" indent="-347400">
              <a:lnSpc>
                <a:spcPct val="100000"/>
              </a:lnSpc>
              <a:spcBef>
                <a:spcPts val="624"/>
              </a:spcBef>
              <a:buSzPct val="102792"/>
              <a:buBlip>
                <a:blip r:embed="rId6"/>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000" spc="-1" strike="noStrike">
                <a:solidFill>
                  <a:srgbClr val="008000"/>
                </a:solidFill>
                <a:latin typeface="Arial Rounded MT Bold"/>
              </a:rPr>
              <a:t>Instruct a QF, Hydro or nuclear-powered Resource to operate below its Low Sustained Limit.</a:t>
            </a:r>
            <a:endParaRPr b="0" lang="en-US" sz="2000" spc="-1" strike="noStrike">
              <a:solidFill>
                <a:srgbClr val="ffffff"/>
              </a:solidFill>
              <a:latin typeface="Arial"/>
            </a:endParaRPr>
          </a:p>
          <a:p>
            <a:pPr marL="345960" indent="-345960">
              <a:lnSpc>
                <a:spcPct val="100000"/>
              </a:lnSpc>
              <a:spcBef>
                <a:spcPts val="1500"/>
              </a:spcBef>
              <a:buSzPct val="102884"/>
              <a:buBlip>
                <a:blip r:embed="rId7"/>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ffffff"/>
                </a:solidFill>
                <a:latin typeface="Arial Rounded MT Bold"/>
              </a:rPr>
              <a:t>The EC continues until the SCED process can reach a solution without using measures listed above.</a:t>
            </a:r>
            <a:endParaRPr b="0" lang="en-US" sz="2400" spc="-1" strike="noStrike">
              <a:solidFill>
                <a:srgbClr val="ffffff"/>
              </a:solidFill>
              <a:latin typeface="Arial"/>
            </a:endParaRPr>
          </a:p>
        </p:txBody>
      </p:sp>
      <p:sp>
        <p:nvSpPr>
          <p:cNvPr id="711"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712" name=""/>
          <p:cNvSpPr/>
          <p:nvPr/>
        </p:nvSpPr>
        <p:spPr>
          <a:xfrm>
            <a:off x="3243240" y="124308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2" name="PlaceHolder 1"/>
          <p:cNvSpPr>
            <a:spLocks noGrp="1"/>
          </p:cNvSpPr>
          <p:nvPr>
            <p:ph type="sldNum" idx="9"/>
          </p:nvPr>
        </p:nvSpPr>
        <p:spPr/>
        <p:txBody>
          <a:bodyPr/>
          <a:p>
            <a:fld id="{770AB1DB-3B43-468E-B887-FC0BF49432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txBox="1"/>
          <p:nvPr/>
        </p:nvSpPr>
        <p:spPr>
          <a:xfrm>
            <a:off x="324000" y="1341360"/>
            <a:ext cx="2842920" cy="28728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al-Time Marke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714" name=""/>
          <p:cNvSpPr/>
          <p:nvPr/>
        </p:nvSpPr>
        <p:spPr>
          <a:xfrm>
            <a:off x="216000" y="1916280"/>
            <a:ext cx="8696160" cy="196416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spcBef>
                <a:spcPts val="1375"/>
              </a:spcBef>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Four levels of communication among ERCOT, TSPs and QSEs:</a:t>
            </a:r>
            <a:endParaRPr b="0" lang="en-US" sz="2200" spc="-1" strike="noStrike">
              <a:solidFill>
                <a:srgbClr val="ffffff"/>
              </a:solidFill>
              <a:latin typeface="Arial"/>
            </a:endParaRPr>
          </a:p>
          <a:p>
            <a:pPr lvl="1" marL="923760" indent="-347400">
              <a:lnSpc>
                <a:spcPct val="100000"/>
              </a:lnSpc>
              <a:spcBef>
                <a:spcPts val="624"/>
              </a:spcBef>
              <a:buSzPct val="102792"/>
              <a:buBlip>
                <a:blip r:embed="rId2"/>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000" spc="-1" strike="noStrike">
                <a:solidFill>
                  <a:srgbClr val="008000"/>
                </a:solidFill>
                <a:latin typeface="Arial Rounded MT Bold"/>
              </a:rPr>
              <a:t>Operating Condition Notice (OCN)</a:t>
            </a:r>
            <a:endParaRPr b="0" lang="en-US" sz="2000" spc="-1" strike="noStrike">
              <a:solidFill>
                <a:srgbClr val="ffffff"/>
              </a:solidFill>
              <a:latin typeface="Arial"/>
            </a:endParaRPr>
          </a:p>
          <a:p>
            <a:pPr lvl="1" marL="923760" indent="-347400">
              <a:lnSpc>
                <a:spcPct val="100000"/>
              </a:lnSpc>
              <a:spcBef>
                <a:spcPts val="624"/>
              </a:spcBef>
              <a:buSzPct val="102792"/>
              <a:buBlip>
                <a:blip r:embed="rId3"/>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000" spc="-1" strike="noStrike">
                <a:solidFill>
                  <a:srgbClr val="008000"/>
                </a:solidFill>
                <a:latin typeface="Arial Rounded MT Bold"/>
              </a:rPr>
              <a:t>Advisory</a:t>
            </a:r>
            <a:endParaRPr b="0" lang="en-US" sz="2000" spc="-1" strike="noStrike">
              <a:solidFill>
                <a:srgbClr val="ffffff"/>
              </a:solidFill>
              <a:latin typeface="Arial"/>
            </a:endParaRPr>
          </a:p>
          <a:p>
            <a:pPr lvl="1" marL="923760" indent="-347400">
              <a:lnSpc>
                <a:spcPct val="100000"/>
              </a:lnSpc>
              <a:spcBef>
                <a:spcPts val="624"/>
              </a:spcBef>
              <a:buSzPct val="102792"/>
              <a:buBlip>
                <a:blip r:embed="rId4"/>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000" spc="-1" strike="noStrike">
                <a:solidFill>
                  <a:srgbClr val="008000"/>
                </a:solidFill>
                <a:latin typeface="Arial Rounded MT Bold"/>
              </a:rPr>
              <a:t>Alert</a:t>
            </a:r>
            <a:endParaRPr b="0" lang="en-US" sz="2000" spc="-1" strike="noStrike">
              <a:solidFill>
                <a:srgbClr val="ffffff"/>
              </a:solidFill>
              <a:latin typeface="Arial"/>
            </a:endParaRPr>
          </a:p>
          <a:p>
            <a:pPr lvl="1" marL="923760" indent="-347400">
              <a:lnSpc>
                <a:spcPct val="100000"/>
              </a:lnSpc>
              <a:spcBef>
                <a:spcPts val="624"/>
              </a:spcBef>
              <a:buSzPct val="102792"/>
              <a:buBlip>
                <a:blip r:embed="rId5"/>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2000" spc="-1" strike="noStrike">
                <a:solidFill>
                  <a:srgbClr val="008000"/>
                </a:solidFill>
                <a:latin typeface="Arial Rounded MT Bold"/>
              </a:rPr>
              <a:t>Emergency Notice</a:t>
            </a:r>
            <a:endParaRPr b="0" lang="en-US" sz="2000" spc="-1" strike="noStrike">
              <a:solidFill>
                <a:srgbClr val="ffffff"/>
              </a:solidFill>
              <a:latin typeface="Arial"/>
            </a:endParaRPr>
          </a:p>
        </p:txBody>
      </p:sp>
      <p:sp>
        <p:nvSpPr>
          <p:cNvPr id="715"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716" name=""/>
          <p:cNvSpPr/>
          <p:nvPr/>
        </p:nvSpPr>
        <p:spPr>
          <a:xfrm>
            <a:off x="3243240" y="124308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2" name="PlaceHolder 1"/>
          <p:cNvSpPr>
            <a:spLocks noGrp="1"/>
          </p:cNvSpPr>
          <p:nvPr>
            <p:ph type="sldNum" idx="9"/>
          </p:nvPr>
        </p:nvSpPr>
        <p:spPr/>
        <p:txBody>
          <a:bodyPr/>
          <a:p>
            <a:fld id="{79CC74AB-0F22-4C98-B326-F27BF10726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txBox="1"/>
          <p:nvPr/>
        </p:nvSpPr>
        <p:spPr>
          <a:xfrm>
            <a:off x="324000" y="1341360"/>
            <a:ext cx="2842920" cy="28728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al-Time Marke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718"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719" name=""/>
          <p:cNvSpPr/>
          <p:nvPr/>
        </p:nvSpPr>
        <p:spPr>
          <a:xfrm>
            <a:off x="3243240" y="124308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graphicFrame>
        <p:nvGraphicFramePr>
          <p:cNvPr id="720" name=""/>
          <p:cNvGraphicFramePr/>
          <p:nvPr/>
        </p:nvGraphicFramePr>
        <p:xfrm>
          <a:off x="250920" y="1916280"/>
          <a:ext cx="8677080" cy="4287600"/>
        </p:xfrm>
        <a:graphic>
          <a:graphicData uri="http://schemas.openxmlformats.org/drawingml/2006/table">
            <a:tbl>
              <a:tblPr/>
              <a:tblGrid>
                <a:gridCol w="4284720"/>
                <a:gridCol w="4392360"/>
              </a:tblGrid>
              <a:tr h="6123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 we need to monitor SCE in the Nodal Market?</a:t>
                      </a:r>
                      <a:endParaRPr b="0" lang="en-US" sz="2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8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al Market</a:t>
                      </a:r>
                      <a:endParaRPr b="0" lang="en-US" sz="2400" spc="-1" strike="noStrike">
                        <a:solidFill>
                          <a:srgbClr val="ffffff"/>
                        </a:solidFill>
                        <a:latin typeface="Arial"/>
                      </a:endParaRPr>
                    </a:p>
                  </a:txBody>
                  <a:tcPr anchor="t" marL="90000" marR="90000">
                    <a:lnL w="13680">
                      <a:solidFill>
                        <a:srgbClr val="000000"/>
                      </a:solidFill>
                    </a:lnL>
                    <a:lnR w="1368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al Market</a:t>
                      </a:r>
                      <a:endParaRPr b="0" lang="en-US" sz="2400" spc="-1" strike="noStrike">
                        <a:solidFill>
                          <a:srgbClr val="ffffff"/>
                        </a:solidFill>
                        <a:latin typeface="Arial"/>
                      </a:endParaRPr>
                    </a:p>
                  </a:txBody>
                  <a:tcPr anchor="t" marL="90000" marR="90000">
                    <a:lnL w="13680">
                      <a:solidFill>
                        <a:srgbClr val="000000"/>
                      </a:solidFill>
                    </a:lnL>
                    <a:lnR w="13680">
                      <a:solidFill>
                        <a:srgbClr val="000000"/>
                      </a:solidFill>
                    </a:lnR>
                    <a:lnT w="18720">
                      <a:solidFill>
                        <a:srgbClr val="000000"/>
                      </a:solidFill>
                    </a:lnT>
                    <a:lnB w="1872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folio Scheduling, Bidding, Dispatching</a:t>
                      </a:r>
                      <a:endParaRPr b="0" lang="en-US" sz="1600" spc="-1" strike="noStrike">
                        <a:solidFill>
                          <a:srgbClr val="ffffff"/>
                        </a:solidFill>
                        <a:latin typeface="Arial"/>
                      </a:endParaRPr>
                    </a:p>
                  </a:txBody>
                  <a:tcPr anchor="t" marL="90000" marR="90000">
                    <a:lnL w="13680">
                      <a:solidFill>
                        <a:srgbClr val="000000"/>
                      </a:solidFill>
                    </a:lnL>
                    <a:lnR w="1368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pecific Scheduling, Offering and Dispatching</a:t>
                      </a:r>
                      <a:endParaRPr b="0" lang="en-US" sz="1600" spc="-1" strike="noStrike">
                        <a:solidFill>
                          <a:srgbClr val="ffffff"/>
                        </a:solidFill>
                        <a:latin typeface="Arial"/>
                      </a:endParaRPr>
                    </a:p>
                  </a:txBody>
                  <a:tcPr anchor="t" marL="90000" marR="90000">
                    <a:lnL w="13680">
                      <a:solidFill>
                        <a:srgbClr val="000000"/>
                      </a:solidFill>
                    </a:lnL>
                    <a:lnR w="13680">
                      <a:solidFill>
                        <a:srgbClr val="000000"/>
                      </a:solidFill>
                    </a:lnR>
                    <a:lnT w="18720">
                      <a:solidFill>
                        <a:srgbClr val="000000"/>
                      </a:solidFill>
                    </a:lnT>
                    <a:lnB w="5760">
                      <a:solidFill>
                        <a:srgbClr val="000000"/>
                      </a:solidFill>
                    </a:lnB>
                    <a:noFill/>
                  </a:tcPr>
                </a:tc>
              </a:tr>
              <a:tr h="890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Real Time, QSEs try to follow their portfolio schedules; ERCOT deploys BES to balance schl’d Gen and Load Forecast</a:t>
                      </a:r>
                      <a:endParaRPr b="0" lang="en-US" sz="16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Real Time, Resources are economically dispatched to their base-points based on real time Load requirements</a:t>
                      </a:r>
                      <a:endParaRPr b="0" lang="en-US" sz="16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1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nstructed Resource Charge (URC) is calculated based on zonal Total Uninstructed Deviation</a:t>
                      </a:r>
                      <a:endParaRPr b="0" lang="en-US" sz="16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Resource Base-Point Deviation Charge is calculated based on the Resource’s Dispatch Instruction and actual generation</a:t>
                      </a:r>
                      <a:endParaRPr b="0" lang="en-US" sz="16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pecific performance cannot be monitored; SCE is needed to monitor portfolio performance</a:t>
                      </a:r>
                      <a:endParaRPr b="0" lang="en-US" sz="16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ance performance can be monitored at Resource-specific level; SCE is not needed in Nodal Market</a:t>
                      </a:r>
                      <a:endParaRPr b="0" lang="en-US" sz="16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9"/>
          </p:nvPr>
        </p:nvSpPr>
        <p:spPr/>
        <p:txBody>
          <a:bodyPr/>
          <a:p>
            <a:fld id="{3777E86B-5E89-4BE4-B788-A66DB9AA48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txBox="1"/>
          <p:nvPr/>
        </p:nvSpPr>
        <p:spPr>
          <a:xfrm>
            <a:off x="324000" y="1341360"/>
            <a:ext cx="2842920" cy="28728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al-Time Marke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722"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723" name=""/>
          <p:cNvSpPr/>
          <p:nvPr/>
        </p:nvSpPr>
        <p:spPr>
          <a:xfrm>
            <a:off x="3243240" y="124308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724" name=""/>
          <p:cNvSpPr/>
          <p:nvPr/>
        </p:nvSpPr>
        <p:spPr>
          <a:xfrm>
            <a:off x="1403280" y="4148280"/>
            <a:ext cx="640872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flipV="1">
            <a:off x="1403280" y="1808280"/>
            <a:ext cx="1800" cy="23400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431964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80836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572436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709308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2486160" y="4329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M</a:t>
            </a:r>
            <a:endParaRPr b="0" lang="en-US" sz="1800" spc="-1" strike="noStrike">
              <a:solidFill>
                <a:srgbClr val="ffffff"/>
              </a:solidFill>
              <a:latin typeface="Arial"/>
            </a:endParaRPr>
          </a:p>
        </p:txBody>
      </p:sp>
      <p:sp>
        <p:nvSpPr>
          <p:cNvPr id="731" name=""/>
          <p:cNvSpPr/>
          <p:nvPr/>
        </p:nvSpPr>
        <p:spPr>
          <a:xfrm>
            <a:off x="6229800" y="440064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PM</a:t>
            </a:r>
            <a:endParaRPr b="0" lang="en-US" sz="1800" spc="-1" strike="noStrike">
              <a:solidFill>
                <a:srgbClr val="ffffff"/>
              </a:solidFill>
              <a:latin typeface="Arial"/>
            </a:endParaRPr>
          </a:p>
        </p:txBody>
      </p:sp>
      <p:sp>
        <p:nvSpPr>
          <p:cNvPr id="732" name=""/>
          <p:cNvSpPr/>
          <p:nvPr/>
        </p:nvSpPr>
        <p:spPr>
          <a:xfrm>
            <a:off x="662472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1403280" y="3392640"/>
            <a:ext cx="144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719280" y="4761000"/>
            <a:ext cx="8100720" cy="210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Why do we have big SCEs in current Zodal Market at 6AM and 10 PM?</a:t>
            </a:r>
            <a:r>
              <a:rPr b="0" lang="en-US" sz="1600" spc="-1" strike="noStrike">
                <a:solidFill>
                  <a:srgbClr val="ffffff"/>
                </a:solidFill>
                <a:latin typeface="Arial"/>
                <a:ea typeface="宋体"/>
              </a:rPr>
              <a:t> </a:t>
            </a:r>
            <a:endParaRPr b="0" lang="en-US" sz="16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Zonal Market</a:t>
            </a:r>
            <a:r>
              <a:rPr b="0" lang="en-US" sz="1600" spc="-1" strike="noStrike">
                <a:solidFill>
                  <a:srgbClr val="ffffff"/>
                </a:solidFill>
                <a:latin typeface="Arial"/>
                <a:ea typeface="宋体"/>
              </a:rPr>
              <a:t>, QSEs try to follow their schedules to minimize SCE, but it is not easy due to the steep schedule changes at 6AM and 10 PM</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ERCOT</a:t>
            </a:r>
            <a:r>
              <a:rPr b="0" lang="en-US" sz="1600" spc="-1" strike="noStrike">
                <a:solidFill>
                  <a:srgbClr val="ffffff"/>
                </a:solidFill>
                <a:latin typeface="Arial"/>
              </a:rPr>
              <a:t> dispatch</a:t>
            </a:r>
            <a:r>
              <a:rPr b="0" lang="en-US" sz="1600" spc="-1" strike="noStrike">
                <a:solidFill>
                  <a:srgbClr val="ffffff"/>
                </a:solidFill>
                <a:latin typeface="Arial"/>
                <a:ea typeface="宋体"/>
              </a:rPr>
              <a:t>es</a:t>
            </a:r>
            <a:r>
              <a:rPr b="0" lang="en-US" sz="1600" spc="-1" strike="noStrike">
                <a:solidFill>
                  <a:srgbClr val="ffffff"/>
                </a:solidFill>
                <a:latin typeface="Arial"/>
              </a:rPr>
              <a:t> </a:t>
            </a:r>
            <a:r>
              <a:rPr b="0" lang="en-US" sz="1600" spc="-1" strike="noStrike">
                <a:solidFill>
                  <a:srgbClr val="ffffff"/>
                </a:solidFill>
                <a:latin typeface="Arial"/>
                <a:ea typeface="宋体"/>
              </a:rPr>
              <a:t>are</a:t>
            </a:r>
            <a:r>
              <a:rPr b="0" lang="en-US" sz="1600" spc="-1" strike="noStrike">
                <a:solidFill>
                  <a:srgbClr val="ffffff"/>
                </a:solidFill>
                <a:latin typeface="Arial"/>
              </a:rPr>
              <a:t> based on scheduled generation, Load forecast, and zonal portfolio Ramp Rate </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onal portfolio Ramp Rate cannot accurately reflect a QSE’s actual ramping capability in a zone  </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min </a:t>
            </a:r>
            <a:r>
              <a:rPr b="0" lang="en-US" sz="1600" spc="-1" strike="noStrike">
                <a:solidFill>
                  <a:srgbClr val="ffffff"/>
                </a:solidFill>
                <a:latin typeface="Arial"/>
                <a:ea typeface="宋体"/>
              </a:rPr>
              <a:t>dispatch</a:t>
            </a:r>
            <a:endParaRPr b="0" lang="en-US" sz="1600" spc="-1" strike="noStrike">
              <a:solidFill>
                <a:srgbClr val="ffffff"/>
              </a:solidFill>
              <a:latin typeface="Arial"/>
            </a:endParaRPr>
          </a:p>
        </p:txBody>
      </p:sp>
      <p:sp>
        <p:nvSpPr>
          <p:cNvPr id="735" name=""/>
          <p:cNvSpPr/>
          <p:nvPr/>
        </p:nvSpPr>
        <p:spPr>
          <a:xfrm flipV="1">
            <a:off x="2843280" y="2349360"/>
            <a:ext cx="0" cy="104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2843280" y="2349360"/>
            <a:ext cx="37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622920" y="3394080"/>
            <a:ext cx="82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flipH="1">
            <a:off x="6659640" y="1844640"/>
            <a:ext cx="504720" cy="53964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flipH="1" flipV="1">
            <a:off x="3132000" y="2492280"/>
            <a:ext cx="144720" cy="61272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03960" y="1449360"/>
            <a:ext cx="1308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chedul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Generation</a:t>
            </a:r>
            <a:endParaRPr b="0" lang="en-US" sz="1800" spc="-1" strike="noStrike">
              <a:solidFill>
                <a:srgbClr val="ffffff"/>
              </a:solidFill>
              <a:latin typeface="Arial"/>
            </a:endParaRPr>
          </a:p>
        </p:txBody>
      </p:sp>
      <p:sp>
        <p:nvSpPr>
          <p:cNvPr id="741" name=""/>
          <p:cNvSpPr/>
          <p:nvPr/>
        </p:nvSpPr>
        <p:spPr>
          <a:xfrm>
            <a:off x="2771640" y="3141720"/>
            <a:ext cx="1246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Load Forecast</a:t>
            </a:r>
            <a:endParaRPr b="0" lang="en-US" sz="1800" spc="-1" strike="noStrike">
              <a:solidFill>
                <a:srgbClr val="ffffff"/>
              </a:solidFill>
              <a:latin typeface="Arial"/>
            </a:endParaRPr>
          </a:p>
        </p:txBody>
      </p:sp>
      <p:sp>
        <p:nvSpPr>
          <p:cNvPr id="742" name=""/>
          <p:cNvSpPr/>
          <p:nvPr/>
        </p:nvSpPr>
        <p:spPr>
          <a:xfrm flipV="1">
            <a:off x="6624720" y="2349360"/>
            <a:ext cx="0" cy="104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1393920" y="1773360"/>
            <a:ext cx="6087960" cy="1817640"/>
          </a:xfrm>
          <a:custGeom>
            <a:avLst/>
            <a:gdLst/>
            <a:ahLst/>
            <a:rect l="l" t="t" r="r" b="b"/>
            <a:pathLst>
              <a:path w="3835" h="1145">
                <a:moveTo>
                  <a:pt x="0" y="1096"/>
                </a:moveTo>
                <a:cubicBezTo>
                  <a:pt x="155" y="1101"/>
                  <a:pt x="284" y="1096"/>
                  <a:pt x="436" y="1089"/>
                </a:cubicBezTo>
                <a:cubicBezTo>
                  <a:pt x="493" y="1078"/>
                  <a:pt x="558" y="1067"/>
                  <a:pt x="611" y="1039"/>
                </a:cubicBezTo>
                <a:cubicBezTo>
                  <a:pt x="639" y="1024"/>
                  <a:pt x="665" y="1007"/>
                  <a:pt x="695" y="997"/>
                </a:cubicBezTo>
                <a:cubicBezTo>
                  <a:pt x="713" y="980"/>
                  <a:pt x="728" y="970"/>
                  <a:pt x="752" y="962"/>
                </a:cubicBezTo>
                <a:cubicBezTo>
                  <a:pt x="792" y="902"/>
                  <a:pt x="739" y="973"/>
                  <a:pt x="787" y="934"/>
                </a:cubicBezTo>
                <a:cubicBezTo>
                  <a:pt x="794" y="929"/>
                  <a:pt x="795" y="919"/>
                  <a:pt x="801" y="913"/>
                </a:cubicBezTo>
                <a:cubicBezTo>
                  <a:pt x="814" y="902"/>
                  <a:pt x="843" y="885"/>
                  <a:pt x="843" y="885"/>
                </a:cubicBezTo>
                <a:cubicBezTo>
                  <a:pt x="857" y="864"/>
                  <a:pt x="867" y="840"/>
                  <a:pt x="885" y="822"/>
                </a:cubicBezTo>
                <a:cubicBezTo>
                  <a:pt x="900" y="807"/>
                  <a:pt x="910" y="799"/>
                  <a:pt x="920" y="780"/>
                </a:cubicBezTo>
                <a:cubicBezTo>
                  <a:pt x="923" y="773"/>
                  <a:pt x="923" y="765"/>
                  <a:pt x="927" y="759"/>
                </a:cubicBezTo>
                <a:cubicBezTo>
                  <a:pt x="935" y="744"/>
                  <a:pt x="946" y="730"/>
                  <a:pt x="955" y="716"/>
                </a:cubicBezTo>
                <a:cubicBezTo>
                  <a:pt x="974" y="686"/>
                  <a:pt x="980" y="642"/>
                  <a:pt x="998" y="611"/>
                </a:cubicBezTo>
                <a:cubicBezTo>
                  <a:pt x="1040" y="537"/>
                  <a:pt x="1086" y="435"/>
                  <a:pt x="1159" y="386"/>
                </a:cubicBezTo>
                <a:cubicBezTo>
                  <a:pt x="1180" y="355"/>
                  <a:pt x="1205" y="345"/>
                  <a:pt x="1236" y="330"/>
                </a:cubicBezTo>
                <a:cubicBezTo>
                  <a:pt x="1324" y="286"/>
                  <a:pt x="1383" y="265"/>
                  <a:pt x="1482" y="253"/>
                </a:cubicBezTo>
                <a:cubicBezTo>
                  <a:pt x="1634" y="259"/>
                  <a:pt x="1647" y="265"/>
                  <a:pt x="1791" y="253"/>
                </a:cubicBezTo>
                <a:cubicBezTo>
                  <a:pt x="1864" y="247"/>
                  <a:pt x="1935" y="230"/>
                  <a:pt x="2009" y="225"/>
                </a:cubicBezTo>
                <a:cubicBezTo>
                  <a:pt x="2037" y="216"/>
                  <a:pt x="2065" y="206"/>
                  <a:pt x="2093" y="197"/>
                </a:cubicBezTo>
                <a:cubicBezTo>
                  <a:pt x="2107" y="192"/>
                  <a:pt x="2135" y="183"/>
                  <a:pt x="2135" y="183"/>
                </a:cubicBezTo>
                <a:cubicBezTo>
                  <a:pt x="2184" y="134"/>
                  <a:pt x="2095" y="219"/>
                  <a:pt x="2192" y="154"/>
                </a:cubicBezTo>
                <a:cubicBezTo>
                  <a:pt x="2235" y="125"/>
                  <a:pt x="2279" y="100"/>
                  <a:pt x="2325" y="77"/>
                </a:cubicBezTo>
                <a:cubicBezTo>
                  <a:pt x="2352" y="63"/>
                  <a:pt x="2379" y="52"/>
                  <a:pt x="2409" y="42"/>
                </a:cubicBezTo>
                <a:cubicBezTo>
                  <a:pt x="2416" y="40"/>
                  <a:pt x="2430" y="35"/>
                  <a:pt x="2430" y="35"/>
                </a:cubicBezTo>
                <a:cubicBezTo>
                  <a:pt x="2455" y="11"/>
                  <a:pt x="2495" y="7"/>
                  <a:pt x="2529" y="0"/>
                </a:cubicBezTo>
                <a:cubicBezTo>
                  <a:pt x="2605" y="5"/>
                  <a:pt x="2626" y="0"/>
                  <a:pt x="2690" y="21"/>
                </a:cubicBezTo>
                <a:cubicBezTo>
                  <a:pt x="2704" y="26"/>
                  <a:pt x="2733" y="35"/>
                  <a:pt x="2733" y="35"/>
                </a:cubicBezTo>
                <a:cubicBezTo>
                  <a:pt x="2747" y="44"/>
                  <a:pt x="2766" y="49"/>
                  <a:pt x="2775" y="63"/>
                </a:cubicBezTo>
                <a:cubicBezTo>
                  <a:pt x="2780" y="70"/>
                  <a:pt x="2783" y="78"/>
                  <a:pt x="2789" y="84"/>
                </a:cubicBezTo>
                <a:cubicBezTo>
                  <a:pt x="2807" y="102"/>
                  <a:pt x="2832" y="116"/>
                  <a:pt x="2852" y="133"/>
                </a:cubicBezTo>
                <a:cubicBezTo>
                  <a:pt x="2898" y="171"/>
                  <a:pt x="2942" y="213"/>
                  <a:pt x="2992" y="246"/>
                </a:cubicBezTo>
                <a:cubicBezTo>
                  <a:pt x="3011" y="274"/>
                  <a:pt x="3035" y="296"/>
                  <a:pt x="3056" y="323"/>
                </a:cubicBezTo>
                <a:cubicBezTo>
                  <a:pt x="3092" y="369"/>
                  <a:pt x="3123" y="422"/>
                  <a:pt x="3154" y="471"/>
                </a:cubicBezTo>
                <a:cubicBezTo>
                  <a:pt x="3173" y="501"/>
                  <a:pt x="3209" y="522"/>
                  <a:pt x="3224" y="555"/>
                </a:cubicBezTo>
                <a:cubicBezTo>
                  <a:pt x="3243" y="597"/>
                  <a:pt x="3261" y="639"/>
                  <a:pt x="3280" y="681"/>
                </a:cubicBezTo>
                <a:cubicBezTo>
                  <a:pt x="3311" y="752"/>
                  <a:pt x="3277" y="699"/>
                  <a:pt x="3309" y="744"/>
                </a:cubicBezTo>
                <a:cubicBezTo>
                  <a:pt x="3346" y="857"/>
                  <a:pt x="3385" y="967"/>
                  <a:pt x="3470" y="1054"/>
                </a:cubicBezTo>
                <a:cubicBezTo>
                  <a:pt x="3489" y="1074"/>
                  <a:pt x="3490" y="1064"/>
                  <a:pt x="3512" y="1075"/>
                </a:cubicBezTo>
                <a:cubicBezTo>
                  <a:pt x="3578" y="1108"/>
                  <a:pt x="3650" y="1130"/>
                  <a:pt x="3723" y="1145"/>
                </a:cubicBezTo>
                <a:cubicBezTo>
                  <a:pt x="3812" y="1137"/>
                  <a:pt x="3774" y="1138"/>
                  <a:pt x="3835" y="1138"/>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flipV="1">
            <a:off x="1511280" y="3392280"/>
            <a:ext cx="0" cy="1076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flipV="1">
            <a:off x="1763640" y="3392280"/>
            <a:ext cx="0" cy="1076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flipV="1">
            <a:off x="2050920" y="3392280"/>
            <a:ext cx="0" cy="1076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flipV="1">
            <a:off x="2700360" y="3212640"/>
            <a:ext cx="0" cy="179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V="1">
            <a:off x="4788000" y="2060280"/>
            <a:ext cx="0" cy="2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flipV="1">
            <a:off x="4356000" y="2168640"/>
            <a:ext cx="0" cy="18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flipV="1">
            <a:off x="3995640" y="2204640"/>
            <a:ext cx="0" cy="144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flipV="1">
            <a:off x="3635280" y="2205000"/>
            <a:ext cx="0" cy="108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V="1">
            <a:off x="5184720" y="1844280"/>
            <a:ext cx="0" cy="468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V="1">
            <a:off x="5543640" y="1773360"/>
            <a:ext cx="0" cy="57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V="1">
            <a:off x="5867280" y="1950840"/>
            <a:ext cx="0" cy="361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flipV="1">
            <a:off x="6696000" y="3105000"/>
            <a:ext cx="0" cy="25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951280" y="2349360"/>
            <a:ext cx="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6480000" y="2349360"/>
            <a:ext cx="0" cy="250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7093080" y="3392640"/>
            <a:ext cx="0" cy="144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7343640" y="3392640"/>
            <a:ext cx="0" cy="18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flipH="1" flipV="1">
            <a:off x="4824000" y="2205000"/>
            <a:ext cx="539640" cy="82728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4680000" y="2967120"/>
            <a:ext cx="180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Dispatches are</a:t>
            </a:r>
            <a:r>
              <a:rPr b="0" lang="en-US" sz="1200" spc="-1" strike="noStrike">
                <a:solidFill>
                  <a:srgbClr val="ffffff"/>
                </a:solidFill>
                <a:latin typeface="Arial"/>
              </a:rPr>
              <a:t> based on difference between scheduled generation and Load forecast</a:t>
            </a:r>
            <a:endParaRPr b="0" lang="en-US" sz="1200" spc="-1" strike="noStrike">
              <a:solidFill>
                <a:srgbClr val="ffffff"/>
              </a:solidFill>
              <a:latin typeface="Arial"/>
            </a:endParaRPr>
          </a:p>
        </p:txBody>
      </p:sp>
      <p:sp>
        <p:nvSpPr>
          <p:cNvPr id="2" name="PlaceHolder 1"/>
          <p:cNvSpPr>
            <a:spLocks noGrp="1"/>
          </p:cNvSpPr>
          <p:nvPr>
            <p:ph type="sldNum" idx="9"/>
          </p:nvPr>
        </p:nvSpPr>
        <p:spPr/>
        <p:txBody>
          <a:bodyPr/>
          <a:p>
            <a:fld id="{D5B3B568-11BA-4BC9-AEC9-1878A610A4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txBox="1"/>
          <p:nvPr/>
        </p:nvSpPr>
        <p:spPr>
          <a:xfrm>
            <a:off x="324000" y="1341360"/>
            <a:ext cx="2842920" cy="28728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Real-Time Marke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763"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764" name=""/>
          <p:cNvSpPr/>
          <p:nvPr/>
        </p:nvSpPr>
        <p:spPr>
          <a:xfrm>
            <a:off x="3243240" y="124308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765" name=""/>
          <p:cNvSpPr/>
          <p:nvPr/>
        </p:nvSpPr>
        <p:spPr>
          <a:xfrm>
            <a:off x="324000" y="4834080"/>
            <a:ext cx="8497800" cy="182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SCE is not applicable in the Nodal Market</a:t>
            </a:r>
            <a:endParaRPr b="0" lang="en-US" sz="1800" spc="-1" strike="noStrike">
              <a:solidFill>
                <a:srgbClr val="ffffff"/>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Nodal market</a:t>
            </a:r>
            <a:r>
              <a:rPr b="0" lang="en-US" sz="1800" spc="-1" strike="noStrike">
                <a:solidFill>
                  <a:srgbClr val="ffffff"/>
                </a:solidFill>
                <a:latin typeface="Arial"/>
                <a:ea typeface="宋体"/>
              </a:rPr>
              <a:t>,</a:t>
            </a:r>
            <a:r>
              <a:rPr b="0" lang="en-US" sz="1800" spc="-1" strike="noStrike">
                <a:solidFill>
                  <a:srgbClr val="ffffff"/>
                </a:solidFill>
                <a:latin typeface="Arial"/>
              </a:rPr>
              <a:t> dispatch</a:t>
            </a:r>
            <a:r>
              <a:rPr b="0" lang="en-US" sz="1800" spc="-1" strike="noStrike">
                <a:solidFill>
                  <a:srgbClr val="ffffff"/>
                </a:solidFill>
                <a:latin typeface="Arial"/>
                <a:ea typeface="宋体"/>
              </a:rPr>
              <a:t>es</a:t>
            </a:r>
            <a:r>
              <a:rPr b="0" lang="en-US" sz="1800" spc="-1" strike="noStrike">
                <a:solidFill>
                  <a:srgbClr val="ffffff"/>
                </a:solidFill>
                <a:latin typeface="Arial"/>
              </a:rPr>
              <a:t> </a:t>
            </a:r>
            <a:r>
              <a:rPr b="0" lang="en-US" sz="1800" spc="-1" strike="noStrike">
                <a:solidFill>
                  <a:srgbClr val="ffffff"/>
                </a:solidFill>
                <a:latin typeface="Arial"/>
                <a:ea typeface="宋体"/>
              </a:rPr>
              <a:t>are</a:t>
            </a:r>
            <a:r>
              <a:rPr b="0" lang="en-US" sz="1800" spc="-1" strike="noStrike">
                <a:solidFill>
                  <a:srgbClr val="ffffff"/>
                </a:solidFill>
                <a:latin typeface="Arial"/>
              </a:rPr>
              <a:t> based on SCADA data and forecasted Load requirement.</a:t>
            </a:r>
            <a:endParaRPr b="0" lang="en-US" sz="18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min dispatch.</a:t>
            </a:r>
            <a:endParaRPr b="0" lang="en-US" sz="18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al has Resource-specific Ramp Rate Curve. Ramp Rate is modeled more accurately. </a:t>
            </a:r>
            <a:endParaRPr b="0" lang="en-US" sz="1800" spc="-1" strike="noStrike">
              <a:solidFill>
                <a:srgbClr val="ffffff"/>
              </a:solidFill>
              <a:latin typeface="Arial"/>
            </a:endParaRPr>
          </a:p>
        </p:txBody>
      </p:sp>
      <p:sp>
        <p:nvSpPr>
          <p:cNvPr id="766" name=""/>
          <p:cNvSpPr/>
          <p:nvPr/>
        </p:nvSpPr>
        <p:spPr>
          <a:xfrm>
            <a:off x="1403280" y="4148280"/>
            <a:ext cx="640872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1403280" y="1808280"/>
            <a:ext cx="1800" cy="23400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431964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280836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572436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709308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2486160" y="4329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M</a:t>
            </a:r>
            <a:endParaRPr b="0" lang="en-US" sz="1800" spc="-1" strike="noStrike">
              <a:solidFill>
                <a:srgbClr val="ffffff"/>
              </a:solidFill>
              <a:latin typeface="Arial"/>
            </a:endParaRPr>
          </a:p>
        </p:txBody>
      </p:sp>
      <p:sp>
        <p:nvSpPr>
          <p:cNvPr id="773" name=""/>
          <p:cNvSpPr/>
          <p:nvPr/>
        </p:nvSpPr>
        <p:spPr>
          <a:xfrm>
            <a:off x="6229800" y="440064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PM</a:t>
            </a:r>
            <a:endParaRPr b="0" lang="en-US" sz="1800" spc="-1" strike="noStrike">
              <a:solidFill>
                <a:srgbClr val="ffffff"/>
              </a:solidFill>
              <a:latin typeface="Arial"/>
            </a:endParaRPr>
          </a:p>
        </p:txBody>
      </p:sp>
      <p:sp>
        <p:nvSpPr>
          <p:cNvPr id="774" name=""/>
          <p:cNvSpPr/>
          <p:nvPr/>
        </p:nvSpPr>
        <p:spPr>
          <a:xfrm>
            <a:off x="662472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flipH="1">
            <a:off x="6516720" y="2133720"/>
            <a:ext cx="504720" cy="53964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flipH="1" flipV="1">
            <a:off x="3166560" y="2457360"/>
            <a:ext cx="468360" cy="61128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6985080" y="1808280"/>
            <a:ext cx="176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min ERCOT Dispatches</a:t>
            </a:r>
            <a:endParaRPr b="0" lang="en-US" sz="1800" spc="-1" strike="noStrike">
              <a:solidFill>
                <a:srgbClr val="ffffff"/>
              </a:solidFill>
              <a:latin typeface="Arial"/>
            </a:endParaRPr>
          </a:p>
        </p:txBody>
      </p:sp>
      <p:sp>
        <p:nvSpPr>
          <p:cNvPr id="778" name=""/>
          <p:cNvSpPr/>
          <p:nvPr/>
        </p:nvSpPr>
        <p:spPr>
          <a:xfrm>
            <a:off x="3348000" y="2925720"/>
            <a:ext cx="158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Load Requirement</a:t>
            </a:r>
            <a:endParaRPr b="0" lang="en-US" sz="1800" spc="-1" strike="noStrike">
              <a:solidFill>
                <a:srgbClr val="ffffff"/>
              </a:solidFill>
              <a:latin typeface="Arial"/>
            </a:endParaRPr>
          </a:p>
        </p:txBody>
      </p:sp>
      <p:sp>
        <p:nvSpPr>
          <p:cNvPr id="779" name=""/>
          <p:cNvSpPr/>
          <p:nvPr/>
        </p:nvSpPr>
        <p:spPr>
          <a:xfrm>
            <a:off x="1393920" y="1773360"/>
            <a:ext cx="6087960" cy="1817640"/>
          </a:xfrm>
          <a:custGeom>
            <a:avLst/>
            <a:gdLst/>
            <a:ahLst/>
            <a:rect l="l" t="t" r="r" b="b"/>
            <a:pathLst>
              <a:path w="3835" h="1145">
                <a:moveTo>
                  <a:pt x="0" y="1096"/>
                </a:moveTo>
                <a:cubicBezTo>
                  <a:pt x="155" y="1101"/>
                  <a:pt x="284" y="1096"/>
                  <a:pt x="436" y="1089"/>
                </a:cubicBezTo>
                <a:cubicBezTo>
                  <a:pt x="493" y="1078"/>
                  <a:pt x="558" y="1067"/>
                  <a:pt x="611" y="1039"/>
                </a:cubicBezTo>
                <a:cubicBezTo>
                  <a:pt x="639" y="1024"/>
                  <a:pt x="665" y="1007"/>
                  <a:pt x="695" y="997"/>
                </a:cubicBezTo>
                <a:cubicBezTo>
                  <a:pt x="713" y="980"/>
                  <a:pt x="728" y="970"/>
                  <a:pt x="752" y="962"/>
                </a:cubicBezTo>
                <a:cubicBezTo>
                  <a:pt x="792" y="902"/>
                  <a:pt x="739" y="973"/>
                  <a:pt x="787" y="934"/>
                </a:cubicBezTo>
                <a:cubicBezTo>
                  <a:pt x="794" y="929"/>
                  <a:pt x="795" y="919"/>
                  <a:pt x="801" y="913"/>
                </a:cubicBezTo>
                <a:cubicBezTo>
                  <a:pt x="814" y="902"/>
                  <a:pt x="843" y="885"/>
                  <a:pt x="843" y="885"/>
                </a:cubicBezTo>
                <a:cubicBezTo>
                  <a:pt x="857" y="864"/>
                  <a:pt x="867" y="840"/>
                  <a:pt x="885" y="822"/>
                </a:cubicBezTo>
                <a:cubicBezTo>
                  <a:pt x="900" y="807"/>
                  <a:pt x="910" y="799"/>
                  <a:pt x="920" y="780"/>
                </a:cubicBezTo>
                <a:cubicBezTo>
                  <a:pt x="923" y="773"/>
                  <a:pt x="923" y="765"/>
                  <a:pt x="927" y="759"/>
                </a:cubicBezTo>
                <a:cubicBezTo>
                  <a:pt x="935" y="744"/>
                  <a:pt x="946" y="730"/>
                  <a:pt x="955" y="716"/>
                </a:cubicBezTo>
                <a:cubicBezTo>
                  <a:pt x="974" y="686"/>
                  <a:pt x="980" y="642"/>
                  <a:pt x="998" y="611"/>
                </a:cubicBezTo>
                <a:cubicBezTo>
                  <a:pt x="1040" y="537"/>
                  <a:pt x="1086" y="435"/>
                  <a:pt x="1159" y="386"/>
                </a:cubicBezTo>
                <a:cubicBezTo>
                  <a:pt x="1180" y="355"/>
                  <a:pt x="1205" y="345"/>
                  <a:pt x="1236" y="330"/>
                </a:cubicBezTo>
                <a:cubicBezTo>
                  <a:pt x="1324" y="286"/>
                  <a:pt x="1383" y="265"/>
                  <a:pt x="1482" y="253"/>
                </a:cubicBezTo>
                <a:cubicBezTo>
                  <a:pt x="1634" y="259"/>
                  <a:pt x="1647" y="265"/>
                  <a:pt x="1791" y="253"/>
                </a:cubicBezTo>
                <a:cubicBezTo>
                  <a:pt x="1864" y="247"/>
                  <a:pt x="1935" y="230"/>
                  <a:pt x="2009" y="225"/>
                </a:cubicBezTo>
                <a:cubicBezTo>
                  <a:pt x="2037" y="216"/>
                  <a:pt x="2065" y="206"/>
                  <a:pt x="2093" y="197"/>
                </a:cubicBezTo>
                <a:cubicBezTo>
                  <a:pt x="2107" y="192"/>
                  <a:pt x="2135" y="183"/>
                  <a:pt x="2135" y="183"/>
                </a:cubicBezTo>
                <a:cubicBezTo>
                  <a:pt x="2184" y="134"/>
                  <a:pt x="2095" y="219"/>
                  <a:pt x="2192" y="154"/>
                </a:cubicBezTo>
                <a:cubicBezTo>
                  <a:pt x="2235" y="125"/>
                  <a:pt x="2279" y="100"/>
                  <a:pt x="2325" y="77"/>
                </a:cubicBezTo>
                <a:cubicBezTo>
                  <a:pt x="2352" y="63"/>
                  <a:pt x="2379" y="52"/>
                  <a:pt x="2409" y="42"/>
                </a:cubicBezTo>
                <a:cubicBezTo>
                  <a:pt x="2416" y="40"/>
                  <a:pt x="2430" y="35"/>
                  <a:pt x="2430" y="35"/>
                </a:cubicBezTo>
                <a:cubicBezTo>
                  <a:pt x="2455" y="11"/>
                  <a:pt x="2495" y="7"/>
                  <a:pt x="2529" y="0"/>
                </a:cubicBezTo>
                <a:cubicBezTo>
                  <a:pt x="2605" y="5"/>
                  <a:pt x="2626" y="0"/>
                  <a:pt x="2690" y="21"/>
                </a:cubicBezTo>
                <a:cubicBezTo>
                  <a:pt x="2704" y="26"/>
                  <a:pt x="2733" y="35"/>
                  <a:pt x="2733" y="35"/>
                </a:cubicBezTo>
                <a:cubicBezTo>
                  <a:pt x="2747" y="44"/>
                  <a:pt x="2766" y="49"/>
                  <a:pt x="2775" y="63"/>
                </a:cubicBezTo>
                <a:cubicBezTo>
                  <a:pt x="2780" y="70"/>
                  <a:pt x="2783" y="78"/>
                  <a:pt x="2789" y="84"/>
                </a:cubicBezTo>
                <a:cubicBezTo>
                  <a:pt x="2807" y="102"/>
                  <a:pt x="2832" y="116"/>
                  <a:pt x="2852" y="133"/>
                </a:cubicBezTo>
                <a:cubicBezTo>
                  <a:pt x="2898" y="171"/>
                  <a:pt x="2942" y="213"/>
                  <a:pt x="2992" y="246"/>
                </a:cubicBezTo>
                <a:cubicBezTo>
                  <a:pt x="3011" y="274"/>
                  <a:pt x="3035" y="296"/>
                  <a:pt x="3056" y="323"/>
                </a:cubicBezTo>
                <a:cubicBezTo>
                  <a:pt x="3092" y="369"/>
                  <a:pt x="3123" y="422"/>
                  <a:pt x="3154" y="471"/>
                </a:cubicBezTo>
                <a:cubicBezTo>
                  <a:pt x="3173" y="501"/>
                  <a:pt x="3209" y="522"/>
                  <a:pt x="3224" y="555"/>
                </a:cubicBezTo>
                <a:cubicBezTo>
                  <a:pt x="3243" y="597"/>
                  <a:pt x="3261" y="639"/>
                  <a:pt x="3280" y="681"/>
                </a:cubicBezTo>
                <a:cubicBezTo>
                  <a:pt x="3311" y="752"/>
                  <a:pt x="3277" y="699"/>
                  <a:pt x="3309" y="744"/>
                </a:cubicBezTo>
                <a:cubicBezTo>
                  <a:pt x="3346" y="857"/>
                  <a:pt x="3385" y="967"/>
                  <a:pt x="3470" y="1054"/>
                </a:cubicBezTo>
                <a:cubicBezTo>
                  <a:pt x="3489" y="1074"/>
                  <a:pt x="3490" y="1064"/>
                  <a:pt x="3512" y="1075"/>
                </a:cubicBezTo>
                <a:cubicBezTo>
                  <a:pt x="3578" y="1108"/>
                  <a:pt x="3650" y="1130"/>
                  <a:pt x="3723" y="1145"/>
                </a:cubicBezTo>
                <a:cubicBezTo>
                  <a:pt x="3812" y="1137"/>
                  <a:pt x="3774" y="1138"/>
                  <a:pt x="3835" y="1138"/>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1655640" y="3465360"/>
            <a:ext cx="7164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81" name=""/>
          <p:cNvSpPr/>
          <p:nvPr/>
        </p:nvSpPr>
        <p:spPr>
          <a:xfrm>
            <a:off x="2050920" y="3465360"/>
            <a:ext cx="7164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82" name=""/>
          <p:cNvSpPr/>
          <p:nvPr/>
        </p:nvSpPr>
        <p:spPr>
          <a:xfrm>
            <a:off x="2519280" y="3284640"/>
            <a:ext cx="7164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83" name=""/>
          <p:cNvSpPr/>
          <p:nvPr/>
        </p:nvSpPr>
        <p:spPr>
          <a:xfrm>
            <a:off x="2843280" y="2960640"/>
            <a:ext cx="7128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84" name=""/>
          <p:cNvSpPr/>
          <p:nvPr/>
        </p:nvSpPr>
        <p:spPr>
          <a:xfrm>
            <a:off x="3024360" y="2565360"/>
            <a:ext cx="7128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85" name=""/>
          <p:cNvSpPr/>
          <p:nvPr/>
        </p:nvSpPr>
        <p:spPr>
          <a:xfrm>
            <a:off x="3276720" y="2313000"/>
            <a:ext cx="7128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86" name=""/>
          <p:cNvSpPr/>
          <p:nvPr/>
        </p:nvSpPr>
        <p:spPr>
          <a:xfrm>
            <a:off x="3635280" y="2133720"/>
            <a:ext cx="7164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87" name=""/>
          <p:cNvSpPr/>
          <p:nvPr/>
        </p:nvSpPr>
        <p:spPr>
          <a:xfrm>
            <a:off x="4067280" y="2133720"/>
            <a:ext cx="7128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88" name=""/>
          <p:cNvSpPr/>
          <p:nvPr/>
        </p:nvSpPr>
        <p:spPr>
          <a:xfrm>
            <a:off x="4535640" y="2097000"/>
            <a:ext cx="7128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89" name=""/>
          <p:cNvSpPr/>
          <p:nvPr/>
        </p:nvSpPr>
        <p:spPr>
          <a:xfrm>
            <a:off x="4932360" y="1916280"/>
            <a:ext cx="71280" cy="7272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790" name=""/>
          <p:cNvSpPr/>
          <p:nvPr/>
        </p:nvSpPr>
        <p:spPr>
          <a:xfrm>
            <a:off x="5292720" y="1773360"/>
            <a:ext cx="7128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91" name=""/>
          <p:cNvSpPr/>
          <p:nvPr/>
        </p:nvSpPr>
        <p:spPr>
          <a:xfrm>
            <a:off x="5651640" y="1773360"/>
            <a:ext cx="7128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92" name=""/>
          <p:cNvSpPr/>
          <p:nvPr/>
        </p:nvSpPr>
        <p:spPr>
          <a:xfrm>
            <a:off x="5977080" y="2023920"/>
            <a:ext cx="7128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93" name=""/>
          <p:cNvSpPr/>
          <p:nvPr/>
        </p:nvSpPr>
        <p:spPr>
          <a:xfrm>
            <a:off x="6229440" y="2276640"/>
            <a:ext cx="71280" cy="7272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794" name=""/>
          <p:cNvSpPr/>
          <p:nvPr/>
        </p:nvSpPr>
        <p:spPr>
          <a:xfrm>
            <a:off x="6480000" y="2637000"/>
            <a:ext cx="71640" cy="7272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795" name=""/>
          <p:cNvSpPr/>
          <p:nvPr/>
        </p:nvSpPr>
        <p:spPr>
          <a:xfrm>
            <a:off x="6659640" y="3033720"/>
            <a:ext cx="7128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96" name=""/>
          <p:cNvSpPr/>
          <p:nvPr/>
        </p:nvSpPr>
        <p:spPr>
          <a:xfrm>
            <a:off x="6877080" y="3429000"/>
            <a:ext cx="7128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797" name=""/>
          <p:cNvSpPr/>
          <p:nvPr/>
        </p:nvSpPr>
        <p:spPr>
          <a:xfrm>
            <a:off x="7236000" y="3537000"/>
            <a:ext cx="71280" cy="73080"/>
          </a:xfrm>
          <a:prstGeom prst="ellipse">
            <a:avLst/>
          </a:prstGeom>
          <a:solidFill>
            <a:srgbClr val="66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2" name="PlaceHolder 1"/>
          <p:cNvSpPr>
            <a:spLocks noGrp="1"/>
          </p:cNvSpPr>
          <p:nvPr>
            <p:ph type="sldNum" idx="9"/>
          </p:nvPr>
        </p:nvSpPr>
        <p:spPr/>
        <p:txBody>
          <a:bodyPr/>
          <a:p>
            <a:fld id="{8B87194D-1E36-4CC3-B069-AF10CDB702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250920" y="1592280"/>
            <a:ext cx="8713800" cy="3774960"/>
          </a:xfrm>
          <a:prstGeom prst="rect">
            <a:avLst/>
          </a:prstGeom>
          <a:noFill/>
          <a:ln w="0">
            <a:noFill/>
          </a:ln>
        </p:spPr>
        <p:style>
          <a:lnRef idx="0"/>
          <a:fillRef idx="0"/>
          <a:effectRef idx="0"/>
          <a:fontRef idx="minor"/>
        </p:style>
        <p:txBody>
          <a:bodyPr lIns="92160" rIns="0" tIns="46080" bIns="46080" anchor="t">
            <a:spAutoFit/>
          </a:bodyPr>
          <a:p>
            <a:pPr marL="345960" indent="-345960">
              <a:lnSpc>
                <a:spcPct val="100000"/>
              </a:lnSpc>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Ancillary Service needs are met at Day Ahead through co-optimization of energy and A/S offers and needs in DAM.</a:t>
            </a:r>
            <a:endParaRPr b="0" lang="en-US" sz="2200" spc="-1" strike="noStrike">
              <a:solidFill>
                <a:srgbClr val="ffffff"/>
              </a:solidFill>
              <a:latin typeface="Arial"/>
            </a:endParaRPr>
          </a:p>
          <a:p>
            <a:pPr marL="345960" indent="-345960">
              <a:lnSpc>
                <a:spcPct val="100000"/>
              </a:lnSpc>
              <a:spcBef>
                <a:spcPts val="1375"/>
              </a:spcBef>
              <a:buSzPct val="102909"/>
              <a:buBlip>
                <a:blip r:embed="rId2"/>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ERCOT evaluates and maintains A/S Capacity Sufficiency during the Adjustment Period and in Real-Time</a:t>
            </a:r>
            <a:endParaRPr b="0" lang="en-US" sz="2200" spc="-1" strike="noStrike">
              <a:solidFill>
                <a:srgbClr val="ffffff"/>
              </a:solidFill>
              <a:latin typeface="Arial"/>
            </a:endParaRPr>
          </a:p>
          <a:p>
            <a:pPr lvl="1" marL="853920" indent="-277560">
              <a:lnSpc>
                <a:spcPct val="100000"/>
              </a:lnSpc>
              <a:spcBef>
                <a:spcPts val="1125"/>
              </a:spcBef>
              <a:buSzPct val="102812"/>
              <a:buBlip>
                <a:blip r:embed="rId3"/>
              </a:buBlip>
              <a:tabLst>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Lst>
            </a:pPr>
            <a:r>
              <a:rPr b="0" lang="en-US" sz="1800" spc="-1" strike="noStrike">
                <a:solidFill>
                  <a:srgbClr val="008000"/>
                </a:solidFill>
                <a:latin typeface="Verdana"/>
              </a:rPr>
              <a:t>ERCOT increase the A/S plan</a:t>
            </a:r>
            <a:endParaRPr b="0" lang="en-US" sz="1800" spc="-1" strike="noStrike">
              <a:solidFill>
                <a:srgbClr val="ffffff"/>
              </a:solidFill>
              <a:latin typeface="Arial"/>
            </a:endParaRPr>
          </a:p>
          <a:p>
            <a:pPr lvl="1" marL="853920" indent="-277560">
              <a:lnSpc>
                <a:spcPct val="100000"/>
              </a:lnSpc>
              <a:buSzPct val="102812"/>
              <a:buBlip>
                <a:blip r:embed="rId4"/>
              </a:buBlip>
              <a:tabLst>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Lst>
            </a:pPr>
            <a:r>
              <a:rPr b="0" lang="en-US" sz="1800" spc="-1" strike="noStrike">
                <a:solidFill>
                  <a:srgbClr val="008000"/>
                </a:solidFill>
                <a:latin typeface="Verdana"/>
              </a:rPr>
              <a:t>Replacement of undeliverable A/S due to transmission constraints</a:t>
            </a:r>
            <a:endParaRPr b="0" lang="en-US" sz="1800" spc="-1" strike="noStrike">
              <a:solidFill>
                <a:srgbClr val="ffffff"/>
              </a:solidFill>
              <a:latin typeface="Arial"/>
            </a:endParaRPr>
          </a:p>
          <a:p>
            <a:pPr lvl="1" marL="853920" indent="-277560">
              <a:lnSpc>
                <a:spcPct val="100000"/>
              </a:lnSpc>
              <a:buSzPct val="102812"/>
              <a:buBlip>
                <a:blip r:embed="rId5"/>
              </a:buBlip>
              <a:tabLst>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Lst>
            </a:pPr>
            <a:r>
              <a:rPr b="0" lang="en-US" sz="1800" spc="-1" strike="noStrike">
                <a:solidFill>
                  <a:srgbClr val="008000"/>
                </a:solidFill>
                <a:latin typeface="Verdana"/>
              </a:rPr>
              <a:t>Replacement of A/S due to failure to provide</a:t>
            </a:r>
            <a:endParaRPr b="0" lang="en-US" sz="1800" spc="-1" strike="noStrike">
              <a:solidFill>
                <a:srgbClr val="ffffff"/>
              </a:solidFill>
              <a:latin typeface="Arial"/>
            </a:endParaRPr>
          </a:p>
          <a:p>
            <a:pPr marL="345960" indent="-345960">
              <a:lnSpc>
                <a:spcPct val="100000"/>
              </a:lnSpc>
              <a:spcBef>
                <a:spcPts val="1375"/>
              </a:spcBef>
              <a:buSzPct val="102909"/>
              <a:buBlip>
                <a:blip r:embed="rId6"/>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Supplemental A/S Market (SASM)</a:t>
            </a:r>
            <a:endParaRPr b="0" lang="en-US" sz="2200" spc="-1" strike="noStrike">
              <a:solidFill>
                <a:srgbClr val="ffffff"/>
              </a:solidFill>
              <a:latin typeface="Arial"/>
            </a:endParaRPr>
          </a:p>
          <a:p>
            <a:pPr lvl="1" marL="853920" indent="-277560">
              <a:lnSpc>
                <a:spcPct val="100000"/>
              </a:lnSpc>
              <a:spcBef>
                <a:spcPts val="1125"/>
              </a:spcBef>
              <a:buSzPct val="102812"/>
              <a:buBlip>
                <a:blip r:embed="rId7"/>
              </a:buBlip>
              <a:tabLst>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Lst>
            </a:pPr>
            <a:r>
              <a:rPr b="0" lang="en-US" sz="1800" spc="-1" strike="noStrike">
                <a:solidFill>
                  <a:srgbClr val="008000"/>
                </a:solidFill>
                <a:latin typeface="Verdana"/>
              </a:rPr>
              <a:t>ERCOT shall use SASM to procure the additional quantity required of each A/S, less the quantity self-arranged, if applicable</a:t>
            </a:r>
            <a:endParaRPr b="0" lang="en-US" sz="1800" spc="-1" strike="noStrike">
              <a:solidFill>
                <a:srgbClr val="ffffff"/>
              </a:solidFill>
              <a:latin typeface="Arial"/>
            </a:endParaRPr>
          </a:p>
        </p:txBody>
      </p:sp>
      <p:sp>
        <p:nvSpPr>
          <p:cNvPr id="799" name=""/>
          <p:cNvSpPr txBox="1"/>
          <p:nvPr/>
        </p:nvSpPr>
        <p:spPr>
          <a:xfrm>
            <a:off x="324000" y="1160640"/>
            <a:ext cx="3708360" cy="32364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Ancillary Service Market</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800"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2" name="PlaceHolder 1"/>
          <p:cNvSpPr>
            <a:spLocks noGrp="1"/>
          </p:cNvSpPr>
          <p:nvPr>
            <p:ph type="sldNum" idx="9"/>
          </p:nvPr>
        </p:nvSpPr>
        <p:spPr/>
        <p:txBody>
          <a:bodyPr/>
          <a:p>
            <a:fld id="{81D080F9-952D-4FB7-B5FD-E65D1B2C65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16000" y="1700280"/>
            <a:ext cx="8640720" cy="405396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Load Zone Types</a:t>
            </a:r>
            <a:endParaRPr b="0" lang="en-US" sz="2200" spc="-1" strike="noStrike">
              <a:solidFill>
                <a:srgbClr val="ffffff"/>
              </a:solidFill>
              <a:latin typeface="Arial"/>
            </a:endParaRPr>
          </a:p>
          <a:p>
            <a:pPr lvl="1" marL="923760" indent="-347400">
              <a:lnSpc>
                <a:spcPct val="100000"/>
              </a:lnSpc>
              <a:spcBef>
                <a:spcPts val="1125"/>
              </a:spcBef>
              <a:buSzPct val="102812"/>
              <a:buBlip>
                <a:blip r:embed="rId2"/>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Competitive Zones (as 2003 CSC zones)</a:t>
            </a:r>
            <a:endParaRPr b="0" lang="en-US" sz="1800" spc="-1" strike="noStrike">
              <a:solidFill>
                <a:srgbClr val="ffffff"/>
              </a:solidFill>
              <a:latin typeface="Arial"/>
            </a:endParaRPr>
          </a:p>
          <a:p>
            <a:pPr lvl="1" marL="923760" indent="-347400">
              <a:lnSpc>
                <a:spcPct val="100000"/>
              </a:lnSpc>
              <a:buSzPct val="102812"/>
              <a:buBlip>
                <a:blip r:embed="rId3"/>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NOIE Load Zones</a:t>
            </a:r>
            <a:endParaRPr b="0" lang="en-US" sz="1800" spc="-1" strike="noStrike">
              <a:solidFill>
                <a:srgbClr val="ffffff"/>
              </a:solidFill>
              <a:latin typeface="Arial"/>
            </a:endParaRPr>
          </a:p>
          <a:p>
            <a:pPr lvl="1" marL="923760" indent="-347400">
              <a:lnSpc>
                <a:spcPct val="100000"/>
              </a:lnSpc>
              <a:buSzPct val="102812"/>
              <a:buBlip>
                <a:blip r:embed="rId4"/>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DC Tie Load Zones</a:t>
            </a:r>
            <a:endParaRPr b="0" lang="en-US" sz="1800" spc="-1" strike="noStrike">
              <a:solidFill>
                <a:srgbClr val="ffffff"/>
              </a:solidFill>
              <a:latin typeface="Arial"/>
            </a:endParaRPr>
          </a:p>
          <a:p>
            <a:pPr marL="345960" indent="-345960">
              <a:lnSpc>
                <a:spcPct val="100000"/>
              </a:lnSpc>
              <a:spcBef>
                <a:spcPts val="825"/>
              </a:spcBef>
              <a:buSzPct val="102909"/>
              <a:buBlip>
                <a:blip r:embed="rId5"/>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All NOIEs must be either assigned to an appropriate Competitive Load Zone or have made a choice to establish a NOIE Load Zone</a:t>
            </a:r>
            <a:endParaRPr b="0" lang="en-US" sz="2200" spc="-1" strike="noStrike">
              <a:solidFill>
                <a:srgbClr val="ffffff"/>
              </a:solidFill>
              <a:latin typeface="Arial"/>
            </a:endParaRPr>
          </a:p>
          <a:p>
            <a:pPr marL="345960" indent="-345960">
              <a:lnSpc>
                <a:spcPct val="100000"/>
              </a:lnSpc>
              <a:spcBef>
                <a:spcPts val="825"/>
              </a:spcBef>
              <a:buSzPct val="102909"/>
              <a:buBlip>
                <a:blip r:embed="rId6"/>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The number of NOIE Load Zones may not exceed 20</a:t>
            </a:r>
            <a:endParaRPr b="0" lang="en-US" sz="2200" spc="-1" strike="noStrike">
              <a:solidFill>
                <a:srgbClr val="ffffff"/>
              </a:solidFill>
              <a:latin typeface="Arial"/>
            </a:endParaRPr>
          </a:p>
          <a:p>
            <a:pPr marL="345960" indent="-345960">
              <a:lnSpc>
                <a:spcPct val="100000"/>
              </a:lnSpc>
              <a:spcBef>
                <a:spcPts val="825"/>
              </a:spcBef>
              <a:buSzPct val="102909"/>
              <a:buBlip>
                <a:blip r:embed="rId7"/>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A DC Tie Load Zone contains the Electrical Bus that connects the DC Tie and is used in the settlement of DC Tie Load in that zone</a:t>
            </a:r>
            <a:endParaRPr b="0" lang="en-US" sz="2200" spc="-1" strike="noStrike">
              <a:solidFill>
                <a:srgbClr val="ffffff"/>
              </a:solidFill>
              <a:latin typeface="Arial"/>
            </a:endParaRPr>
          </a:p>
        </p:txBody>
      </p:sp>
      <p:sp>
        <p:nvSpPr>
          <p:cNvPr id="802" name=""/>
          <p:cNvSpPr txBox="1"/>
          <p:nvPr/>
        </p:nvSpPr>
        <p:spPr>
          <a:xfrm>
            <a:off x="324000" y="1268280"/>
            <a:ext cx="2016000" cy="28764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Load Zones</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803"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2" name="PlaceHolder 1"/>
          <p:cNvSpPr>
            <a:spLocks noGrp="1"/>
          </p:cNvSpPr>
          <p:nvPr>
            <p:ph type="sldNum" idx="9"/>
          </p:nvPr>
        </p:nvSpPr>
        <p:spPr/>
        <p:txBody>
          <a:bodyPr/>
          <a:p>
            <a:fld id="{6806026B-1B01-400F-9563-1782D82277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216000" y="1700280"/>
            <a:ext cx="8640720" cy="421704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buSzPct val="102909"/>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Load Zone Modifications</a:t>
            </a:r>
            <a:endParaRPr b="0" lang="en-US" sz="2200" spc="-1" strike="noStrike">
              <a:solidFill>
                <a:srgbClr val="ffffff"/>
              </a:solidFill>
              <a:latin typeface="Arial"/>
            </a:endParaRPr>
          </a:p>
          <a:p>
            <a:pPr lvl="1" marL="923760" indent="-347400">
              <a:lnSpc>
                <a:spcPct val="100000"/>
              </a:lnSpc>
              <a:spcBef>
                <a:spcPts val="675"/>
              </a:spcBef>
              <a:buSzPct val="102812"/>
              <a:buBlip>
                <a:blip r:embed="rId2"/>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NOIEs can make a one-time choice to establish a NOIE Load Zone 6 months before the Nodal Market implementation date</a:t>
            </a:r>
            <a:endParaRPr b="0" lang="en-US" sz="1800" spc="-1" strike="noStrike">
              <a:solidFill>
                <a:srgbClr val="ffffff"/>
              </a:solidFill>
              <a:latin typeface="Arial"/>
            </a:endParaRPr>
          </a:p>
          <a:p>
            <a:pPr lvl="1" marL="923760" indent="-347400">
              <a:lnSpc>
                <a:spcPct val="100000"/>
              </a:lnSpc>
              <a:buSzPct val="102812"/>
              <a:buBlip>
                <a:blip r:embed="rId3"/>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Timeline for all other zone changes – 3 years with Board approval</a:t>
            </a:r>
            <a:endParaRPr b="0" lang="en-US" sz="1800" spc="-1" strike="noStrike">
              <a:solidFill>
                <a:srgbClr val="ffffff"/>
              </a:solidFill>
              <a:latin typeface="Arial"/>
            </a:endParaRPr>
          </a:p>
          <a:p>
            <a:pPr marL="345960" indent="-345960">
              <a:lnSpc>
                <a:spcPct val="100000"/>
              </a:lnSpc>
              <a:spcBef>
                <a:spcPts val="825"/>
              </a:spcBef>
              <a:buSzPct val="102909"/>
              <a:buBlip>
                <a:blip r:embed="rId4"/>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ERCOT shall assign every Electrical Bus to a Load Zone for settlement purposes </a:t>
            </a:r>
            <a:endParaRPr b="0" lang="en-US" sz="2200" spc="-1" strike="noStrike">
              <a:solidFill>
                <a:srgbClr val="ffffff"/>
              </a:solidFill>
              <a:latin typeface="Arial"/>
            </a:endParaRPr>
          </a:p>
          <a:p>
            <a:pPr marL="345960" indent="-345960">
              <a:lnSpc>
                <a:spcPct val="100000"/>
              </a:lnSpc>
              <a:spcBef>
                <a:spcPts val="825"/>
              </a:spcBef>
              <a:buSzPct val="102909"/>
              <a:buBlip>
                <a:blip r:embed="rId5"/>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New bus addition – assigned to the TNM Load Zone with the closest matching Zonal LMP to the new bus LMP.</a:t>
            </a:r>
            <a:endParaRPr b="0" lang="en-US" sz="2200" spc="-1" strike="noStrike">
              <a:solidFill>
                <a:srgbClr val="ffffff"/>
              </a:solidFill>
              <a:latin typeface="Arial"/>
            </a:endParaRPr>
          </a:p>
          <a:p>
            <a:pPr marL="345960" indent="-345960">
              <a:lnSpc>
                <a:spcPct val="100000"/>
              </a:lnSpc>
              <a:spcBef>
                <a:spcPts val="825"/>
              </a:spcBef>
              <a:buSzPct val="102909"/>
              <a:buBlip>
                <a:blip r:embed="rId6"/>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200" spc="-1" strike="noStrike">
                <a:solidFill>
                  <a:srgbClr val="ffffff"/>
                </a:solidFill>
                <a:latin typeface="Arial Rounded MT Bold"/>
              </a:rPr>
              <a:t>SPP for each Load Zone is calculated as the Load-weighted average of LMPs at all Electrical Buses assigned to that zone</a:t>
            </a:r>
            <a:endParaRPr b="0" lang="en-US" sz="2200" spc="-1" strike="noStrike">
              <a:solidFill>
                <a:srgbClr val="ffffff"/>
              </a:solidFill>
              <a:latin typeface="Arial"/>
            </a:endParaRPr>
          </a:p>
          <a:p>
            <a:pPr marL="345960" indent="-345960">
              <a:lnSpc>
                <a:spcPct val="100000"/>
              </a:lnSpc>
              <a:spcBef>
                <a:spcPts val="1375"/>
              </a:spcBef>
              <a:buClr>
                <a:srgbClr val="000000"/>
              </a:buClr>
              <a:buFont typeface="Arial Rounded MT Bold"/>
              <a:buChar char="•"/>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endParaRPr b="0" lang="en-US" sz="2200" spc="-1" strike="noStrike">
              <a:solidFill>
                <a:srgbClr val="ffffff"/>
              </a:solidFill>
              <a:latin typeface="Arial"/>
            </a:endParaRPr>
          </a:p>
        </p:txBody>
      </p:sp>
      <p:sp>
        <p:nvSpPr>
          <p:cNvPr id="805" name=""/>
          <p:cNvSpPr txBox="1"/>
          <p:nvPr/>
        </p:nvSpPr>
        <p:spPr>
          <a:xfrm>
            <a:off x="324000" y="1268280"/>
            <a:ext cx="2016000" cy="28764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Load Zones</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806"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807" name=""/>
          <p:cNvSpPr/>
          <p:nvPr/>
        </p:nvSpPr>
        <p:spPr>
          <a:xfrm>
            <a:off x="2343240" y="117144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2" name="PlaceHolder 1"/>
          <p:cNvSpPr>
            <a:spLocks noGrp="1"/>
          </p:cNvSpPr>
          <p:nvPr>
            <p:ph type="sldNum" idx="9"/>
          </p:nvPr>
        </p:nvSpPr>
        <p:spPr/>
        <p:txBody>
          <a:bodyPr/>
          <a:p>
            <a:fld id="{67142811-9713-4CDC-8D99-EA3BB4CCC5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31840" y="1808280"/>
            <a:ext cx="8335800" cy="337176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buSzPct val="102884"/>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ffffff"/>
                </a:solidFill>
                <a:latin typeface="Arial Rounded MT Bold"/>
              </a:rPr>
              <a:t>Congestion Revenue Rights (CRRs) hedge the </a:t>
            </a:r>
            <a:r>
              <a:rPr b="0" lang="en-US" sz="2400" spc="-1" strike="noStrike">
                <a:solidFill>
                  <a:srgbClr val="ff0000"/>
                </a:solidFill>
                <a:latin typeface="Arial Rounded MT Bold"/>
              </a:rPr>
              <a:t>financial risks</a:t>
            </a:r>
            <a:r>
              <a:rPr b="0" lang="en-US" sz="2400" spc="-1" strike="noStrike">
                <a:solidFill>
                  <a:srgbClr val="ffffff"/>
                </a:solidFill>
                <a:latin typeface="Arial Rounded MT Bold"/>
              </a:rPr>
              <a:t> of congestion and provide a means to value grid upgrade investments as well.</a:t>
            </a:r>
            <a:endParaRPr b="0" lang="en-US" sz="2400" spc="-1" strike="noStrike">
              <a:solidFill>
                <a:srgbClr val="ffffff"/>
              </a:solidFill>
              <a:latin typeface="Arial"/>
            </a:endParaRPr>
          </a:p>
          <a:p>
            <a:pPr lvl="1" marL="923760" indent="-347400">
              <a:lnSpc>
                <a:spcPct val="100000"/>
              </a:lnSpc>
              <a:spcBef>
                <a:spcPts val="561"/>
              </a:spcBef>
              <a:buSzPct val="102812"/>
              <a:buBlip>
                <a:blip r:embed="rId2"/>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PJM: FTRs (Financial Transmission Rights)</a:t>
            </a:r>
            <a:endParaRPr b="0" lang="en-US" sz="1800" spc="-1" strike="noStrike">
              <a:solidFill>
                <a:srgbClr val="ffffff"/>
              </a:solidFill>
              <a:latin typeface="Arial"/>
            </a:endParaRPr>
          </a:p>
          <a:p>
            <a:pPr lvl="1" marL="923760" indent="-347400">
              <a:lnSpc>
                <a:spcPct val="100000"/>
              </a:lnSpc>
              <a:buSzPct val="102812"/>
              <a:buBlip>
                <a:blip r:embed="rId3"/>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NYISO: TCCs (Transmission Congestion Contracts)</a:t>
            </a:r>
            <a:endParaRPr b="0" lang="en-US" sz="1800" spc="-1" strike="noStrike">
              <a:solidFill>
                <a:srgbClr val="ffffff"/>
              </a:solidFill>
              <a:latin typeface="Arial"/>
            </a:endParaRPr>
          </a:p>
          <a:p>
            <a:pPr lvl="1" marL="923760" indent="-347400">
              <a:lnSpc>
                <a:spcPct val="100000"/>
              </a:lnSpc>
              <a:buSzPct val="102812"/>
              <a:buBlip>
                <a:blip r:embed="rId4"/>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New England: FTRs (Financial Transmission Rights)</a:t>
            </a:r>
            <a:endParaRPr b="0" lang="en-US" sz="1800" spc="-1" strike="noStrike">
              <a:solidFill>
                <a:srgbClr val="ffffff"/>
              </a:solidFill>
              <a:latin typeface="Arial"/>
            </a:endParaRPr>
          </a:p>
          <a:p>
            <a:pPr marL="345960" indent="-345960">
              <a:lnSpc>
                <a:spcPct val="100000"/>
              </a:lnSpc>
              <a:spcBef>
                <a:spcPts val="1500"/>
              </a:spcBef>
              <a:buSzPct val="102884"/>
              <a:buBlip>
                <a:blip r:embed="rId5"/>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ffffff"/>
                </a:solidFill>
                <a:latin typeface="Arial Rounded MT Bold"/>
              </a:rPr>
              <a:t>CRRs do not represent a right to receive, or obligation to deliver, physical energy.  Most CRRs are tradable in the CRR Auction, in the DAM, or bilaterally.</a:t>
            </a:r>
            <a:endParaRPr b="0" lang="en-US" sz="2400" spc="-1" strike="noStrike">
              <a:solidFill>
                <a:srgbClr val="ffffff"/>
              </a:solidFill>
              <a:latin typeface="Arial"/>
            </a:endParaRPr>
          </a:p>
        </p:txBody>
      </p:sp>
      <p:sp>
        <p:nvSpPr>
          <p:cNvPr id="809" name=""/>
          <p:cNvSpPr txBox="1"/>
          <p:nvPr/>
        </p:nvSpPr>
        <p:spPr>
          <a:xfrm>
            <a:off x="324000" y="1268280"/>
            <a:ext cx="457200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Congestion Revenue Rights</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810"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2" name="PlaceHolder 1"/>
          <p:cNvSpPr>
            <a:spLocks noGrp="1"/>
          </p:cNvSpPr>
          <p:nvPr>
            <p:ph type="sldNum" idx="9"/>
          </p:nvPr>
        </p:nvSpPr>
        <p:spPr/>
        <p:txBody>
          <a:bodyPr/>
          <a:p>
            <a:fld id="{F42513E5-020F-4ACC-96B5-42433AF571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31840" y="1808280"/>
            <a:ext cx="8335800" cy="391464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buSzPct val="102884"/>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ffffff"/>
                </a:solidFill>
                <a:latin typeface="Arial Rounded MT Bold"/>
              </a:rPr>
              <a:t>CRRs may be acquired as follows</a:t>
            </a:r>
            <a:endParaRPr b="0" lang="en-US" sz="2400" spc="-1" strike="noStrike">
              <a:solidFill>
                <a:srgbClr val="ffffff"/>
              </a:solidFill>
              <a:latin typeface="Arial"/>
            </a:endParaRPr>
          </a:p>
          <a:p>
            <a:pPr lvl="1" marL="923760" indent="-347400">
              <a:lnSpc>
                <a:spcPct val="100000"/>
              </a:lnSpc>
              <a:spcBef>
                <a:spcPts val="561"/>
              </a:spcBef>
              <a:buSzPct val="102812"/>
              <a:buBlip>
                <a:blip r:embed="rId2"/>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CRR Auction</a:t>
            </a:r>
            <a:endParaRPr b="0" lang="en-US" sz="1800" spc="-1" strike="noStrike">
              <a:solidFill>
                <a:srgbClr val="ffffff"/>
              </a:solidFill>
              <a:latin typeface="Arial"/>
            </a:endParaRPr>
          </a:p>
          <a:p>
            <a:pPr lvl="1" marL="923760" indent="-347400">
              <a:lnSpc>
                <a:spcPct val="100000"/>
              </a:lnSpc>
              <a:buSzPct val="102812"/>
              <a:buBlip>
                <a:blip r:embed="rId3"/>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PCRR Allocations</a:t>
            </a:r>
            <a:endParaRPr b="0" lang="en-US" sz="1800" spc="-1" strike="noStrike">
              <a:solidFill>
                <a:srgbClr val="ffffff"/>
              </a:solidFill>
              <a:latin typeface="Arial"/>
            </a:endParaRPr>
          </a:p>
          <a:p>
            <a:pPr lvl="1" marL="923760" indent="-347400">
              <a:lnSpc>
                <a:spcPct val="100000"/>
              </a:lnSpc>
              <a:buSzPct val="102812"/>
              <a:buBlip>
                <a:blip r:embed="rId4"/>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McCamey Area Flowgate Rights Allocations</a:t>
            </a:r>
            <a:endParaRPr b="0" lang="en-US" sz="1800" spc="-1" strike="noStrike">
              <a:solidFill>
                <a:srgbClr val="ffffff"/>
              </a:solidFill>
              <a:latin typeface="Arial"/>
            </a:endParaRPr>
          </a:p>
          <a:p>
            <a:pPr lvl="1" marL="923760" indent="-347400">
              <a:lnSpc>
                <a:spcPct val="100000"/>
              </a:lnSpc>
              <a:buSzPct val="102812"/>
              <a:buBlip>
                <a:blip r:embed="rId5"/>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Bilateral Market</a:t>
            </a:r>
            <a:endParaRPr b="0" lang="en-US" sz="1800" spc="-1" strike="noStrike">
              <a:solidFill>
                <a:srgbClr val="ffffff"/>
              </a:solidFill>
              <a:latin typeface="Arial"/>
            </a:endParaRPr>
          </a:p>
          <a:p>
            <a:pPr lvl="1" marL="923760" indent="-347400">
              <a:lnSpc>
                <a:spcPct val="100000"/>
              </a:lnSpc>
              <a:buSzPct val="102812"/>
              <a:buBlip>
                <a:blip r:embed="rId6"/>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DAM</a:t>
            </a:r>
            <a:endParaRPr b="0" lang="en-US" sz="1800" spc="-1" strike="noStrike">
              <a:solidFill>
                <a:srgbClr val="ffffff"/>
              </a:solidFill>
              <a:latin typeface="Arial"/>
            </a:endParaRPr>
          </a:p>
          <a:p>
            <a:pPr marL="345960" indent="-345960">
              <a:lnSpc>
                <a:spcPct val="100000"/>
              </a:lnSpc>
              <a:spcBef>
                <a:spcPts val="1500"/>
              </a:spcBef>
              <a:buSzPct val="102884"/>
              <a:buBlip>
                <a:blip r:embed="rId7"/>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ffffff"/>
                </a:solidFill>
                <a:latin typeface="Arial Rounded MT Bold"/>
              </a:rPr>
              <a:t>Each CRR is one of these types</a:t>
            </a:r>
            <a:endParaRPr b="0" lang="en-US" sz="2400" spc="-1" strike="noStrike">
              <a:solidFill>
                <a:srgbClr val="ffffff"/>
              </a:solidFill>
              <a:latin typeface="Arial"/>
            </a:endParaRPr>
          </a:p>
          <a:p>
            <a:pPr lvl="1" marL="923760" indent="-347400">
              <a:lnSpc>
                <a:spcPct val="100000"/>
              </a:lnSpc>
              <a:spcBef>
                <a:spcPts val="675"/>
              </a:spcBef>
              <a:buSzPct val="102812"/>
              <a:buBlip>
                <a:blip r:embed="rId8"/>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Point-to-point (PTP) Option</a:t>
            </a:r>
            <a:endParaRPr b="0" lang="en-US" sz="1800" spc="-1" strike="noStrike">
              <a:solidFill>
                <a:srgbClr val="ffffff"/>
              </a:solidFill>
              <a:latin typeface="Arial"/>
            </a:endParaRPr>
          </a:p>
          <a:p>
            <a:pPr lvl="1" marL="923760" indent="-347400">
              <a:lnSpc>
                <a:spcPct val="100000"/>
              </a:lnSpc>
              <a:buSzPct val="102812"/>
              <a:buBlip>
                <a:blip r:embed="rId9"/>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PTP Obligation</a:t>
            </a:r>
            <a:endParaRPr b="0" lang="en-US" sz="1800" spc="-1" strike="noStrike">
              <a:solidFill>
                <a:srgbClr val="ffffff"/>
              </a:solidFill>
              <a:latin typeface="Arial"/>
            </a:endParaRPr>
          </a:p>
          <a:p>
            <a:pPr lvl="1" marL="923760" indent="-347400">
              <a:lnSpc>
                <a:spcPct val="100000"/>
              </a:lnSpc>
              <a:buSzPct val="102812"/>
              <a:buBlip>
                <a:blip r:embed="rId10"/>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PTP Option with Refund</a:t>
            </a:r>
            <a:endParaRPr b="0" lang="en-US" sz="1800" spc="-1" strike="noStrike">
              <a:solidFill>
                <a:srgbClr val="ffffff"/>
              </a:solidFill>
              <a:latin typeface="Arial"/>
            </a:endParaRPr>
          </a:p>
          <a:p>
            <a:pPr lvl="1" marL="923760" indent="-347400">
              <a:lnSpc>
                <a:spcPct val="100000"/>
              </a:lnSpc>
              <a:buSzPct val="102812"/>
              <a:buBlip>
                <a:blip r:embed="rId11"/>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PTP Obligation with Refund</a:t>
            </a:r>
            <a:endParaRPr b="0" lang="en-US" sz="1800" spc="-1" strike="noStrike">
              <a:solidFill>
                <a:srgbClr val="ffffff"/>
              </a:solidFill>
              <a:latin typeface="Arial"/>
            </a:endParaRPr>
          </a:p>
          <a:p>
            <a:pPr lvl="1" marL="923760" indent="-347400">
              <a:lnSpc>
                <a:spcPct val="100000"/>
              </a:lnSpc>
              <a:buSzPct val="102812"/>
              <a:buBlip>
                <a:blip r:embed="rId12"/>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Flowgate Right (FTR)</a:t>
            </a:r>
            <a:endParaRPr b="0" lang="en-US" sz="1800" spc="-1" strike="noStrike">
              <a:solidFill>
                <a:srgbClr val="ffffff"/>
              </a:solidFill>
              <a:latin typeface="Arial"/>
            </a:endParaRPr>
          </a:p>
        </p:txBody>
      </p:sp>
      <p:sp>
        <p:nvSpPr>
          <p:cNvPr id="812" name=""/>
          <p:cNvSpPr txBox="1"/>
          <p:nvPr/>
        </p:nvSpPr>
        <p:spPr>
          <a:xfrm>
            <a:off x="324000" y="1268280"/>
            <a:ext cx="457200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Congestion Revenue Rights</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813"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2" name="PlaceHolder 1"/>
          <p:cNvSpPr>
            <a:spLocks noGrp="1"/>
          </p:cNvSpPr>
          <p:nvPr>
            <p:ph type="sldNum" idx="9"/>
          </p:nvPr>
        </p:nvSpPr>
        <p:spPr/>
        <p:txBody>
          <a:bodyPr/>
          <a:p>
            <a:fld id="{BEC496C4-4CC6-4E63-909E-A6AD82CD33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297080" y="225360"/>
            <a:ext cx="7704000" cy="577800"/>
          </a:xfrm>
          <a:prstGeom prst="rect">
            <a:avLst/>
          </a:prstGeom>
          <a:noFill/>
          <a:ln w="0">
            <a:noFill/>
          </a:ln>
        </p:spPr>
        <p:style>
          <a:lnRef idx="0"/>
          <a:fillRef idx="0"/>
          <a:effectRef idx="0"/>
          <a:fontRef idx="minor"/>
        </p:style>
        <p:txBody>
          <a:bodyPr lIns="0" rIns="0" tIns="0" bIns="0" anchor="t">
            <a:normAutofit/>
          </a:bodyPr>
          <a:p>
            <a:pPr marL="798480" indent="-7984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What is Nodal?</a:t>
            </a:r>
            <a:endParaRPr b="0" lang="en-US" sz="3200" spc="-1" strike="noStrike">
              <a:solidFill>
                <a:srgbClr val="ffffff"/>
              </a:solidFill>
              <a:latin typeface="Arial"/>
            </a:endParaRPr>
          </a:p>
        </p:txBody>
      </p:sp>
      <p:sp>
        <p:nvSpPr>
          <p:cNvPr id="182" name=""/>
          <p:cNvSpPr/>
          <p:nvPr/>
        </p:nvSpPr>
        <p:spPr>
          <a:xfrm>
            <a:off x="1224000" y="2097000"/>
            <a:ext cx="7056360" cy="1921320"/>
          </a:xfrm>
          <a:prstGeom prst="rect">
            <a:avLst/>
          </a:prstGeom>
          <a:noFill/>
          <a:ln w="0">
            <a:noFill/>
          </a:ln>
        </p:spPr>
        <p:style>
          <a:lnRef idx="0"/>
          <a:fillRef idx="0"/>
          <a:effectRef idx="0"/>
          <a:fontRef idx="minor"/>
        </p:style>
        <p:txBody>
          <a:bodyPr lIns="92160" rIns="92160" tIns="46080" bIns="46080" anchor="t">
            <a:spAutoFit/>
          </a:bodyPr>
          <a:p>
            <a:pPr>
              <a:spcBef>
                <a:spcPts val="2999"/>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ffffff"/>
                </a:solidFill>
                <a:latin typeface="Arial"/>
              </a:rPr>
              <a:t>A Nodal LMP Market is a centrally dispatched energy and ancillary services spot market based on nodal locational marginal pricing (LMP), with standard financial hedging instruments (such as CRRs).</a:t>
            </a:r>
            <a:endParaRPr b="0" lang="en-US" sz="2400" spc="-1" strike="noStrike">
              <a:solidFill>
                <a:srgbClr val="ffffff"/>
              </a:solidFill>
              <a:latin typeface="Arial"/>
            </a:endParaRPr>
          </a:p>
        </p:txBody>
      </p:sp>
      <p:sp>
        <p:nvSpPr>
          <p:cNvPr id="183" name=""/>
          <p:cNvSpPr txBox="1"/>
          <p:nvPr/>
        </p:nvSpPr>
        <p:spPr>
          <a:xfrm>
            <a:off x="287280" y="1268280"/>
            <a:ext cx="331308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Basics of a Nodal Model</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9"/>
          </p:nvPr>
        </p:nvSpPr>
        <p:spPr/>
        <p:txBody>
          <a:bodyPr/>
          <a:p>
            <a:fld id="{9CB0A50B-8718-4B1E-BACF-D4FDAF4672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a:off x="231840" y="1808280"/>
            <a:ext cx="8335800" cy="391464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buSzPct val="102884"/>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ffffff"/>
                </a:solidFill>
                <a:latin typeface="Arial Rounded MT Bold"/>
              </a:rPr>
              <a:t>CRRs must be auctioned in the following blocks</a:t>
            </a:r>
            <a:endParaRPr b="0" lang="en-US" sz="2400" spc="-1" strike="noStrike">
              <a:solidFill>
                <a:srgbClr val="ffffff"/>
              </a:solidFill>
              <a:latin typeface="Arial"/>
            </a:endParaRPr>
          </a:p>
          <a:p>
            <a:pPr lvl="1" marL="923760" indent="-347400">
              <a:lnSpc>
                <a:spcPct val="100000"/>
              </a:lnSpc>
              <a:spcBef>
                <a:spcPts val="561"/>
              </a:spcBef>
              <a:buSzPct val="102812"/>
              <a:buBlip>
                <a:blip r:embed="rId2"/>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5</a:t>
            </a:r>
            <a:r>
              <a:rPr b="0" lang="en-US" sz="1800" spc="-1" strike="noStrike">
                <a:solidFill>
                  <a:srgbClr val="008000"/>
                </a:solidFill>
                <a:latin typeface="Symbol"/>
                <a:ea typeface="Symbol"/>
              </a:rPr>
              <a:t></a:t>
            </a:r>
            <a:r>
              <a:rPr b="0" lang="en-US" sz="1800" spc="-1" strike="noStrike">
                <a:solidFill>
                  <a:srgbClr val="008000"/>
                </a:solidFill>
                <a:latin typeface="Verdana"/>
              </a:rPr>
              <a:t>16 blocks for HE0700-2200, Mon-Fri, one-month strip</a:t>
            </a:r>
            <a:endParaRPr b="0" lang="en-US" sz="1800" spc="-1" strike="noStrike">
              <a:solidFill>
                <a:srgbClr val="ffffff"/>
              </a:solidFill>
              <a:latin typeface="Arial"/>
            </a:endParaRPr>
          </a:p>
          <a:p>
            <a:pPr lvl="1" marL="923760" indent="-347400">
              <a:lnSpc>
                <a:spcPct val="100000"/>
              </a:lnSpc>
              <a:buSzPct val="102812"/>
              <a:buBlip>
                <a:blip r:embed="rId3"/>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2</a:t>
            </a:r>
            <a:r>
              <a:rPr b="0" lang="en-US" sz="1800" spc="-1" strike="noStrike">
                <a:solidFill>
                  <a:srgbClr val="008000"/>
                </a:solidFill>
                <a:latin typeface="Symbol"/>
                <a:ea typeface="Symbol"/>
              </a:rPr>
              <a:t></a:t>
            </a:r>
            <a:r>
              <a:rPr b="0" lang="en-US" sz="1800" spc="-1" strike="noStrike">
                <a:solidFill>
                  <a:srgbClr val="008000"/>
                </a:solidFill>
                <a:latin typeface="Verdana"/>
              </a:rPr>
              <a:t>16 blocks for HE0700-2200, Sat-Sun, one-month strip</a:t>
            </a:r>
            <a:endParaRPr b="0" lang="en-US" sz="1800" spc="-1" strike="noStrike">
              <a:solidFill>
                <a:srgbClr val="ffffff"/>
              </a:solidFill>
              <a:latin typeface="Arial"/>
            </a:endParaRPr>
          </a:p>
          <a:p>
            <a:pPr lvl="1" marL="923760" indent="-347400">
              <a:lnSpc>
                <a:spcPct val="100000"/>
              </a:lnSpc>
              <a:buSzPct val="102812"/>
              <a:buBlip>
                <a:blip r:embed="rId4"/>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7</a:t>
            </a:r>
            <a:r>
              <a:rPr b="0" lang="en-US" sz="1800" spc="-1" strike="noStrike">
                <a:solidFill>
                  <a:srgbClr val="008000"/>
                </a:solidFill>
                <a:latin typeface="Symbol"/>
                <a:ea typeface="Symbol"/>
              </a:rPr>
              <a:t></a:t>
            </a:r>
            <a:r>
              <a:rPr b="0" lang="en-US" sz="1800" spc="-1" strike="noStrike">
                <a:solidFill>
                  <a:srgbClr val="008000"/>
                </a:solidFill>
                <a:latin typeface="Verdana"/>
              </a:rPr>
              <a:t>8 blocks for HE0100-0600 &amp; HE2300-2400, Sun-Sat, one-month strip</a:t>
            </a:r>
            <a:endParaRPr b="0" lang="en-US" sz="1800" spc="-1" strike="noStrike">
              <a:solidFill>
                <a:srgbClr val="ffffff"/>
              </a:solidFill>
              <a:latin typeface="Arial"/>
            </a:endParaRPr>
          </a:p>
          <a:p>
            <a:pPr lvl="1" marL="923760" indent="-347400">
              <a:lnSpc>
                <a:spcPct val="100000"/>
              </a:lnSpc>
              <a:buSzPct val="102812"/>
              <a:buBlip>
                <a:blip r:embed="rId5"/>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7</a:t>
            </a:r>
            <a:r>
              <a:rPr b="0" lang="en-US" sz="1800" spc="-1" strike="noStrike">
                <a:solidFill>
                  <a:srgbClr val="008000"/>
                </a:solidFill>
                <a:latin typeface="Symbol"/>
                <a:ea typeface="Symbol"/>
              </a:rPr>
              <a:t></a:t>
            </a:r>
            <a:r>
              <a:rPr b="0" lang="en-US" sz="1800" spc="-1" strike="noStrike">
                <a:solidFill>
                  <a:srgbClr val="008000"/>
                </a:solidFill>
                <a:latin typeface="Verdana"/>
              </a:rPr>
              <a:t>24 blocks for HE0100-2400, Sun-Sat one-month strip</a:t>
            </a:r>
            <a:endParaRPr b="0" lang="en-US" sz="1800" spc="-1" strike="noStrike">
              <a:solidFill>
                <a:srgbClr val="ffffff"/>
              </a:solidFill>
              <a:latin typeface="Arial"/>
            </a:endParaRPr>
          </a:p>
          <a:p>
            <a:pPr marL="345960" indent="-345960">
              <a:lnSpc>
                <a:spcPct val="100000"/>
              </a:lnSpc>
              <a:spcBef>
                <a:spcPts val="1500"/>
              </a:spcBef>
              <a:buSzPct val="102884"/>
              <a:buBlip>
                <a:blip r:embed="rId6"/>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ffffff"/>
                </a:solidFill>
                <a:latin typeface="Arial Rounded MT Bold"/>
              </a:rPr>
              <a:t>Each CRR has the following characteristics</a:t>
            </a:r>
            <a:endParaRPr b="0" lang="en-US" sz="2400" spc="-1" strike="noStrike">
              <a:solidFill>
                <a:srgbClr val="ffffff"/>
              </a:solidFill>
              <a:latin typeface="Arial"/>
            </a:endParaRPr>
          </a:p>
          <a:p>
            <a:pPr lvl="1" marL="923760" indent="-347400">
              <a:lnSpc>
                <a:spcPct val="100000"/>
              </a:lnSpc>
              <a:spcBef>
                <a:spcPts val="675"/>
              </a:spcBef>
              <a:buSzPct val="102812"/>
              <a:buBlip>
                <a:blip r:embed="rId7"/>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A quantity of one MW</a:t>
            </a:r>
            <a:endParaRPr b="0" lang="en-US" sz="1800" spc="-1" strike="noStrike">
              <a:solidFill>
                <a:srgbClr val="ffffff"/>
              </a:solidFill>
              <a:latin typeface="Arial"/>
            </a:endParaRPr>
          </a:p>
          <a:p>
            <a:pPr lvl="1" marL="923760" indent="-347400">
              <a:lnSpc>
                <a:spcPct val="100000"/>
              </a:lnSpc>
              <a:buSzPct val="102812"/>
              <a:buBlip>
                <a:blip r:embed="rId8"/>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A duration of one hour</a:t>
            </a:r>
            <a:endParaRPr b="0" lang="en-US" sz="1800" spc="-1" strike="noStrike">
              <a:solidFill>
                <a:srgbClr val="ffffff"/>
              </a:solidFill>
              <a:latin typeface="Arial"/>
            </a:endParaRPr>
          </a:p>
          <a:p>
            <a:pPr lvl="1" marL="923760" indent="-347400">
              <a:lnSpc>
                <a:spcPct val="100000"/>
              </a:lnSpc>
              <a:buSzPct val="102812"/>
              <a:buBlip>
                <a:blip r:embed="rId9"/>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An ability to be fully tradable financial instruments, except for a PTP Option with Refund or a PTP Obligation with Refund</a:t>
            </a:r>
            <a:endParaRPr b="0" lang="en-US" sz="1800" spc="-1" strike="noStrike">
              <a:solidFill>
                <a:srgbClr val="ffffff"/>
              </a:solidFill>
              <a:latin typeface="Arial"/>
            </a:endParaRPr>
          </a:p>
          <a:p>
            <a:pPr lvl="1" marL="923760" indent="-347400">
              <a:lnSpc>
                <a:spcPct val="100000"/>
              </a:lnSpc>
              <a:buSzPct val="102812"/>
              <a:buBlip>
                <a:blip r:embed="rId10"/>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A designated source and a designated sink, except for FGR</a:t>
            </a:r>
            <a:endParaRPr b="0" lang="en-US" sz="1800" spc="-1" strike="noStrike">
              <a:solidFill>
                <a:srgbClr val="ffffff"/>
              </a:solidFill>
              <a:latin typeface="Arial"/>
            </a:endParaRPr>
          </a:p>
        </p:txBody>
      </p:sp>
      <p:sp>
        <p:nvSpPr>
          <p:cNvPr id="815" name=""/>
          <p:cNvSpPr txBox="1"/>
          <p:nvPr/>
        </p:nvSpPr>
        <p:spPr>
          <a:xfrm>
            <a:off x="324000" y="1268280"/>
            <a:ext cx="457200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Congestion Revenue Rights</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816"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2" name="PlaceHolder 1"/>
          <p:cNvSpPr>
            <a:spLocks noGrp="1"/>
          </p:cNvSpPr>
          <p:nvPr>
            <p:ph type="sldNum" idx="9"/>
          </p:nvPr>
        </p:nvSpPr>
        <p:spPr/>
        <p:txBody>
          <a:bodyPr/>
          <a:p>
            <a:fld id="{90DD4863-5CDB-4EB6-ACAB-660229DE16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31840" y="1773360"/>
            <a:ext cx="8480520" cy="418248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spcBef>
                <a:spcPts val="1500"/>
              </a:spcBef>
              <a:buSzPct val="102884"/>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ffffff"/>
                </a:solidFill>
                <a:latin typeface="Arial Rounded MT Bold"/>
              </a:rPr>
              <a:t>CRRs will be auctioned annually and monthly. </a:t>
            </a:r>
            <a:endParaRPr b="0" lang="en-US" sz="2400" spc="-1" strike="noStrike">
              <a:solidFill>
                <a:srgbClr val="ffffff"/>
              </a:solidFill>
              <a:latin typeface="Arial"/>
            </a:endParaRPr>
          </a:p>
          <a:p>
            <a:pPr marL="345960" indent="-345960">
              <a:lnSpc>
                <a:spcPct val="100000"/>
              </a:lnSpc>
              <a:spcBef>
                <a:spcPts val="1500"/>
              </a:spcBef>
              <a:buSzPct val="102884"/>
              <a:buBlip>
                <a:blip r:embed="rId2"/>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ffffff"/>
                </a:solidFill>
                <a:latin typeface="Arial Rounded MT Bold"/>
              </a:rPr>
              <a:t>The CRR Network Model considers/uses</a:t>
            </a:r>
            <a:endParaRPr b="0" lang="en-US" sz="2400" spc="-1" strike="noStrike">
              <a:solidFill>
                <a:srgbClr val="ffffff"/>
              </a:solidFill>
              <a:latin typeface="Arial"/>
            </a:endParaRPr>
          </a:p>
          <a:p>
            <a:pPr lvl="1" marL="923760" indent="-347400">
              <a:lnSpc>
                <a:spcPct val="100000"/>
              </a:lnSpc>
              <a:spcBef>
                <a:spcPts val="1125"/>
              </a:spcBef>
              <a:buSzPct val="102812"/>
              <a:buBlip>
                <a:blip r:embed="rId3"/>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The same topology, contingencies and operating procedures as used in the Network Operations Model</a:t>
            </a:r>
            <a:endParaRPr b="0" lang="en-US" sz="1800" spc="-1" strike="noStrike">
              <a:solidFill>
                <a:srgbClr val="ffffff"/>
              </a:solidFill>
              <a:latin typeface="Arial"/>
            </a:endParaRPr>
          </a:p>
          <a:p>
            <a:pPr lvl="1" marL="923760" indent="-347400">
              <a:lnSpc>
                <a:spcPct val="100000"/>
              </a:lnSpc>
              <a:buSzPct val="102812"/>
              <a:buBlip>
                <a:blip r:embed="rId4"/>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Planned outages known to be 16 hours or longer</a:t>
            </a:r>
            <a:endParaRPr b="0" lang="en-US" sz="1800" spc="-1" strike="noStrike">
              <a:solidFill>
                <a:srgbClr val="ffffff"/>
              </a:solidFill>
              <a:latin typeface="Arial"/>
            </a:endParaRPr>
          </a:p>
          <a:p>
            <a:pPr lvl="1" marL="923760" indent="-347400">
              <a:lnSpc>
                <a:spcPct val="100000"/>
              </a:lnSpc>
              <a:buSzPct val="102812"/>
              <a:buBlip>
                <a:blip r:embed="rId5"/>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Dynamic Ratings</a:t>
            </a:r>
            <a:endParaRPr b="0" lang="en-US" sz="1800" spc="-1" strike="noStrike">
              <a:solidFill>
                <a:srgbClr val="ffffff"/>
              </a:solidFill>
              <a:latin typeface="Arial"/>
            </a:endParaRPr>
          </a:p>
          <a:p>
            <a:pPr lvl="1" marL="923760" indent="-347400">
              <a:lnSpc>
                <a:spcPct val="100000"/>
              </a:lnSpc>
              <a:buSzPct val="102812"/>
              <a:buBlip>
                <a:blip r:embed="rId6"/>
              </a:buBlip>
              <a:tabLst>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008000"/>
                </a:solidFill>
                <a:latin typeface="Verdana"/>
              </a:rPr>
              <a:t>Peak Load conditions</a:t>
            </a:r>
            <a:endParaRPr b="0" lang="en-US" sz="1800" spc="-1" strike="noStrike">
              <a:solidFill>
                <a:srgbClr val="ffffff"/>
              </a:solidFill>
              <a:latin typeface="Arial"/>
            </a:endParaRPr>
          </a:p>
          <a:p>
            <a:pPr marL="345960" indent="-345960">
              <a:lnSpc>
                <a:spcPct val="100000"/>
              </a:lnSpc>
              <a:spcBef>
                <a:spcPts val="1500"/>
              </a:spcBef>
              <a:buSzPct val="102884"/>
              <a:buBlip>
                <a:blip r:embed="rId7"/>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ffffff"/>
                </a:solidFill>
                <a:latin typeface="Arial Rounded MT Bold"/>
              </a:rPr>
              <a:t>The Simultaneous Feasibility Test (SFT) provides revenue adequacy by ensuring that the transmission system can support the awarded set of CRRs during normal system conditions.</a:t>
            </a:r>
            <a:endParaRPr b="0" lang="en-US" sz="2400" spc="-1" strike="noStrike">
              <a:solidFill>
                <a:srgbClr val="ffffff"/>
              </a:solidFill>
              <a:latin typeface="Arial"/>
            </a:endParaRPr>
          </a:p>
        </p:txBody>
      </p:sp>
      <p:sp>
        <p:nvSpPr>
          <p:cNvPr id="818" name=""/>
          <p:cNvSpPr/>
          <p:nvPr/>
        </p:nvSpPr>
        <p:spPr>
          <a:xfrm>
            <a:off x="4951440" y="117144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819"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820" name=""/>
          <p:cNvSpPr txBox="1"/>
          <p:nvPr/>
        </p:nvSpPr>
        <p:spPr>
          <a:xfrm>
            <a:off x="324000" y="1268280"/>
            <a:ext cx="457200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Congestion Revenue Rights</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9"/>
          </p:nvPr>
        </p:nvSpPr>
        <p:spPr/>
        <p:txBody>
          <a:bodyPr/>
          <a:p>
            <a:fld id="{AADE013B-BD95-4AAC-8641-01AFDAAC76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231840" y="1808280"/>
            <a:ext cx="8732880" cy="118980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00000"/>
              </a:lnSpc>
              <a:buSzPct val="102884"/>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ffffff"/>
                </a:solidFill>
                <a:latin typeface="Arial Rounded MT Bold"/>
              </a:rPr>
              <a:t>CRR auction revenues are distributed to all ERCOT QSEs representing Load on an ERCOT-wide Load Ratio Share basis</a:t>
            </a:r>
            <a:endParaRPr b="0" lang="en-US" sz="2400" spc="-1" strike="noStrike">
              <a:solidFill>
                <a:srgbClr val="ffffff"/>
              </a:solidFill>
              <a:latin typeface="Arial"/>
            </a:endParaRPr>
          </a:p>
        </p:txBody>
      </p:sp>
      <p:sp>
        <p:nvSpPr>
          <p:cNvPr id="822" name=""/>
          <p:cNvSpPr/>
          <p:nvPr/>
        </p:nvSpPr>
        <p:spPr>
          <a:xfrm>
            <a:off x="1297080" y="115920"/>
            <a:ext cx="7704000" cy="828720"/>
          </a:xfrm>
          <a:prstGeom prst="rect">
            <a:avLst/>
          </a:prstGeom>
          <a:noFill/>
          <a:ln w="0">
            <a:noFill/>
          </a:ln>
        </p:spPr>
        <p:style>
          <a:lnRef idx="0"/>
          <a:fillRef idx="0"/>
          <a:effectRef idx="0"/>
          <a:fontRef idx="minor"/>
        </p:style>
        <p:txBody>
          <a:bodyPr lIns="0" rIns="0" tIns="0" bIns="0" anchor="t">
            <a:normAutofit fontScale="99000"/>
          </a:bodyPr>
          <a:p>
            <a:pPr marL="790200" indent="-790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II. Elements of </a:t>
            </a:r>
            <a:endParaRPr b="0" lang="en-US" sz="3200" spc="-1" strike="noStrike">
              <a:solidFill>
                <a:srgbClr val="ffffff"/>
              </a:solidFill>
              <a:latin typeface="Arial"/>
            </a:endParaRPr>
          </a:p>
          <a:p>
            <a:pPr marL="790200" indent="-790200" algn="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exas Nodal Market</a:t>
            </a:r>
            <a:endParaRPr b="0" lang="en-US" sz="3200" spc="-1" strike="noStrike">
              <a:solidFill>
                <a:srgbClr val="ffffff"/>
              </a:solidFill>
              <a:latin typeface="Arial"/>
            </a:endParaRPr>
          </a:p>
        </p:txBody>
      </p:sp>
      <p:sp>
        <p:nvSpPr>
          <p:cNvPr id="823" name=""/>
          <p:cNvSpPr/>
          <p:nvPr/>
        </p:nvSpPr>
        <p:spPr>
          <a:xfrm>
            <a:off x="4951440" y="117144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d)</a:t>
            </a:r>
            <a:endParaRPr b="0" lang="en-US" sz="2400" spc="-1" strike="noStrike">
              <a:solidFill>
                <a:srgbClr val="ffffff"/>
              </a:solidFill>
              <a:latin typeface="Arial"/>
            </a:endParaRPr>
          </a:p>
        </p:txBody>
      </p:sp>
      <p:sp>
        <p:nvSpPr>
          <p:cNvPr id="824" name=""/>
          <p:cNvSpPr txBox="1"/>
          <p:nvPr/>
        </p:nvSpPr>
        <p:spPr>
          <a:xfrm>
            <a:off x="324000" y="1268280"/>
            <a:ext cx="457200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Congestion Revenue Rights</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9"/>
          </p:nvPr>
        </p:nvSpPr>
        <p:spPr/>
        <p:txBody>
          <a:bodyPr/>
          <a:p>
            <a:fld id="{64369ABF-B26A-449D-ABC7-C24FCEA7B3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468360" y="4113360"/>
            <a:ext cx="8244000" cy="5760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6" name="PlaceHolder 1"/>
          <p:cNvSpPr>
            <a:spLocks noGrp="1"/>
          </p:cNvSpPr>
          <p:nvPr>
            <p:ph/>
          </p:nvPr>
        </p:nvSpPr>
        <p:spPr>
          <a:xfrm>
            <a:off x="468000" y="2060640"/>
            <a:ext cx="8172360" cy="3162240"/>
          </a:xfrm>
          <a:prstGeom prst="rect">
            <a:avLst/>
          </a:prstGeom>
          <a:noFill/>
          <a:ln w="0">
            <a:noFill/>
          </a:ln>
        </p:spPr>
        <p:txBody>
          <a:bodyPr lIns="90000" rIns="0" tIns="46800" bIns="46800" anchor="t">
            <a:normAutofit/>
          </a:bodyPr>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hat is Nodal?</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hy Nodal?</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Elements of Texas Nodal Market</a:t>
            </a:r>
            <a:endParaRPr b="0" lang="en-US" sz="3600" spc="-1" strike="noStrike">
              <a:solidFill>
                <a:srgbClr val="000000"/>
              </a:solidFill>
              <a:latin typeface="Arial"/>
            </a:endParaRPr>
          </a:p>
          <a:p>
            <a:pPr marL="812880" indent="-812880">
              <a:lnSpc>
                <a:spcPct val="100000"/>
              </a:lnSpc>
              <a:spcBef>
                <a:spcPts val="901"/>
              </a:spcBef>
              <a:buClr>
                <a:srgbClr val="000000"/>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imeline for Implementation</a:t>
            </a:r>
            <a:endParaRPr b="0" lang="en-US" sz="3600" spc="-1" strike="noStrike">
              <a:solidFill>
                <a:srgbClr val="000000"/>
              </a:solidFill>
              <a:latin typeface="Arial"/>
            </a:endParaRPr>
          </a:p>
        </p:txBody>
      </p:sp>
      <p:sp>
        <p:nvSpPr>
          <p:cNvPr id="827" name=""/>
          <p:cNvSpPr txBox="1"/>
          <p:nvPr/>
        </p:nvSpPr>
        <p:spPr>
          <a:xfrm>
            <a:off x="6948360" y="260280"/>
            <a:ext cx="1963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Road Map</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 name="PlaceHolder 2"/>
          <p:cNvSpPr>
            <a:spLocks noGrp="1"/>
          </p:cNvSpPr>
          <p:nvPr>
            <p:ph type="sldNum" idx="9"/>
          </p:nvPr>
        </p:nvSpPr>
        <p:spPr/>
        <p:txBody>
          <a:bodyPr/>
          <a:p>
            <a:fld id="{A54D6593-56FC-464E-AFAB-4164BABE43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flipH="1" flipV="1">
            <a:off x="684360" y="3897360"/>
            <a:ext cx="15840" cy="61128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1297080" y="225360"/>
            <a:ext cx="7704000" cy="577800"/>
          </a:xfrm>
          <a:prstGeom prst="rect">
            <a:avLst/>
          </a:prstGeom>
          <a:noFill/>
          <a:ln w="0">
            <a:noFill/>
          </a:ln>
        </p:spPr>
        <p:style>
          <a:lnRef idx="0"/>
          <a:fillRef idx="0"/>
          <a:effectRef idx="0"/>
          <a:fontRef idx="minor"/>
        </p:style>
        <p:txBody>
          <a:bodyPr lIns="0" rIns="0" tIns="0" bIns="0" anchor="t">
            <a:normAutofit/>
          </a:bodyPr>
          <a:p>
            <a:pPr marL="798480" indent="-7984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V. Timeline for Implementation</a:t>
            </a:r>
            <a:endParaRPr b="0" lang="en-US" sz="3200" spc="-1" strike="noStrike">
              <a:solidFill>
                <a:srgbClr val="ffffff"/>
              </a:solidFill>
              <a:latin typeface="Arial"/>
            </a:endParaRPr>
          </a:p>
        </p:txBody>
      </p:sp>
      <p:sp>
        <p:nvSpPr>
          <p:cNvPr id="830" name=""/>
          <p:cNvSpPr/>
          <p:nvPr/>
        </p:nvSpPr>
        <p:spPr>
          <a:xfrm>
            <a:off x="250920" y="4508640"/>
            <a:ext cx="1657080" cy="459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ocol Contested Case Completion</a:t>
            </a:r>
            <a:endParaRPr b="0" lang="en-US" sz="1200" spc="-1" strike="noStrike">
              <a:solidFill>
                <a:srgbClr val="ffffff"/>
              </a:solidFill>
              <a:latin typeface="Arial"/>
            </a:endParaRPr>
          </a:p>
        </p:txBody>
      </p:sp>
      <p:sp>
        <p:nvSpPr>
          <p:cNvPr id="831" name=""/>
          <p:cNvSpPr/>
          <p:nvPr/>
        </p:nvSpPr>
        <p:spPr>
          <a:xfrm flipH="1" flipV="1">
            <a:off x="4541400" y="3105000"/>
            <a:ext cx="9720" cy="39528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3059280" y="2852640"/>
            <a:ext cx="1765080" cy="27648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lemetry Criteria Met</a:t>
            </a:r>
            <a:endParaRPr b="0" lang="en-US" sz="1200" spc="-1" strike="noStrike">
              <a:solidFill>
                <a:srgbClr val="ffffff"/>
              </a:solidFill>
              <a:latin typeface="Arial"/>
            </a:endParaRPr>
          </a:p>
        </p:txBody>
      </p:sp>
      <p:sp>
        <p:nvSpPr>
          <p:cNvPr id="833" name=""/>
          <p:cNvSpPr/>
          <p:nvPr/>
        </p:nvSpPr>
        <p:spPr>
          <a:xfrm flipH="1" flipV="1">
            <a:off x="4967280" y="3897360"/>
            <a:ext cx="15840" cy="61128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3132000" y="4437000"/>
            <a:ext cx="2232000" cy="27648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utage Scheduler Ready</a:t>
            </a:r>
            <a:endParaRPr b="0" lang="en-US" sz="1200" spc="-1" strike="noStrike">
              <a:solidFill>
                <a:srgbClr val="ffffff"/>
              </a:solidFill>
              <a:latin typeface="Arial"/>
            </a:endParaRPr>
          </a:p>
        </p:txBody>
      </p:sp>
      <p:sp>
        <p:nvSpPr>
          <p:cNvPr id="835" name=""/>
          <p:cNvSpPr/>
          <p:nvPr/>
        </p:nvSpPr>
        <p:spPr>
          <a:xfrm flipH="1" flipV="1">
            <a:off x="5678640" y="2528640"/>
            <a:ext cx="25200" cy="100620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6" name=""/>
          <p:cNvSpPr/>
          <p:nvPr/>
        </p:nvSpPr>
        <p:spPr>
          <a:xfrm flipH="1" flipV="1">
            <a:off x="6515280" y="3897000"/>
            <a:ext cx="7920" cy="32364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3240000" y="2384280"/>
            <a:ext cx="2808360" cy="27648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 Model Avail. For MP Test</a:t>
            </a:r>
            <a:endParaRPr b="0" lang="en-US" sz="1200" spc="-1" strike="noStrike">
              <a:solidFill>
                <a:srgbClr val="ffffff"/>
              </a:solidFill>
              <a:latin typeface="Arial"/>
            </a:endParaRPr>
          </a:p>
        </p:txBody>
      </p:sp>
      <p:sp>
        <p:nvSpPr>
          <p:cNvPr id="838" name=""/>
          <p:cNvSpPr/>
          <p:nvPr/>
        </p:nvSpPr>
        <p:spPr>
          <a:xfrm>
            <a:off x="5938920" y="4184640"/>
            <a:ext cx="828720" cy="459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SA Test Complete</a:t>
            </a:r>
            <a:endParaRPr b="0" lang="en-US" sz="1200" spc="-1" strike="noStrike">
              <a:solidFill>
                <a:srgbClr val="ffffff"/>
              </a:solidFill>
              <a:latin typeface="Arial"/>
            </a:endParaRPr>
          </a:p>
        </p:txBody>
      </p:sp>
      <p:sp>
        <p:nvSpPr>
          <p:cNvPr id="839" name=""/>
          <p:cNvSpPr/>
          <p:nvPr/>
        </p:nvSpPr>
        <p:spPr>
          <a:xfrm flipH="1" flipV="1">
            <a:off x="6840000" y="2925720"/>
            <a:ext cx="16200" cy="61128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0" name=""/>
          <p:cNvSpPr/>
          <p:nvPr/>
        </p:nvSpPr>
        <p:spPr>
          <a:xfrm>
            <a:off x="5796000" y="2817720"/>
            <a:ext cx="1405080" cy="459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 6-Mon Stability Test Criteria Met</a:t>
            </a:r>
            <a:endParaRPr b="0" lang="en-US" sz="1200" spc="-1" strike="noStrike">
              <a:solidFill>
                <a:srgbClr val="ffffff"/>
              </a:solidFill>
              <a:latin typeface="Arial"/>
            </a:endParaRPr>
          </a:p>
        </p:txBody>
      </p:sp>
      <p:sp>
        <p:nvSpPr>
          <p:cNvPr id="841" name=""/>
          <p:cNvSpPr/>
          <p:nvPr/>
        </p:nvSpPr>
        <p:spPr>
          <a:xfrm flipV="1">
            <a:off x="7128000" y="3860280"/>
            <a:ext cx="0" cy="108108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2" name=""/>
          <p:cNvSpPr/>
          <p:nvPr/>
        </p:nvSpPr>
        <p:spPr>
          <a:xfrm>
            <a:off x="4824360" y="4908600"/>
            <a:ext cx="2484360" cy="27648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R Auction Trial Completion</a:t>
            </a:r>
            <a:endParaRPr b="0" lang="en-US" sz="1200" spc="-1" strike="noStrike">
              <a:solidFill>
                <a:srgbClr val="ffffff"/>
              </a:solidFill>
              <a:latin typeface="Arial"/>
            </a:endParaRPr>
          </a:p>
        </p:txBody>
      </p:sp>
      <p:sp>
        <p:nvSpPr>
          <p:cNvPr id="843" name=""/>
          <p:cNvSpPr/>
          <p:nvPr/>
        </p:nvSpPr>
        <p:spPr>
          <a:xfrm flipV="1">
            <a:off x="7308720" y="2133720"/>
            <a:ext cx="0" cy="136656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4211640" y="1700280"/>
            <a:ext cx="3205080" cy="459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SM Market Test Comple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ED 6-Mon Posting of LMPs Criteria Met</a:t>
            </a:r>
            <a:endParaRPr b="0" lang="en-US" sz="1200" spc="-1" strike="noStrike">
              <a:solidFill>
                <a:srgbClr val="ffffff"/>
              </a:solidFill>
              <a:latin typeface="Arial"/>
            </a:endParaRPr>
          </a:p>
        </p:txBody>
      </p:sp>
      <p:sp>
        <p:nvSpPr>
          <p:cNvPr id="845" name=""/>
          <p:cNvSpPr/>
          <p:nvPr/>
        </p:nvSpPr>
        <p:spPr>
          <a:xfrm flipV="1">
            <a:off x="7524720" y="3862440"/>
            <a:ext cx="0" cy="161928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6" name=""/>
          <p:cNvSpPr/>
          <p:nvPr/>
        </p:nvSpPr>
        <p:spPr>
          <a:xfrm flipV="1">
            <a:off x="7740720" y="1449000"/>
            <a:ext cx="0" cy="205092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06520" y="3213000"/>
            <a:ext cx="8350200" cy="971640"/>
          </a:xfrm>
          <a:prstGeom prst="rightArrow">
            <a:avLst>
              <a:gd name="adj1" fmla="val 36602"/>
              <a:gd name="adj2" fmla="val 35331"/>
            </a:avLst>
          </a:prstGeom>
          <a:gradFill rotWithShape="0">
            <a:gsLst>
              <a:gs pos="0">
                <a:srgbClr val="fff200"/>
              </a:gs>
              <a:gs pos="100000">
                <a:srgbClr val="4d0808"/>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007                                 2008</a:t>
            </a:r>
            <a:r>
              <a:rPr b="1" lang="en-US" sz="1200" spc="-1" strike="noStrike">
                <a:solidFill>
                  <a:srgbClr val="000000"/>
                </a:solidFill>
                <a:latin typeface="Arial"/>
              </a:rPr>
              <a:t>                                </a:t>
            </a:r>
            <a:r>
              <a:rPr b="1" lang="en-US" sz="1200" spc="-1" strike="noStrike">
                <a:solidFill>
                  <a:srgbClr val="000000"/>
                </a:solidFill>
                <a:latin typeface="Arial"/>
              </a:rPr>
              <a:t>	</a:t>
            </a:r>
            <a:r>
              <a:rPr b="1" lang="en-US" sz="1800" spc="-1" strike="noStrike">
                <a:solidFill>
                  <a:srgbClr val="000000"/>
                </a:solidFill>
                <a:latin typeface="Arial"/>
              </a:rPr>
              <a:t>2009.1</a:t>
            </a:r>
            <a:r>
              <a:rPr b="1" lang="en-US" sz="1800" spc="-1" strike="noStrike">
                <a:solidFill>
                  <a:srgbClr val="000000"/>
                </a:solidFill>
                <a:latin typeface="Arial"/>
              </a:rPr>
              <a:t>	</a:t>
            </a:r>
            <a:endParaRPr b="0" lang="en-US" sz="1800" spc="-1" strike="noStrike">
              <a:solidFill>
                <a:srgbClr val="ffffff"/>
              </a:solidFill>
              <a:latin typeface="Arial"/>
            </a:endParaRPr>
          </a:p>
        </p:txBody>
      </p:sp>
      <p:sp>
        <p:nvSpPr>
          <p:cNvPr id="848" name=""/>
          <p:cNvSpPr/>
          <p:nvPr/>
        </p:nvSpPr>
        <p:spPr>
          <a:xfrm>
            <a:off x="4464000" y="5375160"/>
            <a:ext cx="3240000" cy="459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8-Hour Real-Time Market Test Comple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Time Market Operation Ready</a:t>
            </a:r>
            <a:endParaRPr b="0" lang="en-US" sz="1200" spc="-1" strike="noStrike">
              <a:solidFill>
                <a:srgbClr val="ffffff"/>
              </a:solidFill>
              <a:latin typeface="Arial"/>
            </a:endParaRPr>
          </a:p>
        </p:txBody>
      </p:sp>
      <p:sp>
        <p:nvSpPr>
          <p:cNvPr id="849" name=""/>
          <p:cNvSpPr/>
          <p:nvPr/>
        </p:nvSpPr>
        <p:spPr>
          <a:xfrm>
            <a:off x="6084720" y="1054080"/>
            <a:ext cx="1837080" cy="459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UC Test Comple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M Test Completion</a:t>
            </a:r>
            <a:endParaRPr b="0" lang="en-US" sz="1200" spc="-1" strike="noStrike">
              <a:solidFill>
                <a:srgbClr val="ffffff"/>
              </a:solidFill>
              <a:latin typeface="Arial"/>
            </a:endParaRPr>
          </a:p>
        </p:txBody>
      </p:sp>
      <p:sp>
        <p:nvSpPr>
          <p:cNvPr id="850" name=""/>
          <p:cNvSpPr/>
          <p:nvPr/>
        </p:nvSpPr>
        <p:spPr>
          <a:xfrm flipH="1" flipV="1">
            <a:off x="8135640" y="3897000"/>
            <a:ext cx="12600" cy="46836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7740720" y="4329000"/>
            <a:ext cx="792000" cy="580680"/>
          </a:xfrm>
          <a:prstGeom prst="rect">
            <a:avLst/>
          </a:prstGeom>
          <a:solidFill>
            <a:srgbClr val="ffff99"/>
          </a:solidFill>
          <a:ln w="9360">
            <a:solidFill>
              <a:srgbClr val="a50021"/>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Nodal Go-Live</a:t>
            </a:r>
            <a:endParaRPr b="0" lang="en-US" sz="1600" spc="-1" strike="noStrike">
              <a:solidFill>
                <a:srgbClr val="ffffff"/>
              </a:solidFill>
              <a:latin typeface="Arial"/>
            </a:endParaRPr>
          </a:p>
        </p:txBody>
      </p:sp>
      <p:sp>
        <p:nvSpPr>
          <p:cNvPr id="2" name="PlaceHolder 1"/>
          <p:cNvSpPr>
            <a:spLocks noGrp="1"/>
          </p:cNvSpPr>
          <p:nvPr>
            <p:ph type="sldNum" idx="9"/>
          </p:nvPr>
        </p:nvSpPr>
        <p:spPr/>
        <p:txBody>
          <a:bodyPr/>
          <a:p>
            <a:fld id="{CFB88BB0-7465-4D6E-A854-46343BCD80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2" name=""/>
          <p:cNvGrpSpPr/>
          <p:nvPr/>
        </p:nvGrpSpPr>
        <p:grpSpPr>
          <a:xfrm>
            <a:off x="216000" y="3897360"/>
            <a:ext cx="2303280" cy="2303280"/>
            <a:chOff x="216000" y="3897360"/>
            <a:chExt cx="2303280" cy="2303280"/>
          </a:xfrm>
        </p:grpSpPr>
        <p:graphicFrame>
          <p:nvGraphicFramePr>
            <p:cNvPr id="853" name=""/>
            <p:cNvGraphicFramePr/>
            <p:nvPr/>
          </p:nvGraphicFramePr>
          <p:xfrm>
            <a:off x="1171080" y="4376880"/>
            <a:ext cx="1044360" cy="1126800"/>
          </p:xfrm>
          <a:graphic>
            <a:graphicData uri="http://schemas.openxmlformats.org/presentationml/2006/ole">
              <p:oleObj r:id="rId1" spid="">
                <p:embed/>
                <p:pic>
                  <p:nvPicPr>
                    <p:cNvPr id="854" name="" descr=""/>
                    <p:cNvPicPr/>
                    <p:nvPr/>
                  </p:nvPicPr>
                  <p:blipFill>
                    <a:blip r:embed="rId2"/>
                    <a:stretch/>
                  </p:blipFill>
                  <p:spPr>
                    <a:xfrm>
                      <a:off x="1171080" y="4376880"/>
                      <a:ext cx="1044360" cy="1126800"/>
                    </a:xfrm>
                    <a:prstGeom prst="rect">
                      <a:avLst/>
                    </a:prstGeom>
                    <a:ln w="0">
                      <a:noFill/>
                    </a:ln>
                  </p:spPr>
                </p:pic>
              </p:oleObj>
            </a:graphicData>
          </a:graphic>
        </p:graphicFrame>
        <p:sp>
          <p:nvSpPr>
            <p:cNvPr id="855" name=""/>
            <p:cNvSpPr/>
            <p:nvPr/>
          </p:nvSpPr>
          <p:spPr>
            <a:xfrm>
              <a:off x="216000" y="3897360"/>
              <a:ext cx="2303280" cy="2303280"/>
            </a:xfrm>
            <a:custGeom>
              <a:avLst/>
              <a:gdLst/>
              <a:ahLst/>
              <a:rect l="l" t="t" r="r" b="b"/>
              <a:pathLst>
                <a:path w="3386" h="3161">
                  <a:moveTo>
                    <a:pt x="896" y="0"/>
                  </a:moveTo>
                  <a:lnTo>
                    <a:pt x="896" y="1354"/>
                  </a:lnTo>
                  <a:lnTo>
                    <a:pt x="0" y="1354"/>
                  </a:lnTo>
                  <a:lnTo>
                    <a:pt x="0" y="1443"/>
                  </a:lnTo>
                  <a:lnTo>
                    <a:pt x="447" y="1883"/>
                  </a:lnTo>
                  <a:lnTo>
                    <a:pt x="447" y="2022"/>
                  </a:lnTo>
                  <a:lnTo>
                    <a:pt x="854" y="2276"/>
                  </a:lnTo>
                  <a:lnTo>
                    <a:pt x="923" y="2035"/>
                  </a:lnTo>
                  <a:lnTo>
                    <a:pt x="1085" y="1946"/>
                  </a:lnTo>
                  <a:lnTo>
                    <a:pt x="1132" y="2051"/>
                  </a:lnTo>
                  <a:lnTo>
                    <a:pt x="1391" y="2051"/>
                  </a:lnTo>
                  <a:lnTo>
                    <a:pt x="1617" y="2399"/>
                  </a:lnTo>
                  <a:lnTo>
                    <a:pt x="1617" y="2522"/>
                  </a:lnTo>
                  <a:lnTo>
                    <a:pt x="1807" y="2687"/>
                  </a:lnTo>
                  <a:lnTo>
                    <a:pt x="1807" y="2891"/>
                  </a:lnTo>
                  <a:lnTo>
                    <a:pt x="1958" y="3006"/>
                  </a:lnTo>
                  <a:lnTo>
                    <a:pt x="2443" y="3161"/>
                  </a:lnTo>
                  <a:lnTo>
                    <a:pt x="2336" y="2903"/>
                  </a:lnTo>
                  <a:lnTo>
                    <a:pt x="2336" y="2687"/>
                  </a:lnTo>
                  <a:lnTo>
                    <a:pt x="2405" y="2551"/>
                  </a:lnTo>
                  <a:lnTo>
                    <a:pt x="2961" y="2206"/>
                  </a:lnTo>
                  <a:lnTo>
                    <a:pt x="2961" y="2125"/>
                  </a:lnTo>
                  <a:lnTo>
                    <a:pt x="2996" y="2097"/>
                  </a:lnTo>
                  <a:lnTo>
                    <a:pt x="2903" y="2005"/>
                  </a:lnTo>
                  <a:lnTo>
                    <a:pt x="2903" y="1927"/>
                  </a:lnTo>
                  <a:lnTo>
                    <a:pt x="2984" y="1959"/>
                  </a:lnTo>
                  <a:lnTo>
                    <a:pt x="3043" y="1915"/>
                  </a:lnTo>
                  <a:lnTo>
                    <a:pt x="3115" y="1927"/>
                  </a:lnTo>
                  <a:lnTo>
                    <a:pt x="3067" y="2035"/>
                  </a:lnTo>
                  <a:lnTo>
                    <a:pt x="3267" y="1959"/>
                  </a:lnTo>
                  <a:lnTo>
                    <a:pt x="3267" y="1746"/>
                  </a:lnTo>
                  <a:lnTo>
                    <a:pt x="3386" y="1656"/>
                  </a:lnTo>
                  <a:lnTo>
                    <a:pt x="3267" y="1505"/>
                  </a:lnTo>
                  <a:lnTo>
                    <a:pt x="3267" y="1354"/>
                  </a:lnTo>
                  <a:lnTo>
                    <a:pt x="3149" y="1197"/>
                  </a:lnTo>
                  <a:lnTo>
                    <a:pt x="3149" y="791"/>
                  </a:lnTo>
                  <a:lnTo>
                    <a:pt x="2961" y="895"/>
                  </a:lnTo>
                  <a:lnTo>
                    <a:pt x="2830" y="729"/>
                  </a:lnTo>
                  <a:lnTo>
                    <a:pt x="2775" y="771"/>
                  </a:lnTo>
                  <a:lnTo>
                    <a:pt x="2689" y="729"/>
                  </a:lnTo>
                  <a:lnTo>
                    <a:pt x="2575" y="805"/>
                  </a:lnTo>
                  <a:lnTo>
                    <a:pt x="2467" y="805"/>
                  </a:lnTo>
                  <a:lnTo>
                    <a:pt x="2443" y="715"/>
                  </a:lnTo>
                  <a:lnTo>
                    <a:pt x="2239" y="715"/>
                  </a:lnTo>
                  <a:lnTo>
                    <a:pt x="2194" y="791"/>
                  </a:lnTo>
                  <a:lnTo>
                    <a:pt x="2159" y="729"/>
                  </a:lnTo>
                  <a:lnTo>
                    <a:pt x="2089" y="791"/>
                  </a:lnTo>
                  <a:lnTo>
                    <a:pt x="2077" y="636"/>
                  </a:lnTo>
                  <a:lnTo>
                    <a:pt x="1970" y="698"/>
                  </a:lnTo>
                  <a:lnTo>
                    <a:pt x="1759" y="606"/>
                  </a:lnTo>
                  <a:lnTo>
                    <a:pt x="1652" y="606"/>
                  </a:lnTo>
                  <a:lnTo>
                    <a:pt x="1593" y="530"/>
                  </a:lnTo>
                  <a:lnTo>
                    <a:pt x="1534" y="530"/>
                  </a:lnTo>
                  <a:lnTo>
                    <a:pt x="1534" y="0"/>
                  </a:lnTo>
                  <a:lnTo>
                    <a:pt x="896" y="0"/>
                  </a:lnTo>
                  <a:lnTo>
                    <a:pt x="896" y="0"/>
                  </a:lnTo>
                  <a:close/>
                </a:path>
              </a:pathLst>
            </a:custGeom>
            <a:noFill/>
            <a:ln w="381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856" name="" descr=""/>
          <p:cNvPicPr/>
          <p:nvPr/>
        </p:nvPicPr>
        <p:blipFill>
          <a:blip r:embed="rId3"/>
          <a:stretch/>
        </p:blipFill>
        <p:spPr>
          <a:xfrm>
            <a:off x="3743280" y="1268280"/>
            <a:ext cx="3584520" cy="4951440"/>
          </a:xfrm>
          <a:prstGeom prst="rect">
            <a:avLst/>
          </a:prstGeom>
          <a:ln w="0">
            <a:noFill/>
          </a:ln>
        </p:spPr>
      </p:pic>
      <p:sp>
        <p:nvSpPr>
          <p:cNvPr id="2" name="PlaceHolder 1"/>
          <p:cNvSpPr>
            <a:spLocks noGrp="1"/>
          </p:cNvSpPr>
          <p:nvPr>
            <p:ph type="sldNum" idx="9"/>
          </p:nvPr>
        </p:nvSpPr>
        <p:spPr/>
        <p:txBody>
          <a:bodyPr/>
          <a:p>
            <a:fld id="{33DEB175-A1FB-42FC-8729-60B502901B5D}"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297080" y="225360"/>
            <a:ext cx="7704000" cy="577800"/>
          </a:xfrm>
          <a:prstGeom prst="rect">
            <a:avLst/>
          </a:prstGeom>
          <a:noFill/>
          <a:ln w="0">
            <a:noFill/>
          </a:ln>
        </p:spPr>
        <p:style>
          <a:lnRef idx="0"/>
          <a:fillRef idx="0"/>
          <a:effectRef idx="0"/>
          <a:fontRef idx="minor"/>
        </p:style>
        <p:txBody>
          <a:bodyPr lIns="0" rIns="0" tIns="0" bIns="0" anchor="t">
            <a:normAutofit/>
          </a:bodyPr>
          <a:p>
            <a:pPr marL="798480" indent="-7984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What is Nodal?</a:t>
            </a:r>
            <a:endParaRPr b="0" lang="en-US" sz="3200" spc="-1" strike="noStrike">
              <a:solidFill>
                <a:srgbClr val="ffffff"/>
              </a:solidFill>
              <a:latin typeface="Arial"/>
            </a:endParaRPr>
          </a:p>
        </p:txBody>
      </p:sp>
      <p:sp>
        <p:nvSpPr>
          <p:cNvPr id="185" name=""/>
          <p:cNvSpPr/>
          <p:nvPr/>
        </p:nvSpPr>
        <p:spPr>
          <a:xfrm>
            <a:off x="287280" y="1673280"/>
            <a:ext cx="8425080" cy="3863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200" spc="-1" strike="noStrike" u="sng">
                <a:solidFill>
                  <a:srgbClr val="ffffff"/>
                </a:solidFill>
                <a:uFillTx/>
                <a:latin typeface="Arial"/>
              </a:rPr>
              <a:t>Locational Marginal Price (LMP):</a:t>
            </a:r>
            <a:r>
              <a:rPr b="0" lang="en-US" sz="2200" spc="-1" strike="noStrike">
                <a:solidFill>
                  <a:srgbClr val="ffffff"/>
                </a:solidFill>
                <a:latin typeface="Arial"/>
              </a:rPr>
              <a:t> </a:t>
            </a:r>
            <a:endParaRPr b="0" lang="en-US" sz="2200" spc="-1" strike="noStrike">
              <a:solidFill>
                <a:srgbClr val="ffffff"/>
              </a:solidFill>
              <a:latin typeface="Arial"/>
            </a:endParaRPr>
          </a:p>
          <a:p>
            <a:pPr>
              <a:spcBef>
                <a:spcPts val="1100"/>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200" spc="-1" strike="noStrike">
                <a:solidFill>
                  <a:srgbClr val="ffffff"/>
                </a:solidFill>
                <a:latin typeface="Arial"/>
              </a:rPr>
              <a:t>The marginal cost of supplying the next increment of electric demand at a specific location (</a:t>
            </a:r>
            <a:r>
              <a:rPr b="0" lang="en-US" sz="2200" spc="-1" strike="noStrike" u="sng">
                <a:solidFill>
                  <a:srgbClr val="6600ff"/>
                </a:solidFill>
                <a:uFillTx/>
                <a:latin typeface="Arial"/>
              </a:rPr>
              <a:t>node</a:t>
            </a:r>
            <a:r>
              <a:rPr b="0" lang="en-US" sz="2200" spc="-1" strike="noStrike">
                <a:solidFill>
                  <a:srgbClr val="ffffff"/>
                </a:solidFill>
                <a:latin typeface="Arial"/>
              </a:rPr>
              <a:t>) on the electric power network, taking into account both generation marginal cost and the physical aspects of the transmission system.</a:t>
            </a:r>
            <a:endParaRPr b="0" lang="en-US" sz="2200" spc="-1" strike="noStrike">
              <a:solidFill>
                <a:srgbClr val="ffffff"/>
              </a:solidFill>
              <a:latin typeface="Arial"/>
            </a:endParaRPr>
          </a:p>
          <a:p>
            <a:pPr>
              <a:spcBef>
                <a:spcPts val="1375"/>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200" spc="-1" strike="noStrike" u="sng">
                <a:solidFill>
                  <a:srgbClr val="ffffff"/>
                </a:solidFill>
                <a:uFillTx/>
                <a:latin typeface="Arial"/>
              </a:rPr>
              <a:t>Congestion Revenue Rights (CRRs):</a:t>
            </a:r>
            <a:r>
              <a:rPr b="1" lang="en-US" sz="2200" spc="-1" strike="noStrike">
                <a:solidFill>
                  <a:srgbClr val="ffffff"/>
                </a:solidFill>
                <a:latin typeface="Arial"/>
              </a:rPr>
              <a:t> </a:t>
            </a:r>
            <a:endParaRPr b="0" lang="en-US" sz="2200" spc="-1" strike="noStrike">
              <a:solidFill>
                <a:srgbClr val="ffffff"/>
              </a:solidFill>
              <a:latin typeface="Arial"/>
            </a:endParaRPr>
          </a:p>
          <a:p>
            <a:pPr>
              <a:spcBef>
                <a:spcPts val="825"/>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200" spc="-1" strike="noStrike">
                <a:solidFill>
                  <a:srgbClr val="ffffff"/>
                </a:solidFill>
                <a:latin typeface="Arial"/>
              </a:rPr>
              <a:t>A CRR is a financial risk-hedging instrument that entitles the holder to be charged or receive compensation, depending on whether the CRR is an option or obligation, for congestion costs that arise when the transmission grid is congested.</a:t>
            </a:r>
            <a:endParaRPr b="0" lang="en-US" sz="2200" spc="-1" strike="noStrike">
              <a:solidFill>
                <a:srgbClr val="ffffff"/>
              </a:solidFill>
              <a:latin typeface="Arial"/>
            </a:endParaRPr>
          </a:p>
        </p:txBody>
      </p:sp>
      <p:sp>
        <p:nvSpPr>
          <p:cNvPr id="186" name=""/>
          <p:cNvSpPr txBox="1"/>
          <p:nvPr/>
        </p:nvSpPr>
        <p:spPr>
          <a:xfrm>
            <a:off x="250920" y="1197000"/>
            <a:ext cx="331308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Basics of a Nodal Model</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9"/>
          </p:nvPr>
        </p:nvSpPr>
        <p:spPr/>
        <p:txBody>
          <a:bodyPr/>
          <a:p>
            <a:fld id="{10CA7DA0-23B9-4FE3-9675-8C67186BF8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297080" y="225360"/>
            <a:ext cx="7704000" cy="577800"/>
          </a:xfrm>
          <a:prstGeom prst="rect">
            <a:avLst/>
          </a:prstGeom>
          <a:noFill/>
          <a:ln w="0">
            <a:noFill/>
          </a:ln>
        </p:spPr>
        <p:style>
          <a:lnRef idx="0"/>
          <a:fillRef idx="0"/>
          <a:effectRef idx="0"/>
          <a:fontRef idx="minor"/>
        </p:style>
        <p:txBody>
          <a:bodyPr lIns="0" rIns="0" tIns="0" bIns="0" anchor="t">
            <a:normAutofit/>
          </a:bodyPr>
          <a:p>
            <a:pPr marL="798480" indent="-7984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What is Nodal?</a:t>
            </a:r>
            <a:endParaRPr b="0" lang="en-US" sz="3200" spc="-1" strike="noStrike">
              <a:solidFill>
                <a:srgbClr val="ffffff"/>
              </a:solidFill>
              <a:latin typeface="Arial"/>
            </a:endParaRPr>
          </a:p>
        </p:txBody>
      </p:sp>
      <p:sp>
        <p:nvSpPr>
          <p:cNvPr id="188" name=""/>
          <p:cNvSpPr txBox="1"/>
          <p:nvPr/>
        </p:nvSpPr>
        <p:spPr>
          <a:xfrm>
            <a:off x="287280" y="1160640"/>
            <a:ext cx="4824360" cy="32364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Two-Node LMP Example -- No Congestion</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189" name=""/>
          <p:cNvSpPr/>
          <p:nvPr/>
        </p:nvSpPr>
        <p:spPr>
          <a:xfrm>
            <a:off x="1590840" y="2801880"/>
            <a:ext cx="761760" cy="7621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190" name=""/>
          <p:cNvSpPr/>
          <p:nvPr/>
        </p:nvSpPr>
        <p:spPr>
          <a:xfrm>
            <a:off x="6651720" y="2703600"/>
            <a:ext cx="761760" cy="7617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191" name=""/>
          <p:cNvSpPr/>
          <p:nvPr/>
        </p:nvSpPr>
        <p:spPr>
          <a:xfrm flipH="1">
            <a:off x="2886120" y="2709720"/>
            <a:ext cx="1440" cy="2016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118200" y="2673360"/>
            <a:ext cx="0" cy="129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352600" y="31827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118200" y="30844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916360" y="3564000"/>
            <a:ext cx="32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6" name=""/>
          <p:cNvGrpSpPr/>
          <p:nvPr/>
        </p:nvGrpSpPr>
        <p:grpSpPr>
          <a:xfrm>
            <a:off x="2886120" y="4365720"/>
            <a:ext cx="609480" cy="990360"/>
            <a:chOff x="2886120" y="4365720"/>
            <a:chExt cx="609480" cy="990360"/>
          </a:xfrm>
        </p:grpSpPr>
        <p:sp>
          <p:nvSpPr>
            <p:cNvPr id="197" name=""/>
            <p:cNvSpPr/>
            <p:nvPr/>
          </p:nvSpPr>
          <p:spPr>
            <a:xfrm>
              <a:off x="2886120" y="43657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495600" y="43657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9" name=""/>
          <p:cNvSpPr/>
          <p:nvPr/>
        </p:nvSpPr>
        <p:spPr>
          <a:xfrm>
            <a:off x="103320" y="1784520"/>
            <a:ext cx="290700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d Amount: 100 MW</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ice: $30/MWh</a:t>
            </a:r>
            <a:endParaRPr b="0" lang="en-US" sz="2000" spc="-1" strike="noStrike">
              <a:solidFill>
                <a:srgbClr val="ffffff"/>
              </a:solidFill>
              <a:latin typeface="Arial"/>
            </a:endParaRPr>
          </a:p>
        </p:txBody>
      </p:sp>
      <p:sp>
        <p:nvSpPr>
          <p:cNvPr id="200" name=""/>
          <p:cNvSpPr/>
          <p:nvPr/>
        </p:nvSpPr>
        <p:spPr>
          <a:xfrm>
            <a:off x="5978880" y="3975120"/>
            <a:ext cx="29282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Dispatch = 150 M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LMP = $20/MWh</a:t>
            </a:r>
            <a:endParaRPr b="0" lang="en-US" sz="2400" spc="-1" strike="noStrike">
              <a:solidFill>
                <a:srgbClr val="ffffff"/>
              </a:solidFill>
              <a:latin typeface="Arial"/>
            </a:endParaRPr>
          </a:p>
        </p:txBody>
      </p:sp>
      <p:sp>
        <p:nvSpPr>
          <p:cNvPr id="201" name=""/>
          <p:cNvSpPr/>
          <p:nvPr/>
        </p:nvSpPr>
        <p:spPr>
          <a:xfrm>
            <a:off x="130320" y="3789360"/>
            <a:ext cx="25808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Dispatch = 0 M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LMP = $20/MWh</a:t>
            </a:r>
            <a:endParaRPr b="0" lang="en-US" sz="2400" spc="-1" strike="noStrike">
              <a:solidFill>
                <a:srgbClr val="ffffff"/>
              </a:solidFill>
              <a:latin typeface="Arial"/>
            </a:endParaRPr>
          </a:p>
        </p:txBody>
      </p:sp>
      <p:sp>
        <p:nvSpPr>
          <p:cNvPr id="202" name=""/>
          <p:cNvSpPr/>
          <p:nvPr/>
        </p:nvSpPr>
        <p:spPr>
          <a:xfrm>
            <a:off x="2820600" y="5240160"/>
            <a:ext cx="13204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50 MW</a:t>
            </a:r>
            <a:endParaRPr b="0" lang="en-US" sz="2400" spc="-1" strike="noStrike">
              <a:solidFill>
                <a:srgbClr val="ffffff"/>
              </a:solidFill>
              <a:latin typeface="Arial"/>
            </a:endParaRPr>
          </a:p>
        </p:txBody>
      </p:sp>
      <p:sp>
        <p:nvSpPr>
          <p:cNvPr id="203" name=""/>
          <p:cNvSpPr/>
          <p:nvPr/>
        </p:nvSpPr>
        <p:spPr>
          <a:xfrm>
            <a:off x="6114960" y="1809720"/>
            <a:ext cx="290700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d Amount: 200 MW</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ice: $20/MWh</a:t>
            </a:r>
            <a:endParaRPr b="0" lang="en-US" sz="2000" spc="-1" strike="noStrike">
              <a:solidFill>
                <a:srgbClr val="ffffff"/>
              </a:solidFill>
              <a:latin typeface="Arial"/>
            </a:endParaRPr>
          </a:p>
        </p:txBody>
      </p:sp>
      <p:sp>
        <p:nvSpPr>
          <p:cNvPr id="2" name="PlaceHolder 1"/>
          <p:cNvSpPr>
            <a:spLocks noGrp="1"/>
          </p:cNvSpPr>
          <p:nvPr>
            <p:ph type="sldNum" idx="9"/>
          </p:nvPr>
        </p:nvSpPr>
        <p:spPr/>
        <p:txBody>
          <a:bodyPr/>
          <a:p>
            <a:fld id="{8BB334EE-E8ED-4581-A90C-B62E283BF45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297080" y="225360"/>
            <a:ext cx="7704000" cy="577800"/>
          </a:xfrm>
          <a:prstGeom prst="rect">
            <a:avLst/>
          </a:prstGeom>
          <a:noFill/>
          <a:ln w="0">
            <a:noFill/>
          </a:ln>
        </p:spPr>
        <p:style>
          <a:lnRef idx="0"/>
          <a:fillRef idx="0"/>
          <a:effectRef idx="0"/>
          <a:fontRef idx="minor"/>
        </p:style>
        <p:txBody>
          <a:bodyPr lIns="0" rIns="0" tIns="0" bIns="0" anchor="t">
            <a:normAutofit/>
          </a:bodyPr>
          <a:p>
            <a:pPr marL="798480" indent="-7984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What is Nodal?</a:t>
            </a:r>
            <a:endParaRPr b="0" lang="en-US" sz="3200" spc="-1" strike="noStrike">
              <a:solidFill>
                <a:srgbClr val="ffffff"/>
              </a:solidFill>
              <a:latin typeface="Arial"/>
            </a:endParaRPr>
          </a:p>
        </p:txBody>
      </p:sp>
      <p:sp>
        <p:nvSpPr>
          <p:cNvPr id="205" name=""/>
          <p:cNvSpPr/>
          <p:nvPr/>
        </p:nvSpPr>
        <p:spPr>
          <a:xfrm>
            <a:off x="1590840" y="2801880"/>
            <a:ext cx="761760" cy="7621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a:t>
            </a:r>
            <a:endParaRPr b="0" lang="en-US" sz="3600" spc="-1" strike="noStrike">
              <a:solidFill>
                <a:srgbClr val="ffffff"/>
              </a:solidFill>
              <a:latin typeface="Arial"/>
            </a:endParaRPr>
          </a:p>
        </p:txBody>
      </p:sp>
      <p:sp>
        <p:nvSpPr>
          <p:cNvPr id="206" name=""/>
          <p:cNvSpPr/>
          <p:nvPr/>
        </p:nvSpPr>
        <p:spPr>
          <a:xfrm>
            <a:off x="6651720" y="2703600"/>
            <a:ext cx="761760" cy="7617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
            </a:r>
            <a:endParaRPr b="0" lang="en-US" sz="3600" spc="-1" strike="noStrike">
              <a:solidFill>
                <a:srgbClr val="ffffff"/>
              </a:solidFill>
              <a:latin typeface="Arial"/>
            </a:endParaRPr>
          </a:p>
        </p:txBody>
      </p:sp>
      <p:sp>
        <p:nvSpPr>
          <p:cNvPr id="207" name=""/>
          <p:cNvSpPr/>
          <p:nvPr/>
        </p:nvSpPr>
        <p:spPr>
          <a:xfrm flipH="1">
            <a:off x="2886120" y="2709720"/>
            <a:ext cx="1440" cy="2016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118200" y="2673360"/>
            <a:ext cx="0" cy="129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352600" y="31827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6118200" y="30844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2916360" y="3564000"/>
            <a:ext cx="32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2" name=""/>
          <p:cNvGrpSpPr/>
          <p:nvPr/>
        </p:nvGrpSpPr>
        <p:grpSpPr>
          <a:xfrm>
            <a:off x="2886120" y="4365720"/>
            <a:ext cx="609480" cy="990360"/>
            <a:chOff x="2886120" y="4365720"/>
            <a:chExt cx="609480" cy="990360"/>
          </a:xfrm>
        </p:grpSpPr>
        <p:sp>
          <p:nvSpPr>
            <p:cNvPr id="213" name=""/>
            <p:cNvSpPr/>
            <p:nvPr/>
          </p:nvSpPr>
          <p:spPr>
            <a:xfrm>
              <a:off x="2886120" y="43657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495600" y="43657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
          <p:cNvSpPr/>
          <p:nvPr/>
        </p:nvSpPr>
        <p:spPr>
          <a:xfrm>
            <a:off x="2820600" y="5240160"/>
            <a:ext cx="13204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50 MW</a:t>
            </a:r>
            <a:endParaRPr b="0" lang="en-US" sz="2400" spc="-1" strike="noStrike">
              <a:solidFill>
                <a:srgbClr val="ffffff"/>
              </a:solidFill>
              <a:latin typeface="Arial"/>
            </a:endParaRPr>
          </a:p>
        </p:txBody>
      </p:sp>
      <p:sp>
        <p:nvSpPr>
          <p:cNvPr id="216" name=""/>
          <p:cNvSpPr/>
          <p:nvPr/>
        </p:nvSpPr>
        <p:spPr>
          <a:xfrm>
            <a:off x="6147360" y="3824280"/>
            <a:ext cx="27543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Dispatch = </a:t>
            </a:r>
            <a:r>
              <a:rPr b="0" lang="en-US" sz="2400" spc="-1" strike="noStrike">
                <a:solidFill>
                  <a:srgbClr val="cc3300"/>
                </a:solidFill>
                <a:latin typeface="Verdana"/>
              </a:rPr>
              <a:t>60 M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LMP = </a:t>
            </a:r>
            <a:r>
              <a:rPr b="0" lang="en-US" sz="2400" spc="-1" strike="noStrike">
                <a:solidFill>
                  <a:srgbClr val="cc3300"/>
                </a:solidFill>
                <a:latin typeface="Verdana"/>
              </a:rPr>
              <a:t>$20/MWh</a:t>
            </a:r>
            <a:endParaRPr b="0" lang="en-US" sz="2400" spc="-1" strike="noStrike">
              <a:solidFill>
                <a:srgbClr val="ffffff"/>
              </a:solidFill>
              <a:latin typeface="Arial"/>
            </a:endParaRPr>
          </a:p>
        </p:txBody>
      </p:sp>
      <p:sp>
        <p:nvSpPr>
          <p:cNvPr id="217" name=""/>
          <p:cNvSpPr/>
          <p:nvPr/>
        </p:nvSpPr>
        <p:spPr>
          <a:xfrm>
            <a:off x="250920" y="3789360"/>
            <a:ext cx="2592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Dispatch = </a:t>
            </a:r>
            <a:r>
              <a:rPr b="0" lang="en-US" sz="2000" spc="-1" strike="noStrike">
                <a:solidFill>
                  <a:srgbClr val="cc3300"/>
                </a:solidFill>
                <a:latin typeface="Verdana"/>
              </a:rPr>
              <a:t>90 MW</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LMP = </a:t>
            </a:r>
            <a:r>
              <a:rPr b="0" lang="en-US" sz="2000" spc="-1" strike="noStrike">
                <a:solidFill>
                  <a:srgbClr val="cc3300"/>
                </a:solidFill>
                <a:latin typeface="Verdana"/>
              </a:rPr>
              <a:t>$30/MWh</a:t>
            </a:r>
            <a:endParaRPr b="0" lang="en-US" sz="2000" spc="-1" strike="noStrike">
              <a:solidFill>
                <a:srgbClr val="ffffff"/>
              </a:solidFill>
              <a:latin typeface="Arial"/>
            </a:endParaRPr>
          </a:p>
        </p:txBody>
      </p:sp>
      <p:sp>
        <p:nvSpPr>
          <p:cNvPr id="218" name=""/>
          <p:cNvSpPr/>
          <p:nvPr/>
        </p:nvSpPr>
        <p:spPr>
          <a:xfrm>
            <a:off x="4392720" y="3429000"/>
            <a:ext cx="0" cy="25236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535640" y="3429000"/>
            <a:ext cx="0" cy="25236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684600" y="2763720"/>
            <a:ext cx="153216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60 MW</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Constraint</a:t>
            </a:r>
            <a:endParaRPr b="0" lang="en-US" sz="2000" spc="-1" strike="noStrike">
              <a:solidFill>
                <a:srgbClr val="ffffff"/>
              </a:solidFill>
              <a:latin typeface="Arial"/>
            </a:endParaRPr>
          </a:p>
        </p:txBody>
      </p:sp>
      <p:sp>
        <p:nvSpPr>
          <p:cNvPr id="221" name=""/>
          <p:cNvSpPr/>
          <p:nvPr/>
        </p:nvSpPr>
        <p:spPr>
          <a:xfrm>
            <a:off x="103320" y="1784520"/>
            <a:ext cx="290700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d Amount: 100 MW</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ice: $30/MWh</a:t>
            </a:r>
            <a:endParaRPr b="0" lang="en-US" sz="2000" spc="-1" strike="noStrike">
              <a:solidFill>
                <a:srgbClr val="ffffff"/>
              </a:solidFill>
              <a:latin typeface="Arial"/>
            </a:endParaRPr>
          </a:p>
        </p:txBody>
      </p:sp>
      <p:sp>
        <p:nvSpPr>
          <p:cNvPr id="222" name=""/>
          <p:cNvSpPr/>
          <p:nvPr/>
        </p:nvSpPr>
        <p:spPr>
          <a:xfrm>
            <a:off x="6114960" y="1809720"/>
            <a:ext cx="290700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d Amount: 200 MW</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ice: $20/MWh</a:t>
            </a:r>
            <a:endParaRPr b="0" lang="en-US" sz="2000" spc="-1" strike="noStrike">
              <a:solidFill>
                <a:srgbClr val="ffffff"/>
              </a:solidFill>
              <a:latin typeface="Arial"/>
            </a:endParaRPr>
          </a:p>
        </p:txBody>
      </p:sp>
      <p:sp>
        <p:nvSpPr>
          <p:cNvPr id="223" name=""/>
          <p:cNvSpPr txBox="1"/>
          <p:nvPr/>
        </p:nvSpPr>
        <p:spPr>
          <a:xfrm>
            <a:off x="287280" y="1160640"/>
            <a:ext cx="4824360" cy="32364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Two-Node LMP Example -- No Congestion</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9"/>
          </p:nvPr>
        </p:nvSpPr>
        <p:spPr/>
        <p:txBody>
          <a:bodyPr/>
          <a:p>
            <a:fld id="{7697C144-508A-4A2F-AF65-0D67F8B4BDE6}" type="slidenum">
              <a:t>7</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297080" y="225360"/>
            <a:ext cx="7704000" cy="577800"/>
          </a:xfrm>
          <a:prstGeom prst="rect">
            <a:avLst/>
          </a:prstGeom>
          <a:noFill/>
          <a:ln w="0">
            <a:noFill/>
          </a:ln>
        </p:spPr>
        <p:style>
          <a:lnRef idx="0"/>
          <a:fillRef idx="0"/>
          <a:effectRef idx="0"/>
          <a:fontRef idx="minor"/>
        </p:style>
        <p:txBody>
          <a:bodyPr lIns="0" rIns="0" tIns="0" bIns="0" anchor="t">
            <a:normAutofit/>
          </a:bodyPr>
          <a:p>
            <a:pPr marL="798480" indent="-7984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What is Nodal?</a:t>
            </a:r>
            <a:endParaRPr b="0" lang="en-US" sz="3200" spc="-1" strike="noStrike">
              <a:solidFill>
                <a:srgbClr val="ffffff"/>
              </a:solidFill>
              <a:latin typeface="Arial"/>
            </a:endParaRPr>
          </a:p>
        </p:txBody>
      </p:sp>
      <p:sp>
        <p:nvSpPr>
          <p:cNvPr id="225" name=""/>
          <p:cNvSpPr/>
          <p:nvPr/>
        </p:nvSpPr>
        <p:spPr>
          <a:xfrm>
            <a:off x="1150920" y="1881360"/>
            <a:ext cx="7166160" cy="3033720"/>
          </a:xfrm>
          <a:prstGeom prst="rect">
            <a:avLst/>
          </a:prstGeom>
          <a:noFill/>
          <a:ln w="0">
            <a:noFill/>
          </a:ln>
        </p:spPr>
        <p:style>
          <a:lnRef idx="0"/>
          <a:fillRef idx="0"/>
          <a:effectRef idx="0"/>
          <a:fontRef idx="minor"/>
        </p:style>
        <p:txBody>
          <a:bodyPr lIns="92160" rIns="92160" tIns="46080" bIns="46080" anchor="t">
            <a:spAutoFit/>
          </a:bodyPr>
          <a:p>
            <a:pPr>
              <a:spcBef>
                <a:spcPts val="2999"/>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ffffff"/>
                </a:solidFill>
                <a:latin typeface="Arial"/>
              </a:rPr>
              <a:t>The current ERCOT system is </a:t>
            </a:r>
            <a:r>
              <a:rPr b="1" lang="en-US" sz="2400" spc="-1" strike="noStrike">
                <a:solidFill>
                  <a:srgbClr val="a50021"/>
                </a:solidFill>
                <a:latin typeface="Arial"/>
              </a:rPr>
              <a:t>actually</a:t>
            </a:r>
            <a:r>
              <a:rPr b="1" lang="en-US" sz="2400" spc="-1" strike="noStrike">
                <a:solidFill>
                  <a:srgbClr val="ffffff"/>
                </a:solidFill>
                <a:latin typeface="Arial"/>
              </a:rPr>
              <a:t> a Zonal LMP model, i.e., LMP is calculated for each Congestion Management Zone.  (In a Nodal LMP model, LMP is calculated for each node.)</a:t>
            </a:r>
            <a:endParaRPr b="0" lang="en-US" sz="2400" spc="-1" strike="noStrike">
              <a:solidFill>
                <a:srgbClr val="ffffff"/>
              </a:solidFill>
              <a:latin typeface="Arial"/>
            </a:endParaRPr>
          </a:p>
          <a:p>
            <a:pPr>
              <a:spcBef>
                <a:spcPts val="2999"/>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ffffff"/>
                </a:solidFill>
                <a:latin typeface="Arial"/>
              </a:rPr>
              <a:t>The TCR in current ERCOT Market is also one kind of Congestion Revenue Right which helps hedge financial risks in current power market.</a:t>
            </a:r>
            <a:endParaRPr b="0" lang="en-US" sz="2400" spc="-1" strike="noStrike">
              <a:solidFill>
                <a:srgbClr val="ffffff"/>
              </a:solidFill>
              <a:latin typeface="Arial"/>
            </a:endParaRPr>
          </a:p>
        </p:txBody>
      </p:sp>
      <p:sp>
        <p:nvSpPr>
          <p:cNvPr id="226" name=""/>
          <p:cNvSpPr txBox="1"/>
          <p:nvPr/>
        </p:nvSpPr>
        <p:spPr>
          <a:xfrm>
            <a:off x="287280" y="1268280"/>
            <a:ext cx="3313080" cy="32400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rPr>
              <a:t>Basics of a Nodal Model</a:t>
            </a:r>
            <a:endParaRPr b="0" lang="en-US" sz="3200" spc="1" strike="noStrike">
              <a:ln w="12600">
                <a:solidFill>
                  <a:srgbClr val="ffff00"/>
                </a:solidFill>
                <a:miter/>
              </a:ln>
              <a:solidFill>
                <a:srgbClr val="008000"/>
              </a:solid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9"/>
          </p:nvPr>
        </p:nvSpPr>
        <p:spPr/>
        <p:txBody>
          <a:bodyPr/>
          <a:p>
            <a:fld id="{18B99913-C996-4621-BC50-0EABB4DE93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297080" y="225360"/>
            <a:ext cx="7704000" cy="577800"/>
          </a:xfrm>
          <a:prstGeom prst="rect">
            <a:avLst/>
          </a:prstGeom>
          <a:noFill/>
          <a:ln w="0">
            <a:noFill/>
          </a:ln>
        </p:spPr>
        <p:style>
          <a:lnRef idx="0"/>
          <a:fillRef idx="0"/>
          <a:effectRef idx="0"/>
          <a:fontRef idx="minor"/>
        </p:style>
        <p:txBody>
          <a:bodyPr lIns="0" rIns="0" tIns="0" bIns="0" anchor="t">
            <a:normAutofit/>
          </a:bodyPr>
          <a:p>
            <a:pPr marL="798480" indent="-7984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What is Nodal?</a:t>
            </a:r>
            <a:endParaRPr b="0" lang="en-US" sz="3200" spc="-1" strike="noStrike">
              <a:solidFill>
                <a:srgbClr val="ffffff"/>
              </a:solidFill>
              <a:latin typeface="Arial"/>
            </a:endParaRPr>
          </a:p>
        </p:txBody>
      </p:sp>
      <p:sp>
        <p:nvSpPr>
          <p:cNvPr id="228" name=""/>
          <p:cNvSpPr/>
          <p:nvPr/>
        </p:nvSpPr>
        <p:spPr>
          <a:xfrm>
            <a:off x="142920" y="1535040"/>
            <a:ext cx="7543800" cy="3407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000" spc="-1" strike="noStrike">
              <a:solidFill>
                <a:srgbClr val="ffffff"/>
              </a:solidFill>
              <a:latin typeface="Arial"/>
            </a:endParaRPr>
          </a:p>
          <a:p>
            <a:pPr lvl="1" marL="461880" indent="-347400">
              <a:lnSpc>
                <a:spcPct val="100000"/>
              </a:lnSpc>
              <a:spcBef>
                <a:spcPts val="125"/>
              </a:spcBef>
              <a:spcAft>
                <a:spcPts val="499"/>
              </a:spcAft>
              <a:buSzPct val="102792"/>
              <a:buBlip>
                <a:blip r:embed="rId1"/>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2000" spc="-1" strike="noStrike">
                <a:solidFill>
                  <a:srgbClr val="000000"/>
                </a:solidFill>
                <a:latin typeface="Arial Rounded MT Bold"/>
              </a:rPr>
              <a:t>Bilateral + Ancillary Service</a:t>
            </a:r>
            <a:endParaRPr b="0" lang="en-US" sz="2000" spc="-1" strike="noStrike">
              <a:solidFill>
                <a:srgbClr val="ffffff"/>
              </a:solidFill>
              <a:latin typeface="Arial"/>
            </a:endParaRPr>
          </a:p>
          <a:p>
            <a:pPr lvl="1" marL="461880" indent="-347400">
              <a:lnSpc>
                <a:spcPct val="100000"/>
              </a:lnSpc>
              <a:spcBef>
                <a:spcPts val="125"/>
              </a:spcBef>
              <a:spcAft>
                <a:spcPts val="499"/>
              </a:spcAft>
              <a:buSzPct val="102792"/>
              <a:buBlip>
                <a:blip r:embed="rId2"/>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2000" spc="-1" strike="noStrike">
                <a:solidFill>
                  <a:srgbClr val="000000"/>
                </a:solidFill>
                <a:latin typeface="Arial Rounded MT Bold"/>
              </a:rPr>
              <a:t>No ERCOT-Run Day-ahead Energy Market</a:t>
            </a:r>
            <a:endParaRPr b="0" lang="en-US" sz="2000" spc="-1" strike="noStrike">
              <a:solidFill>
                <a:srgbClr val="ffffff"/>
              </a:solidFill>
              <a:latin typeface="Arial"/>
            </a:endParaRPr>
          </a:p>
          <a:p>
            <a:pPr lvl="1" marL="461880" indent="-347400">
              <a:lnSpc>
                <a:spcPct val="100000"/>
              </a:lnSpc>
              <a:spcBef>
                <a:spcPts val="125"/>
              </a:spcBef>
              <a:spcAft>
                <a:spcPts val="499"/>
              </a:spcAft>
              <a:buSzPct val="102792"/>
              <a:buBlip>
                <a:blip r:embed="rId3"/>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2000" spc="-1" strike="noStrike">
                <a:solidFill>
                  <a:srgbClr val="000000"/>
                </a:solidFill>
                <a:latin typeface="Arial Rounded MT Bold"/>
              </a:rPr>
              <a:t>Zonal Locational Model </a:t>
            </a:r>
            <a:endParaRPr b="0" lang="en-US" sz="2000" spc="-1" strike="noStrike">
              <a:solidFill>
                <a:srgbClr val="ffffff"/>
              </a:solidFill>
              <a:latin typeface="Arial"/>
            </a:endParaRPr>
          </a:p>
          <a:p>
            <a:pPr lvl="1" marL="461880" indent="-347400">
              <a:lnSpc>
                <a:spcPct val="100000"/>
              </a:lnSpc>
              <a:spcBef>
                <a:spcPts val="125"/>
              </a:spcBef>
              <a:spcAft>
                <a:spcPts val="499"/>
              </a:spcAft>
              <a:buSzPct val="102792"/>
              <a:buBlip>
                <a:blip r:embed="rId4"/>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2000" spc="-1" strike="noStrike">
                <a:solidFill>
                  <a:srgbClr val="000000"/>
                </a:solidFill>
                <a:latin typeface="Arial Rounded MT Bold"/>
              </a:rPr>
              <a:t>Portfolio Schedules</a:t>
            </a:r>
            <a:endParaRPr b="0" lang="en-US" sz="2000" spc="-1" strike="noStrike">
              <a:solidFill>
                <a:srgbClr val="ffffff"/>
              </a:solidFill>
              <a:latin typeface="Arial"/>
            </a:endParaRPr>
          </a:p>
          <a:p>
            <a:pPr lvl="1" marL="461880" indent="-347400">
              <a:lnSpc>
                <a:spcPct val="100000"/>
              </a:lnSpc>
              <a:spcBef>
                <a:spcPts val="125"/>
              </a:spcBef>
              <a:spcAft>
                <a:spcPts val="499"/>
              </a:spcAft>
              <a:buSzPct val="102792"/>
              <a:buBlip>
                <a:blip r:embed="rId5"/>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2000" spc="-1" strike="noStrike">
                <a:solidFill>
                  <a:srgbClr val="000000"/>
                </a:solidFill>
                <a:latin typeface="Arial Rounded MT Bold"/>
              </a:rPr>
              <a:t>Balancing Energy (Real-Time) Market </a:t>
            </a:r>
            <a:endParaRPr b="0" lang="en-US" sz="2000" spc="-1" strike="noStrike">
              <a:solidFill>
                <a:srgbClr val="ffffff"/>
              </a:solidFill>
              <a:latin typeface="Arial"/>
            </a:endParaRPr>
          </a:p>
          <a:p>
            <a:pPr lvl="2" marL="797040" indent="1440">
              <a:lnSpc>
                <a:spcPct val="100000"/>
              </a:lnSpc>
              <a:spcBef>
                <a:spcPts val="125"/>
              </a:spcBef>
              <a:spcAft>
                <a:spcPts val="499"/>
              </a:spcAft>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Lst>
            </a:pPr>
            <a:r>
              <a:rPr b="1" lang="en-US" sz="2000" spc="-1" strike="noStrike">
                <a:solidFill>
                  <a:srgbClr val="000000"/>
                </a:solidFill>
                <a:latin typeface="Arial Rounded MT Bold"/>
              </a:rPr>
              <a:t>(Inter- &amp; Intra-zonal Congestion Management )</a:t>
            </a:r>
            <a:endParaRPr b="0" lang="en-US" sz="2000" spc="-1" strike="noStrike">
              <a:solidFill>
                <a:srgbClr val="ffffff"/>
              </a:solidFill>
              <a:latin typeface="Arial"/>
            </a:endParaRPr>
          </a:p>
          <a:p>
            <a:pPr lvl="1" marL="461880" indent="-347400">
              <a:lnSpc>
                <a:spcPct val="100000"/>
              </a:lnSpc>
              <a:spcBef>
                <a:spcPts val="125"/>
              </a:spcBef>
              <a:spcAft>
                <a:spcPts val="499"/>
              </a:spcAft>
              <a:buSzPct val="102792"/>
              <a:buBlip>
                <a:blip r:embed="rId6"/>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2000" spc="-1" strike="noStrike">
                <a:solidFill>
                  <a:srgbClr val="000000"/>
                </a:solidFill>
                <a:latin typeface="Arial Rounded MT Bold"/>
              </a:rPr>
              <a:t>Transmission Congestion Rights (TCRs)</a:t>
            </a:r>
            <a:endParaRPr b="0" lang="en-US" sz="2000" spc="-1" strike="noStrike">
              <a:solidFill>
                <a:srgbClr val="ffffff"/>
              </a:solidFill>
              <a:latin typeface="Arial"/>
            </a:endParaRPr>
          </a:p>
          <a:p>
            <a:pPr lvl="1" marL="461880" indent="-347400">
              <a:lnSpc>
                <a:spcPct val="100000"/>
              </a:lnSpc>
              <a:spcBef>
                <a:spcPts val="125"/>
              </a:spcBef>
              <a:spcAft>
                <a:spcPts val="499"/>
              </a:spcAft>
              <a:buSzPct val="102792"/>
              <a:buBlip>
                <a:blip r:embed="rId7"/>
              </a:buBlip>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2000" spc="-1" strike="noStrike">
                <a:solidFill>
                  <a:srgbClr val="000000"/>
                </a:solidFill>
                <a:latin typeface="Arial Rounded MT Bold"/>
              </a:rPr>
              <a:t>Single Control Area</a:t>
            </a:r>
            <a:endParaRPr b="0" lang="en-US" sz="2000" spc="-1" strike="noStrike">
              <a:solidFill>
                <a:srgbClr val="ffffff"/>
              </a:solidFill>
              <a:latin typeface="Arial"/>
            </a:endParaRPr>
          </a:p>
        </p:txBody>
      </p:sp>
      <p:sp>
        <p:nvSpPr>
          <p:cNvPr id="229" name=""/>
          <p:cNvSpPr txBox="1"/>
          <p:nvPr/>
        </p:nvSpPr>
        <p:spPr>
          <a:xfrm>
            <a:off x="324000" y="1376280"/>
            <a:ext cx="6696000" cy="325440"/>
          </a:xfrm>
          <a:prstGeom prst="rect">
            <a:avLst/>
          </a:prstGeom>
        </p:spPr>
        <p:txBody>
          <a:bodyPr wrap="none" lIns="91800" rIns="91800" anchor="ctr">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cc00"/>
                  </a:solidFill>
                  <a:miter/>
                </a:ln>
                <a:solidFill>
                  <a:srgbClr val="008000"/>
                </a:solidFill>
                <a:effectLst>
                  <a:outerShdw dist="17819" dir="2700000" blurRad="0" rotWithShape="0">
                    <a:srgbClr val="c0c0c0">
                      <a:alpha val="80000"/>
                    </a:srgbClr>
                  </a:outerShdw>
                </a:effectLst>
                <a:latin typeface="ITC Bookman Demi"/>
              </a:rPr>
              <a:t>ERCOT : Present Zonal Model (since 7/31/2001)</a:t>
            </a:r>
            <a:endParaRPr b="0" lang="en-US" sz="3200" spc="1" strike="noStrike">
              <a:ln w="9360">
                <a:solidFill>
                  <a:srgbClr val="ffcc00"/>
                </a:solidFill>
                <a:miter/>
              </a:ln>
              <a:solidFill>
                <a:srgbClr val="008000"/>
              </a:solidFill>
              <a:effectLst>
                <a:outerShdw dist="17819" dir="2700000" blurRad="0" rotWithShape="0">
                  <a:srgbClr val="c0c0c0">
                    <a:alpha val="80000"/>
                  </a:srgbClr>
                </a:outerShdw>
              </a:effectLst>
              <a:latin typeface="ITC Bookman Demi"/>
              <a:ea typeface="ITC Bookman Demi"/>
            </a:endParaRPr>
          </a:p>
        </p:txBody>
      </p:sp>
      <p:sp>
        <p:nvSpPr>
          <p:cNvPr id="2" name="PlaceHolder 1"/>
          <p:cNvSpPr>
            <a:spLocks noGrp="1"/>
          </p:cNvSpPr>
          <p:nvPr>
            <p:ph type="sldNum" idx="9"/>
          </p:nvPr>
        </p:nvSpPr>
        <p:spPr/>
        <p:txBody>
          <a:bodyPr/>
          <a:p>
            <a:fld id="{08FAC609-97D5-4ED7-B80C-CBD936326E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9:22:38Z</dcterms:created>
  <dc:creator>steng</dc:creator>
  <dc:description/>
  <dc:language>en-US</dc:language>
  <cp:lastModifiedBy>vweldon</cp:lastModifiedBy>
  <dcterms:modified xsi:type="dcterms:W3CDTF">2006-03-17T15:00:53Z</dcterms:modified>
  <cp:revision>301</cp:revision>
  <dc:subject/>
  <dc:title>Texas Nodal Market</dc:title>
</cp:coreProperties>
</file>