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FC2F4-32B9-4E29-9AD1-E94B32E4F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DEA2B-3633-47A7-B2B5-3E7CCA47A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75AC1-DFE3-4B95-9288-9EA22BA51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47DB1-F80C-4210-A308-A410380C2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96D61-3416-4AF2-A118-D5054EE73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FF0AE-0D27-4039-A940-DAE998822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868E6-0002-4398-9C67-1EBF739C9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D647F-9247-4B0B-BAE7-48DAC9D31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83BEE-0B56-4FF5-BE1F-83A542062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6C4B2-52BE-47CB-B176-9AF66DE79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17030-3B4C-4EBF-B6FE-FEAB00BE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8AD9B-D156-49CB-A084-10CFDEB31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8F83-7299-4D6C-B225-1020FA7687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3124080"/>
            <a:ext cx="81532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 The information presented has been compiled by or for ERCOT for general information purposes and is subject to change.  For current requirements, see the most current versions of the ERCOT Protocols, Operating Guides, and other standards, rules and procedures designated for use in the ERCOT Region </a:t>
            </a:r>
            <a:endParaRPr b="0" lang="en-US" sz="1800" spc="-1" strike="noStrike">
              <a:solidFill>
                <a:srgbClr val="000000"/>
              </a:solidFill>
              <a:latin typeface="Arial"/>
            </a:endParaRPr>
          </a:p>
        </p:txBody>
      </p:sp>
      <p:pic>
        <p:nvPicPr>
          <p:cNvPr id="42" name="" descr=""/>
          <p:cNvPicPr/>
          <p:nvPr/>
        </p:nvPicPr>
        <p:blipFill>
          <a:blip r:embed="rId1"/>
          <a:stretch/>
        </p:blipFill>
        <p:spPr>
          <a:xfrm>
            <a:off x="1752480" y="304920"/>
            <a:ext cx="5181840" cy="24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0T15:15:43Z</dcterms:created>
  <dc:creator> Vann Weldon</dc:creator>
  <dc:description/>
  <dc:language>en-US</dc:language>
  <cp:lastModifiedBy>vweldon</cp:lastModifiedBy>
  <dcterms:modified xsi:type="dcterms:W3CDTF">2006-03-17T14:37:43Z</dcterms:modified>
  <cp:revision>2</cp:revision>
  <dc:subject/>
  <dc:title>Slide 1</dc:title>
</cp:coreProperties>
</file>