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C9C38-9CA7-4D2E-9B7F-A92030DA2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15998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3048120"/>
            <a:ext cx="807696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3520" y="4401360"/>
            <a:ext cx="807696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BB821-4745-4F0A-B9CA-4E89807FE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520" y="15998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3048120"/>
            <a:ext cx="394128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080" y="3048120"/>
            <a:ext cx="394128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3520" y="4401360"/>
            <a:ext cx="394128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080" y="4401360"/>
            <a:ext cx="394128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14629-040F-476C-99C5-725EC58EA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3520" y="15998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520" y="3048120"/>
            <a:ext cx="260064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4480" y="3048120"/>
            <a:ext cx="260064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95800" y="3048120"/>
            <a:ext cx="260064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3520" y="4401360"/>
            <a:ext cx="260064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4480" y="4401360"/>
            <a:ext cx="260064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95800" y="4401360"/>
            <a:ext cx="260064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1D198-430B-4066-97DC-8C0004869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A56D8-696C-43A3-B2D8-803862CF6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520" y="15998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33520" y="3048120"/>
            <a:ext cx="807696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A7246-040F-43C6-A4A7-EFAD47EB7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15998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3520" y="3048120"/>
            <a:ext cx="80769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6FD4D-2CAE-4D11-AFB5-D44BF6651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520" y="15998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3520" y="3048120"/>
            <a:ext cx="394128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2080" y="3048120"/>
            <a:ext cx="394128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74939-CBF8-4001-B090-5B99DF9BF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520" y="15998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5E552-3EA0-448D-AC8F-956BB22C1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33520" y="159984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4C85E-BEAE-4426-9E86-DC2FF1A6D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520" y="15998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520" y="3048120"/>
            <a:ext cx="394128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080" y="3048120"/>
            <a:ext cx="394128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33520" y="4401360"/>
            <a:ext cx="394128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1DD6F-F373-417A-BA4D-73BA70E8A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520" y="15998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3520" y="3048120"/>
            <a:ext cx="807696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436B1-CE5C-4919-9B8D-095C84149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520" y="15998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3520" y="3048120"/>
            <a:ext cx="394128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2080" y="3048120"/>
            <a:ext cx="394128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2080" y="4401360"/>
            <a:ext cx="394128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51E34-501F-4723-A2A3-8045C6689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15998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3048120"/>
            <a:ext cx="394128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2080" y="3048120"/>
            <a:ext cx="394128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520" y="4401360"/>
            <a:ext cx="807696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DE27D-9AC4-4456-9AD0-D756E851B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15998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3048120"/>
            <a:ext cx="807696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33520" y="4401360"/>
            <a:ext cx="807696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E7A8E-506B-4174-8D84-4E39B58F3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520" y="15998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3520" y="3048120"/>
            <a:ext cx="394128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2080" y="3048120"/>
            <a:ext cx="394128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33520" y="4401360"/>
            <a:ext cx="394128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2080" y="4401360"/>
            <a:ext cx="394128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4165C-A179-4E89-86AF-1916F619A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15998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3048120"/>
            <a:ext cx="260064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64480" y="3048120"/>
            <a:ext cx="260064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95800" y="3048120"/>
            <a:ext cx="260064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33520" y="4401360"/>
            <a:ext cx="260064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64480" y="4401360"/>
            <a:ext cx="260064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95800" y="4401360"/>
            <a:ext cx="260064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8BC7B-FC28-4E13-8C67-E4B654CF1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520" y="15998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3520" y="3048120"/>
            <a:ext cx="80769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8E1CB-3496-4FF3-ABEB-72ED49B6E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15998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520" y="3048120"/>
            <a:ext cx="394128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080" y="3048120"/>
            <a:ext cx="394128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5776A-7174-4B7B-9843-8CED5FB76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520" y="15998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2A762-52C2-4BF3-BA15-1326361D5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3520" y="159984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4D32B-4CF2-464C-A3E3-98F554445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15998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520" y="3048120"/>
            <a:ext cx="394128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080" y="3048120"/>
            <a:ext cx="394128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3520" y="4401360"/>
            <a:ext cx="394128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E9FF1-095E-49E9-B397-CE8AB6D09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15998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3048120"/>
            <a:ext cx="394128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080" y="3048120"/>
            <a:ext cx="394128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080" y="4401360"/>
            <a:ext cx="394128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C7B82-51BE-4470-8D1D-2184045CC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15998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3048120"/>
            <a:ext cx="394128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080" y="3048120"/>
            <a:ext cx="394128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3520" y="4401360"/>
            <a:ext cx="807696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40AA5-DFFD-4FD7-A3D8-D5174415D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15998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520" y="3048120"/>
            <a:ext cx="80769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2000"/>
          </a:bodyPr>
          <a:p>
            <a:pPr marL="212400" indent="-2124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60440" indent="-1771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708480" indent="-141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991800" indent="-141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275480" indent="-141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275480" indent="-141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275480" indent="-141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33160" y="58672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66880" y="5867280"/>
            <a:ext cx="3733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05360" y="58672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BFA36-C5AE-408B-A100-B46B2CCBD0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533160" y="58672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2743200" y="5867280"/>
            <a:ext cx="3657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705360" y="58672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C0E3B-3C6F-448B-91E7-E42A284076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 Participants Roles and Responsibilit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533520" y="3428640"/>
            <a:ext cx="807696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ligh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520" y="3949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R in Power Fact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rcRect l="0" t="9440" r="32725" b="30133"/>
          <a:stretch/>
        </p:blipFill>
        <p:spPr>
          <a:xfrm>
            <a:off x="1092240" y="1547640"/>
            <a:ext cx="6959520" cy="483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520" y="15998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monstration of Problem Caused by Cap Banks not Deploy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520" y="3048120"/>
            <a:ext cx="80769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se 1: Cap Bank at Load Deploy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collapse with Line #3 tri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se 2: Cap Bank at Load Not Deploy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lackout with Line #3 tri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3567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p Bank Deploy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rcRect l="0" t="8759" r="26353" b="28195"/>
          <a:stretch/>
        </p:blipFill>
        <p:spPr>
          <a:xfrm>
            <a:off x="961920" y="1623960"/>
            <a:ext cx="7220160" cy="479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520" y="3949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p Banks NOT Deploy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rcRect l="0" t="8261" r="34416" b="31130"/>
          <a:stretch/>
        </p:blipFill>
        <p:spPr>
          <a:xfrm>
            <a:off x="1162080" y="1623960"/>
            <a:ext cx="6818400" cy="489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3520" y="15998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monstration of Problem Caused by Unit not Going to Capability/Poor Model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520" y="3048120"/>
            <a:ext cx="80769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se 1: Unit Goes to Modeled Lim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collapse with Line #3 tri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se 2: Unit Doesn’t Go to Modeled Lim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lackout with Line #3 tri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3520" y="3567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del (Large Capacity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rcRect l="1636" t="9440" r="34932" b="33772"/>
          <a:stretch/>
        </p:blipFill>
        <p:spPr>
          <a:xfrm>
            <a:off x="1095480" y="1508040"/>
            <a:ext cx="695160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3520" y="3949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ality (Small Capacity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rcRect l="0" t="9440" r="32725" b="30133"/>
          <a:stretch/>
        </p:blipFill>
        <p:spPr>
          <a:xfrm>
            <a:off x="1092240" y="1547640"/>
            <a:ext cx="6959520" cy="483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3520" y="663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3520" y="1662120"/>
            <a:ext cx="8076960" cy="39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oked at TDSP, QSE and ERCOT roles/responsibil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owed consequences of not fulfilling responsibilit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3520" y="15998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RCOT Voltage Control Procedu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33520" y="3048120"/>
            <a:ext cx="80769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mmary of how to control voltage in ERC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conflicts with Protocols/Guides, Protocols/ Guides w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3520" y="4712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RCOT Voltage Control Procedu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1278000" y="1393920"/>
            <a:ext cx="6586560" cy="51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520" y="74088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RCOT Voltage Control Procedu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1528920" y="1854360"/>
            <a:ext cx="6086160" cy="47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520" y="74088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RCOT Oper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33520" y="2084040"/>
            <a:ext cx="8076960" cy="35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udy Secu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termine Voltage Prof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e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ploy Resources when Need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ps/Reac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t set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irly and Appropriate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74088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DS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33520" y="2084040"/>
            <a:ext cx="8076960" cy="35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udy Secur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lp Determine Voltage Profi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ploy Resources when Need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ps/Reac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it setpoi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irly and Appropriate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520" y="74088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SE/Generation Resour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33520" y="2084040"/>
            <a:ext cx="8076960" cy="35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VR’s on and in Voltage Control mode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nge AVR setpoint as reques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unit go to reactive capability unless “Imminent Damage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 accurate data to model (Reactive Test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lain if feel unfairly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15998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monstration of Problem Caused by AVRs in Power Factor Mod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520" y="3048120"/>
            <a:ext cx="80769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se 1: Unit 2 AVR in Voltage Control M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collapse with Line #3 tri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se 2: Unit 2 in Power Factor M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lackout with Line #3 tri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520" y="3567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R in Voltage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rcRect l="1636" t="9440" r="34932" b="33772"/>
          <a:stretch/>
        </p:blipFill>
        <p:spPr>
          <a:xfrm>
            <a:off x="1095480" y="1508040"/>
            <a:ext cx="695160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9T16:54:56Z</dcterms:created>
  <dc:creator>Stephen Reedy</dc:creator>
  <dc:description/>
  <dc:language>en-US</dc:language>
  <cp:lastModifiedBy>vweldon</cp:lastModifiedBy>
  <dcterms:modified xsi:type="dcterms:W3CDTF">2006-03-10T14:32:57Z</dcterms:modified>
  <cp:revision>23</cp:revision>
  <dc:subject/>
  <dc:title>Slide 1</dc:title>
</cp:coreProperties>
</file>