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6D0-9986-4B6A-BF5E-BB50D5BE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2DC-7F73-4C44-BCF7-9B910582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50B-AB17-4B18-98FA-27DAE741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9E53-FDCF-4D27-B60C-D9289CFA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28CD-741E-40EC-B0B7-5927DD1A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1631-94D8-4C97-8652-CE4525AF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1DAD-830A-46BD-AAF4-6B50570F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4CAA-E7D7-46E5-892E-0F3A2DC4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22AB-06D9-4C7A-9A4B-6CCB0D1A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5040-84BF-4072-82E2-E1B07978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680A-E491-4FC7-9EA8-FFF38640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4E7-654D-47CC-8B15-5FECA262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2FD5-C4FC-4429-889A-D87A18DB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01CC-28DA-4191-A86A-825F3BF2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52B6-4F1A-4A75-BFA7-015C0F81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36D6-F6A9-4D9E-B237-EEA888BF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3EC6-BBA5-4C76-8CE1-25BC57BE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043-63AF-4ABC-9A8C-EC0DF427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7E9-4D13-4F76-A990-B05FE7AE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A64D-4C6A-4506-85A4-BD7A6603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FCC6-CADC-41F6-980F-DBD9A296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3E4-A08E-4991-A711-1A57AE39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BB1-A74D-49F7-8E4A-456BB1D0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CA8-DD7C-44CD-A6AB-9A496D98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9180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58672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8040-1E40-4C89-8905-B6CBD6AD1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331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32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053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B0A4-7497-40A8-8A6F-2883609D4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ing Voltage/Reactive Support &amp; Contro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342864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Importance of Voltage &amp; Reactive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Power Travels Further, Voltage Collapse Becomes More of a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ination Between Market Participants is Critical in Maintaining Vol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40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ERCOT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0" t="7847" r="32287" b="30799"/>
          <a:stretch/>
        </p:blipFill>
        <p:spPr>
          <a:xfrm>
            <a:off x="1076400" y="1623960"/>
            <a:ext cx="69516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40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ERCOT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0" t="8208" r="34014" b="29742"/>
          <a:stretch/>
        </p:blipFill>
        <p:spPr>
          <a:xfrm>
            <a:off x="1076400" y="1623960"/>
            <a:ext cx="6951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40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ERCOT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0" t="9037" r="35241" b="29308"/>
          <a:stretch/>
        </p:blipFill>
        <p:spPr>
          <a:xfrm>
            <a:off x="1076400" y="1623960"/>
            <a:ext cx="69516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40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ERCOT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0" t="9037" r="34932" b="27282"/>
          <a:stretch/>
        </p:blipFill>
        <p:spPr>
          <a:xfrm>
            <a:off x="1076400" y="1623960"/>
            <a:ext cx="6951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6:54:56Z</dcterms:created>
  <dc:creator>Stephen Reedy</dc:creator>
  <dc:description/>
  <dc:language>en-US</dc:language>
  <cp:lastModifiedBy>vweldon</cp:lastModifiedBy>
  <dcterms:modified xsi:type="dcterms:W3CDTF">2006-04-10T14:36:33Z</dcterms:modified>
  <cp:revision>24</cp:revision>
  <dc:subject/>
  <dc:title>Slide 1</dc:title>
</cp:coreProperties>
</file>