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CE5-E5A9-49B3-8B30-D45167B7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C76-DEB5-48A1-96D8-5483B1A3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28B-F72E-495E-885A-59A7AB58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A59-E015-4AD5-A28A-583E811C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958-349F-4F9B-8C61-A8C59FB7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D35-2896-4783-9E1B-D0C8485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46C-325E-4EA5-A457-FE02423D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565-DBDD-4C03-ADF8-69949EB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53F-CAC7-4AF8-A911-C0C45B60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A01-6DF6-4975-8E5E-C0FC70C7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70B-7156-4919-BB6D-74455EC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CE1-4C27-4C31-A551-DC0CD45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543-E69D-40A5-8507-39546FC68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roved formats </a:t>
            </a:r>
            <a:br>
              <a:rPr sz="3600"/>
            </a:b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 Customer Choic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9B7-1B52-4942-BD3E-93DEC3E4AD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4/30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0010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6B3-EB3C-486F-B05B-5F938DC6EF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4/30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562720"/>
            <a:ext cx="6324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182 In Progress DEV Issues, 30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745-4DFF-4952-BBE0-36546CFB5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4/30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569-2EF4-4AAA-BAD5-6CFE86EC2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4/30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209-5549-454A-BF8C-5A446A25C0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ADF-A78B-48C9-883B-BDF4E7D73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418-0960-4357-8AA6-72A6766D6D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E16-A12C-48E5-9ACF-D7B9E1C3FF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5C9-301E-4340-9AC3-E8B23F270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C91-4BD7-4C7B-90DF-6271AB0E9A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4/30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038480"/>
            <a:ext cx="7010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894-AF8A-45E9-AFE7-D6EC374068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4/30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410080"/>
            <a:ext cx="7086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7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,5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45820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C7F-0068-41A9-A2E7-E4A9ABB88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4/30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95324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0773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6AE-F19A-43A4-9F5F-5842787E2B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5-02T21:58:22Z</dcterms:modified>
  <cp:revision>623</cp:revision>
  <dc:subject/>
  <dc:title>PowerPoint Presentation</dc:title>
</cp:coreProperties>
</file>