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442-841A-48BD-8509-F43CD001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AB8-4E7D-4260-8CAB-C619FFEC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1B5-8825-49D4-8DCD-C766D1A2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254-C762-40FC-B019-9EDA87C5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E877-74A3-48CE-8AD3-D1DAC33D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DB2B-787D-4299-8C18-60EEED63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24CD-E304-4CE0-A84F-8023E230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6323-1990-45E0-AE27-E7402676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83F9-4B40-4653-9E57-1578CE3B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1EA0-A210-45B6-8857-FFF53434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5716-7A90-4CF2-B019-697BFC9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516-9A13-4940-B0BC-74B15A29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07A0-70AD-434C-A1C5-AA866989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0227-D867-4E62-B0AB-12F73D82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AF3B-0765-4694-852E-8A8CDB91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E3A-F3E5-464D-9FAB-079A6B5F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E8D5-8EA7-4143-88D8-3A58224E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4EA-24D9-4C5E-887A-4C764B54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C0D-4D74-4C41-84CB-9140068D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127-9926-4B98-87D2-6CD7ABBC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E2B-A8C4-481A-B223-26563EB1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7F2-836E-4058-BC8C-BA21FEF2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DFB-9AC1-45D3-AFDB-70A24746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1C2-9789-4A3D-9A5C-CFF06D0D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DFFF-B652-41C1-8623-9B783AD388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21CF-7D08-40E7-8A0D-2E951800DA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’s April score was 143.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aily score was 36; April score excluding the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as 147.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thru June have typically been ERCOT’s poorest performing months in last 3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6 passed /5 non-wind-only QSEs failed the measure in M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 passed / 7 non-wind-only QSEs failed the measure in April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relimin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 P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924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924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liance Program Develop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COT Compliance is continuing to collect contact information from ERCOT Entities responsible for NERC Reliability Standards.  This is in support of NERC’s filing to be the Electric Reliability Organization (ERO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Grimm</cp:lastModifiedBy>
  <dcterms:modified xsi:type="dcterms:W3CDTF">2006-05-02T20:50:29Z</dcterms:modified>
  <cp:revision>135</cp:revision>
  <dc:subject/>
  <dc:title>PRR 525 Compliance Analysis</dc:title>
</cp:coreProperties>
</file>