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16D-A05E-446B-BFF2-2AE88248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6B4-3BDF-4B6D-A552-8331C048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A13-2968-44ED-8D0D-EEA884F5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EF2-F6A4-4924-A768-93E6EFBE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42DF-012A-4858-B9A0-0AB18292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A5D8-A098-4E11-940A-621BD5BE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45E3-2D46-4869-AA51-49562B1B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6B16-5F18-490B-943B-850D0A0F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BA7F-6029-447F-ACFB-E9DD5060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8873-4BF6-4460-9901-F6B3B0EA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56C5-897B-411B-A0F6-E251E39E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54B-14A9-4CAC-976D-E136D542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182F-A6A0-444D-BC7E-74B85F01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A7AB-83F5-405A-A03A-9FFAF5E6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E186-C99E-4557-866D-ACB0E522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C03B-5712-43AB-BAE0-ADDB0EC7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5222-80C7-447D-BC6C-F3F679E0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92D-B020-4665-B08E-9B52241B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4B6-9037-4111-825A-41A80F1F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ACB-57B4-4D6A-AD3B-39E6748C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051-A4DF-4C95-BD25-1BBCF072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7997-B5AF-478D-ABDF-205A52F1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893-3EB0-4AD0-81BD-39C6F79C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025-3BB4-46A8-8351-1F9BA8FF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2BA0-0FED-47E3-9FB6-2A23510F20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9D61-E787-4674-9783-DA9E2CA2FF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MS Update to TAC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4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pcoming RMS I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rms and Conditions Task Force to begin reviewing changes needed to support Pro Forma Retail Delivery Tariff for Project 2963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itive Metering Working Group to begin gathering informal feedback for PUCT staff for Project 31418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MS Update to TA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Update on RMS Voting Item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R 660 for TX SET Transactional Solution to Mass Transition Update requested approval with change and urgent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R 652 for Customer Information Repository requested table PRR until PUCT adopts a rule in Project No. 314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X SET Procedures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 748 Website Enhancements for ERCOT Outage Notification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Mass Transition Upda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 SET reviewed Short Term solution after Credit Working Group presentation and discussion at RMS in 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Changes to the Current Mass Transition process would inclu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configuring the First Available Switch Date (FASD) at ERCO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duce number of days for POLRs to submit switches from 5 to 3 business days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reducing current mass transition timeline by 7-10 calendar day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Mass Transition Upda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sumptions for Changes to current Mass Transition Pro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D change would affect all switch transactions where notification has been wa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Calculators on TML may not be updated until Q4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Calculators on Retail Testing Website could be updated in 6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not require market tes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erm Mass Transition Solution changes incorporated with changes for Terms and Condition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Mass Transition Update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veats for Changes to current Mass Transition Pro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licts with Protocols or PUCT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Change 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facilitated through emergency SI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 integration testing at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date for reconfiguration of FASD is May 2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Current Mass Transition Timelin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76312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434340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5181480"/>
            <a:ext cx="609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51814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5943600"/>
            <a:ext cx="647712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should be completed in 12 Business Days or 16 Calendar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905120"/>
            <a:ext cx="220968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Announces Mass Transition and Performs ESI ID sync with TDS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743200"/>
            <a:ext cx="228600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DSP ESI ID Verification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3352680"/>
            <a:ext cx="288756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LRs generate Mass Transition  switch with rescission waiver requesting 6th business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2666880"/>
            <a:ext cx="3045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4114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50120" y="4876920"/>
            <a:ext cx="67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095520" y="38098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4114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4114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600200" y="4800600"/>
            <a:ext cx="37339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209320" y="4952880"/>
            <a:ext cx="35053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819160" y="5105520"/>
            <a:ext cx="327636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 rot="10800000">
            <a:off x="5486400" y="3276360"/>
            <a:ext cx="2611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DSP performs meter reads for off-cycle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715000" y="3809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34120" y="3809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41148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4038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952880" y="44935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 rot="10800000">
            <a:off x="4571640" y="44949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 rot="10800000">
            <a:off x="3804840" y="4493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 rot="10800000">
            <a:off x="4191120" y="449496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44280" y="4495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44956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10760" y="4495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01280" y="4495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0" y="4495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438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487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9040" y="4495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4495680"/>
            <a:ext cx="3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4495680"/>
            <a:ext cx="3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82040" y="4495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63280" y="4495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67840" y="4495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532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582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772760" y="4495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077320" y="4495680"/>
            <a:ext cx="3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2240" y="4495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8098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86600" y="3809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352320" y="5257800"/>
            <a:ext cx="388620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571640" y="5410080"/>
            <a:ext cx="30481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1905120"/>
            <a:ext cx="266688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POLRs do not submit switches in time to request the date certain, TDSPs may need to manually intervene to meet the d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449568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Revised Mass Transition Timelin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6312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43434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4495680"/>
            <a:ext cx="6098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4343400"/>
            <a:ext cx="38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5943600"/>
            <a:ext cx="624852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ransition should be completed in 7 Business Days or 9 Calendar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1905120"/>
            <a:ext cx="220968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COT Announces Mass Transition and Performs ESI ID sync with TDS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743200"/>
            <a:ext cx="228600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DSP ESI ID Verification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352680"/>
            <a:ext cx="288756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LR generates Mass Transition  switch with rescission waiver requesting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business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91120" y="4495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769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2666880"/>
            <a:ext cx="3045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4114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49400" y="489888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238520" y="37339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4114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4114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2388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44956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238880" y="44956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438280" y="4800600"/>
            <a:ext cx="243864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429000" y="4952880"/>
            <a:ext cx="320040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191120" y="5105520"/>
            <a:ext cx="304776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 rot="10800000">
            <a:off x="5791320" y="3200040"/>
            <a:ext cx="2611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DSP performs meter reads for off-cycle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629040" y="37339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876920" y="37339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52840" y="3276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4495680"/>
            <a:ext cx="3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24680" y="4495680"/>
            <a:ext cx="31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246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ass Transition Timeline Changes-Next Step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MS to review proposed changes on 5-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COT release on 5-20 to reconfigure FAS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X SET to draft RMGRR and PRR to review on 5-2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MGRR and PRR will be finalized on 6-6 once POLR Rule adop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MS vote on RMGRR on 6-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ss Transition Long Term Solution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R 660 approved at 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MGRR will be submitted to RMS for consideration in Ju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aining business requirements to be completed when rule is adopted for Project 314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9:57:48Z</dcterms:created>
  <dc:creator>ShBowling</dc:creator>
  <dc:description/>
  <dc:language>en-US</dc:language>
  <cp:lastModifiedBy>ShBowling</cp:lastModifiedBy>
  <dcterms:modified xsi:type="dcterms:W3CDTF">2006-05-01T21:27:09Z</dcterms:modified>
  <cp:revision>42</cp:revision>
  <dc:subject/>
  <dc:title>RMS Update to TAC</dc:title>
</cp:coreProperties>
</file>