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2581FA-C05C-46A2-9F6D-98F5A118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4FC664-79BD-48BC-8A11-AA6D98CA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69840" y="533520"/>
            <a:ext cx="5069160" cy="380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3120" y="4427280"/>
            <a:ext cx="51433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4667-7BDC-493D-992B-F58D1F7B7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2B59-F705-4653-A615-5894DCE94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094F-5986-4E68-B548-C0AF6AE6F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6A99-99B0-417A-9087-31EB277D4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CEB5-CA03-41DF-9499-91E9B0E2E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5D8E-EA1A-47BB-921D-794B91E20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48BC-136A-4C32-8CA7-1B1462056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6DF8-DC6B-4744-8414-DABDF899C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1034-E3B0-4AAE-AB90-EEFBEF4D1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DE42-6450-4ED1-8EC6-E6E47A55D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B8E3-2A32-49B6-946F-C40004DBB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08A9-8193-4B18-AB31-7DFFD7066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F7ED888-1BB9-470E-B080-EA24E3C555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1750680"/>
            <a:ext cx="6095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 Impacts of MarkeTrak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3048120"/>
            <a:ext cx="6324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07/0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 Martinez, MO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48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MarkeTrak Budget Revision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2080" y="1068480"/>
          <a:ext cx="3001680" cy="4727160"/>
        </p:xfrm>
        <a:graphic>
          <a:graphicData uri="http://schemas.openxmlformats.org/drawingml/2006/table">
            <a:tbl>
              <a:tblPr/>
              <a:tblGrid>
                <a:gridCol w="1046880"/>
                <a:gridCol w="977400"/>
                <a:gridCol w="977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ed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9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1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5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43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La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1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23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g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9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and Inter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5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.4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52320" y="907560"/>
            <a:ext cx="5651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861K increase to 2006 budget resulting from completion of Plan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al estimate assumed solution using existing technology platform at 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d in-house technology expertise avail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d limited HW requir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osen solution resulted in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ght increase in final negotiated SW c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HW required to impl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mited and/or no in-house expertise with Serena SW &amp; TIBCO integ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o internal/external resource m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ase to dev &amp; test efforts from final desig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rease in overall hours to code, integrate,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rease in external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BCO integration services, Serena software resources, Testing re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0ED7-661E-49BE-9B9B-8D2D44CAB4F0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26720"/>
            <a:ext cx="7175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Impacts to RO Project Portfolio 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926640"/>
            <a:ext cx="886464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6 RO approved budget = 6.75M; est. budget for projects above “cut line” = $4.8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s above “cut line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impact to projects above the “cut line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ket has $1.5M available for 2 projects not yet initi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rformance Measures Reporting Requir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rms and Conditions Requir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s below “cut line,” within “capabilit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initiates projects in rank order, unless constraints prevent init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A Extend Footprint – environment &amp; resource constraint with Retail Business Processes (RBP) proj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hancements to Digital Certificates – transferred to IO portfolio, initia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56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I ID Account Table Split – resource constraint with RBP Projec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.com Secured Area project – continuing with Initiation ph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W transition projects – initiating next wee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PO monitors financials, reports through governance process for changes and approv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forecasted CART portfolio budget exceeds approved 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T may vote to “hold” a project in order to release funds to other initiati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T may request budget increase funds released by other CAR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may initiate request to BoD for increased capital project budg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 PPL on ERCOT.com –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services/comm/projects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EC4-C23A-4F82-A597-D5BA9346B54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ERCOT</cp:lastModifiedBy>
  <dcterms:modified xsi:type="dcterms:W3CDTF">2006-04-27T14:51:55Z</dcterms:modified>
  <cp:revision>115</cp:revision>
  <dc:subject/>
  <dc:title>Slide 1</dc:title>
</cp:coreProperties>
</file>