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1CB2-A790-4937-B807-C60B89B02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50532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ril 17, 2006 EECP Ev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v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ing into April 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 load forecast – 49,018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 capacity scheduled – 53,92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on planned outage – 14,0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r ending 3:00 pm demand was 50,265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3:25 pm EECP Step 1 was decl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balancing bids and regulation being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nning reserve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iculty maintaining 6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ked for all capacity available to be brought on line and gene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d emergency assistance over the DC 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520" y="304920"/>
            <a:ext cx="579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vent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3:34 pm EECP Step 2 decl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low frequency with all balancing and regulation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oyed all LaaRs (interruptible loads providing Responsive Reserve – 1,150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recovered to 6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r ending 4:00 pm load was 51,714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ly after 4:00 pm several units tripped within a few minutes of each other ~1,200 MW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went below 59.8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568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vent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4:13 pm EECP Step 4 decl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ed 1,000 MW firm load she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d to Transmission Operators on a load ratio shar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tated among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4:25 pm Step 3 of the EECP (Public Appeal for Conservation) was iss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recovered but balancing and regulation continued to be fully used until about 5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5:31 pm ERCOT started reducing firm load curtail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e of Event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6:10 pm all firm load rest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6:21 pm started restoring LaaRs (interruptible) loa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CP fully cancelled at 7:2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18 Prep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for a peak load of 53,575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ing 58,100 MW of generation to be available scheduled by QSEs and procured by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all numbers are prelimi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David Cantrel</dc:creator>
  <dc:description/>
  <dc:language>en-US</dc:language>
  <cp:lastModifiedBy>ksaathoff</cp:lastModifiedBy>
  <cp:lastPrinted>2000-09-19T10:42:49Z</cp:lastPrinted>
  <dcterms:modified xsi:type="dcterms:W3CDTF">2006-04-18T13:04:20Z</dcterms:modified>
  <cp:revision>189</cp:revision>
  <dc:subject/>
  <dc:title>No Slide Title</dc:title>
</cp:coreProperties>
</file>