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73C-5414-42C6-8309-621477B2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DE1-2FBC-4285-B92A-2152C6FB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6BA-B60E-4962-A475-66EF2744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E0B-3150-4E04-8259-704988BE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E79-AEFB-400F-9D31-5DF7D2F9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AC9D-4ABC-43E6-AD5F-C3222943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04C1-E6A1-43A1-B613-DB4C4480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ECE9-B351-4269-8578-6A3A5082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E83C-2489-4412-A8A8-F1C899F8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C96-08F6-4BAE-BB94-F350064F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C93E-D442-455D-A16F-DC4C0D05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FCD-3D09-45EF-B828-BAB2CEA5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8723-FA45-4242-A12D-AA61EE9A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457D-8C47-4509-B593-D54705F3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93E7-9264-40BB-B592-4200E82B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931B-8829-446B-86F5-939DA31C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18FF-76C2-49DF-B60E-0D33BEFA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D66-D60D-4127-A56B-E57D031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8E0-A7E5-46B3-BCF6-54DE48D5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762-611F-4416-816B-AB782E4C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F7F-72BC-48BE-A1E1-1360AA95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104-1E7D-42C4-8B84-EE645CC9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DB4-A6D9-45CA-8343-87ECE50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3BA-8A98-4FCD-B4D0-877C41FF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1FED-E1E5-4827-91D1-E3578A23A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103-7EE9-477F-958C-7E34C7823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ay 4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9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porting of ERCOT Replacement Reserve Service Procurements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4290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7440" y="3359160"/>
            <a:ext cx="337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xisting staff will produce manual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until system changes can be m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48120" y="289548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&lt;$100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0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TX SET Transactional Solution for a Mass Transition Event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51339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NP, IOU – TX SE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s mass transition timelines and documents the process for market participants involved in mass transitions;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rgent due to efforts to reduce implementation time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imizes the unbalanced energy that is currently uplifted to the market by reducing time and costs to implement mass transi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ct varies based on current functionality; end-use customers will be transitioned more quickly to POL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BA applies to Phase 1 &amp; 2; Requires changes to various retail systems; CBA 1.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s timeline 8 business days; market losses - $2-$20 MM; defaults – 3 small/1 mediu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; new prioritization 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riority 1.1; Rank 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0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TX SET Transactional Solution for a Mass Transition Event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4956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55627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880" y="281952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$3-$5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98440" y="5502240"/>
            <a:ext cx="33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ositive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credit implications throu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duced credit ris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12120" y="4419720"/>
            <a:ext cx="35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act dependent on systems 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15000" y="3886200"/>
            <a:ext cx="289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acts several retail syste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commended TAC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Approv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50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 Balancing Energy Price Adjustment Due to Non-Spinning Reserve Service Energy Deplo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57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  Process for Protocol Revisions During the Transition to a Nodal Market -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59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–  Reporting of ERCOT RPRS Procurements -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R 660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--  TX SET Transactional Solution for a Mass Transition Event -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007 Budget &amp;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ject Prioritization Proc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006: The Way We We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200400"/>
            <a:ext cx="76176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1.X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4495680"/>
            <a:ext cx="129528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1.1 Hi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1.2 Me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1.3 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5715000"/>
            <a:ext cx="68580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3200400"/>
            <a:ext cx="76176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495680"/>
            <a:ext cx="1295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2.1 Hi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2.2 Me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2.3 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5715000"/>
            <a:ext cx="6858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3200400"/>
            <a:ext cx="76212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4495680"/>
            <a:ext cx="129528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.1 Hi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.2 Me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.3 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5715000"/>
            <a:ext cx="685800" cy="6858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1523880"/>
            <a:ext cx="327672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 Changes From PRR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Rs, PUC Staff &amp; ERC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2438280"/>
            <a:ext cx="0" cy="762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409720" y="2438280"/>
            <a:ext cx="1219320" cy="762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2438280"/>
            <a:ext cx="1143000" cy="762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3886200"/>
            <a:ext cx="0" cy="609480"/>
          </a:xfrm>
          <a:prstGeom prst="line">
            <a:avLst/>
          </a:prstGeom>
          <a:ln w="19080">
            <a:solidFill>
              <a:srgbClr val="33ef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5181480"/>
            <a:ext cx="0" cy="533520"/>
          </a:xfrm>
          <a:prstGeom prst="line">
            <a:avLst/>
          </a:prstGeom>
          <a:ln w="19080">
            <a:solidFill>
              <a:srgbClr val="33ef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3886200"/>
            <a:ext cx="0" cy="6094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5181480"/>
            <a:ext cx="0" cy="5335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53280" y="388620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53280" y="5181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640" y="1447920"/>
            <a:ext cx="399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l System Projects reviewed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context of a single 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rocess Conce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aningful projects may n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ise to top of the list because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y did not affect “reliabilit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anking system may not fit 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going system priorit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ngle list did not match ERC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source planning &amp; deploy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007: A Prioritization Odyss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523880"/>
            <a:ext cx="3276720" cy="91440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 Changes From PRR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Rs, PUC Staff &amp; ERC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7640" y="1447920"/>
            <a:ext cx="399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ystem Projects reviewed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context of their 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rocess Concerns Add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jects will be contrast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ther similar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anking system overhauled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vide better guide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ultiple lists match ERC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source planning &amp; deploy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3352680"/>
            <a:ext cx="761760" cy="685800"/>
          </a:xfrm>
          <a:prstGeom prst="rect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352680"/>
            <a:ext cx="761760" cy="68580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48720" y="4876920"/>
            <a:ext cx="76176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4876920"/>
            <a:ext cx="76176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4038480"/>
            <a:ext cx="0" cy="8384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4038480"/>
            <a:ext cx="0" cy="83844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403848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91520" y="4038480"/>
            <a:ext cx="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4382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715000" y="2438280"/>
            <a:ext cx="838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76920" y="2438280"/>
            <a:ext cx="167616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2438280"/>
            <a:ext cx="83844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2438280"/>
            <a:ext cx="167652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60440" y="50292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ject Priorit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007: A Prioritization Odyss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1523880"/>
            <a:ext cx="3276720" cy="91440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 Changes From PRR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Rs, PUC Staff &amp; ERC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6920" y="1447920"/>
            <a:ext cx="3958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sum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COT Staff will assist ea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committ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cess starts with list a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urrently exists – reevalu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&amp; prioritized with 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uide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lows for new projects to 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dded &amp; analyzed (i.e., I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alysis/Cost-Benefit Analys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BAs only required for add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aceholders are not encoura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3352680"/>
            <a:ext cx="761760" cy="685800"/>
          </a:xfrm>
          <a:prstGeom prst="rect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3352680"/>
            <a:ext cx="761760" cy="68580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4876920"/>
            <a:ext cx="76176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4876920"/>
            <a:ext cx="76176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038480"/>
            <a:ext cx="0" cy="8384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4038480"/>
            <a:ext cx="0" cy="83844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03848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91520" y="4038480"/>
            <a:ext cx="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24382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715000" y="2438280"/>
            <a:ext cx="838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76920" y="2438280"/>
            <a:ext cx="167616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438280"/>
            <a:ext cx="83844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2438280"/>
            <a:ext cx="167652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60440" y="50292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ject Priorit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007: A Prioritization Odyss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523880"/>
            <a:ext cx="3276720" cy="91440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 Changes From PRR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Rs, PUC Staff &amp; ERC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560" y="1447920"/>
            <a:ext cx="4163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cess &amp; Tim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y/Early-J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committees/ERCOT/PU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ff begin review current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 their carts and add 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jects using revi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ioritization guide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vide recommendations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S (also communicated to T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cluding reasons for ne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jects by June PRS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COT also uses new priorit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uidelines and commun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ed for new projects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committ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48720" y="3352680"/>
            <a:ext cx="761760" cy="685800"/>
          </a:xfrm>
          <a:prstGeom prst="rect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1028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3352680"/>
            <a:ext cx="761760" cy="68580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48720" y="4876920"/>
            <a:ext cx="76176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1028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4876920"/>
            <a:ext cx="76176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4038480"/>
            <a:ext cx="0" cy="8384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15000" y="4038480"/>
            <a:ext cx="0" cy="83844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403848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4038480"/>
            <a:ext cx="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24382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15000" y="2438280"/>
            <a:ext cx="838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76920" y="2438280"/>
            <a:ext cx="167616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438280"/>
            <a:ext cx="83844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2438280"/>
            <a:ext cx="167652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60440" y="50292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ject Priorit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49600" y="419112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W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86600" y="4267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86600" y="426708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394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06760" y="5823000"/>
            <a:ext cx="443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rt assignments are primary b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committees may have interes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ther carts (e.g., WMS &amp; 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007: A Prioritization Odyss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1523880"/>
            <a:ext cx="3276720" cy="91440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 Changes From PRR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Rs, PUC Staff &amp; ERC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6080" y="1447920"/>
            <a:ext cx="4079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cess &amp; Tim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Late Ju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S reviews recommend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 ensure carts are “balanced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COT reviews cart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municates results to 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Ju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S presents recommen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 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C reviews PRS recommen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&amp; forwards results to B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48720" y="3352680"/>
            <a:ext cx="761760" cy="685800"/>
          </a:xfrm>
          <a:prstGeom prst="rect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1028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3352680"/>
            <a:ext cx="761760" cy="68580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352680"/>
            <a:ext cx="762120" cy="685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48720" y="4876920"/>
            <a:ext cx="76176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4876920"/>
            <a:ext cx="76176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95680" y="4876920"/>
            <a:ext cx="762120" cy="685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038480"/>
            <a:ext cx="0" cy="8384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4038480"/>
            <a:ext cx="0" cy="83844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53080" y="403848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4038480"/>
            <a:ext cx="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243828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715000" y="2438280"/>
            <a:ext cx="838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876920" y="2438280"/>
            <a:ext cx="167616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2438280"/>
            <a:ext cx="83844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53080" y="2438280"/>
            <a:ext cx="167652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60440" y="50292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ject Priorit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4267080"/>
            <a:ext cx="8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62920" y="426708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39480" y="42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49600" y="411480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W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PRR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Non-System Changes – IA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System Change – CBA/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Ur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view 2007 Budget Process &amp; PRR Priorit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41920" y="30034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0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Balancing Energy Price Adjustment Due to Non-Spinning Reserve Service Energy Deploym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8610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TXU Wholesale, IO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s ERCOT to notify market of NSRS deployments (start/stop); requires ex-post manual recalculation of MCPE to reflect MCPE without NSRS energy deployment and subject to MCS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curate price signals of depleted UBES stacks will encourage additional generation to come on-line; should also improve reli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or impact due to infrequency of NSRS deployments; may increase MCPE during some of the few intervals when NSRS is deploy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9-3-4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y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0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Balancing Energy Price Adjustment Due to Non-Spinning Reserve Service Energy Deploym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99520" y="3359160"/>
            <a:ext cx="350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xisting staff will perform man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calculations, notice and sett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7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rocess for Protocol Revisions During the Transition to a Nodal Market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981080"/>
          <a:ext cx="8229600" cy="45370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vides a streamlined process to revise the Nodal Protocols; shortens the comment period and limits Impact Analysis to items affecting a Requirements Document; applies until Nodal effective date;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rgent due to pending NPRRs from TPT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vides a process for the timely processing of Nodal PRRs (NPR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ne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7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rocess for Protocol Revisions During the Transition to a Nodal Market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nts receiv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nd Section 21.11.3.7 Technical Advisory Committee Vo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em (3) refers to “PRS” but should be amended as “TAC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7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rocess for Protocol Revisions During the Transition to a Nodal Market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9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porting of ERCOT Replacement Reserve Service Procurements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981080"/>
          <a:ext cx="8229600" cy="44467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TXU Wholesale, IO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s ERCOT reporting on the classification of and amounts of RPRS procured; comparison of actual RPRS procurement to “theoretical” RPRS amount;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rgent due to RPRS already in eff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vides market the ability to evaluate timing of and need for RP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roves RPRS transpar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ject to automate manual work-around and provide information to mark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roves ERCOT DA forecast which may reduce overall market cos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ne 1, 2006 – manual work-arou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9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porting of ERCOT Replacement Reserve Service Procurements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oritization &amp; Ra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R recommended for approval but did not have Impac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act Analysis now complete and a priority/rank has been prepared consistent with PRS’ recommendation (Priority 1.1/Rank 20.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may recommend today to BOD with priority &amp; rank; 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may allow PRS to meet 5/9, recommend priority &amp; rank and then address through an email vote prior to the BOD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6-05-03T20:01:57Z</dcterms:modified>
  <cp:revision>18</cp:revision>
  <dc:subject/>
  <dc:title>Protocol Revision Subcommittee</dc:title>
</cp:coreProperties>
</file>