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5A1-B18D-4F28-AF9F-430F094B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362-5BBC-4933-BCD5-31E406E8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647-2A21-4B98-AB0D-053DD55F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2D3-42DC-44D0-A424-4EA4A23E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98B-0860-46E5-A6AD-BB918DCC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B05-5B24-46DE-B942-8C3D3978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B36-DD09-48D3-8D90-5A5315EC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35B-64DF-4C78-BD01-FB4D1678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70F-8C3C-4C1C-A6BA-2F9D5CE1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3E0-AB2C-4801-B2D8-603F4922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872-FB0F-43D8-B9C9-F4DC3D49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B4E-456F-4B01-B5B5-6965AA09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B0DE-4C83-4233-A38A-870C9D721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5/4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jor Discussion Items at 4/11-12/06 ROS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ompl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PS Scores in Feb &amp; Mar with PRR 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ERO and Registratio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ystem Planning and Transmiss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Cycle Model R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gy Interconnection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590 / OGRR 165 – Unit Tele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TF Assignments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Performance Disturbance Complianc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RS Performance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from WMS Holistic Frequency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412920"/>
            <a:ext cx="868680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5/4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ems Requiring TAC Vote</a:t>
            </a:r>
            <a:br>
              <a:rPr sz="32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RR 169 – Reporting of Reserve Capability Under Severe Gas Curtail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RR 176 – Market Participant Use of DNS or ERCOT Web-Based Front Page for Site Fail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RR 178 – Revision to Reactive Limits Verification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RR 182 – Process for Operating Guide Rev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bove Approved by ROS April 12, 2006 – Unanimous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5/4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R 590 – OGRR 1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RR 165 Implements PRR 5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590 passed, but not fu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OGRR 165 uncer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intent to archive, not modify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considers ramp rate data archive alone as superflu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considers SCE standard under PRR 525 as a measure of overall performance, including R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supports the requirement to provide AGC status if part of an alternative P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tabled further progress of OGRR 1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5/4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PTF Item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.1 – Simple Transmission Outage – TPTF advises reduced urgency.  ROS will develop this sum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0.7.1 – Naming Convention – Completed by NDSWG, passed by ROS, shown to TPT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0.7.4 – Telemetry Criteria – NDSWG conducting meetings, will present to ROS in J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0.0 – State Estimator Performance Standard – NDSWG conducting meetings, will present to ROS in J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5.7.6.1(2) – Optimal Frequency Bias – TPTF advises reduced urgency, PDCWG will review and propose language to ROS this sum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5.7.6.2.3(1) – Deployment of NSRS - TPTF advises reduced urgency, PDCWG will review and propose language to ROS this sum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0 – Performance Measures - TPTF advises reduced urgency, ROS will develop this sum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5/4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MS Holistic Frequency TF Discuss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received TF report one day before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oposals from TF on Primary Frequenc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PRR 662 – Modify A/S Performance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that PRR 525 seems to be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over possible loopholes i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to endorse concepts in PRR 662 while 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ing language – Failed, 2.833 to 3.6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to keep PRR 525 in place, continue to review operations, penalty structure, and exemptions -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649 – No endorsement until PDCWG presents a recommendation on value of K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5/4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xt ROS Meeting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15 – EECP Repor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e Issue: Review ERCOT Draft EECP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imelines and Sequence of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 sub-optim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/ Control Lessons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al with Retail / Commercial 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15-16 – Regular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Top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RS Performance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 of NERC 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rricane Rita Lessons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Frequenc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5/4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S EECP Report Review Proces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epares Draft Event 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nds on frequency, reserves, and other relevant operating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 on actions taken, results observed, problem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conclusions as to causes of problems obse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Reviews Draft Even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s / resolves TO, QSE, and ERCOT tim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s / resolves differences in orders given and actions t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&amp;A on non-performance: problems with data, problemat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, structural ca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&amp;A on severity of non-performance issues on event d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bulk power system, not ret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control area level communications, not publ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03:10Z</dcterms:created>
  <dc:creator>Paul Breitzman</dc:creator>
  <dc:description/>
  <dc:language>en-US</dc:language>
  <cp:lastModifiedBy>Paul Breitzman</cp:lastModifiedBy>
  <dcterms:modified xsi:type="dcterms:W3CDTF">2006-04-27T20:32:45Z</dcterms:modified>
  <cp:revision>14</cp:revision>
  <dc:subject/>
  <dc:title>ROS Report to TAC – 2/2/06 Major Discussion Items at 1/13/06 RO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59997998</vt:r8>
  </property>
  <property fmtid="{D5CDD505-2E9C-101B-9397-08002B2CF9AE}" pid="3" name="_AuthorEmail">
    <vt:lpwstr>PaulB@gplops.org</vt:lpwstr>
  </property>
  <property fmtid="{D5CDD505-2E9C-101B-9397-08002B2CF9AE}" pid="4" name="_AuthorEmailDisplayName">
    <vt:lpwstr>Breitzman, Paul</vt:lpwstr>
  </property>
  <property fmtid="{D5CDD505-2E9C-101B-9397-08002B2CF9AE}" pid="5" name="_EmailSubject">
    <vt:lpwstr>ROS Report to TAC</vt:lpwstr>
  </property>
</Properties>
</file>