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3EEE10F-C2C8-43D2-A0FB-AA054D9B2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5840" y="698400"/>
            <a:ext cx="4656240" cy="3492720"/>
          </a:xfrm>
          <a:prstGeom prst="rect">
            <a:avLst/>
          </a:prstGeom>
          <a:ln w="0">
            <a:noFill/>
          </a:ln>
        </p:spPr>
      </p:sp>
      <p:sp>
        <p:nvSpPr>
          <p:cNvPr id="119"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it away B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MS recommend that the Regional Planning Group consider transmission projects for economic justifications if either of the societal surplus or consumer surplus criteria exceeds the incremental projects transmission costs in line with the economic benefits metric made in second presentation at WMS today</a:t>
            </a:r>
            <a:r>
              <a:rPr b="0" lang="en-US" sz="1200" spc="-1" strike="noStrike">
                <a:solidFill>
                  <a:srgbClr val="000000"/>
                </a:solidFill>
                <a:latin typeface="Arial"/>
              </a:rPr>
              <a:t> (the one Shannon Gave last month to TA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5840" y="698400"/>
            <a:ext cx="4656240" cy="3492720"/>
          </a:xfrm>
          <a:prstGeom prst="rect">
            <a:avLst/>
          </a:prstGeom>
          <a:ln w="0">
            <a:noFill/>
          </a:ln>
        </p:spPr>
      </p:sp>
      <p:sp>
        <p:nvSpPr>
          <p:cNvPr id="113"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from Mary An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ually deployed all LaaRs (interruptible loads providing Responsive   Reserve – 1,150 MW; first time since market de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the Frequency recovered to 60 Hz</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85840" y="698400"/>
            <a:ext cx="4656240" cy="3492720"/>
          </a:xfrm>
          <a:prstGeom prst="rect">
            <a:avLst/>
          </a:prstGeom>
          <a:ln w="0">
            <a:noFill/>
          </a:ln>
        </p:spPr>
      </p:sp>
      <p:sp>
        <p:nvSpPr>
          <p:cNvPr id="115"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onitoring congestion management tools and their effectiveness is one of the goals of the WMS.</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OMC</a:t>
            </a:r>
            <a:r>
              <a:rPr b="0" lang="en-US" sz="1200" spc="-1" strike="noStrike">
                <a:solidFill>
                  <a:srgbClr val="000000"/>
                </a:solidFill>
                <a:latin typeface="Arial"/>
              </a:rPr>
              <a:t> – A generator that did not plan to be on-line is paid to start and run at minimum.</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Unit Specific - Up</a:t>
            </a:r>
            <a:r>
              <a:rPr b="0" lang="en-US" sz="1200" spc="-1" strike="noStrike">
                <a:solidFill>
                  <a:srgbClr val="000000"/>
                </a:solidFill>
                <a:latin typeface="Arial"/>
              </a:rPr>
              <a:t> – A generator is paid to operate at a higher output than planned. Includes OOME and LBES.</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Unit Specific - Down</a:t>
            </a:r>
            <a:r>
              <a:rPr b="0" lang="en-US" sz="1200" spc="-1" strike="noStrike">
                <a:solidFill>
                  <a:srgbClr val="000000"/>
                </a:solidFill>
                <a:latin typeface="Arial"/>
              </a:rPr>
              <a:t> – A generator is paid to operate at a lower output than planned. Includes OOME and LBES.</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MR</a:t>
            </a:r>
            <a:r>
              <a:rPr b="0" lang="en-US" sz="1200" spc="-1" strike="noStrike">
                <a:solidFill>
                  <a:srgbClr val="000000"/>
                </a:solidFill>
                <a:latin typeface="Arial"/>
              </a:rPr>
              <a:t> – Reliability Must Run – A generator is paid to be available and operate as directed when the owner would have otherwise suspended operation for an extended period of ti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5840" y="698400"/>
            <a:ext cx="4656240" cy="3492720"/>
          </a:xfrm>
          <a:prstGeom prst="rect">
            <a:avLst/>
          </a:prstGeom>
          <a:ln w="0">
            <a:noFill/>
          </a:ln>
        </p:spPr>
      </p:sp>
      <p:sp>
        <p:nvSpPr>
          <p:cNvPr id="117"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recommends to PRS – not T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586 – SCE Performance and Regulation Cost Re-al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605 – Possible withdrawal - SCE Performance Monitoring for Combined Cycle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607 – One-Minute Ramp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608 – Improve Ancillary Services Performanc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649 – Correct “K” Factor in Compliance SCE Formu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656 – SCE Performance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661 – SCE Performance Enforcement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662 – Modify Ancillary Service Deployment Performance Condi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C142F-826E-4D9E-A08A-1C9CC1859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57D8B-95F0-419E-A5E4-152C8A129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51529-029F-423F-804E-F9B73DE29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14136-DCAB-4F1C-BDAE-B162BF733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01887-2439-4991-A570-BD6CD30B3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5BDB8-0A39-4357-8D98-CA42EAA3C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327F6-1FD1-473B-AE44-2774A3F1A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58BA0-8C84-4E98-802E-84A50963F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7592A-B86F-4C18-9B2A-04672CCDE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5D2AE-3E5F-4D9F-B2D0-6CA370E9E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C96F6-5DA6-49D2-86ED-D24461928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4A8C1-47E5-4BD2-83FF-31B3ACB12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52985-2360-49A5-8D4D-B1E2003E2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E815F-C047-45FD-8FF3-390F265C0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7C2A5-1CC5-4577-896B-5EBEACE06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1122E3-879B-4CE7-815C-4FAEA205C0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D168B-137A-4B96-AEC2-1FB487D263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AE045-4834-4327-8174-2FEF56D25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D6CAD-8FB3-4285-9DCA-1F004E405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8A9E9-49EF-4212-831B-9D545CC81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3E616-6E9D-4551-B261-A8D537B23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3A589-8340-46DE-BD93-42816ADF3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9F4D8-1573-4BD6-8DF5-A5111CFB7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9ACC5-B297-42F7-906B-03BEF4230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7F7A-5F15-4DB2-AD18-D09E0756142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0315-A1C4-4DCC-BC6C-60E3DE22DC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2006</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6C3A3BB9-7FB5-4E02-9D05-9FEE0E206B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UCT Docket No. 31540 Feasibility of Co-optimization in the Nodal Market</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sk force has been formed to develop a two part respons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 one is due next month and is a reasoned response to the Commission request for stakeholder review “in an expedited manner”</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me line for part two is TBD</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guerite Wagner to chair</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E84DB91-E696-4F0E-9FBF-6621CE556A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09480" y="380880"/>
            <a:ext cx="792504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Co-optimization while the Commission does not propose any modifications to the draft protocols other than on the tax issue at this time, there were several issues raised during this proceeding that the Commission concludes need  further study. Specifically, the issue of co-optimization of energy and reserves in the real-time market was raised as an issue that should be addressed at a later date as part of the implementation of the nodal market. This issue was raised by Commission Staff in Dr. Patton's testimony. Other parties generally supported co-optimization, but stated that the stakeholders were not able to determine a way to implement it in the market as developed by the TNT.  It was suggested that ERCOT and the stakeholders should discuss whether co-optimization could be included in the proposed nodal market with vendors during negotiations to develop the systems to run the nodal market? The Commission recognizes that Co-optimization could potentially produce benefits in the real-time market. Therefore, the Commission directs ERCOT and the ERCOT stakeholders to explore this issue, in both internal discussions within the ERCOT stakeholder group as well as with vendors, and address whether co-optimization could be implemented and the potential costs and benefits of implementing co-optimization. The Commission encourages ERCOT and the ERCOT stakeholders to conduct discussions in an expedited manner as the implementation date of January 1,2009 will not be  modified.</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2EE273AD-27DB-4C9F-978E-8F4150272E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rom Last Month</a:t>
            </a: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Transmission Planning Criteria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F0E898F-E14D-404D-9BC5-D1FDCC972F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Brief</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Task Force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Congestion present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C assignments to WMS from T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finally completed an agenda!</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7B3B9468-FF4C-4DE9-9823-F706CB46BF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king Group Reports</a:t>
            </a: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e of the Working Groups met prior to the last WMS mee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MWG will take up 2007 CSCs so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MWG will take up Emergency Load Service</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E4E79F8-F0DB-4794-AAF7-68F8C47A64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pdate on Congestion </a:t>
            </a:r>
            <a:br>
              <a:rPr sz="4000"/>
            </a:br>
            <a:r>
              <a:rPr b="0" lang="en-US" sz="4000" spc="-1" strike="noStrike">
                <a:solidFill>
                  <a:srgbClr val="e5ffff"/>
                </a:solidFill>
                <a:latin typeface="Tahoma"/>
              </a:rPr>
              <a:t>Tools and Costs</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st Comparison 2004 vs. 2005</a:t>
            </a:r>
            <a:endParaRPr b="0" lang="en-US" sz="3200" spc="-1" strike="noStrike">
              <a:solidFill>
                <a:srgbClr val="ffffff"/>
              </a:solidFill>
              <a:latin typeface="Tahoma"/>
            </a:endParaRPr>
          </a:p>
          <a:p>
            <a:pPr marL="343080" indent="-34308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Are Local Congestion Costs?</a:t>
            </a:r>
            <a:endParaRPr b="0" lang="en-US" sz="30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onal congestion – costs and quantit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e and binding interval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ual CSC flows vs. limi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limits vs. over constrain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9BAB3D9-BFD7-4F29-9AA3-9C79AFBF4E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C assignments to WMS</a:t>
            </a: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 protocol referenc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Optimization issue from the nodal implementation ord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9EE677F1-2126-4011-9D3B-283C8EA90B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ssigned to the CMWG</a:t>
            </a:r>
            <a:br>
              <a:rPr sz="4000"/>
            </a:br>
            <a:r>
              <a:rPr b="0" lang="en-US" sz="4000" spc="-1" strike="noStrike">
                <a:solidFill>
                  <a:srgbClr val="e5ffff"/>
                </a:solidFill>
                <a:latin typeface="Tahoma"/>
              </a:rPr>
              <a:t> Time Line TBD</a:t>
            </a:r>
            <a:endParaRPr b="0" lang="en-US" sz="40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lvl="1" marL="743040" indent="-285840">
              <a:spcBef>
                <a:spcPts val="700"/>
              </a:spcBef>
              <a:buClr>
                <a:srgbClr val="ffcc00"/>
              </a:buClr>
              <a:buSzPct val="6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19(2) – An alternative list for determining Competitive Constraints</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a:t>
            </a:r>
            <a:endParaRPr b="0" lang="en-US" sz="2800" spc="-1" strike="noStrike">
              <a:solidFill>
                <a:srgbClr val="ffffff"/>
              </a:solidFill>
              <a:latin typeface="Tahoma"/>
            </a:endParaRPr>
          </a:p>
          <a:p>
            <a:pPr lvl="1" marL="743040" indent="-285840">
              <a:spcBef>
                <a:spcPts val="700"/>
              </a:spcBef>
              <a:buClr>
                <a:srgbClr val="ffcc00"/>
              </a:buClr>
              <a:buSzPct val="6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19(3) – Analysis with the goal of developing an objective standard for determining Competitive Constraints</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CE42BC7-7EDB-49F6-9013-AF2FCA4D2D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RCOT to draft – WMS to Review</a:t>
            </a:r>
            <a:br>
              <a:rPr sz="4000"/>
            </a:br>
            <a:r>
              <a:rPr b="0" lang="en-US" sz="4000" spc="-1" strike="noStrike">
                <a:solidFill>
                  <a:srgbClr val="e5ffff"/>
                </a:solidFill>
                <a:latin typeface="Tahoma"/>
              </a:rPr>
              <a:t>Time Line TBD</a:t>
            </a:r>
            <a:endParaRPr b="0" lang="en-US" sz="40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5.61(4) – Process for determining the verifiable actual costs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5.6.3(3) – Process for determining the verifiable actual costs for a startup attempt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6.5.9.4.1(2)(b)  - Procedure for determining which Load Resources to interrupt and to equitably allocate Load Resources to one of two deployment stacks to enable a 50% deployment</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7F9AAFC-7996-4111-8972-8B944048F3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RCOT to draft – WMS to Review </a:t>
            </a:r>
            <a:br>
              <a:rPr sz="4000"/>
            </a:br>
            <a:r>
              <a:rPr b="0" lang="en-US" sz="4000" spc="-1" strike="noStrike">
                <a:solidFill>
                  <a:srgbClr val="e5ffff"/>
                </a:solidFill>
                <a:latin typeface="Tahoma"/>
              </a:rPr>
              <a:t>Due June to WMS for July decision.</a:t>
            </a:r>
            <a:endParaRPr b="0" lang="en-US" sz="40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7.2.1 – Task force to develop a naming convention for CRRs</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E68B7D44-BFB0-4118-A5C2-2C57F0CC2B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requency Task Force</a:t>
            </a: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ove WMS to recommendations on each of the 8 PRRs the TF was charged with.</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ablished a direction on SCE compliance and regulation cost reallocation</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l take up Primary Frequency control in coordination with ROS and the PDC</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A618970-E87F-421E-8BC6-35CE13969D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6-05-02T16:16:38Z</dcterms:modified>
  <cp:revision>31</cp:revision>
  <dc:subject/>
  <dc:title>WMS Report TO TAC</dc:title>
</cp:coreProperties>
</file>