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A0A5-890A-4E3C-98B5-29E1661E2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FBCB-3E8B-4697-801C-6EA5E2DEA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8487-CAD3-4F81-8ACB-D039DDEC6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4FC2-B2F0-427B-9A10-D467F3932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0AFF-FC21-44C1-8EB8-6A927B17D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6693-CA7E-47B0-89FF-8D5569A4D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16B1-990B-4778-B310-D5E8AE169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5F3A-79E1-47AD-9CA6-EFB2B1E56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D540-FA2C-426C-9AA2-F3A2D829F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ECD4-7CE1-4937-BAEF-B9E57F9C0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4662-8DAA-42A0-890C-1D7038041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197E-59A3-4423-8E1E-D08A8C089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37A4-2415-46C6-8FE2-7913DDECE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0C3F-5380-46D5-91C6-E00BC7086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92B6-66FC-46B4-A312-592C9C321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22C9-0B6F-4BED-A201-D6641F486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9521-E9AE-497D-8FA1-AD6114AB92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2320" y="1371240"/>
            <a:ext cx="5790960" cy="14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Upd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4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4560" y="-16920"/>
            <a:ext cx="677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pri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dit WG Chairman presented credit update to R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dit WG met several times to discuss options for reducing credit risk in the market related to Mass Transition scen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6553080"/>
            <a:ext cx="586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4ADA-B6AB-4DC1-9A92-53AA16ECDA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4560" y="-16920"/>
            <a:ext cx="677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April 27, Shannon Bowling updated Credit WG on the proposed solutions hammered out by Texas SET and RMS (with the assistance and support of ERCOT staff) to provide a near term reduction in credit exposure until the long term solution can be put in 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uce time for initiating a switch by POLRs from 5 business days to 3 business d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uce “earliest available switch date” for TDSPs from 6 business days to 3 business d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dit WG response to the proposal was very positi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6553080"/>
            <a:ext cx="586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500A-3380-4497-B663-DBEB50C466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4560" y="-16920"/>
            <a:ext cx="677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Plans for May - June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dit WG wi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 the Finance and Audit Committee on the progress made by the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 the progress of Texas SET regarding implementation of interim 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residual credit exposure after taking into consideration the proposed ch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analysis of credit insurance as a mitigation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and potentially revise credit standar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6553080"/>
            <a:ext cx="586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7AEA-D501-4229-A13B-E023071C6B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C, RMS and Texas SET, in conjunction with ERCOT staff, are to be congratulated for coming up with a plan to reduce credit expo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ar term - credit exposure for the Mass Transition process will be reduced from 9-11 business days to 6 business days in May/Jun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ng term – credit exposure will be further reduced from 6 business days to 3 business days by mid 200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dit WG will continue to work closely with these groups as it evaluates the residual credit exposure and considers ways to mitigate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19F9-FBB8-40C0-81BB-8BF46DD8C9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45120" y="2311200"/>
            <a:ext cx="7853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6000" y="3013200"/>
            <a:ext cx="71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Verdana"/>
              </a:rPr>
              <a:t>Input, Questions, and Wrap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3345-6577-4A1B-B383-8AB756AEC9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C Yager</cp:lastModifiedBy>
  <dcterms:modified xsi:type="dcterms:W3CDTF">2006-05-03T19:53:13Z</dcterms:modified>
  <cp:revision>170</cp:revision>
  <dc:subject/>
  <dc:title>Slide 1</dc:title>
</cp:coreProperties>
</file>