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2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3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4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BBEF094-01F3-4CEE-8FE8-0BF822C133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AB89974-0B08-406F-8CCB-D35C659A8D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69840" y="533520"/>
            <a:ext cx="5069160" cy="38019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33120" y="4427280"/>
            <a:ext cx="514332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7094A72-1D50-4EDC-94CD-27AA035A5F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69840" y="533520"/>
            <a:ext cx="5069160" cy="38019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33120" y="4427280"/>
            <a:ext cx="514332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0A6D7AA-3105-4E9D-B4FF-D4F0BB4BF8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69840" y="533520"/>
            <a:ext cx="5069160" cy="38019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33120" y="4427280"/>
            <a:ext cx="514332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D3F64-B89B-416E-AF5E-0114ED3AF2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715920" y="3362400"/>
            <a:ext cx="443700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715920" y="4193280"/>
            <a:ext cx="443700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3BFB9-D983-4543-9E88-E9A5C2E479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715920" y="336240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89680" y="336240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715920" y="419328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89680" y="419328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5774C-3CD1-4AED-AECE-A53D6068CF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715920" y="3362400"/>
            <a:ext cx="142848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216040" y="3362400"/>
            <a:ext cx="142848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716520" y="3362400"/>
            <a:ext cx="142848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15920" y="4193280"/>
            <a:ext cx="142848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5216040" y="4193280"/>
            <a:ext cx="142848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716520" y="4193280"/>
            <a:ext cx="142848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61412-585F-42F7-81CD-20BC4644AB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715920" y="3362400"/>
            <a:ext cx="4437000" cy="15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715920" y="3362400"/>
            <a:ext cx="443700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715920" y="3362400"/>
            <a:ext cx="216504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89680" y="3362400"/>
            <a:ext cx="216504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437920" y="1323000"/>
            <a:ext cx="5791320" cy="55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715920" y="336240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89680" y="3362400"/>
            <a:ext cx="216504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715920" y="419328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715920" y="3362400"/>
            <a:ext cx="4437000" cy="15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7905E-4EC2-4F67-ABF2-90C988A427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715920" y="3362400"/>
            <a:ext cx="216504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89680" y="336240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89680" y="419328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715920" y="336240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89680" y="336240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715920" y="4193280"/>
            <a:ext cx="443700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715920" y="3362400"/>
            <a:ext cx="443700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715920" y="4193280"/>
            <a:ext cx="443700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5920" y="336240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989680" y="336240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715920" y="419328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89680" y="419328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715920" y="3362400"/>
            <a:ext cx="142848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16040" y="3362400"/>
            <a:ext cx="142848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716520" y="3362400"/>
            <a:ext cx="142848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715920" y="4193280"/>
            <a:ext cx="142848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5216040" y="4193280"/>
            <a:ext cx="142848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716520" y="4193280"/>
            <a:ext cx="142848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715920" y="3362400"/>
            <a:ext cx="443700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1F046-8104-4E37-A0BD-AB8D890F0C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715920" y="3362400"/>
            <a:ext cx="216504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89680" y="3362400"/>
            <a:ext cx="216504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4546F-13CD-4878-9A4C-47597E4F01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E99A1-4EE2-4E2E-A30E-8EA9BDA304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437920" y="1323000"/>
            <a:ext cx="5791320" cy="55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5F138-DA5C-4A8D-99DB-CBEF662303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715920" y="336240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89680" y="3362400"/>
            <a:ext cx="216504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715920" y="419328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C7CDD-26F5-49F5-A62D-E02DBD4AAB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715920" y="3362400"/>
            <a:ext cx="216504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89680" y="336240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89680" y="419328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6ECFE-79D7-4D76-8345-F865846728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715920" y="336240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89680" y="336240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715920" y="4193280"/>
            <a:ext cx="443700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FDDF1-FF09-4127-B80B-0633C2A3CA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85800"/>
            <a:ext cx="9144000" cy="15228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6480">
            <a:solidFill>
              <a:srgbClr val="000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d5f5d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8229600" y="6629040"/>
            <a:ext cx="914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age </a:t>
            </a:r>
            <a:fld id="{AA135527-2217-4BE7-82D5-C03CAFDD5E9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27040" cy="689040"/>
          </a:xfrm>
          <a:prstGeom prst="rect">
            <a:avLst/>
          </a:prstGeom>
          <a:ln w="0">
            <a:noFill/>
          </a:ln>
        </p:spPr>
      </p:pic>
      <p:sp>
        <p:nvSpPr>
          <p:cNvPr id="4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-3240" y="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94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168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396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66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50976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6480" y="2895480"/>
            <a:ext cx="5883120" cy="76320"/>
          </a:xfrm>
          <a:prstGeom prst="rect">
            <a:avLst/>
          </a:prstGeom>
          <a:gradFill rotWithShape="0">
            <a:gsLst>
              <a:gs pos="0">
                <a:srgbClr val="466e6c"/>
              </a:gs>
              <a:gs pos="50000">
                <a:srgbClr val="203231"/>
              </a:gs>
              <a:gs pos="100000">
                <a:srgbClr val="466e6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04880" y="601560"/>
            <a:ext cx="2274840" cy="10987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5640" y="2238120"/>
            <a:ext cx="6095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ct Management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320920" y="2923920"/>
            <a:ext cx="38275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zational Chang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7488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Project Management Process</a:t>
            </a:r>
            <a:endParaRPr b="0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2280" y="1003320"/>
            <a:ext cx="8642520" cy="45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lnSpc>
                <a:spcPct val="110000"/>
              </a:lnSpc>
              <a:spcBef>
                <a:spcPts val="1375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uring Q3 2005, KEMA performed a PMO Review that provided “Quick Hit”, Short Term, and Long Term recommendations to help improve the effectiveness of the PMO and project deliver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10000"/>
              </a:lnSpc>
              <a:spcBef>
                <a:spcPts val="1375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rnal process improvement team is completing the implementation the following “Quick-Hit” recommendations to improve project delive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343080">
              <a:lnSpc>
                <a:spcPct val="110000"/>
              </a:lnSpc>
              <a:spcBef>
                <a:spcPts val="1100"/>
              </a:spcBef>
              <a:buClr>
                <a:srgbClr val="00808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dress project accountability, responsibility and basic management practices with specific focus on organizational structures and corresponding roles and responsibilit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343080">
              <a:lnSpc>
                <a:spcPct val="110000"/>
              </a:lnSpc>
              <a:spcBef>
                <a:spcPts val="1100"/>
              </a:spcBef>
              <a:buClr>
                <a:srgbClr val="00808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stablish effective project reporting and communications at both the project and enterprise leve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343080">
              <a:lnSpc>
                <a:spcPct val="110000"/>
              </a:lnSpc>
              <a:spcBef>
                <a:spcPts val="1100"/>
              </a:spcBef>
              <a:buClr>
                <a:srgbClr val="00808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stablish a resource utilization process that reflects accurate allocations for use in forecasting, scheduling, tracking and budgeting of projec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CED0B-02EA-43C7-8EB9-E3756557C373}" type="slidenum">
              <a:t>2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26720"/>
            <a:ext cx="717552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Organizational Changes </a:t>
            </a:r>
            <a:endParaRPr b="0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9680" y="926640"/>
            <a:ext cx="8864640" cy="593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ed the following organizational structu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1012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pdate current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entralized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Program Management Office (PMO)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focusing on fostering project management excellence through standardized processes, procedures, tools, training and support functions for all ERCOT projec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1012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stablish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ecentralized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Divisional Projects Organization (DPO)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focusing on accountability and responsibility for business area project portfolio management and deliver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stablished Divisional-PPL’s assigning accountability and responsibility to each ERCOT Executive for managing their resulting business area capital projects portfolio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rified, documented and communicated Roles and Responsibilities to revised organizational structur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DC68A-2029-4F3D-9E04-BCD7FE11C674}" type="slidenum">
              <a:t>3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33440" y="360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Organization Structure Changes</a:t>
            </a:r>
            <a:r>
              <a:rPr b="0" lang="en-US" sz="3600" spc="-1" strike="noStrike">
                <a:solidFill>
                  <a:srgbClr val="3d5f5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-190800" y="871200"/>
            <a:ext cx="93344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project management teams will report directly to their corresponding business area establishing a Divisional Project Organization (DPO) that will be supported by the Program Management Office (PMO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5440" y="2149560"/>
            <a:ext cx="8999640" cy="4506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E64E1-F9F4-4C27-A95F-D53B65F6AAD3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7488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Reporting  Process</a:t>
            </a:r>
            <a:endParaRPr b="0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43560" y="1133640"/>
            <a:ext cx="2514600" cy="52005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43560" y="1133640"/>
            <a:ext cx="2514600" cy="520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709320" y="1265400"/>
            <a:ext cx="184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MO Planning, Quality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79600" y="1447920"/>
            <a:ext cx="1504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ing Depar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025720" y="2416320"/>
            <a:ext cx="1643040" cy="1682640"/>
          </a:xfrm>
          <a:custGeom>
            <a:avLst/>
            <a:gdLst/>
            <a:ahLst/>
            <a:rect l="l" t="t" r="r" b="b"/>
            <a:pathLst>
              <a:path w="2069" h="2119">
                <a:moveTo>
                  <a:pt x="8" y="2119"/>
                </a:moveTo>
                <a:lnTo>
                  <a:pt x="506" y="2112"/>
                </a:lnTo>
                <a:lnTo>
                  <a:pt x="340" y="1950"/>
                </a:lnTo>
                <a:lnTo>
                  <a:pt x="2069" y="168"/>
                </a:lnTo>
                <a:lnTo>
                  <a:pt x="1897" y="0"/>
                </a:lnTo>
                <a:lnTo>
                  <a:pt x="167" y="1783"/>
                </a:lnTo>
                <a:lnTo>
                  <a:pt x="0" y="1620"/>
                </a:lnTo>
                <a:lnTo>
                  <a:pt x="8" y="2119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25720" y="2416320"/>
            <a:ext cx="1643040" cy="1682640"/>
          </a:xfrm>
          <a:custGeom>
            <a:avLst/>
            <a:gdLst/>
            <a:ahLst/>
            <a:rect l="l" t="t" r="r" b="b"/>
            <a:pathLst>
              <a:path w="2069" h="2119">
                <a:moveTo>
                  <a:pt x="8" y="2119"/>
                </a:moveTo>
                <a:lnTo>
                  <a:pt x="506" y="2112"/>
                </a:lnTo>
                <a:lnTo>
                  <a:pt x="340" y="1950"/>
                </a:lnTo>
                <a:lnTo>
                  <a:pt x="2069" y="168"/>
                </a:lnTo>
                <a:lnTo>
                  <a:pt x="1897" y="0"/>
                </a:lnTo>
                <a:lnTo>
                  <a:pt x="167" y="1783"/>
                </a:lnTo>
                <a:lnTo>
                  <a:pt x="0" y="1620"/>
                </a:lnTo>
                <a:lnTo>
                  <a:pt x="8" y="2119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31840" y="4095720"/>
            <a:ext cx="1641600" cy="1612800"/>
          </a:xfrm>
          <a:custGeom>
            <a:avLst/>
            <a:gdLst/>
            <a:ahLst/>
            <a:rect l="l" t="t" r="r" b="b"/>
            <a:pathLst>
              <a:path w="2068" h="2032">
                <a:moveTo>
                  <a:pt x="0" y="5"/>
                </a:moveTo>
                <a:lnTo>
                  <a:pt x="5" y="499"/>
                </a:lnTo>
                <a:lnTo>
                  <a:pt x="166" y="334"/>
                </a:lnTo>
                <a:lnTo>
                  <a:pt x="1902" y="2032"/>
                </a:lnTo>
                <a:lnTo>
                  <a:pt x="2068" y="1863"/>
                </a:lnTo>
                <a:lnTo>
                  <a:pt x="332" y="165"/>
                </a:lnTo>
                <a:lnTo>
                  <a:pt x="493" y="0"/>
                </a:lnTo>
                <a:lnTo>
                  <a:pt x="0" y="5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31840" y="4095720"/>
            <a:ext cx="1641600" cy="1612800"/>
          </a:xfrm>
          <a:custGeom>
            <a:avLst/>
            <a:gdLst/>
            <a:ahLst/>
            <a:rect l="l" t="t" r="r" b="b"/>
            <a:pathLst>
              <a:path w="2068" h="2032">
                <a:moveTo>
                  <a:pt x="0" y="5"/>
                </a:moveTo>
                <a:lnTo>
                  <a:pt x="5" y="499"/>
                </a:lnTo>
                <a:lnTo>
                  <a:pt x="166" y="334"/>
                </a:lnTo>
                <a:lnTo>
                  <a:pt x="1902" y="2032"/>
                </a:lnTo>
                <a:lnTo>
                  <a:pt x="2068" y="1863"/>
                </a:lnTo>
                <a:lnTo>
                  <a:pt x="332" y="165"/>
                </a:lnTo>
                <a:lnTo>
                  <a:pt x="493" y="0"/>
                </a:lnTo>
                <a:lnTo>
                  <a:pt x="0" y="5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57560" y="1604880"/>
            <a:ext cx="1405080" cy="843120"/>
          </a:xfrm>
          <a:custGeom>
            <a:avLst/>
            <a:gdLst/>
            <a:ahLst/>
            <a:rect l="l" t="t" r="r" b="b"/>
            <a:pathLst>
              <a:path w="1769" h="1061">
                <a:moveTo>
                  <a:pt x="0" y="929"/>
                </a:moveTo>
                <a:lnTo>
                  <a:pt x="0" y="0"/>
                </a:lnTo>
                <a:lnTo>
                  <a:pt x="1769" y="0"/>
                </a:lnTo>
                <a:lnTo>
                  <a:pt x="1769" y="929"/>
                </a:lnTo>
                <a:lnTo>
                  <a:pt x="1745" y="913"/>
                </a:lnTo>
                <a:lnTo>
                  <a:pt x="1718" y="898"/>
                </a:lnTo>
                <a:lnTo>
                  <a:pt x="1692" y="884"/>
                </a:lnTo>
                <a:lnTo>
                  <a:pt x="1665" y="871"/>
                </a:lnTo>
                <a:lnTo>
                  <a:pt x="1638" y="859"/>
                </a:lnTo>
                <a:lnTo>
                  <a:pt x="1611" y="849"/>
                </a:lnTo>
                <a:lnTo>
                  <a:pt x="1583" y="838"/>
                </a:lnTo>
                <a:lnTo>
                  <a:pt x="1555" y="830"/>
                </a:lnTo>
                <a:lnTo>
                  <a:pt x="1527" y="822"/>
                </a:lnTo>
                <a:lnTo>
                  <a:pt x="1499" y="815"/>
                </a:lnTo>
                <a:lnTo>
                  <a:pt x="1471" y="809"/>
                </a:lnTo>
                <a:lnTo>
                  <a:pt x="1442" y="804"/>
                </a:lnTo>
                <a:lnTo>
                  <a:pt x="1414" y="801"/>
                </a:lnTo>
                <a:lnTo>
                  <a:pt x="1385" y="798"/>
                </a:lnTo>
                <a:lnTo>
                  <a:pt x="1355" y="797"/>
                </a:lnTo>
                <a:lnTo>
                  <a:pt x="1327" y="796"/>
                </a:lnTo>
                <a:lnTo>
                  <a:pt x="1298" y="797"/>
                </a:lnTo>
                <a:lnTo>
                  <a:pt x="1269" y="798"/>
                </a:lnTo>
                <a:lnTo>
                  <a:pt x="1241" y="801"/>
                </a:lnTo>
                <a:lnTo>
                  <a:pt x="1212" y="804"/>
                </a:lnTo>
                <a:lnTo>
                  <a:pt x="1184" y="809"/>
                </a:lnTo>
                <a:lnTo>
                  <a:pt x="1154" y="815"/>
                </a:lnTo>
                <a:lnTo>
                  <a:pt x="1126" y="822"/>
                </a:lnTo>
                <a:lnTo>
                  <a:pt x="1098" y="830"/>
                </a:lnTo>
                <a:lnTo>
                  <a:pt x="1070" y="838"/>
                </a:lnTo>
                <a:lnTo>
                  <a:pt x="1043" y="849"/>
                </a:lnTo>
                <a:lnTo>
                  <a:pt x="1015" y="859"/>
                </a:lnTo>
                <a:lnTo>
                  <a:pt x="988" y="871"/>
                </a:lnTo>
                <a:lnTo>
                  <a:pt x="963" y="884"/>
                </a:lnTo>
                <a:lnTo>
                  <a:pt x="936" y="898"/>
                </a:lnTo>
                <a:lnTo>
                  <a:pt x="910" y="913"/>
                </a:lnTo>
                <a:lnTo>
                  <a:pt x="884" y="929"/>
                </a:lnTo>
                <a:lnTo>
                  <a:pt x="884" y="929"/>
                </a:lnTo>
                <a:lnTo>
                  <a:pt x="860" y="946"/>
                </a:lnTo>
                <a:lnTo>
                  <a:pt x="833" y="960"/>
                </a:lnTo>
                <a:lnTo>
                  <a:pt x="807" y="974"/>
                </a:lnTo>
                <a:lnTo>
                  <a:pt x="780" y="986"/>
                </a:lnTo>
                <a:lnTo>
                  <a:pt x="753" y="999"/>
                </a:lnTo>
                <a:lnTo>
                  <a:pt x="726" y="1010"/>
                </a:lnTo>
                <a:lnTo>
                  <a:pt x="698" y="1019"/>
                </a:lnTo>
                <a:lnTo>
                  <a:pt x="670" y="1028"/>
                </a:lnTo>
                <a:lnTo>
                  <a:pt x="642" y="1037"/>
                </a:lnTo>
                <a:lnTo>
                  <a:pt x="614" y="1043"/>
                </a:lnTo>
                <a:lnTo>
                  <a:pt x="586" y="1048"/>
                </a:lnTo>
                <a:lnTo>
                  <a:pt x="557" y="1053"/>
                </a:lnTo>
                <a:lnTo>
                  <a:pt x="529" y="1057"/>
                </a:lnTo>
                <a:lnTo>
                  <a:pt x="500" y="1060"/>
                </a:lnTo>
                <a:lnTo>
                  <a:pt x="471" y="1061"/>
                </a:lnTo>
                <a:lnTo>
                  <a:pt x="442" y="1061"/>
                </a:lnTo>
                <a:lnTo>
                  <a:pt x="413" y="1061"/>
                </a:lnTo>
                <a:lnTo>
                  <a:pt x="384" y="1060"/>
                </a:lnTo>
                <a:lnTo>
                  <a:pt x="356" y="1057"/>
                </a:lnTo>
                <a:lnTo>
                  <a:pt x="326" y="1053"/>
                </a:lnTo>
                <a:lnTo>
                  <a:pt x="298" y="1048"/>
                </a:lnTo>
                <a:lnTo>
                  <a:pt x="270" y="1043"/>
                </a:lnTo>
                <a:lnTo>
                  <a:pt x="241" y="1037"/>
                </a:lnTo>
                <a:lnTo>
                  <a:pt x="213" y="1028"/>
                </a:lnTo>
                <a:lnTo>
                  <a:pt x="185" y="1019"/>
                </a:lnTo>
                <a:lnTo>
                  <a:pt x="158" y="1010"/>
                </a:lnTo>
                <a:lnTo>
                  <a:pt x="131" y="999"/>
                </a:lnTo>
                <a:lnTo>
                  <a:pt x="104" y="986"/>
                </a:lnTo>
                <a:lnTo>
                  <a:pt x="77" y="974"/>
                </a:lnTo>
                <a:lnTo>
                  <a:pt x="51" y="960"/>
                </a:lnTo>
                <a:lnTo>
                  <a:pt x="25" y="946"/>
                </a:lnTo>
                <a:lnTo>
                  <a:pt x="0" y="929"/>
                </a:lnTo>
                <a:lnTo>
                  <a:pt x="0" y="9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057560" y="1604880"/>
            <a:ext cx="1405080" cy="843120"/>
          </a:xfrm>
          <a:custGeom>
            <a:avLst/>
            <a:gdLst/>
            <a:ahLst/>
            <a:rect l="l" t="t" r="r" b="b"/>
            <a:pathLst>
              <a:path w="1769" h="1061">
                <a:moveTo>
                  <a:pt x="0" y="929"/>
                </a:moveTo>
                <a:lnTo>
                  <a:pt x="0" y="0"/>
                </a:lnTo>
                <a:lnTo>
                  <a:pt x="1769" y="0"/>
                </a:lnTo>
                <a:lnTo>
                  <a:pt x="1769" y="929"/>
                </a:lnTo>
                <a:lnTo>
                  <a:pt x="1745" y="913"/>
                </a:lnTo>
                <a:lnTo>
                  <a:pt x="1718" y="898"/>
                </a:lnTo>
                <a:lnTo>
                  <a:pt x="1692" y="884"/>
                </a:lnTo>
                <a:lnTo>
                  <a:pt x="1665" y="871"/>
                </a:lnTo>
                <a:lnTo>
                  <a:pt x="1638" y="859"/>
                </a:lnTo>
                <a:lnTo>
                  <a:pt x="1611" y="849"/>
                </a:lnTo>
                <a:lnTo>
                  <a:pt x="1583" y="838"/>
                </a:lnTo>
                <a:lnTo>
                  <a:pt x="1555" y="830"/>
                </a:lnTo>
                <a:lnTo>
                  <a:pt x="1527" y="822"/>
                </a:lnTo>
                <a:lnTo>
                  <a:pt x="1499" y="815"/>
                </a:lnTo>
                <a:lnTo>
                  <a:pt x="1471" y="809"/>
                </a:lnTo>
                <a:lnTo>
                  <a:pt x="1442" y="804"/>
                </a:lnTo>
                <a:lnTo>
                  <a:pt x="1414" y="801"/>
                </a:lnTo>
                <a:lnTo>
                  <a:pt x="1385" y="798"/>
                </a:lnTo>
                <a:lnTo>
                  <a:pt x="1355" y="797"/>
                </a:lnTo>
                <a:lnTo>
                  <a:pt x="1327" y="796"/>
                </a:lnTo>
                <a:lnTo>
                  <a:pt x="1298" y="797"/>
                </a:lnTo>
                <a:lnTo>
                  <a:pt x="1269" y="798"/>
                </a:lnTo>
                <a:lnTo>
                  <a:pt x="1241" y="801"/>
                </a:lnTo>
                <a:lnTo>
                  <a:pt x="1212" y="804"/>
                </a:lnTo>
                <a:lnTo>
                  <a:pt x="1184" y="809"/>
                </a:lnTo>
                <a:lnTo>
                  <a:pt x="1154" y="815"/>
                </a:lnTo>
                <a:lnTo>
                  <a:pt x="1126" y="822"/>
                </a:lnTo>
                <a:lnTo>
                  <a:pt x="1098" y="830"/>
                </a:lnTo>
                <a:lnTo>
                  <a:pt x="1070" y="838"/>
                </a:lnTo>
                <a:lnTo>
                  <a:pt x="1043" y="849"/>
                </a:lnTo>
                <a:lnTo>
                  <a:pt x="1015" y="859"/>
                </a:lnTo>
                <a:lnTo>
                  <a:pt x="988" y="871"/>
                </a:lnTo>
                <a:lnTo>
                  <a:pt x="963" y="884"/>
                </a:lnTo>
                <a:lnTo>
                  <a:pt x="936" y="898"/>
                </a:lnTo>
                <a:lnTo>
                  <a:pt x="910" y="913"/>
                </a:lnTo>
                <a:lnTo>
                  <a:pt x="884" y="929"/>
                </a:lnTo>
                <a:lnTo>
                  <a:pt x="884" y="929"/>
                </a:lnTo>
                <a:lnTo>
                  <a:pt x="860" y="946"/>
                </a:lnTo>
                <a:lnTo>
                  <a:pt x="833" y="960"/>
                </a:lnTo>
                <a:lnTo>
                  <a:pt x="807" y="974"/>
                </a:lnTo>
                <a:lnTo>
                  <a:pt x="780" y="986"/>
                </a:lnTo>
                <a:lnTo>
                  <a:pt x="753" y="999"/>
                </a:lnTo>
                <a:lnTo>
                  <a:pt x="726" y="1010"/>
                </a:lnTo>
                <a:lnTo>
                  <a:pt x="698" y="1019"/>
                </a:lnTo>
                <a:lnTo>
                  <a:pt x="670" y="1028"/>
                </a:lnTo>
                <a:lnTo>
                  <a:pt x="642" y="1037"/>
                </a:lnTo>
                <a:lnTo>
                  <a:pt x="614" y="1043"/>
                </a:lnTo>
                <a:lnTo>
                  <a:pt x="586" y="1048"/>
                </a:lnTo>
                <a:lnTo>
                  <a:pt x="557" y="1053"/>
                </a:lnTo>
                <a:lnTo>
                  <a:pt x="529" y="1057"/>
                </a:lnTo>
                <a:lnTo>
                  <a:pt x="500" y="1060"/>
                </a:lnTo>
                <a:lnTo>
                  <a:pt x="471" y="1061"/>
                </a:lnTo>
                <a:lnTo>
                  <a:pt x="442" y="1061"/>
                </a:lnTo>
                <a:lnTo>
                  <a:pt x="413" y="1061"/>
                </a:lnTo>
                <a:lnTo>
                  <a:pt x="384" y="1060"/>
                </a:lnTo>
                <a:lnTo>
                  <a:pt x="356" y="1057"/>
                </a:lnTo>
                <a:lnTo>
                  <a:pt x="326" y="1053"/>
                </a:lnTo>
                <a:lnTo>
                  <a:pt x="298" y="1048"/>
                </a:lnTo>
                <a:lnTo>
                  <a:pt x="270" y="1043"/>
                </a:lnTo>
                <a:lnTo>
                  <a:pt x="241" y="1037"/>
                </a:lnTo>
                <a:lnTo>
                  <a:pt x="213" y="1028"/>
                </a:lnTo>
                <a:lnTo>
                  <a:pt x="185" y="1019"/>
                </a:lnTo>
                <a:lnTo>
                  <a:pt x="158" y="1010"/>
                </a:lnTo>
                <a:lnTo>
                  <a:pt x="131" y="999"/>
                </a:lnTo>
                <a:lnTo>
                  <a:pt x="104" y="986"/>
                </a:lnTo>
                <a:lnTo>
                  <a:pt x="77" y="974"/>
                </a:lnTo>
                <a:lnTo>
                  <a:pt x="51" y="960"/>
                </a:lnTo>
                <a:lnTo>
                  <a:pt x="25" y="946"/>
                </a:lnTo>
                <a:lnTo>
                  <a:pt x="0" y="929"/>
                </a:lnTo>
                <a:lnTo>
                  <a:pt x="0" y="929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28960" y="1833480"/>
            <a:ext cx="1405080" cy="843120"/>
          </a:xfrm>
          <a:custGeom>
            <a:avLst/>
            <a:gdLst/>
            <a:ahLst/>
            <a:rect l="l" t="t" r="r" b="b"/>
            <a:pathLst>
              <a:path w="1771" h="1062">
                <a:moveTo>
                  <a:pt x="0" y="929"/>
                </a:moveTo>
                <a:lnTo>
                  <a:pt x="0" y="0"/>
                </a:lnTo>
                <a:lnTo>
                  <a:pt x="1771" y="0"/>
                </a:lnTo>
                <a:lnTo>
                  <a:pt x="1771" y="929"/>
                </a:lnTo>
                <a:lnTo>
                  <a:pt x="1771" y="929"/>
                </a:lnTo>
                <a:lnTo>
                  <a:pt x="1745" y="913"/>
                </a:lnTo>
                <a:lnTo>
                  <a:pt x="1719" y="898"/>
                </a:lnTo>
                <a:lnTo>
                  <a:pt x="1693" y="884"/>
                </a:lnTo>
                <a:lnTo>
                  <a:pt x="1667" y="871"/>
                </a:lnTo>
                <a:lnTo>
                  <a:pt x="1640" y="858"/>
                </a:lnTo>
                <a:lnTo>
                  <a:pt x="1612" y="848"/>
                </a:lnTo>
                <a:lnTo>
                  <a:pt x="1585" y="839"/>
                </a:lnTo>
                <a:lnTo>
                  <a:pt x="1557" y="829"/>
                </a:lnTo>
                <a:lnTo>
                  <a:pt x="1529" y="821"/>
                </a:lnTo>
                <a:lnTo>
                  <a:pt x="1501" y="815"/>
                </a:lnTo>
                <a:lnTo>
                  <a:pt x="1471" y="809"/>
                </a:lnTo>
                <a:lnTo>
                  <a:pt x="1443" y="805"/>
                </a:lnTo>
                <a:lnTo>
                  <a:pt x="1414" y="801"/>
                </a:lnTo>
                <a:lnTo>
                  <a:pt x="1386" y="798"/>
                </a:lnTo>
                <a:lnTo>
                  <a:pt x="1357" y="797"/>
                </a:lnTo>
                <a:lnTo>
                  <a:pt x="1328" y="797"/>
                </a:lnTo>
                <a:lnTo>
                  <a:pt x="1299" y="797"/>
                </a:lnTo>
                <a:lnTo>
                  <a:pt x="1270" y="798"/>
                </a:lnTo>
                <a:lnTo>
                  <a:pt x="1241" y="801"/>
                </a:lnTo>
                <a:lnTo>
                  <a:pt x="1213" y="805"/>
                </a:lnTo>
                <a:lnTo>
                  <a:pt x="1184" y="809"/>
                </a:lnTo>
                <a:lnTo>
                  <a:pt x="1156" y="815"/>
                </a:lnTo>
                <a:lnTo>
                  <a:pt x="1128" y="821"/>
                </a:lnTo>
                <a:lnTo>
                  <a:pt x="1100" y="829"/>
                </a:lnTo>
                <a:lnTo>
                  <a:pt x="1071" y="839"/>
                </a:lnTo>
                <a:lnTo>
                  <a:pt x="1043" y="848"/>
                </a:lnTo>
                <a:lnTo>
                  <a:pt x="1017" y="858"/>
                </a:lnTo>
                <a:lnTo>
                  <a:pt x="990" y="871"/>
                </a:lnTo>
                <a:lnTo>
                  <a:pt x="963" y="884"/>
                </a:lnTo>
                <a:lnTo>
                  <a:pt x="937" y="898"/>
                </a:lnTo>
                <a:lnTo>
                  <a:pt x="911" y="913"/>
                </a:lnTo>
                <a:lnTo>
                  <a:pt x="886" y="929"/>
                </a:lnTo>
                <a:lnTo>
                  <a:pt x="886" y="929"/>
                </a:lnTo>
                <a:lnTo>
                  <a:pt x="860" y="945"/>
                </a:lnTo>
                <a:lnTo>
                  <a:pt x="834" y="960"/>
                </a:lnTo>
                <a:lnTo>
                  <a:pt x="808" y="974"/>
                </a:lnTo>
                <a:lnTo>
                  <a:pt x="781" y="987"/>
                </a:lnTo>
                <a:lnTo>
                  <a:pt x="755" y="999"/>
                </a:lnTo>
                <a:lnTo>
                  <a:pt x="728" y="1010"/>
                </a:lnTo>
                <a:lnTo>
                  <a:pt x="700" y="1020"/>
                </a:lnTo>
                <a:lnTo>
                  <a:pt x="672" y="1029"/>
                </a:lnTo>
                <a:lnTo>
                  <a:pt x="644" y="1036"/>
                </a:lnTo>
                <a:lnTo>
                  <a:pt x="615" y="1043"/>
                </a:lnTo>
                <a:lnTo>
                  <a:pt x="587" y="1049"/>
                </a:lnTo>
                <a:lnTo>
                  <a:pt x="558" y="1053"/>
                </a:lnTo>
                <a:lnTo>
                  <a:pt x="530" y="1057"/>
                </a:lnTo>
                <a:lnTo>
                  <a:pt x="501" y="1059"/>
                </a:lnTo>
                <a:lnTo>
                  <a:pt x="472" y="1062"/>
                </a:lnTo>
                <a:lnTo>
                  <a:pt x="444" y="1062"/>
                </a:lnTo>
                <a:lnTo>
                  <a:pt x="414" y="1062"/>
                </a:lnTo>
                <a:lnTo>
                  <a:pt x="385" y="1059"/>
                </a:lnTo>
                <a:lnTo>
                  <a:pt x="357" y="1057"/>
                </a:lnTo>
                <a:lnTo>
                  <a:pt x="328" y="1053"/>
                </a:lnTo>
                <a:lnTo>
                  <a:pt x="300" y="1049"/>
                </a:lnTo>
                <a:lnTo>
                  <a:pt x="271" y="1043"/>
                </a:lnTo>
                <a:lnTo>
                  <a:pt x="242" y="1036"/>
                </a:lnTo>
                <a:lnTo>
                  <a:pt x="214" y="1029"/>
                </a:lnTo>
                <a:lnTo>
                  <a:pt x="186" y="1020"/>
                </a:lnTo>
                <a:lnTo>
                  <a:pt x="159" y="1010"/>
                </a:lnTo>
                <a:lnTo>
                  <a:pt x="131" y="999"/>
                </a:lnTo>
                <a:lnTo>
                  <a:pt x="105" y="987"/>
                </a:lnTo>
                <a:lnTo>
                  <a:pt x="79" y="974"/>
                </a:lnTo>
                <a:lnTo>
                  <a:pt x="52" y="960"/>
                </a:lnTo>
                <a:lnTo>
                  <a:pt x="26" y="945"/>
                </a:lnTo>
                <a:lnTo>
                  <a:pt x="0" y="929"/>
                </a:lnTo>
                <a:lnTo>
                  <a:pt x="0" y="9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28960" y="1833480"/>
            <a:ext cx="1405080" cy="843120"/>
          </a:xfrm>
          <a:custGeom>
            <a:avLst/>
            <a:gdLst/>
            <a:ahLst/>
            <a:rect l="l" t="t" r="r" b="b"/>
            <a:pathLst>
              <a:path w="1771" h="1062">
                <a:moveTo>
                  <a:pt x="0" y="929"/>
                </a:moveTo>
                <a:lnTo>
                  <a:pt x="0" y="0"/>
                </a:lnTo>
                <a:lnTo>
                  <a:pt x="1771" y="0"/>
                </a:lnTo>
                <a:lnTo>
                  <a:pt x="1771" y="929"/>
                </a:lnTo>
                <a:lnTo>
                  <a:pt x="1771" y="929"/>
                </a:lnTo>
                <a:lnTo>
                  <a:pt x="1745" y="913"/>
                </a:lnTo>
                <a:lnTo>
                  <a:pt x="1719" y="898"/>
                </a:lnTo>
                <a:lnTo>
                  <a:pt x="1693" y="884"/>
                </a:lnTo>
                <a:lnTo>
                  <a:pt x="1667" y="871"/>
                </a:lnTo>
                <a:lnTo>
                  <a:pt x="1640" y="858"/>
                </a:lnTo>
                <a:lnTo>
                  <a:pt x="1612" y="848"/>
                </a:lnTo>
                <a:lnTo>
                  <a:pt x="1585" y="839"/>
                </a:lnTo>
                <a:lnTo>
                  <a:pt x="1557" y="829"/>
                </a:lnTo>
                <a:lnTo>
                  <a:pt x="1529" y="821"/>
                </a:lnTo>
                <a:lnTo>
                  <a:pt x="1501" y="815"/>
                </a:lnTo>
                <a:lnTo>
                  <a:pt x="1471" y="809"/>
                </a:lnTo>
                <a:lnTo>
                  <a:pt x="1443" y="805"/>
                </a:lnTo>
                <a:lnTo>
                  <a:pt x="1414" y="801"/>
                </a:lnTo>
                <a:lnTo>
                  <a:pt x="1386" y="798"/>
                </a:lnTo>
                <a:lnTo>
                  <a:pt x="1357" y="797"/>
                </a:lnTo>
                <a:lnTo>
                  <a:pt x="1328" y="797"/>
                </a:lnTo>
                <a:lnTo>
                  <a:pt x="1299" y="797"/>
                </a:lnTo>
                <a:lnTo>
                  <a:pt x="1270" y="798"/>
                </a:lnTo>
                <a:lnTo>
                  <a:pt x="1241" y="801"/>
                </a:lnTo>
                <a:lnTo>
                  <a:pt x="1213" y="805"/>
                </a:lnTo>
                <a:lnTo>
                  <a:pt x="1184" y="809"/>
                </a:lnTo>
                <a:lnTo>
                  <a:pt x="1156" y="815"/>
                </a:lnTo>
                <a:lnTo>
                  <a:pt x="1128" y="821"/>
                </a:lnTo>
                <a:lnTo>
                  <a:pt x="1100" y="829"/>
                </a:lnTo>
                <a:lnTo>
                  <a:pt x="1071" y="839"/>
                </a:lnTo>
                <a:lnTo>
                  <a:pt x="1043" y="848"/>
                </a:lnTo>
                <a:lnTo>
                  <a:pt x="1017" y="858"/>
                </a:lnTo>
                <a:lnTo>
                  <a:pt x="990" y="871"/>
                </a:lnTo>
                <a:lnTo>
                  <a:pt x="963" y="884"/>
                </a:lnTo>
                <a:lnTo>
                  <a:pt x="937" y="898"/>
                </a:lnTo>
                <a:lnTo>
                  <a:pt x="911" y="913"/>
                </a:lnTo>
                <a:lnTo>
                  <a:pt x="886" y="929"/>
                </a:lnTo>
                <a:lnTo>
                  <a:pt x="886" y="929"/>
                </a:lnTo>
                <a:lnTo>
                  <a:pt x="860" y="945"/>
                </a:lnTo>
                <a:lnTo>
                  <a:pt x="834" y="960"/>
                </a:lnTo>
                <a:lnTo>
                  <a:pt x="808" y="974"/>
                </a:lnTo>
                <a:lnTo>
                  <a:pt x="781" y="987"/>
                </a:lnTo>
                <a:lnTo>
                  <a:pt x="755" y="999"/>
                </a:lnTo>
                <a:lnTo>
                  <a:pt x="728" y="1010"/>
                </a:lnTo>
                <a:lnTo>
                  <a:pt x="700" y="1020"/>
                </a:lnTo>
                <a:lnTo>
                  <a:pt x="672" y="1029"/>
                </a:lnTo>
                <a:lnTo>
                  <a:pt x="644" y="1036"/>
                </a:lnTo>
                <a:lnTo>
                  <a:pt x="615" y="1043"/>
                </a:lnTo>
                <a:lnTo>
                  <a:pt x="587" y="1049"/>
                </a:lnTo>
                <a:lnTo>
                  <a:pt x="558" y="1053"/>
                </a:lnTo>
                <a:lnTo>
                  <a:pt x="530" y="1057"/>
                </a:lnTo>
                <a:lnTo>
                  <a:pt x="501" y="1059"/>
                </a:lnTo>
                <a:lnTo>
                  <a:pt x="472" y="1062"/>
                </a:lnTo>
                <a:lnTo>
                  <a:pt x="444" y="1062"/>
                </a:lnTo>
                <a:lnTo>
                  <a:pt x="414" y="1062"/>
                </a:lnTo>
                <a:lnTo>
                  <a:pt x="385" y="1059"/>
                </a:lnTo>
                <a:lnTo>
                  <a:pt x="357" y="1057"/>
                </a:lnTo>
                <a:lnTo>
                  <a:pt x="328" y="1053"/>
                </a:lnTo>
                <a:lnTo>
                  <a:pt x="300" y="1049"/>
                </a:lnTo>
                <a:lnTo>
                  <a:pt x="271" y="1043"/>
                </a:lnTo>
                <a:lnTo>
                  <a:pt x="242" y="1036"/>
                </a:lnTo>
                <a:lnTo>
                  <a:pt x="214" y="1029"/>
                </a:lnTo>
                <a:lnTo>
                  <a:pt x="186" y="1020"/>
                </a:lnTo>
                <a:lnTo>
                  <a:pt x="159" y="1010"/>
                </a:lnTo>
                <a:lnTo>
                  <a:pt x="131" y="999"/>
                </a:lnTo>
                <a:lnTo>
                  <a:pt x="105" y="987"/>
                </a:lnTo>
                <a:lnTo>
                  <a:pt x="79" y="974"/>
                </a:lnTo>
                <a:lnTo>
                  <a:pt x="52" y="960"/>
                </a:lnTo>
                <a:lnTo>
                  <a:pt x="26" y="945"/>
                </a:lnTo>
                <a:lnTo>
                  <a:pt x="0" y="929"/>
                </a:lnTo>
                <a:lnTo>
                  <a:pt x="0" y="929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00360" y="2062080"/>
            <a:ext cx="1405080" cy="843120"/>
          </a:xfrm>
          <a:custGeom>
            <a:avLst/>
            <a:gdLst/>
            <a:ahLst/>
            <a:rect l="l" t="t" r="r" b="b"/>
            <a:pathLst>
              <a:path w="1770" h="1063">
                <a:moveTo>
                  <a:pt x="0" y="930"/>
                </a:moveTo>
                <a:lnTo>
                  <a:pt x="0" y="0"/>
                </a:lnTo>
                <a:lnTo>
                  <a:pt x="1770" y="0"/>
                </a:lnTo>
                <a:lnTo>
                  <a:pt x="1770" y="930"/>
                </a:lnTo>
                <a:lnTo>
                  <a:pt x="1744" y="914"/>
                </a:lnTo>
                <a:lnTo>
                  <a:pt x="1719" y="898"/>
                </a:lnTo>
                <a:lnTo>
                  <a:pt x="1692" y="884"/>
                </a:lnTo>
                <a:lnTo>
                  <a:pt x="1666" y="872"/>
                </a:lnTo>
                <a:lnTo>
                  <a:pt x="1638" y="860"/>
                </a:lnTo>
                <a:lnTo>
                  <a:pt x="1611" y="849"/>
                </a:lnTo>
                <a:lnTo>
                  <a:pt x="1584" y="839"/>
                </a:lnTo>
                <a:lnTo>
                  <a:pt x="1556" y="831"/>
                </a:lnTo>
                <a:lnTo>
                  <a:pt x="1528" y="822"/>
                </a:lnTo>
                <a:lnTo>
                  <a:pt x="1500" y="815"/>
                </a:lnTo>
                <a:lnTo>
                  <a:pt x="1471" y="810"/>
                </a:lnTo>
                <a:lnTo>
                  <a:pt x="1443" y="805"/>
                </a:lnTo>
                <a:lnTo>
                  <a:pt x="1413" y="801"/>
                </a:lnTo>
                <a:lnTo>
                  <a:pt x="1385" y="799"/>
                </a:lnTo>
                <a:lnTo>
                  <a:pt x="1356" y="798"/>
                </a:lnTo>
                <a:lnTo>
                  <a:pt x="1327" y="797"/>
                </a:lnTo>
                <a:lnTo>
                  <a:pt x="1298" y="798"/>
                </a:lnTo>
                <a:lnTo>
                  <a:pt x="1270" y="799"/>
                </a:lnTo>
                <a:lnTo>
                  <a:pt x="1240" y="801"/>
                </a:lnTo>
                <a:lnTo>
                  <a:pt x="1212" y="805"/>
                </a:lnTo>
                <a:lnTo>
                  <a:pt x="1183" y="810"/>
                </a:lnTo>
                <a:lnTo>
                  <a:pt x="1155" y="815"/>
                </a:lnTo>
                <a:lnTo>
                  <a:pt x="1127" y="822"/>
                </a:lnTo>
                <a:lnTo>
                  <a:pt x="1099" y="831"/>
                </a:lnTo>
                <a:lnTo>
                  <a:pt x="1071" y="839"/>
                </a:lnTo>
                <a:lnTo>
                  <a:pt x="1043" y="849"/>
                </a:lnTo>
                <a:lnTo>
                  <a:pt x="1016" y="860"/>
                </a:lnTo>
                <a:lnTo>
                  <a:pt x="989" y="872"/>
                </a:lnTo>
                <a:lnTo>
                  <a:pt x="962" y="884"/>
                </a:lnTo>
                <a:lnTo>
                  <a:pt x="936" y="898"/>
                </a:lnTo>
                <a:lnTo>
                  <a:pt x="909" y="914"/>
                </a:lnTo>
                <a:lnTo>
                  <a:pt x="885" y="930"/>
                </a:lnTo>
                <a:lnTo>
                  <a:pt x="885" y="930"/>
                </a:lnTo>
                <a:lnTo>
                  <a:pt x="859" y="946"/>
                </a:lnTo>
                <a:lnTo>
                  <a:pt x="833" y="961"/>
                </a:lnTo>
                <a:lnTo>
                  <a:pt x="807" y="975"/>
                </a:lnTo>
                <a:lnTo>
                  <a:pt x="781" y="988"/>
                </a:lnTo>
                <a:lnTo>
                  <a:pt x="754" y="1000"/>
                </a:lnTo>
                <a:lnTo>
                  <a:pt x="726" y="1011"/>
                </a:lnTo>
                <a:lnTo>
                  <a:pt x="699" y="1021"/>
                </a:lnTo>
                <a:lnTo>
                  <a:pt x="671" y="1029"/>
                </a:lnTo>
                <a:lnTo>
                  <a:pt x="643" y="1037"/>
                </a:lnTo>
                <a:lnTo>
                  <a:pt x="615" y="1044"/>
                </a:lnTo>
                <a:lnTo>
                  <a:pt x="586" y="1050"/>
                </a:lnTo>
                <a:lnTo>
                  <a:pt x="558" y="1055"/>
                </a:lnTo>
                <a:lnTo>
                  <a:pt x="528" y="1058"/>
                </a:lnTo>
                <a:lnTo>
                  <a:pt x="500" y="1061"/>
                </a:lnTo>
                <a:lnTo>
                  <a:pt x="471" y="1062"/>
                </a:lnTo>
                <a:lnTo>
                  <a:pt x="442" y="1063"/>
                </a:lnTo>
                <a:lnTo>
                  <a:pt x="414" y="1062"/>
                </a:lnTo>
                <a:lnTo>
                  <a:pt x="385" y="1061"/>
                </a:lnTo>
                <a:lnTo>
                  <a:pt x="355" y="1058"/>
                </a:lnTo>
                <a:lnTo>
                  <a:pt x="327" y="1055"/>
                </a:lnTo>
                <a:lnTo>
                  <a:pt x="298" y="1050"/>
                </a:lnTo>
                <a:lnTo>
                  <a:pt x="270" y="1044"/>
                </a:lnTo>
                <a:lnTo>
                  <a:pt x="242" y="1037"/>
                </a:lnTo>
                <a:lnTo>
                  <a:pt x="214" y="1029"/>
                </a:lnTo>
                <a:lnTo>
                  <a:pt x="186" y="1021"/>
                </a:lnTo>
                <a:lnTo>
                  <a:pt x="158" y="1011"/>
                </a:lnTo>
                <a:lnTo>
                  <a:pt x="131" y="1000"/>
                </a:lnTo>
                <a:lnTo>
                  <a:pt x="104" y="988"/>
                </a:lnTo>
                <a:lnTo>
                  <a:pt x="77" y="975"/>
                </a:lnTo>
                <a:lnTo>
                  <a:pt x="51" y="961"/>
                </a:lnTo>
                <a:lnTo>
                  <a:pt x="26" y="946"/>
                </a:lnTo>
                <a:lnTo>
                  <a:pt x="0" y="930"/>
                </a:lnTo>
                <a:lnTo>
                  <a:pt x="0" y="9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00360" y="2062080"/>
            <a:ext cx="1405080" cy="843120"/>
          </a:xfrm>
          <a:custGeom>
            <a:avLst/>
            <a:gdLst/>
            <a:ahLst/>
            <a:rect l="l" t="t" r="r" b="b"/>
            <a:pathLst>
              <a:path w="1770" h="1063">
                <a:moveTo>
                  <a:pt x="0" y="930"/>
                </a:moveTo>
                <a:lnTo>
                  <a:pt x="0" y="0"/>
                </a:lnTo>
                <a:lnTo>
                  <a:pt x="1770" y="0"/>
                </a:lnTo>
                <a:lnTo>
                  <a:pt x="1770" y="930"/>
                </a:lnTo>
                <a:lnTo>
                  <a:pt x="1744" y="914"/>
                </a:lnTo>
                <a:lnTo>
                  <a:pt x="1719" y="898"/>
                </a:lnTo>
                <a:lnTo>
                  <a:pt x="1692" y="884"/>
                </a:lnTo>
                <a:lnTo>
                  <a:pt x="1666" y="872"/>
                </a:lnTo>
                <a:lnTo>
                  <a:pt x="1638" y="860"/>
                </a:lnTo>
                <a:lnTo>
                  <a:pt x="1611" y="849"/>
                </a:lnTo>
                <a:lnTo>
                  <a:pt x="1584" y="839"/>
                </a:lnTo>
                <a:lnTo>
                  <a:pt x="1556" y="831"/>
                </a:lnTo>
                <a:lnTo>
                  <a:pt x="1528" y="822"/>
                </a:lnTo>
                <a:lnTo>
                  <a:pt x="1500" y="815"/>
                </a:lnTo>
                <a:lnTo>
                  <a:pt x="1471" y="810"/>
                </a:lnTo>
                <a:lnTo>
                  <a:pt x="1443" y="805"/>
                </a:lnTo>
                <a:lnTo>
                  <a:pt x="1413" y="801"/>
                </a:lnTo>
                <a:lnTo>
                  <a:pt x="1385" y="799"/>
                </a:lnTo>
                <a:lnTo>
                  <a:pt x="1356" y="798"/>
                </a:lnTo>
                <a:lnTo>
                  <a:pt x="1327" y="797"/>
                </a:lnTo>
                <a:lnTo>
                  <a:pt x="1298" y="798"/>
                </a:lnTo>
                <a:lnTo>
                  <a:pt x="1270" y="799"/>
                </a:lnTo>
                <a:lnTo>
                  <a:pt x="1240" y="801"/>
                </a:lnTo>
                <a:lnTo>
                  <a:pt x="1212" y="805"/>
                </a:lnTo>
                <a:lnTo>
                  <a:pt x="1183" y="810"/>
                </a:lnTo>
                <a:lnTo>
                  <a:pt x="1155" y="815"/>
                </a:lnTo>
                <a:lnTo>
                  <a:pt x="1127" y="822"/>
                </a:lnTo>
                <a:lnTo>
                  <a:pt x="1099" y="831"/>
                </a:lnTo>
                <a:lnTo>
                  <a:pt x="1071" y="839"/>
                </a:lnTo>
                <a:lnTo>
                  <a:pt x="1043" y="849"/>
                </a:lnTo>
                <a:lnTo>
                  <a:pt x="1016" y="860"/>
                </a:lnTo>
                <a:lnTo>
                  <a:pt x="989" y="872"/>
                </a:lnTo>
                <a:lnTo>
                  <a:pt x="962" y="884"/>
                </a:lnTo>
                <a:lnTo>
                  <a:pt x="936" y="898"/>
                </a:lnTo>
                <a:lnTo>
                  <a:pt x="909" y="914"/>
                </a:lnTo>
                <a:lnTo>
                  <a:pt x="885" y="930"/>
                </a:lnTo>
                <a:lnTo>
                  <a:pt x="885" y="930"/>
                </a:lnTo>
                <a:lnTo>
                  <a:pt x="859" y="946"/>
                </a:lnTo>
                <a:lnTo>
                  <a:pt x="833" y="961"/>
                </a:lnTo>
                <a:lnTo>
                  <a:pt x="807" y="975"/>
                </a:lnTo>
                <a:lnTo>
                  <a:pt x="781" y="988"/>
                </a:lnTo>
                <a:lnTo>
                  <a:pt x="754" y="1000"/>
                </a:lnTo>
                <a:lnTo>
                  <a:pt x="726" y="1011"/>
                </a:lnTo>
                <a:lnTo>
                  <a:pt x="699" y="1021"/>
                </a:lnTo>
                <a:lnTo>
                  <a:pt x="671" y="1029"/>
                </a:lnTo>
                <a:lnTo>
                  <a:pt x="643" y="1037"/>
                </a:lnTo>
                <a:lnTo>
                  <a:pt x="615" y="1044"/>
                </a:lnTo>
                <a:lnTo>
                  <a:pt x="586" y="1050"/>
                </a:lnTo>
                <a:lnTo>
                  <a:pt x="558" y="1055"/>
                </a:lnTo>
                <a:lnTo>
                  <a:pt x="528" y="1058"/>
                </a:lnTo>
                <a:lnTo>
                  <a:pt x="500" y="1061"/>
                </a:lnTo>
                <a:lnTo>
                  <a:pt x="471" y="1062"/>
                </a:lnTo>
                <a:lnTo>
                  <a:pt x="442" y="1063"/>
                </a:lnTo>
                <a:lnTo>
                  <a:pt x="414" y="1062"/>
                </a:lnTo>
                <a:lnTo>
                  <a:pt x="385" y="1061"/>
                </a:lnTo>
                <a:lnTo>
                  <a:pt x="355" y="1058"/>
                </a:lnTo>
                <a:lnTo>
                  <a:pt x="327" y="1055"/>
                </a:lnTo>
                <a:lnTo>
                  <a:pt x="298" y="1050"/>
                </a:lnTo>
                <a:lnTo>
                  <a:pt x="270" y="1044"/>
                </a:lnTo>
                <a:lnTo>
                  <a:pt x="242" y="1037"/>
                </a:lnTo>
                <a:lnTo>
                  <a:pt x="214" y="1029"/>
                </a:lnTo>
                <a:lnTo>
                  <a:pt x="186" y="1021"/>
                </a:lnTo>
                <a:lnTo>
                  <a:pt x="158" y="1011"/>
                </a:lnTo>
                <a:lnTo>
                  <a:pt x="131" y="1000"/>
                </a:lnTo>
                <a:lnTo>
                  <a:pt x="104" y="988"/>
                </a:lnTo>
                <a:lnTo>
                  <a:pt x="77" y="975"/>
                </a:lnTo>
                <a:lnTo>
                  <a:pt x="51" y="961"/>
                </a:lnTo>
                <a:lnTo>
                  <a:pt x="26" y="946"/>
                </a:lnTo>
                <a:lnTo>
                  <a:pt x="0" y="930"/>
                </a:lnTo>
                <a:lnTo>
                  <a:pt x="0" y="93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781800" y="2195640"/>
            <a:ext cx="1105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pris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002480" y="2378160"/>
            <a:ext cx="663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064040" y="4776840"/>
            <a:ext cx="1359000" cy="812880"/>
          </a:xfrm>
          <a:custGeom>
            <a:avLst/>
            <a:gdLst/>
            <a:ahLst/>
            <a:rect l="l" t="t" r="r" b="b"/>
            <a:pathLst>
              <a:path w="1711" h="1025">
                <a:moveTo>
                  <a:pt x="0" y="898"/>
                </a:moveTo>
                <a:lnTo>
                  <a:pt x="0" y="0"/>
                </a:lnTo>
                <a:lnTo>
                  <a:pt x="1711" y="0"/>
                </a:lnTo>
                <a:lnTo>
                  <a:pt x="1711" y="898"/>
                </a:lnTo>
                <a:lnTo>
                  <a:pt x="1686" y="881"/>
                </a:lnTo>
                <a:lnTo>
                  <a:pt x="1661" y="867"/>
                </a:lnTo>
                <a:lnTo>
                  <a:pt x="1636" y="853"/>
                </a:lnTo>
                <a:lnTo>
                  <a:pt x="1610" y="840"/>
                </a:lnTo>
                <a:lnTo>
                  <a:pt x="1584" y="830"/>
                </a:lnTo>
                <a:lnTo>
                  <a:pt x="1558" y="819"/>
                </a:lnTo>
                <a:lnTo>
                  <a:pt x="1531" y="809"/>
                </a:lnTo>
                <a:lnTo>
                  <a:pt x="1504" y="801"/>
                </a:lnTo>
                <a:lnTo>
                  <a:pt x="1477" y="794"/>
                </a:lnTo>
                <a:lnTo>
                  <a:pt x="1449" y="787"/>
                </a:lnTo>
                <a:lnTo>
                  <a:pt x="1422" y="781"/>
                </a:lnTo>
                <a:lnTo>
                  <a:pt x="1394" y="777"/>
                </a:lnTo>
                <a:lnTo>
                  <a:pt x="1367" y="774"/>
                </a:lnTo>
                <a:lnTo>
                  <a:pt x="1339" y="770"/>
                </a:lnTo>
                <a:lnTo>
                  <a:pt x="1311" y="769"/>
                </a:lnTo>
                <a:lnTo>
                  <a:pt x="1283" y="769"/>
                </a:lnTo>
                <a:lnTo>
                  <a:pt x="1255" y="769"/>
                </a:lnTo>
                <a:lnTo>
                  <a:pt x="1227" y="770"/>
                </a:lnTo>
                <a:lnTo>
                  <a:pt x="1199" y="774"/>
                </a:lnTo>
                <a:lnTo>
                  <a:pt x="1172" y="777"/>
                </a:lnTo>
                <a:lnTo>
                  <a:pt x="1144" y="781"/>
                </a:lnTo>
                <a:lnTo>
                  <a:pt x="1117" y="787"/>
                </a:lnTo>
                <a:lnTo>
                  <a:pt x="1089" y="794"/>
                </a:lnTo>
                <a:lnTo>
                  <a:pt x="1062" y="801"/>
                </a:lnTo>
                <a:lnTo>
                  <a:pt x="1035" y="809"/>
                </a:lnTo>
                <a:lnTo>
                  <a:pt x="1008" y="819"/>
                </a:lnTo>
                <a:lnTo>
                  <a:pt x="983" y="830"/>
                </a:lnTo>
                <a:lnTo>
                  <a:pt x="956" y="840"/>
                </a:lnTo>
                <a:lnTo>
                  <a:pt x="930" y="853"/>
                </a:lnTo>
                <a:lnTo>
                  <a:pt x="905" y="867"/>
                </a:lnTo>
                <a:lnTo>
                  <a:pt x="880" y="881"/>
                </a:lnTo>
                <a:lnTo>
                  <a:pt x="855" y="898"/>
                </a:lnTo>
                <a:lnTo>
                  <a:pt x="831" y="913"/>
                </a:lnTo>
                <a:lnTo>
                  <a:pt x="806" y="927"/>
                </a:lnTo>
                <a:lnTo>
                  <a:pt x="780" y="941"/>
                </a:lnTo>
                <a:lnTo>
                  <a:pt x="755" y="954"/>
                </a:lnTo>
                <a:lnTo>
                  <a:pt x="729" y="964"/>
                </a:lnTo>
                <a:lnTo>
                  <a:pt x="702" y="975"/>
                </a:lnTo>
                <a:lnTo>
                  <a:pt x="676" y="985"/>
                </a:lnTo>
                <a:lnTo>
                  <a:pt x="649" y="993"/>
                </a:lnTo>
                <a:lnTo>
                  <a:pt x="621" y="1000"/>
                </a:lnTo>
                <a:lnTo>
                  <a:pt x="594" y="1007"/>
                </a:lnTo>
                <a:lnTo>
                  <a:pt x="568" y="1012"/>
                </a:lnTo>
                <a:lnTo>
                  <a:pt x="539" y="1017"/>
                </a:lnTo>
                <a:lnTo>
                  <a:pt x="511" y="1020"/>
                </a:lnTo>
                <a:lnTo>
                  <a:pt x="483" y="1023"/>
                </a:lnTo>
                <a:lnTo>
                  <a:pt x="456" y="1025"/>
                </a:lnTo>
                <a:lnTo>
                  <a:pt x="428" y="1025"/>
                </a:lnTo>
                <a:lnTo>
                  <a:pt x="400" y="1025"/>
                </a:lnTo>
                <a:lnTo>
                  <a:pt x="372" y="1023"/>
                </a:lnTo>
                <a:lnTo>
                  <a:pt x="344" y="1020"/>
                </a:lnTo>
                <a:lnTo>
                  <a:pt x="317" y="1017"/>
                </a:lnTo>
                <a:lnTo>
                  <a:pt x="289" y="1012"/>
                </a:lnTo>
                <a:lnTo>
                  <a:pt x="261" y="1007"/>
                </a:lnTo>
                <a:lnTo>
                  <a:pt x="234" y="1000"/>
                </a:lnTo>
                <a:lnTo>
                  <a:pt x="207" y="993"/>
                </a:lnTo>
                <a:lnTo>
                  <a:pt x="180" y="985"/>
                </a:lnTo>
                <a:lnTo>
                  <a:pt x="154" y="975"/>
                </a:lnTo>
                <a:lnTo>
                  <a:pt x="128" y="964"/>
                </a:lnTo>
                <a:lnTo>
                  <a:pt x="101" y="954"/>
                </a:lnTo>
                <a:lnTo>
                  <a:pt x="75" y="941"/>
                </a:lnTo>
                <a:lnTo>
                  <a:pt x="51" y="927"/>
                </a:lnTo>
                <a:lnTo>
                  <a:pt x="25" y="913"/>
                </a:lnTo>
                <a:lnTo>
                  <a:pt x="0" y="898"/>
                </a:lnTo>
                <a:lnTo>
                  <a:pt x="0" y="89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064040" y="4776840"/>
            <a:ext cx="1359000" cy="812880"/>
          </a:xfrm>
          <a:custGeom>
            <a:avLst/>
            <a:gdLst/>
            <a:ahLst/>
            <a:rect l="l" t="t" r="r" b="b"/>
            <a:pathLst>
              <a:path w="1711" h="1025">
                <a:moveTo>
                  <a:pt x="0" y="898"/>
                </a:moveTo>
                <a:lnTo>
                  <a:pt x="0" y="0"/>
                </a:lnTo>
                <a:lnTo>
                  <a:pt x="1711" y="0"/>
                </a:lnTo>
                <a:lnTo>
                  <a:pt x="1711" y="898"/>
                </a:lnTo>
                <a:lnTo>
                  <a:pt x="1686" y="881"/>
                </a:lnTo>
                <a:lnTo>
                  <a:pt x="1661" y="867"/>
                </a:lnTo>
                <a:lnTo>
                  <a:pt x="1636" y="853"/>
                </a:lnTo>
                <a:lnTo>
                  <a:pt x="1610" y="840"/>
                </a:lnTo>
                <a:lnTo>
                  <a:pt x="1584" y="830"/>
                </a:lnTo>
                <a:lnTo>
                  <a:pt x="1558" y="819"/>
                </a:lnTo>
                <a:lnTo>
                  <a:pt x="1531" y="809"/>
                </a:lnTo>
                <a:lnTo>
                  <a:pt x="1504" y="801"/>
                </a:lnTo>
                <a:lnTo>
                  <a:pt x="1477" y="794"/>
                </a:lnTo>
                <a:lnTo>
                  <a:pt x="1449" y="787"/>
                </a:lnTo>
                <a:lnTo>
                  <a:pt x="1422" y="781"/>
                </a:lnTo>
                <a:lnTo>
                  <a:pt x="1394" y="777"/>
                </a:lnTo>
                <a:lnTo>
                  <a:pt x="1367" y="774"/>
                </a:lnTo>
                <a:lnTo>
                  <a:pt x="1339" y="770"/>
                </a:lnTo>
                <a:lnTo>
                  <a:pt x="1311" y="769"/>
                </a:lnTo>
                <a:lnTo>
                  <a:pt x="1283" y="769"/>
                </a:lnTo>
                <a:lnTo>
                  <a:pt x="1255" y="769"/>
                </a:lnTo>
                <a:lnTo>
                  <a:pt x="1227" y="770"/>
                </a:lnTo>
                <a:lnTo>
                  <a:pt x="1199" y="774"/>
                </a:lnTo>
                <a:lnTo>
                  <a:pt x="1172" y="777"/>
                </a:lnTo>
                <a:lnTo>
                  <a:pt x="1144" y="781"/>
                </a:lnTo>
                <a:lnTo>
                  <a:pt x="1117" y="787"/>
                </a:lnTo>
                <a:lnTo>
                  <a:pt x="1089" y="794"/>
                </a:lnTo>
                <a:lnTo>
                  <a:pt x="1062" y="801"/>
                </a:lnTo>
                <a:lnTo>
                  <a:pt x="1035" y="809"/>
                </a:lnTo>
                <a:lnTo>
                  <a:pt x="1008" y="819"/>
                </a:lnTo>
                <a:lnTo>
                  <a:pt x="983" y="830"/>
                </a:lnTo>
                <a:lnTo>
                  <a:pt x="956" y="840"/>
                </a:lnTo>
                <a:lnTo>
                  <a:pt x="930" y="853"/>
                </a:lnTo>
                <a:lnTo>
                  <a:pt x="905" y="867"/>
                </a:lnTo>
                <a:lnTo>
                  <a:pt x="880" y="881"/>
                </a:lnTo>
                <a:lnTo>
                  <a:pt x="855" y="898"/>
                </a:lnTo>
                <a:lnTo>
                  <a:pt x="831" y="913"/>
                </a:lnTo>
                <a:lnTo>
                  <a:pt x="806" y="927"/>
                </a:lnTo>
                <a:lnTo>
                  <a:pt x="780" y="941"/>
                </a:lnTo>
                <a:lnTo>
                  <a:pt x="755" y="954"/>
                </a:lnTo>
                <a:lnTo>
                  <a:pt x="729" y="964"/>
                </a:lnTo>
                <a:lnTo>
                  <a:pt x="702" y="975"/>
                </a:lnTo>
                <a:lnTo>
                  <a:pt x="676" y="985"/>
                </a:lnTo>
                <a:lnTo>
                  <a:pt x="649" y="993"/>
                </a:lnTo>
                <a:lnTo>
                  <a:pt x="621" y="1000"/>
                </a:lnTo>
                <a:lnTo>
                  <a:pt x="594" y="1007"/>
                </a:lnTo>
                <a:lnTo>
                  <a:pt x="568" y="1012"/>
                </a:lnTo>
                <a:lnTo>
                  <a:pt x="539" y="1017"/>
                </a:lnTo>
                <a:lnTo>
                  <a:pt x="511" y="1020"/>
                </a:lnTo>
                <a:lnTo>
                  <a:pt x="483" y="1023"/>
                </a:lnTo>
                <a:lnTo>
                  <a:pt x="456" y="1025"/>
                </a:lnTo>
                <a:lnTo>
                  <a:pt x="428" y="1025"/>
                </a:lnTo>
                <a:lnTo>
                  <a:pt x="400" y="1025"/>
                </a:lnTo>
                <a:lnTo>
                  <a:pt x="372" y="1023"/>
                </a:lnTo>
                <a:lnTo>
                  <a:pt x="344" y="1020"/>
                </a:lnTo>
                <a:lnTo>
                  <a:pt x="317" y="1017"/>
                </a:lnTo>
                <a:lnTo>
                  <a:pt x="289" y="1012"/>
                </a:lnTo>
                <a:lnTo>
                  <a:pt x="261" y="1007"/>
                </a:lnTo>
                <a:lnTo>
                  <a:pt x="234" y="1000"/>
                </a:lnTo>
                <a:lnTo>
                  <a:pt x="207" y="993"/>
                </a:lnTo>
                <a:lnTo>
                  <a:pt x="180" y="985"/>
                </a:lnTo>
                <a:lnTo>
                  <a:pt x="154" y="975"/>
                </a:lnTo>
                <a:lnTo>
                  <a:pt x="128" y="964"/>
                </a:lnTo>
                <a:lnTo>
                  <a:pt x="101" y="954"/>
                </a:lnTo>
                <a:lnTo>
                  <a:pt x="75" y="941"/>
                </a:lnTo>
                <a:lnTo>
                  <a:pt x="51" y="927"/>
                </a:lnTo>
                <a:lnTo>
                  <a:pt x="25" y="913"/>
                </a:lnTo>
                <a:lnTo>
                  <a:pt x="0" y="898"/>
                </a:lnTo>
                <a:lnTo>
                  <a:pt x="0" y="898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35440" y="5003640"/>
            <a:ext cx="1357200" cy="816120"/>
          </a:xfrm>
          <a:custGeom>
            <a:avLst/>
            <a:gdLst/>
            <a:ahLst/>
            <a:rect l="l" t="t" r="r" b="b"/>
            <a:pathLst>
              <a:path w="1709" h="1026">
                <a:moveTo>
                  <a:pt x="0" y="898"/>
                </a:moveTo>
                <a:lnTo>
                  <a:pt x="0" y="0"/>
                </a:lnTo>
                <a:lnTo>
                  <a:pt x="1709" y="0"/>
                </a:lnTo>
                <a:lnTo>
                  <a:pt x="1709" y="898"/>
                </a:lnTo>
                <a:lnTo>
                  <a:pt x="1685" y="883"/>
                </a:lnTo>
                <a:lnTo>
                  <a:pt x="1660" y="868"/>
                </a:lnTo>
                <a:lnTo>
                  <a:pt x="1634" y="855"/>
                </a:lnTo>
                <a:lnTo>
                  <a:pt x="1609" y="842"/>
                </a:lnTo>
                <a:lnTo>
                  <a:pt x="1583" y="830"/>
                </a:lnTo>
                <a:lnTo>
                  <a:pt x="1556" y="820"/>
                </a:lnTo>
                <a:lnTo>
                  <a:pt x="1530" y="810"/>
                </a:lnTo>
                <a:lnTo>
                  <a:pt x="1503" y="802"/>
                </a:lnTo>
                <a:lnTo>
                  <a:pt x="1475" y="794"/>
                </a:lnTo>
                <a:lnTo>
                  <a:pt x="1448" y="788"/>
                </a:lnTo>
                <a:lnTo>
                  <a:pt x="1422" y="782"/>
                </a:lnTo>
                <a:lnTo>
                  <a:pt x="1394" y="778"/>
                </a:lnTo>
                <a:lnTo>
                  <a:pt x="1365" y="774"/>
                </a:lnTo>
                <a:lnTo>
                  <a:pt x="1337" y="772"/>
                </a:lnTo>
                <a:lnTo>
                  <a:pt x="1311" y="771"/>
                </a:lnTo>
                <a:lnTo>
                  <a:pt x="1282" y="769"/>
                </a:lnTo>
                <a:lnTo>
                  <a:pt x="1254" y="771"/>
                </a:lnTo>
                <a:lnTo>
                  <a:pt x="1226" y="772"/>
                </a:lnTo>
                <a:lnTo>
                  <a:pt x="1198" y="774"/>
                </a:lnTo>
                <a:lnTo>
                  <a:pt x="1170" y="778"/>
                </a:lnTo>
                <a:lnTo>
                  <a:pt x="1143" y="782"/>
                </a:lnTo>
                <a:lnTo>
                  <a:pt x="1115" y="788"/>
                </a:lnTo>
                <a:lnTo>
                  <a:pt x="1088" y="794"/>
                </a:lnTo>
                <a:lnTo>
                  <a:pt x="1061" y="802"/>
                </a:lnTo>
                <a:lnTo>
                  <a:pt x="1035" y="810"/>
                </a:lnTo>
                <a:lnTo>
                  <a:pt x="1008" y="820"/>
                </a:lnTo>
                <a:lnTo>
                  <a:pt x="981" y="830"/>
                </a:lnTo>
                <a:lnTo>
                  <a:pt x="955" y="842"/>
                </a:lnTo>
                <a:lnTo>
                  <a:pt x="929" y="855"/>
                </a:lnTo>
                <a:lnTo>
                  <a:pt x="904" y="868"/>
                </a:lnTo>
                <a:lnTo>
                  <a:pt x="879" y="883"/>
                </a:lnTo>
                <a:lnTo>
                  <a:pt x="855" y="898"/>
                </a:lnTo>
                <a:lnTo>
                  <a:pt x="830" y="913"/>
                </a:lnTo>
                <a:lnTo>
                  <a:pt x="805" y="928"/>
                </a:lnTo>
                <a:lnTo>
                  <a:pt x="780" y="941"/>
                </a:lnTo>
                <a:lnTo>
                  <a:pt x="754" y="954"/>
                </a:lnTo>
                <a:lnTo>
                  <a:pt x="728" y="966"/>
                </a:lnTo>
                <a:lnTo>
                  <a:pt x="701" y="976"/>
                </a:lnTo>
                <a:lnTo>
                  <a:pt x="674" y="986"/>
                </a:lnTo>
                <a:lnTo>
                  <a:pt x="648" y="994"/>
                </a:lnTo>
                <a:lnTo>
                  <a:pt x="621" y="1002"/>
                </a:lnTo>
                <a:lnTo>
                  <a:pt x="594" y="1008"/>
                </a:lnTo>
                <a:lnTo>
                  <a:pt x="566" y="1014"/>
                </a:lnTo>
                <a:lnTo>
                  <a:pt x="539" y="1018"/>
                </a:lnTo>
                <a:lnTo>
                  <a:pt x="511" y="1022"/>
                </a:lnTo>
                <a:lnTo>
                  <a:pt x="483" y="1024"/>
                </a:lnTo>
                <a:lnTo>
                  <a:pt x="455" y="1025"/>
                </a:lnTo>
                <a:lnTo>
                  <a:pt x="428" y="1026"/>
                </a:lnTo>
                <a:lnTo>
                  <a:pt x="400" y="1025"/>
                </a:lnTo>
                <a:lnTo>
                  <a:pt x="372" y="1024"/>
                </a:lnTo>
                <a:lnTo>
                  <a:pt x="344" y="1022"/>
                </a:lnTo>
                <a:lnTo>
                  <a:pt x="315" y="1018"/>
                </a:lnTo>
                <a:lnTo>
                  <a:pt x="289" y="1014"/>
                </a:lnTo>
                <a:lnTo>
                  <a:pt x="261" y="1008"/>
                </a:lnTo>
                <a:lnTo>
                  <a:pt x="234" y="1002"/>
                </a:lnTo>
                <a:lnTo>
                  <a:pt x="207" y="994"/>
                </a:lnTo>
                <a:lnTo>
                  <a:pt x="180" y="986"/>
                </a:lnTo>
                <a:lnTo>
                  <a:pt x="153" y="976"/>
                </a:lnTo>
                <a:lnTo>
                  <a:pt x="126" y="966"/>
                </a:lnTo>
                <a:lnTo>
                  <a:pt x="100" y="954"/>
                </a:lnTo>
                <a:lnTo>
                  <a:pt x="75" y="941"/>
                </a:lnTo>
                <a:lnTo>
                  <a:pt x="49" y="928"/>
                </a:lnTo>
                <a:lnTo>
                  <a:pt x="24" y="913"/>
                </a:lnTo>
                <a:lnTo>
                  <a:pt x="0" y="898"/>
                </a:lnTo>
                <a:lnTo>
                  <a:pt x="0" y="89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35440" y="5003640"/>
            <a:ext cx="1357200" cy="816120"/>
          </a:xfrm>
          <a:custGeom>
            <a:avLst/>
            <a:gdLst/>
            <a:ahLst/>
            <a:rect l="l" t="t" r="r" b="b"/>
            <a:pathLst>
              <a:path w="1709" h="1026">
                <a:moveTo>
                  <a:pt x="0" y="898"/>
                </a:moveTo>
                <a:lnTo>
                  <a:pt x="0" y="0"/>
                </a:lnTo>
                <a:lnTo>
                  <a:pt x="1709" y="0"/>
                </a:lnTo>
                <a:lnTo>
                  <a:pt x="1709" y="898"/>
                </a:lnTo>
                <a:lnTo>
                  <a:pt x="1685" y="883"/>
                </a:lnTo>
                <a:lnTo>
                  <a:pt x="1660" y="868"/>
                </a:lnTo>
                <a:lnTo>
                  <a:pt x="1634" y="855"/>
                </a:lnTo>
                <a:lnTo>
                  <a:pt x="1609" y="842"/>
                </a:lnTo>
                <a:lnTo>
                  <a:pt x="1583" y="830"/>
                </a:lnTo>
                <a:lnTo>
                  <a:pt x="1556" y="820"/>
                </a:lnTo>
                <a:lnTo>
                  <a:pt x="1530" y="810"/>
                </a:lnTo>
                <a:lnTo>
                  <a:pt x="1503" y="802"/>
                </a:lnTo>
                <a:lnTo>
                  <a:pt x="1475" y="794"/>
                </a:lnTo>
                <a:lnTo>
                  <a:pt x="1448" y="788"/>
                </a:lnTo>
                <a:lnTo>
                  <a:pt x="1422" y="782"/>
                </a:lnTo>
                <a:lnTo>
                  <a:pt x="1394" y="778"/>
                </a:lnTo>
                <a:lnTo>
                  <a:pt x="1365" y="774"/>
                </a:lnTo>
                <a:lnTo>
                  <a:pt x="1337" y="772"/>
                </a:lnTo>
                <a:lnTo>
                  <a:pt x="1311" y="771"/>
                </a:lnTo>
                <a:lnTo>
                  <a:pt x="1282" y="769"/>
                </a:lnTo>
                <a:lnTo>
                  <a:pt x="1254" y="771"/>
                </a:lnTo>
                <a:lnTo>
                  <a:pt x="1226" y="772"/>
                </a:lnTo>
                <a:lnTo>
                  <a:pt x="1198" y="774"/>
                </a:lnTo>
                <a:lnTo>
                  <a:pt x="1170" y="778"/>
                </a:lnTo>
                <a:lnTo>
                  <a:pt x="1143" y="782"/>
                </a:lnTo>
                <a:lnTo>
                  <a:pt x="1115" y="788"/>
                </a:lnTo>
                <a:lnTo>
                  <a:pt x="1088" y="794"/>
                </a:lnTo>
                <a:lnTo>
                  <a:pt x="1061" y="802"/>
                </a:lnTo>
                <a:lnTo>
                  <a:pt x="1035" y="810"/>
                </a:lnTo>
                <a:lnTo>
                  <a:pt x="1008" y="820"/>
                </a:lnTo>
                <a:lnTo>
                  <a:pt x="981" y="830"/>
                </a:lnTo>
                <a:lnTo>
                  <a:pt x="955" y="842"/>
                </a:lnTo>
                <a:lnTo>
                  <a:pt x="929" y="855"/>
                </a:lnTo>
                <a:lnTo>
                  <a:pt x="904" y="868"/>
                </a:lnTo>
                <a:lnTo>
                  <a:pt x="879" y="883"/>
                </a:lnTo>
                <a:lnTo>
                  <a:pt x="855" y="898"/>
                </a:lnTo>
                <a:lnTo>
                  <a:pt x="830" y="913"/>
                </a:lnTo>
                <a:lnTo>
                  <a:pt x="805" y="928"/>
                </a:lnTo>
                <a:lnTo>
                  <a:pt x="780" y="941"/>
                </a:lnTo>
                <a:lnTo>
                  <a:pt x="754" y="954"/>
                </a:lnTo>
                <a:lnTo>
                  <a:pt x="728" y="966"/>
                </a:lnTo>
                <a:lnTo>
                  <a:pt x="701" y="976"/>
                </a:lnTo>
                <a:lnTo>
                  <a:pt x="674" y="986"/>
                </a:lnTo>
                <a:lnTo>
                  <a:pt x="648" y="994"/>
                </a:lnTo>
                <a:lnTo>
                  <a:pt x="621" y="1002"/>
                </a:lnTo>
                <a:lnTo>
                  <a:pt x="594" y="1008"/>
                </a:lnTo>
                <a:lnTo>
                  <a:pt x="566" y="1014"/>
                </a:lnTo>
                <a:lnTo>
                  <a:pt x="539" y="1018"/>
                </a:lnTo>
                <a:lnTo>
                  <a:pt x="511" y="1022"/>
                </a:lnTo>
                <a:lnTo>
                  <a:pt x="483" y="1024"/>
                </a:lnTo>
                <a:lnTo>
                  <a:pt x="455" y="1025"/>
                </a:lnTo>
                <a:lnTo>
                  <a:pt x="428" y="1026"/>
                </a:lnTo>
                <a:lnTo>
                  <a:pt x="400" y="1025"/>
                </a:lnTo>
                <a:lnTo>
                  <a:pt x="372" y="1024"/>
                </a:lnTo>
                <a:lnTo>
                  <a:pt x="344" y="1022"/>
                </a:lnTo>
                <a:lnTo>
                  <a:pt x="315" y="1018"/>
                </a:lnTo>
                <a:lnTo>
                  <a:pt x="289" y="1014"/>
                </a:lnTo>
                <a:lnTo>
                  <a:pt x="261" y="1008"/>
                </a:lnTo>
                <a:lnTo>
                  <a:pt x="234" y="1002"/>
                </a:lnTo>
                <a:lnTo>
                  <a:pt x="207" y="994"/>
                </a:lnTo>
                <a:lnTo>
                  <a:pt x="180" y="986"/>
                </a:lnTo>
                <a:lnTo>
                  <a:pt x="153" y="976"/>
                </a:lnTo>
                <a:lnTo>
                  <a:pt x="126" y="966"/>
                </a:lnTo>
                <a:lnTo>
                  <a:pt x="100" y="954"/>
                </a:lnTo>
                <a:lnTo>
                  <a:pt x="75" y="941"/>
                </a:lnTo>
                <a:lnTo>
                  <a:pt x="49" y="928"/>
                </a:lnTo>
                <a:lnTo>
                  <a:pt x="24" y="913"/>
                </a:lnTo>
                <a:lnTo>
                  <a:pt x="0" y="898"/>
                </a:lnTo>
                <a:lnTo>
                  <a:pt x="0" y="898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08280" y="5234040"/>
            <a:ext cx="1355760" cy="812880"/>
          </a:xfrm>
          <a:custGeom>
            <a:avLst/>
            <a:gdLst/>
            <a:ahLst/>
            <a:rect l="l" t="t" r="r" b="b"/>
            <a:pathLst>
              <a:path w="1710" h="1026">
                <a:moveTo>
                  <a:pt x="0" y="898"/>
                </a:moveTo>
                <a:lnTo>
                  <a:pt x="0" y="0"/>
                </a:lnTo>
                <a:lnTo>
                  <a:pt x="1710" y="0"/>
                </a:lnTo>
                <a:lnTo>
                  <a:pt x="1710" y="898"/>
                </a:lnTo>
                <a:lnTo>
                  <a:pt x="1685" y="882"/>
                </a:lnTo>
                <a:lnTo>
                  <a:pt x="1660" y="868"/>
                </a:lnTo>
                <a:lnTo>
                  <a:pt x="1635" y="854"/>
                </a:lnTo>
                <a:lnTo>
                  <a:pt x="1609" y="842"/>
                </a:lnTo>
                <a:lnTo>
                  <a:pt x="1583" y="831"/>
                </a:lnTo>
                <a:lnTo>
                  <a:pt x="1556" y="820"/>
                </a:lnTo>
                <a:lnTo>
                  <a:pt x="1530" y="811"/>
                </a:lnTo>
                <a:lnTo>
                  <a:pt x="1503" y="801"/>
                </a:lnTo>
                <a:lnTo>
                  <a:pt x="1476" y="794"/>
                </a:lnTo>
                <a:lnTo>
                  <a:pt x="1449" y="787"/>
                </a:lnTo>
                <a:lnTo>
                  <a:pt x="1421" y="783"/>
                </a:lnTo>
                <a:lnTo>
                  <a:pt x="1394" y="778"/>
                </a:lnTo>
                <a:lnTo>
                  <a:pt x="1366" y="775"/>
                </a:lnTo>
                <a:lnTo>
                  <a:pt x="1338" y="772"/>
                </a:lnTo>
                <a:lnTo>
                  <a:pt x="1310" y="770"/>
                </a:lnTo>
                <a:lnTo>
                  <a:pt x="1282" y="770"/>
                </a:lnTo>
                <a:lnTo>
                  <a:pt x="1254" y="770"/>
                </a:lnTo>
                <a:lnTo>
                  <a:pt x="1227" y="772"/>
                </a:lnTo>
                <a:lnTo>
                  <a:pt x="1199" y="775"/>
                </a:lnTo>
                <a:lnTo>
                  <a:pt x="1171" y="778"/>
                </a:lnTo>
                <a:lnTo>
                  <a:pt x="1143" y="783"/>
                </a:lnTo>
                <a:lnTo>
                  <a:pt x="1116" y="787"/>
                </a:lnTo>
                <a:lnTo>
                  <a:pt x="1089" y="794"/>
                </a:lnTo>
                <a:lnTo>
                  <a:pt x="1061" y="801"/>
                </a:lnTo>
                <a:lnTo>
                  <a:pt x="1034" y="811"/>
                </a:lnTo>
                <a:lnTo>
                  <a:pt x="1008" y="820"/>
                </a:lnTo>
                <a:lnTo>
                  <a:pt x="981" y="831"/>
                </a:lnTo>
                <a:lnTo>
                  <a:pt x="955" y="842"/>
                </a:lnTo>
                <a:lnTo>
                  <a:pt x="930" y="854"/>
                </a:lnTo>
                <a:lnTo>
                  <a:pt x="904" y="868"/>
                </a:lnTo>
                <a:lnTo>
                  <a:pt x="879" y="882"/>
                </a:lnTo>
                <a:lnTo>
                  <a:pt x="855" y="898"/>
                </a:lnTo>
                <a:lnTo>
                  <a:pt x="830" y="914"/>
                </a:lnTo>
                <a:lnTo>
                  <a:pt x="805" y="928"/>
                </a:lnTo>
                <a:lnTo>
                  <a:pt x="780" y="942"/>
                </a:lnTo>
                <a:lnTo>
                  <a:pt x="754" y="954"/>
                </a:lnTo>
                <a:lnTo>
                  <a:pt x="727" y="965"/>
                </a:lnTo>
                <a:lnTo>
                  <a:pt x="702" y="975"/>
                </a:lnTo>
                <a:lnTo>
                  <a:pt x="675" y="986"/>
                </a:lnTo>
                <a:lnTo>
                  <a:pt x="648" y="994"/>
                </a:lnTo>
                <a:lnTo>
                  <a:pt x="621" y="1001"/>
                </a:lnTo>
                <a:lnTo>
                  <a:pt x="594" y="1008"/>
                </a:lnTo>
                <a:lnTo>
                  <a:pt x="566" y="1014"/>
                </a:lnTo>
                <a:lnTo>
                  <a:pt x="538" y="1019"/>
                </a:lnTo>
                <a:lnTo>
                  <a:pt x="511" y="1022"/>
                </a:lnTo>
                <a:lnTo>
                  <a:pt x="483" y="1024"/>
                </a:lnTo>
                <a:lnTo>
                  <a:pt x="455" y="1026"/>
                </a:lnTo>
                <a:lnTo>
                  <a:pt x="427" y="1026"/>
                </a:lnTo>
                <a:lnTo>
                  <a:pt x="399" y="1026"/>
                </a:lnTo>
                <a:lnTo>
                  <a:pt x="371" y="1024"/>
                </a:lnTo>
                <a:lnTo>
                  <a:pt x="344" y="1022"/>
                </a:lnTo>
                <a:lnTo>
                  <a:pt x="316" y="1019"/>
                </a:lnTo>
                <a:lnTo>
                  <a:pt x="288" y="1014"/>
                </a:lnTo>
                <a:lnTo>
                  <a:pt x="261" y="1008"/>
                </a:lnTo>
                <a:lnTo>
                  <a:pt x="233" y="1001"/>
                </a:lnTo>
                <a:lnTo>
                  <a:pt x="206" y="994"/>
                </a:lnTo>
                <a:lnTo>
                  <a:pt x="179" y="986"/>
                </a:lnTo>
                <a:lnTo>
                  <a:pt x="152" y="975"/>
                </a:lnTo>
                <a:lnTo>
                  <a:pt x="126" y="965"/>
                </a:lnTo>
                <a:lnTo>
                  <a:pt x="101" y="954"/>
                </a:lnTo>
                <a:lnTo>
                  <a:pt x="75" y="942"/>
                </a:lnTo>
                <a:lnTo>
                  <a:pt x="49" y="928"/>
                </a:lnTo>
                <a:lnTo>
                  <a:pt x="24" y="914"/>
                </a:lnTo>
                <a:lnTo>
                  <a:pt x="0" y="898"/>
                </a:lnTo>
                <a:lnTo>
                  <a:pt x="0" y="89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08280" y="5234040"/>
            <a:ext cx="1355760" cy="812880"/>
          </a:xfrm>
          <a:custGeom>
            <a:avLst/>
            <a:gdLst/>
            <a:ahLst/>
            <a:rect l="l" t="t" r="r" b="b"/>
            <a:pathLst>
              <a:path w="1710" h="1026">
                <a:moveTo>
                  <a:pt x="0" y="898"/>
                </a:moveTo>
                <a:lnTo>
                  <a:pt x="0" y="0"/>
                </a:lnTo>
                <a:lnTo>
                  <a:pt x="1710" y="0"/>
                </a:lnTo>
                <a:lnTo>
                  <a:pt x="1710" y="898"/>
                </a:lnTo>
                <a:lnTo>
                  <a:pt x="1685" y="882"/>
                </a:lnTo>
                <a:lnTo>
                  <a:pt x="1660" y="868"/>
                </a:lnTo>
                <a:lnTo>
                  <a:pt x="1635" y="854"/>
                </a:lnTo>
                <a:lnTo>
                  <a:pt x="1609" y="842"/>
                </a:lnTo>
                <a:lnTo>
                  <a:pt x="1583" y="831"/>
                </a:lnTo>
                <a:lnTo>
                  <a:pt x="1556" y="820"/>
                </a:lnTo>
                <a:lnTo>
                  <a:pt x="1530" y="811"/>
                </a:lnTo>
                <a:lnTo>
                  <a:pt x="1503" y="801"/>
                </a:lnTo>
                <a:lnTo>
                  <a:pt x="1476" y="794"/>
                </a:lnTo>
                <a:lnTo>
                  <a:pt x="1449" y="787"/>
                </a:lnTo>
                <a:lnTo>
                  <a:pt x="1421" y="783"/>
                </a:lnTo>
                <a:lnTo>
                  <a:pt x="1394" y="778"/>
                </a:lnTo>
                <a:lnTo>
                  <a:pt x="1366" y="775"/>
                </a:lnTo>
                <a:lnTo>
                  <a:pt x="1338" y="772"/>
                </a:lnTo>
                <a:lnTo>
                  <a:pt x="1310" y="770"/>
                </a:lnTo>
                <a:lnTo>
                  <a:pt x="1282" y="770"/>
                </a:lnTo>
                <a:lnTo>
                  <a:pt x="1254" y="770"/>
                </a:lnTo>
                <a:lnTo>
                  <a:pt x="1227" y="772"/>
                </a:lnTo>
                <a:lnTo>
                  <a:pt x="1199" y="775"/>
                </a:lnTo>
                <a:lnTo>
                  <a:pt x="1171" y="778"/>
                </a:lnTo>
                <a:lnTo>
                  <a:pt x="1143" y="783"/>
                </a:lnTo>
                <a:lnTo>
                  <a:pt x="1116" y="787"/>
                </a:lnTo>
                <a:lnTo>
                  <a:pt x="1089" y="794"/>
                </a:lnTo>
                <a:lnTo>
                  <a:pt x="1061" y="801"/>
                </a:lnTo>
                <a:lnTo>
                  <a:pt x="1034" y="811"/>
                </a:lnTo>
                <a:lnTo>
                  <a:pt x="1008" y="820"/>
                </a:lnTo>
                <a:lnTo>
                  <a:pt x="981" y="831"/>
                </a:lnTo>
                <a:lnTo>
                  <a:pt x="955" y="842"/>
                </a:lnTo>
                <a:lnTo>
                  <a:pt x="930" y="854"/>
                </a:lnTo>
                <a:lnTo>
                  <a:pt x="904" y="868"/>
                </a:lnTo>
                <a:lnTo>
                  <a:pt x="879" y="882"/>
                </a:lnTo>
                <a:lnTo>
                  <a:pt x="855" y="898"/>
                </a:lnTo>
                <a:lnTo>
                  <a:pt x="830" y="914"/>
                </a:lnTo>
                <a:lnTo>
                  <a:pt x="805" y="928"/>
                </a:lnTo>
                <a:lnTo>
                  <a:pt x="780" y="942"/>
                </a:lnTo>
                <a:lnTo>
                  <a:pt x="754" y="954"/>
                </a:lnTo>
                <a:lnTo>
                  <a:pt x="727" y="965"/>
                </a:lnTo>
                <a:lnTo>
                  <a:pt x="702" y="975"/>
                </a:lnTo>
                <a:lnTo>
                  <a:pt x="675" y="986"/>
                </a:lnTo>
                <a:lnTo>
                  <a:pt x="648" y="994"/>
                </a:lnTo>
                <a:lnTo>
                  <a:pt x="621" y="1001"/>
                </a:lnTo>
                <a:lnTo>
                  <a:pt x="594" y="1008"/>
                </a:lnTo>
                <a:lnTo>
                  <a:pt x="566" y="1014"/>
                </a:lnTo>
                <a:lnTo>
                  <a:pt x="538" y="1019"/>
                </a:lnTo>
                <a:lnTo>
                  <a:pt x="511" y="1022"/>
                </a:lnTo>
                <a:lnTo>
                  <a:pt x="483" y="1024"/>
                </a:lnTo>
                <a:lnTo>
                  <a:pt x="455" y="1026"/>
                </a:lnTo>
                <a:lnTo>
                  <a:pt x="427" y="1026"/>
                </a:lnTo>
                <a:lnTo>
                  <a:pt x="399" y="1026"/>
                </a:lnTo>
                <a:lnTo>
                  <a:pt x="371" y="1024"/>
                </a:lnTo>
                <a:lnTo>
                  <a:pt x="344" y="1022"/>
                </a:lnTo>
                <a:lnTo>
                  <a:pt x="316" y="1019"/>
                </a:lnTo>
                <a:lnTo>
                  <a:pt x="288" y="1014"/>
                </a:lnTo>
                <a:lnTo>
                  <a:pt x="261" y="1008"/>
                </a:lnTo>
                <a:lnTo>
                  <a:pt x="233" y="1001"/>
                </a:lnTo>
                <a:lnTo>
                  <a:pt x="206" y="994"/>
                </a:lnTo>
                <a:lnTo>
                  <a:pt x="179" y="986"/>
                </a:lnTo>
                <a:lnTo>
                  <a:pt x="152" y="975"/>
                </a:lnTo>
                <a:lnTo>
                  <a:pt x="126" y="965"/>
                </a:lnTo>
                <a:lnTo>
                  <a:pt x="101" y="954"/>
                </a:lnTo>
                <a:lnTo>
                  <a:pt x="75" y="942"/>
                </a:lnTo>
                <a:lnTo>
                  <a:pt x="49" y="928"/>
                </a:lnTo>
                <a:lnTo>
                  <a:pt x="24" y="914"/>
                </a:lnTo>
                <a:lnTo>
                  <a:pt x="0" y="898"/>
                </a:lnTo>
                <a:lnTo>
                  <a:pt x="0" y="898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76480" y="5356080"/>
            <a:ext cx="884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86640" y="5538960"/>
            <a:ext cx="663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85840" y="1996920"/>
            <a:ext cx="1942920" cy="9716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5840" y="1996920"/>
            <a:ext cx="1942920" cy="9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7800" y="2021040"/>
            <a:ext cx="1897200" cy="925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20520" y="2209680"/>
            <a:ext cx="739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62080" y="239220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42760" y="2576520"/>
            <a:ext cx="89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k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2760" y="3713040"/>
            <a:ext cx="1549080" cy="773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82760" y="3713040"/>
            <a:ext cx="1549080" cy="77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4720" y="3735360"/>
            <a:ext cx="1503360" cy="72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22320" y="4159080"/>
            <a:ext cx="6699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73280" y="4003560"/>
            <a:ext cx="1001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PO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42880" y="5283360"/>
            <a:ext cx="1428840" cy="714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2880" y="5283360"/>
            <a:ext cx="1428840" cy="71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9240" y="5367240"/>
            <a:ext cx="1241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 Manager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27920" y="5549760"/>
            <a:ext cx="1123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Lead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00" y="5732640"/>
            <a:ext cx="111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cal Le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71720" y="5240160"/>
            <a:ext cx="1636560" cy="800280"/>
          </a:xfrm>
          <a:custGeom>
            <a:avLst/>
            <a:gdLst/>
            <a:ahLst/>
            <a:rect l="l" t="t" r="r" b="b"/>
            <a:pathLst>
              <a:path w="2061" h="1007">
                <a:moveTo>
                  <a:pt x="0" y="503"/>
                </a:moveTo>
                <a:lnTo>
                  <a:pt x="504" y="1007"/>
                </a:lnTo>
                <a:lnTo>
                  <a:pt x="504" y="675"/>
                </a:lnTo>
                <a:lnTo>
                  <a:pt x="2061" y="675"/>
                </a:lnTo>
                <a:lnTo>
                  <a:pt x="2061" y="333"/>
                </a:lnTo>
                <a:lnTo>
                  <a:pt x="504" y="333"/>
                </a:lnTo>
                <a:lnTo>
                  <a:pt x="504" y="0"/>
                </a:lnTo>
                <a:lnTo>
                  <a:pt x="0" y="503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971720" y="5240160"/>
            <a:ext cx="1636560" cy="800280"/>
          </a:xfrm>
          <a:custGeom>
            <a:avLst/>
            <a:gdLst/>
            <a:ahLst/>
            <a:rect l="l" t="t" r="r" b="b"/>
            <a:pathLst>
              <a:path w="2061" h="1007">
                <a:moveTo>
                  <a:pt x="0" y="503"/>
                </a:moveTo>
                <a:lnTo>
                  <a:pt x="504" y="1007"/>
                </a:lnTo>
                <a:lnTo>
                  <a:pt x="504" y="675"/>
                </a:lnTo>
                <a:lnTo>
                  <a:pt x="2061" y="675"/>
                </a:lnTo>
                <a:lnTo>
                  <a:pt x="2061" y="333"/>
                </a:lnTo>
                <a:lnTo>
                  <a:pt x="504" y="333"/>
                </a:lnTo>
                <a:lnTo>
                  <a:pt x="504" y="0"/>
                </a:lnTo>
                <a:lnTo>
                  <a:pt x="0" y="503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55200" y="5504040"/>
            <a:ext cx="717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ject Stat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313360" y="5641920"/>
            <a:ext cx="995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nagement Deta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28760" y="2085840"/>
            <a:ext cx="1371600" cy="793800"/>
          </a:xfrm>
          <a:custGeom>
            <a:avLst/>
            <a:gdLst/>
            <a:ahLst/>
            <a:rect l="l" t="t" r="r" b="b"/>
            <a:pathLst>
              <a:path w="1728" h="1000">
                <a:moveTo>
                  <a:pt x="0" y="500"/>
                </a:moveTo>
                <a:lnTo>
                  <a:pt x="499" y="1000"/>
                </a:lnTo>
                <a:lnTo>
                  <a:pt x="499" y="669"/>
                </a:lnTo>
                <a:lnTo>
                  <a:pt x="1728" y="669"/>
                </a:lnTo>
                <a:lnTo>
                  <a:pt x="1728" y="330"/>
                </a:lnTo>
                <a:lnTo>
                  <a:pt x="499" y="330"/>
                </a:lnTo>
                <a:lnTo>
                  <a:pt x="499" y="0"/>
                </a:lnTo>
                <a:lnTo>
                  <a:pt x="0" y="500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228760" y="2085840"/>
            <a:ext cx="1371600" cy="793800"/>
          </a:xfrm>
          <a:custGeom>
            <a:avLst/>
            <a:gdLst/>
            <a:ahLst/>
            <a:rect l="l" t="t" r="r" b="b"/>
            <a:pathLst>
              <a:path w="1728" h="1000">
                <a:moveTo>
                  <a:pt x="0" y="500"/>
                </a:moveTo>
                <a:lnTo>
                  <a:pt x="499" y="1000"/>
                </a:lnTo>
                <a:lnTo>
                  <a:pt x="499" y="669"/>
                </a:lnTo>
                <a:lnTo>
                  <a:pt x="1728" y="669"/>
                </a:lnTo>
                <a:lnTo>
                  <a:pt x="1728" y="330"/>
                </a:lnTo>
                <a:lnTo>
                  <a:pt x="499" y="330"/>
                </a:lnTo>
                <a:lnTo>
                  <a:pt x="499" y="0"/>
                </a:lnTo>
                <a:lnTo>
                  <a:pt x="0" y="50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418840" y="2347920"/>
            <a:ext cx="1033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gram Dashboar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48080" y="2484360"/>
            <a:ext cx="780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 Stat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143000" y="2968560"/>
            <a:ext cx="228600" cy="744480"/>
          </a:xfrm>
          <a:custGeom>
            <a:avLst/>
            <a:gdLst/>
            <a:ahLst/>
            <a:rect l="l" t="t" r="r" b="b"/>
            <a:pathLst>
              <a:path w="287" h="936">
                <a:moveTo>
                  <a:pt x="144" y="0"/>
                </a:moveTo>
                <a:lnTo>
                  <a:pt x="287" y="143"/>
                </a:lnTo>
                <a:lnTo>
                  <a:pt x="193" y="143"/>
                </a:lnTo>
                <a:lnTo>
                  <a:pt x="193" y="791"/>
                </a:lnTo>
                <a:lnTo>
                  <a:pt x="287" y="791"/>
                </a:lnTo>
                <a:lnTo>
                  <a:pt x="144" y="936"/>
                </a:lnTo>
                <a:lnTo>
                  <a:pt x="0" y="791"/>
                </a:lnTo>
                <a:lnTo>
                  <a:pt x="94" y="791"/>
                </a:lnTo>
                <a:lnTo>
                  <a:pt x="94" y="143"/>
                </a:lnTo>
                <a:lnTo>
                  <a:pt x="0" y="143"/>
                </a:lnTo>
                <a:lnTo>
                  <a:pt x="14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43000" y="2968560"/>
            <a:ext cx="228600" cy="744480"/>
          </a:xfrm>
          <a:custGeom>
            <a:avLst/>
            <a:gdLst/>
            <a:ahLst/>
            <a:rect l="l" t="t" r="r" b="b"/>
            <a:pathLst>
              <a:path w="287" h="936">
                <a:moveTo>
                  <a:pt x="144" y="0"/>
                </a:moveTo>
                <a:lnTo>
                  <a:pt x="287" y="143"/>
                </a:lnTo>
                <a:lnTo>
                  <a:pt x="193" y="143"/>
                </a:lnTo>
                <a:lnTo>
                  <a:pt x="193" y="791"/>
                </a:lnTo>
                <a:lnTo>
                  <a:pt x="287" y="791"/>
                </a:lnTo>
                <a:lnTo>
                  <a:pt x="144" y="936"/>
                </a:lnTo>
                <a:lnTo>
                  <a:pt x="0" y="791"/>
                </a:lnTo>
                <a:lnTo>
                  <a:pt x="94" y="791"/>
                </a:lnTo>
                <a:lnTo>
                  <a:pt x="94" y="143"/>
                </a:lnTo>
                <a:lnTo>
                  <a:pt x="0" y="143"/>
                </a:lnTo>
                <a:lnTo>
                  <a:pt x="144" y="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01880" y="3154320"/>
            <a:ext cx="563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90880" y="3276720"/>
            <a:ext cx="182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96760" y="3397320"/>
            <a:ext cx="773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43000" y="4486320"/>
            <a:ext cx="228600" cy="797040"/>
          </a:xfrm>
          <a:custGeom>
            <a:avLst/>
            <a:gdLst/>
            <a:ahLst/>
            <a:rect l="l" t="t" r="r" b="b"/>
            <a:pathLst>
              <a:path w="289" h="1004">
                <a:moveTo>
                  <a:pt x="144" y="0"/>
                </a:moveTo>
                <a:lnTo>
                  <a:pt x="289" y="144"/>
                </a:lnTo>
                <a:lnTo>
                  <a:pt x="193" y="144"/>
                </a:lnTo>
                <a:lnTo>
                  <a:pt x="193" y="861"/>
                </a:lnTo>
                <a:lnTo>
                  <a:pt x="289" y="861"/>
                </a:lnTo>
                <a:lnTo>
                  <a:pt x="144" y="1004"/>
                </a:lnTo>
                <a:lnTo>
                  <a:pt x="0" y="861"/>
                </a:lnTo>
                <a:lnTo>
                  <a:pt x="94" y="861"/>
                </a:lnTo>
                <a:lnTo>
                  <a:pt x="94" y="144"/>
                </a:lnTo>
                <a:lnTo>
                  <a:pt x="0" y="144"/>
                </a:lnTo>
                <a:lnTo>
                  <a:pt x="14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43000" y="4486320"/>
            <a:ext cx="228600" cy="797040"/>
          </a:xfrm>
          <a:custGeom>
            <a:avLst/>
            <a:gdLst/>
            <a:ahLst/>
            <a:rect l="l" t="t" r="r" b="b"/>
            <a:pathLst>
              <a:path w="289" h="1004">
                <a:moveTo>
                  <a:pt x="144" y="0"/>
                </a:moveTo>
                <a:lnTo>
                  <a:pt x="289" y="144"/>
                </a:lnTo>
                <a:lnTo>
                  <a:pt x="193" y="144"/>
                </a:lnTo>
                <a:lnTo>
                  <a:pt x="193" y="861"/>
                </a:lnTo>
                <a:lnTo>
                  <a:pt x="289" y="861"/>
                </a:lnTo>
                <a:lnTo>
                  <a:pt x="144" y="1004"/>
                </a:lnTo>
                <a:lnTo>
                  <a:pt x="0" y="861"/>
                </a:lnTo>
                <a:lnTo>
                  <a:pt x="94" y="861"/>
                </a:lnTo>
                <a:lnTo>
                  <a:pt x="94" y="144"/>
                </a:lnTo>
                <a:lnTo>
                  <a:pt x="0" y="144"/>
                </a:lnTo>
                <a:lnTo>
                  <a:pt x="144" y="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01880" y="4697280"/>
            <a:ext cx="563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90880" y="4819680"/>
            <a:ext cx="182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96760" y="4941720"/>
            <a:ext cx="773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862680" y="3519360"/>
            <a:ext cx="1586160" cy="885960"/>
          </a:xfrm>
          <a:custGeom>
            <a:avLst/>
            <a:gdLst/>
            <a:ahLst/>
            <a:rect l="l" t="t" r="r" b="b"/>
            <a:pathLst>
              <a:path w="1999" h="1115">
                <a:moveTo>
                  <a:pt x="139" y="0"/>
                </a:moveTo>
                <a:lnTo>
                  <a:pt x="1860" y="0"/>
                </a:lnTo>
                <a:lnTo>
                  <a:pt x="1876" y="33"/>
                </a:lnTo>
                <a:lnTo>
                  <a:pt x="1891" y="66"/>
                </a:lnTo>
                <a:lnTo>
                  <a:pt x="1907" y="100"/>
                </a:lnTo>
                <a:lnTo>
                  <a:pt x="1921" y="133"/>
                </a:lnTo>
                <a:lnTo>
                  <a:pt x="1932" y="167"/>
                </a:lnTo>
                <a:lnTo>
                  <a:pt x="1944" y="202"/>
                </a:lnTo>
                <a:lnTo>
                  <a:pt x="1955" y="237"/>
                </a:lnTo>
                <a:lnTo>
                  <a:pt x="1964" y="272"/>
                </a:lnTo>
                <a:lnTo>
                  <a:pt x="1972" y="307"/>
                </a:lnTo>
                <a:lnTo>
                  <a:pt x="1979" y="342"/>
                </a:lnTo>
                <a:lnTo>
                  <a:pt x="1985" y="379"/>
                </a:lnTo>
                <a:lnTo>
                  <a:pt x="1990" y="414"/>
                </a:lnTo>
                <a:lnTo>
                  <a:pt x="1994" y="450"/>
                </a:lnTo>
                <a:lnTo>
                  <a:pt x="1997" y="486"/>
                </a:lnTo>
                <a:lnTo>
                  <a:pt x="1998" y="521"/>
                </a:lnTo>
                <a:lnTo>
                  <a:pt x="1999" y="557"/>
                </a:lnTo>
                <a:lnTo>
                  <a:pt x="1998" y="593"/>
                </a:lnTo>
                <a:lnTo>
                  <a:pt x="1997" y="630"/>
                </a:lnTo>
                <a:lnTo>
                  <a:pt x="1994" y="666"/>
                </a:lnTo>
                <a:lnTo>
                  <a:pt x="1990" y="701"/>
                </a:lnTo>
                <a:lnTo>
                  <a:pt x="1985" y="737"/>
                </a:lnTo>
                <a:lnTo>
                  <a:pt x="1979" y="772"/>
                </a:lnTo>
                <a:lnTo>
                  <a:pt x="1972" y="808"/>
                </a:lnTo>
                <a:lnTo>
                  <a:pt x="1964" y="843"/>
                </a:lnTo>
                <a:lnTo>
                  <a:pt x="1955" y="878"/>
                </a:lnTo>
                <a:lnTo>
                  <a:pt x="1944" y="913"/>
                </a:lnTo>
                <a:lnTo>
                  <a:pt x="1932" y="947"/>
                </a:lnTo>
                <a:lnTo>
                  <a:pt x="1921" y="982"/>
                </a:lnTo>
                <a:lnTo>
                  <a:pt x="1907" y="1016"/>
                </a:lnTo>
                <a:lnTo>
                  <a:pt x="1891" y="1049"/>
                </a:lnTo>
                <a:lnTo>
                  <a:pt x="1876" y="1083"/>
                </a:lnTo>
                <a:lnTo>
                  <a:pt x="1860" y="1115"/>
                </a:lnTo>
                <a:lnTo>
                  <a:pt x="139" y="1115"/>
                </a:lnTo>
                <a:lnTo>
                  <a:pt x="122" y="1083"/>
                </a:lnTo>
                <a:lnTo>
                  <a:pt x="106" y="1049"/>
                </a:lnTo>
                <a:lnTo>
                  <a:pt x="91" y="1016"/>
                </a:lnTo>
                <a:lnTo>
                  <a:pt x="78" y="982"/>
                </a:lnTo>
                <a:lnTo>
                  <a:pt x="65" y="947"/>
                </a:lnTo>
                <a:lnTo>
                  <a:pt x="53" y="913"/>
                </a:lnTo>
                <a:lnTo>
                  <a:pt x="44" y="878"/>
                </a:lnTo>
                <a:lnTo>
                  <a:pt x="35" y="843"/>
                </a:lnTo>
                <a:lnTo>
                  <a:pt x="27" y="808"/>
                </a:lnTo>
                <a:lnTo>
                  <a:pt x="20" y="772"/>
                </a:lnTo>
                <a:lnTo>
                  <a:pt x="12" y="737"/>
                </a:lnTo>
                <a:lnTo>
                  <a:pt x="8" y="701"/>
                </a:lnTo>
                <a:lnTo>
                  <a:pt x="4" y="666"/>
                </a:lnTo>
                <a:lnTo>
                  <a:pt x="2" y="630"/>
                </a:lnTo>
                <a:lnTo>
                  <a:pt x="0" y="593"/>
                </a:lnTo>
                <a:lnTo>
                  <a:pt x="0" y="557"/>
                </a:lnTo>
                <a:lnTo>
                  <a:pt x="0" y="521"/>
                </a:lnTo>
                <a:lnTo>
                  <a:pt x="2" y="486"/>
                </a:lnTo>
                <a:lnTo>
                  <a:pt x="4" y="450"/>
                </a:lnTo>
                <a:lnTo>
                  <a:pt x="8" y="414"/>
                </a:lnTo>
                <a:lnTo>
                  <a:pt x="12" y="379"/>
                </a:lnTo>
                <a:lnTo>
                  <a:pt x="20" y="342"/>
                </a:lnTo>
                <a:lnTo>
                  <a:pt x="27" y="307"/>
                </a:lnTo>
                <a:lnTo>
                  <a:pt x="35" y="272"/>
                </a:lnTo>
                <a:lnTo>
                  <a:pt x="44" y="237"/>
                </a:lnTo>
                <a:lnTo>
                  <a:pt x="53" y="202"/>
                </a:lnTo>
                <a:lnTo>
                  <a:pt x="65" y="167"/>
                </a:lnTo>
                <a:lnTo>
                  <a:pt x="78" y="133"/>
                </a:lnTo>
                <a:lnTo>
                  <a:pt x="91" y="100"/>
                </a:lnTo>
                <a:lnTo>
                  <a:pt x="106" y="66"/>
                </a:lnTo>
                <a:lnTo>
                  <a:pt x="122" y="33"/>
                </a:lnTo>
                <a:lnTo>
                  <a:pt x="139" y="0"/>
                </a:lnTo>
                <a:lnTo>
                  <a:pt x="139" y="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62680" y="3519360"/>
            <a:ext cx="1586160" cy="885960"/>
          </a:xfrm>
          <a:custGeom>
            <a:avLst/>
            <a:gdLst/>
            <a:ahLst/>
            <a:rect l="l" t="t" r="r" b="b"/>
            <a:pathLst>
              <a:path w="1999" h="1115">
                <a:moveTo>
                  <a:pt x="139" y="0"/>
                </a:moveTo>
                <a:lnTo>
                  <a:pt x="1860" y="0"/>
                </a:lnTo>
                <a:lnTo>
                  <a:pt x="1876" y="33"/>
                </a:lnTo>
                <a:lnTo>
                  <a:pt x="1891" y="66"/>
                </a:lnTo>
                <a:lnTo>
                  <a:pt x="1907" y="100"/>
                </a:lnTo>
                <a:lnTo>
                  <a:pt x="1921" y="133"/>
                </a:lnTo>
                <a:lnTo>
                  <a:pt x="1932" y="167"/>
                </a:lnTo>
                <a:lnTo>
                  <a:pt x="1944" y="202"/>
                </a:lnTo>
                <a:lnTo>
                  <a:pt x="1955" y="237"/>
                </a:lnTo>
                <a:lnTo>
                  <a:pt x="1964" y="272"/>
                </a:lnTo>
                <a:lnTo>
                  <a:pt x="1972" y="307"/>
                </a:lnTo>
                <a:lnTo>
                  <a:pt x="1979" y="342"/>
                </a:lnTo>
                <a:lnTo>
                  <a:pt x="1985" y="379"/>
                </a:lnTo>
                <a:lnTo>
                  <a:pt x="1990" y="414"/>
                </a:lnTo>
                <a:lnTo>
                  <a:pt x="1994" y="450"/>
                </a:lnTo>
                <a:lnTo>
                  <a:pt x="1997" y="486"/>
                </a:lnTo>
                <a:lnTo>
                  <a:pt x="1998" y="521"/>
                </a:lnTo>
                <a:lnTo>
                  <a:pt x="1999" y="557"/>
                </a:lnTo>
                <a:lnTo>
                  <a:pt x="1998" y="593"/>
                </a:lnTo>
                <a:lnTo>
                  <a:pt x="1997" y="630"/>
                </a:lnTo>
                <a:lnTo>
                  <a:pt x="1994" y="666"/>
                </a:lnTo>
                <a:lnTo>
                  <a:pt x="1990" y="701"/>
                </a:lnTo>
                <a:lnTo>
                  <a:pt x="1985" y="737"/>
                </a:lnTo>
                <a:lnTo>
                  <a:pt x="1979" y="772"/>
                </a:lnTo>
                <a:lnTo>
                  <a:pt x="1972" y="808"/>
                </a:lnTo>
                <a:lnTo>
                  <a:pt x="1964" y="843"/>
                </a:lnTo>
                <a:lnTo>
                  <a:pt x="1955" y="878"/>
                </a:lnTo>
                <a:lnTo>
                  <a:pt x="1944" y="913"/>
                </a:lnTo>
                <a:lnTo>
                  <a:pt x="1932" y="947"/>
                </a:lnTo>
                <a:lnTo>
                  <a:pt x="1921" y="982"/>
                </a:lnTo>
                <a:lnTo>
                  <a:pt x="1907" y="1016"/>
                </a:lnTo>
                <a:lnTo>
                  <a:pt x="1891" y="1049"/>
                </a:lnTo>
                <a:lnTo>
                  <a:pt x="1876" y="1083"/>
                </a:lnTo>
                <a:lnTo>
                  <a:pt x="1860" y="1115"/>
                </a:lnTo>
                <a:lnTo>
                  <a:pt x="139" y="1115"/>
                </a:lnTo>
                <a:lnTo>
                  <a:pt x="122" y="1083"/>
                </a:lnTo>
                <a:lnTo>
                  <a:pt x="106" y="1049"/>
                </a:lnTo>
                <a:lnTo>
                  <a:pt x="91" y="1016"/>
                </a:lnTo>
                <a:lnTo>
                  <a:pt x="78" y="982"/>
                </a:lnTo>
                <a:lnTo>
                  <a:pt x="65" y="947"/>
                </a:lnTo>
                <a:lnTo>
                  <a:pt x="53" y="913"/>
                </a:lnTo>
                <a:lnTo>
                  <a:pt x="44" y="878"/>
                </a:lnTo>
                <a:lnTo>
                  <a:pt x="35" y="843"/>
                </a:lnTo>
                <a:lnTo>
                  <a:pt x="27" y="808"/>
                </a:lnTo>
                <a:lnTo>
                  <a:pt x="20" y="772"/>
                </a:lnTo>
                <a:lnTo>
                  <a:pt x="12" y="737"/>
                </a:lnTo>
                <a:lnTo>
                  <a:pt x="8" y="701"/>
                </a:lnTo>
                <a:lnTo>
                  <a:pt x="4" y="666"/>
                </a:lnTo>
                <a:lnTo>
                  <a:pt x="2" y="630"/>
                </a:lnTo>
                <a:lnTo>
                  <a:pt x="0" y="593"/>
                </a:lnTo>
                <a:lnTo>
                  <a:pt x="0" y="557"/>
                </a:lnTo>
                <a:lnTo>
                  <a:pt x="0" y="521"/>
                </a:lnTo>
                <a:lnTo>
                  <a:pt x="2" y="486"/>
                </a:lnTo>
                <a:lnTo>
                  <a:pt x="4" y="450"/>
                </a:lnTo>
                <a:lnTo>
                  <a:pt x="8" y="414"/>
                </a:lnTo>
                <a:lnTo>
                  <a:pt x="12" y="379"/>
                </a:lnTo>
                <a:lnTo>
                  <a:pt x="20" y="342"/>
                </a:lnTo>
                <a:lnTo>
                  <a:pt x="27" y="307"/>
                </a:lnTo>
                <a:lnTo>
                  <a:pt x="35" y="272"/>
                </a:lnTo>
                <a:lnTo>
                  <a:pt x="44" y="237"/>
                </a:lnTo>
                <a:lnTo>
                  <a:pt x="53" y="202"/>
                </a:lnTo>
                <a:lnTo>
                  <a:pt x="65" y="167"/>
                </a:lnTo>
                <a:lnTo>
                  <a:pt x="78" y="133"/>
                </a:lnTo>
                <a:lnTo>
                  <a:pt x="91" y="100"/>
                </a:lnTo>
                <a:lnTo>
                  <a:pt x="106" y="66"/>
                </a:lnTo>
                <a:lnTo>
                  <a:pt x="122" y="33"/>
                </a:lnTo>
                <a:lnTo>
                  <a:pt x="139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228160" y="3519360"/>
            <a:ext cx="110880" cy="885960"/>
          </a:xfrm>
          <a:custGeom>
            <a:avLst/>
            <a:gdLst/>
            <a:ahLst/>
            <a:rect l="l" t="t" r="r" b="b"/>
            <a:pathLst>
              <a:path w="140" h="1115">
                <a:moveTo>
                  <a:pt x="140" y="0"/>
                </a:moveTo>
                <a:lnTo>
                  <a:pt x="122" y="33"/>
                </a:lnTo>
                <a:lnTo>
                  <a:pt x="107" y="66"/>
                </a:lnTo>
                <a:lnTo>
                  <a:pt x="92" y="100"/>
                </a:lnTo>
                <a:lnTo>
                  <a:pt x="78" y="133"/>
                </a:lnTo>
                <a:lnTo>
                  <a:pt x="66" y="167"/>
                </a:lnTo>
                <a:lnTo>
                  <a:pt x="55" y="202"/>
                </a:lnTo>
                <a:lnTo>
                  <a:pt x="44" y="237"/>
                </a:lnTo>
                <a:lnTo>
                  <a:pt x="35" y="272"/>
                </a:lnTo>
                <a:lnTo>
                  <a:pt x="26" y="307"/>
                </a:lnTo>
                <a:lnTo>
                  <a:pt x="19" y="342"/>
                </a:lnTo>
                <a:lnTo>
                  <a:pt x="14" y="379"/>
                </a:lnTo>
                <a:lnTo>
                  <a:pt x="9" y="414"/>
                </a:lnTo>
                <a:lnTo>
                  <a:pt x="4" y="450"/>
                </a:lnTo>
                <a:lnTo>
                  <a:pt x="2" y="486"/>
                </a:lnTo>
                <a:lnTo>
                  <a:pt x="1" y="521"/>
                </a:lnTo>
                <a:lnTo>
                  <a:pt x="0" y="557"/>
                </a:lnTo>
                <a:lnTo>
                  <a:pt x="1" y="593"/>
                </a:lnTo>
                <a:lnTo>
                  <a:pt x="2" y="630"/>
                </a:lnTo>
                <a:lnTo>
                  <a:pt x="4" y="666"/>
                </a:lnTo>
                <a:lnTo>
                  <a:pt x="9" y="701"/>
                </a:lnTo>
                <a:lnTo>
                  <a:pt x="14" y="737"/>
                </a:lnTo>
                <a:lnTo>
                  <a:pt x="19" y="772"/>
                </a:lnTo>
                <a:lnTo>
                  <a:pt x="26" y="808"/>
                </a:lnTo>
                <a:lnTo>
                  <a:pt x="35" y="843"/>
                </a:lnTo>
                <a:lnTo>
                  <a:pt x="44" y="878"/>
                </a:lnTo>
                <a:lnTo>
                  <a:pt x="55" y="913"/>
                </a:lnTo>
                <a:lnTo>
                  <a:pt x="66" y="947"/>
                </a:lnTo>
                <a:lnTo>
                  <a:pt x="78" y="982"/>
                </a:lnTo>
                <a:lnTo>
                  <a:pt x="92" y="1016"/>
                </a:lnTo>
                <a:lnTo>
                  <a:pt x="107" y="1049"/>
                </a:lnTo>
                <a:lnTo>
                  <a:pt x="122" y="1083"/>
                </a:lnTo>
                <a:lnTo>
                  <a:pt x="140" y="1115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150680" y="3780000"/>
            <a:ext cx="968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470720" y="3962520"/>
            <a:ext cx="323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00760" y="1790640"/>
            <a:ext cx="1600200" cy="96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00760" y="1790640"/>
            <a:ext cx="1600200" cy="960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999120" y="1996920"/>
            <a:ext cx="1268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ct, 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012080" y="2179800"/>
            <a:ext cx="1241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ummarize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080840" y="2362320"/>
            <a:ext cx="1105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pris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07240" y="4960800"/>
            <a:ext cx="1585800" cy="95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807240" y="4960800"/>
            <a:ext cx="1585800" cy="952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922800" y="5254560"/>
            <a:ext cx="1419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ct, and Comp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935760" y="5437080"/>
            <a:ext cx="139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 Level Deta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601040" y="2751120"/>
            <a:ext cx="1440" cy="768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601040" y="4405320"/>
            <a:ext cx="1440" cy="55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473800" y="2019240"/>
            <a:ext cx="1326960" cy="504720"/>
          </a:xfrm>
          <a:custGeom>
            <a:avLst/>
            <a:gdLst/>
            <a:ahLst/>
            <a:rect l="l" t="t" r="r" b="b"/>
            <a:pathLst>
              <a:path w="1672" h="635">
                <a:moveTo>
                  <a:pt x="0" y="319"/>
                </a:moveTo>
                <a:lnTo>
                  <a:pt x="318" y="635"/>
                </a:lnTo>
                <a:lnTo>
                  <a:pt x="318" y="426"/>
                </a:lnTo>
                <a:lnTo>
                  <a:pt x="1672" y="424"/>
                </a:lnTo>
                <a:lnTo>
                  <a:pt x="1672" y="208"/>
                </a:lnTo>
                <a:lnTo>
                  <a:pt x="318" y="210"/>
                </a:lnTo>
                <a:lnTo>
                  <a:pt x="317" y="0"/>
                </a:lnTo>
                <a:lnTo>
                  <a:pt x="0" y="319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73800" y="2019240"/>
            <a:ext cx="1326960" cy="504720"/>
          </a:xfrm>
          <a:custGeom>
            <a:avLst/>
            <a:gdLst/>
            <a:ahLst/>
            <a:rect l="l" t="t" r="r" b="b"/>
            <a:pathLst>
              <a:path w="1672" h="635">
                <a:moveTo>
                  <a:pt x="0" y="319"/>
                </a:moveTo>
                <a:lnTo>
                  <a:pt x="318" y="635"/>
                </a:lnTo>
                <a:lnTo>
                  <a:pt x="318" y="426"/>
                </a:lnTo>
                <a:lnTo>
                  <a:pt x="1672" y="424"/>
                </a:lnTo>
                <a:lnTo>
                  <a:pt x="1672" y="208"/>
                </a:lnTo>
                <a:lnTo>
                  <a:pt x="318" y="210"/>
                </a:lnTo>
                <a:lnTo>
                  <a:pt x="317" y="0"/>
                </a:lnTo>
                <a:lnTo>
                  <a:pt x="0" y="319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21540000">
            <a:off x="5637960" y="21780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21540000">
            <a:off x="5742720" y="2178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21540000">
            <a:off x="5814000" y="2178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21540000">
            <a:off x="5883120" y="217800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rot="21540000">
            <a:off x="5918760" y="2178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21540000">
            <a:off x="5990400" y="2178000"/>
            <a:ext cx="2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21540000">
            <a:off x="6014880" y="21780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21540000">
            <a:off x="6081840" y="217800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21540000">
            <a:off x="6116760" y="217764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rot="21540000">
            <a:off x="6201360" y="2178000"/>
            <a:ext cx="2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21540000">
            <a:off x="6229440" y="217764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rot="21540000">
            <a:off x="6272280" y="2178000"/>
            <a:ext cx="119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21540000">
            <a:off x="6391800" y="2178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21540000">
            <a:off x="6461640" y="2178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rot="21540000">
            <a:off x="6532200" y="21780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21540000">
            <a:off x="6596640" y="2178000"/>
            <a:ext cx="2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21540000">
            <a:off x="6622920" y="21780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416560" y="5184720"/>
            <a:ext cx="1390680" cy="503280"/>
          </a:xfrm>
          <a:custGeom>
            <a:avLst/>
            <a:gdLst/>
            <a:ahLst/>
            <a:rect l="l" t="t" r="r" b="b"/>
            <a:pathLst>
              <a:path w="1753" h="634">
                <a:moveTo>
                  <a:pt x="0" y="317"/>
                </a:moveTo>
                <a:lnTo>
                  <a:pt x="318" y="634"/>
                </a:lnTo>
                <a:lnTo>
                  <a:pt x="318" y="425"/>
                </a:lnTo>
                <a:lnTo>
                  <a:pt x="1753" y="425"/>
                </a:lnTo>
                <a:lnTo>
                  <a:pt x="1753" y="209"/>
                </a:lnTo>
                <a:lnTo>
                  <a:pt x="318" y="209"/>
                </a:lnTo>
                <a:lnTo>
                  <a:pt x="318" y="0"/>
                </a:lnTo>
                <a:lnTo>
                  <a:pt x="0" y="31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416560" y="5184720"/>
            <a:ext cx="1390680" cy="503280"/>
          </a:xfrm>
          <a:custGeom>
            <a:avLst/>
            <a:gdLst/>
            <a:ahLst/>
            <a:rect l="l" t="t" r="r" b="b"/>
            <a:pathLst>
              <a:path w="1753" h="634">
                <a:moveTo>
                  <a:pt x="0" y="317"/>
                </a:moveTo>
                <a:lnTo>
                  <a:pt x="318" y="634"/>
                </a:lnTo>
                <a:lnTo>
                  <a:pt x="318" y="425"/>
                </a:lnTo>
                <a:lnTo>
                  <a:pt x="1753" y="425"/>
                </a:lnTo>
                <a:lnTo>
                  <a:pt x="1753" y="209"/>
                </a:lnTo>
                <a:lnTo>
                  <a:pt x="318" y="209"/>
                </a:lnTo>
                <a:lnTo>
                  <a:pt x="318" y="0"/>
                </a:lnTo>
                <a:lnTo>
                  <a:pt x="0" y="317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771160" y="5361120"/>
            <a:ext cx="730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ily/Week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201FA-E406-4A51-8228-0C80F229681C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320640" y="2057400"/>
            <a:ext cx="3429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800" spc="-1" strike="noStrike">
                <a:solidFill>
                  <a:srgbClr val="0a3b6c"/>
                </a:solidFill>
                <a:latin typeface="Arial"/>
              </a:rPr>
              <a:t>Questions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12:55:16Z</dcterms:created>
  <dc:creator>Rob Connell</dc:creator>
  <dc:description/>
  <dc:language>en-US</dc:language>
  <cp:lastModifiedBy>tanderson</cp:lastModifiedBy>
  <dcterms:modified xsi:type="dcterms:W3CDTF">2006-05-02T21:03:20Z</dcterms:modified>
  <cp:revision>112</cp:revision>
  <dc:subject/>
  <dc:title>Slide 1</dc:title>
</cp:coreProperties>
</file>