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3D88-6117-422D-A9BC-DEB5E840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F5C9-8493-4305-A327-F44E89ADC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3902-A0EE-4314-9CE4-05133B00C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8EF7-CFC3-48E4-8793-5AFF2EE93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E130-C290-4A27-B12B-E883D2E03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F255-8D66-4A3B-8E44-DAFEB396D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0472-297A-418C-8C46-30A8FC186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583D-5B51-4915-8037-9BA380291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CD79-69A9-4D54-8A6F-1596ACAA0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1138-28DB-4A50-B05C-46D7517C2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FC28-DC8D-47FA-82FF-33082B2EF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BCCD-9BC8-45CE-B772-15321C792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6008-7703-499E-9E58-D3C43D7D8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0FB6-8C50-46FC-9A9A-24FE82B45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C0799B01-7243-4A78-9516-820703790C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 Priority Lists (PP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ry 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Prioritization folder on ERCOT.com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Guidelin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7936400">
            <a:off x="7655040" y="2796840"/>
            <a:ext cx="1676520" cy="536400"/>
          </a:xfrm>
          <a:custGeom>
            <a:avLst/>
            <a:gdLst>
              <a:gd name="textAreaLeft" fmla="*/ 329040 w 1676520"/>
              <a:gd name="textAreaRight" fmla="*/ 1109160 w 1676520"/>
              <a:gd name="textAreaTop" fmla="*/ 71640 h 536400"/>
              <a:gd name="textAreaBottom" fmla="*/ 464760 h 5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50840"/>
            <a:ext cx="586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13716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5080" y="1981080"/>
            <a:ext cx="196380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8 – 2007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468400">
            <a:off x="3200040" y="5029200"/>
            <a:ext cx="1990800" cy="422280"/>
          </a:xfrm>
          <a:custGeom>
            <a:avLst/>
            <a:gdLst>
              <a:gd name="textAreaLeft" fmla="*/ 390600 w 1990800"/>
              <a:gd name="textAreaRight" fmla="*/ 1316880 w 1990800"/>
              <a:gd name="textAreaTop" fmla="*/ 56520 h 422280"/>
              <a:gd name="textAreaBottom" fmla="*/ 36576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36400">
            <a:off x="6860520" y="4722120"/>
            <a:ext cx="1674720" cy="612720"/>
          </a:xfrm>
          <a:custGeom>
            <a:avLst/>
            <a:gdLst>
              <a:gd name="textAreaLeft" fmla="*/ 328680 w 1674720"/>
              <a:gd name="textAreaRight" fmla="*/ 1107720 w 167472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67652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7242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351400"/>
            <a:ext cx="3547800" cy="94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5 – Post project lists and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2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4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9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1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412416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497400"/>
            <a:ext cx="2082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Initial Planning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Prioritiz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6 – Approve 2007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38280" y="43430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7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5-02T20:46:14Z</dcterms:modified>
  <cp:revision>82</cp:revision>
  <dc:subject/>
  <dc:title>Slide 1</dc:title>
</cp:coreProperties>
</file>