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CDE0-0389-4994-B2AC-A3593B81A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88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Load/Capacity Outl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59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41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90800" y="242568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st. Actual p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48160" y="243828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:00-15:00 Frequency and A/S Deplo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082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:00-16:00 Frequency and A/S Deplo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989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18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29000" y="33526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581280"/>
            <a:ext cx="76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49528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800600" y="472392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80320" y="3421080"/>
            <a:ext cx="18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2720" y="35053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0 M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T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10280" y="3200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33920" y="152280"/>
            <a:ext cx="4876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:00-17:00 Frequency and A/S Deplo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75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305560" cy="510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200" y="2362320"/>
            <a:ext cx="101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132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066680" y="236232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371240" y="281952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819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819520"/>
            <a:ext cx="1219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4864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5410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3526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809880" y="327636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Shed Respons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89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143000"/>
          <a:ext cx="86868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686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PRS 042106</cp:lastModifiedBy>
  <cp:lastPrinted>2000-09-19T10:42:49Z</cp:lastPrinted>
  <dcterms:modified xsi:type="dcterms:W3CDTF">2006-05-04T17:37:23Z</dcterms:modified>
  <cp:revision>198</cp:revision>
  <dc:subject/>
  <dc:title>No Slide Title</dc:title>
</cp:coreProperties>
</file>