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A96E-58CC-428C-B783-B07469C17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69F2-6FA2-4F4F-9B6F-697C0E48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F6C0-71B0-4C81-AB3B-CFBB8C46B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8AAB-B7EB-495D-9F33-7D7415B02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CB894-F8A5-44BF-9523-F0DDE5CE8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98FC9-3C49-44B2-B9C9-637E83C9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6C134-9BE8-498E-A757-D85DC5ECD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37CC4-6DD6-44B8-85C4-A697F4C49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F5F92-D882-40C3-AC11-A18E71FB7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7976D-7301-40B1-9831-129BACD5A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30020-AC0E-4471-8E4A-AD3F2004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F778-DB40-4CF5-A8F0-BF1FD7E39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0F7E6-7A47-4D5B-8BB9-7BC58FB7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948A0-2E88-4F58-8B34-4F6F8042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469B8-B1C9-4107-994B-A89C60F3F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B4020-3FD1-4051-B5A4-A69266B62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732B6-86EE-4387-85E5-28D065040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830C-7DCF-4D24-AB4D-C6854669C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BDB9-2E04-4197-9716-0F21F296D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7378-DDA0-42D0-A92C-C5195F2B4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2671-488D-46D4-B6EE-3C288C24A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8256-640B-4BE8-A6AF-AD8BD5B7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5A46-6267-4A1E-953A-9E8BF56A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0D42-A876-4EC5-9C3A-1FE677C1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1B351-38BC-48D9-8129-3997AA97A5B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DE1D6-3A46-4C03-BDFD-F931A12C14D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RMS Update to TAC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ril 7,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00"/>
                </a:solidFill>
                <a:latin typeface="Times New Roman"/>
              </a:rPr>
              <a:t>Market Participant Implementation Schedules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Schedule Detai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92480" y="2231640"/>
            <a:ext cx="54799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ard Approval - 5/16/06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ject Initiation - 5/22/06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ginning of Planning Phase - 6/5/06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siness Requirements Development - 6/5/06 to 7/17/06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siness Requirements Sign-off - 7/17/24 to 7/24/06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ceptual Design Development - 7/24/06 to 8/7/06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tail Design Development - 8/07/06 to 9/18/06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tail Design Sign-off - 9/18/06 to 10/02/06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/ Unit and Product Testing - 10/02/06 to 12/11/06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ration and User Acceptance Testing - 12/11/06 to 2/5/07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ight -  End of flight 0107 as defined by TTP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st implementation date - 3/31/07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Mass Transition Next Steps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R requesting urgent status submitted to PRS for reprioritizing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MGRR will be submitted to RMS for consideration in M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13000" y="5889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RMS Update to TAC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estion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513000" y="5889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Times New Roman"/>
              </a:rPr>
              <a:t>RMS Voting Items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MGRR032- Transaction Timing Matrix Corr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8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s updates to Appendix D to correct examples for Move In, Drop to AREP, Permit , Historical Usage, Final Usage trans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nimously approved at 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513000" y="5889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Times New Roman"/>
              </a:rPr>
              <a:t>RMS Voting Items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MGRR033- Process for Retail Market Guide Revis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act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ard Approval of Project Pri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sses to withdraw, reject, appeal an RMGR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nistrative revisions by ERCOT Sta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ved at RMS with two abstentions from Generator se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513000" y="5889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Times New Roman"/>
              </a:rPr>
              <a:t>RMS Voting Items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MS Procedures Revisions Incl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d references to Retail Docu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references to approval process at PRS, TAC and the B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d references to Profile Working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d details on the Subcommittee Responsi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ences to standing Working Groups and materials requiring RMS approv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ved at RMS with one abstention from Consumer se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Times New Roman"/>
              </a:rPr>
              <a:t>Mass Transition Update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X SET reviewed Long Term solution for phased approach as directed by T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ase I Chan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COT initiating switch transaction as Next Retail Business Day instead of POLR with FAS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code in the existing switch transaction identifying Mass Transition ESI I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system changes for CRs who do not currently accept a drop transaction to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ase I Assum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sumes customer information will be provided from defaulting REP under current market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 existing transactions and current Protocol tim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pending transaction exceptions will be handled under current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Times New Roman"/>
              </a:rPr>
              <a:t>Mass Transition Update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se II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es processes and business rules to address pending transactions for 56 scen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itional codes to specifically identify rejected or unexecuteable condi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se II Assum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es customer information will be provided from defaulting REP under current market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Times New Roman"/>
              </a:rPr>
              <a:t>Mass Transition- Phase I Timeline Protocol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763120" y="3886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4343400"/>
            <a:ext cx="861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86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4114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-152280" y="4876920"/>
            <a:ext cx="7617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y 0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48769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y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238880" y="4648320"/>
            <a:ext cx="76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y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5943600"/>
            <a:ext cx="335268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ustomer transition should be completed in 3 Business D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5181480"/>
            <a:ext cx="6782040" cy="533520"/>
          </a:xfrm>
          <a:prstGeom prst="rightArrow">
            <a:avLst>
              <a:gd name="adj1" fmla="val 50000"/>
              <a:gd name="adj2" fmla="val 31779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ustomer transition in pro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6320" y="1828800"/>
            <a:ext cx="2209680" cy="733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RCOT Announces Mass Transition and Performs ESI ID sync with TDS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2743200"/>
            <a:ext cx="2286000" cy="520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DSP ESI ID Verification Comple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3429000"/>
            <a:ext cx="2887560" cy="733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RCOT generates Mass Transition Drop transactions for requesting off cycle read for next business 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4114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4114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95480" y="48769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y 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21160" y="4876920"/>
            <a:ext cx="55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10080" y="4876920"/>
            <a:ext cx="56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y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15000" y="4114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81280" y="2133720"/>
            <a:ext cx="2590920" cy="520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DSP sends response to drop transaction with meter read 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419720" y="2743200"/>
            <a:ext cx="2387520" cy="733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RCOT forwards Drop transaction and Historical Usage to POL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0" y="4114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54520" y="4876920"/>
            <a:ext cx="55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y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28600" y="2590920"/>
            <a:ext cx="38088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95280" y="41911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62520" y="2666880"/>
            <a:ext cx="6858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81480" y="3505320"/>
            <a:ext cx="5335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248520" y="2060640"/>
            <a:ext cx="2590560" cy="520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pleted meter read transactions are sent to ERC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38880" y="2743200"/>
            <a:ext cx="1752840" cy="946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RCOT receives meter reads completing Mass Trans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620120" y="4114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229600" y="4876920"/>
            <a:ext cx="7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y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6857640" y="2590920"/>
            <a:ext cx="30492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7620120" y="373392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95280" y="3276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71800" y="289548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ffective Date of Meter 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504960" y="35053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Times New Roman"/>
              </a:rPr>
              <a:t>Mass Transition- Phase I Timeline Actual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763120" y="3886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2280" y="4343400"/>
            <a:ext cx="861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52280" y="3886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4191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-152280" y="4876920"/>
            <a:ext cx="7617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y 0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133720" y="48769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y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238880" y="4648320"/>
            <a:ext cx="76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y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5943600"/>
            <a:ext cx="335268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ustomer transition should be completed in 3 Business D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2280" y="5181480"/>
            <a:ext cx="6782040" cy="533520"/>
          </a:xfrm>
          <a:prstGeom prst="rightArrow">
            <a:avLst>
              <a:gd name="adj1" fmla="val 50000"/>
              <a:gd name="adj2" fmla="val 31779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ustomer transition in pro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6320" y="1828800"/>
            <a:ext cx="2209680" cy="733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RCOT Announces Mass Transition and Performs ESI ID sync with TDS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2743200"/>
            <a:ext cx="2286000" cy="520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DSP ESI ID Verification Comple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3429000"/>
            <a:ext cx="2887560" cy="733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RCOT generates Mass Transition Drop transactions for requesting off cycle read for next business 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57600" y="40384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876920" y="4114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48120" y="48769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y 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73440" y="4876920"/>
            <a:ext cx="55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410080" y="4876920"/>
            <a:ext cx="56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y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715000" y="4114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1280" y="2133720"/>
            <a:ext cx="2590920" cy="520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DSP sends response to drop transaction with meter read 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09880" y="2743200"/>
            <a:ext cx="2387880" cy="733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RCOT forwards Drop transaction and Historical Usage to POL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0" y="4114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4520" y="4876920"/>
            <a:ext cx="55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y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228600" y="2590920"/>
            <a:ext cx="38088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438280" y="41911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248520" y="2060640"/>
            <a:ext cx="2590560" cy="520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pleted meter read transactions are sent to ERC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38880" y="2743200"/>
            <a:ext cx="1752840" cy="946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RCOT receives meter reads completing Mass Trans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620120" y="4114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229600" y="4876920"/>
            <a:ext cx="7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y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6857640" y="2590920"/>
            <a:ext cx="30492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7620120" y="373392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95280" y="3276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2742840" y="41911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971440" y="41911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3276360" y="2666880"/>
            <a:ext cx="5331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429000" y="3429000"/>
            <a:ext cx="38088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0" y="3505320"/>
            <a:ext cx="137160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ffective Date of Meter 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3657600" y="396252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00"/>
                </a:solidFill>
                <a:latin typeface="Times New Roman"/>
              </a:rPr>
              <a:t>Market Participant Implementation Schedules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4" marL="195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hase I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ul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LR C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tellation Energ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-200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rect Energ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-200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-200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xa Energ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1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liant Energ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ll Support Market Majo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n POLR C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cent Energ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-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ro Energ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-200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-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erce Energ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-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rst Choi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1 200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2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een Mountai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-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E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-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XU Energ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-200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-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DS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E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-200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-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N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-200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-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NM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1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XU 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-200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-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RCO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-31-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9:57:48Z</dcterms:created>
  <dc:creator>ShBowling</dc:creator>
  <dc:description/>
  <dc:language>en-US</dc:language>
  <cp:lastModifiedBy>ShBowling</cp:lastModifiedBy>
  <dcterms:modified xsi:type="dcterms:W3CDTF">2006-05-01T15:16:34Z</dcterms:modified>
  <cp:revision>36</cp:revision>
  <dc:subject/>
  <dc:title>RMS Update to TAC</dc:title>
</cp:coreProperties>
</file>