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4A8-8F06-4E58-BF9D-62FAA578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CB2-E999-4D15-8942-ECD0C5C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7E6-48FC-44CC-8FAD-30EA4D88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589-BF6F-40FF-AFEA-4FBD15D4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8A2F-39BC-4E0E-9B01-E455402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B1C-242A-4952-9B18-442B442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3799-2FE0-460D-B927-927C1813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F6A2-4CDA-463A-A2D4-18DE8B9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F9D8-55CD-4A1F-AF4B-3928182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4749-C086-4EB0-850B-1277CD4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A215-9C0A-4905-89E2-F5BD122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89F-54C8-4109-BFBB-90A60B93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4274-3D4B-4980-A930-4B9B226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F344-454A-4961-9EAC-22E3C13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23D-9A67-4843-B8FD-2311494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05B-D5BE-4E72-AB0D-7782EDCC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423-1CD2-48C2-A079-8A9BA9C8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36D-0DBC-4A79-9DBF-DFD079E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AAA-7D60-41B3-A780-0C720E18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1CB-B65B-4962-8A83-2E35C5CC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396-127F-4A8A-BBD1-8639B66D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AC5-B1B4-4EB1-9F18-EBC6E22C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898-D650-4CAB-B4FA-F25FBFE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5A0-5FF5-42EE-B818-FD675B98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942-896F-44C1-897C-1BE6B78F8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DDC7-D5C9-4CDA-B60A-C7EC622B80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AC Report to the ERCOT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rch 21,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D04-9D16-4AEB-8D3D-0A2B74628D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rd Retreat Action Items for T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trawman for TAC consideration regarding possibility of only sending PRRs with priority/ranking above cut line to Board, include review of Board oversight in Protocol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 taskforce to address and report to TAC in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 advantages and disadvantage of Market Participants directly funding some PRR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ed to PRS on PRS agenda this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2A8-2CA6-4237-84A5-3BFECFFF4B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High Interest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 ris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MS to reconsider status of long-term solution and report to TAC in April regarding timeline for implementation with objective of improving 12-18 month 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O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keholder input and invol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risdictional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us of in-flight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market understanding as to status and availabl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 whether ERCOT can provide additional information or information in a differen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547-7ED7-414C-A25F-DB4A40361B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TAC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unanimous PR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 discussion regarding Board Retreat Action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high interes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1FE-3C99-49A1-8DFE-76EAB5F73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35 – Resource Plan Performance Metrics Upd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447920"/>
          <a:ext cx="8382240" cy="4949640"/>
        </p:xfrm>
        <a:graphic>
          <a:graphicData uri="http://schemas.openxmlformats.org/drawingml/2006/table">
            <a:tbl>
              <a:tblPr/>
              <a:tblGrid>
                <a:gridCol w="2997360"/>
                <a:gridCol w="646200"/>
                <a:gridCol w="4738680"/>
              </a:tblGrid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aska, IPM, QSEM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s metrics to, among other things, account for changes due to EMMS R4, exclude units in testing or with operational issues, clarify that the down bid/obligation measure is done by congestion zone where possi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sures accuracy of resource pl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unanimously recommends approval 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F36-A91B-4B86-AFDF-00E678769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35 – Resource Plan Performance Metrics Upd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ADD-435F-4C67-BDFD-33153ECCE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R 640 – Update Provisions for Capacity/Energy Payments for RMR &amp; Add New Standard Form Agreement For Synchronous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523880"/>
          <a:ext cx="8153280" cy="4905360"/>
        </p:xfrm>
        <a:graphic>
          <a:graphicData uri="http://schemas.openxmlformats.org/drawingml/2006/table">
            <a:tbl>
              <a:tblPr/>
              <a:tblGrid>
                <a:gridCol w="3211560"/>
                <a:gridCol w="628560"/>
                <a:gridCol w="431316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ses RMR language to provide more consistency between agreement and protocols, removes synchronous condenser language and includes a new agreement for Synchronous Condenser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er payment process for RMR uni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unanimously recommends approval 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2AF-6F3F-4293-B4CF-0E8F11728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R 640 – Update Provisions for Capacity/Energy Payments for RMR &amp; Add New Standard Form Agreement For Synchronous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43A-7223-4DAE-A5CF-78C659EA7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2 – Lower Limit to IDR Meters in MRE for True-Up Settlement IDR 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1600200"/>
          <a:ext cx="8001000" cy="4786200"/>
        </p:xfrm>
        <a:graphic>
          <a:graphicData uri="http://schemas.openxmlformats.org/drawingml/2006/table">
            <a:tbl>
              <a:tblPr/>
              <a:tblGrid>
                <a:gridCol w="2666880"/>
                <a:gridCol w="678960"/>
                <a:gridCol w="4655160"/>
              </a:tblGrid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 Wholesale, IOU, COP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s a lower limit to the number of IDR meters within a Meter Reading Entity (MRE) that would be considered when determining whether or not the IDR threshold requirement is met for True-Up Settl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oids impact of missed True-Up Settlement; eliminates risk of True-Up Settlement suspension; allows for more predictable exchange of dollars per the Settlement calen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 unanimously recommends approval 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C3F-4EF2-41F1-95A8-63D030ED0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2 – Lower Limit to IDR Meters in MRE for True-Up Settlement IDR 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6920" y="1649520"/>
            <a:ext cx="32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EA8-7012-4151-A4DE-BF8D3A367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Board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35 – Resource Plan Performance Metrics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40 – Update Provisions for Capacity/Energy Payments for RMR &amp; Add New Standard Form Agreement For Synchronou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42 – Lower Limit to IDR Meters in MRE for True-Up Settlement IDR 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C27-D087-4CD4-A675-CD254B232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 </cp:lastModifiedBy>
  <dcterms:modified xsi:type="dcterms:W3CDTF">2006-03-21T15:30:25Z</dcterms:modified>
  <cp:revision>243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0A7E337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