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600" y="6432480"/>
            <a:ext cx="4407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ril 200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DC0343F0-F13F-4D93-88ED-17BE379D3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954200" y="6411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Model Requirements</a:t>
            </a:r>
            <a:br>
              <a:rPr sz="1000"/>
            </a:b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Past</a:t>
            </a:r>
            <a:endParaRPr b="0" lang="en-US" sz="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lanning model was the only model representing the power system prior to the development of modern application softwa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 advent of EMS systems using loadflow and contingency analysis applications, an Operations model with different detail was neede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lanning model did not match the Operations model but there was little financial incentive to make them agre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the deregulated markets began to emerge there was more awareness of market impacts of the differences between the  Planning and Operations model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738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ode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P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odel Requirements</a:t>
            </a:r>
            <a:br>
              <a:rPr sz="900"/>
            </a:b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Zonal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ces between the Operations and Planning models became more evid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disconnect exists between the Planning model used for financial decisions (i.e. TCR market, forward positions) and the Operations model used for real-time congestion management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or intensive comparisons have not achieved acceptable results in correcting discrepanci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s eliminate discrepancies “after the fact”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83808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odel Requirements</a:t>
            </a:r>
            <a:br>
              <a:rPr sz="900"/>
            </a:b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odal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odal market places more emphasis on the financial impact of differences between Planning and Operations models since LMPs depend on the model us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nodal markets (MISO, CAISO, WECC, PJM) are realizing the implications of achieving consistency between the Planning and Operations model and proceeding towards a common information sour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MMS meets Nodal Protocol requirements for model consistency and will provide a single source database that mitigates the need for time consuming model comparisons and delayed elimination of discrepanci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9:38:30Z</dcterms:created>
  <dc:creator>lcaylor</dc:creator>
  <dc:description/>
  <dc:language>en-US</dc:language>
  <cp:lastModifiedBy>ksaathoff</cp:lastModifiedBy>
  <dcterms:modified xsi:type="dcterms:W3CDTF">2006-04-05T21:58:07Z</dcterms:modified>
  <cp:revision>10</cp:revision>
  <dc:subject/>
  <dc:title>Model Requirements </dc:title>
</cp:coreProperties>
</file>