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2916600-A703-40E1-99AE-B93794F1C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E4C151-7C5F-47FD-BA4C-1110E1E1B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69840" y="533520"/>
            <a:ext cx="5069160" cy="38019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33120" y="4427280"/>
            <a:ext cx="51433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4374-91FB-482C-A31A-C5FC4B6ED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6FED9-345A-4EA1-B83B-33D8BC49D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62F4-1C15-4174-A2E2-1422F3023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1604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165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159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21604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165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A4F4-0C2B-4CEA-8DE1-22B7C53CE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437920" y="1323000"/>
            <a:ext cx="5791320" cy="55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B291-0B20-4D71-AA77-CEF021308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1604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165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7159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21604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7165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57D5-2744-445D-A54E-BF09A500F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46CC0-5907-48C7-8CCF-250AC6A40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5281-E586-4A31-8C41-B911D63F3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37920" y="1323000"/>
            <a:ext cx="5791320" cy="55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D521-76C6-4D0A-B16A-4E9F0AD83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BFBE-826C-453F-A27E-B6B344424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E09C-3443-4A9B-9E95-B5824E2A6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0B19-355E-4588-BB58-F3386A064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FDB37A40-7291-462C-850B-CDB8EC0F29E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4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comm/projects/index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5640" y="1750680"/>
            <a:ext cx="60958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dget Impacts of MarkeTrak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C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320" y="3048120"/>
            <a:ext cx="6324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/07/0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m Martinez, MO Divisional Projects Organiz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488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MarkeTrak Budget Revision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2080" y="1068480"/>
          <a:ext cx="3001680" cy="4727160"/>
        </p:xfrm>
        <a:graphic>
          <a:graphicData uri="http://schemas.openxmlformats.org/drawingml/2006/table">
            <a:tbl>
              <a:tblPr/>
              <a:tblGrid>
                <a:gridCol w="1046880"/>
                <a:gridCol w="977400"/>
                <a:gridCol w="97740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Est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sed Est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ftw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9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21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rdw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5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nal La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25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643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La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1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.23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ing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0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9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xes and Inter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2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.55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.49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52320" y="907560"/>
            <a:ext cx="565164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861K increase to 2006 budget resulting from completion of Planning pha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riginal estimate assumed solution using existing technology platform at ERCO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umed in-house technology expertise avail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umed limited HW requir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osen solution resulted in chan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ght increase in final negotiated SW c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HW required to impl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mited and/or no in-house expertise with Serena SW &amp; TIBCO integr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ange to internal/external resource mi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rease to dev &amp; test efforts from final desig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crease in overall hours to code, integrate, t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crease in external resour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675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BCO integration services, Serena software resources, Testing resour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B487-14D8-4DCC-9457-E3ABBFAEA4E2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26720"/>
            <a:ext cx="717552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Impacts to RO Project Portfolio 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9680" y="926640"/>
            <a:ext cx="886464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6 RO approved budget = 6.75M; est. budget for projects above “cut line” = $4.8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jects above “cut line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75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impact to projects above the “cut line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75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rket has $1.5M available for 2 projects not yet initiat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56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rformance Measures Reporting Requiremen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56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rms and Conditions Requiremen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jects below “cut line,” within “capability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75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RCOT initiates projects in rank order, unless constraints prevent init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56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A Extend Footprint – environment &amp; resource constraint with Retail Business Processes (RBP) projec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56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nhancements to Digital Certificates – transferred to IO portfolio, initiatin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56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SI ID Account Table Split – resource constraint with RBP Projec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75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RCOT.com Secured Area project – continuing with Initiation ph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75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DW transition projects – initiating next wee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PO monitors financials, reports through governance process for changes and approva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forecasted CART portfolio budget exceeds approved amou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75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RT may vote to “hold” a project in order to release funds to other initiati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75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RT may request budget increase funds released by other CAR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75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RCOT may initiate request to BoD for increased capital project budge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 PPL on ERCOT.com –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rcot.com/services/comm/projects/index.htm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ADB5C-8AF2-41DD-AABE-A646CF9E83CA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320640" y="2057400"/>
            <a:ext cx="34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0a3b6c"/>
                </a:solidFill>
                <a:latin typeface="Arial"/>
              </a:rPr>
              <a:t>Questions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Adam Martinez</dc:creator>
  <dc:description/>
  <dc:language>en-US</dc:language>
  <cp:lastModifiedBy>amartinez</cp:lastModifiedBy>
  <dcterms:modified xsi:type="dcterms:W3CDTF">2006-04-07T14:38:41Z</dcterms:modified>
  <cp:revision>115</cp:revision>
  <dc:subject/>
  <dc:title>Slide 1</dc:title>
</cp:coreProperties>
</file>