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717-FC6F-43BC-930B-A269083A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678-FF94-4389-B045-49B48554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24C-71C5-4E06-8B49-BA9416CD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60A-7A8C-4071-A3A5-32CCB929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FCE-B543-4A70-9B31-875A2EAF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6A4-EA97-4CFD-9F43-632F5F4D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75A-8989-4227-B041-7F4A658F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E8B-6E1C-4B0F-B157-E22C11A6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F40-0E2B-4BD0-8EB7-2F29A3AB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5C4-7E10-486C-B8D5-91B0DA16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658-F792-453E-A815-FC11E5AF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9C0-600E-4C43-8585-E599180E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9AE9-BBCD-4F87-9FB7-DA80F6170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S Report to TAC – 4/7/0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has not met since 3/9/06 TAC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will next meet on 4/12-13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-and-a-half meeting permits extend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n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TF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S Tas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S Performanc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RR 165 / PRR 590 Unit Tele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 Holistic TF Coordinatio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4/7/06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-Mail Consideration of PRR 649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 assignment on 3/9/06 to determine reliability impacts and report back at this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technical analysis completed on 3/20/06 and forwarded to the ROS for discussion on 3/21/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asked to consider options on 3/26/0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1 – There is no reliability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2 – Reject, this will impact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3 – Requires discussion at RO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4 – Requires result of frequenc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5 – Adopt with sunse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6 – No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28600" y="304920"/>
          <a:ext cx="86868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868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952560" y="1131840"/>
          <a:ext cx="10045800" cy="468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52560" y="1131840"/>
                    <a:ext cx="1004580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4/7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-Mail Consideration of PRR 649 – Comments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2 – Time better spent correcting non-compliance than manipulating numbers. – More difficult for those who provide regulation and maintain working governors if the rest of the market is relaxing performance. – No benefit except to make compliance eas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3 – Would like to hear what certain members have to say – Would prefer to discuss at 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4 – Cannot support a piece-meal change – Allow more time before making changes that cannot help but could hurt – Don’t relax the standard until something workable is in its place – Consider ERCOT’s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5 – We don’t know reliability will suffer, let’s do a field test – Difficult to do before-the-fact evaluation of impact – PRR 525 results in a capricious penal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6-03-30T22:11:20Z</dcterms:modified>
  <cp:revision>11</cp:revision>
  <dc:subject/>
  <dc:title>ROS Report to TAC – 2/2/06 Major Discussion Items at 1/13/06 RO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00778366</vt:r8>
  </property>
  <property fmtid="{D5CDD505-2E9C-101B-9397-08002B2CF9AE}" pid="3" name="_AuthorEmail">
    <vt:lpwstr>PaulB@gplops.org</vt:lpwstr>
  </property>
  <property fmtid="{D5CDD505-2E9C-101B-9397-08002B2CF9AE}" pid="4" name="_AuthorEmailDisplayName">
    <vt:lpwstr>Breitzman, Paul</vt:lpwstr>
  </property>
  <property fmtid="{D5CDD505-2E9C-101B-9397-08002B2CF9AE}" pid="5" name="_EmailSubject">
    <vt:lpwstr>ROS Report to TAC</vt:lpwstr>
  </property>
</Properties>
</file>