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B89D-7F80-4AE8-A216-7E5A7B173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FE3E-5D30-41AE-BD9C-0C3F71BA7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64D6-C515-41D4-9471-3783CADF4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4ADF-27B2-46FA-8DAF-A6CE0DB9A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43D2-8339-41FA-8D95-5A8500AB8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A11D-2050-4D1F-A964-317180D6D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DF46-67F6-4EAA-88ED-E4103936A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DC51-2C10-4FCC-BA6E-9C4B426A6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92AE-4C95-44E2-BD35-0C109ECC2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102D-85A6-44C6-8A86-40685839E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B528-58ED-4409-B613-7BF556596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3F0B-3607-4E05-ADCC-5CD74F06E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300F-6116-4780-8697-CE4C7D2EFF3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775080"/>
            <a:ext cx="5562720" cy="17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 Updat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Work Group Revie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Aspects of Mass Trans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7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8964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5f5d"/>
                </a:solidFill>
                <a:latin typeface="Arial"/>
              </a:rPr>
              <a:t>Update</a:t>
            </a:r>
            <a:endParaRPr b="0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M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&amp;A requested the Credit WG provide them a “wish list” of ways to reduce credit expos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dit WG prioritized op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dit WG Chair Morgan Davies spoke to F&amp;A at the March meeting about credit exposure and the Mass Transition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d that a substantial amount of credit risk remains in the mark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icated Credit WG’s ongoing conc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orted survey finding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06B1-5040-47D0-BE72-1769B1CDFA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Top Three Findings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p three findings (weighted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) Reduce time it takes to complete Mass Transi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) Provide more stringent collateral requirements for entities with weaker financi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) Reduce the time to post collateral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ne day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ne d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incremental benefit onl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4367-664A-4454-81C3-502C303CFA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In April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ekly Credit WG meetings are scheduled in April, to be used as needed to evaluate alternatives and determine next st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 questions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current proposed and committed timeline for implementing a long term solution to reduce the number of days it takes to complete a Mass Transitio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dit WG will seek an update from Mass Transition task fo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FC0E-918D-4B0A-8C71-8F0FE6E264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reduce credit exposure until long term solution is in place (particularly this fal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ve of the six failures experienced in 2005/2006 occurred from July 2005 to January 2006, during a period of significant price volat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dit WG will seek an update from Mass Transition task force on short term solutions being conside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dit WG will consider alternative solu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ffective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E79E-9213-4E18-A6DC-5B8DD5C758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8964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5f5d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nt to provide an environment that will support a strong and competitive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ly, the goal is not to eliminate ALL credit expos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goal is to ensure the financial viability of the mark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3946-EFA5-47CA-B41E-792DBC6774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45120" y="2311200"/>
            <a:ext cx="7853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013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Verdana"/>
              </a:rPr>
              <a:t>               </a:t>
            </a:r>
            <a:r>
              <a:rPr b="1" lang="en-US" sz="3600" spc="-1" strike="noStrike">
                <a:solidFill>
                  <a:srgbClr val="3d5f5d"/>
                </a:solidFill>
                <a:latin typeface="Verdana"/>
              </a:rPr>
              <a:t>Question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5BA5-534E-4290-BA0A-A89F4AB455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C Yager</cp:lastModifiedBy>
  <dcterms:modified xsi:type="dcterms:W3CDTF">2006-04-04T16:55:58Z</dcterms:modified>
  <cp:revision>277</cp:revision>
  <dc:subject/>
  <dc:title>Slide 1</dc:title>
</cp:coreProperties>
</file>