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AFCB-0398-4643-A8FE-9444B81D7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7DF3-2C3F-4040-8CCC-CF44A662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2211-4FAB-4851-B058-0A54E36B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714B-C17E-46E7-9F52-A714F36E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8686-25F9-43AC-8E1B-9E55B8B0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3641-CD08-46CA-A4B2-393FE22B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B66F-9012-412E-B3E4-65E7C2AE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B460-8640-420A-AA9A-E9F9BEDF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EB68-B566-4049-AA26-AC5A6B31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D6CC-BD26-4D13-B892-F6321575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CF04-8D99-4078-9A0C-874F2FC4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2D03-02B4-4F8F-BF53-C6A85CB2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4CBA-1F64-4422-AF7E-38E38EC8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4F02-9144-4632-9865-7482CBCB3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pril 7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E629-4BCB-45F6-9CB7-B743FFE8C6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ccesse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ntique Olive Roman"/>
              </a:rPr>
              <a:t>PRR568 – Change Initial Settlement fr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ntique Olive Roman"/>
              </a:rPr>
              <a:t>Day 17 to Day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tique Olive Roman"/>
                <a:ea typeface="Times New Roman"/>
              </a:rPr>
              <a:t>Operating Day January 17, 2006 - Start the migration to Day 10 Initial Settlement, Publication of binding Settlement Statement for this date would be February 2, 2006.  One extra day will be Invoiced weekly for 7 wee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tique Olive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tique Olive Roman"/>
                <a:ea typeface="Times New Roman"/>
              </a:rPr>
              <a:t>March 16, 2006 - Completion of PRR5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ntique Olive Roman"/>
              </a:rPr>
              <a:t>PRR638 – Change Settlement Invoice Due Date from 16 Calendar Days to 5 Business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tique Olive Roman"/>
                <a:ea typeface="Times New Roman"/>
              </a:rPr>
              <a:t>April 1, 2006 - Impletion of PRR6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F024-C7BC-4B2F-84EC-57017DB251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cedures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295280"/>
            <a:ext cx="876312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tique Olive Roman"/>
              </a:rPr>
              <a:t>COPS Requests that TAC appr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tique Olive Roman"/>
              </a:rPr>
              <a:t>COPS Procedures Update – This document was modified to add PWG as a working group and to add responsibility of load profiling</a:t>
            </a:r>
            <a:r>
              <a:rPr b="0" lang="en-US" sz="2400" spc="-1" strike="noStrike">
                <a:solidFill>
                  <a:srgbClr val="3333cc"/>
                </a:solidFill>
                <a:latin typeface="Antique Olive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ntique Olive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tique Olive Roman"/>
              </a:rPr>
              <a:t>LPGRR009, </a:t>
            </a:r>
            <a:r>
              <a:rPr b="1" i="1" lang="en-US" sz="2400" spc="-1" strike="noStrike">
                <a:solidFill>
                  <a:srgbClr val="3333cc"/>
                </a:solidFill>
                <a:latin typeface="Antique Olive Roman"/>
              </a:rPr>
              <a:t>Changes to Governing Subcommittee</a:t>
            </a:r>
            <a:r>
              <a:rPr b="1" lang="en-US" sz="2400" spc="-1" strike="noStrike">
                <a:solidFill>
                  <a:srgbClr val="3333cc"/>
                </a:solidFill>
                <a:latin typeface="Antique Olive Roman"/>
              </a:rPr>
              <a:t> – This LPGRR changes the governing subcommittee of PWG from RMS to C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C36D-EBEC-4B7C-9E0C-0ABF1CE463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cedures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219320"/>
            <a:ext cx="876312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tique Olive Roman"/>
              </a:rPr>
              <a:t>Currently, Profile Working Group updates the decision tree to place ESI IDs into the correct Profile Type.  These changes to the decision tree must be made by each TDSP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tique Olive Roman"/>
              </a:rPr>
              <a:t>ERCOT Staff performs a similar activity and then works with each TDSP to ensure they each ag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tique Olive Roman"/>
              </a:rPr>
              <a:t>LPGRR010 will require ERCOT to perform the profile analysis and identify which ESI IDs need to corrected.  The TDSPs will then submit the appropriate TxSET transaction to the Mar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5808-80EC-4B99-98ED-D010CC964F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cedures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1430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tique Olive Roman"/>
              </a:rPr>
              <a:t>COPS Requests that TAC appro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tique Olive Roman"/>
              </a:rPr>
              <a:t>LPGRR010, </a:t>
            </a:r>
            <a:r>
              <a:rPr b="1" i="1" lang="en-US" sz="2400" spc="-1" strike="noStrike">
                <a:solidFill>
                  <a:srgbClr val="3333cc"/>
                </a:solidFill>
                <a:latin typeface="Antique Olive Roman"/>
              </a:rPr>
              <a:t>Load Profile Type Responsibility Change:  Changes the market rules so that ERCOT is responsible for the Load Profile Type calculations during Annual Validation while maintaining TDSP responsibility for Load Profile ID assignment transactions</a:t>
            </a:r>
            <a:r>
              <a:rPr b="0" lang="en-US" sz="2400" spc="-1" strike="noStrike">
                <a:solidFill>
                  <a:srgbClr val="000000"/>
                </a:solidFill>
                <a:latin typeface="Antique Olive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6418-53BE-4784-A5C2-996F299BC7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Registered User</cp:lastModifiedBy>
  <dcterms:modified xsi:type="dcterms:W3CDTF">2006-03-31T02:45:42Z</dcterms:modified>
  <cp:revision>162</cp:revision>
  <dc:subject/>
  <dc:title>Point-to-Point</dc:title>
</cp:coreProperties>
</file>