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EDD-965C-4FF7-98E6-C9BDA541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2F9-A377-45A1-8B84-339BE0B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C7D-4FFF-4167-B177-DD7A33BE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6EC-4169-470A-BA2C-39C5CDD7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A848-B57B-4EA8-853A-5AC51B0F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7A8E-5AAD-4C03-851E-B33DE6D1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B559-CB6A-45C2-93FB-EEA2800B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D836-A6F7-4A6C-8BA2-20B21241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0ED6-F4D6-4DCA-BEA3-C8C82BB1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9D9D-AA54-47F7-86AF-0B920D8F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9F84-5A99-478D-ABAF-1F034A9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A98-CEA9-4B81-84FD-EEE9A0FF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FC58-D3F6-4CA4-B068-997F4B7B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201D-BBAD-41E2-9CDD-E541269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33E8-EB85-40A6-A3E8-A768970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F3F1-3EA8-429B-A948-2E1081A0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CD0A-97E5-48E6-93E9-B7313E21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F8A-6954-41CB-9AAF-ADE2FD74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77D-962E-4E4F-9E50-943DC9F7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FCC-7995-4F12-9B7C-DCA4C830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B57-68B9-42CB-A0A2-AC69CF8A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F2E-6C88-453A-ABA9-F0F26D7E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319-35B4-4080-BA9C-A31F8B5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DDB-AC8C-4A62-B3AA-62EF147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C208-9891-4359-A2D1-904FF30A60C5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09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488-D2E0-4824-B5D3-9C2517AF7BB2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84872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56d3d"/>
                </a:solidFill>
                <a:latin typeface="Arial Black"/>
              </a:rPr>
              <a:t>Protocol Revision Subcommittee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4219200"/>
            <a:ext cx="5943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pril 7,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PRS Summary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2 PRR for Approv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2 Non-System Changes – IA onl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1 Urg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Review of PRR Prioritiz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2 PRR for Reje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48 – Prevent IDR Removal from Customers Served at Transmission Voltage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7920" y="1600200"/>
          <a:ext cx="7619760" cy="454176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Reliant Energy, IPM,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W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larifies that IDRs may not be removed from Premises served at transmission volta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tocol clarification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June 1, 20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48 – Prevent IDR Removal from Customers Served at Transmission Voltage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51 – RPRS Cost Recovery Process Clarification - </a:t>
            </a: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URGENT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1600200"/>
          <a:ext cx="7619760" cy="460836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2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nforms RPRS cost recovery process to that used for OOMC (e.g., verifiable costs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larifies the process used by QSEs when submitting RPRS verifiable costs to ERCO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y 1, 20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51 – RPRS Cost Recovery Process Clarification - </a:t>
            </a: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URGENT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Recommended TAC Actions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Approval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PRR 648 – Prevent IDR Removal for Customers Served at Transmission Voltag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PRR 651 – RPRS Cost Recovery Clarification (URGENT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Rej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PRR 472 – ERCOT Meter Read Transaction Validation Reinstate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PRR 541 – Regulation Deployment Ramp Ra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Prioritization Review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Arial"/>
              </a:rPr>
              <a:t>PRS reviewed two PRR priorities and ranks per PUCT request related to Patton Recommend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PRR 590 – Update Unit Telemetry Require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PRR 601 – 15 Minute Ramping for BES and Base Power Schedu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Prioritization Review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PRR 590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Initially set at Priority 1.2; Rank 8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Considered ROS considering related OGRR and referred PRR to ROS to harmoniz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PRR 60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Initially set at Priority 1.2; Rank 79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PRS reset to Priority 1.1; Rank 10.1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2:03:33Z</dcterms:created>
  <dc:creator>Windows XP ver. 2.2</dc:creator>
  <dc:description/>
  <cp:keywords/>
  <dc:language>en-US</dc:language>
  <cp:lastModifiedBy>Windows XP ver. 2.2</cp:lastModifiedBy>
  <dcterms:modified xsi:type="dcterms:W3CDTF">2006-04-07T14:02:52Z</dcterms:modified>
  <cp:revision>14</cp:revision>
  <dc:subject/>
  <dc:title>Protocol Revision Sub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31033</vt:lpwstr>
  </property>
</Properties>
</file>