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C04-66F7-4FDF-B86C-55B865D9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37F-A289-47D0-81D0-2D9B3266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747-446C-43FC-86AB-11D67A8F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45F-467A-40EF-958D-1D9101E3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6DD-09BA-4DA7-B74A-64118431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C1F-D04A-42E1-97B9-0B76C7BA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310-2937-437B-8061-7D14635E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743-7C9B-4D0D-964D-A6EF1B07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220-48CB-4F03-B0EB-3CAB8F7A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5D2-D6A7-4C62-9E13-D5E0366A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75F-C33E-47C7-8D85-EECA579F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FF7-4C74-4A53-94DE-5B82C899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4C07-046A-4280-96DB-98E20CAE4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conomic Planning Measur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C - April 7, 2006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conomic Terminolog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5480" y="3209760"/>
            <a:ext cx="3081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212840" y="3357720"/>
            <a:ext cx="1941480" cy="97776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590920"/>
            <a:ext cx="577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1840" y="1852560"/>
            <a:ext cx="569880" cy="1501920"/>
          </a:xfrm>
          <a:prstGeom prst="rtTriangl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4267080"/>
            <a:ext cx="3733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5029200"/>
            <a:ext cx="4525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1400" y="4861080"/>
            <a:ext cx="335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49520" y="2879640"/>
            <a:ext cx="2457360" cy="123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73000" y="1360440"/>
            <a:ext cx="3924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1400" y="1860480"/>
            <a:ext cx="1366560" cy="1494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25760" y="1733400"/>
            <a:ext cx="1017720" cy="268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1400" y="158436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39920" y="3363840"/>
            <a:ext cx="0" cy="16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41600" y="2149560"/>
            <a:ext cx="415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350532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971280" y="335772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1219320"/>
            <a:ext cx="3962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economic value, or Societal Surplus (SS), of a product is the sum of the Consumer Surplus (CS) and Producer Surplus (PS).  In other words, the economic value is shared by consumers and produc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ducer surplus is due to all producers being paid the market clearing price although some would have been willing to be paid l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sumer surplus is due to all consumers paying the market clearing price although some would have been willing to pay m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portant Equalit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nges in consumer surplus are equal and opposite to changes in producer revenue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a market with efficient pricing of congestion rights, where the proceeds of the sale of these rights are returned to consumer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nges in societal surplus are equal and opposite to changes in producer cost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an equal quantity serve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 algebraic proof of this is availabl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p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1080" y="1196640"/>
            <a:ext cx="808668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Aft>
                <a:spcPts val="17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cietal Impact Test:  the increase in the societal surplus (equal to the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reduction in production cost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 due to a project must exceed the incremental cost of the projec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Aft>
                <a:spcPts val="17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sumer Impact Test:  the increase in consumer surplus (equal to the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reduction in generator revenu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 due to a project must exceed the incremental cost of the projec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st  Comparis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03200"/>
            <a:ext cx="4038480" cy="519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ocietal Impact Test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siders only whether a project has benefit to society as a whole and not whether consumers or producers receive the short-term benefit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nce consumers pay all costs in the long term, they ultimately benefit from decisions which increase the societal surplu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dividual projects may not immediately benefit consumers (and may cause consumer costs to go up in the short term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y not recommend projects to fix load pockets with high LMPs, but some of this congestion may be solved through generation siting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302840"/>
            <a:ext cx="4038480" cy="52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sumer Impact Test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sumers pay for all transmission investment, so it seems congruous to fund projects that repay consumer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justify bad projects, such as removal of transmission capacity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sumer impacts are hard to predict because they are affected by generator bidding behavior and terms of bilateral contrac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nsmission projects that pass only the consumer test inefficiently transfer revenue from generators to consumers, with a resulting long-term impact on generation investment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p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1080" y="1196640"/>
            <a:ext cx="808668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two options being considered a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inue to use the Societal Impact Test to recommend projects; or,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ommend projects that pass either the Societal Impact test or the Consumer Impact Test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MS voted in favor of Option 2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4:32:58Z</dcterms:created>
  <dc:creator>dwoodfin2</dc:creator>
  <dc:description/>
  <dc:language>en-US</dc:language>
  <cp:lastModifiedBy>dwoodfin2</cp:lastModifiedBy>
  <dcterms:modified xsi:type="dcterms:W3CDTF">2006-04-03T21:45:07Z</dcterms:modified>
  <cp:revision>37</cp:revision>
  <dc:subject/>
  <dc:title>Economic Terminology</dc:title>
</cp:coreProperties>
</file>