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4371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7, 2006 – TAC Meet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fld id="{09BF3BE6-867A-48E2-8A40-F68A86248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PTF Update</a:t>
            </a:r>
            <a:br>
              <a:rPr sz="32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rip Doggett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914400"/>
          <a:ext cx="8229240" cy="3657240"/>
        </p:xfrm>
        <a:graphic>
          <a:graphicData uri="http://schemas.openxmlformats.org/drawingml/2006/table">
            <a:tbl>
              <a:tblPr/>
              <a:tblGrid>
                <a:gridCol w="2363760"/>
                <a:gridCol w="4201920"/>
                <a:gridCol w="1663560"/>
              </a:tblGrid>
              <a:tr h="3175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RCOT Modeling For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 on Network Model discussion between ERCOT and Market 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pproval of Mil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TAC approval of Milestone – Business Requirements for NM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TAC Subcommittee Transition Assign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asks defined in the Nodal Protocols assigned to appropriate Subcommitt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dec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8077320" cy="51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s March 6 &amp; 7 and March 28 &amp;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ance approximately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tocol Clar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 review of questions from Sections 1, 2, 3, 4, 5, 6, 7, 8, 9, 10, 16, and 22F with T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from Section 17 yet to be presented, pending PUCT ruling on Market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al P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taff prepared Nodal PRRs, by section, to address synchronization requirements and address TPTF clarification interpre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Section 1 and Section 3 Nodal PRRs on March 28 and March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rch 29, TPTF approved Section 1 Nodal PRR by a ballot vote of 100% in fa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R will be sent to 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914400"/>
            <a:ext cx="80773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d Network Model Request for Interest for TPTF to review and comment on any possible compliance issues with applicabl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April 10 and Tuesday, April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April 24 thru Wednesday, April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discus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Nodal PR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Cycle Resources in N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R auction mode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Modeling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914400"/>
            <a:ext cx="8077320" cy="49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rch 6, 2006 TPTF approved a motion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the NMMS requirements document as being in compliance with applicable Nodal Protoco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to appropriately utilize a forum of Market Participants to ensure that the NMMS conceptual design process moves forward in a feasible and cost-effective man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assembled a forum of Market Participants on March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of the TPTF discussed the nodal protocol requirements related to consistency between the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TSPs discussed planning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“compromise” options were presented and discussed but no consensus was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cond meeting is scheduled for April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ing project is on the Nodal critical path and must be resolved quickly so ERCOT can develop their NMMS conceptual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914400"/>
            <a:ext cx="8077320" cy="46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rch 6, 2006 TPTF approved a motion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the NMMS requirements document as being in compliance with applicable Nodal Protocols and to appropriately utilize a forum of Market Participants to ensure that the NMMS conceptual design process moves forward in a feasible and cost-effective manne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te was approved with one negative vote (IOU) and one abstention (Muni).  All segments, except the Cooperative segment, were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ition Plan says: “Any declaration of the accomplishment of a major milestone (business requirements, conceptual design, and successful completion of Market Participant testing) or a decision to proceed is contingent on the approval of both ERCOT and TA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that TAC approve the milestone – Approval of NMMS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Subcommittee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914400"/>
            <a:ext cx="80773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COT must work with the appropriate TAC Subcommittee to develop procedures for characterizing a Simple Transmission Ou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0.7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ch Transmission Element must have a unique identifier using a consistent naming convention used between ERCOT and TSPs.  ERCOT shall develop the naming convention with the assistance of the TSP and the approval of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0.7.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ppropriate TAC subcommittee shall establish a task force that is open to Market Participants, comprised of technical experts to develop a set of Telemetry Criteria consistent with the minimum requirements of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0.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ppropriate TAC subcommittee shall establish a task force that is open to Market Participants, comprised of technical experts to develop a State Estimator Performance Standard consistent with the minimum requirements of the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Subcommittee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914400"/>
            <a:ext cx="807732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9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appropriate subcommittee approved by TAC (“TAC Subcommittee”) may develop an alternative list through the analysis described below for determining Competitiv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9(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AC Subcommittee shall perform the following analysis with the goal of developing an objective standard for determining Competitive Constra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61(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ocess for determining the verifiable actual costs must be developed by ERCOT, approved by the appropriate TAC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6.3(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ocess for determining the verifiable actual costs for a startup attempt under paragraph (2) above must be developed by ERCOT, approved by the appropriate TAC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Subcommittee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914400"/>
            <a:ext cx="80773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5.7.6.1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COT shall develop a methodology, subject to TAC approval, to determine the optimal frequency bias for given system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5.7.6.2.3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COT shall develop a procedure approved by TAC to deploy Resources providing Non-Spinning Reserv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5.9.4.1(2)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COT shall develop a procedure for determining which Load Resources to interrupt and to equitably allocate Load Resources to one of two deployment stacks to enable a 50% deployment, which procedure must be approved in advance by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2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ppropriate TAC subcommittee shall establish a task force that is open to Market Participants, comprised of technical experts, to develop a naming convention for CRRs consistent with the requirements of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ome instances Section 8 requires ERCOT to develop other performance measures that must be approved by the Technical Advisory Committee (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Rachel Cheng</dc:creator>
  <dc:description/>
  <dc:language>en-US</dc:language>
  <cp:lastModifiedBy>tdoggett</cp:lastModifiedBy>
  <dcterms:modified xsi:type="dcterms:W3CDTF">2006-03-30T23:20:22Z</dcterms:modified>
  <cp:revision>61</cp:revision>
  <dc:subject/>
  <dc:title>Texas Nodal Executive Leadership Meeting Preparation Material By Rachel Cheng, PA Consulting Group</dc:title>
</cp:coreProperties>
</file>