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980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4556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9800" y="884556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DD9368-795A-40BA-8C7D-51EFF5950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ment for start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trick system into proper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w back of MCSM (consistancey between sections) similar to PRR651 which brought consistency between sections related to verifiable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the task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mber of issue exam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 PRRs in the pipe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on Primary Frequency control issues will take longer and is 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osition of BENA issue – reports and help from ERCOT if needed – Did we say to publish the reports (ask ted) – one of our goals and it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osition of BENA issue – reports and help from ERCOT if needed – Did we say to publish the reports (ask ted) – one of our goals and it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an ERCOT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er Surplu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r Surpl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  Surpl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WG report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conomic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 did vote to recommend a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needs direction from TAC and que it up for an ERCOT presentation on the issue that TAC will vote on next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ttle of the historical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8 that went to 4 and WMS redirected to 4 (1 reject one add) they will came back and provided more info on how each option provides incentives to LaR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A is $100K  Option C is $250K and options D &amp; E were under $5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 shortend the list to C &amp;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C will take a PRR, which is being fin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has Emergency Load Response qued up and will be back with recommendations on th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E127-1844-42A5-9929-3740C908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9B8A-EA8F-44E3-A94F-C7AB13A3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8D52-4FA8-4952-BBE8-84315668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FE42-7A1A-49B0-8DEC-1C6BA9CA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5CF1-51B1-43FD-8342-C7506353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3339-608B-470F-9FF1-A16CA78D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AAC4-448F-44A4-9FC1-B5A1DAD1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1CD3-2F32-4918-B762-8CE16073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B482-25F3-4DBF-BFBF-207D8E0F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F7BF-1E2F-41FC-B88F-94713F36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1A69-D2D0-4D23-BEAF-3B38015E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A4D1-CAD8-45B9-B771-AF676B85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ABEC-D36A-4B7C-99A7-3B57F9AE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AABF-52ED-4B5F-8857-239257C5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D0A8-6EEC-4C6B-82A5-C4408D76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3376-4A5C-4CD2-9DB4-D2D86DF4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93F0-3C96-4C96-9B47-71CE6E76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937-A77C-46D7-8166-C2081269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F63-38E9-487F-A35F-335BCC34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B217-E25F-40AB-871F-84E33C44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A275-7FD8-45F8-A55D-C67FA8EB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4721-05A1-4577-A16E-91D02DBC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C76-2102-47C0-AB4D-09C6FAC2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BDB-52D7-41F9-9DF0-819EC584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2531-8B2B-4142-B690-C5004B31C1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6B56-A525-4EC7-B4E2-3CD17B056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4.wmf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5.jpeg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MS Report TO TA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il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5B16-AE60-4A97-A00B-08BFC0B660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bined Cycle Task For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ing start-up pay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ting RPRS to nominate correc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ormity in the Claw Back provi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37E-6663-4056-8E19-D3D0A5E8E7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quency Task For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thora of SCE related PR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istic look at  frequency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ination of SCE compliance (PRR52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553-A9A8-45FA-A1C8-7A517D7EFC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quency Task For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E and frequency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E and regulation deploy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ad delta and regulation deploy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ligations / incentives and frequ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ligations / incentives and reg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nd Forecast and regul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COT RGS signals and S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C50-D248-48B7-98D0-4CB8576157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quency Task For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ral PRR related to S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ll participation of WMS and 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t track to beat PRR525 market imp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inued work on primary frequ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1038-4279-4A8B-A95A-D70B107A37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E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ing Energy Neutrality Char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MS Goal to disaggregate in sett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BF8-8D93-4F37-8B27-F0D41BD09A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781200" y="790560"/>
          <a:ext cx="7581600" cy="5276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200" y="790560"/>
                    <a:ext cx="758160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53C5-3E59-481E-B237-51184A0CC8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E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ing Energy Neutrality Char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MS goal to disaggregate in sett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COT will provide QSE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COT will produce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nt of the WMS goal is satisfi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0271-9541-4EE9-8675-0D1630CE73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 Brief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Working Group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Task Force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NA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rget Rich Environment for W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506-EA83-497C-9C55-ED6FECFF65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orking Group Reports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MWG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ew of Transmission Planning Economic Crite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D51-01BA-4D66-B984-34CF4241CA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orking Group Reports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MWG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ew of Transmission Planning Economic Crite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3520" y="3276720"/>
            <a:ext cx="1881000" cy="320040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3581280" y="2698920"/>
            <a:ext cx="4577040" cy="5359320"/>
            <a:chOff x="3581280" y="2698920"/>
            <a:chExt cx="4577040" cy="5359320"/>
          </a:xfrm>
        </p:grpSpPr>
        <p:sp>
          <p:nvSpPr>
            <p:cNvPr id="99" name=""/>
            <p:cNvSpPr/>
            <p:nvPr/>
          </p:nvSpPr>
          <p:spPr>
            <a:xfrm>
              <a:off x="5316480" y="7180920"/>
              <a:ext cx="2248920" cy="8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Tahoma"/>
                </a:rPr>
                <a:t>Diagram 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81280" y="4545000"/>
              <a:ext cx="559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428000" y="4790880"/>
              <a:ext cx="2050920" cy="1027440"/>
            </a:xfrm>
            <a:prstGeom prst="rtTriangl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29040" y="3876840"/>
              <a:ext cx="62928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68720" y="3215520"/>
              <a:ext cx="633960" cy="1593360"/>
            </a:xfrm>
            <a:prstGeom prst="rtTriangl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12360" y="5629680"/>
              <a:ext cx="64908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76800" y="6473160"/>
              <a:ext cx="55800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03880" y="6402240"/>
              <a:ext cx="365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879800" y="4282560"/>
              <a:ext cx="2675880" cy="132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53160" y="2698920"/>
              <a:ext cx="59328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03880" y="3216960"/>
              <a:ext cx="1469520" cy="1593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33440" y="3057480"/>
              <a:ext cx="1111680" cy="286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03880" y="2899080"/>
              <a:ext cx="0" cy="350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9200" y="4809960"/>
              <a:ext cx="0" cy="175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74040" y="3504600"/>
              <a:ext cx="11034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99920" y="4768920"/>
              <a:ext cx="110448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173840" y="4782600"/>
              <a:ext cx="2226600" cy="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F5A-C381-4D83-9CBA-F72C8B38E2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orking Group Report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SWG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32464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Credit Issue Associa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With LaaR Bidding</a:t>
            </a:r>
            <a:r>
              <a:rPr b="1" lang="en-US" sz="48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DE1-14E7-4149-8166-FE8759CCEE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aR Bidding Behavior Created Credit Issu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4760" y="1096920"/>
            <a:ext cx="8084880" cy="533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5E6-24FD-4B80-9D0E-B1B23D5164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9240" y="3276720"/>
            <a:ext cx="8318160" cy="388800"/>
          </a:xfrm>
          <a:prstGeom prst="rect">
            <a:avLst/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9240" y="3733920"/>
            <a:ext cx="8318160" cy="650880"/>
          </a:xfrm>
          <a:prstGeom prst="rect">
            <a:avLst/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9240" y="4830840"/>
            <a:ext cx="8318160" cy="622080"/>
          </a:xfrm>
          <a:prstGeom prst="rect">
            <a:avLst/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240" y="2246400"/>
            <a:ext cx="8318160" cy="649080"/>
          </a:xfrm>
          <a:prstGeom prst="rect">
            <a:avLst/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17320" y="3790800"/>
            <a:ext cx="315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93240" bIns="932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617320" y="3289320"/>
            <a:ext cx="315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93240" bIns="932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588520" y="4933800"/>
            <a:ext cx="315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93240" bIns="932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17320" y="2246400"/>
            <a:ext cx="315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93240" bIns="932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59640" y="2495520"/>
            <a:ext cx="155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459640" y="3505320"/>
            <a:ext cx="155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459640" y="3997440"/>
            <a:ext cx="155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59640" y="5143680"/>
            <a:ext cx="155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ng Term Solutions Evaluat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am reviewed eight potential long term solution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vise settlement process and how defaults are process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vise credit provisions to require protection prior to bidding and create ability to monitor real t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ift credit risk to Resources rather than QS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separate markets, one for LaaRs and one for G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intain a single market clearing engine, but when LaaR is oversubscribed post  separate clearing prices for LaaR and Ge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y all ancillary services as bid (both Gen and Laa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dify current award mechanism for LaaRs; LaaRs offered at a price below MCPC are awarded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iminate sunset date on short term solution and modify system to reject negative offer pri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E58-416B-42D6-A7F5-42F497FB45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9680" y="396360"/>
            <a:ext cx="8470800" cy="3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igh Level Overview of Solu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95200" y="1252440"/>
          <a:ext cx="8475840" cy="4754520"/>
        </p:xfrm>
        <a:graphic>
          <a:graphicData uri="http://schemas.openxmlformats.org/drawingml/2006/table">
            <a:tbl>
              <a:tblPr/>
              <a:tblGrid>
                <a:gridCol w="2487600"/>
                <a:gridCol w="935280"/>
                <a:gridCol w="1311120"/>
                <a:gridCol w="1066680"/>
                <a:gridCol w="1121040"/>
                <a:gridCol w="1554120"/>
              </a:tblGrid>
              <a:tr h="866880">
                <a:tc>
                  <a:txBody>
                    <a:bodyPr lIns="93240" rIns="93240" tIns="93240" bIns="93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ternat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solves Credit Iss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Cost to Impl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me to Impl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Participants Impact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aR Participation Impa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3240" rIns="93240" tIns="93240" bIns="93240" anchor="t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. Collateralization for Negative Bid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arly 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9320">
                <a:tc>
                  <a:txBody>
                    <a:bodyPr lIns="93240" rIns="93240" tIns="93240" bIns="93240" anchor="t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. Single RRS Bid Stack with Separate LaaR and Gen MCPCs if Oversubscrib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arly 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9320">
                <a:tc>
                  <a:txBody>
                    <a:bodyPr lIns="93240" rIns="93240" tIns="93240" bIns="93240" anchor="t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. LaaR RRS Offered Below MCPC is Prorated when Market Oversubscrib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te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3240" rIns="93240" tIns="93240" bIns="93240" anchor="t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. Eliminate Sunset Provision on Current Solu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te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240" rIns="93240" tIns="93240" bIns="93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971800" y="3200400"/>
            <a:ext cx="623880" cy="625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4114800"/>
            <a:ext cx="623880" cy="625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887640" y="3425760"/>
            <a:ext cx="777960" cy="55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029120" y="4595760"/>
            <a:ext cx="466560" cy="335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6049800" y="3173400"/>
            <a:ext cx="1089360" cy="800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6438960" y="4595760"/>
            <a:ext cx="311040" cy="227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75360" y="6305400"/>
            <a:ext cx="6269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93240" bIns="932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Icon size represents relative impact when compared with other alternativ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2971800" y="5029200"/>
            <a:ext cx="623880" cy="625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605720" y="3273480"/>
            <a:ext cx="776160" cy="7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>
              <a:alpha val="33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50200" y="4440240"/>
            <a:ext cx="1009440" cy="542880"/>
          </a:xfrm>
          <a:prstGeom prst="leftRightArrow">
            <a:avLst>
              <a:gd name="adj1" fmla="val 50000"/>
              <a:gd name="adj2" fmla="val 37016"/>
            </a:avLst>
          </a:prstGeom>
          <a:solidFill>
            <a:srgbClr val="cc3300">
              <a:alpha val="33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67480" y="5334120"/>
            <a:ext cx="1009800" cy="544320"/>
          </a:xfrm>
          <a:prstGeom prst="leftRightArrow">
            <a:avLst>
              <a:gd name="adj1" fmla="val 50000"/>
              <a:gd name="adj2" fmla="val 36931"/>
            </a:avLst>
          </a:prstGeom>
          <a:solidFill>
            <a:srgbClr val="cc3300">
              <a:alpha val="33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873600" y="2363760"/>
            <a:ext cx="776160" cy="557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6049800" y="2184480"/>
            <a:ext cx="1089360" cy="799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605720" y="2262240"/>
            <a:ext cx="776160" cy="7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>
              <a:alpha val="33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4114800" y="5486400"/>
            <a:ext cx="311040" cy="222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2940120" y="2262240"/>
            <a:ext cx="623880" cy="62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F8BC-EA59-44F9-94A2-EBEE8CB5ED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mergency Load Response Program Upda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SWG given assignment to develop ELR Program for a 1 in 10 year loss of load event (LOLE); a probabilistic approach used to determine reserve margins &amp; resource adequac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osed rule 25.505 (resource adequacy) includes a “backstop” provision for emergency load response (ELR) contr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DC6-5649-47B0-B887-733B6F07C7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6:12:36Z</dcterms:created>
  <dc:creator>bbelk</dc:creator>
  <dc:description/>
  <dc:language>en-US</dc:language>
  <cp:lastModifiedBy>bbelk</cp:lastModifiedBy>
  <dcterms:modified xsi:type="dcterms:W3CDTF">2006-03-30T20:23:21Z</dcterms:modified>
  <cp:revision>27</cp:revision>
  <dc:subject/>
  <dc:title>WMS Report TO TAC</dc:title>
</cp:coreProperties>
</file>