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-2524320" y="227628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A8E-CF5F-4255-8A82-647A45EEB340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38880" y="64911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7DC3-20F8-4AE6-AC3E-DAECDACBB1F0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gy Texas Integration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 Brie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7/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Bojorqu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456160"/>
            <a:ext cx="4724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2160" y="1417680"/>
            <a:ext cx="4724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s status report on the initial studies is intended solely to provide an initial indication of the level of projects required;  the information provided herein is preliminary and several additional studies are recommen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integration of Entergy TX into ERCOT may defer or eliminate currently-planned standalone projects, the savings of which would offset the costs shown herei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s study does not address the requirements to integrate Entergy into ERCOT’s operations and market system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6672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pe of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minimum set of upgrades necessary to integrate Entergy Texas system into ERC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ERCOT thermal reliability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generation redispatch to resolve constraints where feas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costs and benefits of additional economically-driven transmission up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 sum of cost of upgrades and disp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Lewis Creek and Sabine units available and un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and transient stability studies will need to be performed to evaluate whether additional upgrades are required to meet reliability crite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32428" b="0"/>
          <a:stretch/>
        </p:blipFill>
        <p:spPr>
          <a:xfrm>
            <a:off x="304920" y="1079640"/>
            <a:ext cx="6180120" cy="577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1295280"/>
            <a:ext cx="3657600" cy="2533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acogdoches-Luf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ufkin-Cy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50MW DC Tie at Crocke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ewis Creek-Grimes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ewis Creek-Porter 230k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hina-Cedar Ba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98200" y="1146600"/>
            <a:ext cx="2040120" cy="907560"/>
            <a:chOff x="3598200" y="1146600"/>
            <a:chExt cx="2040120" cy="907560"/>
          </a:xfrm>
        </p:grpSpPr>
        <p:sp>
          <p:nvSpPr>
            <p:cNvPr id="96" name=""/>
            <p:cNvSpPr/>
            <p:nvPr/>
          </p:nvSpPr>
          <p:spPr>
            <a:xfrm rot="1783800">
              <a:off x="3809880" y="1143000"/>
              <a:ext cx="228600" cy="91440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038120" y="1523880"/>
              <a:ext cx="16002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697920" y="1828800"/>
            <a:ext cx="1940760" cy="3084120"/>
            <a:chOff x="3697920" y="1828800"/>
            <a:chExt cx="1940760" cy="3084120"/>
          </a:xfrm>
        </p:grpSpPr>
        <p:sp>
          <p:nvSpPr>
            <p:cNvPr id="99" name=""/>
            <p:cNvSpPr/>
            <p:nvPr/>
          </p:nvSpPr>
          <p:spPr>
            <a:xfrm rot="20512800">
              <a:off x="4177800" y="1830240"/>
              <a:ext cx="228600" cy="312444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962520" y="1828800"/>
              <a:ext cx="1676160" cy="838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28720" y="2438280"/>
            <a:ext cx="4809960" cy="2479680"/>
            <a:chOff x="828720" y="2438280"/>
            <a:chExt cx="4809960" cy="2479680"/>
          </a:xfrm>
        </p:grpSpPr>
        <p:sp>
          <p:nvSpPr>
            <p:cNvPr id="102" name=""/>
            <p:cNvSpPr/>
            <p:nvPr/>
          </p:nvSpPr>
          <p:spPr>
            <a:xfrm rot="1529400">
              <a:off x="817200" y="4409640"/>
              <a:ext cx="1295280" cy="241200"/>
            </a:xfrm>
            <a:prstGeom prst="rect">
              <a:avLst/>
            </a:prstGeom>
            <a:solidFill>
              <a:srgbClr val="ffff6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23880" y="2438280"/>
              <a:ext cx="4114800" cy="20574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705720" y="4419720"/>
            <a:ext cx="2438280" cy="1923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ypress-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300MW DC 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t Hart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abine-Hartbu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hina-S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itially-Identified Upgr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22240" y="2971800"/>
            <a:ext cx="2116440" cy="3714840"/>
            <a:chOff x="3522240" y="2971800"/>
            <a:chExt cx="2116440" cy="3714840"/>
          </a:xfrm>
        </p:grpSpPr>
        <p:sp>
          <p:nvSpPr>
            <p:cNvPr id="107" name=""/>
            <p:cNvSpPr/>
            <p:nvPr/>
          </p:nvSpPr>
          <p:spPr>
            <a:xfrm rot="3319800">
              <a:off x="4079880" y="5479200"/>
              <a:ext cx="173880" cy="144756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86200" y="2971800"/>
              <a:ext cx="1752480" cy="3429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17360" y="4620240"/>
            <a:ext cx="2240280" cy="1175040"/>
            <a:chOff x="4617360" y="4620240"/>
            <a:chExt cx="2240280" cy="1175040"/>
          </a:xfrm>
        </p:grpSpPr>
        <p:sp>
          <p:nvSpPr>
            <p:cNvPr id="110" name=""/>
            <p:cNvSpPr/>
            <p:nvPr/>
          </p:nvSpPr>
          <p:spPr>
            <a:xfrm rot="240000">
              <a:off x="4657320" y="4626000"/>
              <a:ext cx="206280" cy="116352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800240" y="4648320"/>
              <a:ext cx="2057400" cy="4572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800600" y="5715000"/>
            <a:ext cx="2057040" cy="457200"/>
            <a:chOff x="4800600" y="5715000"/>
            <a:chExt cx="2057040" cy="457200"/>
          </a:xfrm>
        </p:grpSpPr>
        <p:sp>
          <p:nvSpPr>
            <p:cNvPr id="113" name=""/>
            <p:cNvSpPr/>
            <p:nvPr/>
          </p:nvSpPr>
          <p:spPr>
            <a:xfrm rot="5400000">
              <a:off x="5279040" y="5236200"/>
              <a:ext cx="206280" cy="116352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5714640" y="5791320"/>
              <a:ext cx="1143000" cy="3808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37040" y="5020920"/>
            <a:ext cx="1020960" cy="852120"/>
            <a:chOff x="5837040" y="5020920"/>
            <a:chExt cx="1020960" cy="852120"/>
          </a:xfrm>
        </p:grpSpPr>
        <p:sp>
          <p:nvSpPr>
            <p:cNvPr id="116" name=""/>
            <p:cNvSpPr/>
            <p:nvPr/>
          </p:nvSpPr>
          <p:spPr>
            <a:xfrm rot="240000">
              <a:off x="5865840" y="5027760"/>
              <a:ext cx="228600" cy="83808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019920" y="5562720"/>
              <a:ext cx="8380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1600200" y="2133720"/>
            <a:ext cx="4038480" cy="15238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5520" y="4952880"/>
            <a:ext cx="762120" cy="76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79200" y="2743200"/>
            <a:ext cx="3782880" cy="2753640"/>
            <a:chOff x="1879200" y="2743200"/>
            <a:chExt cx="3782880" cy="2753640"/>
          </a:xfrm>
        </p:grpSpPr>
        <p:sp>
          <p:nvSpPr>
            <p:cNvPr id="121" name=""/>
            <p:cNvSpPr/>
            <p:nvPr/>
          </p:nvSpPr>
          <p:spPr>
            <a:xfrm rot="3415200">
              <a:off x="1811880" y="5015880"/>
              <a:ext cx="721800" cy="231120"/>
            </a:xfrm>
            <a:prstGeom prst="rect">
              <a:avLst/>
            </a:prstGeom>
            <a:solidFill>
              <a:srgbClr val="ffff6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26240" y="2743200"/>
              <a:ext cx="3435840" cy="23101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y Outcom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785600"/>
            <a:ext cx="990360" cy="1159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ose  Breakers &amp; 150MW Crockett 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960" y="323064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3311640"/>
            <a:ext cx="853920" cy="520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LC-G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7052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C n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bin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6" idx="3"/>
            <a:endCxn id="127" idx="2"/>
          </p:cNvCxnSpPr>
          <p:nvPr/>
        </p:nvCxnSpPr>
        <p:spPr>
          <a:xfrm>
            <a:off x="2271600" y="3571920"/>
            <a:ext cx="518400" cy="1591200"/>
          </a:xfrm>
          <a:prstGeom prst="bentConnector3">
            <a:avLst>
              <a:gd name="adj1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2"/>
          </p:cNvCxnSpPr>
          <p:nvPr/>
        </p:nvCxnSpPr>
        <p:spPr>
          <a:xfrm flipV="1">
            <a:off x="2271600" y="2271240"/>
            <a:ext cx="510480" cy="1301040"/>
          </a:xfrm>
          <a:prstGeom prst="bentConnector3">
            <a:avLst>
              <a:gd name="adj1" fmla="val 4982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2"/>
            <a:endCxn id="125" idx="0"/>
          </p:cNvCxnSpPr>
          <p:nvPr/>
        </p:nvCxnSpPr>
        <p:spPr>
          <a:xfrm flipH="1" rot="16200000">
            <a:off x="662760" y="3084840"/>
            <a:ext cx="283320" cy="8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5" idx="6"/>
            <a:endCxn id="126" idx="1"/>
          </p:cNvCxnSpPr>
          <p:nvPr/>
        </p:nvCxnSpPr>
        <p:spPr>
          <a:xfrm flipV="1">
            <a:off x="1188720" y="3571560"/>
            <a:ext cx="2293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7" idx="6"/>
            <a:endCxn id="134" idx="1"/>
          </p:cNvCxnSpPr>
          <p:nvPr/>
        </p:nvCxnSpPr>
        <p:spPr>
          <a:xfrm flipV="1">
            <a:off x="3703680" y="4495320"/>
            <a:ext cx="459360" cy="667440"/>
          </a:xfrm>
          <a:prstGeom prst="bentConnector3">
            <a:avLst>
              <a:gd name="adj1" fmla="val 4980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562720" y="4159080"/>
            <a:ext cx="76176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3"/>
            <a:endCxn id="135" idx="2"/>
          </p:cNvCxnSpPr>
          <p:nvPr/>
        </p:nvCxnSpPr>
        <p:spPr>
          <a:xfrm>
            <a:off x="5256000" y="4495680"/>
            <a:ext cx="306720" cy="7200"/>
          </a:xfrm>
          <a:prstGeom prst="bentConnector3">
            <a:avLst>
              <a:gd name="adj1" fmla="val 4970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401840" y="4452840"/>
            <a:ext cx="853920" cy="520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5" idx="5"/>
            <a:endCxn id="137" idx="1"/>
          </p:cNvCxnSpPr>
          <p:nvPr/>
        </p:nvCxnSpPr>
        <p:spPr>
          <a:xfrm flipH="1" rot="16200000">
            <a:off x="791280" y="4102200"/>
            <a:ext cx="897480" cy="324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459080" y="525456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2"/>
            <a:endCxn id="139" idx="0"/>
          </p:cNvCxnSpPr>
          <p:nvPr/>
        </p:nvCxnSpPr>
        <p:spPr>
          <a:xfrm flipH="1" rot="16200000">
            <a:off x="1694520" y="5109840"/>
            <a:ext cx="278280" cy="11880"/>
          </a:xfrm>
          <a:prstGeom prst="bentConnector3">
            <a:avLst>
              <a:gd name="adj1" fmla="val 4974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1324080" y="38401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41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62320" y="4129200"/>
            <a:ext cx="1094040" cy="733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Lufkin-Cypress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BY-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83120" y="54007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291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13560" y="4232160"/>
            <a:ext cx="108252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Naco-Luf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0280" y="474804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$20 M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0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5" idx="6"/>
            <a:endCxn id="143" idx="1"/>
          </p:cNvCxnSpPr>
          <p:nvPr/>
        </p:nvCxnSpPr>
        <p:spPr>
          <a:xfrm flipV="1">
            <a:off x="6324120" y="4495320"/>
            <a:ext cx="289440" cy="7200"/>
          </a:xfrm>
          <a:prstGeom prst="bentConnector3">
            <a:avLst>
              <a:gd name="adj1" fmla="val 4993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7085880" y="5105520"/>
            <a:ext cx="10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$42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48320" y="5524560"/>
            <a:ext cx="76212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9" idx="3"/>
            <a:endCxn id="147" idx="2"/>
          </p:cNvCxnSpPr>
          <p:nvPr/>
        </p:nvCxnSpPr>
        <p:spPr>
          <a:xfrm flipV="1">
            <a:off x="5257440" y="5866920"/>
            <a:ext cx="291240" cy="720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159080" y="5400360"/>
            <a:ext cx="1098720" cy="946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Lufkin-Cypress &amp; Hartburg 300MW 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1360" y="63547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66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3200400"/>
            <a:ext cx="121896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Cypress -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5360" y="3733920"/>
            <a:ext cx="92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$8 M P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33 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3" idx="0"/>
            <a:endCxn id="151" idx="1"/>
          </p:cNvCxnSpPr>
          <p:nvPr/>
        </p:nvCxnSpPr>
        <p:spPr>
          <a:xfrm flipH="1" flipV="1" rot="5400000">
            <a:off x="6888600" y="3729240"/>
            <a:ext cx="768960" cy="237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7469280" y="259092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$45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27" idx="6"/>
            <a:endCxn id="149" idx="1"/>
          </p:cNvCxnSpPr>
          <p:nvPr/>
        </p:nvCxnSpPr>
        <p:spPr>
          <a:xfrm>
            <a:off x="3703320" y="5162400"/>
            <a:ext cx="456120" cy="712080"/>
          </a:xfrm>
          <a:prstGeom prst="bentConnector3">
            <a:avLst>
              <a:gd name="adj1" fmla="val 497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1264320" y="22399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8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08760" y="4894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257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3760" y="5638680"/>
            <a:ext cx="10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$325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81360" y="1752480"/>
            <a:ext cx="1036440" cy="1036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/Lewis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Sabin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30" idx="6"/>
            <a:endCxn id="160" idx="1"/>
          </p:cNvCxnSpPr>
          <p:nvPr/>
        </p:nvCxnSpPr>
        <p:spPr>
          <a:xfrm>
            <a:off x="3817440" y="2271600"/>
            <a:ext cx="831240" cy="682920"/>
          </a:xfrm>
          <a:prstGeom prst="bentConnector3">
            <a:avLst>
              <a:gd name="adj1" fmla="val 4987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648320" y="2587680"/>
            <a:ext cx="1295280" cy="7333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Naco-Lufkin-Cy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99160" y="33498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$28.5 M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40 M 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8840" y="2727360"/>
            <a:ext cx="10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$29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309680"/>
            <a:ext cx="12956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Cedar Bayou-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7080" y="182880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$48 M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27 M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26760" y="1343160"/>
            <a:ext cx="10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$28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30" idx="6"/>
            <a:endCxn id="163" idx="1"/>
          </p:cNvCxnSpPr>
          <p:nvPr/>
        </p:nvCxnSpPr>
        <p:spPr>
          <a:xfrm flipV="1">
            <a:off x="3817440" y="1569240"/>
            <a:ext cx="826200" cy="702360"/>
          </a:xfrm>
          <a:prstGeom prst="bentConnector3">
            <a:avLst>
              <a:gd name="adj1" fmla="val 497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>
            <a:off x="5943600" y="1828080"/>
            <a:ext cx="1372320" cy="919800"/>
          </a:xfrm>
          <a:prstGeom prst="bentConnector3">
            <a:avLst>
              <a:gd name="adj1" fmla="val 499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7391520" y="1145880"/>
            <a:ext cx="1295280" cy="9464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CBY-China and China-Cy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4960" y="20718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$34.5 M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160 M 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0" r="32428" b="0"/>
          <a:stretch/>
        </p:blipFill>
        <p:spPr>
          <a:xfrm>
            <a:off x="304920" y="1079640"/>
            <a:ext cx="6180120" cy="577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486400" y="1295280"/>
            <a:ext cx="3657600" cy="2228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acogdoches-Luf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ufkin-Cy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50MW DC Tie at Crocke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ewis Creek-Grimes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hina-Cedar Ba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98200" y="1146600"/>
            <a:ext cx="2040120" cy="907560"/>
            <a:chOff x="3598200" y="1146600"/>
            <a:chExt cx="2040120" cy="907560"/>
          </a:xfrm>
        </p:grpSpPr>
        <p:sp>
          <p:nvSpPr>
            <p:cNvPr id="173" name=""/>
            <p:cNvSpPr/>
            <p:nvPr/>
          </p:nvSpPr>
          <p:spPr>
            <a:xfrm rot="1783800">
              <a:off x="3809880" y="1143000"/>
              <a:ext cx="228600" cy="91440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8120" y="1523880"/>
              <a:ext cx="16002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697920" y="1828800"/>
            <a:ext cx="1940760" cy="3084120"/>
            <a:chOff x="3697920" y="1828800"/>
            <a:chExt cx="1940760" cy="3084120"/>
          </a:xfrm>
        </p:grpSpPr>
        <p:sp>
          <p:nvSpPr>
            <p:cNvPr id="176" name=""/>
            <p:cNvSpPr/>
            <p:nvPr/>
          </p:nvSpPr>
          <p:spPr>
            <a:xfrm rot="20512800">
              <a:off x="4177800" y="1830240"/>
              <a:ext cx="228600" cy="312444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62520" y="1828800"/>
              <a:ext cx="1676160" cy="838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28720" y="2438280"/>
            <a:ext cx="4809960" cy="2479680"/>
            <a:chOff x="828720" y="2438280"/>
            <a:chExt cx="4809960" cy="2479680"/>
          </a:xfrm>
        </p:grpSpPr>
        <p:sp>
          <p:nvSpPr>
            <p:cNvPr id="179" name=""/>
            <p:cNvSpPr/>
            <p:nvPr/>
          </p:nvSpPr>
          <p:spPr>
            <a:xfrm rot="1529400">
              <a:off x="817200" y="4409640"/>
              <a:ext cx="1295280" cy="241200"/>
            </a:xfrm>
            <a:prstGeom prst="rect">
              <a:avLst/>
            </a:prstGeom>
            <a:solidFill>
              <a:srgbClr val="ffff6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523880" y="2438280"/>
              <a:ext cx="4114800" cy="20574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705720" y="4419720"/>
            <a:ext cx="2438280" cy="100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ypress-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300MW DC 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t Hart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itially-Identified Upgr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22240" y="2971800"/>
            <a:ext cx="2116440" cy="3714840"/>
            <a:chOff x="3522240" y="2971800"/>
            <a:chExt cx="2116440" cy="3714840"/>
          </a:xfrm>
        </p:grpSpPr>
        <p:sp>
          <p:nvSpPr>
            <p:cNvPr id="184" name=""/>
            <p:cNvSpPr/>
            <p:nvPr/>
          </p:nvSpPr>
          <p:spPr>
            <a:xfrm rot="3319800">
              <a:off x="4079880" y="5479200"/>
              <a:ext cx="173880" cy="144756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86200" y="2971800"/>
              <a:ext cx="1752480" cy="3429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17360" y="4620240"/>
            <a:ext cx="2240280" cy="1175040"/>
            <a:chOff x="4617360" y="4620240"/>
            <a:chExt cx="2240280" cy="1175040"/>
          </a:xfrm>
        </p:grpSpPr>
        <p:sp>
          <p:nvSpPr>
            <p:cNvPr id="187" name=""/>
            <p:cNvSpPr/>
            <p:nvPr/>
          </p:nvSpPr>
          <p:spPr>
            <a:xfrm rot="240000">
              <a:off x="4657320" y="4626000"/>
              <a:ext cx="206280" cy="1163520"/>
            </a:xfrm>
            <a:prstGeom prst="rect">
              <a:avLst/>
            </a:prstGeom>
            <a:solidFill>
              <a:srgbClr val="ffff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800240" y="4648320"/>
              <a:ext cx="2057400" cy="4572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1600200" y="2133720"/>
            <a:ext cx="4038480" cy="15238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95520" y="4952880"/>
            <a:ext cx="762120" cy="76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-Up Studies Recomm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1640" y="1143000"/>
            <a:ext cx="828072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4280" y="1295280"/>
            <a:ext cx="828036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UCT directs ERCOT to perform additional studies, the following are recomm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and voltage stability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lternative projects not included in init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r-term study, including load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standalone projects that would be deferred or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9:18:00Z</dcterms:created>
  <dc:creator>dwoodfin</dc:creator>
  <dc:description/>
  <dc:language>en-US</dc:language>
  <cp:lastModifiedBy>PRS 032306</cp:lastModifiedBy>
  <dcterms:modified xsi:type="dcterms:W3CDTF">2006-04-07T20:39:25Z</dcterms:modified>
  <cp:revision>116</cp:revision>
  <dc:subject/>
  <dc:title>Slide 1</dc:title>
</cp:coreProperties>
</file>