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C3E8-DE53-468C-9DE7-CE362FEB8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2227-A7A5-46B9-8C54-9158FA531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71A4-9434-46D4-A3DD-878219373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4529B-DA97-4BCE-BDFB-CA47C931D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AD3E-EE6B-4180-AC36-9CA4F46AB5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9DF7-E12F-4A89-935A-02BDD877D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D3E8-E6C5-4CD8-97A4-D97EC70D7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291E-EDE3-4C18-AF48-A2EF28F0A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3840"/>
            <a:ext cx="8229600" cy="18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9EFD-0977-4669-9AF0-588A34283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0FF6-0AE4-44B5-8AB2-CB85294F0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7940-8A74-4BB4-8D52-0D7FA4513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C6B8-B56C-4661-A645-5A82EB8AD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440"/>
            <a:ext cx="289584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B715-58DC-454A-8A85-091B29442D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39920"/>
            <a:ext cx="7772400" cy="17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CONOMIC TRANSMISSION PLA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of WMS Resolution Passed on March 22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5073480"/>
            <a:ext cx="640080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7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0029-0655-43F7-B6CF-591217CFD5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4588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AC Reque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ve a revision of ERCOT’s Planning Charter that supports the WMS recommendation to reflect both Societal and Consumer Surplus tes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81040" y="2560680"/>
            <a:ext cx="6180120" cy="1451160"/>
            <a:chOff x="1481040" y="2560680"/>
            <a:chExt cx="6180120" cy="1451160"/>
          </a:xfrm>
        </p:grpSpPr>
        <p:sp>
          <p:nvSpPr>
            <p:cNvPr id="123" name=""/>
            <p:cNvSpPr/>
            <p:nvPr/>
          </p:nvSpPr>
          <p:spPr>
            <a:xfrm>
              <a:off x="6869160" y="272088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ject Pro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71960" y="2560680"/>
              <a:ext cx="1636560" cy="7650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00560" y="270036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PV of SS &gt; NPV of T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38920" y="2560680"/>
              <a:ext cx="1636560" cy="7650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67520" y="270036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PV of CS &gt; NPV of T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81040" y="2674800"/>
              <a:ext cx="1438560" cy="552600"/>
            </a:xfrm>
            <a:prstGeom prst="flowChartPrepara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7720" y="2625480"/>
              <a:ext cx="112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antify SS &amp; CS over life of pro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11680" y="294948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8000" y="294948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981600" y="3328920"/>
              <a:ext cx="14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856480" y="3330360"/>
              <a:ext cx="14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8320" y="3591000"/>
              <a:ext cx="1536840" cy="3902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1160" y="355284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PG Recommend Project Approv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4640" y="3583080"/>
              <a:ext cx="1536840" cy="3902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27840" y="3544920"/>
              <a:ext cx="145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PG Recommend Project Approv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31080" y="2759040"/>
              <a:ext cx="666720" cy="3906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8720" y="29462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46680" y="3305160"/>
              <a:ext cx="47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26766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32560" y="268596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13640" y="3289320"/>
              <a:ext cx="47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B6D4-B44E-4F82-ACEE-FF55A1417A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65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BB25-5D28-463F-A908-93717912FA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enario1: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800600"/>
            <a:ext cx="441972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enerator Term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quiv. Hourly OOMC Start C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cost to start out of merit unit ($18k in this example) divided by total run hours (10 hrs in this exam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ning Cos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Output MW * Production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ion Cos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Running Cost + Equiv. Hourly OOMC Start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tor Revenue ($/hr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Output MW * Locational Marginal Price (LMP) at the bus + reimbursement for OOMC Start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tor Profi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Generator Revenue minus Production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800600"/>
            <a:ext cx="441936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ad Term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ear Price ($/MW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oad Zone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tial Cost ($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oad MW * Load Zone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 Of Merit Uplift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Equivalent Hourly OOMC Start Cost allocated to each Load Zone on a load ratio share (LRS)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gestion Refund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[Initial Cost + Out Of Merit Uplift] minus Generator Revenue, which is allocated to each Load Zone on a LRS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Cost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Initial Cost minus Congestion Ref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 Load Cost ($/MW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Final Cost by Load Zone divided by Load Zone M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773280"/>
            <a:ext cx="9144000" cy="39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E54C-B93D-4294-965A-82DED6B94A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6568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enario 2: Upgrade Transfer Capability by 1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27320" y="4952880"/>
            <a:ext cx="4689360" cy="12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303F-989C-40B2-944E-B3FE019111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enario 3: Upgrade Transfer Capability by 200 M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3933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27320" y="4876920"/>
            <a:ext cx="46893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F31C-F802-49EE-A9AF-947283687D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enario 4: Upgrade Transfer Capability by 3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227320" y="4952880"/>
            <a:ext cx="4689360" cy="12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5F11-2682-4319-B173-9098273AFC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enario 5: Upgrade Transfer Capability by 4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3930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27320" y="4876920"/>
            <a:ext cx="46893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A07D-52CA-4A46-A2EC-CD6B54A1BC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enario 6: Upgrade Transfer Capability by 5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227320" y="4952880"/>
            <a:ext cx="4689360" cy="12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2740-C624-4684-99AA-175EBF9184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enario 7: Upgrade Transfer Capability by 6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27320" y="4952880"/>
            <a:ext cx="4689360" cy="12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72F8-4282-48FC-ADCF-3BD9D00251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34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Overview- Approved WMS Resolutio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e a transmission project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V of Societal Surplus (SS) &gt; NPV of Incremental Transmission C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ervice (T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ly, consider a secondary test for approv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V of Consumer Surplus (CS) &gt; NPV of Incremental Transmis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Service (T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11B1-DEB0-4D1F-98E4-A000008354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24588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AC Reque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ve a revision of ERCOT’s Planning Charter that supports the WMS recommendation to reflect both Societal and Consumer Surplus tes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81040" y="2560680"/>
            <a:ext cx="6180120" cy="1451160"/>
            <a:chOff x="1481040" y="2560680"/>
            <a:chExt cx="6180120" cy="1451160"/>
          </a:xfrm>
        </p:grpSpPr>
        <p:sp>
          <p:nvSpPr>
            <p:cNvPr id="47" name=""/>
            <p:cNvSpPr/>
            <p:nvPr/>
          </p:nvSpPr>
          <p:spPr>
            <a:xfrm>
              <a:off x="6869160" y="272088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ject Pro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71960" y="2560680"/>
              <a:ext cx="1636560" cy="7650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00560" y="270036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PV of SS &gt; NPV of T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38920" y="2560680"/>
              <a:ext cx="1636560" cy="7650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67520" y="270036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PV of CS &gt; NPV of T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2674800"/>
              <a:ext cx="1438560" cy="552600"/>
            </a:xfrm>
            <a:prstGeom prst="flowChartPrepara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47720" y="2625480"/>
              <a:ext cx="112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antify SS &amp; CS over life of pro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1680" y="294948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88000" y="294948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981600" y="3328920"/>
              <a:ext cx="14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856480" y="3330360"/>
              <a:ext cx="14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08320" y="3591000"/>
              <a:ext cx="1536840" cy="3902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51160" y="355284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PG Recommend Project Approv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84640" y="3583080"/>
              <a:ext cx="1536840" cy="3902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7840" y="3544920"/>
              <a:ext cx="145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PG Recommend Project Approv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1080" y="2759040"/>
              <a:ext cx="666720" cy="3906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78720" y="29462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46680" y="3305160"/>
              <a:ext cx="47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57680" y="26766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32560" y="268596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13640" y="3289320"/>
              <a:ext cx="47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CFCC-C041-46D0-8707-D4819C5DB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Background and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5800" y="1074240"/>
            <a:ext cx="8229600" cy="559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discussion at WMS/CMWG over the past two mon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stakeholder concerns were voiced and review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build projects that provide long-term system benefits based on Societal Surplus metric as proposed by ERCO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 Societal Surplus benefit metric sometimes lead to recommending projects that actually have negative Consumer Surplus?  If so, how should these be tre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the Societal Surplus metric alone fully identify all of the projects that may provide significant near-term delivered cost reductions (i.e. CS) to REPs/Consumers by increasing their access to more efficient generation outside their load cen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two area system was developed to examine a series of individual transmission upgrade proposals to help answer thes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6E42-115E-409D-BE34-8087F11B2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38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 Case - Highly Constrained System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Scenario 1 in Append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800600"/>
            <a:ext cx="441972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enerator Term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quiv. Hourly OOMC Start C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cost to start out of merit unit ($18k in this example) divided by total run hours (10 hrs in this exam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ning Cos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Output MW * Production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ion Cos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Running Cost + Equiv. Hourly OOMC Start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tor Revenue ($/hr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Output MW * Locational Marginal Price (LMP) at the bus + reimbursement for OOMC Start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tor Profi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Generator Revenue minus Production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4800600"/>
            <a:ext cx="441936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ad Term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ear Price ($/MW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oad Zone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tial Cost ($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oad MW * Load Zone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 Of Merit Uplift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Equivalent Hourly OOMC Start Cost allocated to each Load Zone on a load ratio share (LRS)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gestion Refund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[Initial Cost + Out Of Merit Uplift] minus Generator Revenue, which is allocated to each Load Zone on a LRS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Cost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Initial Cost minus Congestion Ref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 Load Cost ($/MW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Final Cost by Load Zone divided by Load Zone M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773280"/>
            <a:ext cx="9144000" cy="3933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14360" y="311472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1000" y="311472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B3C0-FEDE-4FA1-898B-BFE832887F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letely De-Bottlenecked Upgrade Set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Scenario 7 in Append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61372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refer to the Appendix for a detailed project-by-project walk forward of successive projects that build serially upon one another to achieve the end state shown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14360" y="311472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1000" y="311472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4B36-1379-4853-953A-E044C0FBD5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5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11240"/>
            <a:ext cx="7634160" cy="2349720"/>
            <a:chOff x="355680" y="1911240"/>
            <a:chExt cx="7634160" cy="2349720"/>
          </a:xfrm>
        </p:grpSpPr>
        <p:sp>
          <p:nvSpPr>
            <p:cNvPr id="83" name=""/>
            <p:cNvSpPr/>
            <p:nvPr/>
          </p:nvSpPr>
          <p:spPr>
            <a:xfrm>
              <a:off x="7305840" y="3814920"/>
              <a:ext cx="67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55680" y="1911240"/>
              <a:ext cx="7634160" cy="2349720"/>
              <a:chOff x="355680" y="1911240"/>
              <a:chExt cx="7634160" cy="2349720"/>
            </a:xfrm>
          </p:grpSpPr>
          <p:sp>
            <p:nvSpPr>
              <p:cNvPr id="85" name=""/>
              <p:cNvSpPr/>
              <p:nvPr/>
            </p:nvSpPr>
            <p:spPr>
              <a:xfrm>
                <a:off x="355680" y="3376440"/>
                <a:ext cx="6954840" cy="884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225360" indent="-225360">
                  <a:spcBef>
                    <a:spcPts val="37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A project with a large Societal Surplus, but a Negative Consumer Surplus, is an indication that more upgrades are likely neede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5360" indent="-225360">
                  <a:spcBef>
                    <a:spcPts val="37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ject would be recommended if NPV of SS &gt; NPV of TCO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989840" y="1911240"/>
                <a:ext cx="0" cy="1913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7305480" y="1916280"/>
                <a:ext cx="67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355680" y="2092320"/>
            <a:ext cx="7900920" cy="2909880"/>
            <a:chOff x="355680" y="2092320"/>
            <a:chExt cx="7900920" cy="2909880"/>
          </a:xfrm>
        </p:grpSpPr>
        <p:sp>
          <p:nvSpPr>
            <p:cNvPr id="89" name=""/>
            <p:cNvSpPr/>
            <p:nvPr/>
          </p:nvSpPr>
          <p:spPr>
            <a:xfrm>
              <a:off x="355680" y="4348080"/>
              <a:ext cx="6954840" cy="6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 projects where the Societal Surplus is dominated by Consumer Surpl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ach project would be recommended if NPV of SS &gt; NPV of T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53360" y="2092320"/>
              <a:ext cx="162000" cy="480960"/>
            </a:xfrm>
            <a:custGeom>
              <a:avLst/>
              <a:gdLst>
                <a:gd name="textAreaLeft" fmla="*/ 0 w 162000"/>
                <a:gd name="textAreaRight" fmla="*/ 58320 w 162000"/>
                <a:gd name="textAreaTop" fmla="*/ 12240 h 480960"/>
                <a:gd name="textAreaBottom" fmla="*/ 4687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10520" y="4705200"/>
              <a:ext cx="94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256600" y="2330280"/>
              <a:ext cx="0" cy="237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562880" y="2335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55680" y="2825640"/>
            <a:ext cx="8186760" cy="3113280"/>
            <a:chOff x="355680" y="2825640"/>
            <a:chExt cx="8186760" cy="3113280"/>
          </a:xfrm>
        </p:grpSpPr>
        <p:sp>
          <p:nvSpPr>
            <p:cNvPr id="95" name=""/>
            <p:cNvSpPr/>
            <p:nvPr/>
          </p:nvSpPr>
          <p:spPr>
            <a:xfrm>
              <a:off x="355680" y="5081760"/>
              <a:ext cx="696420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with substantially smaller Societal Surplus than Consumer Surpl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ithout considering a Consumer Surplus metric this project may not be funded leaving Consumers/REPs in a precarious situ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24560" y="5529240"/>
              <a:ext cx="12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542440" y="2825640"/>
              <a:ext cx="0" cy="270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7314840" y="2825640"/>
              <a:ext cx="12222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55680" y="3073320"/>
            <a:ext cx="8462880" cy="3568680"/>
            <a:chOff x="355680" y="3073320"/>
            <a:chExt cx="8462880" cy="3568680"/>
          </a:xfrm>
        </p:grpSpPr>
        <p:sp>
          <p:nvSpPr>
            <p:cNvPr id="100" name=""/>
            <p:cNvSpPr/>
            <p:nvPr/>
          </p:nvSpPr>
          <p:spPr>
            <a:xfrm>
              <a:off x="355680" y="6014880"/>
              <a:ext cx="696420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with negligible Societal Surplus and negative Consumer Surpl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sumers/REPs shouldn’t be required to fund this proj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0520" y="6334200"/>
              <a:ext cx="1508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813880" y="3073320"/>
              <a:ext cx="4680" cy="326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314840" y="3078000"/>
              <a:ext cx="149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3880" y="614520"/>
            <a:ext cx="6956640" cy="25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CF91-9BB7-4E49-80ED-4FFF886F6E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Observations (con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5680" y="2144880"/>
            <a:ext cx="7900920" cy="3286080"/>
            <a:chOff x="355680" y="2144880"/>
            <a:chExt cx="7900920" cy="3286080"/>
          </a:xfrm>
        </p:grpSpPr>
        <p:sp>
          <p:nvSpPr>
            <p:cNvPr id="107" name=""/>
            <p:cNvSpPr/>
            <p:nvPr/>
          </p:nvSpPr>
          <p:spPr>
            <a:xfrm>
              <a:off x="355680" y="3605040"/>
              <a:ext cx="6954840" cy="182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ose that a project set with upgrades 2 thru 5 was approved based on the Societal Surplus (SS) test and upgrade 6 could not be justified on SS al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grade 6 provides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ght tim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more Consumer Surplus benefit than Societal Surplus benefit and will likely would be justified by the secondary Consumer Surplus te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53360" y="2144880"/>
              <a:ext cx="152280" cy="11109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0960"/>
                <a:gd name="textAreaBottom" fmla="*/ 1082160 h 11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0520" y="4505400"/>
              <a:ext cx="94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251920" y="2692080"/>
              <a:ext cx="4680" cy="180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562880" y="26971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55680" y="3054240"/>
            <a:ext cx="8186760" cy="3487680"/>
            <a:chOff x="355680" y="3054240"/>
            <a:chExt cx="8186760" cy="3487680"/>
          </a:xfrm>
        </p:grpSpPr>
        <p:sp>
          <p:nvSpPr>
            <p:cNvPr id="113" name=""/>
            <p:cNvSpPr/>
            <p:nvPr/>
          </p:nvSpPr>
          <p:spPr>
            <a:xfrm>
              <a:off x="355680" y="5619600"/>
              <a:ext cx="6964200" cy="92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e de-bottlenecking of a constraint is stopped too soon, the Consumers/REPs will be left paying for a set of upgrades without recognizing a fair return for their inves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24560" y="6095880"/>
              <a:ext cx="12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537400" y="3054240"/>
              <a:ext cx="5040" cy="303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7314840" y="3054240"/>
              <a:ext cx="12222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9840" y="836640"/>
            <a:ext cx="6956280" cy="257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D240-9FC4-471A-BAB9-2EEBC1FE6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3200" y="1074240"/>
            <a:ext cx="81583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ample system has illustr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the potential concern of approving a project based on Societal Surplus benefits that has negative Consumer Surplus is a non issue.  It likely means that more upgrade projects are still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t is necessary to approve projects based on Consumer Surplus even if Societal Surplus alone doesn’t justify it.  This is necessary to allow Consumers/REPs to recognize a fair &amp; timely return on their transmission upgrade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C2BB-3816-4134-9B2B-ACEE403AF5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4:00:50Z</dcterms:created>
  <dc:creator>Registered User</dc:creator>
  <dc:description/>
  <dc:language>en-US</dc:language>
  <cp:lastModifiedBy>Registered User</cp:lastModifiedBy>
  <dcterms:modified xsi:type="dcterms:W3CDTF">2006-04-03T23:59:36Z</dcterms:modified>
  <cp:revision>55</cp:revision>
  <dc:subject/>
  <dc:title>Slide 1</dc:title>
</cp:coreProperties>
</file>