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E89AEF-269F-4D47-8AB3-5D747B44F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s to these documents are included in th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101-3962-436F-B855-FCE22EEB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79F-332B-4EE7-A9C3-C1E4EED8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3380-5344-4989-851D-D0CCF9EB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A7E-F800-423F-837E-1872CA74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B4D3-C00A-47F0-97E9-4F0EC1A0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0B63-DDAE-402F-AA08-B2906D26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C568-3E04-4CE5-A502-B9B186D6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B5DB-0A58-4465-8BDE-04E02D42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BD96-709E-4CEC-BF37-020CCF51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7891-885E-4E3A-8A2A-E4179A07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C8F1-A399-43AF-AEA5-ADC6930A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8F6A-F796-4071-A53C-0E3E1DD9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2B05-6092-41CC-BE22-72B5816E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9EB8-1C92-450F-83EC-64677307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E2AE-2C64-4914-9BA9-608FC2BB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FA93-77AE-45DB-9246-55D97522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F302-FE9C-447C-AEAF-B88D207E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2B8E-12AE-4110-B25D-68AED9A9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E76B-B993-4412-8177-F7EDD332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F9CB-9C89-41C7-8A12-43E3AB76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250-56D3-4DDE-913D-CB08091A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E8CD-64AB-4FFB-B349-F9AB187E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997-657E-48D8-9D7D-56145944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5157-A08D-4605-B448-72A920B4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36FB-C3CD-4264-A138-97ABFAF9CB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3D09-CF1F-45AA-8051-AA90A8A6BC0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protocol/docs/32350_1_502178.PDF" TargetMode="External"/><Relationship Id="rId3" Type="http://schemas.openxmlformats.org/officeDocument/2006/relationships/hyperlink" Target="http://interchange.puc.state.tx.us/WebApp/Interchange/application/dbapps/login/pgLogin.asp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lists.ercot.com/cgi-bin/majordomo" TargetMode="External"/><Relationship Id="rId3" Type="http://schemas.openxmlformats.org/officeDocument/2006/relationships/hyperlink" Target="http://www.ercot.com/services/training/23rd_Annual_ERCOT_Operations_Training_Seminar.html" TargetMode="External"/><Relationship Id="rId4" Type="http://schemas.openxmlformats.org/officeDocument/2006/relationships/hyperlink" Target="http://www.ercot.com/services/training/23rd_Annual_ERCOT_Operations_Training_Seminar.html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iance Upda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ril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liance Program Development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January 3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ERCOT filed i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Compliance Proces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in response to PUCT Substantive Rule 25.503(j), after lengthy review with Commission Staff – Docket 32350 assigned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chnical conference held on March 2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adline for initial written comments is April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PUCT Interchan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liance Program Developme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 Compliance presented information about its Compliance Enforcement Program to the NERC Board of Trustees Compliance Committee on March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 Compliance is currently registering ERCOT Entities responsible for NERC Reliability Standards.  This is in support of NERC’s filing to be the Electric Reliability Organization (ERO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rol Performance Highligh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’s March score was 143.16 which is the second best score in over 3½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ch thru June have typically been ERCOT’s poorest performing months in last 3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5 QSEs passed the measure in February – 7 non-wind-only QSEs failed in March (preliminar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itional QSEs (36 total) due to break-up of QSEs into multiple sub-Q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posted on the ERCOT Compliance Web P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COT’s CPS1 Monthly Tre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QSE PRR525 10-Minute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rval Sc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E Performance Monitor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E Performance Monitoring scores for all QSEs are published on the Compliance Webs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E Performance Sc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975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525 Passing 10-Min Interval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ercentage Tre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-Factor Comparison of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ebruary 525 Sco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formation and Train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QSE should be represented on the Performance Disturbance Compliance Working Group (PDCWG) and attend the meeting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sign an ERCOT Confidentiality Agreement prior to attending or receiving material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subscribe to the PDCWG E-Mail List, go to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lists.ercot.com/cgi-bin/majordomo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ttend the 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ERCOT Operations Training Seminar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(5 consecutive weeks beginning March 27th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LGrimm</cp:lastModifiedBy>
  <dcterms:modified xsi:type="dcterms:W3CDTF">2006-04-05T19:39:00Z</dcterms:modified>
  <cp:revision>113</cp:revision>
  <dc:subject/>
  <dc:title>PRR 525 Compliance Analysis</dc:title>
</cp:coreProperties>
</file>