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5E7-3F0A-4CA2-AC5D-2C64B4FC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C10-9E89-4959-9238-3953DE2C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BAD-1DEC-410A-90B1-82187E6B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83C-4B9B-4EE0-944E-8F21DF25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0844-4D48-4CD2-8C80-F878DD25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D2B-8A37-4F8C-8921-9D74610B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940-972F-45A2-B8BA-8DA4E026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51FD-162F-4466-A220-0D006600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FFCA-CB49-459B-8600-EC2553C4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FDE1-B874-49E1-9139-1B3E3E2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DFF-0E2E-404F-840D-6DA6AE34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F02-3ACC-4C1A-836D-7240ED7E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69A4-C8D7-4E8B-9D35-C841D19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FA94-36D1-41B6-997A-EDAD672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B959-3559-45B2-AD2F-F918263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230F-414B-4698-99C0-DBAE564B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9A71-B0CA-4C7E-B7B5-B8CCE5C1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773-DF49-4476-9E74-C9AE8A16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167-7959-42F9-AE83-35CEB376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EE8-886C-4346-9063-0C996122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97F-DBF0-4290-BDC6-5A77509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B79-840F-4C3D-99B0-7540BBF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DC2-330F-4F0D-B845-918376B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A64-71CE-43E7-8036-3249DC1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85F3-E150-411D-883E-0E4CB2EA66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9EA5-B6C5-4412-ADDF-D0AA485933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MS Update to TAC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7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 Participant Implementation Schedule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Schedul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92480" y="2231640"/>
            <a:ext cx="5479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ard Approval - 5/16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Initiation - 5/22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of Planning Phase - 6/5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Requirements Development - 6/5/06 to 7/17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Requirements Sign-off - 7/17/24 to 7/24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ptual Design Development - 7/24/06 to 8/7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ail Design Development - 8/07/06 to 9/18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ail Design Sign-off - 9/18/06 to 10/02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/ Unit and Product Testing - 10/02/06 to 12/11/0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ration and User Acceptance Testing - 12/11/06 to 2/5/0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ight -  End of flight 0107 as defined by TTP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 implementation date - 3/31/07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Mass Transition Next Step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requesting urgent status submitted to PRS for reprioritizing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GRR will be submitted to RMS for consideration in 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MS Update to TA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RMS Voting Item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GRR032- Transaction Timing Matrix Cor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updates to Appendix D to correct examples for Move In, Drop to AREP, Permit , Historical Usage, Final Usag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nimously approved at 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RMS Voting Item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GRR033- Process for Retail Market Guide Revi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rd Approval of Project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to withdraw, reject, appeal an RMG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revisions by ERCOT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at RMS with two abstentions from Generator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3000" y="5889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RMS Voting Item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S Procedures Revision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references to Retail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references to approval process at PRS, TAC and the 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d references to Profil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details on the Subcommittee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to standing Working Groups and materials requiring RMS appro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at RMS with one abstention from Consumer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 Updat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 SET reviewed Long Term solution for phased approach as directed by T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I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itiating switch transaction as Next Retail Business Day instead of POLR with FAS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ode in the existing switch transaction identifying Mass Transition ESI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system changes for CRs who do not currently accept a drop transaction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I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s customer information will be provided from defaulting REP under current marke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existing transactions and current Protocol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pending transaction exceptions will be handled under curr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 Updat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II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processes and business rules to address pending transactions for 56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codes to specifically identify rejected or unexecuteable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II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s customer information will be provided from defaulting REP under current marke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- Phase I Timeline Protocol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63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343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4876920"/>
            <a:ext cx="76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46483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943600"/>
            <a:ext cx="33526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3 Business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181480"/>
            <a:ext cx="6782040" cy="533520"/>
          </a:xfrm>
          <a:prstGeom prst="rightArrow">
            <a:avLst>
              <a:gd name="adj1" fmla="val 50000"/>
              <a:gd name="adj2" fmla="val 3177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1828800"/>
            <a:ext cx="2209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Announces Mass Transition and Performs ESI ID sync with TD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743200"/>
            <a:ext cx="22860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ESI ID Verification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429000"/>
            <a:ext cx="28875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generates Mass Transition Drop transactions for requesting off cycle read for next business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876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116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5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133720"/>
            <a:ext cx="25909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sends response to drop transaction with meter read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743200"/>
            <a:ext cx="238752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forwards Drop transaction and Historical Usage to PO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452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8600" y="2590920"/>
            <a:ext cx="3808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66688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35053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060640"/>
            <a:ext cx="25905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ed meter read transactions are sent to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2743200"/>
            <a:ext cx="175284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receives meter reads completing Mass 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487692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y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857640" y="2590920"/>
            <a:ext cx="3049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620120" y="37339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8954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ective Date of Meter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50496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Mass Transition- Phase I Timeline Actual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63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43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4876920"/>
            <a:ext cx="76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6483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5943600"/>
            <a:ext cx="33526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3 Business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181480"/>
            <a:ext cx="6782040" cy="533520"/>
          </a:xfrm>
          <a:prstGeom prst="rightArrow">
            <a:avLst>
              <a:gd name="adj1" fmla="val 50000"/>
              <a:gd name="adj2" fmla="val 3177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1828800"/>
            <a:ext cx="2209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Announces Mass Transition and Performs ESI ID sync with TD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743200"/>
            <a:ext cx="22860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ESI ID Verification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29000"/>
            <a:ext cx="28875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generates Mass Transition Drop transactions for requesting off cycle read for next business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876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876920"/>
            <a:ext cx="5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2133720"/>
            <a:ext cx="25909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sends response to drop transaction with meter read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743200"/>
            <a:ext cx="23878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forwards Drop transaction and Historical Usage to PO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4520" y="48769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8600" y="2590920"/>
            <a:ext cx="3808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2060640"/>
            <a:ext cx="25905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ed meter read transactions are sent to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743200"/>
            <a:ext cx="175284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receives meter reads completing Mass 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487692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y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857640" y="2590920"/>
            <a:ext cx="3049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20120" y="37339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42840" y="419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71440" y="419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276360" y="266688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429000" y="3429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505320"/>
            <a:ext cx="13716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ective Date of Meter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57600" y="3962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arket Participant Implementation Schedule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R 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xa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1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iant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Support Market Maj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n POLR 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nt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ro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rce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Cho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2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en Mount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XU Ener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DS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E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NM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1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XU 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-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C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-31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4-06T18:58:27Z</dcterms:modified>
  <cp:revision>35</cp:revision>
  <dc:subject/>
  <dc:title>RMS Update to TAC</dc:title>
</cp:coreProperties>
</file>