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067-22E7-4996-812C-55E1225C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56A-4490-48EA-A4DA-EA9F957D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D03-1A62-423B-8141-8401920D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7B8-8E17-4C5D-8870-BDA97E27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26C-02B7-4FC7-B012-AD848416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9D0-9076-4A46-BE0E-92707EB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D6F3-8209-4D27-A5B7-014805C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8B9-158D-482A-AE2B-D49F010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0B8C-8EDE-4B71-BDF1-577593A3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4E4-9AF1-42B1-B497-E73A3511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B13E-B3E9-47CF-AC7C-4E3DF8B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30A-0F28-4D7B-8A31-DDA99670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4B1-EEAC-46CB-979A-6502460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DBE-77D5-45EE-917C-F060458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10ED-60E2-4187-8F74-681A7BD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798-08BA-4A8B-BDA9-095C130E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1C9-BD25-4D79-824F-DAF8A81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94A-685F-4151-AB52-7447FCA7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108-502D-4EF4-8553-B3ED660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4A9-E33A-4AE6-A38C-EB95DA1A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FCD-2E20-4F90-954F-0118206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CAE-5A8B-417B-9FB8-7C91703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02D-4EF5-4FF3-B5CC-45D583C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7AC-8022-44C2-9D10-862B9EF4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643-3477-4F88-B110-FCBEA8794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0B8-F05D-4118-9144-C5390B271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UFE Task Force Meeting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pril 21, 2006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representation from most TDSPs (CNP, AEP, TNMP and TXU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EP and CNP had very similar suggestions for improving the distribution loss factor calculation formul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ensus that either changing the formula or using a look-up table would make distribution line losses more accura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ensus that UFE TF should consider the alternatives and draft a PR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Example of curv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47920"/>
          <a:ext cx="67057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6705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6:12:47Z</dcterms:created>
  <dc:creator>CEG</dc:creator>
  <dc:description/>
  <cp:keywords/>
  <dc:language>en-US</dc:language>
  <cp:lastModifiedBy>ERCOT</cp:lastModifiedBy>
  <dcterms:modified xsi:type="dcterms:W3CDTF">2006-04-24T20:00:41Z</dcterms:modified>
  <cp:revision>3</cp:revision>
  <dc:subject/>
  <dc:title>UFE Task Force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