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66B5-3AF1-4095-8F69-BBBF2153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example on this slid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1: Pick days that are exceptionally different comparing kWh for profile to sampl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2: Same as above but presenting interval % of k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example on this slid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1: Pick days that are exceptionally different comparing kWh for profile to sampl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2: Same as above but presenting interval % of k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9F5-6B34-4381-AFD9-555023D0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DE6-355E-4DFD-8C33-DB6FCAB3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87E-CDD5-4096-BDBD-586E1FE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8FF-31B8-4BE1-8011-927C640A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D4C-476E-49AC-A1E7-52BB1323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4CB6-86A3-4800-BD87-33A73CA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669E-ED66-44B9-9ADA-FEF28C4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A1D4-F569-4EFF-AA43-5E00840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5E8-D374-4379-BE70-DCF72D96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987E-4F08-4722-80D9-9423F557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FA5-8914-4C73-8602-CD0DC9A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9D6-2F6A-4010-953D-A03BEB44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9059-94AD-44AE-92F7-D814EBD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FE6-128A-4684-9C8F-1B8B526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F5F2-9102-4346-B587-FAB1864E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8A93-7661-4681-AFF3-B22AE9A0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3E92-E134-4664-94B3-12846E4A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EE0-46D2-41B9-8FC9-0989002B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6DE-6675-48F3-9FB9-6CD5607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151-E0F2-4797-ADCB-7B47E49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FCA-A02F-43DC-A80E-504F1FC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3BF-5810-4A29-B71D-81DBF34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FEE-0816-43E2-926C-C63359B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E88-7966-497E-BB62-25333FF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77F-A0BD-4C1F-A6EC-EE26903BDF3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4CF-9885-4B85-9DD1-71B17FC98FC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6/03/20060330-PWG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RS Report of Initial Find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Action Plan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360" y="3276360"/>
            <a:ext cx="6476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ril 28, 200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29840" y="511200"/>
            <a:ext cx="62247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LR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40176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leted preliminary Oil/Gas analy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685800" indent="-40176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leted initial comparison of LRS estimates to current profile load val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084320" indent="25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alysis period 11-01-2004 to 10-31-200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084320" indent="25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alysis based on current Load Profile ID assignment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084320" indent="25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alysis accounted for sample and population migrations since date of sample sele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084320" indent="25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parisons highlighted differences between the profiles and the load research estimates in terms both of magnitude and shap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084320" indent="25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parisons slides parallel ERCOT’s UFE Analysis reports to help assess the contribution of profiling error to UF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08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49A-A8FC-4773-B4E7-5199EB074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9840" y="511200"/>
            <a:ext cx="60310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estone 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spcAft>
                <a:spcPts val="9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06/30/06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 Round 2 sample point analysis and design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9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08/31/06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 Complete profile model building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9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1/30/06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Stakeholder process of reviewing new models comple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9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2/31/06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Round 2 sample point installation comple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spcAft>
                <a:spcPts val="1199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04/30/07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150 day notification completed and new models implemente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70D-98C5-4BEF-88A9-9439115EF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321840"/>
            <a:ext cx="62247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Initial LR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0844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666880"/>
            <a:ext cx="66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o see the initial LRS comparisons for all Profile Types and Weather Zones refer to the following link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rcot.com/calendar/2006/03/20060330-PWG.ht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AFA-EB2C-4D03-8BB1-6457BE9C7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6929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and Sample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1360" y="6316560"/>
            <a:ext cx="553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50000">
                <a:solidFill>
                  <a:srgbClr val="292929"/>
                </a:solidFill>
                <a:latin typeface="Arial"/>
              </a:rPr>
              <a:t>5</a:t>
            </a:r>
            <a:r>
              <a:rPr b="1" lang="en-US" sz="800" spc="-1" strike="noStrike" baseline="50000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292929"/>
                </a:solidFill>
                <a:latin typeface="Arial"/>
              </a:rPr>
              <a:t>Day of highest total absolute kWh difference for 11/01/04 thru 10/31/05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2160" y="1676520"/>
            <a:ext cx="1401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BUSLOLF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EAS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595520"/>
            <a:ext cx="6629400" cy="469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flipH="1" rot="342600">
            <a:off x="4628520" y="2476440"/>
            <a:ext cx="495360" cy="5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AC9-1647-44BC-9C12-2FC1EAE4D0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-15228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and Sample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2160" y="1677960"/>
            <a:ext cx="1401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BUSLOLF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EAS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509840"/>
            <a:ext cx="7010640" cy="53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27C-4014-4E2A-A436-A3E4B2BDE9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and Sampl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211480"/>
            <a:ext cx="769608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85C-A096-4FDB-9E7C-9C21EB5CB6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23888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9F6-E7F5-4B1D-A182-07B4C0E43D1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8:31:11Z</dcterms:created>
  <dc:creator>bboswell</dc:creator>
  <dc:description/>
  <dc:language>en-US</dc:language>
  <cp:lastModifiedBy>jashbaugh</cp:lastModifiedBy>
  <dcterms:modified xsi:type="dcterms:W3CDTF">2006-04-28T14:03:05Z</dcterms:modified>
  <cp:revision>218</cp:revision>
  <dc:subject/>
  <dc:title>LRS Planning Meeting</dc:title>
</cp:coreProperties>
</file>