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484-1423-483C-B070-6B0CC2CD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89B-7651-4645-92A7-4E0AB5C4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FF8-A04D-463F-A706-F040D047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B4B-20F2-4B6E-B59A-3049698E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DE2-0D8D-48C5-A2CC-D79A2763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48C-7DBC-4DC9-B754-00012E23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371-66DB-4EF9-BAF4-89B09767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250-2127-45B2-8A14-C8F819D9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9FA-4D13-4F28-A8F2-6E9BB598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8BF-16C2-41D8-8EDE-26A8F695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610-EFD5-48B2-AFA0-3D671B4A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398-CEC2-4C5E-8E59-49340BFD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98E5-41D0-4352-BD64-065D1DA1D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Production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ies for MP testing prior to rel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 4/28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 Control (OP8.ReleaseManagement.d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/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T /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6 statistics year-to-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1/2006 – 4/27/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0 SIRs/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8 – R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– Whole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– EDW/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– R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– Whole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– EDW/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1/2006 – 4/27/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cts resolved during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 – R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– Whole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 – EDW/EIS (since 1/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roll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– R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– Whole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– EDW/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1/2006 – 4/27/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production issues with potential affect to the market – part of planned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30/06 – “Report Explorer Legac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R 10347 (MID Pro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/27/06 – API/TML Connectivity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R 10343 (MID Pro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/27/06 – Late Statement Po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R 10430 (MID Pro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/24/06 – Late Statement Po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error (MID Pro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roduction issue with potential affect to the market – not part of planned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23/06 – USA Function ou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sign made a code change without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igatio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Test environment that mirrors production (July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criteria:  If the business requirements and/or detail design require or potentially require a systemic change for any Market Particip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to support Market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Test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TPT / MCT / TX SET-type sub-group for Wholesale, EDW/EIS, and Corporate Apps (i.e. ERCOT.co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hardware / environment requirements to support marke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 of Market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s for implementation of all projects / S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cost for all projects / S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 SET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arke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Up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rke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H Up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rke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star Up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rke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rke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 systems for 6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rke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 to established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o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testing fo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rket testing for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5:22:00Z</dcterms:created>
  <dc:creator>gwingerd</dc:creator>
  <dc:description/>
  <dc:language>en-US</dc:language>
  <cp:lastModifiedBy>gwingerd</cp:lastModifiedBy>
  <dcterms:modified xsi:type="dcterms:W3CDTF">2006-04-27T22:34:38Z</dcterms:modified>
  <cp:revision>10</cp:revision>
  <dc:subject/>
  <dc:title>Slide 1</dc:title>
</cp:coreProperties>
</file>