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8832-D013-4B3C-8802-B72878A0E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74ED-5087-412B-AE4D-176EFC48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EF02-3C55-4A3B-94BE-A1BF3C929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C1D5-B385-451B-ADE0-F7D996F5E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9894-A384-447F-BBF2-C8BCA20B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1E66-BE16-4901-9A4B-47EA2247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9174-7BA8-48E6-9D49-B0C8086C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43CE-1B20-43BC-876D-AB96C957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0DA1-1B22-40C0-ABFD-2BD17D8F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BB9A-1D7C-4C86-BEBC-659E1A2C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BEA9-88DB-4F5B-8063-71383753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0AE2-AE2A-4004-96A1-4A68B408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87BE-0146-4673-A849-40D37E920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PS Communication Working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 held on 4/3/06 from 9:30 – 3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mpleted System Outage Communication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mission of COPMGRR002 – To be discussed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viewed ERCOT’s email list serve for outage not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utage notifications will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contin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be sent to notice_release_retail and notice_release_wholesal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viewed ERCOT notificatio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ill include UNPLANNED OUTAGE within subject line of 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urrent timeframe for planned and unplanned outage not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days notice for planned ou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 than 10 days notice for unplanned ou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scussed SCR 748 – Website Enhancements for ERCOT Outage Not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ion: Leverage SCR 748 language with 24x7 Notice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ce TAC directed CCWG to improve the unplanned outage communication, CCWG decided to have SCR 748 continue on its normal tra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be discussed l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3:16:16Z</dcterms:created>
  <dc:creator>Judy Briscoe</dc:creator>
  <dc:description/>
  <dc:language>en-US</dc:language>
  <cp:lastModifiedBy>brisjf</cp:lastModifiedBy>
  <dcterms:modified xsi:type="dcterms:W3CDTF">2006-04-20T20:52:16Z</dcterms:modified>
  <cp:revision>12</cp:revision>
  <dc:subject/>
  <dc:title>COPS Subcommittee</dc:title>
</cp:coreProperties>
</file>