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247FA-2DE8-4534-B37C-65B31291C4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EE2CD-B06D-4FF4-A568-1FF872CB07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36520" y="674640"/>
            <a:ext cx="4599000" cy="34495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894960" y="6321600"/>
            <a:ext cx="507204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A3433-7165-4C0F-BD76-D37AD4C92D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36520" y="674640"/>
            <a:ext cx="4599000" cy="344952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894960" y="3857400"/>
            <a:ext cx="50720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E4F0F-D182-4E93-8777-76DCC57E49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36520" y="674640"/>
            <a:ext cx="4599000" cy="344952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894960" y="3857400"/>
            <a:ext cx="50720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D0F5C-D0C7-4D85-A9F6-322F723593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36520" y="674640"/>
            <a:ext cx="4599000" cy="344952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894960" y="3857400"/>
            <a:ext cx="50720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9CCDE-D81D-40E6-A2EB-1086D1EDD5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F73F1-4EF1-4646-AF89-79D883377F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5768B-3AFD-41F3-859F-EEEF41698D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A5F57-1335-477F-92AC-CBDE7585B9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400" y="28440"/>
            <a:ext cx="717552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5855E-FD95-479E-B6B3-CB82586F2B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0F754-05BC-4C71-875E-B32B1726FC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A7D9B-FE5B-464B-A2AD-C3B0C87334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A1282-E991-4472-B126-8E1869C4DF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8440"/>
            <a:ext cx="717552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3873B-AC01-4051-888B-FC1941E0AA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E8FE5-02D9-4781-9CC1-28FEFCB7B6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6A8F2-3F14-4D5F-84ED-A5F9F72FE8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AD313-CB42-42CF-AC33-4924F2779F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85800"/>
            <a:ext cx="9144000" cy="15228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6480">
            <a:solidFill>
              <a:srgbClr val="000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d5f5d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27040" cy="68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6ED47-6845-4BEC-9BFE-B77A4FD2EB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3240" y="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94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168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396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66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50976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6480" y="2895480"/>
            <a:ext cx="5883120" cy="76320"/>
          </a:xfrm>
          <a:prstGeom prst="rect">
            <a:avLst/>
          </a:prstGeom>
          <a:gradFill rotWithShape="0">
            <a:gsLst>
              <a:gs pos="0">
                <a:srgbClr val="466e6c"/>
              </a:gs>
              <a:gs pos="50000">
                <a:srgbClr val="203231"/>
              </a:gs>
              <a:gs pos="100000">
                <a:srgbClr val="466e6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04880" y="601560"/>
            <a:ext cx="2274840" cy="10987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61960" y="2024640"/>
            <a:ext cx="61722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IS Overview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PS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2420640" y="3124080"/>
            <a:ext cx="5808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ckie Ashbaug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gr, Commercial Operations Data Integrity &amp; Administr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ril 28, 200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33520" y="1298520"/>
            <a:ext cx="815652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1257480"/>
            <a:ext cx="8153640" cy="46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2600" indent="-282600">
              <a:lnSpc>
                <a:spcPct val="8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ctr">
              <a:lnSpc>
                <a:spcPct val="8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urpo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ctr">
              <a:lnSpc>
                <a:spcPct val="8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ctr">
              <a:lnSpc>
                <a:spcPct val="8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rovide reliable, innovative, centralized, and comprehensive decision support and business intelligence systems to ERCOT, the Market, and the P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369520" y="152280"/>
            <a:ext cx="65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RCOT Enterprise Information Services (EIS)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984D8-7D49-4B6C-BF0F-C7BBC9D7AA5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629080" y="45720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474280" y="152280"/>
            <a:ext cx="628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ata Archive/Data Warehouse (DA/DW) Architecture – “Ol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76440" y="261936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476440" y="31240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476440" y="35910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476440" y="410544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62040" y="1866960"/>
            <a:ext cx="1257480" cy="300996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62040" y="1866960"/>
            <a:ext cx="125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Source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305240" y="1866960"/>
            <a:ext cx="1257480" cy="323856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305240" y="1866960"/>
            <a:ext cx="12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Data Arch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162920" y="1866960"/>
            <a:ext cx="1257120" cy="25146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162920" y="1866960"/>
            <a:ext cx="125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Data Ware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3133800"/>
            <a:ext cx="1028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T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62720" y="316224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905440" y="2933640"/>
            <a:ext cx="914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T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05240" y="5605560"/>
            <a:ext cx="1257480" cy="33804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305240" y="5668920"/>
            <a:ext cx="12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Extr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876920" y="5105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10160" y="5219640"/>
            <a:ext cx="1028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T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5638680"/>
            <a:ext cx="4190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l databases are Ora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napshot based replication using ET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TL tool is currently Informa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809720" y="2400480"/>
            <a:ext cx="762120" cy="380880"/>
          </a:xfrm>
          <a:prstGeom prst="flowChartMagneticDisk">
            <a:avLst/>
          </a:prstGeom>
          <a:solidFill>
            <a:srgbClr val="83b200">
              <a:alpha val="6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Lodest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09720" y="2905200"/>
            <a:ext cx="762120" cy="380880"/>
          </a:xfrm>
          <a:prstGeom prst="flowChartMagneticDisk">
            <a:avLst/>
          </a:prstGeom>
          <a:solidFill>
            <a:srgbClr val="83b200">
              <a:alpha val="6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EM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809720" y="3390840"/>
            <a:ext cx="762120" cy="381240"/>
          </a:xfrm>
          <a:prstGeom prst="flowChartMagneticDisk">
            <a:avLst/>
          </a:prstGeom>
          <a:solidFill>
            <a:srgbClr val="83b200">
              <a:alpha val="6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Sieb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09720" y="3895560"/>
            <a:ext cx="762120" cy="381240"/>
          </a:xfrm>
          <a:prstGeom prst="flowChartMagneticDisk">
            <a:avLst/>
          </a:prstGeom>
          <a:solidFill>
            <a:srgbClr val="83b200">
              <a:alpha val="6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PaperF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/>
          <p:nvPr/>
        </p:nvCxnSpPr>
        <p:spPr>
          <a:xfrm>
            <a:off x="4428720" y="2323800"/>
            <a:ext cx="1080" cy="1080"/>
          </a:xfrm>
          <a:prstGeom prst="straightConnector1">
            <a:avLst/>
          </a:prstGeom>
          <a:ln w="9360">
            <a:solidFill>
              <a:srgbClr val="969696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7302600" y="2324160"/>
            <a:ext cx="1001520" cy="1905120"/>
          </a:xfrm>
          <a:prstGeom prst="flowChartMagneticDisk">
            <a:avLst/>
          </a:prstGeom>
          <a:solidFill>
            <a:srgbClr val="ff0000">
              <a:alpha val="6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4848120" y="1623960"/>
            <a:ext cx="7920" cy="1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857840" y="1623960"/>
            <a:ext cx="2936880" cy="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17560" y="1500120"/>
            <a:ext cx="2043000" cy="276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Intelligence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7792560" y="1635120"/>
            <a:ext cx="3240" cy="1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397960" y="152280"/>
            <a:ext cx="628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Archive/Data Warehouse (DA/DW) Architecture – “Ol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28800" y="4419720"/>
            <a:ext cx="762120" cy="380880"/>
          </a:xfrm>
          <a:prstGeom prst="flowChartMagneticDisk">
            <a:avLst/>
          </a:prstGeom>
          <a:solidFill>
            <a:srgbClr val="83b200">
              <a:alpha val="6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T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370400" y="2362320"/>
            <a:ext cx="1144080" cy="2415600"/>
            <a:chOff x="4370400" y="2362320"/>
            <a:chExt cx="1144080" cy="2415600"/>
          </a:xfrm>
        </p:grpSpPr>
        <p:sp>
          <p:nvSpPr>
            <p:cNvPr id="132" name=""/>
            <p:cNvSpPr/>
            <p:nvPr/>
          </p:nvSpPr>
          <p:spPr>
            <a:xfrm>
              <a:off x="4370400" y="4089240"/>
              <a:ext cx="1142640" cy="688680"/>
            </a:xfrm>
            <a:prstGeom prst="flowChartMagneticDisk">
              <a:avLst/>
            </a:prstGeom>
            <a:solidFill>
              <a:srgbClr val="eaeaea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371840" y="3632040"/>
              <a:ext cx="1142640" cy="688680"/>
            </a:xfrm>
            <a:prstGeom prst="flowChartMagneticDisk">
              <a:avLst/>
            </a:prstGeom>
            <a:solidFill>
              <a:srgbClr val="eaeaea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371840" y="3627360"/>
              <a:ext cx="1142640" cy="19476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1840" y="2362320"/>
              <a:ext cx="1142640" cy="861840"/>
            </a:xfrm>
            <a:prstGeom prst="flowChartMagneticDisk">
              <a:avLst/>
            </a:prstGeom>
            <a:solidFill>
              <a:srgbClr val="eaeaea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685040" y="3925800"/>
              <a:ext cx="520560" cy="2156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ahoma"/>
                </a:rPr>
                <a:t>EAI D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81360" y="3097080"/>
              <a:ext cx="723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ahoma"/>
                </a:rPr>
                <a:t>Siebel OD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566960" y="3084480"/>
              <a:ext cx="758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ahoma"/>
                </a:rPr>
                <a:t>SEIBEL OD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71840" y="3233520"/>
              <a:ext cx="1142640" cy="609120"/>
            </a:xfrm>
            <a:prstGeom prst="flowChartMagneticDisk">
              <a:avLst/>
            </a:prstGeom>
            <a:solidFill>
              <a:srgbClr val="eaeaea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71840" y="2815920"/>
              <a:ext cx="1142640" cy="610920"/>
            </a:xfrm>
            <a:prstGeom prst="flowChartMagneticDisk">
              <a:avLst/>
            </a:prstGeom>
            <a:solidFill>
              <a:srgbClr val="eaeaea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82640" y="2782800"/>
              <a:ext cx="1114200" cy="1314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546440" y="2716200"/>
              <a:ext cx="799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ahoma"/>
                </a:rPr>
                <a:t>Lodestar D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616280" y="3508200"/>
              <a:ext cx="656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ahoma"/>
                </a:rPr>
                <a:t>Siebel D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17360" y="3109680"/>
              <a:ext cx="659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ahoma"/>
                </a:rPr>
                <a:t>EMMS D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695120" y="4408200"/>
              <a:ext cx="555480" cy="2156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ahoma"/>
                </a:rPr>
                <a:t>TCH D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7162920" y="3505320"/>
            <a:ext cx="125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66"/>
                </a:solidFill>
                <a:latin typeface="Arial"/>
              </a:rPr>
              <a:t>Ret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B1334-DEA3-49E1-AC54-A4C5FB974FF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5067360" y="1762200"/>
            <a:ext cx="1257120" cy="30384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09760" y="1762200"/>
            <a:ext cx="1257120" cy="296208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09760" y="1762200"/>
            <a:ext cx="1257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3366"/>
                </a:solidFill>
                <a:latin typeface="Arial"/>
              </a:rPr>
              <a:t>Source System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971960" y="1762200"/>
            <a:ext cx="1435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1" i="1" lang="en-US" sz="1000" spc="-1" strike="noStrike">
                <a:solidFill>
                  <a:srgbClr val="003366"/>
                </a:solidFill>
                <a:latin typeface="Arial"/>
              </a:rPr>
              <a:t>ODS</a:t>
            </a:r>
            <a:r>
              <a:rPr b="1" lang="en-US" sz="1100" spc="-1" strike="noStrike">
                <a:solidFill>
                  <a:srgbClr val="003366"/>
                </a:solidFill>
                <a:latin typeface="Arial"/>
              </a:rPr>
              <a:t>) Operation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3366"/>
                </a:solidFill>
                <a:latin typeface="Arial"/>
              </a:rPr>
              <a:t>Data Sto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010280" y="1762200"/>
            <a:ext cx="1257480" cy="25146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010280" y="1762200"/>
            <a:ext cx="12574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3366"/>
                </a:solidFill>
                <a:latin typeface="Arial"/>
              </a:rPr>
              <a:t>Conformed Data Warehous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29811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067360" y="5292720"/>
            <a:ext cx="1257120" cy="270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067360" y="5288040"/>
            <a:ext cx="125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Extr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067360" y="4762440"/>
            <a:ext cx="1257120" cy="34308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67360" y="4740120"/>
            <a:ext cx="12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3366"/>
                </a:solidFill>
                <a:latin typeface="Arial"/>
              </a:rPr>
              <a:t>Data Delivery Mod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684760" y="5105520"/>
            <a:ext cx="0" cy="19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24080" y="1762200"/>
            <a:ext cx="1257480" cy="288612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413080" y="2428920"/>
            <a:ext cx="93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29040" y="1762200"/>
            <a:ext cx="1452600" cy="4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1" i="1" lang="en-US" sz="1000" spc="-1" strike="noStrike">
                <a:solidFill>
                  <a:srgbClr val="003366"/>
                </a:solidFill>
                <a:latin typeface="Arial"/>
              </a:rPr>
              <a:t>RSS</a:t>
            </a:r>
            <a:r>
              <a:rPr b="1" lang="en-US" sz="1100" spc="-1" strike="noStrike">
                <a:solidFill>
                  <a:srgbClr val="003366"/>
                </a:solidFill>
                <a:latin typeface="Arial"/>
              </a:rPr>
              <a:t>) Replicate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Source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414520" y="2900520"/>
            <a:ext cx="93816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13080" y="339876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416320" y="3913200"/>
            <a:ext cx="946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124160" y="2419200"/>
            <a:ext cx="943200" cy="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114800" y="2905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114800" y="340056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114800" y="391464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1952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819520" y="52578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76000" y="4800600"/>
            <a:ext cx="971640" cy="459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Plex 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Gu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4920" y="5410080"/>
            <a:ext cx="48765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l databases are Ora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al-time replication using SharePlex / DataGu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entralization of code and log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647720" y="2209680"/>
            <a:ext cx="762120" cy="381240"/>
          </a:xfrm>
          <a:prstGeom prst="flowChartMagneticDisk">
            <a:avLst/>
          </a:prstGeom>
          <a:solidFill>
            <a:srgbClr val="83b200">
              <a:alpha val="6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Lodest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647720" y="2714760"/>
            <a:ext cx="762120" cy="380880"/>
          </a:xfrm>
          <a:prstGeom prst="flowChartMagneticDisk">
            <a:avLst/>
          </a:prstGeom>
          <a:solidFill>
            <a:srgbClr val="83b200">
              <a:alpha val="6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EM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647720" y="3200400"/>
            <a:ext cx="762120" cy="380880"/>
          </a:xfrm>
          <a:prstGeom prst="flowChartMagneticDisk">
            <a:avLst/>
          </a:prstGeom>
          <a:blipFill rotWithShape="0">
            <a:blip r:embed="rId1">
              <a:alphaModFix amt="65000"/>
            </a:blip>
            <a:srcRect/>
            <a:tile tx="0" ty="0" sx="100000" sy="100000" algn="ctr"/>
          </a:blipFill>
          <a:ln w="93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Sieb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647720" y="3705120"/>
            <a:ext cx="762120" cy="381240"/>
          </a:xfrm>
          <a:prstGeom prst="flowChartMagneticDisk">
            <a:avLst/>
          </a:prstGeom>
          <a:blipFill rotWithShape="0">
            <a:blip r:embed="rId2">
              <a:alphaModFix amt="65000"/>
            </a:blip>
            <a:srcRect/>
            <a:tile tx="0" ty="0" sx="100000" sy="100000" algn="ctr"/>
          </a:blipFill>
          <a:ln w="93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EA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362400" y="2209680"/>
            <a:ext cx="761760" cy="381240"/>
          </a:xfrm>
          <a:prstGeom prst="flowChartMagneticDisk">
            <a:avLst/>
          </a:prstGeom>
          <a:solidFill>
            <a:srgbClr val="ff6600">
              <a:alpha val="6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Lodest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362400" y="2714760"/>
            <a:ext cx="761760" cy="380880"/>
          </a:xfrm>
          <a:prstGeom prst="flowChartMagneticDisk">
            <a:avLst/>
          </a:prstGeom>
          <a:solidFill>
            <a:srgbClr val="ff6600">
              <a:alpha val="6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EM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362400" y="3200400"/>
            <a:ext cx="761760" cy="380880"/>
          </a:xfrm>
          <a:prstGeom prst="flowChartMagneticDisk">
            <a:avLst/>
          </a:prstGeom>
          <a:blipFill rotWithShape="0">
            <a:blip r:embed="rId3">
              <a:alphaModFix amt="65000"/>
            </a:blip>
            <a:srcRect/>
            <a:tile tx="0" ty="0" sx="100000" sy="100000" algn="ctr"/>
          </a:blip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Sieb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362400" y="3705120"/>
            <a:ext cx="761760" cy="381240"/>
          </a:xfrm>
          <a:prstGeom prst="flowChartMagneticDisk">
            <a:avLst/>
          </a:prstGeom>
          <a:blipFill rotWithShape="0">
            <a:blip r:embed="rId4">
              <a:alphaModFix amt="65000"/>
            </a:blip>
            <a:srcRect/>
            <a:tile tx="0" ty="0" sx="100000" sy="100000" algn="ctr"/>
          </a:blip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EA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780000" y="1528920"/>
            <a:ext cx="0" cy="16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780000" y="1528920"/>
            <a:ext cx="3851280" cy="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602960" y="1395360"/>
            <a:ext cx="2043000" cy="276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Intelligence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634160" y="1539720"/>
            <a:ext cx="0" cy="1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" name=""/>
          <p:cNvCxnSpPr/>
          <p:nvPr/>
        </p:nvCxnSpPr>
        <p:spPr>
          <a:xfrm>
            <a:off x="5144760" y="2061720"/>
            <a:ext cx="1080" cy="1080"/>
          </a:xfrm>
          <a:prstGeom prst="straightConnector1">
            <a:avLst/>
          </a:prstGeom>
          <a:ln w="9360">
            <a:solidFill>
              <a:srgbClr val="969696"/>
            </a:solidFill>
            <a:miter/>
            <a:tailEnd len="med" type="triangle" w="med"/>
          </a:ln>
        </p:spPr>
      </p:cxnSp>
      <p:sp>
        <p:nvSpPr>
          <p:cNvPr id="187" name=""/>
          <p:cNvSpPr/>
          <p:nvPr/>
        </p:nvSpPr>
        <p:spPr>
          <a:xfrm>
            <a:off x="7140600" y="2424240"/>
            <a:ext cx="1001520" cy="1699920"/>
          </a:xfrm>
          <a:prstGeom prst="flowChartMagneticDisk">
            <a:avLst/>
          </a:prstGeom>
          <a:solidFill>
            <a:srgbClr val="ff0000">
              <a:alpha val="65000"/>
            </a:srgbClr>
          </a:solidFill>
          <a:ln w="93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62400" y="4191120"/>
            <a:ext cx="761760" cy="380880"/>
          </a:xfrm>
          <a:prstGeom prst="flowChartMagneticDisk">
            <a:avLst/>
          </a:prstGeom>
          <a:blipFill rotWithShape="0">
            <a:blip r:embed="rId5">
              <a:alphaModFix amt="65000"/>
            </a:blip>
            <a:srcRect/>
            <a:tile tx="0" ty="0" sx="100000" sy="100000" algn="ctr"/>
          </a:blip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T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57440" y="4191120"/>
            <a:ext cx="761760" cy="380880"/>
          </a:xfrm>
          <a:prstGeom prst="flowChartMagneticDisk">
            <a:avLst/>
          </a:prstGeom>
          <a:blipFill rotWithShape="0">
            <a:blip r:embed="rId6">
              <a:alphaModFix amt="65000"/>
            </a:blip>
            <a:srcRect/>
            <a:tile tx="0" ty="0" sx="100000" sy="100000" algn="ctr"/>
          </a:blipFill>
          <a:ln w="93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T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409840" y="4341960"/>
            <a:ext cx="946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5114880" y="2158920"/>
            <a:ext cx="1144800" cy="2416320"/>
            <a:chOff x="5114880" y="2158920"/>
            <a:chExt cx="1144800" cy="2416320"/>
          </a:xfrm>
        </p:grpSpPr>
        <p:sp>
          <p:nvSpPr>
            <p:cNvPr id="192" name=""/>
            <p:cNvSpPr/>
            <p:nvPr/>
          </p:nvSpPr>
          <p:spPr>
            <a:xfrm>
              <a:off x="5114880" y="3886200"/>
              <a:ext cx="1143000" cy="689040"/>
            </a:xfrm>
            <a:prstGeom prst="flowChartMagneticDisk">
              <a:avLst/>
            </a:prstGeom>
            <a:solidFill>
              <a:srgbClr val="eaeaea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116680" y="3429000"/>
              <a:ext cx="1143000" cy="689040"/>
            </a:xfrm>
            <a:prstGeom prst="flowChartMagneticDisk">
              <a:avLst/>
            </a:prstGeom>
            <a:solidFill>
              <a:srgbClr val="eaeaea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16680" y="3424320"/>
              <a:ext cx="1143000" cy="19512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16680" y="2158920"/>
              <a:ext cx="1143000" cy="862200"/>
            </a:xfrm>
            <a:prstGeom prst="flowChartMagneticDisk">
              <a:avLst/>
            </a:prstGeom>
            <a:solidFill>
              <a:srgbClr val="eaeaea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396400" y="3722760"/>
              <a:ext cx="587520" cy="2156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ahoma"/>
                </a:rPr>
                <a:t>EAI OD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326200" y="2894040"/>
              <a:ext cx="723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ahoma"/>
                </a:rPr>
                <a:t>Siebel OD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312160" y="2881440"/>
              <a:ext cx="758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ahoma"/>
                </a:rPr>
                <a:t>SEIBEL OD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116680" y="3030480"/>
              <a:ext cx="1143000" cy="609480"/>
            </a:xfrm>
            <a:prstGeom prst="flowChartMagneticDisk">
              <a:avLst/>
            </a:prstGeom>
            <a:solidFill>
              <a:srgbClr val="eaeaea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116680" y="2612880"/>
              <a:ext cx="1143000" cy="611280"/>
            </a:xfrm>
            <a:prstGeom prst="flowChartMagneticDisk">
              <a:avLst/>
            </a:prstGeom>
            <a:solidFill>
              <a:srgbClr val="eaeaea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127480" y="2579760"/>
              <a:ext cx="1114560" cy="13176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257800" y="2513160"/>
              <a:ext cx="866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ahoma"/>
                </a:rPr>
                <a:t>Lodestar OD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328000" y="3305160"/>
              <a:ext cx="723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ahoma"/>
                </a:rPr>
                <a:t>Siebel OD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328720" y="2906640"/>
              <a:ext cx="726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ahoma"/>
                </a:rPr>
                <a:t>EMMS OD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406840" y="4205160"/>
              <a:ext cx="622800" cy="2156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ahoma"/>
                </a:rPr>
                <a:t>TCH OD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4114800" y="43434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893680" y="152280"/>
            <a:ext cx="609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terprise Information Services (EIS) Architecture – “New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5F9D0-CB95-4914-890E-527D53CBEEA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295280"/>
            <a:ext cx="815652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roject Upd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 30026 EPS Meter Data Extract/Resource ID Extract (Execution – ITEST) - 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 40042_06 Lodestar Batch Extracts (Execution – PTEST) - 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 40007 SCR727 move from Data Archive to ODS (Execution – ON HOLD) - 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 50059_01 EDW Siebel Transition (Initiation) - 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 50060_01 EDW TCH Transition (Initiation) -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 50024_01 SCR 740 Enhancements to SCR 727 (Execution – Development) - 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 50030 Lodestar DA Decommission (Planning) - 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2006 Upcoming Projec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 60004_01 EIS CDW Foundations (IO project with interdependency of RO projects - Initiate 04/2006) - 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 50061_01 EDW EAI Transition (Initiate late 06/2006) - 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 60005_01 EIS Data Marts I (Initiate Q4 2006) - 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 50088 ETS to EIS (Initiate Q4 2006) - 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87560" y="82224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073040" y="152280"/>
            <a:ext cx="483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2006 EIS Active &amp; Upcoming RO/MO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BD541-0192-4587-9E7C-66E7B3FD0027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9T12:55:16Z</dcterms:created>
  <dc:creator>Rob Connell</dc:creator>
  <dc:description/>
  <dc:language>en-US</dc:language>
  <cp:lastModifiedBy>jashbaugh</cp:lastModifiedBy>
  <dcterms:modified xsi:type="dcterms:W3CDTF">2006-04-28T13:59:00Z</dcterms:modified>
  <cp:revision>309</cp:revision>
  <dc:subject/>
  <dc:title>Slide 1</dc:title>
</cp:coreProperties>
</file>