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A913-6612-4047-995E-75934CCCC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C6F-4448-403F-B953-C26299CE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81D-AB31-45B7-AA24-956F0ACF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436-26BF-4166-B139-716019EB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3A7-B22A-42F6-9599-4273AC7D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2A9-2682-4965-BBEA-FB7202C9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61E-7ADF-4730-8ACF-317B803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794-05A7-489B-A4DD-81B15CB4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1E9-D2D9-4DB5-A78C-BEBC914F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942-A960-4735-8222-D58B02A4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68C-CC8D-458D-B770-9D55F4E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6E2-51F8-413F-B205-B917A7C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16B-E34F-4052-875B-D39F1BB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F5C-6A29-4B7B-803D-30A4152FB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ril 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E9F-6D80-4AA5-B333-5E9494DAC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ccess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PRR568 – Change Initial Settlement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Day 17 to Day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Operating Day January 17, 2006 - Start the migration to Day 10 Initial Settlement, Publication of binding Settlement Statement for this date would be February 2, 2006.  One extra day will be Invoiced weekly for 7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March 16, 2006 - Completion of PRR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PRR638 – Change Settlement Invoice Due Date from 16 Calendar Days to 5 Business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April 1, 2006 - Impletion of PRR6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501-3285-4E6A-A374-7B6C4597E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95280"/>
            <a:ext cx="87631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Requests that TAC ap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Procedures Update – This document was modified to add PWG as a working group and to add responsibility of load profiling</a:t>
            </a:r>
            <a:r>
              <a:rPr b="0" lang="en-US" sz="2400" spc="-1" strike="noStrike">
                <a:solidFill>
                  <a:srgbClr val="3333cc"/>
                </a:solidFill>
                <a:latin typeface="Antique Olive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09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Changes to Governing Subcommittee</a:t>
            </a: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 – This LPGRR changes the governing subcommittee of PWG from RMS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310-23FF-40B0-9ED9-FCDA4F923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87631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urrently, Profile Working Group updates the decision tree to place ESI IDs into the correct Profile Type.  These changes to the decision tree must be made by each TDS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ERCOT Staff performs a similar activity and then works with each TDSP to ensure they each ag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10 will require ERCOT to perform the profile analysis and identify which ESI IDs need to corrected.  The TDSPs will then submit the appropriate TxSET transaction to the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682-E628-46A8-8B11-6AE4512BE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Requests that TAC appr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10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Load Profile Type Responsibility Change:  Changes the market rules so that ERCOT is responsible for the Load Profile Type calculations during Annual Validation while maintaining TDSP responsibility for Load Profile ID assignment transactions</a:t>
            </a:r>
            <a:r>
              <a:rPr b="0" lang="en-US" sz="2400" spc="-1" strike="noStrike">
                <a:solidFill>
                  <a:srgbClr val="000000"/>
                </a:solidFill>
                <a:latin typeface="Antique Olive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14E-6E97-4A4A-85D3-75C5D7D12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3-31T02:45:42Z</dcterms:modified>
  <cp:revision>162</cp:revision>
  <dc:subject/>
  <dc:title>Point-to-Point</dc:title>
</cp:coreProperties>
</file>