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49BF17-37F1-46AE-9AB6-0A44E0767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2A5559-1C12-4A64-9EA2-D4C340ED9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10D82D-9ED8-40D0-BF72-83D8D5EB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5ADFB2-C49B-4BFA-B0FF-B1E1C1571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3D813E-B1C1-41C8-8F74-B4D4AF7A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17619D-6AAF-437D-81C4-E8024AEB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190294-0445-4CBD-A626-2FC512BB6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DFB34D-2437-4011-9449-C706D356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3FC28E-C2D7-4150-9F05-476F2F15F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C2314B-C617-4A82-AA6A-A2A27447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272A89-EAB7-4B09-AEC5-64BFADC0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4B3938-C7E5-42F5-B7D3-407A14534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5A9E0F-504D-4DB6-BA28-998936A7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9BFD-9DD8-41FF-89F7-572EE8D93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816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5DD1-2C13-4772-A100-4BFEF0609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C372-C204-4C80-8834-EDFF4DCF3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0628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0628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816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816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816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2691-3809-4A8C-BFB0-2F39B6F10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0628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0628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DEAC-6DC4-43FD-9474-843D46EFB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2816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2816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0628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0628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2816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2816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2816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BE04-01AA-47EF-9B83-CC9F75731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1891-D2D5-4579-8E83-C519DFEF7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3923-C729-4295-B07B-F7184E971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CFEF-AC94-48C4-B011-1814547E0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566D-EB0A-4C8D-87BF-19F5F6802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816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54CA-A97A-4239-952A-39D0637A2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0628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816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095D-BD2D-40C0-A9D3-6C2421CC1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83B51BE-B2A3-4C5D-938A-DF2F980162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10628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66552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2489040"/>
            <a:ext cx="6632640" cy="10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S Projects Update</a:t>
            </a:r>
            <a:br>
              <a:rPr sz="2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98600" y="3817800"/>
            <a:ext cx="623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8, 200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2680" y="949320"/>
            <a:ext cx="8485200" cy="5786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038240"/>
            <a:ext cx="803124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9720" indent="-279720">
              <a:lnSpc>
                <a:spcPct val="8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O CA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1, Rank –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MM-$3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lls out architecture &amp; framework for next generation DW en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ectly supports Section 17 of the Protocols and is a required element to support the PUCT and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a Conformed Data Warehouse integrating cross system data in a very near real-time environment, intended to offset reporting demands and con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establishing Data M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s with Enterprise information delivery strateg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 (Cost) / Benefit ($): 48,620,15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ore: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ted in 04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9160" y="79200"/>
            <a:ext cx="51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60004_01 EIS CDW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928D-FBE8-499A-8931-77144D4CDA9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977760"/>
            <a:ext cx="8156520" cy="5427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092240"/>
            <a:ext cx="8016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1, Rank –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00K-$5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s relevant ODS Paperfree and NAESB infrastructure, then transitions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a mirrored, very near real-time environment, intended to offset reporting demands and con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s with Enterprise information delivery strateg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 (Cost) / Benefit ($): 743,338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ore: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nned for initiation in late 0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75200" y="7920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61_01 EDW EAI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B6C9-A6AD-43A3-8F6C-B1E9B84D160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996840"/>
            <a:ext cx="8156520" cy="55594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081080"/>
            <a:ext cx="79185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9720" indent="-27972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1, Rank –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500K-$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lls out first wave of data marts in the next generation data warehouse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the Conformed Data Warehouse for integrating cross system data in a very near real-time environment, intended to offset reporting demands and con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performance enhanced querying on large data 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s with Enterprise information delivery strateg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3348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 (Cost) / Benefit ($): 24,350,470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ore: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nned for initiation in Q4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4920" y="792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60005_01 EIS CDW Data M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5DE5-0DD2-4B76-BB22-7F80CC8EFCA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958680"/>
            <a:ext cx="8156520" cy="560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114560"/>
            <a:ext cx="804096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1, Rank –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500K-$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itions ETS reporting to Enterprise Data Ware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the Conformed Data Warehouse for integrating cross system data in a very near real-time environment, intended to offset reporting demands and con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performance enhanced querying on large data 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s with Enterprise information delivery strateg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 (Cost) / Benefit ($): 1,185,67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ore: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nned for initiation in Q4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7920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88_01 ETS Transition to ED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6775-2951-4D17-9FF8-F089A8B7DC6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958680"/>
            <a:ext cx="8156520" cy="560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81120" y="1257480"/>
            <a:ext cx="622944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Verdana"/>
              </a:rPr>
              <a:t>Questions?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f5d"/>
                </a:solidFill>
                <a:uFillTx/>
                <a:latin typeface="Verdana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6CD0-6BBE-4F12-AD0F-E856110A1D87}" type="slidenum">
              <a:t>14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6040" y="1106640"/>
          <a:ext cx="8751960" cy="4626000"/>
        </p:xfrm>
        <a:graphic>
          <a:graphicData uri="http://schemas.openxmlformats.org/drawingml/2006/table">
            <a:tbl>
              <a:tblPr/>
              <a:tblGrid>
                <a:gridCol w="966960"/>
                <a:gridCol w="1741320"/>
                <a:gridCol w="6043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 Projects as of To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30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PS Meter Data Extract/Resource ID Extr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40042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destar Batch Extr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40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R727 Phase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50059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W Siebel Tran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50060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W TCH Tran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5002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R 740 Enhancements to SCR 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50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destar Data Archive Decom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ture Projects in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6000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S CDW Fou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50061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W EAI Tran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60005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S CDW Data M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 50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S Transition to 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247280" y="2844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5f5d"/>
                </a:solidFill>
                <a:latin typeface="Arial"/>
                <a:ea typeface="Times New Roman"/>
              </a:rPr>
              <a:t>2006 EIS MO &amp; RO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ACFE-B870-41C7-8CFC-3A6772D66F72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987480"/>
            <a:ext cx="8156520" cy="49561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135080"/>
            <a:ext cx="80010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0b, Rank – .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selin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0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283 / PIP2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Resource ID data to Market Participant ow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in I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 Migration on 06/01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Delivery on 06/22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8440" y="7920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30026 EPS Meter Data/Resource ID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E732-EBBF-4F83-98FC-4DD910F116C8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987480"/>
            <a:ext cx="8156520" cy="55022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116000"/>
            <a:ext cx="8001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0a, Rank – 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selin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479,0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itions Lodestar Batch Extracts from the Data Archive to the Lodestar OD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in P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COT UAT (ITEST) on 07/25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 Migration on 09/21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Delivery on 10/2006 (exact date 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48160" y="792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40042_06 Lodestar Batch Ex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34EE-BA7A-4A7F-9BAF-319B2C8DBF8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977760"/>
            <a:ext cx="8156520" cy="5399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116000"/>
            <a:ext cx="80010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9720" indent="-27972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0b, Rank – .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selin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389,3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itions SCR 727 Extract from the Data Archive to the Lodestar OD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ly on-hold until PR 40042_06 Lodestar Batch Extracts enters ITEST for resource management purpo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COT UAT (ITEST) on 09/2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 Migration on 11/1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905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Delivery on 12/2006 (exact date 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3520" y="792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40007 SCR 727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F7B0-9F89-4042-9F90-3AEFD53D241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015920"/>
            <a:ext cx="8156520" cy="53229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57480"/>
            <a:ext cx="799308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54160" indent="-25416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1360" indent="-2642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1, Rank – 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1360" indent="-2642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500K-$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1360" indent="-2642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s relevant ODS Siebel infrastructure, then transitions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1360" indent="-2642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1360" indent="-2642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8800" indent="-3045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a mirrored, very near real-time environment, intended to offset reporting demands and con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88800" indent="-3045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s with Enterprise information delivery strateg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88800" indent="-3045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 (Cost) / Benefit ($): 448,938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ore: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1360" indent="-2642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1360" indent="-2642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nning Start on 05/01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19160" y="79200"/>
            <a:ext cx="51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59_01 EDW Siebel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A342-3E32-4D28-A521-4EA809CBDE0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003320"/>
            <a:ext cx="8156520" cy="53895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7800" y="1219320"/>
            <a:ext cx="810900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1, Rank –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00K-$5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s relevant ODS Transaction Clearinghouse infrastructure, then transitions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a mirrored, very near real-time environment, intended to offset reporting demands and con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s with Enterprise information delivery strateg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32080" indent="-3384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 (Cost) / Benefit  ($): 743,338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ore: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nning Start on 05/01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39840" y="792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60_01 EDW TCH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C4BC-D71C-4F55-A7B9-27D4AC83997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900000"/>
            <a:ext cx="8156520" cy="58658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7800" y="1117440"/>
            <a:ext cx="803268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0a, Rank – 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selin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,09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R 740; provides Market Participants access to SCR 727 ESIID level data in ERCOT systems via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 50024_02 &amp; PR 50024_03 are additional sub-projects to deliver and implement the necessary hardware required by this pro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ing integrated prototypes for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ewing GUI prototypes and market suggestions from 11/04/2005 market meeting to finalize workflow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lizing project re-planning effort to incorporate integrated development efforts and EIS delivery 2006 delivery 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 Start (ITEST) on 09/2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 Migration on 11/1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Delivery on 12/2006 (exact date 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7920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24_01 SCR 727 Enhancements (SCR 7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52B5-F104-4F53-A26A-FDF0AF16387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1022400"/>
            <a:ext cx="8156520" cy="49179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7800" y="1163520"/>
            <a:ext cx="8109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 C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ority 1.1, Rank – 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00-$5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itions Lodestar Data Archive extracts and business users to Lodestar OD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ires Lodestar Data Archiv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nning Phase (On H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leston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nning re-engagement on 05/01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2760" y="7920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30 Lodestar Data Archive De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66DC-FBC7-4FB0-A02B-C0C27FB4247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4-28T20:15:44Z</dcterms:modified>
  <cp:revision>137</cp:revision>
  <dc:subject/>
  <dc:title>Slide 1</dc:title>
</cp:coreProperties>
</file>