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1BC-47D1-48E5-8D1F-FBD23147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3AE0-C265-4819-912D-D4B66028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6B2-53A0-46FD-BCA8-22719F32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416-C871-489D-A370-A1C0CE64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9B0-A69B-427E-BD4B-5CF58D9F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C98-C94E-4947-9214-C245EADA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556-8792-4352-A1F9-89D29D52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47B6-2106-47FF-8052-1EAE26BF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BE7-2F3B-4B29-9FC4-13DA93C9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F5B-15D4-4CE5-89F3-CA5480A1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F61-DF8D-4C95-A781-003B0A76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1D4-AF27-48FA-9916-68D2D745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CE5C-1C05-424F-A75E-654D12F1C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ata Extracts Working Group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DEWG) Upda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 April 28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eeting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 13, 200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Austin 1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18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Austin 1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WG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ith CCWG on COPS Market Gu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s made at DEWG to accomplish the work under the Extracts and Reports sections of the G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of accomplishing our sections by August 2006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WG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 Related to TML and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has encountered some issues as part of the TIBCO replacement of SeeBey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rojects currently not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s deemed to have “little Market Impac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nternal Projects where MPs have little information on impact risk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WG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 RCSO Repor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been discontinued for CRs effective 4/2/2006, as previously pres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DSP ESIID Report Enhan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tep to PRR 312.  New columns have been added.  Changed DDL in March. User guide is out.  We are now in stabilization.  Go live in Ju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Questions 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124080" y="2514600"/>
            <a:ext cx="28958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risjf</cp:lastModifiedBy>
  <dcterms:modified xsi:type="dcterms:W3CDTF">2006-04-27T21:13:58Z</dcterms:modified>
  <cp:revision>16</cp:revision>
  <dc:subject/>
  <dc:title>PowerPoint Presentation</dc:title>
</cp:coreProperties>
</file>