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7DEEE-3FAD-407C-ABEB-A4E1FA34D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734A-B00F-47E8-A690-7CDC95BB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36E82-2BE1-416B-A2D2-36EEBFA9D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C5B9C-1152-42DC-83C9-D16A3E231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4E5DF-D60F-4E18-9BBD-126AD9504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0639F-C972-42D3-A791-4E7020EA3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37E3D-753F-4BA0-A8BF-A0387B9FC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123D0-FD8E-477C-A6F4-E4C441B83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26459-6804-46BC-BF8B-482CD6CDA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93053-FC42-44CD-BA2E-906DB3047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8687-A48D-4498-B5E2-FE7F7F416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7E94-BD6D-4FCC-AC3F-4AFE52E7C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27061-3AD9-4D7D-A077-D45F9A706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4DD62-57A5-4F38-AB82-E4CEE6F95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598C9-8895-4E55-9D62-DF136FDAC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24217-3628-4DA9-9A6D-F3877B001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7BFAA-18A0-44F4-B773-24A9AD9B6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94644-BFF1-4E82-93AB-8BA1B237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35B2-F8CA-4DEB-BC98-EB4242446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C34D8-67F6-4261-BC70-CC80A38C0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E5F2-D393-42F0-8785-D8C9226F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4B1D-59D9-4200-9973-61004898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89D4-8B77-40F6-883D-5A7FE612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5586-2974-4BF7-916F-D552CC98F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B0BE-6640-4B3A-8B42-066A4C10EA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C934-EF91-4B0A-BE4F-C7AF884261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1066320"/>
            <a:ext cx="6553440" cy="22100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rial Rounded MT Bold"/>
              </a:rPr>
              <a:t>ERCOT Update to RMS on the IDR Requirement Transition Project</a:t>
            </a:r>
            <a:endParaRPr b="0" lang="en-US" sz="4000" spc="-1" strike="noStrike">
              <a:solidFill>
                <a:srgbClr val="330033"/>
              </a:solidFill>
              <a:latin typeface="Times New Roman"/>
            </a:endParaRPr>
          </a:p>
        </p:txBody>
      </p:sp>
      <p:sp>
        <p:nvSpPr>
          <p:cNvPr id="98" name="PlaceHolder 2"/>
          <p:cNvSpPr>
            <a:spLocks noGrp="1"/>
          </p:cNvSpPr>
          <p:nvPr>
            <p:ph type="subTitle"/>
          </p:nvPr>
        </p:nvSpPr>
        <p:spPr>
          <a:xfrm>
            <a:off x="1981080" y="3886200"/>
            <a:ext cx="580896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arl Raish</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RCOT Load Profiling</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pril 12, 2006</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00" name="" descr=""/>
          <p:cNvPicPr/>
          <p:nvPr/>
        </p:nvPicPr>
        <p:blipFill>
          <a:blip r:embed="rId1"/>
          <a:stretch/>
        </p:blipFill>
        <p:spPr>
          <a:xfrm>
            <a:off x="685800" y="1905120"/>
            <a:ext cx="8458200" cy="3644640"/>
          </a:xfrm>
          <a:prstGeom prst="rect">
            <a:avLst/>
          </a:prstGeom>
          <a:ln w="0">
            <a:noFill/>
          </a:ln>
        </p:spPr>
      </p:pic>
      <p:sp>
        <p:nvSpPr>
          <p:cNvPr id="101" name="PlaceHolder 2"/>
          <p:cNvSpPr>
            <a:spLocks noGrp="1"/>
          </p:cNvSpPr>
          <p:nvPr>
            <p:ph/>
          </p:nvPr>
        </p:nvSpPr>
        <p:spPr>
          <a:xfrm>
            <a:off x="1066680" y="6019560"/>
            <a:ext cx="7925040" cy="533160"/>
          </a:xfrm>
          <a:prstGeom prst="rect">
            <a:avLst/>
          </a:prstGeom>
          <a:noFill/>
          <a:ln w="0">
            <a:noFill/>
          </a:ln>
        </p:spPr>
        <p:txBody>
          <a:bodyPr lIns="90000" rIns="90000" tIns="46800" bIns="4680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re may be a substantial delay between the installation of an IDR and ERCOT’s records showing that an IDR has been installed.</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040" y="1599840"/>
            <a:ext cx="7924680" cy="30481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minder that TDSPs have until later of 120 days or April 30, 2006 to complete IDR installations </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DR Requirement Reports have not been modified to reflect the above timeline</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me ESI IDs are currently flagged as ‘Overdue’, however, the ‘Overdue’ indicator does not apply until after 04/30/06</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rom RMG 7.13.2.2, Mandatory IDR Installation Process</a:t>
            </a:r>
            <a:endParaRPr b="0" lang="en-US" sz="2000" spc="-1" strike="noStrike">
              <a:solidFill>
                <a:srgbClr val="000000"/>
              </a:solidFill>
              <a:latin typeface="Arial"/>
            </a:endParaRPr>
          </a:p>
        </p:txBody>
      </p:sp>
      <p:sp>
        <p:nvSpPr>
          <p:cNvPr id="103" name=""/>
          <p:cNvSpPr/>
          <p:nvPr/>
        </p:nvSpPr>
        <p:spPr>
          <a:xfrm>
            <a:off x="1295280" y="4800600"/>
            <a:ext cx="7848720" cy="1676520"/>
          </a:xfrm>
          <a:prstGeom prst="rect">
            <a:avLst/>
          </a:prstGeom>
          <a:noFill/>
          <a:ln w="0">
            <a:noFill/>
          </a:ln>
        </p:spPr>
        <p:style>
          <a:lnRef idx="0"/>
          <a:fillRef idx="0"/>
          <a:effectRef idx="0"/>
          <a:fontRef idx="minor"/>
        </p:style>
        <p:txBody>
          <a:bodyPr lIns="90000" rIns="90000" tIns="46800" bIns="46800" anchor="t">
            <a:normAutofit fontScale="93000"/>
          </a:bodyPr>
          <a:p>
            <a:pPr marL="366120" indent="-366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3)</a:t>
            </a:r>
            <a:r>
              <a:rPr b="0" lang="en-US" sz="2000" spc="-1" strike="noStrike">
                <a:solidFill>
                  <a:srgbClr val="000000"/>
                </a:solidFill>
                <a:latin typeface="Arial Rounded MT Bold"/>
              </a:rPr>
              <a:t>	</a:t>
            </a:r>
            <a:r>
              <a:rPr b="0" lang="en-US" sz="2000" spc="-1" strike="noStrike">
                <a:solidFill>
                  <a:srgbClr val="000000"/>
                </a:solidFill>
                <a:latin typeface="Arial Rounded MT Bold"/>
              </a:rPr>
              <a:t>If after one hundred twenty (120) days of the ESI ID appearing on the report the TDSP has not received notification of either a dispute of an IDR requirement or an ESI ID qualifying for optional removal as identified in proceeding paragraph, the TDSP may proceed with the IDR installation only after providing notification to the CR of the TDSP’s intent to perform the installation...</a:t>
            </a:r>
            <a:endParaRPr b="0" lang="en-US" sz="2000" spc="-1" strike="noStrike">
              <a:solidFill>
                <a:srgbClr val="000000"/>
              </a:solidFill>
              <a:latin typeface="Arial"/>
            </a:endParaRPr>
          </a:p>
        </p:txBody>
      </p:sp>
      <p:sp>
        <p:nvSpPr>
          <p:cNvPr id="104"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Rounded MT Bold"/>
              </a:rPr>
              <a:t>IDR Requirement Report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Optional Removal</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6" name="PlaceHolder 2"/>
          <p:cNvSpPr>
            <a:spLocks noGrp="1"/>
          </p:cNvSpPr>
          <p:nvPr>
            <p:ph/>
          </p:nvPr>
        </p:nvSpPr>
        <p:spPr>
          <a:xfrm>
            <a:off x="914040" y="1752480"/>
            <a:ext cx="79246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of April 2, 2006 one TDSP reported having received two IDR removal requests; both have been remove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DSPs have been requested to submit updates on any additional removal requests to ERCO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Question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AMarquez</cp:lastModifiedBy>
  <dcterms:modified xsi:type="dcterms:W3CDTF">2006-04-04T21:52:41Z</dcterms:modified>
  <cp:revision>55</cp:revision>
  <dc:subject/>
  <dc:title>IDR Taskforce Report to RMS</dc:title>
</cp:coreProperties>
</file>