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EC2D-8D1D-4F71-ABA5-CE30C37EA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C18-9D0E-42C7-8FA3-424128B8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F6E-FD31-4815-9091-B913C956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DD0-B167-40E1-956A-58E8C5A3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0F9-8C83-4D44-8287-BF42C051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78F-BE10-4214-85E5-AFBD15C9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434-1641-4B69-8756-F404FDA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E74-A7D3-46FD-9F5D-DF30EB49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CF0-4E6D-4476-A61E-C0F399BF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359-8321-46BF-8A4E-136D0E3F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894-2968-4F71-8710-0FF0B1E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734-6542-4BC9-B957-4357B3CC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771-524A-46AE-A5C7-BEE2AF4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5C9-5E54-4E56-8F41-497BDD65B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ril 1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91B-BCF7-4254-BF25-B364607990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ur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TAC approved 4/6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COPS Procedures Update – This document was modified to add PWG as a working group and to add responsibility of load profiling</a:t>
            </a:r>
            <a:r>
              <a:rPr b="0" lang="en-US" sz="2400" spc="-1" strike="noStrike">
                <a:solidFill>
                  <a:srgbClr val="3333cc"/>
                </a:solidFill>
                <a:latin typeface="Antique Olive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ntique Olive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LPGRR009, </a:t>
            </a:r>
            <a:r>
              <a:rPr b="1" i="1" lang="en-US" sz="2400" spc="-1" strike="noStrike">
                <a:solidFill>
                  <a:srgbClr val="3333cc"/>
                </a:solidFill>
                <a:latin typeface="Antique Olive Roman"/>
              </a:rPr>
              <a:t>Changes to Governing Subcommittee</a:t>
            </a: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 – This LPGRR changes the governing subcommittee of PWG from RMS to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5EE-F93F-40C6-93BC-6010FC5BC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ur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952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TAC approved 4/6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tique Olive Roman"/>
              </a:rPr>
              <a:t>LPGRR010, </a:t>
            </a:r>
            <a:r>
              <a:rPr b="1" i="1" lang="en-US" sz="2400" spc="-1" strike="noStrike">
                <a:solidFill>
                  <a:srgbClr val="3333cc"/>
                </a:solidFill>
                <a:latin typeface="Antique Olive Roman"/>
              </a:rPr>
              <a:t>Load Profile Type Responsibility Change:  Changes the market rules so that ERCOT is responsible for the Load Profile Type calculations during Annual Validation while maintaining TDSP responsibility for Load Profile ID assignment transactions</a:t>
            </a:r>
            <a:r>
              <a:rPr b="0" lang="en-US" sz="2400" spc="-1" strike="noStrike">
                <a:solidFill>
                  <a:srgbClr val="000000"/>
                </a:solidFill>
                <a:latin typeface="Antique Olive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8B3-8B25-4819-9748-96A88187F5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4-10T20:04:23Z</dcterms:modified>
  <cp:revision>163</cp:revision>
  <dc:subject/>
  <dc:title>Point-to-Point</dc:title>
</cp:coreProperties>
</file>