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BDD-1CBF-49F7-9735-9C5EB82B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903-3138-40BD-B84C-45D2304B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2BD-43C4-4EB1-A415-607291BE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65A-5B40-4B7A-9253-770159C5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AD7-5C34-4AEF-80BE-2DC8257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03D-0828-4128-81B9-34E0538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BE3-494A-42A5-9F3E-1FA55765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7A1-5408-41FF-9933-579EC96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CFC-5F30-4644-8687-CECBA2A6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931-18E2-4CB4-96E5-A29D1CB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722-3CB1-4B22-B62F-450F70B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7FE-A84E-4B25-949D-9F78887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51FF-E765-447B-B9EC-9B545032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0D6-31A2-43CE-B895-0F450F6DC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 - 0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New REPs – 18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ew Umbrella D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in new territory – 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2A9-F928-4D88-B99E-B0631B4A3E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 - 0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by volunteer for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required for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Deadline 3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 3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 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5/24 – 6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cheduled to conclude 5/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F7C-6BEE-4458-A713-FEE9E7FD9E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6-04-05T15:37:41Z</dcterms:modified>
  <cp:revision>381</cp:revision>
  <dc:subject/>
  <dc:title>PowerPoint Presentation</dc:title>
</cp:coreProperties>
</file>