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E488-1279-4A42-8A45-513B8FD8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CDFB-9F06-4F36-A3E9-38A91E7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2904-22D5-422C-A312-BA249394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5E4A-2288-4947-BBCE-E7EE3D01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25FB-BBCE-4250-8456-212ED34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F1EE-72F3-40B4-829D-AC3D994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763F-8BB4-4BB4-9703-3EEC4A0B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D6AF-4988-4B90-B0E8-6A2FCB7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4A37-D30B-4259-994A-784A0B6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A76C-BF2D-4F65-B1B3-596C575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7E47-F0C4-4393-967A-069BB62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C407-2DF4-4D5A-8B75-7C36F3F8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3FE-AD9B-4C1D-8815-D4FC6F788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3880"/>
            <a:ext cx="76960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ail Transaction Service Processing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aron Smallwo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, IT Account and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ail Market Sub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ril 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vailability Standard Highligh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vailability target set at 99.2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vailability target will increase to 99.9% after SCR745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and Release Windows standard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intenance Window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n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of each month –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:00am until 8:00p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12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 Wind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weekend of each month –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:00pm Saturday until 12:00am Mon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36 ho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ture and location of availability docu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availability information to be maintained in document form on the ERCOT.com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as a key document on the RMS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control to track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to the availability document placed in the Retail Market Gui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to be a Retail Market Guide or Protocol Revision – but additional guidance to market from ERCOT regarding how the service will be operated and availability targ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rvice Availability Calcul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631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intenance and Release Window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238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e retail market guide revision request to insert language referring to location of service availability targ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and May releases will occur on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ekend instead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ekend due to development and test plans already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percentage reporting will be unchanged, the two weekends will be swapped for report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rojects may exceed the 36 hour release window or may require multiple releases in a month.  These situations will be presented to RMS for review and requested exception prior to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 to RMS will begin with May RM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aron Smallwood</cp:lastModifiedBy>
  <dcterms:modified xsi:type="dcterms:W3CDTF">2006-04-04T21:10:05Z</dcterms:modified>
  <cp:revision>29</cp:revision>
  <dc:subject/>
  <dc:title>Instructions</dc:title>
</cp:coreProperties>
</file>