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2DF125D-3A36-4A18-A9E4-2D8D0119D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45C900B-5B85-4ACB-9BF8-AD46E1EE1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AFB7867-EBA0-4562-9B7A-F4420051D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8E68355-549A-4965-9594-B75ABCD5E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9D41C0A-339F-48EC-A21F-AA2E32A44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EB930F7-A43E-4A62-98EE-5DC5BC367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3A3E09-1FF4-4A8C-B821-6C786AF41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0B162A-947F-44C3-BEEE-E876DECBF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4785-2600-4095-B0D8-35B4F06CB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5920" y="413244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5920" y="496332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9382-4723-459D-9603-C670B074E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5920" y="413244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89680" y="413244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15920" y="496332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89680" y="496332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EED0-A7D7-4309-BE36-D22D532DF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15920" y="413244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16040" y="413244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6520" y="413244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5920" y="496332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216040" y="496332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6520" y="496332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10D9-EAA5-4EB1-91FC-77B573EE1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715920" y="413244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15920" y="413244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15920" y="413244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89680" y="413244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437920" y="2093400"/>
            <a:ext cx="5791320" cy="55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15920" y="413244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89680" y="413244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715920" y="496332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15920" y="413244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56EC-7C07-4603-B454-E3426D0BE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715920" y="413244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89680" y="413244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89680" y="496332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15920" y="413244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89680" y="413244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715920" y="496332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715920" y="413244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15920" y="496332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15920" y="413244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9680" y="413244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15920" y="496332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89680" y="496332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715920" y="413244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16040" y="413244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16520" y="413244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715920" y="496332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5216040" y="496332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716520" y="496332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5920" y="413244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D288-0423-418C-9EBC-2C319778A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15920" y="413244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89680" y="413244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4150C-1B1A-4FB9-A72D-DF502E846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CB07-8230-4EFC-828B-D55496EC9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7920" y="2093400"/>
            <a:ext cx="5791320" cy="55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E7B8-B869-4C67-AA19-34AC36856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15920" y="413244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89680" y="413244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15920" y="496332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C33BC-D0EB-4BAB-9AA3-8976583D9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5920" y="413244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89680" y="413244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89680" y="496332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C5282-442A-43DC-8CE4-11FE475DD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5920" y="413244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89680" y="413244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15920" y="496332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BB25-4A3F-4370-BC4C-E4FAD245D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16F8AF70-1BE1-4B4A-9A3A-EDD19642238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366552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comm/projects/index.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0" y="2154240"/>
            <a:ext cx="6632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 Project Priority List Updat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W Projects Update 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M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298600" y="3817800"/>
            <a:ext cx="623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am Martin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gr, Market Ops Divisional Projects Organiz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12, 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143000"/>
            <a:ext cx="8156520" cy="54864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7800" y="1219320"/>
            <a:ext cx="8032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59920" indent="-25992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iority 1.0a, Rank .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xecution Budget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$1,095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atu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700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vide Market Participants access to SCR 727 ESIID level data in ERCOT systems via Web Servi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700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veloping integrated prototypes for Web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700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ing GUI prototypes and market suggestions from 11/04/2006 market meeting to finalize workflow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700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alizing project re-planning effort to incorporate integrated development efforts and EIS delivery 2006 delivery tim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ilestone Target Dates (re-plan efforts underw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700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EST = Sept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700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duction Migration =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7000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rket Delivery = Dec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71200" y="79200"/>
            <a:ext cx="71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  <a:ea typeface="Times New Roman"/>
              </a:rPr>
              <a:t>PR 50024_01 SCR 727 Enhancements (SCR 7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A315-001A-4A0A-A2AF-B948117C35E9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1298520"/>
            <a:ext cx="8156520" cy="5170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257480"/>
            <a:ext cx="800100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iority 1.1, Rank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itial Budge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 $500K - $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oll out first wave of data marts in the conformed data warehouse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ition Data Archive components for ret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ze the Conformed Data Warehouse for integrating cross system data in a very near real-time environment, intended to offset reporting demands and cont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ows for performance enhanced querying on large data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grate with Enterprise information delivery strategic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t (Cost) / Benefit ($): 24,350,470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re: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arget Date for Initiation =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4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17880" y="28440"/>
            <a:ext cx="58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  <a:ea typeface="Times New Roman"/>
              </a:rPr>
              <a:t>PR 60005_01 EIS CDW Data M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381D-00D1-4309-9CC2-E6A155DB2339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320640" y="2057400"/>
            <a:ext cx="34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0a3b6c"/>
                </a:solidFill>
                <a:latin typeface="Arial"/>
              </a:rPr>
              <a:t>Questions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126720"/>
            <a:ext cx="717552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Recent Impacts to RO Project Portfolio 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9680" y="926640"/>
            <a:ext cx="886464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006 RO allocation = $6.75M; estimate for projects above “cut line” = $7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started, Initiation, Planning phases – Project budgets are still approximations; not based on completed Requirements or Design specific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ecution, Closing phases – Project budget “locked” with baseline budget and 10% contingenc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jects above “cut line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 current impact to projects above the “cut line” resulting from MarkeTrak increase and anticipated SOA increa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rket still has $1.5M identified for 2 projects not yet initia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675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Measures Reporting Require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675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Require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jects below “cut line,” within “capability” ra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COT initiates projects in rank order, unless constraints prevent initi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675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A Extend Footprint – Not started; env. &amp; resource constraint with RBP projec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675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hancements to Digital Certificates – Initiating; transferred to IO portfoli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675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SI ID Account Table Split – Not started; resource constraint with RBP Projec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COT.com Secured Area project – continuing with Initiation pha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DW transition projects – initiating several of these projects this wee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F7A5-ACB5-4E4C-9522-082139EBC606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8160" y="131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Current Status of RO Portfolio*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63440" y="893880"/>
          <a:ext cx="8863200" cy="5038560"/>
        </p:xfrm>
        <a:graphic>
          <a:graphicData uri="http://schemas.openxmlformats.org/drawingml/2006/table">
            <a:tbl>
              <a:tblPr/>
              <a:tblGrid>
                <a:gridCol w="728640"/>
                <a:gridCol w="598680"/>
                <a:gridCol w="600120"/>
                <a:gridCol w="2792160"/>
                <a:gridCol w="974880"/>
                <a:gridCol w="925560"/>
                <a:gridCol w="701640"/>
                <a:gridCol w="547560"/>
                <a:gridCol w="9939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 Are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N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Prior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Ran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Budget Ran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ment to FasTrak Too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 Oriented Architecture (SeeBeyond Replacemen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point Services - Phase 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ail Business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point Services - Phase II &amp;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-$500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X SET 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 SIR Enhanc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Outage Evaluation and Resolution, Ph. I &amp; 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6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Measures Report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7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s and Conditions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 Cut Line </a:t>
                      </a:r>
                      <a:r>
                        <a:rPr b="1" i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Initial placement based on consolidated ERCOT PPL; RO allocation = $6.75M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A Extend Footpri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10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 Digital Certificate Progr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13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. to 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I ID Account Table Spl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15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.com Secured Are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77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Siebel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59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TCH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60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EAI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61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S Transition to ED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8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 Capability Range </a:t>
                      </a:r>
                      <a:r>
                        <a:rPr b="1" i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Line placement varies based on Forecasted Spend for Portfol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culation of Losses for Settl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6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s Customer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3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1800" y="5996160"/>
            <a:ext cx="7870680" cy="7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2680" indent="-112680">
              <a:lnSpc>
                <a:spcPct val="12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anges noted in this slide are not yet reflected on PPL posted to ERCOT.com as of 4/12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12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 PPL on ERCOT.com –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http://www.ercot.com/services/comm/projects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9BC1-BA6D-4EB0-8097-C55D96D48C3E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800" y="126720"/>
            <a:ext cx="717552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ortfolio Management &amp; Reporting 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9680" y="927000"/>
            <a:ext cx="8864640" cy="57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vised ERCOT PMO/DPO Procedures to be implemented in Ma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entralized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gram Management Office (PMO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cusing on fostering project management excellence through standardized processes, procedures, tools, training and support functions for all ERCOT proje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entralized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visional Projects Organization (DPO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cusing on accountability and responsibility for business area project portfolio management and delive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675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 (Commercial/Retail Ops), SO (System Ops), CO (Corp Ops), IO (IT Op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PO accountable &amp; responsible for project scope, schedule, budget; reports through governance process for updates, changes and approv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rket Services leading effort to identify appropriate external reporting format, delivery mechanism, forums and frequenc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 different DPOs, interest varies across committe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 DPO will provide additional information regarding governance process and revisions to organizational, procedural, and reporting proc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orking with RMS Leadership to finalize agenda/cont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rget May 2006 RMS meet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FFCE-EEAF-499B-9829-4DF528658D25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1298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257480"/>
            <a:ext cx="8153640" cy="46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O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 50059_01 EDW Siebel Tran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 50060_01 EDW TCH Tran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 50061_01 EDW EAI Tran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 50088 ETS Transition to ED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 50024_01 SCR 740 Enhancements to SCR 7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 60005_01 EIS Data Marts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98000" y="2844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  <a:ea typeface="Times New Roman"/>
              </a:rPr>
              <a:t>2006 EIS Retail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D42F-122B-449E-9463-99E492AF56DC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1298520"/>
            <a:ext cx="8156520" cy="51786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257480"/>
            <a:ext cx="815364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iority 1.1, Rank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itial Budge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 $500K - $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us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i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 Operational Data Store for 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ition of Siebel extracts to ED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ition Data Archive components for ret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vide a mirrored, very near real-time environment, intended to offset reporting demands and cont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grate with Enterprise information delivery strategic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t (Cost) / Benefit ($): 448,938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re: 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arget Date for Planning =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5/01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4000" y="28440"/>
            <a:ext cx="62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  <a:ea typeface="Times New Roman"/>
              </a:rPr>
              <a:t>PR 50059_01 EDW Siebel Tran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6FB3-D094-4DA7-9C87-1342E4DF42F1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1295280"/>
            <a:ext cx="8156520" cy="53704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720" y="1332000"/>
            <a:ext cx="810900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iority 1.1, Rank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itial Budget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$100K - $500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us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i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 Operational Data Store for Transaction Clearing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ition TCH extracts to ED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ition Data Archive components for ret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vide a mirrored, very near real-time environment, intended to offset reporting demands and cont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grate with Enterprise information delivery strategic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t (Cost) / Benefit  ($): 743,338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re: 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arget Date for Planning =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5/01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81160" y="28440"/>
            <a:ext cx="59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  <a:ea typeface="Times New Roman"/>
              </a:rPr>
              <a:t>PR 50060_01 EDW TCH Tran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9208-0485-4675-A923-6030397F35DF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1298520"/>
            <a:ext cx="8156520" cy="536256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257480"/>
            <a:ext cx="8077320" cy="52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iority 1.1, Rank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itial Budge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 $100 - $500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u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Not Sta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 Operational Data Store for Paperfree &amp; NAES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ition PF/NAESB extracts to ED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ition Data Archive components for ret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vide a mirrored, very near real-time environment, intended to offset reporting demands and cont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grate with Enterprise information delivery strategic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t (Cost) / Benefit ($): 743,338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re: 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arget Date for Initiation =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te Q2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19760" y="28440"/>
            <a:ext cx="57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  <a:ea typeface="Times New Roman"/>
              </a:rPr>
              <a:t>PR 50061_01 EDW EAI Tran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DA7BA-8A76-4736-8611-F99559B812E2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1298520"/>
            <a:ext cx="8156520" cy="529272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257480"/>
            <a:ext cx="800100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iority 1.1, Rank 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itial Budge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 $500K - $1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atu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Not 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ild Operational Data Store for 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nsition ETS extracts to ED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sition Data Archive components for reti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ne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tilize the Conformed Data Warehouse for integrating cross system data in a very near real-time environment, intended to offset reporting demands and cont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ows for performance enhanced querying on large data 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grate with Enterprise information delivery strategic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9376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t (Cost) / Benefit ($): 1,185,671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core: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arget Date for Initiation =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4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86960" y="28440"/>
            <a:ext cx="63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  <a:ea typeface="Times New Roman"/>
              </a:rPr>
              <a:t>PR 50088_01 ETS Transition to ED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0D68-983C-44A6-BE66-2AA0DEC74186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Adam Martinez</dc:creator>
  <dc:description/>
  <dc:language>en-US</dc:language>
  <cp:lastModifiedBy>amartinez</cp:lastModifiedBy>
  <dcterms:modified xsi:type="dcterms:W3CDTF">2006-04-12T16:40:37Z</dcterms:modified>
  <cp:revision>127</cp:revision>
  <dc:subject/>
  <dc:title>Slide 1</dc:title>
</cp:coreProperties>
</file>