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D6E3-E4CF-4116-A186-09D61C32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E76D-77E7-42E2-B348-2D3A5607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A2AC-432C-4167-969C-EF95BD6E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16C-34E5-4CE1-BCC8-3AF61995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A3DA-BDA1-42E1-A32B-9578786F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D88-DC3D-42D7-8EC5-A3C50FEB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1211-0BFE-47DA-A4BD-504A3E6C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294-7944-4F68-A696-CACD2ECD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272E-D154-4744-BB95-B8854050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AE5-5B85-4F5D-96AB-A6F14AC0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8F0-E416-419C-9A28-3892241C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9B3F-9391-455E-A307-6A24DEBB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2B2D-84DE-4844-92B5-836BDB61E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segger@erco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smunson@ercot.co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1069920"/>
            <a:ext cx="845820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solution to either enhance or replace the FasTrak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/Why is this important?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the transparency for issues that are submitted via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users to have improved access to th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reporting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search functionality associ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monitoring and response capabiliti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us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 Integration - dependent on SOA MID project for integration framework components needed by API (low risk to pro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7200" y="533520"/>
            <a:ext cx="530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360" y="6095880"/>
            <a:ext cx="19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April 7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32880" y="609588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Scott Eg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 512-248-316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gger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ke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usag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6840" y="71136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7680" y="5867280"/>
            <a:ext cx="19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April 7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5943600"/>
            <a:ext cx="8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keTrak Budget Re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62080" y="1068480"/>
          <a:ext cx="3001680" cy="4727160"/>
        </p:xfrm>
        <a:graphic>
          <a:graphicData uri="http://schemas.openxmlformats.org/drawingml/2006/table">
            <a:tbl>
              <a:tblPr/>
              <a:tblGrid>
                <a:gridCol w="1046880"/>
                <a:gridCol w="977400"/>
                <a:gridCol w="97740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Est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 Est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9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21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w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5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l La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25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43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La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1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23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g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9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xes and Inter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55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49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52320" y="1066680"/>
            <a:ext cx="5651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861K increase to 2006 budget resulting from completion of Planning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 estimate assumed solution using existing technology platform at ER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d in-house technology expertise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d limited HW requi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sen solution resulted in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ght increase in final negotiated SW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HW required to imp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and/or no in-house expertise with Serena SW &amp; TIBCO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o internal/external resource m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to dev &amp; test efforts from final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overall hours to code, integrate,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extern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BCO integration services, Serena software resources, Testing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23960" y="63244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324480"/>
            <a:ext cx="142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April 7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1143000"/>
            <a:ext cx="815652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: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tion – Completed in Feb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 – Completed in Nov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on/Implementation – Started November 14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pd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bruary 2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nt notice to MPs requesting data on FasTrak Users and Digital Certific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has received responses from 66 out of 123 DUNS nu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ek of April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RCOT is scheduled to start issuing Digital Certificates to new USA cont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on May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SA contacts can start requesting additional Digital Certificates for its MarkeTrak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9360" y="60948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7680" y="6095880"/>
            <a:ext cx="214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April 7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01000" y="6095880"/>
            <a:ext cx="8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1143000"/>
            <a:ext cx="8156520" cy="4495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pdate (cont.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Certificates co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users of MarkeTrak (GUI) will require a Digital Certifi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user has an active Digital Certificate then will not require another Digital Certifi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Market Participants that wish to use the MarkeTrak API will require a Digital Certificate designated f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ssued Digital Certificate will not require a role for Marke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rak will define a user’s role/responsibilities/per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h 23rd MP conference call regarding MP readiness plan – no changes to project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ekly project conference calls have been moved to Monday’s at 3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in number is 800-211-0633  Password: 8447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4th Attended Market Metrics meeting to discuss MarkeTrak’s reporting cap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9360" y="60948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7680" y="5943600"/>
            <a:ext cx="214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April 7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1069920"/>
            <a:ext cx="8153280" cy="47973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dates are were derived from ERCOT’s design and planning eff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comple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Jun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Design Document publish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ovember 30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ed Design Document publish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anuary 31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 Scrip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eting - reviewed the market test scripts written by market 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s requested to review scripts at the product demo on Tuesday, April 11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Sub-team will hold weekly conference calls starting late the week of 4/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cript Sub-Team meeting will be the first week of M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s are continuing to complete writing of scri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the scripts are complete, the script load will be balanced over the two week MP testing period (5/22 – 6/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7200" y="60948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5160" y="5977080"/>
            <a:ext cx="143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April 7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1069920"/>
            <a:ext cx="8229600" cy="47973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dates are were derived from ERCOT’s design and planning eff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ing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un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 testing is only required if you plan on us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 testing is voluntary – contact Susan Munson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munson@ercot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 to volunt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articipant product De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cheduled for April 1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9:30am – Noon in room 1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pril 17th – May 1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8280" y="7113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5160" y="5977080"/>
            <a:ext cx="143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April 7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069920"/>
            <a:ext cx="8229600" cy="47973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dates are were derived from ERCOT’s design and planning eff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r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ton training is May 2-5 at Center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las training is May 9-12 at T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in training is May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ERCOT Tay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ining sessions will run from 9:00am to 3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s only need to attend one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ssion in Houston and Dallas is limited to 24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in session at ERCOT Taylor is limited to 20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8280" y="7113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5160" y="5977080"/>
            <a:ext cx="143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April 7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dates are were derived from ERCOT’s design and planning eff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User Guid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June 1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 Cutover Pl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day to submit new issues in old tool – June 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June 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ll new issues submitted in new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old tool will not be converted to new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over plans will be finalized prior to May 2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‘go live’ with GUI &amp; AP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une 1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8280" y="7113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5160" y="5977080"/>
            <a:ext cx="143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April 7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8280" y="7113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5160" y="5977080"/>
            <a:ext cx="143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April 7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952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440" y="5164200"/>
            <a:ext cx="103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ruary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5181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51814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181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5181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e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4419720"/>
            <a:ext cx="35812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elop Market Test Scri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038480"/>
            <a:ext cx="1828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OT i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9920" y="3429000"/>
            <a:ext cx="8380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P Trai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2971800"/>
            <a:ext cx="1371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k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438280"/>
            <a:ext cx="1447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 Produc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2514600"/>
            <a:ext cx="1523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 User Gu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7320" y="190512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 Live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segger</cp:lastModifiedBy>
  <dcterms:modified xsi:type="dcterms:W3CDTF">2006-04-07T22:11:44Z</dcterms:modified>
  <cp:revision>227</cp:revision>
  <dc:subject/>
  <dc:title>TX SET V1.5 RFP Evaluation Recommen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Date">
    <vt:lpwstr>2005-03-16T00:00:00Z</vt:lpwstr>
  </property>
  <property fmtid="{D5CDD505-2E9C-101B-9397-08002B2CF9AE}" pid="3" name="GUID">
    <vt:lpwstr>{20050316-2134-581F-B2D0-2DA44B90E9B3}</vt:lpwstr>
  </property>
  <property fmtid="{D5CDD505-2E9C-101B-9397-08002B2CF9AE}" pid="4" name="Owner">
    <vt:lpwstr>197</vt:lpwstr>
  </property>
  <property fmtid="{D5CDD505-2E9C-101B-9397-08002B2CF9AE}" pid="5" name="Status">
    <vt:lpwstr>Final</vt:lpwstr>
  </property>
</Properties>
</file>