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19B-76D5-4A74-8E39-84A5065D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EC1-CF94-4A6B-BDF4-CAEF3911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76E-BF46-47C1-B567-0EC6CEC6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5C7-7924-4248-B9C5-68E7F351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A37-005C-4D90-B0D6-8FF4925B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AE2-8C54-4274-B113-0193D42E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4C2-340D-4B85-A15F-F264FE07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387-29EF-4B77-A6B8-AF09F21F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DD3-BD91-47B8-9863-4D001B65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400-EAB5-4C39-AE30-A479F6AF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CB3-BFFD-4B0A-B8AE-74F8D74C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AB8-C732-4A31-A5EC-4BF547C9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92F3-DDC6-4B42-9B3A-E2F40AF8E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A3F-BF6D-4B48-9131-AD2FA4694A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to Day’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3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952880"/>
            <a:ext cx="7010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 = ERCOT Initiated Is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ERCOT issue = Issues logged directly between the CR and TDSP with no ERCOT involvement to resol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egory of “All Other” does not have subtype.  Issues logged as “All Other” can include Transaction Issues, Rep of Record Issues, Service Order Change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D75-FABE-498F-9D9F-DA09B1D9C1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to Day’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3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257800"/>
            <a:ext cx="8381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Progress D2D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6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D2D Issue ESI IDs worked to date since January 1, 2006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5,2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53452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F7E-AF8E-469A-B285-3199342CB0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to Day’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3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419720" cy="1067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762012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F16-8229-41EB-9B89-020CBBCADE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3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4100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320" y="2133720"/>
            <a:ext cx="8991360" cy="20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A7E-E7B3-46BF-8814-A4B5891E4CB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3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5562720"/>
            <a:ext cx="6324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134 In Progress DEV Issues, 63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396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5DA-9960-48A9-A9B9-5AA9EA3EFB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ssue Typ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ru 3/31/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238880" cy="22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CDF-C5FF-45DF-92C7-C76257853D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3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155-884E-4F3B-BE1E-82E7711C02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B1D-078E-4552-93E5-281BE82B40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9A7-350F-406C-A611-7062575C0E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3944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CA1-6152-4E82-B1FC-29FA392A3D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603440"/>
            <a:ext cx="7848720" cy="434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ECE-6AA4-4752-A2D7-8C66149005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2C46-BF63-4A8D-8479-BF5CEB66BB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352680"/>
            <a:ext cx="12953880" cy="26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766-4964-42FD-9932-4E8785F9E0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90720" y="1752480"/>
          <a:ext cx="71341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134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8C3-BF51-4459-B434-B5C68DBE2B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215E-3F02-4433-88D5-85DF045D74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farley</cp:lastModifiedBy>
  <cp:lastPrinted>2002-09-24T18:27:58Z</cp:lastPrinted>
  <dcterms:modified xsi:type="dcterms:W3CDTF">2006-04-05T21:46:22Z</dcterms:modified>
  <cp:revision>622</cp:revision>
  <dc:subject/>
  <dc:title>PowerPoint Presentation</dc:title>
</cp:coreProperties>
</file>