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EFF-BA86-415A-BD30-DFC265A5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B5A-A26C-49E5-889F-ADA62B6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9E6-A554-425E-8F77-896BADF2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D9C-09E2-42F4-9DC3-8DFE1234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B39-8CB9-44A4-ADBB-5D01519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8E0-16C0-49EA-93E2-1FDE62A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318-5E12-4CD5-AC20-424B72E9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018-A33B-49A8-A5E1-D2628DC3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360-3265-4E3A-B38C-0DDAA4A6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F23-9FED-4AE7-9ED7-7221D47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E82-1E7F-4911-8834-674C1DA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CDB-916A-4C5A-8CA8-48FB435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253-3991-4065-A0CE-4EAA8312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ri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5 Competitive Retailers reported numbers by the due date for March Reports (04/04/0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f 15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May RMS (April Reports) are due by May 2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752480"/>
          <a:ext cx="8076960" cy="441936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7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676520"/>
          <a:ext cx="807660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784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752480"/>
          <a:ext cx="8152920" cy="434304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04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152920" cy="464796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76520"/>
          <a:ext cx="8152920" cy="441900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6-04-07T14:42:30Z</dcterms:modified>
  <cp:revision>325</cp:revision>
  <dc:subject/>
  <dc:title>PowerPoint Presentation</dc:title>
</cp:coreProperties>
</file>