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8CD-C629-4C4A-9D01-9F44A2F4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B4E-83B6-4BF8-9A62-CF2E450D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418-BEA2-4F0A-AF56-A3D10CC3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AA6-14B6-416F-88C3-AF0DEF56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DE90-8149-46DF-BF8B-247A0E00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553F-20E5-477F-8AE3-00AA5861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EF8C-8819-456E-A953-F5F97B5A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2189-6F3C-487A-B817-D07D16FC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37F1-032C-4A9A-87FA-D66A9346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B765-913E-4E4D-839A-3C6DBDFA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6043-9EEC-45C6-B2BC-042F1AAF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F2D-C58C-45B6-9422-41C311A1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C9F9-D3E1-419B-BACC-743FDAD1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9B38-6BEA-49FF-AAC4-14D0073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602C-E3E6-45E7-B88A-6218FEF1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489F-480B-4DEA-8349-70D21821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6217-760E-4BBC-9AE6-CDD7FDC9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D69-6783-4202-AE86-8A755EC1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E0F-1C8A-4FF7-8460-1DB8BA4A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96F-55B5-46B9-890D-77BE1E1A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F47-0D55-4C09-A895-B3EDCB1C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8E7-160B-48C6-BB3A-59718446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DE9-9DF0-4739-9935-85A45879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076-A3CE-444F-A7E1-E03218C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958F-00C4-4685-A601-AA115CDE4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56E9-9079-4B5E-AEAE-2D8925825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R 586  Back-Cas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to W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2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llary Service Demand Factor (ASD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minute summation of 1 minute intervals results in applying penalty to every 15 minute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Frequenc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ric would have to be modified to correlate acceptable frequency control (ERCOT CPS1) with QS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R586 Inputs &amp; Assum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cast of historical data for Novembe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orest ERCOT CPS1 Performance in Rec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tal cost of Regulation Services for the month was $23 million (MCPC for URS &amp; DRS multiplied by total oblig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of the regulation service cost for a 15 minute interval is allocated when the penalty criteria is m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enalty criteria is (-1*ISCE*REGNm) where this is greater than z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lerance dead-band is used that measures the aggregate sum of the QSEs IS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 of the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penalty cost equaled $11.5 million for the month of November 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SDF for all participants had at least 1 minute of the 15 minute sum in which an interval met the criteria for applying the penal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a dead-band around an individual QSE’s ISCE, there is a risk of having a low ISCE and paying a large share of the penalty (i.e. if most QSEs have a ASDF = 0 in the interv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frequency was outside of the acceptable tolerance (+/-0.03 Hz dead-band) 11,460 one minute intervals out of a total of 43,200 one minute interv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3 or 3,796 of the 11,460 intervals would not have had a penalty applied even though ERCOT frequency was outside an acceptable range, however, this can be addressed with a small change to the formula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change to the formula is needed so that QSE will not receive a good score when ERCOT is un-deploying regulation and the QSE is generating in an undesirable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why this change is needed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Nm (regulation need) = the one minute ERCOT deployed Regulation minus ERCOT Area Control Error (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– ERCOT frequency = 60.00 Hz and ACE = 0 total deployed Regulation = -500 MW; (initial cond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increases 1 minute later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frequency = 59.95 Hz; ERCOT ACE = -200 MW total deployed Regulation = -300 MW (un-deployed from 500 down to 300 down) ; QSEa is under generating and their SCE = -100 (hurting frequenc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a - REGNm = -300 – (-200) = -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a - ASDF = (-1*-100*-100) = -10,000&lt;0 = 0 (good sco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tion Considere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 Current Propos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1 minute intervals that meet the penalty criteria for one or more Q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48% of the intervals in the month met the penalty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tions Conside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System-wide deadband and, in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deadband to individual Q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L10 values from PRR 525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y ASDF from (-1*ISCE*REGnm) to (ISCE*ACE) to align the metric with ERCOT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in 35,901intervals out of 43,200 1 minute intervals in which the penalty criteria would be met by one or more Q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view of Uninstructed Resource Charge (URC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inputs to existing Uninstructed Resource Charge (URC)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s revenue meter quality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s allow Deadband mod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inputs easily modifiable with Protocol 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design already in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’t apply penalty for under generating  when MCPE is pos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15 minute 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not significantly address 0600 and 2200 ramp period schedu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alternative does not satisfy Potomac Recommendation #1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URC pricing language to apply an appropriate penalty price for over or under generating regardless of magnitude of MC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URC Uninstructed Factor to apply tighter tole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5:34:32Z</dcterms:created>
  <dc:creator>jdumas</dc:creator>
  <dc:description/>
  <dc:language>en-US</dc:language>
  <cp:lastModifiedBy>Nieves Lopez2</cp:lastModifiedBy>
  <dcterms:modified xsi:type="dcterms:W3CDTF">2005-04-28T17:26:58Z</dcterms:modified>
  <cp:revision>46</cp:revision>
  <dc:subject/>
  <dc:title>Slide 1</dc:title>
</cp:coreProperties>
</file>