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9AF0-2CC9-420A-8207-175F1AEA3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8E79-885E-4CB6-A5A7-92A22A816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CE40-B536-428A-8308-F606A9183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3880-093C-434B-ACA6-DF452C8C9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42A6-4594-4E76-B09D-5847FBA8C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1E4A-F141-4D38-A30F-F37DE530B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2F7E-821E-45BA-92D4-8712ADA76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8400-9F8B-49E8-9214-36458476B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51AF-035A-4743-BED3-60EA04059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1B7D-621A-4DAE-B72E-DBAE42D01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1561-5596-4654-B151-CC1E2D9CF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2613-1DFB-4DC6-B106-2BD098406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3B25-2A42-4E91-A771-0D5BB6048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P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1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and PPL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525 – SCE Performance 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 Live moved to 4/27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201"/>
              </a:spcBef>
              <a:buNone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425 – Outage Scheduler Enhancements Phase 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 Live moved to 8/23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201"/>
              </a:spcBef>
              <a:buNone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312 – Enhance ESIID Lookup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DSP Extrac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 Live moved to 7/4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ML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 Live moved to 10/14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201"/>
              </a:spcBef>
              <a:buNone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ML Phase 3 Wholesale Enhanc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tiated in Apr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297180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PPL posted to ERCOT.com on 4/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E569-40E8-4D6E-93DA-E00022167A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507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Monthly Proje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95280"/>
            <a:ext cx="86868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ss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mproved understanding of ERCOT projects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onthly PRS agenda item for a brief overview from one of the five ERCOT Program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ched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Program Are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u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T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bruar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ste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ail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pri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ket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porate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T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FBC3-E500-45D6-928B-914FDC19C4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2209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C30D-F3EB-4399-9F40-BD404B2778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6-04-13T18:07:21Z</dcterms:modified>
  <cp:revision>149</cp:revision>
  <dc:subject/>
  <dc:title>Slide 1</dc:title>
</cp:coreProperties>
</file>