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7D5E-70DD-4191-A9DA-FE4FF775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F499-BA94-4BBB-8D77-9BFABF7E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E11E-92DD-43A7-87DE-059BF1FA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3B77-4CD6-41F3-9F54-D22BC959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302B-D9A9-4AB2-80FF-3CB6D3B6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DAB4-626B-4EA8-8B75-6B69947C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504D-2AA7-4965-99AE-DD07CBA9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BA57-6B41-4291-AC67-719823AD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1462-BB36-4670-BAEA-A7E0521B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9CD2-36FC-4BBA-BE16-8FF6F7DF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76DE-F380-4223-8399-6991F755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A015-6139-4FF5-A341-44F4E6CB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4B59-DEC8-4DD1-88B5-94A22F94A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55600" y="6445080"/>
            <a:ext cx="2895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"/>
          <p:cNvSpPr/>
          <p:nvPr/>
        </p:nvSpPr>
        <p:spPr>
          <a:xfrm>
            <a:off x="2895480" y="6308640"/>
            <a:ext cx="3124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1/06 P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 Participant Funding for Market Projec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sues with Market Participant (MP) funding of market projects identified by PRS on 03/23/06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s a new level of complexity to contract negoti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y that contributes financially to project could want some level of control over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funds management and confidentiality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 of addressing resource impacts between fee based and MP funded pro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resource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resourc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tial for parties to force option of MP funding if a project does not directly benefit a particular ent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in only projects supported by investors will be fu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 Participant Funding for Market Projec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s on how to address project overruns or investor abandoned pro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equent Protocol revisions could impact the value of a MP funded pro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s may more readily overlook the impacts of such MP funded projects by another project if stakeholders have no financial stake in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tial for equity issues whereby large stakeholders have an advantage over smaller ent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ERCOT</cp:lastModifiedBy>
  <dcterms:modified xsi:type="dcterms:W3CDTF">2006-04-14T13:24:59Z</dcterms:modified>
  <cp:revision>19</cp:revision>
  <dc:subject/>
  <dc:title>Role of Account Management at ERCOT</dc:title>
</cp:coreProperties>
</file>