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ED4-B87D-4432-A8A1-E2AAD0E4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F5A-C086-4A6C-B20E-CE4E729B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E8A-B242-4F76-8B71-EADEB8C3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511-EFDE-49D1-AD1E-256C9273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DE5-A751-4989-81C4-CC4AE6A5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1899-C1B8-4358-8098-A70D1456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7B0-18DB-47EC-9726-6791571E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A83-2BAA-4225-982C-8A20230C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FAD-3DB3-4B49-86C4-F3E44EAC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2A1-6986-4109-B90C-B1E06227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F13-1705-482D-A2DD-BCAA2FBF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0A8-721B-401D-A046-77BE684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FEC9-8047-4139-BFBF-96060673F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RCOT Systems Operations Repo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2285640"/>
            <a:ext cx="7848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ft PRR Update for Non-Spin Deployment Recall Pract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ort on Historical Frequency at 18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ley Area Overlimit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h 21st RRS Deploy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21 RRS De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minute deployment of RRS shortly after 06:00 ramp period in response to frequency &lt; 59.91 H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Regulation depleted at 06:05 du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m. load pi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300 per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4120 schedu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d down 3175 to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21 RRS De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/25/05  Reversals of Regulation = 4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440" y="10164600"/>
            <a:ext cx="3886200" cy="19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457200" y="1600200"/>
          <a:ext cx="8152200" cy="4524840"/>
        </p:xfrm>
        <a:graphic>
          <a:graphicData uri="http://schemas.openxmlformats.org/drawingml/2006/table">
            <a:tbl>
              <a:tblPr/>
              <a:tblGrid>
                <a:gridCol w="2425680"/>
                <a:gridCol w="1908720"/>
                <a:gridCol w="1909440"/>
                <a:gridCol w="1908360"/>
              </a:tblGrid>
              <a:tr h="156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o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e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m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dd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228600"/>
          <a:ext cx="7620120" cy="6397560"/>
        </p:xfrm>
        <a:graphic>
          <a:graphicData uri="http://schemas.openxmlformats.org/drawingml/2006/table">
            <a:tbl>
              <a:tblPr/>
              <a:tblGrid>
                <a:gridCol w="1265400"/>
                <a:gridCol w="1028520"/>
                <a:gridCol w="5326200"/>
              </a:tblGrid>
              <a:tr h="379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ned Outage of Lon Hill - Rio Ho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: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: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: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: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reports valley import limit exc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: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e_v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: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e_v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reports valley import limit exc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em ID'd - Contingency set to Full Process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 established through manual simulation of contingenc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: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: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: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: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tored Rio Hondo - Lon Hill ou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-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SAT application for Valley import avail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reening tolerance lowered to .8.  Contingency remains in Full Proces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5:07:36Z</dcterms:created>
  <dc:creator>jhealy</dc:creator>
  <dc:description/>
  <dc:language>en-US</dc:language>
  <cp:lastModifiedBy>jhealy</cp:lastModifiedBy>
  <dcterms:modified xsi:type="dcterms:W3CDTF">2006-04-11T23:49:14Z</dcterms:modified>
  <cp:revision>9</cp:revision>
  <dc:subject/>
  <dc:title>Slide 1</dc:title>
</cp:coreProperties>
</file>