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F55371-F30F-4EAE-B200-F29FD159D6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DFD5B-9F71-42A6-A06C-D4EFCBE9E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A063DB-903A-4FCC-9DB7-CCBACB702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C18A3-AF74-4C9A-A3C1-61EBC7627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514E0-29F3-44A1-8425-793B83311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2A1D4-EE54-4783-A1BD-D29FE34EE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7C14A-6093-4F44-9129-82D0AF5B1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75A3F-162E-402B-B55D-337CD591F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E79C7-27C8-4361-99DE-0312B4B13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ED28D-01FC-4D9D-8DC7-32A2F7960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37536-5651-44B6-9BEA-D6108FEDA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FD23B-6BDE-4D02-BB4D-ED4C6CC844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2f7fc"/>
            </a:gs>
            <a:gs pos="100000">
              <a:srgbClr val="effbf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3EA77-BD38-40FE-B6C8-8EA80E2ED3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2f7fc"/>
            </a:gs>
            <a:gs pos="100000">
              <a:srgbClr val="effbfd"/>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twork Data Support </a:t>
            </a:r>
            <a:br>
              <a:rPr sz="4000"/>
            </a:br>
            <a:r>
              <a:rPr b="0" lang="en-US" sz="4000" spc="-1" strike="noStrike">
                <a:solidFill>
                  <a:srgbClr val="000000"/>
                </a:solidFill>
                <a:latin typeface="Arial"/>
              </a:rPr>
              <a:t>Working Group </a:t>
            </a:r>
            <a:br>
              <a:rPr sz="4000"/>
            </a:br>
            <a:r>
              <a:rPr b="0" lang="en-US" sz="4000" spc="-1" strike="noStrike">
                <a:solidFill>
                  <a:srgbClr val="000000"/>
                </a:solidFill>
                <a:latin typeface="Arial"/>
              </a:rPr>
              <a:t>Report to </a:t>
            </a:r>
            <a:br>
              <a:rPr sz="4000"/>
            </a:br>
            <a:r>
              <a:rPr b="0" lang="en-US" sz="4000" spc="-1" strike="noStrike">
                <a:solidFill>
                  <a:srgbClr val="000000"/>
                </a:solidFill>
                <a:latin typeface="Arial"/>
              </a:rPr>
              <a:t>ROS</a:t>
            </a: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533412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il 13,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2f7fc"/>
            </a:gs>
            <a:gs pos="100000">
              <a:srgbClr val="effbfd"/>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ice Request Timeline</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odal Protocols set a timeline in Section 3.10.1 to submit a Service Request to ERCOT to energize a pro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inimum time to submit the Service Request can vary from 30 days to 180 days before the energize date depending on the date the project is to be energiz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2f7fc"/>
            </a:gs>
            <a:gs pos="100000">
              <a:srgbClr val="effbfd"/>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rvice Request Timeline under </a:t>
            </a:r>
            <a:br>
              <a:rPr sz="4000"/>
            </a:br>
            <a:r>
              <a:rPr b="0" lang="en-US" sz="4000" spc="-1" strike="noStrike">
                <a:solidFill>
                  <a:srgbClr val="000000"/>
                </a:solidFill>
                <a:latin typeface="Arial"/>
              </a:rPr>
              <a:t>Nodal Protocol Section 3.10.1</a:t>
            </a:r>
            <a:endParaRPr b="0" lang="en-US" sz="4000" spc="-1" strike="noStrike">
              <a:solidFill>
                <a:srgbClr val="000000"/>
              </a:solidFill>
              <a:latin typeface="Arial"/>
            </a:endParaRPr>
          </a:p>
        </p:txBody>
      </p:sp>
      <p:graphicFrame>
        <p:nvGraphicFramePr>
          <p:cNvPr id="63" name=""/>
          <p:cNvGraphicFramePr/>
          <p:nvPr/>
        </p:nvGraphicFramePr>
        <p:xfrm>
          <a:off x="457200" y="1600200"/>
          <a:ext cx="8229600" cy="4537080"/>
        </p:xfrm>
        <a:graphic>
          <a:graphicData uri="http://schemas.openxmlformats.org/drawingml/2006/table">
            <a:tbl>
              <a:tblPr/>
              <a:tblGrid>
                <a:gridCol w="1703520"/>
                <a:gridCol w="1631880"/>
                <a:gridCol w="1630440"/>
                <a:gridCol w="1631880"/>
                <a:gridCol w="1631880"/>
              </a:tblGrid>
              <a:tr h="703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Deadline to Submit Information to ERCOT 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Model Complete and Available for Test 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Updated Network Operations Model Testing Complete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Update Network Operations Model Production Environ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arget Physical Equipment In-Service Date 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an 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eb 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rch 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pril 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onth of Apri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8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eb 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rch 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pril 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y 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onth of Ma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7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rch 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pril 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y 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une 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onths of June–August</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UMMER MODE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8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une 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uly 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ugust 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eptember 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onth of Septemb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uly 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ugust 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eptember 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October 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onth of Octob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6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ugust 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eptember 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October 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ovember 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onth of Novemb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8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eptember 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October 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ovember 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ecember 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onth of Decemb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6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October 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ovember 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ecember 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anuary 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onth of January (the next ye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8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ovember 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ecember 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anuary 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ebruary 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onth of February (the next ye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5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ecember 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anuary 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ebruary 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rch 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onth of March  (the next ye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2f7fc"/>
            </a:gs>
            <a:gs pos="100000">
              <a:srgbClr val="effbfd"/>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rvice Request Timeline </a:t>
            </a:r>
            <a:br>
              <a:rPr sz="4000"/>
            </a:br>
            <a:r>
              <a:rPr b="0" lang="en-US" sz="4000" spc="-1" strike="noStrike">
                <a:solidFill>
                  <a:srgbClr val="000000"/>
                </a:solidFill>
                <a:latin typeface="Arial"/>
              </a:rPr>
              <a:t>under Nodal</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 case scenario is if the project is to be energized on the first day of the month in a non-summer month.  This results in a 90 day notice requir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st case scenario is an energize date of August 31 requires submission by  March 1, resulting in the 180 day submission dead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nergizing on first day of the month and submission of data on the first day of the month requires the least notification.  This may result in many projects being submitted or energized on these dates causing difficulties schedul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2f7fc"/>
            </a:gs>
            <a:gs pos="100000">
              <a:srgbClr val="effbfd"/>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rvice Request Timeline </a:t>
            </a:r>
            <a:br>
              <a:rPr sz="4000"/>
            </a:br>
            <a:r>
              <a:rPr b="0" lang="en-US" sz="4000" spc="-1" strike="noStrike">
                <a:solidFill>
                  <a:srgbClr val="000000"/>
                </a:solidFill>
                <a:latin typeface="Arial"/>
              </a:rPr>
              <a:t>under Nodal</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dal Protocols currently require the Service request to be fully accepted by ERCOT prior to starting the timeline thus increasing the submission deadline by an additional 15 to 30 days or mo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DSWG recommends the Nodal Protocols be amended to start the deadline upon receipt of the SR to ERCOT but require the SR to be complete within the first 15 days of submiss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2f7fc"/>
            </a:gs>
            <a:gs pos="100000">
              <a:srgbClr val="effbfd"/>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rvice Request Timeline </a:t>
            </a:r>
            <a:br>
              <a:rPr sz="4000"/>
            </a:br>
            <a:r>
              <a:rPr b="0" lang="en-US" sz="4000" spc="-1" strike="noStrike">
                <a:solidFill>
                  <a:srgbClr val="000000"/>
                </a:solidFill>
                <a:latin typeface="Arial"/>
              </a:rPr>
              <a:t>under Nodal</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ased on the time when the data will be used, as described in the proposed Nodal Protocols, the NDSWG believes the data submission dates outlined in the protocols are reasonable, except that the 15 day review period by ERCOT should be included within the specified periods.  The working group further believes, however, the long advance notice required is impractical in the “real world” and will result in incorrect energizing dates and possibly incorrect engineering data that will require multiple additional filings to correct the initial data and may result in calculations that will not reflect the conditions of the “real wor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2f7fc"/>
            </a:gs>
            <a:gs pos="100000">
              <a:srgbClr val="effbfd"/>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rvice Request Timeline </a:t>
            </a:r>
            <a:br>
              <a:rPr sz="4000"/>
            </a:br>
            <a:r>
              <a:rPr b="0" lang="en-US" sz="4000" spc="-1" strike="noStrike">
                <a:solidFill>
                  <a:srgbClr val="000000"/>
                </a:solidFill>
                <a:latin typeface="Arial"/>
              </a:rPr>
              <a:t>under Nodal</a:t>
            </a:r>
            <a:endParaRPr b="0" lang="en-US" sz="4000" spc="-1" strike="noStrike">
              <a:solidFill>
                <a:srgbClr val="000000"/>
              </a:solidFill>
              <a:latin typeface="Arial"/>
            </a:endParaRPr>
          </a:p>
        </p:txBody>
      </p:sp>
      <p:sp>
        <p:nvSpPr>
          <p:cNvPr id="71" name="PlaceHolder 2"/>
          <p:cNvSpPr>
            <a:spLocks noGrp="1"/>
          </p:cNvSpPr>
          <p:nvPr>
            <p:ph/>
          </p:nvPr>
        </p:nvSpPr>
        <p:spPr>
          <a:xfrm>
            <a:off x="3457080" y="3198960"/>
            <a:ext cx="2459160" cy="65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2f7fc"/>
            </a:gs>
            <a:gs pos="100000">
              <a:srgbClr val="effbfd"/>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twork Data Support Working Group  NDSWG</a:t>
            </a:r>
            <a:endParaRPr b="0" lang="en-US" sz="4000" spc="-1" strike="noStrike">
              <a:solidFill>
                <a:srgbClr val="000000"/>
              </a:solidFill>
              <a:latin typeface="Arial"/>
            </a:endParaRPr>
          </a:p>
        </p:txBody>
      </p:sp>
      <p:sp>
        <p:nvSpPr>
          <p:cNvPr id="73" name="PlaceHolder 2"/>
          <p:cNvSpPr>
            <a:spLocks noGrp="1"/>
          </p:cNvSpPr>
          <p:nvPr>
            <p:ph/>
          </p:nvPr>
        </p:nvSpPr>
        <p:spPr>
          <a:xfrm>
            <a:off x="1076400" y="2354400"/>
            <a:ext cx="7378560" cy="80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Meeting will be April 18 in Aust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2f7fc"/>
            </a:gs>
            <a:gs pos="100000">
              <a:srgbClr val="effbfd"/>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etings of NDSWG</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DSWG has met twice independently and once as a joint meeting with SSWG since the last ROS Meet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imary focus of these three meetings was the NM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G also considered the request from ROS to comment on the proposed timeline in the Nodal Protocols for the service requests to energize a projec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2f7fc"/>
            </a:gs>
            <a:gs pos="100000">
              <a:srgbClr val="effbfd"/>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twork Model Management System (NMMS)</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MMS project caught many TSPs unaware of the project and the effect on their workloads and budg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TSPs resist the implem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G developed a statement to ROS on the implementation of NM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2f7fc"/>
            </a:gs>
            <a:gs pos="100000">
              <a:srgbClr val="effbfd"/>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twork Model Management System (NMMS)</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MMS begins with the current real time line/bus informa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future changes to the data are stored in a database with date informa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ynamic line ratings will be used for line rat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known outages are stored in a database with date informa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MMS creates a case/model each time requested by starting from the current real time case adding and subtracting lines busses, etc to get to the current configuration.  Then uses the outage scheduler to determine any facilities that will be out of service at the requested time.  The projected temperature for the requested date are used to calculate the line rating using the dynamic line rat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RCOT expects to produce the CRR models and validate with ERCOT staff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2f7fc"/>
            </a:gs>
            <a:gs pos="100000">
              <a:srgbClr val="effbfd"/>
            </a:gs>
          </a:gsLst>
          <a:lin ang="5400000"/>
        </a:gradFill>
      </p:bgPr>
    </p:bg>
    <p:spTree>
      <p:nvGrpSpPr>
        <p:cNvPr id="1" name=""/>
        <p:cNvGrpSpPr/>
        <p:nvPr/>
      </p:nvGrpSpPr>
      <p:grpSpPr>
        <a:xfrm>
          <a:off x="0" y="0"/>
          <a:ext cx="0" cy="0"/>
          <a:chOff x="0" y="0"/>
          <a:chExt cx="0" cy="0"/>
        </a:xfrm>
      </p:grpSpPr>
      <p:sp>
        <p:nvSpPr>
          <p:cNvPr id="49" name=""/>
          <p:cNvSpPr/>
          <p:nvPr/>
        </p:nvSpPr>
        <p:spPr>
          <a:xfrm>
            <a:off x="1295280" y="380880"/>
            <a:ext cx="6400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MMS: DRAFT Simplified ERCOT vision of how Transmission Planning interaction would take place - </a:t>
            </a:r>
            <a:endParaRPr b="0" lang="en-US" sz="1800" spc="-1" strike="noStrike">
              <a:solidFill>
                <a:srgbClr val="000000"/>
              </a:solidFill>
              <a:latin typeface="Arial"/>
            </a:endParaRPr>
          </a:p>
        </p:txBody>
      </p:sp>
      <p:graphicFrame>
        <p:nvGraphicFramePr>
          <p:cNvPr id="50" name=""/>
          <p:cNvGraphicFramePr/>
          <p:nvPr/>
        </p:nvGraphicFramePr>
        <p:xfrm>
          <a:off x="412920" y="1584360"/>
          <a:ext cx="8318160" cy="3689280"/>
        </p:xfrm>
        <a:graphic>
          <a:graphicData uri="http://schemas.openxmlformats.org/presentationml/2006/ole">
            <p:oleObj r:id="rId1" spid="">
              <p:embed/>
              <p:pic>
                <p:nvPicPr>
                  <p:cNvPr id="51" name="" descr=""/>
                  <p:cNvPicPr/>
                  <p:nvPr/>
                </p:nvPicPr>
                <p:blipFill>
                  <a:blip r:embed="rId2"/>
                  <a:stretch/>
                </p:blipFill>
                <p:spPr>
                  <a:xfrm>
                    <a:off x="412920" y="1584360"/>
                    <a:ext cx="8318160" cy="368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2f7fc"/>
            </a:gs>
            <a:gs pos="100000">
              <a:srgbClr val="effbfd"/>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twork Model Management System (NMMS)</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r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ers are concerned that because of the configuration used in operational models, single and double contingencies will not be properly studi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SPs are concerned that the amount of TSP labor required to implement this system will be significantly increas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SPs are concerned these models/cases will be used without being validated by TSPs as valid models/ca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2f7fc"/>
            </a:gs>
            <a:gs pos="100000">
              <a:srgbClr val="effbfd"/>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twork Model Management System (NMMS)</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ries of NMMS workshops have been held in the past several weeks to reach a compromise on NM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ers have requested a number of changes to NMMS that will allow them to produce cases that will yield similar results to those used currently in plan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SPs have requested access to allow them to see the data residing within NM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2f7fc"/>
            </a:gs>
            <a:gs pos="100000">
              <a:srgbClr val="effbfd"/>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MMS Statement by NDSWG</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In regards to the Network Model Management System, the NDSWG feels there has not been enough consideration given to the subject matter experts and that additional time is required to review and determine what processes are needed and can be developed and supported by the indust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2f7fc"/>
            </a:gs>
            <a:gs pos="100000">
              <a:srgbClr val="effbfd"/>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twork Model Management System (NMMS)</a:t>
            </a:r>
            <a:endParaRPr b="0" lang="en-US" sz="4000" spc="-1" strike="noStrike">
              <a:solidFill>
                <a:srgbClr val="000000"/>
              </a:solidFill>
              <a:latin typeface="Arial"/>
            </a:endParaRPr>
          </a:p>
        </p:txBody>
      </p:sp>
      <p:sp>
        <p:nvSpPr>
          <p:cNvPr id="59" name="PlaceHolder 2"/>
          <p:cNvSpPr>
            <a:spLocks noGrp="1"/>
          </p:cNvSpPr>
          <p:nvPr>
            <p:ph/>
          </p:nvPr>
        </p:nvSpPr>
        <p:spPr>
          <a:xfrm>
            <a:off x="457200" y="3160440"/>
            <a:ext cx="8229600" cy="2965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Questions on NM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5T22:08:42Z</dcterms:created>
  <dc:creator>dgrubbs</dc:creator>
  <dc:description/>
  <dc:language>en-US</dc:language>
  <cp:lastModifiedBy>dgrubbs</cp:lastModifiedBy>
  <dcterms:modified xsi:type="dcterms:W3CDTF">2006-04-06T19:41:31Z</dcterms:modified>
  <cp:revision>6</cp:revision>
  <dc:subject/>
  <dc:title>Network Data Support  Working Group  Report to  RO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80523585</vt:r8>
  </property>
  <property fmtid="{D5CDD505-2E9C-101B-9397-08002B2CF9AE}" pid="3" name="_AuthorEmail">
    <vt:lpwstr>DLG@gplops.org</vt:lpwstr>
  </property>
  <property fmtid="{D5CDD505-2E9C-101B-9397-08002B2CF9AE}" pid="4" name="_AuthorEmailDisplayName">
    <vt:lpwstr>Grubbs, David</vt:lpwstr>
  </property>
  <property fmtid="{D5CDD505-2E9C-101B-9397-08002B2CF9AE}" pid="5" name="_EmailSubject">
    <vt:lpwstr>NDSWG Report to ROS</vt:lpwstr>
  </property>
</Properties>
</file>