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8A42-9DD1-4FE1-9F86-E77F1E8A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D07-70B8-4EE6-8E12-E6594A2A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10C-38A6-43F4-8C48-6B8082BC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4ED-09B3-4DA3-AFAE-6A14D3A1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320-F420-40FB-9A96-AAD39DC4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973-187A-4DFA-9C89-28E044A5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637-7AC0-4C33-B5A4-D9EA448F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481-53A6-4B92-B407-3E79D7FF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C9AF-8E0D-46D6-9D96-7F2A995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48A-D12A-458B-AE26-1F18C2AD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6CA-777A-4036-805D-EFF2CBE7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4DA-CF26-480F-97EA-34D764D5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907A-EC3D-4B4C-9B65-B782C965F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CPS1 by Interval February 141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096480" cy="6705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PS1 by Interval March 143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40" y="152280"/>
            <a:ext cx="9029520" cy="670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0400" y="4038480"/>
            <a:ext cx="28195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daily score March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15.59) Events of the day: High frequency from 01:00 to 02:00.  Two unit trips at 00:42 and 00:5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666880" y="304776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819520"/>
            <a:ext cx="27432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362320"/>
            <a:ext cx="23623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2133720"/>
            <a:ext cx="24382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066680"/>
            <a:ext cx="3429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Control appeared to improve in steps of about 10 days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590560" y="16002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16002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1600200"/>
            <a:ext cx="3124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28600"/>
          <a:ext cx="899172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917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95280" y="4495680"/>
            <a:ext cx="2133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is the poorest frequency control month histor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352680" y="4876560"/>
            <a:ext cx="2057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52680" y="4952880"/>
            <a:ext cx="3733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352680" y="5105160"/>
            <a:ext cx="5334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10480" y="4876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307800"/>
            <a:ext cx="8839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412920"/>
            <a:ext cx="868680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Meeting April 19,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PRR for new Responsive Reserve metric and Non-Spin me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rter disturb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responses from QSE’s on governor response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QSE and ERCOT control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3:24:46Z</dcterms:created>
  <dc:creator>Sydney L. Niemeyer</dc:creator>
  <dc:description/>
  <dc:language>en-US</dc:language>
  <cp:lastModifiedBy>Sydney L. Niemeyer</cp:lastModifiedBy>
  <dcterms:modified xsi:type="dcterms:W3CDTF">2006-04-05T16:26:28Z</dcterms:modified>
  <cp:revision>4</cp:revision>
  <dc:subject/>
  <dc:title>Slide 1</dc:title>
</cp:coreProperties>
</file>