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E5A-4837-4F8B-9F32-E02B35F3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A85-421E-4A80-B97A-2F2F13C5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5C4-2E6F-4061-A65C-ADCAEA0B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403-BFF1-4444-82F1-E8B111DD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365-983C-40D4-A84B-02B90CCE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C43-E481-4DAF-8289-08A9317A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1FB-BD4B-4C7F-B0FB-C6AAF80E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EF4-CF2F-42EB-95EE-F92F79E3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1F0-CDA5-473B-B1BF-10FE585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585-91F0-45B7-BC86-E044AB8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0D3-AC2D-493D-AB5F-621E1D4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68D-9754-4301-95FB-EF1C9A4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622B-8485-45C7-9C52-3E5C882DA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S Report to TAC – 4/7/0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has not met since 3/9/06 TAC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will next meet on 4/12-13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-and-a-half meeting permits extend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n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PTF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S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S Performance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RR 165 / PRR 590 Unit Tele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MS Holistic TF Coordin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4/7/06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 Consideration of PRR 649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assignment on 3/9/06 to determine reliability impacts and report back at this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technical analysis completed on 3/20/06 and forwarded to the ROS for discussion on 3/21/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asked to consider options on 3/26/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1 – There is no reliability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2 – Reject, this will impac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3 – Requires discussion at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4 – Requires result of frequenc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5 – Adopt with sunse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6 – No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304920"/>
          <a:ext cx="86868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-952560" y="1131840"/>
          <a:ext cx="10045800" cy="46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2560" y="1131840"/>
                    <a:ext cx="1004580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Report to TAC – 4/7/06</a:t>
            </a:r>
            <a:br>
              <a:rPr sz="32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-Mail Consideration of PRR 649 – Comments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2 – Time better spent correcting non-compliance than manipulating numbers. – More difficult for those who provide regulation and maintain working governors if the rest of the market is relaxing performance. – No benefit except to make compliance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3 – Would like to hear what certain members have to say – Would prefer to discuss at 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4 – Cannot support a piece-meal change – Allow more time before making changes that cannot help but could hurt – Don’t relax the standard until something workable is in its place – Consider ERCOT’s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# 5 – We don’t know reliability will suffer, let’s do a field test – Difficult to do before-the-fact evaluation of impact – PRR 525 results in a capricious penal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03:10Z</dcterms:created>
  <dc:creator>Paul Breitzman</dc:creator>
  <dc:description/>
  <dc:language>en-US</dc:language>
  <cp:lastModifiedBy>Paul Breitzman</cp:lastModifiedBy>
  <dcterms:modified xsi:type="dcterms:W3CDTF">2006-03-30T22:11:20Z</dcterms:modified>
  <cp:revision>11</cp:revision>
  <dc:subject/>
  <dc:title>ROS Report to TAC – 2/2/06 Major Discussion Items at 1/13/06 RO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0778366</vt:r8>
  </property>
  <property fmtid="{D5CDD505-2E9C-101B-9397-08002B2CF9AE}" pid="3" name="_AuthorEmail">
    <vt:lpwstr>PaulB@gplops.org</vt:lpwstr>
  </property>
  <property fmtid="{D5CDD505-2E9C-101B-9397-08002B2CF9AE}" pid="4" name="_AuthorEmailDisplayName">
    <vt:lpwstr>Breitzman, Paul</vt:lpwstr>
  </property>
  <property fmtid="{D5CDD505-2E9C-101B-9397-08002B2CF9AE}" pid="5" name="_EmailSubject">
    <vt:lpwstr>ROS Report to TAC</vt:lpwstr>
  </property>
</Properties>
</file>