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3798C-CEF2-4DD4-9EFC-28037403E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22093-21D6-4C9C-A126-1A548470F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A8697-2425-4898-95DD-3B655A0B6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8E3BF-F40F-4DF6-97A0-A178C5E8F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36BA-5685-48ED-8DB5-AD1E88078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7E6BC-7EC8-4760-B0A6-9109FB59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F0E20-19DE-4491-B5D0-8E8DBD5B7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A9BCB-23A8-489F-BC21-DBEF7B580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F6D9-C06E-413F-9081-D4354DD2F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05BEA-EFC6-4CA1-BB08-52DDB54E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E4A01-BC1F-4421-99A9-09FA0ACA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1342-6F96-46A5-9943-02A14A219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ffff"/>
            </a:gs>
            <a:gs pos="100000">
              <a:srgbClr val="f4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6A63-C8EE-4763-917E-362B86DA0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ffff"/>
            </a:gs>
            <a:gs pos="100000">
              <a:srgbClr val="f4fef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 Naming Convention under NMM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12,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ffff"/>
            </a:gs>
            <a:gs pos="100000">
              <a:srgbClr val="f4fef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Naming Convention under NMM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Joint meeting with SSWG was primarily to develop a naming convention for the bus names in the NMMS database.  The combined working group developed a consensus containing three ite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us name would be 12 characters or l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two characters would be the code representing the TS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maining 10 characters could be used in what ever way the TSP wanted except that for all busses at a given location the beginning characters would be the same.  (i.e. if there were 20 busses at the Zorn Substation at all 20 bus the characters following the TSP identifier would be “ZORN” or some other substation specific identif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fffff"/>
            </a:gs>
            <a:gs pos="100000">
              <a:srgbClr val="f4fefe"/>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 Naming Convention under NMM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equent to the meeting three TSPs sent emails stating they did not agree the TSP name should be included within the bus name but should be a separate fie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22:55:10Z</dcterms:created>
  <dc:creator>dgrubbs</dc:creator>
  <dc:description/>
  <dc:language>en-US</dc:language>
  <cp:lastModifiedBy>dgrubbs</cp:lastModifiedBy>
  <dcterms:modified xsi:type="dcterms:W3CDTF">2006-04-06T19:41:38Z</dcterms:modified>
  <cp:revision>2</cp:revision>
  <dc:subject/>
  <dc:title>Bus Naming Convention under NMM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02205735</vt:r8>
  </property>
  <property fmtid="{D5CDD505-2E9C-101B-9397-08002B2CF9AE}" pid="3" name="_AuthorEmail">
    <vt:lpwstr>DLG@gplops.org</vt:lpwstr>
  </property>
  <property fmtid="{D5CDD505-2E9C-101B-9397-08002B2CF9AE}" pid="4" name="_AuthorEmailDisplayName">
    <vt:lpwstr>Grubbs, David</vt:lpwstr>
  </property>
  <property fmtid="{D5CDD505-2E9C-101B-9397-08002B2CF9AE}" pid="5" name="_EmailSubject">
    <vt:lpwstr>NDSWG Report to ROS</vt:lpwstr>
  </property>
</Properties>
</file>