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576F2-63E1-48C9-9C5A-35EE89598E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ata is draft in nature and based on phone surveys.  We observed generator personnel changing their view on whether or not they have a PSS or whether it is enabled on more than one occasio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his is based on rough data and may change somewhat with further scrutiny by generator personnel.  This is specifically meant to show which of the units in the Powertech study – pre- and post-1999 vinta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 Bojorquez drafted this language as a proposal to encourage discussion.   ROS approved a resolution basically with the last sentence of the opening paragraph along with items 1 &amp; 2.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43F409-B6A4-459F-BE0E-A32974938A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8B566-6678-4A32-85A7-E7A09FE4A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D29222-6731-4F2C-AF37-FDDD64575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5C27C4-12C4-49F5-A179-0736C31841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A2052-D903-4813-9FB7-464176920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8F97E-62CF-4E85-8851-939655E65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DBCF6-6F30-4E51-BAC0-7334A675E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6120F-8EA8-419D-9119-7AF7C3B36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72195-2C4F-499D-8D2F-62EF04DE4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917AE-8D0F-4D6F-A0AD-B08F5C730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F5B67-42C4-4A68-93AC-C1154E5D2B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E9E81-7353-4335-B461-2F70D29D25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94709-A050-4E17-993B-CA1DFAF05A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
          <p:cNvGrpSpPr/>
          <p:nvPr/>
        </p:nvGrpSpPr>
        <p:grpSpPr>
          <a:xfrm>
            <a:off x="55440" y="87480"/>
            <a:ext cx="9043920" cy="6701760"/>
            <a:chOff x="55440" y="87480"/>
            <a:chExt cx="9043920" cy="6701760"/>
          </a:xfrm>
        </p:grpSpPr>
        <p:sp>
          <p:nvSpPr>
            <p:cNvPr id="6" name=""/>
            <p:cNvSpPr/>
            <p:nvPr/>
          </p:nvSpPr>
          <p:spPr>
            <a:xfrm>
              <a:off x="139320" y="87480"/>
              <a:ext cx="8873280" cy="670176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55440" y="176040"/>
              <a:ext cx="9043920" cy="652824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98640" y="131760"/>
              <a:ext cx="8957160" cy="66168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9" name=""/>
          <p:cNvSpPr/>
          <p:nvPr/>
        </p:nvSpPr>
        <p:spPr>
          <a:xfrm>
            <a:off x="3940200" y="6281640"/>
            <a:ext cx="12193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 name="" descr=""/>
          <p:cNvPicPr/>
          <p:nvPr/>
        </p:nvPicPr>
        <p:blipFill>
          <a:blip r:embed="rId2"/>
          <a:stretch/>
        </p:blipFill>
        <p:spPr>
          <a:xfrm>
            <a:off x="4038480" y="6346800"/>
            <a:ext cx="990720" cy="4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COT COMPLIANCE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S meeting presentatio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b. 16,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380880" y="152280"/>
            <a:ext cx="8534520" cy="5835600"/>
          </a:xfrm>
          <a:prstGeom prst="rect">
            <a:avLst/>
          </a:prstGeom>
          <a:ln w="0">
            <a:noFill/>
          </a:ln>
        </p:spPr>
      </p:pic>
      <p:sp>
        <p:nvSpPr>
          <p:cNvPr id="56" name=""/>
          <p:cNvSpPr/>
          <p:nvPr/>
        </p:nvSpPr>
        <p:spPr>
          <a:xfrm>
            <a:off x="1981080" y="5853240"/>
            <a:ext cx="5334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MW of all units = 23770 MW</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
          <p:cNvSpPr/>
          <p:nvPr/>
        </p:nvSpPr>
        <p:spPr>
          <a:xfrm>
            <a:off x="5257800" y="213372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140 MW</a:t>
            </a:r>
            <a:endParaRPr b="0" lang="en-US" sz="2000" spc="-1" strike="noStrike">
              <a:solidFill>
                <a:srgbClr val="000000"/>
              </a:solidFill>
              <a:latin typeface="Arial"/>
            </a:endParaRPr>
          </a:p>
        </p:txBody>
      </p:sp>
      <p:sp>
        <p:nvSpPr>
          <p:cNvPr id="58" name=""/>
          <p:cNvSpPr/>
          <p:nvPr/>
        </p:nvSpPr>
        <p:spPr>
          <a:xfrm>
            <a:off x="5486400" y="365760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340 M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152280" y="304920"/>
            <a:ext cx="8763120" cy="5992560"/>
          </a:xfrm>
          <a:prstGeom prst="rect">
            <a:avLst/>
          </a:prstGeom>
          <a:ln w="0">
            <a:noFill/>
          </a:ln>
        </p:spPr>
      </p:pic>
      <p:sp>
        <p:nvSpPr>
          <p:cNvPr id="60" name=""/>
          <p:cNvSpPr/>
          <p:nvPr/>
        </p:nvSpPr>
        <p:spPr>
          <a:xfrm>
            <a:off x="2895480" y="327672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 units</a:t>
            </a:r>
            <a:endParaRPr b="0" lang="en-US" sz="2000" spc="-1" strike="noStrike">
              <a:solidFill>
                <a:srgbClr val="000000"/>
              </a:solidFill>
              <a:latin typeface="Arial"/>
            </a:endParaRPr>
          </a:p>
        </p:txBody>
      </p:sp>
      <p:sp>
        <p:nvSpPr>
          <p:cNvPr id="61" name=""/>
          <p:cNvSpPr/>
          <p:nvPr/>
        </p:nvSpPr>
        <p:spPr>
          <a:xfrm>
            <a:off x="3200400" y="190512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 units</a:t>
            </a:r>
            <a:endParaRPr b="0" lang="en-US" sz="2000" spc="-1" strike="noStrike">
              <a:solidFill>
                <a:srgbClr val="000000"/>
              </a:solidFill>
              <a:latin typeface="Arial"/>
            </a:endParaRPr>
          </a:p>
        </p:txBody>
      </p:sp>
      <p:sp>
        <p:nvSpPr>
          <p:cNvPr id="62" name=""/>
          <p:cNvSpPr/>
          <p:nvPr/>
        </p:nvSpPr>
        <p:spPr>
          <a:xfrm>
            <a:off x="5181480" y="342900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 uni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ERCOT Compliance requests that ROS assign a working group to review power system stabilizers (PSS) requirements and develop clarifications to establish settings and tuning expectations, as well as exemption guideline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NERC FIELD TESTS</a:t>
            </a:r>
            <a:endParaRPr b="0" lang="en-US" sz="4400" spc="-1" strike="noStrike">
              <a:solidFill>
                <a:srgbClr val="000000"/>
              </a:solidFill>
              <a:latin typeface="Arial"/>
            </a:endParaRPr>
          </a:p>
        </p:txBody>
      </p:sp>
      <p:sp>
        <p:nvSpPr>
          <p:cNvPr id="65"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C - 019 Coordination of Generator Voltage Regulator Controls with Unit Capabilities and Protection</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C - 024 Generators Performance during Frequency and Voltage Excursion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026-1 Verification of Generator Excitation Systems and Voltage Control Model Data</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027-1 Verification and Status of Generating Unit Frequency Respon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NERC STANDARDS</a:t>
            </a:r>
            <a:endParaRPr b="0" lang="en-US" sz="4400" spc="-1" strike="noStrike">
              <a:solidFill>
                <a:srgbClr val="000000"/>
              </a:solidFill>
              <a:latin typeface="Arial"/>
            </a:endParaRPr>
          </a:p>
        </p:txBody>
      </p:sp>
      <p:sp>
        <p:nvSpPr>
          <p:cNvPr id="67"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 – 024 Verification of Generator Gross and Net Real Power Capability</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 – 025 Verification of Generator Gross and Net Reactive Power Capability</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C – 003</a:t>
            </a:r>
            <a:r>
              <a:rPr b="0" lang="en-US" sz="2400" spc="-1" strike="noStrike">
                <a:solidFill>
                  <a:srgbClr val="000000"/>
                </a:solidFill>
                <a:latin typeface="Arial"/>
              </a:rPr>
              <a:t>	</a:t>
            </a:r>
            <a:r>
              <a:rPr b="0" lang="en-US" sz="2400" spc="-1" strike="noStrike">
                <a:solidFill>
                  <a:srgbClr val="000000"/>
                </a:solidFill>
                <a:latin typeface="Arial"/>
              </a:rPr>
              <a:t>Regional Procedure for Analysis of Misoperations of Transmission and Generation Protection Systems</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C – 004 Analysis and Mitigation of Transmission and Generation Protection System Misoperations</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C – 005 Transmission and Generation Protection System Maintenance and Testing</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C - 020 Under Voltage Load Shedding Program Database</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C - 021 Under Voltage Load Shedding Program Data</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C - 022 Under Voltage Load Shedding Program Perform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RAFT MODEL RESOLUTION</a:t>
            </a:r>
            <a:br>
              <a:rPr sz="4000"/>
            </a:br>
            <a:endParaRPr b="0" lang="en-US" sz="4000" spc="-1" strike="noStrike">
              <a:solidFill>
                <a:srgbClr val="000000"/>
              </a:solidFill>
              <a:latin typeface="Arial"/>
            </a:endParaRPr>
          </a:p>
        </p:txBody>
      </p:sp>
      <p:sp>
        <p:nvSpPr>
          <p:cNvPr id="69"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ereas, the DWG analysis indicates that current Combined Cycle (CC) plant governing models do not adequately model actual response of these plants to frequency deviations, and the current practice for modeling combined cycle plants in ERCOT tends to overstate the response to system frequency changes and can contribute to a false sense of security.  Therefore, ERCOT’s ROS resolves that:</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1.      It is critical that ERCOT staff completes the CC Plant modeling effort currently budgeted for 2006. </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2.      The DWG is directed to work with ERCOT and the vendor selected for the development of the CC models to ensure the relevant data is obtained.</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3.      The DWG is directed to include the new CC models and other updated models and repeat the relevant portion of the Forney plant trip simulation and report its findings to R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8T20:14:27Z</dcterms:created>
  <dc:creator>OTStrain01</dc:creator>
  <dc:description/>
  <dc:language>en-US</dc:language>
  <cp:lastModifiedBy>kkan</cp:lastModifiedBy>
  <dcterms:modified xsi:type="dcterms:W3CDTF">2006-02-17T14:41:08Z</dcterms:modified>
  <cp:revision>56</cp:revision>
  <dc:subject/>
  <dc:title>Slide 1</dc:title>
</cp:coreProperties>
</file>