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8824-1422-4754-99F0-A08F7E75B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36576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3520" y="3879360"/>
            <a:ext cx="36576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8682-2ABB-4D55-A3BA-A80142B55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7848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548040" y="2927520"/>
            <a:ext cx="17848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17848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548040" y="3879360"/>
            <a:ext cx="17848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08A6-151D-4F40-8885-686E07BD4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17756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910480" y="2927520"/>
            <a:ext cx="117756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7147080" y="2927520"/>
            <a:ext cx="117756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3520" y="3879360"/>
            <a:ext cx="117756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5910480" y="3879360"/>
            <a:ext cx="117756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7147080" y="3879360"/>
            <a:ext cx="117756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8537-6E54-46E4-A662-9CD79A6B8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3BA27-C532-4E98-AAF9-E165DE876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365760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558C9-94F9-4EC6-BC02-9F8216DF0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36576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85699-03C6-428A-8F5A-F72CC27F1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78488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548040" y="2927520"/>
            <a:ext cx="178488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4B9DC-02AC-4A58-B3C4-7F2B7A503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B2A44-A0F4-4C9E-A1CF-FC4140638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36720" y="1425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1FF55-3725-4033-A0E5-DB916969D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7848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548040" y="2927520"/>
            <a:ext cx="178488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17848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584A0-6F90-4935-BE82-A4CECA60B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365760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1A92-8A2D-44E7-BB98-C55FA6ECC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78488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548040" y="2927520"/>
            <a:ext cx="17848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548040" y="3879360"/>
            <a:ext cx="17848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80A4D-BE21-4690-A849-0BD63CE90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7848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548040" y="2927520"/>
            <a:ext cx="17848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36576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CF645-B884-4053-9097-BBB1E6D09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36576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3520" y="3879360"/>
            <a:ext cx="36576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D4033-D874-4DD2-A046-B888AE1C4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7848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548040" y="2927520"/>
            <a:ext cx="17848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17848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548040" y="3879360"/>
            <a:ext cx="17848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053CA-F60F-40B0-A240-5F35AFCD9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17756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910480" y="2927520"/>
            <a:ext cx="117756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7147080" y="2927520"/>
            <a:ext cx="117756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3520" y="3879360"/>
            <a:ext cx="117756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5910480" y="3879360"/>
            <a:ext cx="117756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7147080" y="3879360"/>
            <a:ext cx="117756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1A48F-FB96-492D-8F91-5940B8EFA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365760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D144-41E9-4781-BBBC-D9C15C77E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78488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548040" y="2927520"/>
            <a:ext cx="178488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7A3E-1431-48B7-B09B-AEA81A616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D63A-8DBD-4E90-B298-DAB6B9D98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36720" y="1425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AB30-A909-4ACA-BBC0-C3B5A4B4D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7848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548040" y="2927520"/>
            <a:ext cx="178488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17848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1037-06E4-4BF2-8267-EC7BBD70D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78488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548040" y="2927520"/>
            <a:ext cx="17848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548040" y="3879360"/>
            <a:ext cx="17848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F7E0-0644-4287-9A05-11ABF6F9D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73520" y="2927520"/>
            <a:ext cx="17848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548040" y="2927520"/>
            <a:ext cx="178488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3520" y="3879360"/>
            <a:ext cx="3657600" cy="8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E7BF-0676-4CD6-B65E-99B9F25CC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7A9BC-A87A-47BB-B14B-08D189A26741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8B69C-B6A6-408A-86BE-48F59B9A3522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1760" y="1142640"/>
            <a:ext cx="79246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Nodal Business Requirements </a:t>
            </a:r>
            <a:br>
              <a:rPr sz="3200"/>
            </a:b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ROS Update – February 16</a:t>
            </a:r>
            <a:r>
              <a:rPr b="1" lang="en-US" sz="3200" spc="-1" strike="noStrike" baseline="30000">
                <a:solidFill>
                  <a:srgbClr val="003366"/>
                </a:solidFill>
                <a:latin typeface="Arial"/>
              </a:rPr>
              <a:t>th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, 2006</a:t>
            </a:r>
            <a:br>
              <a:rPr sz="3200"/>
            </a:b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(Presented at TPTF on 2-7-2006)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315200" y="228600"/>
            <a:ext cx="1600200" cy="8618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4576680" y="4419720"/>
            <a:ext cx="39625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66"/>
                </a:solidFill>
                <a:latin typeface="Arial"/>
                <a:ea typeface="Times New Roman"/>
              </a:rPr>
              <a:t>Steve Grend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66"/>
                </a:solidFill>
                <a:latin typeface="Arial"/>
                <a:ea typeface="Times New Roman"/>
              </a:rPr>
              <a:t>Market Redesign Business Program Director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tatus of NMMS Requireme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quirements Mapping Methodolog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NMMS Requirements Timelin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ursday (2/2) – NMMS Draft Requirements Poste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ursday (2/9) - Complete Internal ERCOT Review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onday(2/13) – Complete requirement mapping to protocol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ednesday (2/15): Post NMMS requirements for TPTF review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onday 2/20: Review Requirements with TPTF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58320" y="946080"/>
            <a:ext cx="8001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NMMS Requirements Review Calendar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rcRect l="0" t="0" r="0" b="42212"/>
          <a:stretch/>
        </p:blipFill>
        <p:spPr>
          <a:xfrm>
            <a:off x="1400040" y="1590840"/>
            <a:ext cx="7113600" cy="50306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403280" y="1803240"/>
            <a:ext cx="127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Times New Roman"/>
              </a:rPr>
              <a:t>February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270320" y="4697280"/>
            <a:ext cx="127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Times New Roman"/>
              </a:rPr>
              <a:t>March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  <a:ea typeface="Times New Roman"/>
              </a:rPr>
              <a:t>Business Requirement Methodology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57160" y="2333160"/>
            <a:ext cx="6810480" cy="43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ovide consistent requirements labeling across all Nodal project effor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ovide traceability / linkage between the following elements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ource (e.g., Protocol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quiremen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onceptual System Desig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esign (detail)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Test Scrip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ovide requirement change management:  mapping will allow for identification of impacts of protocol changes to all mapped elemen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ovide status reporting / gap analysis of protocol coverage to TPTF member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7315200" y="228600"/>
            <a:ext cx="160020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Traceability Example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95840" y="2324160"/>
            <a:ext cx="4448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Protocol Section:  Charges for Ancillary Services Procurement in the DAM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4.6.4.2.1 – Regulation up service charge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4.6.4.2.2 – Regulation down service charge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4.6.4.2.3 – Responsive reserve service charge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4.6.4.2.4 – Non-spinning reserve service charge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Requirements: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Req 1 – 10 = 4.6.4.2.1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Req 11-20 = 4.6.4.2.2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Req 21-30 = 4.6.4.2.3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Req 31-40 = 4.6.4.2.4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onceptual Design: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CSD 1 – 20 = Req 1 – 20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CSD 21 – 30 = Req 21 -- 40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Design: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DES 1 – 20 = Req 1 – 5, 11 – 15, 21 – 25, 31 - 35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DES 21 – 30 = Req 6 – 10, 16 – 20, 26 – 30, 36 – 40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Test Scenario: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TST 1 – 30 = Req 1 – 10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TST 31 – 60 = Req 11 – 20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TST 61 – 90 = Req 21 – 30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TST 91 – 120 = Req 31 – 40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7315200" y="228600"/>
            <a:ext cx="1600200" cy="861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1" name=""/>
          <p:cNvGraphicFramePr/>
          <p:nvPr/>
        </p:nvGraphicFramePr>
        <p:xfrm>
          <a:off x="914400" y="2705040"/>
          <a:ext cx="3924360" cy="3048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4400" y="2705040"/>
                    <a:ext cx="392436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313080" y="304920"/>
            <a:ext cx="5830920" cy="65530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757080" y="2462040"/>
            <a:ext cx="457200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Pilot Project – NMMS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Refer to NMMS sample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Questions ? ? ?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365760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Thank you!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7315200" y="228600"/>
            <a:ext cx="160020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30T20:23:20Z</dcterms:created>
  <dc:creator>syedavalli</dc:creator>
  <dc:description/>
  <dc:language>en-US</dc:language>
  <cp:lastModifiedBy>sgrendel</cp:lastModifiedBy>
  <dcterms:modified xsi:type="dcterms:W3CDTF">2006-02-14T21:58:49Z</dcterms:modified>
  <cp:revision>144</cp:revision>
  <dc:subject/>
  <dc:title>ODS Source Schema Standards</dc:title>
</cp:coreProperties>
</file>