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D5C-DB37-469A-A206-B38E8D2C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6A1-A626-49CB-9D17-0A52858F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105-2E14-4B2C-B6F0-B49C7C8A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4BC-71D0-4EE4-80F1-D323E6E2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321-13C8-4C68-840E-928C4BD7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590-BF3A-4D2E-BD24-1A68415F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8253-5270-4349-A07A-B6ACCD44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920-BBC4-4210-B43C-A7B114B0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2EE-EE03-4612-ACD2-1DDB4D29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DA69-042A-460E-B4C5-C573F4C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1692-89B1-4DFE-A299-49695078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92E-9017-4E6F-9353-8A16F043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E2DD-A140-4807-9AC0-A7D91273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tptf/np/index.html" TargetMode="External"/><Relationship Id="rId2" Type="http://schemas.openxmlformats.org/officeDocument/2006/relationships/hyperlink" Target="http://www.ercot.com/mktrules/issues/ogrr/175-199/181/index.html" TargetMode="External"/><Relationship Id="rId3" Type="http://schemas.openxmlformats.org/officeDocument/2006/relationships/hyperlink" Target="http://www.ercot.com/mktrules/protocols/current/" TargetMode="External"/><Relationship Id="rId4" Type="http://schemas.openxmlformats.org/officeDocument/2006/relationships/hyperlink" Target="http://www.ercot.com/mktrules/guides/procedures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S Feb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tis Cr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Model Engineering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2-248-31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Service Notific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val to Energ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8.8.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ordination with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ior to energizing and placing into service any new or relocated Facility connected to the ERCOT Transmission Grid, TSPs shall coordinate with and receive approval from ERC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Re-Route Process is currently being revised.  Expect a new process s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of system could be aff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odel data been provided in a timely mann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model data been provi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f energ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al Protocol 3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tptf/np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RR 181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rcot.com/mktrules/issues/ogrr/175-199/181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Protocol 8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rcot.com/mktrules/protocols/curren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orary ReRoute/InService Notificatio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rcot.com/mktrules/guides/procedures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ne Comparison between Operations &amp; 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1447920"/>
          <a:ext cx="8001000" cy="426708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2514600"/>
                <a:gridCol w="25146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ch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MVA or Imp.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th MVA or Imp.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eren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'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'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 '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 '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 '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'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685800" y="58672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852880"/>
            <a:ext cx="883944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iteria for “with differences”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, X, &amp; I  difference of 0.0001 (pu) or greater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ot including Operation’s “Internal Bus bar” entries that have a difference = 0.000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B vs. Emergency &amp; for Rate A vs. Continuous Line Limits that have 1 MVA or greater differ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 2006 Comparison completed on Operations Jan 5 Database and Planning 06 Winter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ched Lines with MVA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of over 500 MVA differences n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VA differences of 100+ MV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’s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ate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Operation’s Continuous 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8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’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ate 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Operation’s Emergency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VA differences of less than 10 MV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ut equal or greater than 1 M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’s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ate 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Operation’s Continuous =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ning’s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ate 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Operation’s Emergency =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16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 the numbers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ing attribute was not considered in original comparis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e comparison increased in terms of number of lines being compared (from 3622 to 503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 2006 Comparison completed on Operations Jan 5 Database and Planning 06 Winter P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ormation is correct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hodology for rating lines 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Nodal Protocols call for consistency (Reference Nodal Protocols Section 3  specifically 3.10 (5), 3.10 (9), 3.10.2 (1), 3.10.8 (1), 3.10.8.4 (2)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Model Management System Software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ROS to endorse internal efforts to correlate data fully understanding that there will be differences due to the nature and intent of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at the intent of OGRR 181 is to correlate data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equipment comparisons to fol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e Date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8.2.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SP Information to be provided to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SP shall notify ERCOT at least thirty (30) days before starting to energize or place into service any new or relocated Fac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has 15 days to approve or reject data submi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ion of model data is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al Protocols call for a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90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inim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ubmittal time period. There is a requirement for Summer Model data to be submitted a minimum of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1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dvance. (See Protocol 3.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does not control data submittal qua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Schedu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plete Data re-submit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4:10:27Z</dcterms:created>
  <dc:creator>jweatherly</dc:creator>
  <dc:description/>
  <dc:language>en-US</dc:language>
  <cp:lastModifiedBy>ccrews</cp:lastModifiedBy>
  <dcterms:modified xsi:type="dcterms:W3CDTF">2006-02-07T17:31:10Z</dcterms:modified>
  <cp:revision>6</cp:revision>
  <dc:subject/>
  <dc:title>Line Comparison between Operations &amp; Planning</dc:title>
</cp:coreProperties>
</file>