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57D-2CD7-47BD-8354-31C5C01B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F33-D38C-4E80-8E76-213D227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4A0-BE1F-4F48-910D-85063B7B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F721-CBE6-4CD7-946A-D8B5E599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5920-F686-4ABB-8AFE-60D132C9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E2C-5C55-4AB4-89E5-3598E7CA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E06-FD6F-4F8A-BDEF-4240D0ED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87E-AB92-40DD-9251-490826E0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758-7FD4-4053-928F-4AE001DD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1D5-9528-435F-BF20-8B59DD23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FBB-565E-434F-B75F-AC2DC7C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CC83-2B1E-473C-9515-45E1320D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C176-ADDE-4E6F-AEC0-E32034507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Meeting Jan 23 &amp;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5 frequency events (summaries includ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Responsive Reserve and Non-Spin Performance metric, PRR being draf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QSE Regulation performance and PRR 525 perform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hen Knapp is presented as PDCWG vice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0720" y="444600"/>
            <a:ext cx="824256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720" y="393840"/>
            <a:ext cx="824256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SE Govern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279440"/>
            <a:ext cx="91440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117360"/>
            <a:ext cx="9096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60" y="324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9029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PS1 by Day- January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486400" y="10666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Average 130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1447920"/>
            <a:ext cx="9144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0720" y="425520"/>
            <a:ext cx="8242560" cy="60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4T18:20:05Z</dcterms:created>
  <dc:creator>Sydney L. Niemeyer</dc:creator>
  <dc:description/>
  <dc:language>en-US</dc:language>
  <cp:lastModifiedBy>Sydney L. Niemeyer</cp:lastModifiedBy>
  <dcterms:modified xsi:type="dcterms:W3CDTF">2006-02-14T19:50:40Z</dcterms:modified>
  <cp:revision>4</cp:revision>
  <dc:subject/>
  <dc:title>Slide 1</dc:title>
</cp:coreProperties>
</file>