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1E15-5308-4F48-A612-C7AC170E5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A8A9-4BC3-49C1-ADA2-79D10ECA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F952-D4A5-4F7D-BBF7-46A296C5D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BCF1-42A1-495A-9D07-301DC5B90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3E97-9EC5-48A3-AACF-C252CADA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DD11-471C-41A9-9868-B4A4B3A8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E386-41E9-4F30-ADCF-1E83D87E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7B89-11BE-4B81-AAB5-24AD0605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7A21-08BF-4A72-8A5D-BCBD29EF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E44E-4DEF-4A15-B771-2457FC8E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36C4-B7C9-4441-A076-6CA23AE7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9CEB-6430-46A2-85D6-DB3DA8B5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90FA-BBBC-4B6C-8559-437837866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2100240"/>
            <a:ext cx="655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to NERC Recommendation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the fidelity of the ERCOT dynamics models and data with actual system performance during the even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84872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77960" y="2209320"/>
            <a:ext cx="580392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fault impe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governor dr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load model to inclu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nstant M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DWG reached 20 conclusions.  They are listed in the Conclusions section at the end of the repor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1723320"/>
            <a:ext cx="777240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 the fidelity of the ERCOT dynamics models an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ystem inertia is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or changes to load frequency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ning of some hydro governor models may be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ernor Pmax values appear to be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combined cycle models are inadeq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lay model used for LaaR is adeq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ernor data appears to be consistent with ERC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s, but does not adequately replicate actu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80808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523880" y="2860560"/>
            <a:ext cx="6096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Event: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ugust 19, 2004 Forney Plant Trip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280" y="404640"/>
            <a:ext cx="876312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33520" y="457200"/>
          <a:ext cx="8076960" cy="5867280"/>
        </p:xfrm>
        <a:graphic>
          <a:graphicData uri="http://schemas.openxmlformats.org/drawingml/2006/table">
            <a:tbl>
              <a:tblPr/>
              <a:tblGrid>
                <a:gridCol w="2458800"/>
                <a:gridCol w="2984760"/>
                <a:gridCol w="2633400"/>
              </a:tblGrid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quir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WG models and assum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49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vernor in serv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o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ad B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≤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 .036 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model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1041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or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ort if cannot supply governor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sume governors can supply response. A few are not model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vernor Tes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very 2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a updated annua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verall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0 MW / .1 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4 MW / .1 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  <a:tr h="133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or Governor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sts elements leading to poor governor response. Says they should be avoid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ls do not have the functions list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be0e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68680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382240" cy="57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30592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76920" cy="3556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657600" y="2971800"/>
            <a:ext cx="5486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523880" y="1447920"/>
          <a:ext cx="5867640" cy="4071960"/>
        </p:xfrm>
        <a:graphic>
          <a:graphicData uri="http://schemas.openxmlformats.org/drawingml/2006/table">
            <a:tbl>
              <a:tblPr/>
              <a:tblGrid>
                <a:gridCol w="2514600"/>
                <a:gridCol w="1676520"/>
                <a:gridCol w="1676520"/>
              </a:tblGrid>
              <a:tr h="70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n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P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e of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gust 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 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me of 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:00 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:00 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ult Involve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itial Generation L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0 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0 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aR She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, limi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rm Load Shed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itial Frequency Dec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.85 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.3 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0" y="48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9:58:59Z</dcterms:created>
  <dc:creator>Registered User</dc:creator>
  <dc:description/>
  <dc:language>en-US</dc:language>
  <cp:lastModifiedBy>Registered User</cp:lastModifiedBy>
  <dcterms:modified xsi:type="dcterms:W3CDTF">2006-02-20T13:18:57Z</dcterms:modified>
  <cp:revision>19</cp:revision>
  <dc:subject/>
  <dc:title>Slide 1</dc:title>
</cp:coreProperties>
</file>