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6CA-5F59-43EA-9C37-1EC6AB671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468-24CC-489F-A6DA-A65D19522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754-8036-4075-BFFE-A9525040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DAF3-1EC2-43FB-B882-6CC0581DA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5A9B-89B1-4E0B-9E18-67A84577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570F-379C-419D-8C43-9AEA9CF6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FE85-04BF-4518-B955-2F530A31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6775-B8B8-4625-81FC-1D76DC313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8B81-F9FB-4C2C-B430-4B50CBE9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8F5-A45F-4995-903D-555AE91E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4C9F-523D-4075-8102-36DED663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451-518E-46C2-9550-F71D217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AC8-D089-40C9-A49E-C36D0819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14FD-AD5A-4C64-B442-48F8D425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D75E-C939-408D-9E6A-EE60BCAA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8386-A185-41DE-ABDF-338C6A80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448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5800" y="304812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448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5800" y="4401360"/>
            <a:ext cx="260064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94A7-1E28-4E9B-8B13-6FDEE5D3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0D47-F774-4B4E-A8DF-3D2EA535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08B-9C38-4697-B3BB-FFC2A81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F32-AD2D-4653-A1E2-7C57563A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822D-8560-4C8B-ACEB-D16BE75E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F060-3E1B-40D7-9F82-87CA5C3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40136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268-C9BB-48F1-904B-34E1A75C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3048120"/>
            <a:ext cx="394128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401360"/>
            <a:ext cx="8076960" cy="12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1F7-05E4-41F0-A0F0-BDBEC581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0440" indent="-1771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08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180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75480" indent="-141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58672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2C1-6D94-4FF2-B6EF-14191F4CF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5331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743200" y="58672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053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738B-B74F-421D-831F-F0E9434BC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Need for PRR 64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34286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ly Modeling the Reactive Behavior of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0769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State of Aff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9712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urrent State of Affairs in ERCOT (Protoc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37456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QSE representing a Generation Entity that has Generation Resources connected to a TDSP shall provide the following Real Time data to ERCOT for each individual generating unit at a Generation Resource plant location and ERCOT will make the data available to the Generation Resource’s host TDSP (at TDSP expense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l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 or net Reactive Pow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ross quantities are provided, the plant auxiliary Load data will also be supplie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83840" y="471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torial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99920" y="1623960"/>
            <a:ext cx="4041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E must provi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MW/MVAr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&amp; Plant MW/MV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= Gross – Plant - XF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80" y="1507680"/>
            <a:ext cx="5530320" cy="4647600"/>
            <a:chOff x="1080" y="1507680"/>
            <a:chExt cx="5530320" cy="4647600"/>
          </a:xfrm>
        </p:grpSpPr>
        <p:grpSp>
          <p:nvGrpSpPr>
            <p:cNvPr id="91" name=""/>
            <p:cNvGrpSpPr/>
            <p:nvPr/>
          </p:nvGrpSpPr>
          <p:grpSpPr>
            <a:xfrm>
              <a:off x="577800" y="1507680"/>
              <a:ext cx="3609360" cy="4647600"/>
              <a:chOff x="577800" y="1507680"/>
              <a:chExt cx="3609360" cy="46476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1907280" y="3493800"/>
                <a:ext cx="1015200" cy="538920"/>
                <a:chOff x="1907280" y="3493800"/>
                <a:chExt cx="1015200" cy="53892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1907280" y="3775320"/>
                  <a:ext cx="1014840" cy="257400"/>
                  <a:chOff x="1907280" y="3775320"/>
                  <a:chExt cx="1014840" cy="25740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1907280" y="37753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216108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414880" y="378324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668320" y="378324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1907640" y="3493800"/>
                  <a:ext cx="1014840" cy="257400"/>
                  <a:chOff x="1907640" y="3493800"/>
                  <a:chExt cx="1014840" cy="257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10800000">
                    <a:off x="2668680" y="350172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10800000">
                    <a:off x="241488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 rot="10800000">
                    <a:off x="2161800" y="3493800"/>
                    <a:ext cx="25308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 rot="10800000">
                    <a:off x="1907640" y="3493800"/>
                    <a:ext cx="253800" cy="249480"/>
                  </a:xfrm>
                  <a:custGeom>
                    <a:avLst/>
                    <a:gdLst/>
                    <a:ahLst/>
                    <a:rect l="l" t="t" r="r" b="b"/>
                    <a:pathLst>
                      <a:path w="97" h="125">
                        <a:moveTo>
                          <a:pt x="0" y="125"/>
                        </a:moveTo>
                        <a:cubicBezTo>
                          <a:pt x="16" y="66"/>
                          <a:pt x="33" y="8"/>
                          <a:pt x="49" y="4"/>
                        </a:cubicBezTo>
                        <a:cubicBezTo>
                          <a:pt x="65" y="0"/>
                          <a:pt x="89" y="80"/>
                          <a:pt x="97" y="1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3" name=""/>
              <p:cNvSpPr/>
              <p:nvPr/>
            </p:nvSpPr>
            <p:spPr>
              <a:xfrm flipV="1">
                <a:off x="2412360" y="3927600"/>
                <a:ext cx="0" cy="7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2396520" y="1507680"/>
                <a:ext cx="0" cy="198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577800" y="4704840"/>
                <a:ext cx="3609360" cy="1450440"/>
                <a:chOff x="577800" y="4704840"/>
                <a:chExt cx="3609360" cy="14504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111120" y="5236920"/>
                  <a:ext cx="1076040" cy="822600"/>
                </a:xfrm>
                <a:prstGeom prst="ellipse">
                  <a:avLst/>
                </a:prstGeom>
                <a:solidFill>
                  <a:srgbClr val="00cc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" name=""/>
                <p:cNvGrpSpPr/>
                <p:nvPr/>
              </p:nvGrpSpPr>
              <p:grpSpPr>
                <a:xfrm>
                  <a:off x="577800" y="5333400"/>
                  <a:ext cx="1266120" cy="821880"/>
                  <a:chOff x="577800" y="5333400"/>
                  <a:chExt cx="1266120" cy="821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7780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1210680" y="5333400"/>
                    <a:ext cx="632880" cy="821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577800" y="5333400"/>
                    <a:ext cx="1266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" name=""/>
                <p:cNvSpPr/>
                <p:nvPr/>
              </p:nvSpPr>
              <p:spPr>
                <a:xfrm>
                  <a:off x="1211040" y="4704840"/>
                  <a:ext cx="247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211040" y="4704840"/>
                  <a:ext cx="0" cy="6285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682080" y="4704840"/>
                  <a:ext cx="0" cy="532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3979080" y="4748040"/>
              <a:ext cx="86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ro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" y="4767120"/>
              <a:ext cx="126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x/Pl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8560" y="3519360"/>
              <a:ext cx="247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FMR Consum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22160" y="24447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4292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383840" y="4581360"/>
              <a:ext cx="65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98760" y="231408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79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“Reality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75040" y="5464080"/>
            <a:ext cx="652320" cy="652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112480" y="3774600"/>
            <a:ext cx="616320" cy="429120"/>
            <a:chOff x="2112480" y="3774600"/>
            <a:chExt cx="616320" cy="429120"/>
          </a:xfrm>
        </p:grpSpPr>
        <p:grpSp>
          <p:nvGrpSpPr>
            <p:cNvPr id="124" name=""/>
            <p:cNvGrpSpPr/>
            <p:nvPr/>
          </p:nvGrpSpPr>
          <p:grpSpPr>
            <a:xfrm>
              <a:off x="2112840" y="3998880"/>
              <a:ext cx="615960" cy="204840"/>
              <a:chOff x="2112840" y="3998880"/>
              <a:chExt cx="615960" cy="204840"/>
            </a:xfrm>
          </p:grpSpPr>
          <p:sp>
            <p:nvSpPr>
              <p:cNvPr id="125" name=""/>
              <p:cNvSpPr/>
              <p:nvPr/>
            </p:nvSpPr>
            <p:spPr>
              <a:xfrm>
                <a:off x="2112840" y="39988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2669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421000" y="400536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74720" y="400536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112480" y="3774600"/>
              <a:ext cx="615960" cy="204840"/>
              <a:chOff x="2112480" y="3774600"/>
              <a:chExt cx="615960" cy="204840"/>
            </a:xfrm>
          </p:grpSpPr>
          <p:sp>
            <p:nvSpPr>
              <p:cNvPr id="130" name=""/>
              <p:cNvSpPr/>
              <p:nvPr/>
            </p:nvSpPr>
            <p:spPr>
              <a:xfrm rot="10800000">
                <a:off x="2574360" y="378108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0800000">
                <a:off x="24202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10800000">
                <a:off x="2266560" y="3774600"/>
                <a:ext cx="15372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0800000">
                <a:off x="2112480" y="3774600"/>
                <a:ext cx="154080" cy="198360"/>
              </a:xfrm>
              <a:custGeom>
                <a:avLst/>
                <a:gdLst/>
                <a:ahLst/>
                <a:rect l="l" t="t" r="r" b="b"/>
                <a:pathLst>
                  <a:path w="97" h="125">
                    <a:moveTo>
                      <a:pt x="0" y="125"/>
                    </a:moveTo>
                    <a:cubicBezTo>
                      <a:pt x="16" y="66"/>
                      <a:pt x="33" y="8"/>
                      <a:pt x="49" y="4"/>
                    </a:cubicBezTo>
                    <a:cubicBezTo>
                      <a:pt x="65" y="0"/>
                      <a:pt x="89" y="80"/>
                      <a:pt x="97" y="1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"/>
          <p:cNvSpPr/>
          <p:nvPr/>
        </p:nvSpPr>
        <p:spPr>
          <a:xfrm flipV="1">
            <a:off x="2419200" y="4119120"/>
            <a:ext cx="0" cy="134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419200" y="2238480"/>
            <a:ext cx="0" cy="157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035600" y="1315800"/>
            <a:ext cx="3608640" cy="4647240"/>
            <a:chOff x="4035600" y="1315800"/>
            <a:chExt cx="3608640" cy="4647240"/>
          </a:xfrm>
        </p:grpSpPr>
        <p:grpSp>
          <p:nvGrpSpPr>
            <p:cNvPr id="137" name=""/>
            <p:cNvGrpSpPr/>
            <p:nvPr/>
          </p:nvGrpSpPr>
          <p:grpSpPr>
            <a:xfrm>
              <a:off x="5365080" y="3301920"/>
              <a:ext cx="1015200" cy="538920"/>
              <a:chOff x="5365080" y="3301920"/>
              <a:chExt cx="1015200" cy="5389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5365080" y="3583440"/>
                <a:ext cx="1014840" cy="257400"/>
                <a:chOff x="5365080" y="3583440"/>
                <a:chExt cx="1014840" cy="2574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5365080" y="35834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61888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872680" y="359136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126120" y="35913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5365440" y="3301920"/>
                <a:ext cx="1014840" cy="257400"/>
                <a:chOff x="5365440" y="3301920"/>
                <a:chExt cx="1014840" cy="257400"/>
              </a:xfrm>
            </p:grpSpPr>
            <p:sp>
              <p:nvSpPr>
                <p:cNvPr id="144" name=""/>
                <p:cNvSpPr/>
                <p:nvPr/>
              </p:nvSpPr>
              <p:spPr>
                <a:xfrm rot="10800000">
                  <a:off x="6126480" y="33098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0800000">
                  <a:off x="587268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0800000">
                  <a:off x="5619600" y="330192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0800000">
                  <a:off x="5365440" y="330192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 flipV="1">
              <a:off x="5870160" y="373572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53960" y="131580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035600" y="4512600"/>
              <a:ext cx="3608640" cy="1450440"/>
              <a:chOff x="4035600" y="4512600"/>
              <a:chExt cx="3608640" cy="145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6568560" y="504468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" name=""/>
              <p:cNvGrpSpPr/>
              <p:nvPr/>
            </p:nvGrpSpPr>
            <p:grpSpPr>
              <a:xfrm>
                <a:off x="4035600" y="5141160"/>
                <a:ext cx="1266120" cy="821880"/>
                <a:chOff x="4035600" y="5141160"/>
                <a:chExt cx="1266120" cy="8218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03560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H="1">
                  <a:off x="4668480" y="514116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035600" y="514116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668840" y="451260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68840" y="451260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39520" y="451260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7436880" y="455616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58880" y="45752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16360" y="332748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300360" y="438948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42000" y="4389480"/>
            <a:ext cx="65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5956200" y="2122200"/>
            <a:ext cx="600480" cy="654120"/>
            <a:chOff x="5956200" y="2122200"/>
            <a:chExt cx="600480" cy="654120"/>
          </a:xfrm>
        </p:grpSpPr>
        <p:sp>
          <p:nvSpPr>
            <p:cNvPr id="165" name=""/>
            <p:cNvSpPr/>
            <p:nvPr/>
          </p:nvSpPr>
          <p:spPr>
            <a:xfrm>
              <a:off x="5979600" y="22525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956200" y="2122200"/>
              <a:ext cx="0" cy="65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884880" y="461484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266920" y="4638240"/>
            <a:ext cx="0" cy="654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6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blem: As System Becomes More Vulnerable to Voltage Collapse, Reactive Reserve Modeling Becomes Cru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63640" y="1123920"/>
            <a:ext cx="0" cy="475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63640" y="3516480"/>
            <a:ext cx="6451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3640" y="1386000"/>
            <a:ext cx="5862600" cy="4217760"/>
          </a:xfrm>
          <a:custGeom>
            <a:avLst/>
            <a:gdLst/>
            <a:ahLst/>
            <a:rect l="l" t="t" r="r" b="b"/>
            <a:pathLst>
              <a:path w="3693" h="2984">
                <a:moveTo>
                  <a:pt x="0" y="8"/>
                </a:moveTo>
                <a:cubicBezTo>
                  <a:pt x="1116" y="4"/>
                  <a:pt x="2233" y="0"/>
                  <a:pt x="2830" y="250"/>
                </a:cubicBezTo>
                <a:cubicBezTo>
                  <a:pt x="3427" y="500"/>
                  <a:pt x="3536" y="1101"/>
                  <a:pt x="3580" y="1508"/>
                </a:cubicBezTo>
                <a:cubicBezTo>
                  <a:pt x="3624" y="1915"/>
                  <a:pt x="3693" y="2447"/>
                  <a:pt x="3096" y="2693"/>
                </a:cubicBezTo>
                <a:cubicBezTo>
                  <a:pt x="2499" y="2939"/>
                  <a:pt x="516" y="2936"/>
                  <a:pt x="0" y="298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94280" y="2149560"/>
            <a:ext cx="115920" cy="10296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4240" y="2627280"/>
            <a:ext cx="114120" cy="103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702040" y="2252520"/>
            <a:ext cx="230040" cy="47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56120" y="2080800"/>
            <a:ext cx="154080" cy="103680"/>
            <a:chOff x="5856120" y="2080800"/>
            <a:chExt cx="154080" cy="103680"/>
          </a:xfrm>
        </p:grpSpPr>
        <p:sp>
          <p:nvSpPr>
            <p:cNvPr id="177" name=""/>
            <p:cNvSpPr/>
            <p:nvPr/>
          </p:nvSpPr>
          <p:spPr>
            <a:xfrm>
              <a:off x="5856120" y="208116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56120" y="2184480"/>
              <a:ext cx="15408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932440" y="2080800"/>
              <a:ext cx="0" cy="680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624640" y="1909800"/>
            <a:ext cx="153720" cy="750240"/>
            <a:chOff x="5624640" y="1909800"/>
            <a:chExt cx="153720" cy="750240"/>
          </a:xfrm>
        </p:grpSpPr>
        <p:sp>
          <p:nvSpPr>
            <p:cNvPr id="181" name=""/>
            <p:cNvSpPr/>
            <p:nvPr/>
          </p:nvSpPr>
          <p:spPr>
            <a:xfrm>
              <a:off x="5624640" y="190980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24640" y="2660040"/>
              <a:ext cx="153720" cy="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700600" y="1909800"/>
              <a:ext cx="0" cy="4939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V="1">
            <a:off x="5702400" y="2354040"/>
            <a:ext cx="0" cy="30780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346080" y="203364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ss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84960" y="2513160"/>
            <a:ext cx="21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 Generator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21000" y="2081160"/>
            <a:ext cx="26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 Reactive Res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9800" y="2560680"/>
            <a:ext cx="32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ed Reactive Res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t output is incor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place of Gross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4857840" y="2114640"/>
            <a:ext cx="107460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087880" y="2523960"/>
            <a:ext cx="576360" cy="6984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48000" y="2184480"/>
            <a:ext cx="34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816160" y="2695680"/>
            <a:ext cx="61452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60" y="11239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V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802200" y="3586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M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39960" y="1111320"/>
            <a:ext cx="155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x/Plant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893920" y="1362240"/>
            <a:ext cx="536760" cy="99216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79720" y="5568840"/>
            <a:ext cx="49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ss Reactive Capability Curve (CUR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Created by Generator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0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Generator MVArs are Mode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2408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30600" y="1469520"/>
            <a:ext cx="3608640" cy="4647600"/>
            <a:chOff x="2730600" y="1469520"/>
            <a:chExt cx="3608640" cy="4647600"/>
          </a:xfrm>
        </p:grpSpPr>
        <p:grpSp>
          <p:nvGrpSpPr>
            <p:cNvPr id="201" name=""/>
            <p:cNvGrpSpPr/>
            <p:nvPr/>
          </p:nvGrpSpPr>
          <p:grpSpPr>
            <a:xfrm>
              <a:off x="4060080" y="3455640"/>
              <a:ext cx="1015200" cy="538920"/>
              <a:chOff x="4060080" y="3455640"/>
              <a:chExt cx="1015200" cy="53892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060080" y="3737160"/>
                <a:ext cx="1014840" cy="257400"/>
                <a:chOff x="4060080" y="3737160"/>
                <a:chExt cx="1014840" cy="2574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060080" y="37371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1388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67680" y="374508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821120" y="374508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060440" y="3455640"/>
                <a:ext cx="1014840" cy="257400"/>
                <a:chOff x="4060440" y="3455640"/>
                <a:chExt cx="1014840" cy="257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821480" y="346356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56768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10800000">
                  <a:off x="4314600" y="3455640"/>
                  <a:ext cx="25308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0800000">
                  <a:off x="4060440" y="3455640"/>
                  <a:ext cx="253800" cy="249480"/>
                </a:xfrm>
                <a:custGeom>
                  <a:avLst/>
                  <a:gdLst/>
                  <a:ahLst/>
                  <a:rect l="l" t="t" r="r" b="b"/>
                  <a:pathLst>
                    <a:path w="97" h="125">
                      <a:moveTo>
                        <a:pt x="0" y="125"/>
                      </a:moveTo>
                      <a:cubicBezTo>
                        <a:pt x="16" y="66"/>
                        <a:pt x="33" y="8"/>
                        <a:pt x="49" y="4"/>
                      </a:cubicBezTo>
                      <a:cubicBezTo>
                        <a:pt x="65" y="0"/>
                        <a:pt x="89" y="80"/>
                        <a:pt x="97" y="1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 flipV="1">
              <a:off x="4565160" y="3889440"/>
              <a:ext cx="0" cy="7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48960" y="1469520"/>
              <a:ext cx="0" cy="198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2730600" y="4666680"/>
              <a:ext cx="3608640" cy="1450440"/>
              <a:chOff x="2730600" y="4666680"/>
              <a:chExt cx="3608640" cy="1450440"/>
            </a:xfrm>
          </p:grpSpPr>
          <p:sp>
            <p:nvSpPr>
              <p:cNvPr id="215" name=""/>
              <p:cNvSpPr/>
              <p:nvPr/>
            </p:nvSpPr>
            <p:spPr>
              <a:xfrm>
                <a:off x="5263560" y="5198760"/>
                <a:ext cx="1075680" cy="822600"/>
              </a:xfrm>
              <a:prstGeom prst="ellipse">
                <a:avLst/>
              </a:prstGeom>
              <a:solidFill>
                <a:srgbClr val="00cc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730600" y="5295240"/>
                <a:ext cx="1266120" cy="821880"/>
                <a:chOff x="2730600" y="5295240"/>
                <a:chExt cx="1266120" cy="8218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73060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3363480" y="5295240"/>
                  <a:ext cx="632880" cy="821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730600" y="5295240"/>
                  <a:ext cx="126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363840" y="4666680"/>
                <a:ext cx="247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63840" y="4666680"/>
                <a:ext cx="0" cy="62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4520" y="4666680"/>
                <a:ext cx="0" cy="53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" name=""/>
          <p:cNvSpPr/>
          <p:nvPr/>
        </p:nvSpPr>
        <p:spPr>
          <a:xfrm>
            <a:off x="6131880" y="4710240"/>
            <a:ext cx="8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53880" y="472932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x/Pl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8840" y="2776680"/>
            <a:ext cx="9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M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73520" y="240660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High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99536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3536640" y="4543560"/>
            <a:ext cx="654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651200" y="2276640"/>
            <a:ext cx="0" cy="653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36560" y="404352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(Low S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648320" y="4081320"/>
            <a:ext cx="0" cy="46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8880" y="14698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2320" y="14320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36880" y="1969920"/>
            <a:ext cx="1844640" cy="214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0560" y="2008080"/>
            <a:ext cx="538200" cy="268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492960" y="2046240"/>
            <a:ext cx="80640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14640" y="1930320"/>
            <a:ext cx="126684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492960" y="2162160"/>
            <a:ext cx="844560" cy="261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456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ring Freq/Accura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07680"/>
            <a:ext cx="80769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(To be placed in operating gui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MW RTU (Same as curr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ss/Net MVAr, Gross MW ICCP or R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4480" indent="-217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hange to 6.5.1.1(6) “Real Time data for reliability purposes must be accurate to within three percent (3%).  This telemetry may be provided from relaying accuracy instrumentation transformer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6:54:56Z</dcterms:created>
  <dc:creator>Stephen Reedy</dc:creator>
  <dc:description/>
  <dc:language>en-US</dc:language>
  <cp:lastModifiedBy>Stephen Reedy</cp:lastModifiedBy>
  <dcterms:modified xsi:type="dcterms:W3CDTF">2006-01-18T17:22:08Z</dcterms:modified>
  <cp:revision>12</cp:revision>
  <dc:subject/>
  <dc:title>Slide 1</dc:title>
</cp:coreProperties>
</file>