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DF04DAD-4FEB-477D-BC1E-86E54DC90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ph data is a 15-sample average of the hourly average CPS1 and each 6 am hourly CPS1 over the last year.  PDC normally presents to ROS monthly CPS average by Interval.  From Fall ’04 to Summer ‘05 they have shown IE 06:15 improve from negative to passing/near pas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F1D-B362-414A-8981-FB3C3022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1CF7-1415-45C7-8318-C9CA69FE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D1DF-915B-497D-A578-B2314DDB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8D8-A645-4DC6-93BF-507A68CF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C25E-1626-46E4-BCA8-E95A0494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C38-DD31-4102-8D33-8FEFAF8A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8E9-EADF-4703-8D82-C564E483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7E7-AD73-430D-B089-B92A17AB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384-6BF0-4425-AABA-ED6C49FE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B9BC-028B-4945-B1D3-DFA559B1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FD0B-59D5-4AF0-946A-A29F0D8E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2BB-B5C9-4869-B1B9-D952B5A5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EC88-19EC-4411-B0A7-E7187DA2E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36800" y="1600200"/>
            <a:ext cx="706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ly CPS1 average for all hours vs 10 p.m. hourly average CP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01760" y="1600200"/>
            <a:ext cx="653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4 10 p.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3904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4114800"/>
            <a:ext cx="10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/1 L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ly CPS1 average for all hours vs 6 p.m. hourly average CP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49320" y="922320"/>
            <a:ext cx="7245360" cy="5011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89680" y="2779560"/>
            <a:ext cx="85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2895480"/>
            <a:ext cx="15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4 6 p.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7770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20:56:15Z</dcterms:created>
  <dc:creator>jhealy</dc:creator>
  <dc:description/>
  <dc:language>en-US</dc:language>
  <cp:lastModifiedBy>jhealy</cp:lastModifiedBy>
  <dcterms:modified xsi:type="dcterms:W3CDTF">2006-02-15T20:43:21Z</dcterms:modified>
  <cp:revision>7</cp:revision>
  <dc:subject/>
  <dc:title>Hourly CPS1 average for all hours vs 6 a.m. hourly average CPS1</dc:title>
</cp:coreProperties>
</file>