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8D3C-901B-4DD7-B648-B8F427D4C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01D9-D7FD-4C44-B812-D8274E946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2E88-905B-463B-9EDE-18661EA82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A55B-01BE-4C52-BE22-F77E7F57D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D4287-0EE9-4632-BB83-202CDE5F4D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096B-6385-4802-9B53-EC28C98579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96EC-57A3-491C-9229-321A4D7371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66C2D-2736-48BE-AE2E-2B0C5C843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6D35A-F9C5-47A2-915F-58E47F8B17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E9FA0-6B92-4FBE-AF46-28A9BFD36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274B8-3D87-4DE6-B328-9D6E83D23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0223-AC1D-4B38-88F1-E96FEDE9C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8135C-8071-4734-A3C4-3BA933A4F6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E9375-E4CA-4864-A731-995A297EE1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45545-6119-48B0-943A-75B57B9F71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31112-21DE-4FEF-90AC-26C3B12A97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56C8E-B8F9-412F-915D-82B390EB0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AA6B-3B92-4951-BF49-A21E817A9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AB08-64DB-46CC-830A-1AEA96D74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AE38-17DE-41F7-9CB8-B964486F4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1230-5EC4-4A33-9EDE-4352839BD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DD19-1B74-4323-BDF2-18CE74E3D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CCAD-2B89-4FD1-9F4E-10A15B771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92E1-02C0-4FBD-B3DE-1BEA8EC5E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E4F7-DF1E-4978-86C6-08EE4034F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B0FB-3633-46BD-9967-478A49D5470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7925040" cy="1981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62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Monthly Updates</a:t>
            </a: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hly Cost updates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March 2006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446B-0442-40D7-9FDC-FE7248DF4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March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87BB-54EA-416D-B100-D727B8BA98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March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B5E1-0A6C-4176-BA18-3707F331A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March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C530-446F-4356-9640-D26D33820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March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2741-EB7B-481A-889E-CEC9F36467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iflores</dc:creator>
  <dc:description/>
  <dc:language>en-US</dc:language>
  <cp:lastModifiedBy>ercot/if</cp:lastModifiedBy>
  <dcterms:modified xsi:type="dcterms:W3CDTF">2006-03-13T19:41:07Z</dcterms:modified>
  <cp:revision>115</cp:revision>
  <dc:subject/>
  <dc:title>CSC uti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