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536-A9EB-47FE-9466-192D2A7DD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P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Chart represents one 114MW wind facility.  Compares actual production 20 minutes prior to start of interval with generation meter data for end of interval to determine accuracy of persistence forecasting methodology.  Four months of data gathered – March, August, October 2005 and January 2006 to get seasonal perspective.  Forecast error averaged for each day and averaged for each month demonstrates 5-8% average forecast err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RCOT Compli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RCOT Complian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RCOT Complia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RCOT Complia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RCOT Compli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375A6-CD32-4F81-BB18-BFBE12C64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C1B18-0044-4DD8-A79A-D7D0F88A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7DA6C-E0D2-417F-B4B5-D64B9D2A4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9868D-145C-4363-A503-755EC4CA3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EC611-FFBC-4617-A392-6036AF3E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500AF-6004-44F9-8C2B-321D38F0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6DFF-3E22-4307-9F6C-F83E1F890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DB9C7-A5AE-4FBB-86CF-8C827F60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8C0A0-CA03-4236-8290-E40AECCB0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4488-86AB-4AC6-ABC4-67CC4533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DB92-299C-4492-B952-A4811761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CED0-4028-42D4-B139-410972091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BF00-26FD-4AA4-AD0F-739E1F838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Control</a:t>
            </a:r>
            <a:br>
              <a:rPr sz="4400"/>
            </a:br>
            <a:r>
              <a:rPr b="0" lang="en-US" sz="4400" spc="-1" strike="noStrike">
                <a:solidFill>
                  <a:srgbClr val="000000"/>
                </a:solidFill>
                <a:latin typeface="Arial"/>
              </a:rPr>
              <a:t>Task For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W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2,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of SCE</a:t>
            </a:r>
            <a:br>
              <a:rPr sz="3600"/>
            </a:br>
            <a:r>
              <a:rPr b="0" lang="en-US" sz="3600" spc="-1" strike="noStrike">
                <a:solidFill>
                  <a:srgbClr val="000000"/>
                </a:solidFill>
                <a:latin typeface="Arial"/>
              </a:rPr>
              <a:t>to poor frequency control</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PRR 525 nor PRR 586 specifically addresses primary or secondary frequency response.  Instead, each addresses SCE, which impacts the amount of Regulation Service deployed to maintain system frequenc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 is one of many factors contributing to poor system frequency control and the need for Regulation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actors inclu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load forecast error / Real-time variations in lo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governor respon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862EC2-0404-4A79-819A-73B48E1D3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of SCE</a:t>
            </a:r>
            <a:br>
              <a:rPr sz="3600"/>
            </a:br>
            <a:r>
              <a:rPr b="0" lang="en-US" sz="3600" spc="-1" strike="noStrike">
                <a:solidFill>
                  <a:srgbClr val="000000"/>
                </a:solidFill>
                <a:latin typeface="Arial"/>
              </a:rPr>
              <a:t>to regulation deployment</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 is a contributor but not necessarily a large driver for Regulation Service procurement and deploy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of some portion of RGS costs to QSEs with poor SCE (a la PRR 586) could provide appropriate incentive to maintain low S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of RGS costs to QSEs with poor SCE should be proportional to SCE impac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28ABDF-8B7F-4E40-AD67-81FDF1373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obligations / incentives</a:t>
            </a:r>
            <a:br>
              <a:rPr sz="2800"/>
            </a:br>
            <a:r>
              <a:rPr b="0" lang="en-US" sz="2800" spc="-1" strike="noStrike">
                <a:solidFill>
                  <a:srgbClr val="000000"/>
                </a:solidFill>
                <a:latin typeface="Arial"/>
              </a:rPr>
              <a:t>to provide primary frequency response</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Guides require all generators online to place their governors in 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CTF is thus far unable to determine whether ERCOT is getting adequate governor respon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s an “energy only” market in which generators have neither an obligation nor an incentive to reserve capacity for frequency respon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ct, the reverse is true – the market structure incentivizes generators to maximize production from units online, sometimes leaving little room for machines to respond to frequency excur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15A170-0911-4704-B053-E44D6C3E5B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incentives / penalties</a:t>
            </a:r>
            <a:br>
              <a:rPr sz="3600"/>
            </a:br>
            <a:r>
              <a:rPr b="0" lang="en-US" sz="3600" spc="-1" strike="noStrike">
                <a:solidFill>
                  <a:srgbClr val="000000"/>
                </a:solidFill>
                <a:latin typeface="Arial"/>
              </a:rPr>
              <a:t>for SCE Performance</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RR 525: CPS2 performance measure provided incentive for resource QSEs to not bid Regulation Service during intervals with high S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R 525: “Death Penalty” provides strong incentive to minimize S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for ancillary service provid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s all resources, which must maintain DBES oblig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bility to make mandatory DBES offer violates PUCT Rul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pardizes PGC registr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41F850-2F79-4A4F-A154-831D9A26A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controllable Renewable Resource</a:t>
            </a:r>
            <a:br>
              <a:rPr sz="3600"/>
            </a:br>
            <a:r>
              <a:rPr b="0" lang="en-US" sz="3600" spc="-1" strike="noStrike">
                <a:solidFill>
                  <a:srgbClr val="000000"/>
                </a:solidFill>
                <a:latin typeface="Arial"/>
              </a:rPr>
              <a:t>Forecast Error</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R schedules based on resource foreca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ly poor forecasting performance by UR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R SCE contributes to regulation deploy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ing an uncontrollable resource to control performance standard makes little sense and, in fact, provides a disincentive for the market to meet a statutory obligation to install URRs in Tex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rsistence Forecasting” methodology explored to improve URR SCE and minimize system impac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52F3A8-2FB6-4B46-8768-8EE9270157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istence Forecasting Methodology</a:t>
            </a:r>
            <a:endParaRPr b="0" lang="en-US" sz="3600" spc="-1" strike="noStrike">
              <a:solidFill>
                <a:srgbClr val="000000"/>
              </a:solidFill>
              <a:latin typeface="Arial"/>
            </a:endParaRPr>
          </a:p>
        </p:txBody>
      </p:sp>
      <p:graphicFrame>
        <p:nvGraphicFramePr>
          <p:cNvPr id="77" name=""/>
          <p:cNvGraphicFramePr/>
          <p:nvPr/>
        </p:nvGraphicFramePr>
        <p:xfrm>
          <a:off x="457200" y="1600200"/>
          <a:ext cx="8229600" cy="4062240"/>
        </p:xfrm>
        <a:graphic>
          <a:graphicData uri="http://schemas.openxmlformats.org/presentationml/2006/ole">
            <p:oleObj progId="Excel.Sheet.12" r:id="rId1" spid="">
              <p:embed/>
              <p:pic>
                <p:nvPicPr>
                  <p:cNvPr id="78" name="" descr=""/>
                  <p:cNvPicPr/>
                  <p:nvPr/>
                </p:nvPicPr>
                <p:blipFill>
                  <a:blip r:embed="rId2"/>
                  <a:stretch/>
                </p:blipFill>
                <p:spPr>
                  <a:xfrm>
                    <a:off x="457200" y="1600200"/>
                    <a:ext cx="8229600" cy="4062240"/>
                  </a:xfrm>
                  <a:prstGeom prst="rect">
                    <a:avLst/>
                  </a:prstGeom>
                  <a:ln w="0">
                    <a:noFill/>
                  </a:ln>
                </p:spPr>
              </p:pic>
            </p:oleObj>
          </a:graphicData>
        </a:graphic>
      </p:graphicFrame>
      <p:sp>
        <p:nvSpPr>
          <p:cNvPr id="3" name="PlaceHolder 2"/>
          <p:cNvSpPr>
            <a:spLocks noGrp="1"/>
          </p:cNvSpPr>
          <p:nvPr>
            <p:ph type="sldNum" idx="3"/>
          </p:nvPr>
        </p:nvSpPr>
        <p:spPr/>
        <p:txBody>
          <a:bodyPr/>
          <a:p>
            <a:fld id="{698924F3-40F9-4A3B-A269-E43AD8460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evaluation of Protocols 6.10.5.3 (PRR 525)</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and evaluating SCE Performance scores under PRR 525 metr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commendation but it is safe to say nearly everyone agrees with one of the three following stat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 525 does not use a good performance meas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 Compliance penalty structure is inappropri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of statements above are tr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hanges to the exemption list are in or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A66A627-8A10-4387-98E2-6F4F68285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COT’s CPS1 12 Month</a:t>
            </a:r>
            <a:br>
              <a:rPr sz="3600"/>
            </a:br>
            <a:r>
              <a:rPr b="0" lang="en-US" sz="3600" spc="-1" strike="noStrike">
                <a:solidFill>
                  <a:srgbClr val="000000"/>
                </a:solidFill>
                <a:latin typeface="Arial"/>
              </a:rPr>
              <a:t>Rolling Average Trend</a:t>
            </a:r>
            <a:endParaRPr b="0" lang="en-US" sz="3600" spc="-1" strike="noStrike">
              <a:solidFill>
                <a:srgbClr val="000000"/>
              </a:solidFill>
              <a:latin typeface="Arial"/>
            </a:endParaRPr>
          </a:p>
        </p:txBody>
      </p:sp>
      <p:pic>
        <p:nvPicPr>
          <p:cNvPr id="82" name="" descr=""/>
          <p:cNvPicPr/>
          <p:nvPr/>
        </p:nvPicPr>
        <p:blipFill>
          <a:blip r:embed="rId1"/>
          <a:stretch/>
        </p:blipFill>
        <p:spPr>
          <a:xfrm>
            <a:off x="1052640" y="1600200"/>
            <a:ext cx="7037280" cy="4525920"/>
          </a:xfrm>
          <a:prstGeom prst="rect">
            <a:avLst/>
          </a:prstGeom>
          <a:ln w="0">
            <a:noFill/>
          </a:ln>
        </p:spPr>
      </p:pic>
      <p:sp>
        <p:nvSpPr>
          <p:cNvPr id="3" name="PlaceHolder 2"/>
          <p:cNvSpPr>
            <a:spLocks noGrp="1"/>
          </p:cNvSpPr>
          <p:nvPr>
            <p:ph type="sldNum" idx="3"/>
          </p:nvPr>
        </p:nvSpPr>
        <p:spPr/>
        <p:txBody>
          <a:bodyPr/>
          <a:p>
            <a:fld id="{06998D86-94BB-48CB-8C82-9052773FCD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COT CPS1 by Interval</a:t>
            </a:r>
            <a:endParaRPr b="0" lang="en-US" sz="3600" spc="-1" strike="noStrike">
              <a:solidFill>
                <a:srgbClr val="000000"/>
              </a:solidFill>
              <a:latin typeface="Arial"/>
            </a:endParaRPr>
          </a:p>
        </p:txBody>
      </p:sp>
      <p:pic>
        <p:nvPicPr>
          <p:cNvPr id="84" name="" descr=""/>
          <p:cNvPicPr/>
          <p:nvPr/>
        </p:nvPicPr>
        <p:blipFill>
          <a:blip r:embed="rId1"/>
          <a:stretch/>
        </p:blipFill>
        <p:spPr>
          <a:xfrm>
            <a:off x="884160" y="1600200"/>
            <a:ext cx="7375680" cy="4525920"/>
          </a:xfrm>
          <a:prstGeom prst="rect">
            <a:avLst/>
          </a:prstGeom>
          <a:ln w="0">
            <a:noFill/>
          </a:ln>
        </p:spPr>
      </p:pic>
      <p:sp>
        <p:nvSpPr>
          <p:cNvPr id="3" name="PlaceHolder 2"/>
          <p:cNvSpPr>
            <a:spLocks noGrp="1"/>
          </p:cNvSpPr>
          <p:nvPr>
            <p:ph type="sldNum" idx="3"/>
          </p:nvPr>
        </p:nvSpPr>
        <p:spPr/>
        <p:txBody>
          <a:bodyPr/>
          <a:p>
            <a:fld id="{4126DCC1-4B55-40F3-B4D1-76B42AF2D8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ch MTD CPS1 by Interval</a:t>
            </a:r>
            <a:endParaRPr b="0" lang="en-US" sz="3600" spc="-1" strike="noStrike">
              <a:solidFill>
                <a:srgbClr val="000000"/>
              </a:solidFill>
              <a:latin typeface="Arial"/>
            </a:endParaRPr>
          </a:p>
        </p:txBody>
      </p:sp>
      <p:pic>
        <p:nvPicPr>
          <p:cNvPr id="86" name="" descr=""/>
          <p:cNvPicPr/>
          <p:nvPr/>
        </p:nvPicPr>
        <p:blipFill>
          <a:blip r:embed="rId1"/>
          <a:stretch/>
        </p:blipFill>
        <p:spPr>
          <a:xfrm>
            <a:off x="1001880" y="1600200"/>
            <a:ext cx="7138800" cy="4525920"/>
          </a:xfrm>
          <a:prstGeom prst="rect">
            <a:avLst/>
          </a:prstGeom>
          <a:ln w="0">
            <a:noFill/>
          </a:ln>
        </p:spPr>
      </p:pic>
      <p:sp>
        <p:nvSpPr>
          <p:cNvPr id="3" name="PlaceHolder 2"/>
          <p:cNvSpPr>
            <a:spLocks noGrp="1"/>
          </p:cNvSpPr>
          <p:nvPr>
            <p:ph type="sldNum" idx="3"/>
          </p:nvPr>
        </p:nvSpPr>
        <p:spPr/>
        <p:txBody>
          <a:bodyPr/>
          <a:p>
            <a:fld id="{E9E94A5F-F0B2-4C78-B48F-B0928E25A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 FCTF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Examined by FCT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ing th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8A04E0-9F96-428A-AEA7-586B6D5D2A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SE PRR525 10-Minute</a:t>
            </a:r>
            <a:br>
              <a:rPr sz="3600"/>
            </a:br>
            <a:r>
              <a:rPr b="0" lang="en-US" sz="3600" spc="-1" strike="noStrike">
                <a:solidFill>
                  <a:srgbClr val="000000"/>
                </a:solidFill>
                <a:latin typeface="Arial"/>
              </a:rPr>
              <a:t>Interval Scoring</a:t>
            </a:r>
            <a:endParaRPr b="0" lang="en-US" sz="3600" spc="-1" strike="noStrike">
              <a:solidFill>
                <a:srgbClr val="000000"/>
              </a:solidFill>
              <a:latin typeface="Arial"/>
            </a:endParaRPr>
          </a:p>
        </p:txBody>
      </p:sp>
      <p:pic>
        <p:nvPicPr>
          <p:cNvPr id="88" name="" descr=""/>
          <p:cNvPicPr/>
          <p:nvPr/>
        </p:nvPicPr>
        <p:blipFill>
          <a:blip r:embed="rId1"/>
          <a:stretch/>
        </p:blipFill>
        <p:spPr>
          <a:xfrm>
            <a:off x="731880" y="1523880"/>
            <a:ext cx="7802640" cy="4788000"/>
          </a:xfrm>
          <a:prstGeom prst="rect">
            <a:avLst/>
          </a:prstGeom>
          <a:ln w="0">
            <a:noFill/>
          </a:ln>
        </p:spPr>
      </p:pic>
      <p:sp>
        <p:nvSpPr>
          <p:cNvPr id="3" name="PlaceHolder 2"/>
          <p:cNvSpPr>
            <a:spLocks noGrp="1"/>
          </p:cNvSpPr>
          <p:nvPr>
            <p:ph type="sldNum" idx="3"/>
          </p:nvPr>
        </p:nvSpPr>
        <p:spPr/>
        <p:txBody>
          <a:bodyPr/>
          <a:p>
            <a:fld id="{C16457D5-7511-4608-8915-9E09453162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25 Passing 10-Min Interval </a:t>
            </a:r>
            <a:br>
              <a:rPr sz="3600"/>
            </a:br>
            <a:r>
              <a:rPr b="0" lang="en-US" sz="3600" spc="-1" strike="noStrike">
                <a:solidFill>
                  <a:srgbClr val="000000"/>
                </a:solidFill>
                <a:latin typeface="Arial"/>
              </a:rPr>
              <a:t>Percentage Trends</a:t>
            </a:r>
            <a:endParaRPr b="0" lang="en-US" sz="3600" spc="-1" strike="noStrike">
              <a:solidFill>
                <a:srgbClr val="000000"/>
              </a:solidFill>
              <a:latin typeface="Arial"/>
            </a:endParaRPr>
          </a:p>
        </p:txBody>
      </p:sp>
      <p:pic>
        <p:nvPicPr>
          <p:cNvPr id="90" name="" descr=""/>
          <p:cNvPicPr/>
          <p:nvPr/>
        </p:nvPicPr>
        <p:blipFill>
          <a:blip r:embed="rId1"/>
          <a:stretch/>
        </p:blipFill>
        <p:spPr>
          <a:xfrm>
            <a:off x="990720" y="1447920"/>
            <a:ext cx="7315200" cy="4825800"/>
          </a:xfrm>
          <a:prstGeom prst="rect">
            <a:avLst/>
          </a:prstGeom>
          <a:ln w="0">
            <a:noFill/>
          </a:ln>
        </p:spPr>
      </p:pic>
      <p:sp>
        <p:nvSpPr>
          <p:cNvPr id="3" name="PlaceHolder 2"/>
          <p:cNvSpPr>
            <a:spLocks noGrp="1"/>
          </p:cNvSpPr>
          <p:nvPr>
            <p:ph type="sldNum" idx="3"/>
          </p:nvPr>
        </p:nvSpPr>
        <p:spPr/>
        <p:txBody>
          <a:bodyPr/>
          <a:p>
            <a:fld id="{C4B30873-84A9-468C-8F40-001EF95F04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uracy of ERCOT RGS signals and impact on QSE SCE calculation</a:t>
            </a:r>
            <a:endParaRPr b="0" lang="en-US" sz="3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U supplied data suggesting frequent implied ramp rate violations in ERCOT URS and DRS sign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agrees a problem exists. ERCOT system apparently randomly skips an AGC cycle, resulting in the next value being higher or lower than it sh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taff agrees this has some impact on QSE SCE calc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ystem analysis and applicability to other QSEs ongo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630D0E-AF0A-4B11-B537-600B43535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aming the Issues</a:t>
            </a:r>
            <a:endParaRPr b="0" lang="en-US" sz="3600" spc="-1" strike="noStrike">
              <a:solidFill>
                <a:srgbClr val="000000"/>
              </a:solidFill>
              <a:latin typeface="Arial"/>
            </a:endParaRPr>
          </a:p>
        </p:txBody>
      </p:sp>
      <p:sp>
        <p:nvSpPr>
          <p:cNvPr id="9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issues into 3 categori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SCE performance measure calculation and/or penalty structure before July 1 “death penalty” deadline</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the “low-hanging fruit” clean up items related to SCE performance measure</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incentives / penalties / performance measures for primary frequency response</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E782A9-725C-4FBE-844F-737821D85E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s</a:t>
            </a: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 656: SCE Performance Charge (Cat. 1)</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RR: SCE Compliance Enforcement (Cat. 1)</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RR: Ancillary Service Deployment Performance Conditions (Cat. 2)</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CR: Persistence Forecasting Methodology for URRs (Cat. 2)</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RR: Governor Response Service (Cat. 3)</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52CB74-43E5-4C1E-864C-C5B00496B6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 1</a:t>
            </a:r>
            <a:br>
              <a:rPr sz="3600"/>
            </a:br>
            <a:r>
              <a:rPr b="0" lang="en-US" sz="3600" spc="-1" strike="noStrike">
                <a:solidFill>
                  <a:srgbClr val="000000"/>
                </a:solidFill>
                <a:latin typeface="Arial"/>
              </a:rPr>
              <a:t>PRR 656: SCE Performance Charge</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both SCE calculation methodology and enforcement reg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an SCE Performance Charge to replace current SCE Performance Monito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s will be charged for each 5-minute interval for SCE average outside their deadband that contributes to Regulation Service deploy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03AE67-3632-49D9-BFF8-0B166D345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 2</a:t>
            </a:r>
            <a:br>
              <a:rPr sz="3600"/>
            </a:br>
            <a:r>
              <a:rPr b="0" lang="en-US" sz="3400" spc="-1" strike="noStrike">
                <a:solidFill>
                  <a:srgbClr val="000000"/>
                </a:solidFill>
                <a:latin typeface="Arial"/>
              </a:rPr>
              <a:t>Draft PRR: SCE Compliance Enforcement</a:t>
            </a:r>
            <a:endParaRPr b="0" lang="en-US" sz="3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keeps the PRR 525 SCE calculation methodology i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itutes alternate penalty structure for existing “death penalty only” reg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performing QSEs ability to offer Regulation Service “ratcheted down” following failure to meet SCE performance meas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020480-567D-46CC-A389-9406F51845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3</a:t>
            </a:r>
            <a:br>
              <a:rPr sz="2800"/>
            </a:br>
            <a:r>
              <a:rPr b="0" lang="en-US" sz="2800" spc="-1" strike="noStrike">
                <a:solidFill>
                  <a:srgbClr val="000000"/>
                </a:solidFill>
                <a:latin typeface="Arial"/>
              </a:rPr>
              <a:t>Draft PRR: Ancillary Service Deployment Performance Conditions</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the “low-hanging fru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nds Protocols 6.10.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s URRs from SCE enforcement reg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ramp rate violation impacts in QSE SCE calc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intent behind unit trip exemption from QSE SCE calcul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AD8676-A84D-4931-9483-31DFCFFC9D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 4</a:t>
            </a:r>
            <a:br>
              <a:rPr sz="3600"/>
            </a:br>
            <a:r>
              <a:rPr b="0" lang="en-US" sz="3600" spc="-1" strike="noStrike">
                <a:solidFill>
                  <a:srgbClr val="000000"/>
                </a:solidFill>
                <a:latin typeface="Arial"/>
              </a:rPr>
              <a:t>Draft SCR: Persistence Forecasting Methodology for URRs</a:t>
            </a:r>
            <a:endParaRPr b="0" lang="en-US" sz="3600" spc="-1" strike="noStrike">
              <a:solidFill>
                <a:srgbClr val="000000"/>
              </a:solidFill>
              <a:latin typeface="Arial"/>
            </a:endParaRPr>
          </a:p>
        </p:txBody>
      </p:sp>
      <p:sp>
        <p:nvSpPr>
          <p:cNvPr id="104"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hanges required to implement persistence forecas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about whether QSEs should submit performance data or whether ERCOT should capture and utilize data on behalf of Q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Lodestar, SPD lik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 development ongo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60B59E-E2A8-47BD-93FA-73F3020B7C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tion 5</a:t>
            </a:r>
            <a:br>
              <a:rPr sz="3400"/>
            </a:br>
            <a:r>
              <a:rPr b="0" lang="en-US" sz="3400" spc="-1" strike="noStrike">
                <a:solidFill>
                  <a:srgbClr val="000000"/>
                </a:solidFill>
                <a:latin typeface="Arial"/>
              </a:rPr>
              <a:t>Draft PRR: Governor Response Service</a:t>
            </a:r>
            <a:endParaRPr b="0" lang="en-US" sz="3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TF discussed bid-based service, pay-as-you-go service, and governor response performance mea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to provide primary frequency respo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bid-based service it would be treated similar to how RRS is treated today.  Offers from generation resources would take the form of “MWs/0.1 Hz deviation”  and those offers struck would get a capacity payment for the amount of MWs struck in the Day Ahead ancillary service procurement pro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CE423E-6BFD-4FED-8897-7DE7BFFBFC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COT Single Control Area frequently experiences poor system frequency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noticed during the morning and evening ramps, frequency excursions actually occur throughout the 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theorized that minimizing generator Schedule Control Error should contribute to an improvement in system frequency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adoption of PRR 525, resource QSEs were only held to an SCE standard during intervals in which they provided Regulation Serv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11915E-9598-43BB-B4FF-2B36199CF2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tion 5</a:t>
            </a:r>
            <a:br>
              <a:rPr sz="3400"/>
            </a:br>
            <a:r>
              <a:rPr b="0" lang="en-US" sz="3400" spc="-1" strike="noStrike">
                <a:solidFill>
                  <a:srgbClr val="000000"/>
                </a:solidFill>
                <a:latin typeface="Arial"/>
              </a:rPr>
              <a:t>Draft PRR: Governor Response Service</a:t>
            </a:r>
            <a:endParaRPr b="0" lang="en-US" sz="3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pay-as-you-go” service, the generation resource presumably offers in some amount of “MWs/0.1 Hz” value and be paid nothing in the DA A/S procurement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would only occur if a frequency event actually occurred in real time.  Then some yet to be proposed “look back” approach would be used for settlements.  Payments could be paid on a capacity basis (using RRS as proxy value?, just the hour of the event/all day?) or on a flat fee basis using some other value as a prox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B0FB73-F6A5-488A-9135-69F03E0013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Arial"/>
            </a:endParaRPr>
          </a:p>
        </p:txBody>
      </p:sp>
      <p:sp>
        <p:nvSpPr>
          <p:cNvPr id="11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FCTF meeting on 3/31/06</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options into recommend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action to address Category 1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action to address Category 2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next steps to address Category 3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ending PRRs 586, 605, 607, and 60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ROS meeting on 4/13/06</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on FCTF recommend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MS meeting on 4/19/06</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on FCTF recommend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1 PRS mee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 on FCTF-submitted PRRs (Urgent Status request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DFE574-FE3E-4889-8A41-96E5664437F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 (cont.)</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PRR 525, stakeholders elected to address poor system frequency control by improving SCE through application of an SCE performance measure to all resource Q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 525 did not address penalties for non-compliance, so the discretionary “death penalty” in Protocols 6.10.12 became the default penalty for failure to meet the metr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R 586 was filed by PUCT Staff to further address SCE through reallocation of Regulation Service costs to resource QSEs with poor S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7ACACA-532D-4E72-88D3-2E4459F52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S action on PRR 586</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nded to ROS 5/19/05 with instructions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the iss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ether PRR 586 resolves that iss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amend PRR 586 to resolve issue or draft new PRR to resolve iss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ny unintended consequences of PRR 586</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BED863A-2E07-4F93-B456-BFBB31471E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S Response on PRR 586</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 response to PRS on 7/21/05 framed the technical requirement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 586 will not solve the frequency problem in ERCOT, but may be part of a broader package of solution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 MW / 0.1 Hz should remain the frequency response standard, applicable to frequency disturbances defined as a Measurable Event in Protocols 5.8.</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eviations +/ -0 .0613 Hz, 282 MW / 0.1 Hz should be used as the standard minimum.</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420 MW / 0.1 Hz frequency response standard, the appropriate SCE deadband is one that covers the large majority of typical system control errors, such as the greater of 2% of QSE scheduled load or 12 MW.</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 recommended the last two bullets of the PRS charge be addressed by WMS</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EFE72E-6F64-460C-9CA8-CD73577AF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PRS action</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7/21/05 PRS remanded PRR 586 to WMS with the following mo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S refers PRR586 to WMS to consider frequency control problems identified by the PDCWG and ROS and develop commercial solutions, such as incentives that should be re-aligned.  WMS should also consider the commercial implications of the global plan that ROS is being asked to develop to address those problems.  PRS also requests that ROS continue its work related to frequency control and develop a concrete global plan, including prioritized actions and a timeline, to address the frequency issues it identified.  In addition, ROS should complete the analysis of primary and secondary response issues it identifi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1DECF7-EB2D-44C3-9A51-14C878B2F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quency Control TF Charge</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MS formed the FCTF in response to the significant number of PRRs filed to address SCE calculation methodology, performance measurement, and complianc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F was never formally charged, but WMS determined the TF should take a “holistic” approach to examining the commercial structures, performance measures, incentives, and penalties needed to achieve satisfactory system frequency control.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Task Force first met Aug. 2, 2005 to determine whether commercial solutions could be devised to improve system frequency contro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D78D87-E3F6-4CB4-A2DD-A7C0B490F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CTF Issues Examined</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 of SCE to poor frequency control</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 of SCE to regulation deployment</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 of load forecast error to regulation deployment</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obligations / incentives to provide primary frequency response </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incentives / penalties for SCE Performance</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ntrollable Renewable Resource Forecast Error</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valuation of Protocols 6.10.5.3 (PRR 525)</a:t>
            </a:r>
            <a:endParaRPr b="0" lang="en-US" sz="2400" spc="-1" strike="noStrike">
              <a:solidFill>
                <a:srgbClr val="000000"/>
              </a:solidFill>
              <a:latin typeface="Arial"/>
            </a:endParaRPr>
          </a:p>
          <a:p>
            <a:pPr marL="591120" indent="-5911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of ERCOT RGS signals and impact on QSE SCE calculation</a:t>
            </a:r>
            <a:endParaRPr b="0" lang="en-US" sz="2400" spc="-1" strike="noStrike">
              <a:solidFill>
                <a:srgbClr val="000000"/>
              </a:solidFill>
              <a:latin typeface="Arial"/>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148DBE-7128-4704-B862-D6F709DA1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5:46:58Z</dcterms:created>
  <dc:creator>Mark J. Bruce</dc:creator>
  <dc:description/>
  <dc:language>en-US</dc:language>
  <cp:lastModifiedBy>Mark J. Bruce</cp:lastModifiedBy>
  <dcterms:modified xsi:type="dcterms:W3CDTF">2006-03-23T13:50:38Z</dcterms:modified>
  <cp:revision>22</cp:revision>
  <dc:subject/>
  <dc:title>Frequency Task Force</dc:title>
</cp:coreProperties>
</file>