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31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AB60-C9DE-4665-9079-04F785594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EA53B-1D5A-4403-8F4B-6904B06E3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4C10-8BF5-4DA0-BAE0-19D9415A2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F2C6D-F88A-4B17-A8BB-7A056717C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C73E4-ECAC-446F-8780-CE562FC1CB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A86D3-827F-4F4D-97E6-C5470B3343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8ACFD-0D94-45D7-BA02-21756740CD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88992-23D4-49E9-8C68-91057EF24D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A72CF-DA72-48C6-81FC-004E9FCC4E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6A94F-42A3-45BC-9AC2-30A9E86D5A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BEDC1-D31B-43CF-ABD7-3328F95376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36A75-1B27-4095-83A7-82F552EC4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ACFFD-3BC3-42C8-A19D-850A234C27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21CFC-BF60-4BFA-96D0-BE30C60041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2C44C-E5BA-4682-B0CA-97BC48B44A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437AA-65CE-4190-89AF-8BDCA2961D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EF790-6FAA-4585-B2FD-E30AC7E1AD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D0ECB-0D79-4C7F-A8BB-D9FC802C6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5722D-3EA7-4093-B23E-ABD77C504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22C8-E2DD-4481-BA72-B050573F6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7FF91-4173-4739-A707-20C0FACB6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0ECDA-E910-4DCA-8009-6FB24CD6C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CEC3E-45F1-482F-9E10-41CBB48EB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A726F-3AC3-4EAC-8C6D-90C743392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6760"/>
            <a:ext cx="213372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B4B1-3235-4440-B896-11E62EAA6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22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990360" cy="42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533160" y="61722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009920" y="6243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BE60-5C20-4A4C-866E-532723435C1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762120"/>
            <a:ext cx="7925040" cy="19810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990360"/>
            <a:ext cx="7623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 Narrow"/>
              </a:rPr>
              <a:t>CSC Utilization Report</a:t>
            </a:r>
            <a:br>
              <a:rPr sz="4600"/>
            </a:br>
            <a:r>
              <a:rPr b="1" lang="en-US" sz="4600" spc="-1" strike="noStrike">
                <a:solidFill>
                  <a:srgbClr val="000066"/>
                </a:solidFill>
                <a:latin typeface="Arial Narrow"/>
              </a:rPr>
              <a:t>Q4 – 2005</a:t>
            </a:r>
            <a:br>
              <a:rPr sz="4600"/>
            </a:br>
            <a:r>
              <a:rPr b="1" lang="en-US" sz="4600" spc="-1" strike="noStrike">
                <a:solidFill>
                  <a:srgbClr val="000066"/>
                </a:solidFill>
                <a:latin typeface="Arial Narrow"/>
              </a:rPr>
              <a:t>2005 vs. 2004</a:t>
            </a:r>
            <a:endParaRPr b="1" lang="en-US" sz="4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22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CSC Limits vs Actual Flows: South to North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Dec 2004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841B3-F688-47F4-A469-53ACE770BE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CSC Limits vs Actual Flows: South to Houston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Dec 2005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5954D-D90E-408E-86A8-9EB1C13539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CSC Limits vs Actual Flows: South to Houston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Dec 2004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53452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64D07-767E-481E-A90A-C6ECC0C89C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CSC Limits vs Actual Flows: North to West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Dec 2005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45820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EAF77-AEA9-4773-BD3A-BEB8A3EAFD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Duration Curves: S_N</a:t>
            </a:r>
            <a:endParaRPr b="1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3505320"/>
            <a:ext cx="4343400" cy="2819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4343400" cy="2590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505320"/>
            <a:ext cx="4419720" cy="2819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572000" y="838080"/>
            <a:ext cx="4419720" cy="25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18A26-BE96-423A-907C-4135F35646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Duration Curves: S_H</a:t>
            </a:r>
            <a:endParaRPr b="1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2280" y="3733920"/>
            <a:ext cx="4343400" cy="2666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838080"/>
            <a:ext cx="4343400" cy="2819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648320" y="3733920"/>
            <a:ext cx="4343400" cy="266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52280" y="838080"/>
            <a:ext cx="4343400" cy="28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80E0D-688C-4C1D-BF67-6A5EC7E37A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Duration Curves: N_H</a:t>
            </a:r>
            <a:endParaRPr b="1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8320" y="3657600"/>
            <a:ext cx="4343400" cy="2666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2280" y="3657600"/>
            <a:ext cx="4419720" cy="2666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52280" y="838080"/>
            <a:ext cx="4419720" cy="2743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648320" y="838080"/>
            <a:ext cx="43434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E1F4A-EEA7-4F29-B745-3C53DE91A9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Unused CSC capacity : N_W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477120" cy="2819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371600" y="3657600"/>
            <a:ext cx="6477120" cy="266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37A60-BE31-4062-B39E-5CC914EC47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Unused CSC capacity : S_N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4267080" cy="2590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4267080" cy="2666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28600" y="990720"/>
            <a:ext cx="4343400" cy="2666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28600" y="3733920"/>
            <a:ext cx="434340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AB42D-987E-4BEC-A0DB-3865FC1E83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Unused CSC capacity : S_H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066680"/>
            <a:ext cx="4267080" cy="2590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4267080" cy="2590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28600" y="1066680"/>
            <a:ext cx="4267080" cy="2590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52280" y="3733920"/>
            <a:ext cx="434340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11FE2-2213-4564-97F8-7ACDE27A90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Outline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nal congestion – costs and qua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e and binding interv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ual CSC flows vs. lim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 limits vs. over cons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7BB03-8DBA-4DC4-B94E-EC59C6B66D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Unused CSC capacity : N_H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3657600"/>
            <a:ext cx="4267080" cy="2743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4267080" cy="2666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52280" y="914400"/>
            <a:ext cx="4343400" cy="2666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52280" y="3657600"/>
            <a:ext cx="43434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92E11-29E3-40A9-AEBF-6E97072E63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Minutes Above Limit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763120" cy="55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A4531-00B5-467A-9AEE-8D0DC1B887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Costs of Over-constraining vs. Under-constraining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5257800"/>
            <a:ext cx="4191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ng all binding intervals where the actual CSC flow is less than 100% of CSC lim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y the difference between the actual flow and 100% of the limit, times the Shadow Pr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5334120"/>
            <a:ext cx="43434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ng intervals where the actual flow is greater than the CSC lim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y the difference between the flow and the limit, times the average Shadow Pr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4343400" cy="4419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495680" y="762120"/>
            <a:ext cx="449604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816D7-C05C-4F19-AE13-7F59029AA8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 Narrow"/>
              </a:rPr>
              <a:t>CSC Congestion Charges collected from QSEs</a:t>
            </a:r>
            <a:endParaRPr b="1" lang="en-US" sz="27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10480" cy="449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457200" y="5410080"/>
          <a:ext cx="8077320" cy="911520"/>
        </p:xfrm>
        <a:graphic>
          <a:graphicData uri="http://schemas.openxmlformats.org/drawingml/2006/table">
            <a:tbl>
              <a:tblPr/>
              <a:tblGrid>
                <a:gridCol w="888840"/>
                <a:gridCol w="1113120"/>
                <a:gridCol w="1184040"/>
                <a:gridCol w="1111320"/>
                <a:gridCol w="1112760"/>
                <a:gridCol w="1333800"/>
                <a:gridCol w="1333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ill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076F-BC12-4895-A069-E4ABA49BF3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 Narrow"/>
              </a:rPr>
              <a:t>Number of Intervals Constraints were Binding</a:t>
            </a:r>
            <a:endParaRPr b="1" lang="en-US" sz="2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438280" y="5410080"/>
          <a:ext cx="4660920" cy="909720"/>
        </p:xfrm>
        <a:graphic>
          <a:graphicData uri="http://schemas.openxmlformats.org/drawingml/2006/table">
            <a:tbl>
              <a:tblPr/>
              <a:tblGrid>
                <a:gridCol w="851040"/>
                <a:gridCol w="744480"/>
                <a:gridCol w="785880"/>
                <a:gridCol w="942840"/>
                <a:gridCol w="708120"/>
                <a:gridCol w="628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D8D39-D1D9-4C54-AB47-0980D6A6B8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Summary of Zonal Congestion Occurrences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– Intervals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1143000"/>
          <a:ext cx="7377120" cy="5154480"/>
        </p:xfrm>
        <a:graphic>
          <a:graphicData uri="http://schemas.openxmlformats.org/drawingml/2006/table">
            <a:tbl>
              <a:tblPr/>
              <a:tblGrid>
                <a:gridCol w="782640"/>
                <a:gridCol w="784080"/>
                <a:gridCol w="652320"/>
                <a:gridCol w="578160"/>
                <a:gridCol w="658800"/>
                <a:gridCol w="606240"/>
                <a:gridCol w="652680"/>
                <a:gridCol w="777600"/>
                <a:gridCol w="652680"/>
                <a:gridCol w="579240"/>
                <a:gridCol w="652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DB44D-B007-4B59-898B-BDC87DD38F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Summary of Zonal Congestion Occurrences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- Days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219320" y="1066680"/>
          <a:ext cx="6850080" cy="5131080"/>
        </p:xfrm>
        <a:graphic>
          <a:graphicData uri="http://schemas.openxmlformats.org/drawingml/2006/table">
            <a:tbl>
              <a:tblPr/>
              <a:tblGrid>
                <a:gridCol w="761760"/>
                <a:gridCol w="565200"/>
                <a:gridCol w="652680"/>
                <a:gridCol w="564840"/>
                <a:gridCol w="652680"/>
                <a:gridCol w="565200"/>
                <a:gridCol w="652320"/>
                <a:gridCol w="565200"/>
                <a:gridCol w="652320"/>
                <a:gridCol w="565200"/>
                <a:gridCol w="652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44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440">
                      <a:solidFill>
                        <a:srgbClr val="5f5f5f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B7FCD-12F6-4BA5-B583-78A868BA2F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CSC Limits vs Actual Flows: North to Houston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Dec 2005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CEA8D-050B-42FD-9914-87923A011A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CSC Limits vs Actual Flows: North to Houston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Dec 2004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07080-AF51-4020-9A1F-1707E549D9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CSC Limits vs Actual Flows: South to North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Dec 2005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February 2006 / 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BAAE-8EA2-4F14-9864-AE3728473B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9:22:49Z</dcterms:created>
  <dc:creator>iflores</dc:creator>
  <dc:description/>
  <dc:language>en-US</dc:language>
  <cp:lastModifiedBy>ercot/if</cp:lastModifiedBy>
  <dcterms:modified xsi:type="dcterms:W3CDTF">2006-02-17T16:24:36Z</dcterms:modified>
  <cp:revision>93</cp:revision>
  <dc:subject/>
  <dc:title>CSC util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