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552A-6899-4C60-A063-BDE64E84E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C173-CB03-4D06-A1D3-E39D3A6F8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7155-5188-4D28-95CE-5F93FE988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7326-771F-46C9-93D5-92899B8D0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33D1-248C-4722-B699-3DEE121B8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4392-B9F4-4D55-A805-70509E652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482F-FB53-41C5-8C64-7B53860C5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4393-25F0-4B05-BB12-757751788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3840"/>
            <a:ext cx="8229600" cy="18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ED54-40CF-483A-964A-B28876FD6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A23A-1C19-44B1-AB44-B23DA3D32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CB62-0D1A-4D30-8A12-D4B38CEDF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1EF8-7407-4C36-9489-36F2D3524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440"/>
            <a:ext cx="289584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7E6C-3B13-46D7-9547-F48772CCD0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800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 TRANSMISS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463640"/>
            <a:ext cx="64008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Market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2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WG Proposal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4C40-03CB-4FBB-BD52-147EE4B95F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1: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4800600"/>
            <a:ext cx="441972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enerator Term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quiv. Hourly OOMC Start C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cost to start out of merit unit ($18k in this example) divided by total run hours (10 hrs in this exam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ning Cos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Output MW * Production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ion Cos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Running Cost + Equiv. Hourly OOMC Start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tor Revenue ($/hr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Output MW * Locational Marginal Price (LMP) at the bus + reimbursement for OOMC Start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tor Profi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Generator Revenue minus Production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4800600"/>
            <a:ext cx="441936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ad Term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ear Price ($/MW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oad Zone L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tial Cost ($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oad MW * Load Zone L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 Of Merit Uplift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Equivalent Hourly OOMC Start Cost allocated to each Load Zone on a load ratio share (LRS)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gestion Refund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[Initial Cost + Out Of Merit Uplift] minus Generator Revenue, which is allocated to each Load Zone on a LRS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Cost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Initial Cost minus Congestion Ref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 Load Cost ($/MW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Final Cost by Load Zone divided by Load Zone M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773280"/>
            <a:ext cx="9144000" cy="39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1A7E-40A5-4CE1-BE5C-045C467147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6568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2: Upgrade Transfer Capability by 1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393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27320" y="4952880"/>
            <a:ext cx="4689360" cy="12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23B2-40BF-491E-B33D-5F21D14C4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3: Upgrade Transfer Capability by 200 M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3933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27320" y="4876920"/>
            <a:ext cx="46893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79A8-6168-436E-A870-9D35F15F6C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4: Upgrade Transfer Capability by 3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3932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27320" y="4952880"/>
            <a:ext cx="4689360" cy="12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F152-976D-47C0-AF1D-DDCF4E5BAF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5: Upgrade Transfer Capability by 4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3930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27320" y="4876920"/>
            <a:ext cx="46893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71F4-BD86-4B94-9ED5-D14F21B1FB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6: Upgrade Transfer Capability by 5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3932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27320" y="4952880"/>
            <a:ext cx="4689360" cy="12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217E-F066-442C-A7B3-0CA83FED63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7: Upgrade Transfer Capability by 6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3932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27320" y="4952880"/>
            <a:ext cx="4689360" cy="12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AB918-23B7-4BC6-9814-7CC5D15A73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07160" y="354168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alition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gree that projects with a net present value (NPV) of Societal Surplus (SS), which exceeds the NPV of the incremental transmission cost of service (TCOS) should be bu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n recognition of how transmission is paid for in ERCOT (i.e. REPs/loads pay), we believe that projects whose NPV of Consumer Surplus (CS), which exceeds the NPV of TCOS should also be bu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benefit metr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09960" y="3381480"/>
            <a:ext cx="1636560" cy="765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38560" y="35211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V of SS &gt; NPV of T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381480"/>
            <a:ext cx="1636560" cy="765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352116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V of CS &gt; NPV of T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19040" y="3495600"/>
            <a:ext cx="1438560" cy="55260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86080" y="3446640"/>
            <a:ext cx="112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fy SS &amp; CS over life o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9680" y="377028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26000" y="377028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19600" y="4149720"/>
            <a:ext cx="144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694480" y="4151160"/>
            <a:ext cx="144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6320" y="4411800"/>
            <a:ext cx="1536840" cy="390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89160" y="4373640"/>
            <a:ext cx="145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G Recommend Project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23000" y="4403880"/>
            <a:ext cx="1536480" cy="390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65840" y="4365720"/>
            <a:ext cx="14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G Recommend Project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69080" y="3579840"/>
            <a:ext cx="666720" cy="390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376704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91976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est of 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support the proposed metric, which appropriately identifies and recommends projects with long-term system benefit (SS), as well as, near-term benefits to loads (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4680" y="41259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3497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0560" y="35067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411012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A9C2-99BE-43D0-AACE-56053F23FB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entation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d a two area system to examine a series of individual transmission upgrade proposals both incrementally (on a project by project basis) and cumulatively (as a set of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a project that has negative Consumer Surplus, but positive Societal Surplus will be revi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a worthwhile project that passes both the Societal and Consumer Surplus test will be revi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a worthwhile project that passes only the Consumer Surplus will be revi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B9EF-47A1-4549-AA01-CB4C0F3EAD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1: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800600"/>
            <a:ext cx="441972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enerator Term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quiv. Hourly OOMC Start C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cost to start out of merit unit ($18k in this example) divided by total run hours (10 hrs in this exam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ning Cos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Output MW * Production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ion Cos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Running Cost + Equiv. Hourly OOMC Start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tor Revenue ($/hr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Output MW * Locational Marginal Price (LMP) at the bus + reimbursement for OOMC Start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tor Profit ($/h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Generator Revenue minus Production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4800600"/>
            <a:ext cx="441936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ad Term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ear Price ($/MW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oad Zone L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tial Cost ($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oad MW * Load Zone L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 Of Merit Uplift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Equivalent Hourly OOMC Start Cost allocated to each Load Zone on a load ratio share (LRS)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gestion Refund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[Initial Cost + Out Of Merit Uplift] minus Generator Revenue, which is allocated to each Load Zone on a LRS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Cost ($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Initial Cost minus Congestion Ref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 Load Cost ($/MWh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Final Cost by Load Zone divided by Load Zone M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773280"/>
            <a:ext cx="9144000" cy="3933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14360" y="3114720"/>
            <a:ext cx="21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P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1000" y="3114720"/>
            <a:ext cx="21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1329-4D8B-4893-B438-78197824FC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7: Completely De-Bottlenecked Upgrad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9144000" cy="3932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61372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refer to the Appendix for a detailed project-by-project walk forward of successive projects that build serially upon one another to achieve the end state shown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14360" y="3114720"/>
            <a:ext cx="21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P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1000" y="3114720"/>
            <a:ext cx="21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A8C6-2DAE-48DC-B24D-27D3A08BC4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75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55680" y="1911240"/>
            <a:ext cx="7634160" cy="2349720"/>
            <a:chOff x="355680" y="1911240"/>
            <a:chExt cx="7634160" cy="2349720"/>
          </a:xfrm>
        </p:grpSpPr>
        <p:sp>
          <p:nvSpPr>
            <p:cNvPr id="81" name=""/>
            <p:cNvSpPr/>
            <p:nvPr/>
          </p:nvSpPr>
          <p:spPr>
            <a:xfrm>
              <a:off x="7305840" y="3814920"/>
              <a:ext cx="674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55680" y="1911240"/>
              <a:ext cx="7634160" cy="2349720"/>
              <a:chOff x="355680" y="1911240"/>
              <a:chExt cx="7634160" cy="2349720"/>
            </a:xfrm>
          </p:grpSpPr>
          <p:sp>
            <p:nvSpPr>
              <p:cNvPr id="83" name=""/>
              <p:cNvSpPr/>
              <p:nvPr/>
            </p:nvSpPr>
            <p:spPr>
              <a:xfrm>
                <a:off x="355680" y="3376440"/>
                <a:ext cx="6954840" cy="884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111240" indent="-111240">
                  <a:spcBef>
                    <a:spcPts val="37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A project with a large Societal Surplus, but a Negative Consumer Surplus, is an indication that more upgrades are likely neede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1240" indent="-111240">
                  <a:spcBef>
                    <a:spcPts val="37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ject would be recommended if NPV of SS &gt; NPV of TCO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7989840" y="1911240"/>
                <a:ext cx="0" cy="1913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7305480" y="1916280"/>
                <a:ext cx="67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55680" y="2092320"/>
            <a:ext cx="7900920" cy="2909880"/>
            <a:chOff x="355680" y="2092320"/>
            <a:chExt cx="7900920" cy="2909880"/>
          </a:xfrm>
        </p:grpSpPr>
        <p:sp>
          <p:nvSpPr>
            <p:cNvPr id="87" name=""/>
            <p:cNvSpPr/>
            <p:nvPr/>
          </p:nvSpPr>
          <p:spPr>
            <a:xfrm>
              <a:off x="355680" y="4348080"/>
              <a:ext cx="6954840" cy="6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 projects where the Societal Surplus consists entirely of Consumer Surpl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ach project would be recommended if NPV of SS &gt; NPV of T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53360" y="2092320"/>
              <a:ext cx="162000" cy="480960"/>
            </a:xfrm>
            <a:custGeom>
              <a:avLst/>
              <a:gdLst>
                <a:gd name="textAreaLeft" fmla="*/ 0 w 162000"/>
                <a:gd name="textAreaRight" fmla="*/ 58320 w 162000"/>
                <a:gd name="textAreaTop" fmla="*/ 12240 h 480960"/>
                <a:gd name="textAreaBottom" fmla="*/ 4687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10520" y="4705200"/>
              <a:ext cx="94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256600" y="2330280"/>
              <a:ext cx="0" cy="237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7562880" y="23353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55680" y="2825640"/>
            <a:ext cx="8186760" cy="3113280"/>
            <a:chOff x="355680" y="2825640"/>
            <a:chExt cx="8186760" cy="3113280"/>
          </a:xfrm>
        </p:grpSpPr>
        <p:sp>
          <p:nvSpPr>
            <p:cNvPr id="93" name=""/>
            <p:cNvSpPr/>
            <p:nvPr/>
          </p:nvSpPr>
          <p:spPr>
            <a:xfrm>
              <a:off x="355680" y="5081760"/>
              <a:ext cx="696420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with substantially smaller Societal Surplus than Consumer Surpl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ithout considering a Consumer Surplus metric this project may not be funded leaving loads / REPs in a precarious situ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24560" y="5529240"/>
              <a:ext cx="12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542440" y="2825640"/>
              <a:ext cx="0" cy="270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7314840" y="2825640"/>
              <a:ext cx="12222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5680" y="3073320"/>
            <a:ext cx="8462880" cy="3568680"/>
            <a:chOff x="355680" y="3073320"/>
            <a:chExt cx="8462880" cy="3568680"/>
          </a:xfrm>
        </p:grpSpPr>
        <p:sp>
          <p:nvSpPr>
            <p:cNvPr id="98" name=""/>
            <p:cNvSpPr/>
            <p:nvPr/>
          </p:nvSpPr>
          <p:spPr>
            <a:xfrm>
              <a:off x="355680" y="6014880"/>
              <a:ext cx="6964200" cy="62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with negligible Societal Surplus and negative Consumer Surpl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ads / REPs shouldn’t be required to fund this proje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0520" y="6334200"/>
              <a:ext cx="1508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813880" y="3073320"/>
              <a:ext cx="4680" cy="326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314840" y="3078000"/>
              <a:ext cx="149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3880" y="614520"/>
            <a:ext cx="6956640" cy="25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9B32-9EC6-4978-B4B9-CF9506F7EA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275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serva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55680" y="2144880"/>
            <a:ext cx="7900920" cy="3286080"/>
            <a:chOff x="355680" y="2144880"/>
            <a:chExt cx="7900920" cy="3286080"/>
          </a:xfrm>
        </p:grpSpPr>
        <p:sp>
          <p:nvSpPr>
            <p:cNvPr id="105" name=""/>
            <p:cNvSpPr/>
            <p:nvPr/>
          </p:nvSpPr>
          <p:spPr>
            <a:xfrm>
              <a:off x="355680" y="3605040"/>
              <a:ext cx="6954840" cy="182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11240" indent="-11124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 is important to look at the cumulative Societal &amp; Consumer Surplus of the package of individual projects within a project 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11240" indent="-11124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the de-bottlenecking of a constraint is stopped too soon, the loads / REPs will be left paying for a set of upgrades without recognizing a fair return for their inves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53360" y="2144880"/>
              <a:ext cx="152280" cy="11109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0960"/>
                <a:gd name="textAreaBottom" fmla="*/ 1082160 h 11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10520" y="4505400"/>
              <a:ext cx="94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251920" y="2692080"/>
              <a:ext cx="4680" cy="180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562880" y="26971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55680" y="3054240"/>
            <a:ext cx="8186760" cy="3487680"/>
            <a:chOff x="355680" y="3054240"/>
            <a:chExt cx="8186760" cy="3487680"/>
          </a:xfrm>
        </p:grpSpPr>
        <p:sp>
          <p:nvSpPr>
            <p:cNvPr id="111" name=""/>
            <p:cNvSpPr/>
            <p:nvPr/>
          </p:nvSpPr>
          <p:spPr>
            <a:xfrm>
              <a:off x="355680" y="5619600"/>
              <a:ext cx="6964200" cy="92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example illustrates that projects up through Scenario 6 should be approved to properly treat the loads / REPs who are funding the project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4560" y="6095880"/>
              <a:ext cx="12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537400" y="3054240"/>
              <a:ext cx="5040" cy="303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7314840" y="3054240"/>
              <a:ext cx="12222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9840" y="836640"/>
            <a:ext cx="6956280" cy="257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8AEE-4D7B-4232-A101-FFEEDF0CA0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158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illustr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the potential concern of approving a project based on Societal Surplus benefits, but has negative Consumer Surplus is a non issue.  It means that more upgrade projects are still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t is necessary to approve projects based on Consumer Surplus even if Societal Surplus alone doesn’t justify it.  This is necessary to allow loads to recognize a fair &amp; timely return on their transmission upgrade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833640"/>
            <a:ext cx="82296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est of 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the proposed economic benefit metric shown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7160" y="486576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09960" y="4705200"/>
            <a:ext cx="1636560" cy="765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38560" y="48448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V of SS &gt; NPV of T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705200"/>
            <a:ext cx="1636560" cy="765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8448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V of CS &gt; NPV of T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19040" y="4819680"/>
            <a:ext cx="1438560" cy="55260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86080" y="4770360"/>
            <a:ext cx="112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fy SS &amp; CS over life of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9680" y="509436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26000" y="509436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819600" y="5473800"/>
            <a:ext cx="144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694480" y="5475240"/>
            <a:ext cx="144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6320" y="5735520"/>
            <a:ext cx="1536840" cy="390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89160" y="5697360"/>
            <a:ext cx="145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G Recommend Project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23000" y="5727600"/>
            <a:ext cx="1536480" cy="390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65840" y="5689440"/>
            <a:ext cx="14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G Recommend Project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69080" y="4903920"/>
            <a:ext cx="666720" cy="390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509112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4680" y="5450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8211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056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543384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103A8-CC26-4F2F-88B3-274863BEB1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665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BD92-FDDD-407D-A4D1-EC49AF1CAE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4:00:50Z</dcterms:created>
  <dc:creator>Registered User</dc:creator>
  <dc:description/>
  <dc:language>en-US</dc:language>
  <cp:lastModifiedBy>Registered User</cp:lastModifiedBy>
  <dcterms:modified xsi:type="dcterms:W3CDTF">2006-03-16T15:56:36Z</dcterms:modified>
  <cp:revision>49</cp:revision>
  <dc:subject/>
  <dc:title>Slide 1</dc:title>
</cp:coreProperties>
</file>