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89080" y="701280"/>
            <a:ext cx="4633920" cy="347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xt couple slides refer to congestion management for energy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ayments and charges are determined the same way as the capacity ones were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congestion management for capacity referred to the amount of resources ERCOT purchased. Energy refers to the amount of resources actually used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xt couple slides refer to congestion management for energy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ayments and charges are determined the same way as the capacity ones were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congestion management for capacity referred to the amount of resources ERCOT purchased. Energy refers to the amount of resources actually used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721-6E2F-4AB1-889C-9AA29ECD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59F-AFC9-422C-8966-5E868B2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4BB-05D7-4938-955B-9B23781E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8A2-1FC4-4D26-841A-8031638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C97-CDAC-4EB9-8105-9FB0A2D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4C2-C899-46AE-B033-92286A4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2D0-C441-481B-8237-01056A6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7BE-AC4E-4A46-9072-620E2E02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1B8-0AAF-404F-9117-82AA1771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B27-09AE-497C-A52B-862EFD7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D20-5D7D-463B-A906-97D4B1C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17A-5D96-4C41-BFED-98615E1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A63D-05CF-449C-888D-561599E9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3880"/>
            <a:ext cx="83059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3960" indent="-342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R 65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342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PRS Cost Recovery Process Cla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342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03-22-06 WMS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52578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and B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67C-65F9-48C7-AAB0-CE45312C90D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ayment to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of RPRS are paid for three distin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l Congestion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 1 – Local RP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acity Insufficiency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 2 - RP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Zonal Congestion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 2 - RP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B27-6A7C-48AA-AB9B-5390086DA1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ayment to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select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l Re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ai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ource Category Generic Startup Cost for starting (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CGSC of the Resource Typ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ource Category Minimum Energy Cost minus MCPE for operating at the L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1240" y="6400800"/>
            <a:ext cx="133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tion 6.8.1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47B-B5C7-49FE-824A-C30009F43E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040" y="1360440"/>
            <a:ext cx="8169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cal RPRS start up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“Hot” or “Cold” start (Combined Cycl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= Less than 5 hours from shut down to star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= 5 hours or more from shut down to start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33720" y="4235400"/>
                <a:ext cx="3733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P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CGS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RPH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62360" y="151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1240" y="6400800"/>
            <a:ext cx="133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tion 6.8.1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865-7580-4A22-BE7A-DBEC58DC342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1360440"/>
            <a:ext cx="8169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cal RPRS Operating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will get paid for what it generated, up to it’s L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3657600"/>
                <a:ext cx="84582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PO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62360" y="151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6160" y="6400800"/>
            <a:ext cx="133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tion 6.8.1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E4C-84FF-4787-91CE-25CDB3F249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R 651 - RPRS Cost Recovery Process Cla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6160" y="6400800"/>
            <a:ext cx="133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tion 6.8.1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ineate the process ERCOT is to use when making payments for cost recovery request associated with RPRS instr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rify payments for cost categories approved in an executive session of the Board are to occur on a Resettlement Statement rather than waiting for the True Up State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0400" y="5486400"/>
            <a:ext cx="66711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This PRR does not affect the RPRs Settlement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094-D94B-44E3-846F-D25AAC37C1A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3/22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7T15:51:12Z</dcterms:created>
  <dc:creator>James Krajecki</dc:creator>
  <dc:description/>
  <cp:keywords>ERCOT Retail Pros Cons Commercial Operations</cp:keywords>
  <dc:language>en-US</dc:language>
  <cp:lastModifiedBy>igonzalez</cp:lastModifiedBy>
  <cp:lastPrinted>2000-04-06T20:17:02Z</cp:lastPrinted>
  <dcterms:modified xsi:type="dcterms:W3CDTF">2006-03-17T21:11:02Z</dcterms:modified>
  <cp:revision>290</cp:revision>
  <dc:subject>Texas Commercial Operations</dc:subject>
  <dc:title>Texas Prepares for the Retail Market</dc:title>
</cp:coreProperties>
</file>