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FF05-7D25-4491-88CD-43E6543EF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9DC8-67F0-437A-AE21-20509C422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F7E9-020E-48A8-961A-7B70E34EC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7C0F-0D8A-46EB-9495-E1E97BDBE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FBCE3-A2FE-43A9-9519-C2ADF1EF8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F9F03-DA60-4300-8BBE-1C5E519F8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FA966-411B-486B-AD0E-62C2D8D5C8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A715-A88B-4029-A7D2-2CAA9E7A4E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4BC39-7B1A-4840-884B-903C75C299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B228-7738-4F6B-BB33-A57CD2FEB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BE91C-BE3B-4F49-8A44-7B635634E3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A710-3BA9-4034-8BF6-1D9BAABC5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B4BCE-C1CF-4EC7-ACC7-040AAE587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519C6-5C7F-4B5B-B673-DEBCD396EB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8B11C-5FDA-429E-AA64-5AEA5DE4C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3302A-C144-419A-95D8-00A78D8C0F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09CC-D5D7-4729-AB48-FBC2A0C44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81A0-B593-4A03-BFE0-5FC0005ED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962A-99A7-4607-88C5-0AFD1A8ED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078E-9561-415E-B8FC-37D2700F4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21F5-3BD6-4011-926A-7500BD873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74F8-7EE5-4227-B1D9-41E010DC2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1583-4E37-4326-9238-7AA00F537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CBA3-6FC8-4F83-A4AB-BDEBB1B9E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FDB4-7D86-4F0F-8297-C9EC6791E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E69-F764-407A-A25E-49D68A7535D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7925040" cy="1981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62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2003-2005</a:t>
            </a: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d March 1,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3EFC-9DD2-4747-9A8B-5D233B80B1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548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2AF4-CAC4-49B3-AEC8-D50553B4D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763D-7184-4BA6-A63C-A60E77985F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10320" cy="541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E4F6-9BA5-42A1-BC95-0E6D62117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4597-D997-4B5F-BAC8-976A5220D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C99A-F8D8-4037-8194-1CABB6C88B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48AF-34E1-4BFE-ACBB-E1350FCFB4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CDAF-F178-4952-A46F-A9E66D604B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Totals by Unit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0B6D-5C9C-4C63-A0AF-FCB70B871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CB53-F94E-4E20-A2C5-1CFBDB335A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Comparison 2004 vs. 200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Local Congestion costs in 2005 were lower than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Up and OOMC costs were slightly hig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005 Fuel Index was 40% higher than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C098-0177-4508-BD47-5385CCD8D1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A4E5-611E-4002-98BF-54B35FBF58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Fuel Index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55760" y="2413080"/>
          <a:ext cx="4630680" cy="287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5760" y="2413080"/>
                    <a:ext cx="4630680" cy="28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036800"/>
            <a:ext cx="817236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7AAC-C8E5-4F27-B469-E4E17D14FA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Average MCPE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55760" y="2413080"/>
          <a:ext cx="4630680" cy="287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5760" y="2413080"/>
                    <a:ext cx="4630680" cy="28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9144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F2D3-1862-41D5-B473-4B44D76DC8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What Are Local Congestion Costs?</a:t>
            </a: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OM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generator that did not plan to be on-line is paid to start and run at minim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it Specific - 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generator is paid to operate at a higher output than planned. Includes OOME and LB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it Specific - Dow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A generator is paid to operate at a lower output than planned. Includes OOME and LB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M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Reliability Must Run – A generator is paid to be available and operate as directed when the owner would have otherwise suspended operation for an extended period of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1088-C2C4-4A31-A436-57BC9623DE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800"/>
            </a:b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($ Millions)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676520"/>
          <a:ext cx="8305920" cy="4367160"/>
        </p:xfrm>
        <a:graphic>
          <a:graphicData uri="http://schemas.openxmlformats.org/drawingml/2006/table">
            <a:tbl>
              <a:tblPr/>
              <a:tblGrid>
                <a:gridCol w="2971800"/>
                <a:gridCol w="1981440"/>
                <a:gridCol w="1600200"/>
                <a:gridCol w="175248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005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5.3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78.9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82.7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2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5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 Dow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0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5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38.7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2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00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5.2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79.0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62.3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2ACD-EBD9-4DC7-8A6D-EFA2AF721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77840"/>
          <a:ext cx="9144000" cy="50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77840"/>
                    <a:ext cx="9144000" cy="50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9AFF-C5D7-431B-882D-D26FB96321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523880"/>
          <a:ext cx="8382240" cy="436248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2057400"/>
                <a:gridCol w="1905120"/>
              </a:tblGrid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 Mill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Wh(000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/MW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4.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 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5.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Specific- Dow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4.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00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353.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4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.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7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2005 Congestion Cost</a:t>
            </a:r>
            <a:br>
              <a:rPr sz="3400"/>
            </a:b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$ Per MW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7BFB-0DCA-4B62-8E0B-DD1AFA25D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4920" y="1523880"/>
          <a:ext cx="8305200" cy="4343040"/>
        </p:xfrm>
        <a:graphic>
          <a:graphicData uri="http://schemas.openxmlformats.org/drawingml/2006/table">
            <a:tbl>
              <a:tblPr/>
              <a:tblGrid>
                <a:gridCol w="2351160"/>
                <a:gridCol w="2264040"/>
                <a:gridCol w="1980720"/>
                <a:gridCol w="1709280"/>
              </a:tblGrid>
              <a:tr h="81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 Mill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Wh (000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$/MW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C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5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E Dow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2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034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2.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2004 Congestion Cost</a:t>
            </a:r>
            <a:br>
              <a:rPr sz="3400"/>
            </a:b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$ Per MW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C248-1F47-409D-8EB8-8A131C192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836A-4FDB-4F98-B4DC-E7EB7F1900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/updated 0301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2FAA-8E45-4F5C-AC69-9B13E7FFF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iflores</dc:creator>
  <dc:description/>
  <dc:language>en-US</dc:language>
  <cp:lastModifiedBy>ercot/if</cp:lastModifiedBy>
  <dcterms:modified xsi:type="dcterms:W3CDTF">2006-03-01T22:52:58Z</dcterms:modified>
  <cp:revision>112</cp:revision>
  <dc:subject/>
  <dc:title>CSC uti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