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2E9746-7D76-45C7-8277-C4700A18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hich have been identified as mandatory before go-live have been fixed.  There are additional improvements which are expected to take place, but these are performance or flexibility issues – not changes to the marke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ing the LaaR, ERCOT is preparing some analysis for the March Demand Side Working Group meeting.   Mark Patterson from ERCOT is the primary contact for this 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rocurement stats listed are from our tes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participant should set the LSL or HSL of a steam unit to reflect the configuration they intend to operate in if stru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rrently there are no plans to expand RPRS to handle Combined Cycles differently.  Efforts to determine appropriate Combined Cycle Unit Commitment algorithms are taking place in the Nodal effor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COT reserves the rights not to OOMC the CT based on Operator’s judgment – e.g. The operator sees that the CT was already scheduled, 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863-078C-4B55-A7AA-BDDB94F1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6900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6D2-084B-4760-B9DC-2E5D13DF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079-C3ED-4DC8-AFF3-039BAEB3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347-58A7-44E6-9EEE-3FE20FB4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560" y="304560"/>
            <a:ext cx="803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AB3-018D-4D79-82EF-CB7E8A9E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6900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6900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1426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6900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BD2-1484-47DD-A583-E12FC0EE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6A0-B739-46BC-85E5-908E12E6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C1D-B966-462F-81FE-2BCFDB1C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560" y="304560"/>
            <a:ext cx="803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82F-23AF-4C0C-937F-881C2726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4E6-EA58-4C48-A239-BFA2130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6900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23A-6A7A-4D22-A9BC-79AEE293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1426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6900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EC6-2E03-4075-8DC0-4EC0AF53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280" y="6248520"/>
            <a:ext cx="1219320" cy="49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78168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95280" y="6400440"/>
            <a:ext cx="5562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120" y="6381360"/>
            <a:ext cx="381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7C43-BAB3-4B39-94B1-6CB995F864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77724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52280" y="6248520"/>
            <a:ext cx="12193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1295280" y="6400440"/>
            <a:ext cx="5562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PRS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lesale Market Subcommitte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ch 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200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22nd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684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RS Stat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Upd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285-0971-4C2B-97E5-2DDD1FC8A8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2nd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nce Janu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796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 Notice Issued March 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nt Live’ March 20 (Operating Day March 21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new issu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A69-5E3A-4EB4-99F2-F51C09003A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2nd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st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ily emails since March 8, 2006 by Client Re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ket Not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rket Clearing Price for Capa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W Procured for each ste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vidual QSE ema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QSEs with Procurements on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ach Resource procu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ur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BC6-6F46-4977-B6C7-0B40E60384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2nd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2057400"/>
          <a:ext cx="7739280" cy="1460520"/>
        </p:xfrm>
        <a:graphic>
          <a:graphicData uri="http://schemas.openxmlformats.org/drawingml/2006/table">
            <a:tbl>
              <a:tblPr/>
              <a:tblGrid>
                <a:gridCol w="3533760"/>
                <a:gridCol w="1265400"/>
                <a:gridCol w="1506600"/>
                <a:gridCol w="1433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 Procurements/h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9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y &amp; Zonal/h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566640" y="1143000"/>
            <a:ext cx="800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 Results – March 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hrough 2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l Results – No units have been selected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8D3-F58E-441F-9C0B-25672CEF00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2nd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ture Upda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ould WMS like to see in the next meetin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3ED-DB2E-41F7-9564-2AA9ED600F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2nd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03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s?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on Whittle, 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87A-22D7-4C9F-AF04-9C3EDE8168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2nd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20:24:30Z</dcterms:created>
  <dc:creator>Brandon T. Whittle</dc:creator>
  <dc:description/>
  <dc:language>en-US</dc:language>
  <cp:lastModifiedBy>Brandon T. Whittle</cp:lastModifiedBy>
  <dcterms:modified xsi:type="dcterms:W3CDTF">2006-03-22T00:36:14Z</dcterms:modified>
  <cp:revision>167</cp:revision>
  <dc:subject/>
  <dc:title>EMMS Release 4 Update</dc:title>
</cp:coreProperties>
</file>