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A3E-3EE8-404B-9599-B11A049D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856-16F8-4A49-A99E-B35C3E68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417-3165-4583-BB04-3958A300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78F-9C39-4023-9ADC-84EB86A7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1CD1-0E85-4803-A588-4333F7EC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03BE-9170-4F97-8EFC-B5BC549D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7559-CEA8-47DA-A9CB-697F2DD8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8F57-475E-4C35-85F2-31D973AD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4B0E-7F19-4A78-BEF5-5480EE1F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49DB-3A89-4594-BCFC-848EA367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86A8-414F-43A8-B3B8-FBA8CB24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2B8-9BD5-4F33-A950-DD72B9E4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0F34-DADA-47C8-885B-C5482D2C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1514-812F-44D6-9967-5FB5148E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4F67-E87B-45F1-93FE-02E08CB9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19D3-F5AD-4BC3-8B2B-A7DFDA3F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C194-75A9-46B7-8C27-D3DB9FB6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E4E-223B-45B5-8E7D-4FFDCBF3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B4E-4243-429D-8228-C41DAB66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01E-1977-4DA8-8BA6-6A76A85E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CCA-5429-483B-AE54-E06FB16A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455-F93A-4E10-A994-2FDFE98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5D3-4FBC-42B0-B4DD-7C80FC3D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1B3-3B7B-4019-90BC-CFA4914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B9B2-EA9E-441F-863E-417CB665B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D0C9-40C3-4B4A-A73D-F56B35EDB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PRR 6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ly Modeling the Reactive Behavior of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tate of Aff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97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ent State of Affairs in ERCOT (Protoc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37456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SE representing a Generation Entity that has Generation Resources connected to a TDSP shall provide the following Real Time data to ERCOT for each individual generating unit at a Generation Resource plant location and ERCOT will make the data available to the Generation Resource’s host TDSP (at TDSP expens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or net real po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or net Reactive Po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ross quantities are provided, the plant auxiliary Load data will also be suppli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83840" y="471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orial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99920" y="1623960"/>
            <a:ext cx="404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E must prov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MW/MVAr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&amp; Plant MW/M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= Gross – Plant - XF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80" y="1507680"/>
            <a:ext cx="5530320" cy="4647600"/>
            <a:chOff x="1080" y="1507680"/>
            <a:chExt cx="5530320" cy="4647600"/>
          </a:xfrm>
        </p:grpSpPr>
        <p:grpSp>
          <p:nvGrpSpPr>
            <p:cNvPr id="91" name=""/>
            <p:cNvGrpSpPr/>
            <p:nvPr/>
          </p:nvGrpSpPr>
          <p:grpSpPr>
            <a:xfrm>
              <a:off x="577800" y="1507680"/>
              <a:ext cx="3609360" cy="4647600"/>
              <a:chOff x="577800" y="1507680"/>
              <a:chExt cx="3609360" cy="46476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907280" y="3493800"/>
                <a:ext cx="1015200" cy="538920"/>
                <a:chOff x="1907280" y="3493800"/>
                <a:chExt cx="1015200" cy="53892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1907280" y="3775320"/>
                  <a:ext cx="1014840" cy="257400"/>
                  <a:chOff x="1907280" y="3775320"/>
                  <a:chExt cx="1014840" cy="2574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1907280" y="377532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161080" y="378324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2414880" y="3783240"/>
                    <a:ext cx="25308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668320" y="378324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907640" y="3493800"/>
                  <a:ext cx="1014840" cy="257400"/>
                  <a:chOff x="1907640" y="3493800"/>
                  <a:chExt cx="1014840" cy="257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10800000">
                    <a:off x="2668680" y="350172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0800000">
                    <a:off x="2414880" y="349380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0800000">
                    <a:off x="2161800" y="3493800"/>
                    <a:ext cx="25308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0800000">
                    <a:off x="1907640" y="349380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" name=""/>
              <p:cNvSpPr/>
              <p:nvPr/>
            </p:nvSpPr>
            <p:spPr>
              <a:xfrm flipV="1">
                <a:off x="2412360" y="3927600"/>
                <a:ext cx="0" cy="7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2396520" y="1507680"/>
                <a:ext cx="0" cy="198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77800" y="4704840"/>
                <a:ext cx="3609360" cy="1450440"/>
                <a:chOff x="577800" y="4704840"/>
                <a:chExt cx="3609360" cy="14504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111120" y="5236920"/>
                  <a:ext cx="1076040" cy="822600"/>
                </a:xfrm>
                <a:prstGeom prst="ellipse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577800" y="5333400"/>
                  <a:ext cx="1266120" cy="821880"/>
                  <a:chOff x="577800" y="5333400"/>
                  <a:chExt cx="1266120" cy="821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77800" y="5333400"/>
                    <a:ext cx="632880" cy="82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1210680" y="5333400"/>
                    <a:ext cx="632880" cy="82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77800" y="5333400"/>
                    <a:ext cx="1266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>
                  <a:off x="1211040" y="4704840"/>
                  <a:ext cx="247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11040" y="4704840"/>
                  <a:ext cx="0" cy="628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682080" y="4704840"/>
                  <a:ext cx="0" cy="532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3979080" y="4748040"/>
              <a:ext cx="86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o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80" y="4767120"/>
              <a:ext cx="126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x/Pl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8560" y="351936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FMR Consum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22160" y="24447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42920" y="4581360"/>
              <a:ext cx="65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383840" y="4581360"/>
              <a:ext cx="65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498760" y="2314080"/>
              <a:ext cx="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“Reali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5040" y="5464080"/>
            <a:ext cx="652320" cy="65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12480" y="3774600"/>
            <a:ext cx="616320" cy="429120"/>
            <a:chOff x="2112480" y="3774600"/>
            <a:chExt cx="616320" cy="429120"/>
          </a:xfrm>
        </p:grpSpPr>
        <p:grpSp>
          <p:nvGrpSpPr>
            <p:cNvPr id="124" name=""/>
            <p:cNvGrpSpPr/>
            <p:nvPr/>
          </p:nvGrpSpPr>
          <p:grpSpPr>
            <a:xfrm>
              <a:off x="2112840" y="3998880"/>
              <a:ext cx="615960" cy="204840"/>
              <a:chOff x="2112840" y="3998880"/>
              <a:chExt cx="615960" cy="204840"/>
            </a:xfrm>
          </p:grpSpPr>
          <p:sp>
            <p:nvSpPr>
              <p:cNvPr id="125" name=""/>
              <p:cNvSpPr/>
              <p:nvPr/>
            </p:nvSpPr>
            <p:spPr>
              <a:xfrm>
                <a:off x="2112840" y="399888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66920" y="400536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421000" y="4005360"/>
                <a:ext cx="15372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74720" y="400536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112480" y="3774600"/>
              <a:ext cx="615960" cy="204840"/>
              <a:chOff x="2112480" y="3774600"/>
              <a:chExt cx="615960" cy="204840"/>
            </a:xfrm>
          </p:grpSpPr>
          <p:sp>
            <p:nvSpPr>
              <p:cNvPr id="130" name=""/>
              <p:cNvSpPr/>
              <p:nvPr/>
            </p:nvSpPr>
            <p:spPr>
              <a:xfrm rot="10800000">
                <a:off x="2574360" y="378108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0800000">
                <a:off x="2420280" y="377460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0800000">
                <a:off x="2266560" y="3774600"/>
                <a:ext cx="15372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0800000">
                <a:off x="2112480" y="377460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 flipV="1">
            <a:off x="2419200" y="4119120"/>
            <a:ext cx="0" cy="13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419200" y="2238480"/>
            <a:ext cx="0" cy="157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35600" y="1315800"/>
            <a:ext cx="3608640" cy="4647240"/>
            <a:chOff x="4035600" y="1315800"/>
            <a:chExt cx="3608640" cy="4647240"/>
          </a:xfrm>
        </p:grpSpPr>
        <p:grpSp>
          <p:nvGrpSpPr>
            <p:cNvPr id="137" name=""/>
            <p:cNvGrpSpPr/>
            <p:nvPr/>
          </p:nvGrpSpPr>
          <p:grpSpPr>
            <a:xfrm>
              <a:off x="5365080" y="3301920"/>
              <a:ext cx="1015200" cy="538920"/>
              <a:chOff x="5365080" y="3301920"/>
              <a:chExt cx="1015200" cy="538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5365080" y="3583440"/>
                <a:ext cx="1014840" cy="257400"/>
                <a:chOff x="5365080" y="3583440"/>
                <a:chExt cx="1014840" cy="25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365080" y="35834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618880" y="35913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872680" y="359136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26120" y="35913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365440" y="3301920"/>
                <a:ext cx="1014840" cy="257400"/>
                <a:chOff x="5365440" y="3301920"/>
                <a:chExt cx="1014840" cy="257400"/>
              </a:xfrm>
            </p:grpSpPr>
            <p:sp>
              <p:nvSpPr>
                <p:cNvPr id="144" name=""/>
                <p:cNvSpPr/>
                <p:nvPr/>
              </p:nvSpPr>
              <p:spPr>
                <a:xfrm rot="10800000">
                  <a:off x="6126480" y="33098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0800000">
                  <a:off x="5872680" y="330192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0800000">
                  <a:off x="5619600" y="330192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0800000">
                  <a:off x="5365440" y="330192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 flipV="1">
              <a:off x="5870160" y="3735720"/>
              <a:ext cx="0" cy="7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53960" y="1315800"/>
              <a:ext cx="0" cy="19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035600" y="4512600"/>
              <a:ext cx="3608640" cy="1450440"/>
              <a:chOff x="4035600" y="4512600"/>
              <a:chExt cx="3608640" cy="1450440"/>
            </a:xfrm>
          </p:grpSpPr>
          <p:sp>
            <p:nvSpPr>
              <p:cNvPr id="151" name=""/>
              <p:cNvSpPr/>
              <p:nvPr/>
            </p:nvSpPr>
            <p:spPr>
              <a:xfrm>
                <a:off x="6568560" y="5044680"/>
                <a:ext cx="1075680" cy="8226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4035600" y="5141160"/>
                <a:ext cx="1266120" cy="821880"/>
                <a:chOff x="4035600" y="5141160"/>
                <a:chExt cx="1266120" cy="8218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035600" y="514116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4668480" y="514116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35600" y="5141160"/>
                  <a:ext cx="126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4668840" y="4512600"/>
                <a:ext cx="247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68840" y="4512600"/>
                <a:ext cx="0" cy="62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39520" y="4512600"/>
                <a:ext cx="0" cy="53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7436880" y="455616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58880" y="45752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/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6360" y="332748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FM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300360" y="438948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42000" y="4389480"/>
            <a:ext cx="65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956200" y="2122200"/>
            <a:ext cx="600480" cy="654120"/>
            <a:chOff x="5956200" y="2122200"/>
            <a:chExt cx="600480" cy="654120"/>
          </a:xfrm>
        </p:grpSpPr>
        <p:sp>
          <p:nvSpPr>
            <p:cNvPr id="165" name=""/>
            <p:cNvSpPr/>
            <p:nvPr/>
          </p:nvSpPr>
          <p:spPr>
            <a:xfrm>
              <a:off x="5979600" y="22525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956200" y="2122200"/>
              <a:ext cx="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84880" y="461484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266920" y="4638240"/>
            <a:ext cx="0" cy="65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6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: As System Becomes More Vulnerable to Voltage Collapse, Reactive Reserve Modeling Becomes Cru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63640" y="1123920"/>
            <a:ext cx="0" cy="475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63640" y="3516480"/>
            <a:ext cx="645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3640" y="1386000"/>
            <a:ext cx="5862600" cy="4217760"/>
          </a:xfrm>
          <a:custGeom>
            <a:avLst/>
            <a:gdLst/>
            <a:ahLst/>
            <a:rect l="l" t="t" r="r" b="b"/>
            <a:pathLst>
              <a:path w="3693" h="2984">
                <a:moveTo>
                  <a:pt x="0" y="8"/>
                </a:moveTo>
                <a:cubicBezTo>
                  <a:pt x="1116" y="4"/>
                  <a:pt x="2233" y="0"/>
                  <a:pt x="2830" y="250"/>
                </a:cubicBezTo>
                <a:cubicBezTo>
                  <a:pt x="3427" y="500"/>
                  <a:pt x="3536" y="1101"/>
                  <a:pt x="3580" y="1508"/>
                </a:cubicBezTo>
                <a:cubicBezTo>
                  <a:pt x="3624" y="1915"/>
                  <a:pt x="3693" y="2447"/>
                  <a:pt x="3096" y="2693"/>
                </a:cubicBezTo>
                <a:cubicBezTo>
                  <a:pt x="2499" y="2939"/>
                  <a:pt x="516" y="2936"/>
                  <a:pt x="0" y="29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94280" y="2149560"/>
            <a:ext cx="115920" cy="10296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64240" y="2627280"/>
            <a:ext cx="114120" cy="103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702040" y="2252520"/>
            <a:ext cx="230040" cy="4780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56120" y="2080800"/>
            <a:ext cx="154080" cy="103680"/>
            <a:chOff x="5856120" y="2080800"/>
            <a:chExt cx="154080" cy="103680"/>
          </a:xfrm>
        </p:grpSpPr>
        <p:sp>
          <p:nvSpPr>
            <p:cNvPr id="177" name=""/>
            <p:cNvSpPr/>
            <p:nvPr/>
          </p:nvSpPr>
          <p:spPr>
            <a:xfrm>
              <a:off x="5856120" y="2081160"/>
              <a:ext cx="15408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56120" y="2184480"/>
              <a:ext cx="15408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932440" y="2080800"/>
              <a:ext cx="0" cy="680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624640" y="1909800"/>
            <a:ext cx="153720" cy="750240"/>
            <a:chOff x="5624640" y="1909800"/>
            <a:chExt cx="153720" cy="750240"/>
          </a:xfrm>
        </p:grpSpPr>
        <p:sp>
          <p:nvSpPr>
            <p:cNvPr id="181" name=""/>
            <p:cNvSpPr/>
            <p:nvPr/>
          </p:nvSpPr>
          <p:spPr>
            <a:xfrm>
              <a:off x="5624640" y="1909800"/>
              <a:ext cx="15372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24640" y="2660040"/>
              <a:ext cx="15372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700600" y="1909800"/>
              <a:ext cx="0" cy="4939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5702400" y="2354040"/>
            <a:ext cx="0" cy="3078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46080" y="203364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ss Generator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84960" y="2513160"/>
            <a:ext cx="21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Generator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21000" y="2081160"/>
            <a:ext cx="26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 Reactive Res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69800" y="2560680"/>
            <a:ext cx="32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ed Reactive Re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t output is incorrec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place of Gross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857840" y="2114640"/>
            <a:ext cx="1074600" cy="6984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087880" y="2523960"/>
            <a:ext cx="576360" cy="6984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048000" y="2184480"/>
            <a:ext cx="34452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816160" y="2695680"/>
            <a:ext cx="61452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60" y="11239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V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2200" y="3586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39960" y="111132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x/Plant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893920" y="1362240"/>
            <a:ext cx="536760" cy="99216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79720" y="556884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ss Reactive Capability Curve (C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Created by Generato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30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Generator MVArs are Mode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30600" y="1469520"/>
            <a:ext cx="3608640" cy="4647600"/>
            <a:chOff x="2730600" y="1469520"/>
            <a:chExt cx="3608640" cy="4647600"/>
          </a:xfrm>
        </p:grpSpPr>
        <p:grpSp>
          <p:nvGrpSpPr>
            <p:cNvPr id="201" name=""/>
            <p:cNvGrpSpPr/>
            <p:nvPr/>
          </p:nvGrpSpPr>
          <p:grpSpPr>
            <a:xfrm>
              <a:off x="4060080" y="3455640"/>
              <a:ext cx="1015200" cy="538920"/>
              <a:chOff x="4060080" y="3455640"/>
              <a:chExt cx="1015200" cy="53892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060080" y="3737160"/>
                <a:ext cx="1014840" cy="257400"/>
                <a:chOff x="4060080" y="3737160"/>
                <a:chExt cx="1014840" cy="2574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060080" y="37371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13880" y="374508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567680" y="374508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821120" y="374508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060440" y="3455640"/>
                <a:ext cx="1014840" cy="257400"/>
                <a:chOff x="4060440" y="3455640"/>
                <a:chExt cx="1014840" cy="257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821480" y="34635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567680" y="34556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0800000">
                  <a:off x="4314600" y="345564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0800000">
                  <a:off x="4060440" y="34556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 flipV="1">
              <a:off x="4565160" y="3889440"/>
              <a:ext cx="0" cy="7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548960" y="1469520"/>
              <a:ext cx="0" cy="19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730600" y="4666680"/>
              <a:ext cx="3608640" cy="1450440"/>
              <a:chOff x="2730600" y="4666680"/>
              <a:chExt cx="3608640" cy="1450440"/>
            </a:xfrm>
          </p:grpSpPr>
          <p:sp>
            <p:nvSpPr>
              <p:cNvPr id="215" name=""/>
              <p:cNvSpPr/>
              <p:nvPr/>
            </p:nvSpPr>
            <p:spPr>
              <a:xfrm>
                <a:off x="5263560" y="5198760"/>
                <a:ext cx="1075680" cy="8226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730600" y="5295240"/>
                <a:ext cx="1266120" cy="821880"/>
                <a:chOff x="2730600" y="5295240"/>
                <a:chExt cx="1266120" cy="821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730600" y="529524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363480" y="529524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730600" y="5295240"/>
                  <a:ext cx="126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363840" y="4666680"/>
                <a:ext cx="247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63840" y="4666680"/>
                <a:ext cx="0" cy="62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4520" y="4666680"/>
                <a:ext cx="0" cy="53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6131880" y="471024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3880" y="472932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/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8840" y="2776680"/>
            <a:ext cx="9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FM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73520" y="240660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(High 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95360" y="454356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536640" y="454356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651200" y="2276640"/>
            <a:ext cx="0" cy="65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36560" y="40435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(Low 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648320" y="4081320"/>
            <a:ext cx="0" cy="46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8880" y="14698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2320" y="1432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6880" y="1969920"/>
            <a:ext cx="1844640" cy="214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60560" y="2008080"/>
            <a:ext cx="538200" cy="268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492960" y="2046240"/>
            <a:ext cx="80640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14640" y="1930320"/>
            <a:ext cx="126684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492960" y="2162160"/>
            <a:ext cx="844560" cy="261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45640" y="317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ering Freq/Accu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50768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(To be placed in operating gu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MW RTU (Same as curr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/Net MVAr, Gross MW ICCP or 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to 6.5.1.1(6) “Real Time data for reliability purposes must be accurate to within three percent (3%).  This telemetry may be provided from relaying accuracy instrumentation transform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6:54:56Z</dcterms:created>
  <dc:creator>Stephen Reedy</dc:creator>
  <dc:description/>
  <dc:language>en-US</dc:language>
  <cp:lastModifiedBy>Stephen Reedy</cp:lastModifiedBy>
  <dcterms:modified xsi:type="dcterms:W3CDTF">2006-01-18T17:22:08Z</dcterms:modified>
  <cp:revision>12</cp:revision>
  <dc:subject/>
  <dc:title>Slide 1</dc:title>
</cp:coreProperties>
</file>