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169-3DF7-4B27-A3EB-B4555E2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7EF-98AB-48B1-8047-8583D6D4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61C-E3FE-439C-B547-27544A7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EB6-FE62-433E-A59A-FC4E2194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802-D172-4C63-9EDF-786A756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7BE-C92B-4295-AE66-0303EBAB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49F-4CD3-45C5-A0A6-6B8EEDB3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A40-4F10-4ABA-A54E-465A2B65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A70-29EE-4D53-BC5A-E540A82A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41B-3947-4B45-815C-5D538C0C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9D4-0B3C-4F92-A401-79FDCC5F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14D-64E0-4A74-A7E1-C242091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9545-8ABA-467C-9863-960E3B12C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ch 16, 2006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Quarter 2005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E21-12D2-4E6D-8CF2-4A963806EA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534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FC0-330A-41B9-8456-892AA73E79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371600"/>
          <a:ext cx="86104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10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60958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- Impacted by 814_28 PT (Permit Pending) Transactions in 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0CD-B4B2-473F-83A4-CDE9BA691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6-03-02T17:46:23Z</dcterms:modified>
  <cp:revision>384</cp:revision>
  <dc:subject/>
  <dc:title>PowerPoint Presentation</dc:title>
</cp:coreProperties>
</file>