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059-0CEA-4FF6-A9B4-3CC50B07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11F-E5A6-42B3-9E1D-1FA5C7E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B4C-3F2F-4AB3-893A-9943F89C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8DD-B537-4576-9F97-594DF3CB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BC7-3FF2-417A-A2D7-2F490E8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484-C5B1-4318-8F21-E04D3D6F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FC4-4F68-48FF-8DC1-A0EED0AC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192-B527-4538-B1F7-03F145D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A63-AD56-45BA-90AD-9D95A33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2B7-6ED2-40C3-8FD4-E27772F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35E-EC5F-42C7-8BD9-33D7796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A7C-736E-4664-B8BF-4EB01B6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392-C31C-43AA-A9AF-2375542A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munson@erco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069920"/>
            <a:ext cx="845820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200" y="533520"/>
            <a:ext cx="53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609588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609588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069920"/>
            <a:ext cx="845820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200" y="533520"/>
            <a:ext cx="53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360" y="609588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32880" y="609588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5638680" cy="4647960"/>
        </p:xfrm>
        <a:graphic>
          <a:graphicData uri="http://schemas.openxmlformats.org/drawingml/2006/table">
            <a:tbl>
              <a:tblPr/>
              <a:tblGrid>
                <a:gridCol w="2197440"/>
                <a:gridCol w="1672920"/>
                <a:gridCol w="176832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al 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Es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,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43,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27,6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9,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,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xes and Inte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9,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5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49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14300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in Nov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Started November 1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rket meeting discussed detail design documents and provided product walk th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nounced MarkeTrak as the name of the new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t notice to MPs requesting data on FasTrak Users and Digital Certific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has received responses from 65 out of 123 DUNS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 of April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RCOT is scheduled to start issuing Digital Certificates to new USA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n May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SA contacts can start requesting additional Digital Certificates for its MarkeTrak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7680" y="609588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609588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143000"/>
            <a:ext cx="8156520" cy="4495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 (cont.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Certificates co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users of MarkeTrak (GUI) will require a Digital Cer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user has an active Digital Certificate then will not require another Digital Certif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arket Participants that wish to use the MarkeTrak API will require a Digital Certificate designated f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ssued Digital Certificate will not require a role for Marke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rak will define a user’s role/responsibilities/permi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sted updated detail design documents and FAQ to ERCOT’s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rket meeting discussed notifications, user guides, and issue gr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1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arted weekly project conference calls with Marke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9920"/>
            <a:ext cx="815328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arted to develop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ript Sub Team met in Dallas to start developing market test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ript Sub Team met in Houston to continue developing market test scri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will be completed in time to review at the April TTPT meeting (Date T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7200" y="60948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00" y="597708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069920"/>
            <a:ext cx="8229600" cy="47973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testing is only required if you plan on us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 testing is voluntary – contact Susan Munson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munson@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to volunt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duct D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cheduled for April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9:30am – Noon in room 1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7th – May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ra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ginning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materials will be available to MPs May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the trainer format in Austin, Houston and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00" y="597708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User Gui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utover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to submit new issues in old tool –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new issues submitted in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ld tool will not be converted to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over plans will be finalized prior to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00" y="597708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00" y="597708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440" y="5164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181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419720"/>
            <a:ext cx="3581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Market Test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03848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4290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9718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2438280"/>
            <a:ext cx="1447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Produc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251460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User Gu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19051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Liv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4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3-14T20:06:20Z</dcterms:modified>
  <cp:revision>223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