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FB2-733F-463C-A474-FA14A483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B11-3E0D-4487-BF3D-5853FA89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E4DD-0B6E-4E6E-9C7E-B23F45AC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C6C-5D65-4B9A-8BCE-C5646848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932-B929-4277-B698-08D9648B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464-FDBD-4935-ACFF-3316B4D4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96A-D059-48AC-B75A-3CC583BF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F32-F3E5-4CF3-B4EA-82914B6F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7EE-AD96-48C1-9BEB-CD2BA92F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21B-99BB-4361-BD46-60C65CD6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6BD-FEBA-468D-A492-49902981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DEB6-0FE8-4F86-8CEB-F9D8E5B7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AA75-1BEF-4B0C-90CC-57B330098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ch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ruary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of 115 Competitive Retailers reported numbers by the due date for February Reports (03/02/0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of 12 Competitive Retailers that filed DEV Issues within the 90 days proceeding the reporting deadline reported numb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April RMS (March Reports) are due by April 4,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1676520"/>
          <a:ext cx="7924320" cy="4266720"/>
        </p:xfrm>
        <a:graphic>
          <a:graphicData uri="http://schemas.openxmlformats.org/drawingml/2006/table">
            <a:tbl>
              <a:tblPr/>
              <a:tblGrid>
                <a:gridCol w="2217240"/>
                <a:gridCol w="1499040"/>
                <a:gridCol w="1526040"/>
                <a:gridCol w="1342080"/>
                <a:gridCol w="1339920"/>
              </a:tblGrid>
              <a:tr h="102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9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,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3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,5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,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,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7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4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3520" y="1676520"/>
          <a:ext cx="8076600" cy="4419000"/>
        </p:xfrm>
        <a:graphic>
          <a:graphicData uri="http://schemas.openxmlformats.org/drawingml/2006/table">
            <a:tbl>
              <a:tblPr/>
              <a:tblGrid>
                <a:gridCol w="2259720"/>
                <a:gridCol w="1527840"/>
                <a:gridCol w="1555560"/>
                <a:gridCol w="1367640"/>
                <a:gridCol w="1365840"/>
              </a:tblGrid>
              <a:tr h="106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1676520"/>
          <a:ext cx="8076600" cy="4419000"/>
        </p:xfrm>
        <a:graphic>
          <a:graphicData uri="http://schemas.openxmlformats.org/drawingml/2006/table">
            <a:tbl>
              <a:tblPr/>
              <a:tblGrid>
                <a:gridCol w="2259720"/>
                <a:gridCol w="1527840"/>
                <a:gridCol w="1555560"/>
                <a:gridCol w="1367640"/>
                <a:gridCol w="1365840"/>
              </a:tblGrid>
              <a:tr h="106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lectric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0880" y="1676520"/>
          <a:ext cx="8076960" cy="4495320"/>
        </p:xfrm>
        <a:graphic>
          <a:graphicData uri="http://schemas.openxmlformats.org/drawingml/2006/table">
            <a:tbl>
              <a:tblPr/>
              <a:tblGrid>
                <a:gridCol w="2259720"/>
                <a:gridCol w="1528200"/>
                <a:gridCol w="1555560"/>
                <a:gridCol w="1367640"/>
                <a:gridCol w="1365840"/>
              </a:tblGrid>
              <a:tr h="108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,5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,5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9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6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,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,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,4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4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1600200"/>
          <a:ext cx="8153280" cy="4723920"/>
        </p:xfrm>
        <a:graphic>
          <a:graphicData uri="http://schemas.openxmlformats.org/drawingml/2006/table">
            <a:tbl>
              <a:tblPr/>
              <a:tblGrid>
                <a:gridCol w="2281320"/>
                <a:gridCol w="1542240"/>
                <a:gridCol w="1570320"/>
                <a:gridCol w="1380600"/>
                <a:gridCol w="1378800"/>
              </a:tblGrid>
              <a:tr h="1135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76520"/>
          <a:ext cx="8076960" cy="4495320"/>
        </p:xfrm>
        <a:graphic>
          <a:graphicData uri="http://schemas.openxmlformats.org/drawingml/2006/table">
            <a:tbl>
              <a:tblPr/>
              <a:tblGrid>
                <a:gridCol w="2259720"/>
                <a:gridCol w="1528200"/>
                <a:gridCol w="1555560"/>
                <a:gridCol w="1367640"/>
                <a:gridCol w="1365840"/>
              </a:tblGrid>
              <a:tr h="108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frederick</cp:lastModifiedBy>
  <cp:lastPrinted>2002-09-24T18:27:58Z</cp:lastPrinted>
  <dcterms:modified xsi:type="dcterms:W3CDTF">2006-03-06T15:18:32Z</dcterms:modified>
  <cp:revision>322</cp:revision>
  <dc:subject/>
  <dc:title>PowerPoint Presentation</dc:title>
</cp:coreProperties>
</file>