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F374-3C9F-47E2-9D82-D0D51988B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BF18-4058-43C9-8503-8E533E61F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97BB-27E1-4504-80CD-211731811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019D-2078-4A53-B8D2-494942C4D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9833-5E4C-41BE-953E-47F7EBC5D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4579-6A16-45A8-B926-863CAD29A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3C60-CAB0-484D-9639-5D3AD9978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7522-E930-4E15-B742-6B4EBD3FC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F176-530D-4096-A2AB-3DF355C99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DDB8-245A-45D1-A299-8C935881F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A09C-28E4-48C2-880E-0116BC95C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2698-9E17-431D-8982-2D88214AF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33B03-A80B-4505-BC30-8B855EEA93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828800" cy="9828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228600" y="1143000"/>
            <a:ext cx="8686800" cy="7632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6360" bIns="3636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80880" y="1295280"/>
            <a:ext cx="784872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pporting materials for RMS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mproved formats </a:t>
            </a:r>
            <a:br>
              <a:rPr sz="3600"/>
            </a:br>
            <a:br>
              <a:rPr sz="36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vided by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tail Customer Choice (RCC)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9A4D-EF83-4C9A-ABA3-64747229DA4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 FasTrak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sue Stat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Issue Typ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thru 2/28/200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5410080"/>
            <a:ext cx="6019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Legen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unts are of issues submitted during each month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28600" y="1600200"/>
            <a:ext cx="8077320" cy="2362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5DE9-2518-44C8-9BBA-4372E353ACF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 FasTrak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sue Stat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Issue Category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thru 2/28/200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6019920"/>
            <a:ext cx="76960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f the 152 In Progress DEV Issues, 78 are resolved and awaiting other party resolution check of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52280" y="1295280"/>
            <a:ext cx="8839440" cy="4267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900D-77A7-4AD3-87E4-81191F18E2A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V FasTrak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sue Stat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Issue Typ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thru 2/28/200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04920" y="1676520"/>
            <a:ext cx="8534160" cy="2209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699B-660F-4DB5-B66D-CCF95E54AE0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 FasTrak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sue Stat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Issue Category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thru 2/28/200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52280" y="1447920"/>
            <a:ext cx="8839440" cy="4572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5CDE-DFDE-4DB3-AFE7-D8A2E22D3AD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1295280"/>
            <a:ext cx="914400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-Active Transac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olution Measu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3962520"/>
            <a:ext cx="807732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67s Received on Cancelled Service Or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2180-9339-4B3D-B3F4-8CA305B0216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1143000"/>
            <a:ext cx="87631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52520" indent="-452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99"/>
                </a:solidFill>
                <a:uFillTx/>
                <a:latin typeface="Times New Roman"/>
              </a:rPr>
              <a:t>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RCOT periodically receives 867_03 Finals and 867_04s for service orders that are Cancelled in ERCOT systems.  The Service Order Sub-Statuses that are considered Cancelled are:  CR Requested, Customer Objection, ERCOT Operating Rule, Manual, Permit Not Received, with Exception, Unexecutable and Rejected by TDSP.   This can indicate an out-of-sync condition between the TDSP and ERCO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99"/>
                </a:solidFill>
                <a:uFillTx/>
                <a:latin typeface="Times New Roman"/>
              </a:rPr>
              <a:t>Mechanism for Handling 867 RCSO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tep 1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ERCOT produces 867RCSO data each Friday and submits a report file to each TDSP and CR via the ERCOT Por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tep 2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The TDSPs review the report line items and take one of the following act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If the TDSP has cancelled the service ord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no further action is requi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If the TDSP has completed the service ord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they will initiate a day-to-day FasTrak issue and work with ERCOT to get ERCOT systems changed to complete.  Completion of cancelled service orders will require the approval of the CR initiating the transac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Note: For Cancel by Customer Objection, the TDSP will honor the cancel in their system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67s received on Cancelled Service Ord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C81B-093F-4D73-9221-F75AD8C24CD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67s received on Cancelled Service Orders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52280" y="1523880"/>
            <a:ext cx="8839440" cy="3353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E888-6161-4315-ACA2-7F5BBDE2621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67s received on Cancelled Service Orders 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057400" y="1752480"/>
            <a:ext cx="4876920" cy="4038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60E4-F889-48DD-9E09-05947EBAD6B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80880" y="1295280"/>
            <a:ext cx="830592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sTrak Issue Stat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362320" y="3581280"/>
            <a:ext cx="5029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5299-7EF4-4CDB-9DD2-3CA606840C2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y to Day’ FasTrak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sue Stat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Category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thru 2/28/200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28600" y="5029200"/>
            <a:ext cx="7848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Legen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unts are of issues submitted during each month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I = ERCOT Initiated Iss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n-ERCOT issue = Issues logged directly between the CR and TDSP with no ERCOT involvement to resolv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tegory of “All Other” does not have subtype.  Issues logged as “All Other” can include Transaction Issues, Rep of Record Issues, Service Order Changes, et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52280" y="1295280"/>
            <a:ext cx="8839440" cy="3581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5919-6364-4512-A242-9508985B7446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y to Day’ FasTrak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sue Stat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Category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thru 2/28/200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52280" y="5715000"/>
            <a:ext cx="807732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f the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30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In Progress D2D Issues,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189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re resolved and awaiting other party resolution check of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tal D2D Issue ESI IDs worked to date since January 1, 2006 =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10,69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52280" y="1371600"/>
            <a:ext cx="8839440" cy="3978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1DBE-8F35-4F38-83F7-54E42414546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y to Day’ FasTrak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sue Stat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Category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thru 2/28/200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52280" y="1371600"/>
            <a:ext cx="5943600" cy="13716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52280" y="2971800"/>
            <a:ext cx="8686800" cy="3352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259C-2771-4272-B73E-800CC4CE875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9T21:45:07Z</dcterms:created>
  <dc:creator>kcotner</dc:creator>
  <dc:description/>
  <dc:language>en-US</dc:language>
  <cp:lastModifiedBy>kfarley</cp:lastModifiedBy>
  <cp:lastPrinted>2002-09-24T18:27:58Z</cp:lastPrinted>
  <dcterms:modified xsi:type="dcterms:W3CDTF">2006-03-06T17:44:22Z</dcterms:modified>
  <cp:revision>633</cp:revision>
  <dc:subject/>
  <dc:title>PowerPoint Presentation</dc:title>
</cp:coreProperties>
</file>