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8E1-8028-47DB-A4A4-CE6C5ED4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2DC-7664-41FA-BD7E-1E9200E3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F9F-6561-4E94-B646-DD51FF14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269-3D06-4315-B0A5-150DB897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8B1-3E6E-48EE-93D7-A5CFBEB0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076-A7F3-408B-A9E2-8F72CBA8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560-79BC-414B-AD59-B29125D6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F71-CB5A-43FF-AC60-2B6F27CB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26D-1368-4D3F-8EFF-31C76E46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548-A9E6-460D-A8D3-D87D9DFB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809-D322-4892-8C77-249B842A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6D4-4A53-4C82-91F3-994D22CE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389640" y="5979960"/>
            <a:ext cx="2384640" cy="7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316560" y="5846760"/>
            <a:ext cx="2679840" cy="84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589800" y="611496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9440" y="1307880"/>
            <a:ext cx="774396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9360" y="4633200"/>
            <a:ext cx="77770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6505-C391-46BF-87FF-5C3F38C23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munson@ercot.com" TargetMode="External"/><Relationship Id="rId2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2438280" y="152280"/>
          <a:ext cx="45720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280"/>
                    <a:ext cx="45720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4572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rak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5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l FasTra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est API if you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testing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Susan Munson to volunteer 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munson@erco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testing performed during F04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no later than the end of Flight 0406 Volunteer GUI testing will be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 testing is 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re to blackout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 ‘Intent to test’ e-mail to RetailMarketTesting@erco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rak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PT script sub-team met February 16 in Dallas and March 9 in Hou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l Client Services responsible for ‘training’ of FasTrak and how to use the application after initial GUI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MPs entering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>00206072</dc:creator>
  <dc:description/>
  <dc:language>en-US</dc:language>
  <cp:lastModifiedBy>cmoore</cp:lastModifiedBy>
  <dcterms:modified xsi:type="dcterms:W3CDTF">2006-02-27T23:27:13Z</dcterms:modified>
  <cp:revision>5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61971960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TTPT RMS Presentation</vt:lpwstr>
  </property>
  <property fmtid="{D5CDD505-2E9C-101B-9397-08002B2CF9AE}" pid="6" name="_NewReviewCycle">
    <vt:lpwstr/>
  </property>
</Properties>
</file>