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EEE4-5495-40A7-990F-7692ED716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AB15-7BD7-4663-8883-47113423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AB40-07EB-4E81-92C6-9107265E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F1F-284B-48A4-9CDB-0DEDB4AE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E533-AD46-408A-ABE1-DCEDD2A4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FE1D-E22F-4BCC-AF05-DF2630AA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78EF-998C-49B6-B41F-E4110BFF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A18B-B5CB-4D27-9F60-44DC26CA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6413-4104-4141-8270-A21E22A7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C34D-5907-4ECC-AEF2-5CFB3597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F4B-8156-488E-8DDC-2D011328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DAF7-4F6D-44EC-9441-C06DEBB0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34A3-950A-4A75-91AB-FADDFFC4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760B-46CA-4EC1-A142-3CF0E8F82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rch 15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8F8E-E3A1-4788-818F-A3F540382B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006 Goals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295280"/>
            <a:ext cx="8763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Resolve Funding Issue for Data Ex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inue Growth of Commercial Market Gu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ork with ERCOT staff to improve Communications flow around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onitor implementation of SCR 740 (Improvements to SCR 7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nderstand UFE drivers and educate Market Participants on ways to improve their ability to forecast U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ocus on Nodal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onitor Progress of Load Research Study – needed transparency about market impact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2D03-6F8E-49F3-8534-91B22323C0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006 Working Group Leadership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143000"/>
            <a:ext cx="83818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mmunications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Judy Briscoe -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usan Potters – Vice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ata Extract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Zach Collard –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nnette Morton – Vice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ofile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rnie Podraza –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rad Boles – Vice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FE Task 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huck Moore – Co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ric Goff – Co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766A-A132-48FD-AD51-3FE8FE28A7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pdate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WG February 8</a:t>
            </a:r>
            <a:r>
              <a:rPr b="1" lang="en-US" sz="36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pected deliverables - Create document outlining the communication process ERCOT will use to communicate outages or interruption in any of the market services it provides to MP’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3333cc"/>
                </a:solidFill>
                <a:uFillTx/>
                <a:latin typeface="Arial"/>
              </a:rPr>
              <a:t>Outage Notification Chart and Notification Templa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RMS &amp; COPS reviewed draft Sample Outage Notification Chart and Notification Template during Feb mee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9761-4BDA-4C38-8EDE-2056BB53C3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pdate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WG March 2nd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inued Initiative on Outage Notification 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viewed Affected Systems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ll Entities (Data Retrie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tail Specific (NAES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holesale Specific (TML Schedu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sidered Level of Distribution for No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usiness Day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4 Hour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28E-0123-4238-BF83-AE9BCB0C27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pdate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R568 – Change Initial Settlement from Day 17 to Day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Operating Day January 17, 2006 - Start the migration to Day 10 Initial Settlement, Publication of binding Settlement Statement for this date would be February 2, 2006.  One extra day will be Invoiced weekly for 7 wee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arch 16, 2006 - Anticipated date for completion of PRR5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R638 – Change Settlement Invoice Due Date from 16 Calendar Days to Five Business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April 1, 2006 - Anticipated date for impletion of PRR6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F90E-24B3-4A4C-92CC-CBC09EB76D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Registered User</cp:lastModifiedBy>
  <dcterms:modified xsi:type="dcterms:W3CDTF">2006-03-07T16:07:28Z</dcterms:modified>
  <cp:revision>162</cp:revision>
  <dc:subject/>
  <dc:title>Point-to-Point</dc:title>
</cp:coreProperties>
</file>