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67A-4A7B-46FD-8E69-1AEAD512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EA8-D8C2-40EE-B87C-C4D1AFC7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76E-6760-428F-BF0A-AE8DF59C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A67-7F40-460D-9163-9C17F57D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EBB9-EB7E-4D15-B15E-145366C0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A71-DF2C-493A-91D1-B8AB51E1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F72-1416-453B-B468-7F1DF3B8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172-7B5E-4A54-840E-473C4196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B65-6186-4C07-B430-8AB3C2CA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584-1D18-4945-8EDA-A33A07A7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60B-4473-4B00-987F-6B579A43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17B-58A9-41E1-AFD6-5F87CB70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F820-741E-49D1-BCE8-E53BDED7A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remaining fields to the ESIID Look Up functions requested in PRR3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lnSpc>
                <a:spcPct val="100000"/>
              </a:lnSpc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users to have improved access to ESII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reporting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us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BCO Integration – API component dependent on TIBCO services that will be implemented with PR50007 - Fastra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68580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6840" y="7920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5 Enhancements to Find ESI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360" y="5943600"/>
            <a:ext cx="19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rch 10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328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8156520" cy="52578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50025 Pha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tion – Completed August 8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– Completed December 19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/Implementation – 2 ph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hase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 of Siebel Data Fields to TDSP ESIID Repor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mise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Service Or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 of Additional Lodestar Data Fields to TDSP ESIID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 ID(Station Name and Station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ed/Unmetered F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9360" y="609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6840" y="7920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5 Enhancements to Find ESI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248520"/>
            <a:ext cx="21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rch 10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63244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1430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has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ESIID data to be returned by the TML Find ESIID function and to be synchronized with the data delivery via the P2API and the TDSP ESIID R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ed / Unmet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 current API to be synchronized with the data delivery via TML ESIID Lookup function and the TDSP ESIID Re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mise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Service Or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ed/Unmetered F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9360" y="71136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6840" y="7920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5 Enhancements to Find ESI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800" y="5977080"/>
            <a:ext cx="163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rch 10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143000"/>
            <a:ext cx="8156520" cy="50292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8280" y="60948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6840" y="7920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5 Enhancements to Find ESI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8520"/>
            <a:ext cx="21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rch 10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53280" y="63244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2971800"/>
          <a:ext cx="7086600" cy="2666880"/>
        </p:xfrm>
        <a:graphic>
          <a:graphicData uri="http://schemas.openxmlformats.org/drawingml/2006/table">
            <a:tbl>
              <a:tblPr/>
              <a:tblGrid>
                <a:gridCol w="1773000"/>
                <a:gridCol w="3103560"/>
                <a:gridCol w="2210040"/>
              </a:tblGrid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se 1 - TDSP Extrac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se 2 - PiAPP / G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 / Unit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0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/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09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/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01/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-Liv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05/2006 – ERCOT Stabiliz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/04/2006 – Marke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/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143000" y="1447920"/>
            <a:ext cx="68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*Original deployment dates Q405-Q106.  Find ESIID functions of GUI and piApp will have to be redeveloped with PR50121_07:RBP.  To reduce redevelopment and testing,  these new functions will be delivered concurrently with the rollout of PR50121_07 that is currently in Planning.  Will return to July RMS with actual da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1430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dditional Inform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-Implementation – SIR 10251: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date TDSP ESIID Reports to include additional field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84320" indent="-34272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Premise Typ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(populated value)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84320" indent="-34272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tation I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(null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84320" indent="-34272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Power Region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(null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84320" indent="-34272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Metered/Un-metered Flag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(null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84320" indent="-34272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Pending Move-in/Move-out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(null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342720">
              <a:lnSpc>
                <a:spcPct val="100000"/>
              </a:lnSpc>
              <a:buClr>
                <a:srgbClr val="cc66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pulate reports with null values until fields are available in Phase One. Premise Type values would be available immediate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s only one change to DDL available on March 9,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Implementat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4/03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Implementation:  04/04/2006-Monthly Report and 04/05/2006 Weekl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73600" y="22860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5 Enhancements to Find ESI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7680" y="5867280"/>
            <a:ext cx="19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rch 10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Hope Satterfi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65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satterfield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0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0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3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6840" y="7920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5 Enhancements to Find ESI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7680" y="5867280"/>
            <a:ext cx="19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rch 10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hsatterfield</cp:lastModifiedBy>
  <dcterms:modified xsi:type="dcterms:W3CDTF">2006-03-10T22:21:46Z</dcterms:modified>
  <cp:revision>224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4-581F-B2D0-2DA44B90E9B3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