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DCF0-864D-4C43-B569-D07EAB379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820E-7766-4FCF-B79A-9924FE14A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3E72-DE39-422E-B5C2-3633A31F8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8A51-7547-440D-9DB7-812B3C1E1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FA21-4636-4BCA-9365-F64B8C5DD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D572-E27C-40DD-87CD-AC9B04D58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7B3D-AB70-41D1-BAEF-8E90A666E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9096-7577-4EC1-B7A9-4A742ABFF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D370-125F-476B-AC1B-DBD8A520C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6827-EBF5-44CF-827D-1D5EA86E7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6402-CC93-4353-ACAC-0460B3348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4D05-B451-4924-8A58-5A34EAAE6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305B501B-CE50-4770-92AC-7F44F04877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813320"/>
            <a:ext cx="6172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Transaction Processing Service Avail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2100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Sub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ervice Availability Workshop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 up workshop is scheduled for Thursday, March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propos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Defin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ail Transaction Processing Service Availability 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ail Transaction Processing Outage Windo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lease Window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tenance Window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p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ew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ntation at April RMS meet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36DB-D990-49FA-83A0-C816EF63B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Aaron Smallwood</cp:lastModifiedBy>
  <cp:lastPrinted>2000-10-23T20:56:55Z</cp:lastPrinted>
  <dcterms:modified xsi:type="dcterms:W3CDTF">2006-03-08T05:30:12Z</dcterms:modified>
  <cp:revision>653</cp:revision>
  <dc:subject/>
  <dc:title>No Slide Title</dc:title>
</cp:coreProperties>
</file>