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1F3B1-8CEE-47A0-ACFB-521DB8FB52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D8815-A1A6-406D-A615-BF3438EF30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488BC-902D-4F8D-84ED-5116430319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B404C-A594-4414-81CD-BEE2A1D72E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179A0-E2A1-4536-9741-4BB2E4C708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DCBAB-8C2F-4E0E-A7A0-00BC735D08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CE8E1-F9F1-4381-84A5-20C1CB2857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C4876-F623-404C-BBA1-96DD988383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3E93B-2775-4099-8488-6C7FBADADE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D3C7E-5FDA-4F64-8946-0A81B86EA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C542F-662D-4D64-AAC8-687B85EF65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6F25B-AA6D-4571-A43C-270BFB5226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E3D8-2CB6-4CA4-8187-4B18BC743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208476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MO Update to 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20640" y="304812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y Ander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Management Of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ch 15, 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52480" y="763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MO Process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nt Organizational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00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ject Managers now report to Business 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00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ivisional PPLs have been created with defined bu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O budget = $6.7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dam Martinez leads RO project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00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gram Management Office provides process support and overall portfolio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0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mpact on Retai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00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ess impact on Retail projects when changes occur in other Program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237B8-F1E7-43E6-BB56-E0D2F74314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52480" y="763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MO Process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1143000"/>
            <a:ext cx="86868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ject Cost Estimates &amp; Budg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00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ep 1 – Initial Project Idea Prop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mpact Analysis provides budget range based on reviews with Subject Matter Exp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&lt;$100k”, ”$100k-$500k”, “$500k-$1M”, “$1M-$3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00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ep 2 – Project Idea is Ap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tailed Time &amp; Cost Estimate is prepared by CART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is estimate includes a 35% contingency due to high level nature of project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ject is added to division portfolio based on logical fit and resource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0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D9B19-2EA1-44D5-8359-83027F5D5E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52480" y="763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MO Process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914400"/>
            <a:ext cx="8915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 fontScale="96000"/>
          </a:bodyPr>
          <a:p>
            <a:pPr marL="280080" indent="-28008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ject Cost Estimates &amp; Budgeting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0920" indent="-2206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10920" indent="-2206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ep 3 – Project Initiation/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5640" indent="-214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ART initiates project based on resource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35640" indent="-214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uring Planning Phase, estimate is refined based on detailed design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35640" indent="-214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xit criteria for planning: project plan, resource plan, final requirements, and revised budg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35640" indent="-214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10920" indent="-2206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ep 4 – Project enters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5640" indent="-214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est for final Execution budget is presented to Strategic Review Team (SRT = ERCOT direc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35640" indent="-214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is estimate includes 10% contin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35640" indent="-214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f total project budget exceeds $1M, approval to proceed by the Board of Directors i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35640" indent="-214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ny change to scope, schedule or budget requires an approved chang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35640" indent="-214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hange controls are approved by sponsor (and SRT and Board of Directors, if necess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D85CD-E9FA-4E1F-A588-D86BC9B681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52480" y="763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FasTrak Budget Change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tuation: FasTrak budget increased by $860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00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wo Primary Ca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dditional contractors needed for development &amp;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creased forecasted hours worked by ERCOT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0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tential Impact on Other Retai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00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cenari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-60010_01 “Extend SOA Footprint” is in queue behind PR-50121_07 “Retail Business Process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t is likely that 60010_01 will run into 2007, freeing up funds in 2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00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cenari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ither “Performance Measures Reporting” and/or “Terms &amp; Conditions” could extend into 2007, freeing up funds in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7C39E-E95D-451D-AEBD-EDA9169DBD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89640"/>
            <a:ext cx="595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otential CIR Timeline</a:t>
            </a:r>
            <a:endParaRPr b="0" lang="en-US" sz="32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295280"/>
            <a:ext cx="8153640" cy="49532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80cbcb"/>
              </a:gs>
            </a:gsLst>
            <a:lin ang="5400000"/>
          </a:gradFill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pproximate Timeline to Initiate Customer Information Repository (CIR) Project 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(assumes approval at each level and no other events impacting the schedul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396252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3908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77320" y="33908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0920" y="4368960"/>
            <a:ext cx="71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g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84800" y="5384880"/>
            <a:ext cx="838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oard V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6565680" y="4863600"/>
            <a:ext cx="3780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8560" y="3619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73120" y="438156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2209680"/>
            <a:ext cx="1092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R Submi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2743200"/>
            <a:ext cx="50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3619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438156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/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2590920"/>
            <a:ext cx="87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MS Review of P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828440" y="3352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23040" y="3619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27600" y="438156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/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006960" y="3048120"/>
            <a:ext cx="3938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97760" y="251460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AC V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36960" y="3619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56280" y="438156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/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2286000"/>
            <a:ext cx="838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itial PRS V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81280" y="3048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94360" y="3619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86680" y="436896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/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908760" y="2209680"/>
            <a:ext cx="160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tail Operations Program Area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162920" y="2971800"/>
            <a:ext cx="279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26280" y="5359320"/>
            <a:ext cx="99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ject Init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7683480" y="486396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89640" y="436896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t/O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70880" y="36320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1800" y="439416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88000" y="2095560"/>
            <a:ext cx="1295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nal PRS Vote (includes IA, CBA and Prioritiz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97480" y="3124080"/>
            <a:ext cx="25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53080" y="36320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86600" y="36320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19240" y="438156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98600" y="3619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52760" y="438156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32120" y="3619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60720" y="438156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40080" y="3619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066680" y="48006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905120" y="48006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819520" y="480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3352320" y="48006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2760" y="5334120"/>
            <a:ext cx="990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RCO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Questions to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24160" y="5410080"/>
            <a:ext cx="99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RCO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Questions to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60520" y="524520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5257800"/>
            <a:ext cx="838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60920" y="438156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/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27680" y="3619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4939920" y="482616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05520" y="5257800"/>
            <a:ext cx="914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A and CBA Due Date for Po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65560" y="438156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432320" y="3619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4444920" y="482616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14800" y="5334120"/>
            <a:ext cx="9907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nal Mar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BA Data D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42BB0-506E-47EB-89A8-10C92A9B10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tanderson</cp:lastModifiedBy>
  <dcterms:modified xsi:type="dcterms:W3CDTF">2006-03-15T16:02:10Z</dcterms:modified>
  <cp:revision>167</cp:revision>
  <dc:subject/>
  <dc:title>Slide 1</dc:title>
</cp:coreProperties>
</file>