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858-B7B2-4F6F-9220-0967E9B2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9E3-EE59-4FBA-82BB-AB91FA40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FBC-9FCA-4877-B494-433428D8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10C5-FA16-4B2B-A1A9-77021D06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3298-F724-4FF2-BDC7-F2F5C398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739E-31C9-4D8C-83E1-B51736B2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9B71-A981-473C-BBD8-285456D0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CEBB-8BCE-42FF-8A3D-9F40EAFB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1035-9BAD-4BE8-8099-09B1D0CD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19A1-AD05-4268-8D74-09C3ED72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4B7D-5A6E-4B83-AF47-4A77C142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647C-47CC-44C9-9612-7F857279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DB26-33AB-4831-9571-E2622283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16D0-D097-4298-97EC-A35A156F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ED00-E3BC-4C9C-B693-E8845839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235A-D042-4BCF-891A-2F94EBD0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21EA-BF0A-4306-87D2-58010055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3F4-54D6-41ED-A362-D0FFE317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86E-0242-4AC0-A295-88E4F32C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3EE-D97B-4CD1-AE80-CECE19F2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61C-D548-4716-84E9-973D3576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C00-C74B-471C-9A62-32BF9FEA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895-012F-4197-BEDA-D9440C37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EB21-4B45-4F1D-9ED3-88A516D0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7553-5F8E-410C-89D4-1FD09D2FCC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6B70-0FFB-4C04-8D5E-2D47F90D53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1066320"/>
            <a:ext cx="65534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Arial Rounded MT Bold"/>
              </a:rPr>
              <a:t>ERCOT Update to RMS on the IDR Requirement Transition Project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5808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Carl Ra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RCOT Load Prof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March 15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Rounded MT Bold"/>
              </a:rPr>
              <a:t>IDR Requirement Report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2003400"/>
            <a:ext cx="8305920" cy="36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 Rounded MT Bold"/>
              </a:rPr>
              <a:t>IDR Optional Removal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of March 2, 2006 one TDSP reported having received two IDR removal requests; both have been rem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SPs have been requested to submit updates on any additional removal requests to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inder that TDSPs have until later of 120 days or April 30, 2006 to complete IDR instal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R Requirement Reports have not been modified to reflect the above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ESI IDs are currently flagged as ‘Overdu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‘Overdue’ indicator does not apply until after 04/30/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1:08:05Z</dcterms:created>
  <dc:creator> </dc:creator>
  <dc:description/>
  <dc:language>en-US</dc:language>
  <cp:lastModifiedBy>ERCOT&amp;CNP</cp:lastModifiedBy>
  <dcterms:modified xsi:type="dcterms:W3CDTF">2006-03-03T16:29:32Z</dcterms:modified>
  <cp:revision>49</cp:revision>
  <dc:subject/>
  <dc:title>IDR Taskforce Report to RMS</dc:title>
</cp:coreProperties>
</file>