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019-9689-4EBE-B851-EC938AD8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07D-0AA0-4779-A526-B4D251D8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27D-06CB-4C37-912C-6349D73D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389-C5EE-4A91-AF2B-CC7030AC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B81-3DE8-418E-90A6-00840D79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FBC-D4B2-42B6-B8AB-ED38CE3B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9A2-0C71-4EB4-81FA-CFF45D33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6D5-BCE6-447F-BA6A-C711B60D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853-BBE0-4ADF-81C4-5EE7BA55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E48-CF3D-4AD2-A7BD-657517A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8AF-B8DC-4EF3-95F4-B857E7D8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4AB-1682-40EF-94E7-3A2A8B92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3635-668B-46E4-B81F-6837B154F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B9B-DA1E-464E-BF7B-DA7B698CF9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esting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78C-3A29-40DD-BA21-FCA68D5072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Flight - 04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rak testing by volunteer for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rak testing required for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Meeting 3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Deadline 3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Kick-off Conference Call 3/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Conference Call 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Begins 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rak testing 5/24 – 6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cheduled to conclude 5/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C01-2214-4B5F-96E3-EEAF0598F0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gwingerd</cp:lastModifiedBy>
  <cp:lastPrinted>2002-09-24T18:27:58Z</cp:lastPrinted>
  <dcterms:modified xsi:type="dcterms:W3CDTF">2006-03-08T15:18:10Z</dcterms:modified>
  <cp:revision>379</cp:revision>
  <dc:subject/>
  <dc:title>PowerPoint Presentation</dc:title>
</cp:coreProperties>
</file>