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0EDD9-A200-4716-BFE7-4655B112A3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608CA-D67D-47AC-B057-293154EDE7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20B8A-D179-4722-8CD1-383E57C2C7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910D8-19CB-4584-ACA4-019C987BDA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B594B-BFA6-49E4-BCBA-178861220A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D474D-671A-450A-A435-456D55D454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9FD80-511C-4741-9747-14D888139D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2AD58-EDEE-49F9-832B-6AD2AF9F38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0B826-F9E1-4A15-A2FA-58304AF253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F0C9D-3940-410F-B480-91D8B66523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8A314-F943-42E4-ABDD-73D976B113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A8F5B-8AEF-4970-B729-6B9B348794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ED60-2914-446C-AB67-291D3D5D1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1960" y="208476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MO Update to 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20640" y="3048120"/>
            <a:ext cx="5808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y Ander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Management Off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ch 15, 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52480" y="763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FasTrak Budget Change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tuation: FasTrak budget increased by $860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00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wo Primary Ca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dditional contractors needed for development &amp;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creased forecasted hours worked by ERCOT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0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tential Impact on Other Retai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00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cenari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-60010_01 “Extend SOA Footprint” is in queue behind PR-50121_07 “Retail Business Process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t is likely that 60010_01 will run into 2007, freeing up funds in 2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00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cenario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392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2057400"/>
                <a:tab algn="l" pos="2400480"/>
                <a:tab algn="l" pos="53722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ither “Performance Measures Reporting” and/or “Terms &amp; Conditions” could extend into 2007, freeing up funds in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7A245-DD9C-4F75-BEE7-12BCFB2F99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33360" y="89640"/>
            <a:ext cx="595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otential CIR Timeline</a:t>
            </a:r>
            <a:endParaRPr b="0" lang="en-US" sz="32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295280"/>
            <a:ext cx="8153640" cy="495324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80cbcb"/>
              </a:gs>
            </a:gsLst>
            <a:lin ang="5400000"/>
          </a:gradFill>
          <a:ln w="9360">
            <a:solidFill>
              <a:srgbClr val="ff9933"/>
            </a:solidFill>
            <a:miter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9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pproximate Timeline to Initiate Customer Information Repository (CIR) Project 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(assumes approval at each level and no other events impacting the schedul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396252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33908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077320" y="33908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30920" y="4368960"/>
            <a:ext cx="71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g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84800" y="5384880"/>
            <a:ext cx="838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oard V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6565680" y="4863600"/>
            <a:ext cx="3780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68560" y="3619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73120" y="438156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/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2209680"/>
            <a:ext cx="1092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R Submi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2743200"/>
            <a:ext cx="50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3619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438156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/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2590920"/>
            <a:ext cx="87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MS Review of P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828440" y="3352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23040" y="3619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27600" y="438156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/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006960" y="3048120"/>
            <a:ext cx="3938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97760" y="251460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AC V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36960" y="3619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56280" y="438156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/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95480" y="2286000"/>
            <a:ext cx="838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itial PRS V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3048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94360" y="3619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86680" y="436896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/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08760" y="2209680"/>
            <a:ext cx="160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tail Operations Program Area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7162920" y="2971800"/>
            <a:ext cx="2793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26280" y="5359320"/>
            <a:ext cx="99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ject Init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7683480" y="486396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89640" y="436896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t/O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70880" y="36320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01800" y="439416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2095560"/>
            <a:ext cx="1295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nal PRS Vote (includes IA, CBA and Prioritiz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7480" y="3124080"/>
            <a:ext cx="25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53080" y="36320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86600" y="36320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19240" y="438156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/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98600" y="3619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52760" y="438156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/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32120" y="3619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60720" y="438156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40080" y="3619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066680" y="48006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905120" y="48006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819520" y="480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3352320" y="48006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2760" y="5334120"/>
            <a:ext cx="990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RCO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Questions to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24160" y="5410080"/>
            <a:ext cx="990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RCO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Questions to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60520" y="524520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5257800"/>
            <a:ext cx="838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60920" y="438156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/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27680" y="3619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4939920" y="482616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5257800"/>
            <a:ext cx="914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A and CBA Due Date for Po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65560" y="438156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32320" y="3619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4444920" y="482616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14800" y="5334120"/>
            <a:ext cx="9907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nal Mar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BA Data D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CF008-31E8-44BC-8E6A-C72ED9CD32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tanderson</cp:lastModifiedBy>
  <dcterms:modified xsi:type="dcterms:W3CDTF">2006-03-08T19:33:43Z</dcterms:modified>
  <cp:revision>162</cp:revision>
  <dc:subject/>
  <dc:title>Slide 1</dc:title>
</cp:coreProperties>
</file>