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33920" y="456840"/>
            <a:ext cx="4876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93600"/>
            <a:ext cx="2438280" cy="993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04920" y="1066680"/>
            <a:ext cx="8229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72280" y="6400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3733920" y="45684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6400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7F70-7FE9-4347-977B-E26539D6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4495680" cy="1833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3505320"/>
            <a:ext cx="762012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38862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ing of Market Notices on erc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2578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Notices on ercot.com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089000"/>
            <a:ext cx="70866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467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Notices on ercot.com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1081080"/>
            <a:ext cx="6858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7920" y="76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Notices on ercot.co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031760"/>
            <a:ext cx="71625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1:02:47Z</dcterms:created>
  <dc:creator>Mary Anne Brelinsky</dc:creator>
  <dc:description/>
  <dc:language>en-US</dc:language>
  <cp:lastModifiedBy>Ted Hailu</cp:lastModifiedBy>
  <cp:lastPrinted>2000-09-19T10:42:49Z</cp:lastPrinted>
  <dcterms:modified xsi:type="dcterms:W3CDTF">2006-03-14T14:54:51Z</dcterms:modified>
  <cp:revision>226</cp:revision>
  <dc:subject/>
  <dc:title>Emergency Load Programs</dc:title>
</cp:coreProperties>
</file>