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684-56BE-4626-8765-10F0223E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AB14-F5EC-4965-9082-32B589D6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2C5C-5BC1-4E70-A87D-041314D9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C9F-D5A1-486D-AA59-E0BA58BE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0E0-426B-4888-89A6-3A568AED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C85D-5B2C-445E-A9FB-41E9826D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324E-EC4A-482C-A9C7-594395F5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2CAE-E89B-426A-9CB8-3A20DD5D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F9D-1802-4B66-8B3D-9AAD8F94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1ABB-A6F6-4F9B-966B-40461727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62D2-6456-4FA8-9DEF-A7005C64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71C9-A201-418D-93DA-A770CCAC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1745-F089-403C-8941-60885463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2BF4-EB62-42A2-924D-29B0D558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0344-FB87-4913-BA21-709129C6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89A6-1DBC-435C-9971-2B2EC5CB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71BA-1D1E-4D9D-8E5C-76EA021D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E325-9965-4346-8A8F-16BCFA67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67BE-6860-4CF7-B222-8625A6D8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DD31-86A9-4F42-8C20-1403F42F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060E-8EB0-4C8A-A1B7-1122A72B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EFF4-D542-497A-A912-E48FF30D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CCF-773D-447B-9B96-AA434420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E91-1744-4B6A-A412-1101CCC8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589800" y="611496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1307880"/>
            <a:ext cx="774396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4143-5DF2-4F34-BFB4-2CC0B39F4B25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9360" y="4633200"/>
            <a:ext cx="77770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391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32680" y="5952960"/>
            <a:ext cx="263988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297480" y="5872320"/>
            <a:ext cx="278928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389640" y="5979960"/>
            <a:ext cx="2384640" cy="75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316560" y="5846760"/>
            <a:ext cx="2679840" cy="84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586560" y="611352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6A2F-D29A-44B6-A85B-4C953B3061EF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FETF 2006 Go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ch 14, 2006 COPS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hort Term Go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tain a better understanding of the drivers of U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urrent line loss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inaccuracies in Profile shapes and assignments (this is being addressed by P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evaluate other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e the methodology for determining profile scaling factors in the data aggregation proc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ong Term Goal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if any Protocols changes are recommended and file PRR if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e the potential for establishing UFE Analysis Zones by determining if suitable TDSP boundary metering data can be made available to ERCOT; if such data is available compare it to the ERCOT aggregated TDSP loa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yze historical trends in the volatility and magnitude of UFE and explore the possibility of developing methods to forecast th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6:01:52Z</dcterms:created>
  <dc:creator>cmoore</dc:creator>
  <dc:description/>
  <dc:language>en-US</dc:language>
  <cp:lastModifiedBy>cmoore</cp:lastModifiedBy>
  <dcterms:modified xsi:type="dcterms:W3CDTF">2006-03-09T17:17:48Z</dcterms:modified>
  <cp:revision>5</cp:revision>
  <dc:subject/>
  <dc:title>UFETF 2006 Go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60429509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UFETF COPS Presentation</vt:lpwstr>
  </property>
  <property fmtid="{D5CDD505-2E9C-101B-9397-08002B2CF9AE}" pid="6" name="_NewReviewCycle">
    <vt:lpwstr/>
  </property>
</Properties>
</file>