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3A7C-9F75-4773-94D5-F2899CE54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04840" y="696960"/>
            <a:ext cx="4648320" cy="3486240"/>
          </a:xfrm>
          <a:prstGeom prst="rect">
            <a:avLst/>
          </a:prstGeom>
          <a:ln w="0">
            <a:noFill/>
          </a:ln>
        </p:spPr>
      </p:sp>
      <p:sp>
        <p:nvSpPr>
          <p:cNvPr id="10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04840" y="696960"/>
            <a:ext cx="4648320" cy="3486240"/>
          </a:xfrm>
          <a:prstGeom prst="rect">
            <a:avLst/>
          </a:prstGeom>
          <a:ln w="0">
            <a:noFill/>
          </a:ln>
        </p:spPr>
      </p:sp>
      <p:sp>
        <p:nvSpPr>
          <p:cNvPr id="9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underline the massive amount of work done in a short time for this issue.  I also speak to PWG’s Kudo’s for ERCOT LP Staf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963192-8C46-4C0B-8EE6-1466AC51284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FEB998-88BD-4F9F-9829-6B348A84D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81A7641-BCB0-4A0A-9539-7B45C701B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038E9C2-474B-43EB-894A-141B82CAE47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62AA7B-0F87-4043-B2BB-31CD2DE41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90B0CC-0411-4EE4-B6EE-4977BF07F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5E647C3-3683-432B-9D3C-E642DCB05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FADBCE7-8350-4963-88E0-0848E0BC4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F0ED2E1-3AD3-4B2A-82FC-98296034D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CFFCA0-234C-4134-96CE-655C9F287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045BAA3-5D72-4C33-BFA6-6862B8FF9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6E8459B-B7CA-48CD-9688-3DA357F115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A98F-2C8D-49F1-A857-1997FE011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nie Podraza</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Reliant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P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rch 14, 2006</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719A3A8-1B70-4411-A675-E100A2D9FC93}" type="slidenum">
              <a:t>1</a:t>
            </a:fld>
          </a:p>
        </p:txBody>
      </p:sp>
      <p:sp>
        <p:nvSpPr>
          <p:cNvPr id="4" name="PlaceHolder 3"/>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2133720"/>
            <a:ext cx="8076960" cy="3751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Writing PRRs as required – Dec.</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on going</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R488 Weather Responsiveness Determination Eff. 05.</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R514 Twelve Month Window for Non-IDR Scaling Eff. 05.</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R536 lower IDR Mandatory Installation Threshold Eff. 05.</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R544 12-Month Window for Scaling NIDR to IDR Eff 05.</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R565 Calculation of Losses for Settlement Eff 05 – implementation 06.</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R566 Implementation of IDR Optional Removal Threshold Eff 05.</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R572 Weather sensitivity classification Eff 05.</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R617 IDR Optional Removal Eff 05.</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ed a draft of Historical Usage Requirement for Opt-In Entities.</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ed a draft of Transmission language for IDR Optional Removal.</a:t>
            </a:r>
            <a:endParaRPr b="0" lang="en-US" sz="1800" spc="-1" strike="noStrike">
              <a:solidFill>
                <a:srgbClr val="000000"/>
              </a:solidFill>
              <a:latin typeface="Times New Roman"/>
            </a:endParaRPr>
          </a:p>
        </p:txBody>
      </p:sp>
      <p:sp>
        <p:nvSpPr>
          <p:cNvPr id="69"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BE6F02A-98F2-4233-A964-A6ADA7AA2672}" type="slidenum">
              <a:t>10</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2133720"/>
            <a:ext cx="8076960" cy="37825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RS sample selection round two – Dec.</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pending</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a) Report on sample evaluation developed.</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Data review with TDSPs in proces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12 months of data for most meters as of October 2005.</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 Tentative Milestone Target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3/31/06</a:t>
            </a:r>
            <a:r>
              <a:rPr b="0" lang="en-US" sz="1800" spc="-1" strike="noStrike">
                <a:solidFill>
                  <a:srgbClr val="000000"/>
                </a:solidFill>
                <a:latin typeface="Times New Roman"/>
              </a:rPr>
              <a:t>:  Analysis of current profile models complet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4/30/06</a:t>
            </a:r>
            <a:r>
              <a:rPr b="0" lang="en-US" sz="1800" spc="-1" strike="noStrike">
                <a:solidFill>
                  <a:srgbClr val="000000"/>
                </a:solidFill>
                <a:latin typeface="Times New Roman"/>
              </a:rPr>
              <a:t>:  Sample Point selection for round 2 complet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6/30/06</a:t>
            </a:r>
            <a:r>
              <a:rPr b="0" lang="en-US" sz="1800" spc="-1" strike="noStrike">
                <a:solidFill>
                  <a:srgbClr val="000000"/>
                </a:solidFill>
                <a:latin typeface="Times New Roman"/>
              </a:rPr>
              <a:t>:  Complete profile model building.</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9/30/06:</a:t>
            </a:r>
            <a:r>
              <a:rPr b="0" lang="en-US" sz="1800" spc="-1" strike="noStrike">
                <a:solidFill>
                  <a:srgbClr val="000000"/>
                </a:solidFill>
                <a:latin typeface="Times New Roman"/>
              </a:rPr>
              <a:t>  Stakeholder process completion (</a:t>
            </a:r>
            <a:r>
              <a:rPr b="1" lang="en-US" sz="1800" spc="-1" strike="noStrike">
                <a:solidFill>
                  <a:srgbClr val="000000"/>
                </a:solidFill>
                <a:latin typeface="Times New Roman"/>
              </a:rPr>
              <a:t>best case scenario</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2/28/07:</a:t>
            </a:r>
            <a:r>
              <a:rPr b="0" lang="en-US" sz="1800" spc="-1" strike="noStrike">
                <a:solidFill>
                  <a:srgbClr val="000000"/>
                </a:solidFill>
                <a:latin typeface="Times New Roman"/>
              </a:rPr>
              <a:t>  150 day notification completed.</a:t>
            </a:r>
            <a:endParaRPr b="0" lang="en-US" sz="18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E548527-2A35-4E40-95EF-E3CE5A8C0CC0}" type="slidenum">
              <a:t>11</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2133720"/>
            <a:ext cx="8076960" cy="2654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IDR Analysis – 2 issues left – Dec.</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pending</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s LRS project data analysi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nsider the impact of mandatory TOU metering and application of the </a:t>
            </a:r>
            <a:r>
              <a:rPr b="0" lang="en-US" sz="1800" spc="-1" strike="noStrike">
                <a:solidFill>
                  <a:srgbClr val="000000"/>
                </a:solidFill>
                <a:latin typeface="Times New Roman"/>
              </a:rPr>
              <a:t>	</a:t>
            </a:r>
            <a:r>
              <a:rPr b="0" lang="en-US" sz="1800" spc="-1" strike="noStrike">
                <a:solidFill>
                  <a:srgbClr val="000000"/>
                </a:solidFill>
                <a:latin typeface="Times New Roman"/>
              </a:rPr>
              <a:t>   profile chunking methodology as both an alternative and a supplement to </a:t>
            </a:r>
            <a:r>
              <a:rPr b="0" lang="en-US" sz="1800" spc="-1" strike="noStrike">
                <a:solidFill>
                  <a:srgbClr val="000000"/>
                </a:solidFill>
                <a:latin typeface="Times New Roman"/>
              </a:rPr>
              <a:t>	</a:t>
            </a:r>
            <a:r>
              <a:rPr b="0" lang="en-US" sz="1800" spc="-1" strike="noStrike">
                <a:solidFill>
                  <a:srgbClr val="000000"/>
                </a:solidFill>
                <a:latin typeface="Times New Roman"/>
              </a:rPr>
              <a:t>   IDR metering.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Repeat the analysis when ERCOT load research data is available to more </a:t>
            </a:r>
            <a:r>
              <a:rPr b="0" lang="en-US" sz="1800" spc="-1" strike="noStrike">
                <a:solidFill>
                  <a:srgbClr val="000000"/>
                </a:solidFill>
                <a:latin typeface="Times New Roman"/>
              </a:rPr>
              <a:t>	</a:t>
            </a:r>
            <a:r>
              <a:rPr b="0" lang="en-US" sz="1800" spc="-1" strike="noStrike">
                <a:solidFill>
                  <a:srgbClr val="000000"/>
                </a:solidFill>
                <a:latin typeface="Times New Roman"/>
              </a:rPr>
              <a:t>   accurately assess where the IDR threshold should be set.</a:t>
            </a:r>
            <a:endParaRPr b="0" lang="en-US" sz="1800" spc="-1" strike="noStrike">
              <a:solidFill>
                <a:srgbClr val="000000"/>
              </a:solidFill>
              <a:latin typeface="Times New Roman"/>
            </a:endParaRPr>
          </a:p>
        </p:txBody>
      </p:sp>
      <p:sp>
        <p:nvSpPr>
          <p:cNvPr id="73"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A1F812F-358D-4C32-BA68-2CB0A222B75E}" type="slidenum">
              <a:t>12</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3520" y="2133720"/>
            <a:ext cx="8076960" cy="12524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Agreement between decision tree language and LPG – Dec.</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pending</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LPGRR discussed and extensive draft in process.</a:t>
            </a:r>
            <a:endParaRPr b="0" lang="en-US" sz="1800" spc="-1" strike="noStrike">
              <a:solidFill>
                <a:srgbClr val="000000"/>
              </a:solidFill>
              <a:latin typeface="Times New Roman"/>
            </a:endParaRPr>
          </a:p>
        </p:txBody>
      </p:sp>
      <p:sp>
        <p:nvSpPr>
          <p:cNvPr id="75"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FD342E0-5B8E-444A-939F-E29C37A0329D}" type="slidenum">
              <a:t>13</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Goals</a:t>
            </a:r>
            <a:endParaRPr b="0" lang="en-US" sz="2400" spc="-1" strike="noStrike">
              <a:solidFill>
                <a:srgbClr val="000000"/>
              </a:solidFill>
              <a:latin typeface="Times New Roman"/>
            </a:endParaRPr>
          </a:p>
        </p:txBody>
      </p:sp>
      <p:sp>
        <p:nvSpPr>
          <p:cNvPr id="77" name=""/>
          <p:cNvSpPr/>
          <p:nvPr/>
        </p:nvSpPr>
        <p:spPr>
          <a:xfrm>
            <a:off x="304920" y="1828800"/>
            <a:ext cx="8534160" cy="3448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aluate Profile ID assignment responsibilitie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isting Profile Evaluation and New Profile Recommendation. </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RS sample selection round two.</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cessing new profile requests – Oil &amp; Ga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bilizing Annual Validation Migration Issue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lete 2004 &amp; 2005 UFE Analysi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entify ways to accommodate extreme events on the Settlement proces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aluate Lagged Dynamic profile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R Analysis – 2 issues outstanding from original analysis.</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orporating into the Load Profiling Guides the Decision Tree language where possible. </a:t>
            </a:r>
            <a:endParaRPr b="0" lang="en-US" sz="2000" spc="-1" strike="noStrike">
              <a:solidFill>
                <a:srgbClr val="000000"/>
              </a:solidFill>
              <a:latin typeface="Times New Roman"/>
            </a:endParaRPr>
          </a:p>
        </p:txBody>
      </p:sp>
      <p:sp>
        <p:nvSpPr>
          <p:cNvPr id="78"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921543C-A819-4302-9138-FE9713AB38F7}" type="slidenum">
              <a:t>14</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Goals</a:t>
            </a:r>
            <a:endParaRPr b="0" lang="en-US" sz="2400" spc="-1" strike="noStrike">
              <a:solidFill>
                <a:srgbClr val="000000"/>
              </a:solidFill>
              <a:latin typeface="Times New Roman"/>
            </a:endParaRPr>
          </a:p>
        </p:txBody>
      </p:sp>
      <p:sp>
        <p:nvSpPr>
          <p:cNvPr id="80" name=""/>
          <p:cNvSpPr/>
          <p:nvPr/>
        </p:nvSpPr>
        <p:spPr>
          <a:xfrm>
            <a:off x="304920" y="1752480"/>
            <a:ext cx="8534160" cy="4057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Profile ID assignment responsibilitie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Profile ID assignment affects accuracy of settlement and the number of Profile ID migrations sent to the market during Annual Validation. Centralizing the assignment process with ERCOT allows implementation of more data intensive algorithms to achieve assignment stability and accuracy. The PWG has submitted a LPGRR to address this issue. Stability of assignment is also a prerequisite to recalibration of load profi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Existing Profile Evaluation and New Profile Recommenda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Use the load research collected thus far to evaluate the accuracy of current load profiles, and develop improved models where warranted. This project is specified in Protocols and by PUCT rulemaking as a function of the ERCOT Load Profiling Staff.</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1"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718E22A-248B-46CB-9E1C-534C2ADFCC11}" type="slidenum">
              <a:t>15</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Goals</a:t>
            </a:r>
            <a:endParaRPr b="0" lang="en-US" sz="2400" spc="-1" strike="noStrike">
              <a:solidFill>
                <a:srgbClr val="000000"/>
              </a:solidFill>
              <a:latin typeface="Times New Roman"/>
            </a:endParaRPr>
          </a:p>
        </p:txBody>
      </p:sp>
      <p:sp>
        <p:nvSpPr>
          <p:cNvPr id="83" name=""/>
          <p:cNvSpPr/>
          <p:nvPr/>
        </p:nvSpPr>
        <p:spPr>
          <a:xfrm>
            <a:off x="304920" y="1828800"/>
            <a:ext cx="8534160" cy="3508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RS sample selection round two.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3333cc"/>
                </a:solidFill>
                <a:latin typeface="Times New Roman"/>
              </a:rPr>
              <a:t>The current load research sample was designed on a 15% accuracy at 90% confidence criteria and consists of about 4000 load research IDR meters. The analysis of the results shall be used to determine how many additional sample points will be needed to achieve the appropriate level of accuracy and cost to the market.</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new profile requests – Oil &amp; Ga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New profiles can be requested by Market Participants. This profile request is pending evaluation of load research data from the Oil and Gas type premise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55603D67-5A75-4026-A962-3F336B42FDB2}" type="slidenum">
              <a:t>16</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Goals</a:t>
            </a:r>
            <a:endParaRPr b="0" lang="en-US" sz="2400" spc="-1" strike="noStrike">
              <a:solidFill>
                <a:srgbClr val="000000"/>
              </a:solidFill>
              <a:latin typeface="Times New Roman"/>
            </a:endParaRPr>
          </a:p>
        </p:txBody>
      </p:sp>
      <p:sp>
        <p:nvSpPr>
          <p:cNvPr id="86" name=""/>
          <p:cNvSpPr/>
          <p:nvPr/>
        </p:nvSpPr>
        <p:spPr>
          <a:xfrm>
            <a:off x="304920" y="1828800"/>
            <a:ext cx="8534160" cy="43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bilizing Annual Validation Migration Issu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e PWG annually per Protocols has been attempting to correct the issue of large migration of ESIIDs from one assignment to another during the annual validation process. The BOD and TAC both have expressed a desire for this issue to be resolved. The LPGRR mentioned in goal 1 is the first step in this directio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2004 &amp; 2005 UFE Analy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e previous UFE reports have been done by the ERCOT Load Profiling Staff.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entify ways to accommodate extreme events on the Settlement process. </a:t>
            </a:r>
            <a:r>
              <a:rPr b="0" lang="en-US" sz="2000" spc="-1" strike="noStrike">
                <a:solidFill>
                  <a:srgbClr val="3333cc"/>
                </a:solidFill>
                <a:latin typeface="Times New Roman"/>
              </a:rPr>
              <a:t>This was assigned to PWG per COPS in November 2005.</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0BEE337-6491-4BE8-A94C-000968CE96AE}" type="slidenum">
              <a:t>17</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137160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6 Goals</a:t>
            </a:r>
            <a:endParaRPr b="0" lang="en-US" sz="2400" spc="-1" strike="noStrike">
              <a:solidFill>
                <a:srgbClr val="000000"/>
              </a:solidFill>
              <a:latin typeface="Times New Roman"/>
            </a:endParaRPr>
          </a:p>
        </p:txBody>
      </p:sp>
      <p:sp>
        <p:nvSpPr>
          <p:cNvPr id="89"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685800" y="1752480"/>
            <a:ext cx="7772400" cy="43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e Lagged Dynamic profi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This is a methodology for load allocation used in other jurisdictions. This method could provide more accurate profiles for settlement and particularly during mass outage events.</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R Analysis – 2 issues outstanding from original analy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Protocols requires an analysis of the IDR threshold level. The completed analysis made four recommendations, two of which require the use of load research data.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ing into the Load Profiling Guides the Decision Tree language where possible.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3333cc"/>
                </a:solidFill>
                <a:latin typeface="Times New Roman"/>
              </a:rPr>
              <a:t>This would result in formal stakeholder governance of the Decision Tree language.</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EED2B9C-A37F-46B8-B28B-82D5BCA6A89E}" type="slidenum">
              <a:t>18</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52" name=""/>
          <p:cNvSpPr/>
          <p:nvPr/>
        </p:nvSpPr>
        <p:spPr>
          <a:xfrm>
            <a:off x="533520" y="2133720"/>
            <a:ext cx="807696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aluate Profile ID assignment responsibilities – June</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nual Validation 2005 – make changes and complete – December</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V 2006 – review of 2005 changes per long term – </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June), cut point (De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aluate Lagged Dynamics – De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ring Load Profiling Guides current – De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cessing new profile requests – Oil &amp; Gas, Convenience Store – De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llaboration with UFE TF – De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ing PRRs as required – De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RS sample selection round two – De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R Analysis – 2 issues left – Dec.</a:t>
            </a: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reement between decision tree language and LPG – Dec.</a:t>
            </a:r>
            <a:endParaRPr b="0" lang="en-US" sz="2000" spc="-1" strike="noStrike">
              <a:solidFill>
                <a:srgbClr val="000000"/>
              </a:solidFill>
              <a:latin typeface="Times New Roman"/>
            </a:endParaRPr>
          </a:p>
        </p:txBody>
      </p:sp>
      <p:sp>
        <p:nvSpPr>
          <p:cNvPr id="53"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7BCA0B5-2A32-42F9-BDF5-0083867C6337}" type="slidenum">
              <a:t>2</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2133720"/>
            <a:ext cx="8076960" cy="2685240"/>
          </a:xfrm>
          <a:prstGeom prst="rect">
            <a:avLst/>
          </a:prstGeom>
          <a:noFill/>
          <a:ln w="0">
            <a:noFill/>
          </a:ln>
        </p:spPr>
        <p:style>
          <a:lnRef idx="0"/>
          <a:fillRef idx="0"/>
          <a:effectRef idx="0"/>
          <a:fontRef idx="minor"/>
        </p:style>
        <p:txBody>
          <a:bodyPr lIns="90000" rIns="90000" tIns="46800" bIns="46800" anchor="t">
            <a:spAutoFit/>
          </a:bodyPr>
          <a:p>
            <a:pPr marL="457200" indent="-45720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valuate Profile ID assignment responsibilities – June </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pending</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a) Two full day workshops and several conference call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4 million dollars est. total change &amp; 1 million dollars partial change.</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Oct. 14, 2005 conference call achieved consensus on option 2 (partial).</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Nov. 17, 2005 PWG reviewed option 2.</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Dec. 15, 2005 PWG reached consensus on option 2 for Residential.</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Business Segment still under study by TDSPs for option 2. </a:t>
            </a:r>
            <a:endParaRPr b="0" lang="en-US" sz="1800" spc="-1" strike="noStrike">
              <a:solidFill>
                <a:srgbClr val="000000"/>
              </a:solidFill>
              <a:latin typeface="Times New Roman"/>
            </a:endParaRPr>
          </a:p>
        </p:txBody>
      </p:sp>
      <p:sp>
        <p:nvSpPr>
          <p:cNvPr id="55"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BFE4E7D-BAF0-43A1-BD6A-2D9972E514BE}" type="slidenum">
              <a:t>3</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33520" y="2133720"/>
            <a:ext cx="8076960" cy="44218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nnual Validation 2005 – make changes and complete – December</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Complete</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a) TDSPs and ERCOT instituted several algorithm changes per 2005 plan.</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Decision Tree updated.</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TDSPs and ERCOT completed all transaction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 In August PWG debated and submitted a recommendation.</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d) RMS/TAC/BOD suspended Residential Transactions pending ERCOT Analysi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e) ERCOT conducted a Residential Survey.</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f) October 29, 2005 PWG recommends the flow of residential transaction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g) November 7, 2005 RMS recommends partial flow of residential transaction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h) December 1, 2005 TAC approved RMS recommendation.</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i) December 15, 2005 RMS recommendation passes on remaining transactions and 99% criteria. (going to TAC in January 2006).</a:t>
            </a:r>
            <a:endParaRPr b="0" lang="en-US" sz="18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Times New Roman"/>
              </a:rPr>
              <a:t>Italics are unplanned</a:t>
            </a:r>
            <a:endParaRPr b="0" lang="en-US" sz="1200" spc="-1" strike="noStrike">
              <a:solidFill>
                <a:srgbClr val="000000"/>
              </a:solidFill>
              <a:latin typeface="Times New Roman"/>
            </a:endParaRPr>
          </a:p>
        </p:txBody>
      </p:sp>
      <p:sp>
        <p:nvSpPr>
          <p:cNvPr id="57"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B5AF8B9-D032-4863-AA37-B7FB1682A5FC}" type="slidenum">
              <a:t>4</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3520" y="2133720"/>
            <a:ext cx="8076960" cy="35384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AV 2006 – review of 2005 changes per long term – </a:t>
            </a:r>
            <a:endParaRPr b="0" lang="en-US" sz="2000" spc="-1" strike="noStrike">
              <a:solidFill>
                <a:srgbClr val="000000"/>
              </a:solidFill>
              <a:latin typeface="Times New Roman"/>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June), cut point (Dec.)</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pending</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a) PWG has consensus on four changes for 2006.</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December PWG to reviewed specifics on the four decision tree changes for 2006.</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wo Business suggestions dropped due to very low impact.</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Two Residential suggestions pending market approval of c) and d) below.</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3333cc"/>
                </a:solidFill>
                <a:latin typeface="Times New Roman"/>
              </a:rPr>
              <a:t>c) Possibility of ERCOT having partial responsibility for profile id assignment.</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d) Possibility of new residential profile id assignment algorithm.</a:t>
            </a:r>
            <a:endParaRPr b="0" lang="en-US" sz="18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Times New Roman"/>
              </a:rPr>
              <a:t>Italics are unplanned</a:t>
            </a:r>
            <a:endParaRPr b="0" lang="en-US" sz="1200" spc="-1" strike="noStrike">
              <a:solidFill>
                <a:srgbClr val="000000"/>
              </a:solidFill>
              <a:latin typeface="Times New Roman"/>
            </a:endParaRPr>
          </a:p>
        </p:txBody>
      </p:sp>
      <p:sp>
        <p:nvSpPr>
          <p:cNvPr id="59"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6529857-3797-4922-98E9-ABB0E80FEC36}" type="slidenum">
              <a:t>5</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33520" y="2133720"/>
            <a:ext cx="8076960" cy="1283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Evaluate Lagged Dynamics – Dec.</a:t>
            </a:r>
            <a:endParaRPr b="0" lang="en-US" sz="18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on going</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Have had several discussions to educate and discuss possibility.</a:t>
            </a:r>
            <a:endParaRPr b="0" lang="en-US" sz="1800" spc="-1" strike="noStrike">
              <a:solidFill>
                <a:srgbClr val="000000"/>
              </a:solidFill>
              <a:latin typeface="Times New Roman"/>
            </a:endParaRPr>
          </a:p>
        </p:txBody>
      </p:sp>
      <p:sp>
        <p:nvSpPr>
          <p:cNvPr id="61"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8E35AB6-4D7F-44F3-9E6F-19616AD8F250}" type="slidenum">
              <a:t>6</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33520" y="2133720"/>
            <a:ext cx="8076960" cy="26852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Bring Load Profiling Guides current – Dec.</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on going</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a) LPGRR005 Remove 1000 kW references approved.</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LPGRR006 Retail Market Guide Reference – withdrawn.</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LPGRR007 IDR Requirement Changes pending approval of RMGRR031.</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 LPGRR008 Profile ID Assignment Effective Date approved by RMS 11/9.</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 Additional drafts being written by PWG sub-team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 Written drafts under review for LPG Sections 8, 9 and 11.</a:t>
            </a:r>
            <a:endParaRPr b="0" lang="en-US" sz="1800" spc="-1" strike="noStrike">
              <a:solidFill>
                <a:srgbClr val="000000"/>
              </a:solidFill>
              <a:latin typeface="Times New Roman"/>
            </a:endParaRPr>
          </a:p>
        </p:txBody>
      </p:sp>
      <p:sp>
        <p:nvSpPr>
          <p:cNvPr id="63"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D2F360A-6A0C-4B6C-9A6E-96DF8B7109FC}" type="slidenum">
              <a:t>7</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33520" y="2133720"/>
            <a:ext cx="8076960" cy="15573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Processing new profile requests – Oil &amp; Gas, Convenience Store – Dec.</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pending</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onvenience Store request withdrawn.</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Oil &amp; Gas request is in data validation phase of evaluation by ERCOT Staff.</a:t>
            </a:r>
            <a:endParaRPr b="0" lang="en-US" sz="1800" spc="-1" strike="noStrike">
              <a:solidFill>
                <a:srgbClr val="000000"/>
              </a:solidFill>
              <a:latin typeface="Times New Roman"/>
            </a:endParaRPr>
          </a:p>
        </p:txBody>
      </p:sp>
      <p:sp>
        <p:nvSpPr>
          <p:cNvPr id="65"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E8CD530-0B6A-4B51-9C71-1B201202AF5D}" type="slidenum">
              <a:t>8</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2133720"/>
            <a:ext cx="8076960" cy="27453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Collaboration with UFE TF – Dec.</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 ongoing</a:t>
            </a: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3 UFE report by ERCOT staff issued.</a:t>
            </a:r>
            <a:endParaRPr b="0" lang="en-US" sz="1800" spc="-1" strike="noStrike">
              <a:solidFill>
                <a:srgbClr val="000000"/>
              </a:solidFill>
              <a:latin typeface="Times New Roman"/>
            </a:endParaRPr>
          </a:p>
          <a:p>
            <a:pPr lvl="1" marL="914400" indent="-457200">
              <a:lnSpc>
                <a:spcPct val="100000"/>
              </a:lnSpc>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4 UFE report pending ERCOT resource allocation.</a:t>
            </a:r>
            <a:endParaRPr b="0" lang="en-US" sz="1800" spc="-1" strike="noStrike">
              <a:solidFill>
                <a:srgbClr val="000000"/>
              </a:solidFill>
              <a:latin typeface="Times New Roman"/>
            </a:endParaRPr>
          </a:p>
          <a:p>
            <a:pPr lvl="1" marL="914400" indent="-457200">
              <a:lnSpc>
                <a:spcPct val="100000"/>
              </a:lnSpc>
              <a:buClr>
                <a:srgbClr val="3333cc"/>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COPS has suggested PWG evaluate affects of Hurricane Rita.</a:t>
            </a:r>
            <a:endParaRPr b="0" lang="en-US" sz="1800" spc="-1" strike="noStrike">
              <a:solidFill>
                <a:srgbClr val="000000"/>
              </a:solidFill>
              <a:latin typeface="Times New Roman"/>
            </a:endParaRPr>
          </a:p>
          <a:p>
            <a:pPr lvl="1" marL="914400" indent="-457200">
              <a:lnSpc>
                <a:spcPct val="100000"/>
              </a:lnSpc>
              <a:buClr>
                <a:srgbClr val="3333cc"/>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COPS has suggested PWG evaluate TDSP meter estimation processes.</a:t>
            </a:r>
            <a:endParaRPr b="0" lang="en-US" sz="18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cc"/>
                </a:solidFill>
                <a:latin typeface="Times New Roman"/>
              </a:rPr>
              <a:t>Italics are unplanned</a:t>
            </a:r>
            <a:endParaRPr b="0" lang="en-US" sz="1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5 Goals</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1499273-4474-4ED8-A693-018F83CCD39D}" type="slidenum">
              <a:t>9</a:t>
            </a:fld>
          </a:p>
        </p:txBody>
      </p:sp>
      <p:sp>
        <p:nvSpPr>
          <p:cNvPr id="3" name="PlaceHolder 2"/>
          <p:cNvSpPr>
            <a:spLocks noGrp="1"/>
          </p:cNvSpPr>
          <p:nvPr>
            <p:ph type="dt" idx="1"/>
          </p:nvPr>
        </p:nvSpPr>
        <p:spPr/>
        <p:txBody>
          <a:bodyPr/>
          <a:p>
            <a:r>
              <a:rPr lang="en-US"/>
              <a:t>January 11,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Windows XP ver. 2.2</cp:lastModifiedBy>
  <dcterms:modified xsi:type="dcterms:W3CDTF">2006-02-28T13:50:37Z</dcterms:modified>
  <cp:revision>162</cp:revision>
  <dc:subject/>
  <dc:title>PowerPoint Presentation</dc:title>
</cp:coreProperties>
</file>