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83B2-8CF6-46E0-A4A0-A2DDF308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ie to present reason we ar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079F-7907-485E-AC29-34E09B359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3229-3895-460A-8F22-5664EAD8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F19B-22BB-4324-A0E5-ACA552DC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ADE9-BCE0-4613-9967-88D2F5CEC0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EE74-41B1-4415-B0AC-2760D6E6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8FB3-9194-451E-AADF-142AA08F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B9E6-77DF-4ED5-8CC3-6C17874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CCE3-202E-4E8B-B937-F8449EBF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CB8D-1C26-4F6D-883D-6171384C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9A8A-25E3-49D8-9EF6-30F1CB9A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166C-880A-417B-AF0E-2E7310ED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4430-6D8D-4D7B-AB40-43599BD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7F60-F107-4039-98D4-B36B7C1F2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14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E5D6-B63E-4EB7-9A64-3C744334CE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33520" y="22860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G by consensus agreed to change the responsibility of Profile ID assignment calculation of Profile Type for Annual Validation from the TDSPs to ERCOT Sta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has approved the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 presented the concept to TAC, which voiced no obj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CFCD9-20F6-4B8A-AFF3-D940AD7A58A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per year, ERCOT calculates the profiles and provides a file of changes to each T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use this file to update their systems and create the appropriate 814_2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still responsible for new account assignments and any updates needed for normal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Ps responsible for keeping profile up to date with tari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90F5-8EAB-4745-9585-C7519F80A5B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2 Detail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8047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88400" indent="-78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no additional implementation costs to C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would be responsible for profile id assignment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– based on suppli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DSP still responsible for accuracy of the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utes could now be between ERCOT and 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dispute is based on incorrect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nough data are available to calculate a new profile segment for ESI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88400" indent="-788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f disputes handled between TDSPs and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hange to current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3195-CE6D-4F42-A3F0-BF2910F5791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0584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Responsibilit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31840" y="2136600"/>
            <a:ext cx="8562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COT can devote more resources to the Load Research Project due to reduced coordination efforts associated with the current Annual Validatio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ster implementation of changes to the Load Profile ID assignment methodolo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ential for stabilization of annual profile ID 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ential for reduced lag between identifying the need for a Profile ID assignment change and when the change becomes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for more flexibility in implementing changes to the Load Profile ID assignment methodology, including more sophisticated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oves any TDSP limitations on the number of months of usage history that can be incorporated in calculations for Profile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94EA-EE09-4249-9AF8-7EA3D6B4893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3680" y="1904760"/>
            <a:ext cx="879480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potential for inconsistent application of assignment process across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to minimize barriers to entry to the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/Co-Ops don’t have to implement complicated logic, hire outside consultants, or add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eliminates need for TDSPs to modify their systems due to ongoing changes in the Load Profile ID assignment process and Annua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s would benefit from more accurate profiles and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X SET change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0584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Responsibility Change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AED1C-5A34-447B-B6A7-21ADF14555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12193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 and Overs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70000" y="2116080"/>
            <a:ext cx="864216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ong with various ERCOT settlement functions, the Annual Validation process is subjected to SAS70 audit by a 3rd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ight of the Profile ID assignment process by PUCT and stakeholders will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e Decision Tree continues to document and provide visibility for the Profile ID assignm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’s would continue to have audit capability via SCR 727 extract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et of code will be used for assignment calculations rather than six or more independently develope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BE72-252B-4DAD-AF02-F3A671F1267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70000" y="2209320"/>
            <a:ext cx="864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WG requests COPS recommend approval of LPGRR ??? “Load Profile Type Responsibility Change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o TAC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mely approval at COPS and TAC is needed in order to be effective for 2006 Annu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A44B-7F0A-48A6-AB8A-7ED3F5EA37F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0000" y="2209320"/>
            <a:ext cx="864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WG requests COPS approve PRR draft - 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val of Temporary Modification to Annual Valida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AC approval is needed for LPGRRs but Protocols requires Board approval for Annual Validation changes. This PRR make approvals consis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F141-95DA-440B-8132-2F8ABF08A8AC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ing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438280"/>
            <a:ext cx="8076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WG requests COPS recommend approval of LPGRR ??? “Changes to Governing Subcommittee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 TA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roval at COPS and TAC is needed in order to change the Load Profiling Guides references from RMS to C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CC215-3849-44B3-9DA4-2075AF17A26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2819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 ID Assign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Review Process Proposed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E490-55E4-4840-83B0-34A7866592B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981080"/>
            <a:ext cx="8076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rly 20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 was introduced that annual validation could take place at ERCOT rather than jointly among all TDSPs and ERC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 20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Exchange of ideas in order to craft specifics with ERCOT on a proposed PRR for Annual Validation of Load Profile 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/200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This issue was discussed extensively at the PWG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/2005 to 5/20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s were formulated on feasibility of moving the Load Profile ID Assignment and Annual Validation to ERCOT, between ERCOT and sub-t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/20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deas presented at PWG, decision to move forward with workshop consisting of wider RMS and COPS committee membersh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/2005 to 11/20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WG hosted a series of conference calls and market workshops to determine preferable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/2005 to 2/2006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WG sponsored a conference call and series of PWG meetings to work on the final option and guide language (LPGRR ?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E0C3-8686-49A4-98D2-7C5D75BF5D2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s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05740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filing Working Group after years of debate determined there were two options to improve the Profile ID Assignments and Annual Review Proces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1”: To determine the feasibility of a proposed change to move the entire Load Profile ID assignment process, maintenance process, and annual validation to ER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 2”: To determine the feasibility of moving a portion of the annual validation process to ERCOT where the profile is calculated annual at ERCOT and the information passed to each TDSP and/or Muni-C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3DDB-9E00-4EBE-BD7C-A5EFE4A3B94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77440" y="1239480"/>
            <a:ext cx="7924680" cy="48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filing Working Group after years of debate determined there were two options to improve the Profile ID Assignments and Annual Review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1”: To determine the feasibility of a proposed change to move the entire Load Profile ID assignment process, maintenance process, and annual validation to ERC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5960" indent="-36180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2”: To determine the feasibility of moving a portion of the annual validation process to ERCOT where the profile is calculated annual at ERCOT and the information passed to each TDSP and/or Muni-C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22360" y="2776680"/>
            <a:ext cx="6815160" cy="1650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7760" y="4888080"/>
            <a:ext cx="1382760" cy="83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E42E-EA25-4D2A-A49C-7EAA3B215B0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ile Decision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438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914400" y="2666880"/>
          <a:ext cx="7334280" cy="27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666880"/>
                    <a:ext cx="7334280" cy="27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32D3-FAD9-4116-A3D8-F5526CEC0DC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523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Profil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3886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" y="1676520"/>
            <a:ext cx="2886120" cy="2135160"/>
            <a:chOff x="228600" y="1676520"/>
            <a:chExt cx="2886120" cy="2135160"/>
          </a:xfrm>
        </p:grpSpPr>
        <p:sp>
          <p:nvSpPr>
            <p:cNvPr id="73" name=""/>
            <p:cNvSpPr/>
            <p:nvPr/>
          </p:nvSpPr>
          <p:spPr>
            <a:xfrm>
              <a:off x="1446480" y="289728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8400" y="327816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0000" y="32781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28600" y="1676520"/>
              <a:ext cx="2886120" cy="2135160"/>
              <a:chOff x="228600" y="1676520"/>
              <a:chExt cx="2886120" cy="2135160"/>
            </a:xfrm>
          </p:grpSpPr>
          <p:sp>
            <p:nvSpPr>
              <p:cNvPr id="77" name=""/>
              <p:cNvSpPr/>
              <p:nvPr/>
            </p:nvSpPr>
            <p:spPr>
              <a:xfrm>
                <a:off x="228600" y="2782800"/>
                <a:ext cx="1436400" cy="1028880"/>
              </a:xfrm>
              <a:custGeom>
                <a:avLst/>
                <a:gdLst/>
                <a:ahLst/>
                <a:rect l="l" t="t" r="r" b="b"/>
                <a:pathLst>
                  <a:path w="905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5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676160" y="2782800"/>
                <a:ext cx="1438560" cy="1028880"/>
              </a:xfrm>
              <a:custGeom>
                <a:avLst/>
                <a:gdLst/>
                <a:ahLst/>
                <a:rect l="l" t="t" r="r" b="b"/>
                <a:pathLst>
                  <a:path w="906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6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7960" y="1676520"/>
                <a:ext cx="2316240" cy="1657440"/>
              </a:xfrm>
              <a:custGeom>
                <a:avLst/>
                <a:gdLst/>
                <a:ahLst/>
                <a:rect l="l" t="t" r="r" b="b"/>
                <a:pathLst>
                  <a:path w="1459" h="2088">
                    <a:moveTo>
                      <a:pt x="0" y="1045"/>
                    </a:moveTo>
                    <a:lnTo>
                      <a:pt x="729" y="0"/>
                    </a:lnTo>
                    <a:lnTo>
                      <a:pt x="1459" y="1045"/>
                    </a:lnTo>
                    <a:lnTo>
                      <a:pt x="729" y="2088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2055960" y="3048120"/>
              <a:ext cx="7520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31080" y="3048120"/>
              <a:ext cx="55692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4400" y="2211480"/>
              <a:ext cx="1522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file Typ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19920" y="1676520"/>
            <a:ext cx="2886120" cy="2135160"/>
            <a:chOff x="6019920" y="1676520"/>
            <a:chExt cx="2886120" cy="2135160"/>
          </a:xfrm>
        </p:grpSpPr>
        <p:sp>
          <p:nvSpPr>
            <p:cNvPr id="84" name=""/>
            <p:cNvSpPr/>
            <p:nvPr/>
          </p:nvSpPr>
          <p:spPr>
            <a:xfrm>
              <a:off x="7237800" y="289728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99720" y="327816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1320" y="32781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6019920" y="1676520"/>
              <a:ext cx="2886120" cy="2135160"/>
              <a:chOff x="6019920" y="1676520"/>
              <a:chExt cx="2886120" cy="2135160"/>
            </a:xfrm>
          </p:grpSpPr>
          <p:sp>
            <p:nvSpPr>
              <p:cNvPr id="88" name=""/>
              <p:cNvSpPr/>
              <p:nvPr/>
            </p:nvSpPr>
            <p:spPr>
              <a:xfrm>
                <a:off x="6019920" y="2782800"/>
                <a:ext cx="1436400" cy="1028880"/>
              </a:xfrm>
              <a:custGeom>
                <a:avLst/>
                <a:gdLst/>
                <a:ahLst/>
                <a:rect l="l" t="t" r="r" b="b"/>
                <a:pathLst>
                  <a:path w="905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5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67480" y="2782800"/>
                <a:ext cx="1438560" cy="1028880"/>
              </a:xfrm>
              <a:custGeom>
                <a:avLst/>
                <a:gdLst/>
                <a:ahLst/>
                <a:rect l="l" t="t" r="r" b="b"/>
                <a:pathLst>
                  <a:path w="906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6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99280" y="1676520"/>
                <a:ext cx="2316240" cy="1657440"/>
              </a:xfrm>
              <a:custGeom>
                <a:avLst/>
                <a:gdLst/>
                <a:ahLst/>
                <a:rect l="l" t="t" r="r" b="b"/>
                <a:pathLst>
                  <a:path w="1459" h="2088">
                    <a:moveTo>
                      <a:pt x="0" y="1045"/>
                    </a:moveTo>
                    <a:lnTo>
                      <a:pt x="729" y="0"/>
                    </a:lnTo>
                    <a:lnTo>
                      <a:pt x="1459" y="1045"/>
                    </a:lnTo>
                    <a:lnTo>
                      <a:pt x="729" y="2088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000640" y="320184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77120" y="3201840"/>
              <a:ext cx="43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05720" y="2211480"/>
              <a:ext cx="1522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er Data Typ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95880" y="3886200"/>
            <a:ext cx="2886120" cy="2135160"/>
            <a:chOff x="6095880" y="3886200"/>
            <a:chExt cx="2886120" cy="2135160"/>
          </a:xfrm>
        </p:grpSpPr>
        <p:sp>
          <p:nvSpPr>
            <p:cNvPr id="95" name=""/>
            <p:cNvSpPr/>
            <p:nvPr/>
          </p:nvSpPr>
          <p:spPr>
            <a:xfrm>
              <a:off x="7313760" y="510696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75680" y="5488200"/>
              <a:ext cx="53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846920" y="548820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g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095880" y="3886200"/>
              <a:ext cx="2886120" cy="2135160"/>
              <a:chOff x="6095880" y="3886200"/>
              <a:chExt cx="2886120" cy="2135160"/>
            </a:xfrm>
          </p:grpSpPr>
          <p:sp>
            <p:nvSpPr>
              <p:cNvPr id="99" name=""/>
              <p:cNvSpPr/>
              <p:nvPr/>
            </p:nvSpPr>
            <p:spPr>
              <a:xfrm>
                <a:off x="6095880" y="4992480"/>
                <a:ext cx="1436400" cy="1028880"/>
              </a:xfrm>
              <a:custGeom>
                <a:avLst/>
                <a:gdLst/>
                <a:ahLst/>
                <a:rect l="l" t="t" r="r" b="b"/>
                <a:pathLst>
                  <a:path w="905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5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43440" y="4992480"/>
                <a:ext cx="1438560" cy="1028880"/>
              </a:xfrm>
              <a:custGeom>
                <a:avLst/>
                <a:gdLst/>
                <a:ahLst/>
                <a:rect l="l" t="t" r="r" b="b"/>
                <a:pathLst>
                  <a:path w="906" h="1297">
                    <a:moveTo>
                      <a:pt x="0" y="649"/>
                    </a:moveTo>
                    <a:lnTo>
                      <a:pt x="453" y="0"/>
                    </a:lnTo>
                    <a:lnTo>
                      <a:pt x="906" y="649"/>
                    </a:lnTo>
                    <a:lnTo>
                      <a:pt x="453" y="1297"/>
                    </a:lnTo>
                    <a:lnTo>
                      <a:pt x="0" y="649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375240" y="3886200"/>
                <a:ext cx="2316240" cy="1657440"/>
              </a:xfrm>
              <a:custGeom>
                <a:avLst/>
                <a:gdLst/>
                <a:ahLst/>
                <a:rect l="l" t="t" r="r" b="b"/>
                <a:pathLst>
                  <a:path w="1459" h="2088">
                    <a:moveTo>
                      <a:pt x="0" y="1045"/>
                    </a:moveTo>
                    <a:lnTo>
                      <a:pt x="729" y="0"/>
                    </a:lnTo>
                    <a:lnTo>
                      <a:pt x="1459" y="1045"/>
                    </a:lnTo>
                    <a:lnTo>
                      <a:pt x="729" y="2088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8083080" y="5410440"/>
              <a:ext cx="456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3800" y="5411880"/>
              <a:ext cx="612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TO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4421160"/>
              <a:ext cx="152244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-Of-Us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683440" y="2743200"/>
            <a:ext cx="3783960" cy="2173320"/>
            <a:chOff x="2683440" y="2743200"/>
            <a:chExt cx="3783960" cy="2173320"/>
          </a:xfrm>
        </p:grpSpPr>
        <p:grpSp>
          <p:nvGrpSpPr>
            <p:cNvPr id="106" name=""/>
            <p:cNvGrpSpPr/>
            <p:nvPr/>
          </p:nvGrpSpPr>
          <p:grpSpPr>
            <a:xfrm>
              <a:off x="2683440" y="3541680"/>
              <a:ext cx="1110240" cy="917640"/>
              <a:chOff x="2683440" y="3541680"/>
              <a:chExt cx="1110240" cy="917640"/>
            </a:xfrm>
          </p:grpSpPr>
          <p:sp>
            <p:nvSpPr>
              <p:cNvPr id="107" name=""/>
              <p:cNvSpPr/>
              <p:nvPr/>
            </p:nvSpPr>
            <p:spPr>
              <a:xfrm rot="19375200">
                <a:off x="2629080" y="3886200"/>
                <a:ext cx="1218960" cy="228600"/>
              </a:xfrm>
              <a:prstGeom prst="rect">
                <a:avLst/>
              </a:prstGeom>
              <a:solidFill>
                <a:srgbClr val="cbcbc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408200">
                <a:off x="2951640" y="3939840"/>
                <a:ext cx="46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as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12400" y="2743200"/>
              <a:ext cx="3555000" cy="2173320"/>
              <a:chOff x="2912400" y="2743200"/>
              <a:chExt cx="3555000" cy="21733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912400" y="3693960"/>
                <a:ext cx="1110240" cy="917640"/>
                <a:chOff x="2912400" y="3693960"/>
                <a:chExt cx="1110240" cy="917640"/>
              </a:xfrm>
            </p:grpSpPr>
            <p:sp>
              <p:nvSpPr>
                <p:cNvPr id="111" name=""/>
                <p:cNvSpPr/>
                <p:nvPr/>
              </p:nvSpPr>
              <p:spPr>
                <a:xfrm rot="19375200">
                  <a:off x="2857680" y="4038120"/>
                  <a:ext cx="121896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9338600">
                  <a:off x="3231720" y="4091400"/>
                  <a:ext cx="366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as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141000" y="3846600"/>
                <a:ext cx="1110240" cy="917640"/>
                <a:chOff x="3141000" y="3846600"/>
                <a:chExt cx="1110240" cy="917640"/>
              </a:xfrm>
            </p:grpSpPr>
            <p:sp>
              <p:nvSpPr>
                <p:cNvPr id="114" name=""/>
                <p:cNvSpPr/>
                <p:nvPr/>
              </p:nvSpPr>
              <p:spPr>
                <a:xfrm rot="19375200">
                  <a:off x="3086280" y="4190760"/>
                  <a:ext cx="121896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9338600">
                  <a:off x="3393000" y="4244040"/>
                  <a:ext cx="5007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West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3369600" y="3998880"/>
                <a:ext cx="1110240" cy="917640"/>
                <a:chOff x="3369600" y="3998880"/>
                <a:chExt cx="1110240" cy="917640"/>
              </a:xfrm>
            </p:grpSpPr>
            <p:sp>
              <p:nvSpPr>
                <p:cNvPr id="117" name=""/>
                <p:cNvSpPr/>
                <p:nvPr/>
              </p:nvSpPr>
              <p:spPr>
                <a:xfrm rot="19375200">
                  <a:off x="3314880" y="4343040"/>
                  <a:ext cx="121896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9338600">
                  <a:off x="3647880" y="4396320"/>
                  <a:ext cx="448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r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340240" y="3555000"/>
                <a:ext cx="1127160" cy="891360"/>
                <a:chOff x="5340240" y="3555000"/>
                <a:chExt cx="1127160" cy="891360"/>
              </a:xfrm>
            </p:grpSpPr>
            <p:sp>
              <p:nvSpPr>
                <p:cNvPr id="120" name=""/>
                <p:cNvSpPr/>
                <p:nvPr/>
              </p:nvSpPr>
              <p:spPr>
                <a:xfrm rot="2118600">
                  <a:off x="5293800" y="3886200"/>
                  <a:ext cx="121932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151600">
                  <a:off x="5749560" y="3954240"/>
                  <a:ext cx="450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54440" y="4012200"/>
                <a:ext cx="1127160" cy="891360"/>
                <a:chOff x="4654440" y="4012200"/>
                <a:chExt cx="1127160" cy="891360"/>
              </a:xfrm>
            </p:grpSpPr>
            <p:sp>
              <p:nvSpPr>
                <p:cNvPr id="123" name=""/>
                <p:cNvSpPr/>
                <p:nvPr/>
              </p:nvSpPr>
              <p:spPr>
                <a:xfrm rot="2118600">
                  <a:off x="4608000" y="4343400"/>
                  <a:ext cx="121932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2151600">
                  <a:off x="5020920" y="4411800"/>
                  <a:ext cx="534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C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883040" y="3859920"/>
                <a:ext cx="1127160" cy="891360"/>
                <a:chOff x="4883040" y="3859920"/>
                <a:chExt cx="1127160" cy="891360"/>
              </a:xfrm>
            </p:grpSpPr>
            <p:sp>
              <p:nvSpPr>
                <p:cNvPr id="126" name=""/>
                <p:cNvSpPr/>
                <p:nvPr/>
              </p:nvSpPr>
              <p:spPr>
                <a:xfrm rot="2118600">
                  <a:off x="4836600" y="4191120"/>
                  <a:ext cx="121932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2151600">
                  <a:off x="5253120" y="4259520"/>
                  <a:ext cx="526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C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111640" y="3707280"/>
                <a:ext cx="1127160" cy="891360"/>
                <a:chOff x="5111640" y="3707280"/>
                <a:chExt cx="1127160" cy="891360"/>
              </a:xfrm>
            </p:grpSpPr>
            <p:sp>
              <p:nvSpPr>
                <p:cNvPr id="129" name=""/>
                <p:cNvSpPr/>
                <p:nvPr/>
              </p:nvSpPr>
              <p:spPr>
                <a:xfrm rot="2118600">
                  <a:off x="5065200" y="4038480"/>
                  <a:ext cx="1219320" cy="228600"/>
                </a:xfrm>
                <a:prstGeom prst="rect">
                  <a:avLst/>
                </a:prstGeom>
                <a:solidFill>
                  <a:srgbClr val="cbcbc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2151600">
                  <a:off x="5485680" y="4106520"/>
                  <a:ext cx="517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out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3429000" y="2743200"/>
                <a:ext cx="2316240" cy="1657440"/>
              </a:xfrm>
              <a:custGeom>
                <a:avLst/>
                <a:gdLst/>
                <a:ahLst/>
                <a:rect l="l" t="t" r="r" b="b"/>
                <a:pathLst>
                  <a:path w="1459" h="2088">
                    <a:moveTo>
                      <a:pt x="0" y="1045"/>
                    </a:moveTo>
                    <a:lnTo>
                      <a:pt x="729" y="0"/>
                    </a:lnTo>
                    <a:lnTo>
                      <a:pt x="1459" y="1045"/>
                    </a:lnTo>
                    <a:lnTo>
                      <a:pt x="729" y="2088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cc99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86200" y="3200400"/>
                <a:ext cx="152244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Weather Zone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503280" y="3962520"/>
            <a:ext cx="2315880" cy="2139840"/>
            <a:chOff x="503280" y="3962520"/>
            <a:chExt cx="2315880" cy="2139840"/>
          </a:xfrm>
        </p:grpSpPr>
        <p:sp>
          <p:nvSpPr>
            <p:cNvPr id="134" name=""/>
            <p:cNvSpPr/>
            <p:nvPr/>
          </p:nvSpPr>
          <p:spPr>
            <a:xfrm>
              <a:off x="1441800" y="5189400"/>
              <a:ext cx="21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60480" y="5073840"/>
              <a:ext cx="1438200" cy="1028520"/>
            </a:xfrm>
            <a:custGeom>
              <a:avLst/>
              <a:gdLst/>
              <a:ahLst/>
              <a:rect l="l" t="t" r="r" b="b"/>
              <a:pathLst>
                <a:path w="906" h="1297">
                  <a:moveTo>
                    <a:pt x="0" y="649"/>
                  </a:moveTo>
                  <a:lnTo>
                    <a:pt x="453" y="0"/>
                  </a:lnTo>
                  <a:lnTo>
                    <a:pt x="906" y="649"/>
                  </a:lnTo>
                  <a:lnTo>
                    <a:pt x="453" y="1297"/>
                  </a:lnTo>
                  <a:lnTo>
                    <a:pt x="0" y="649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3240" y="5645160"/>
              <a:ext cx="41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3280" y="3962520"/>
              <a:ext cx="2315880" cy="1657080"/>
            </a:xfrm>
            <a:custGeom>
              <a:avLst/>
              <a:gdLst/>
              <a:ahLst/>
              <a:rect l="l" t="t" r="r" b="b"/>
              <a:pathLst>
                <a:path w="1459" h="2088">
                  <a:moveTo>
                    <a:pt x="0" y="1045"/>
                  </a:moveTo>
                  <a:lnTo>
                    <a:pt x="729" y="0"/>
                  </a:lnTo>
                  <a:lnTo>
                    <a:pt x="1459" y="1045"/>
                  </a:lnTo>
                  <a:lnTo>
                    <a:pt x="729" y="2088"/>
                  </a:lnTo>
                  <a:lnTo>
                    <a:pt x="0" y="1045"/>
                  </a:lnTo>
                  <a:close/>
                </a:path>
              </a:pathLst>
            </a:custGeom>
            <a:solidFill>
              <a:srgbClr val="cc99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4160" y="4273560"/>
              <a:ext cx="152244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ather Sensitivity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905120" y="601992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RESHIWR_NCENT_NIDR_NWS_NOT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25F02-06C0-44AE-B4C6-8F1505BBE76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752480"/>
            <a:ext cx="8076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t for TDSP lis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s Section 11.4.3.1 Weather Responsiveness Determination … “ERCOT shall produce a report that contains the ESI IDs requiring profile code modifications and shall publish the report via the M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DSPs shall successfully complete Weather Sensitivity Code modifications (Profile ID changes) no later than sixty (60) days after the ESI ID appears on the ERCOT report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    RMS November email voting item, “The email vote to authorize 2005 Residential Annual Validation transactions for those ESI IDs for which ERCOT’s analysis shows such update would result in a more representative profile wa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V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”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7EF8-7002-4029-9675-C8F22CC0BEF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4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02-24T03:59:45Z</dcterms:modified>
  <cp:revision>160</cp:revision>
  <dc:subject/>
  <dc:title>PowerPoint Presentation</dc:title>
</cp:coreProperties>
</file>