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507-73EC-47B2-A767-D9D3F490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6A4-054A-480F-AE3A-A3DF3A5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DFD-656A-4070-9501-1AF1D2B7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D6C-EA0C-41E2-80A5-F265588C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E237-CBDD-4821-B9B1-D976CC06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6B74-232E-4642-89A1-DF0EB13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9E87-50D8-4EE1-9C1D-8F71B5B0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0C28-B30D-4A4E-B680-42E730DE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1D13-34A6-4D35-9980-64A10576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7430-57B1-4C78-9685-D2C8A0A3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143D-2B8D-41F4-AA9C-DCDEBA63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8CA-28D4-4968-B3F2-22CFA5EF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C46A-B723-4555-8B02-6EAC0734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CCE-0A9D-452D-AAD2-BC61E10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C443-8FE5-42BC-B57D-0F667B24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5DD8-CBD2-49C2-B713-93F26358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3115-082E-40AA-BEEA-3E9C6BAD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114-6D0C-450C-A5A7-979C215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FC0-0BE4-4A99-A096-D808014A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125-A6A2-4542-BCD8-8445D36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8EA-1F4C-4999-A96E-BFC3141B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25D-A9C9-4A6D-9116-14D309A6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F0C-D7E7-4719-A65E-395BCF62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AD30-C0F8-4175-90B5-2AF0607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C889-DC8F-48E0-B16C-7DF5CEACD1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D79-FB17-4FD0-B23F-DE3D1905A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CWG Update – March 2</a:t>
            </a:r>
            <a:r>
              <a:rPr b="0" lang="en-US" sz="3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d Initiative on Outage Notification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ed Affected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ntities (Data Retriev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Specific (NAES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sale Specific (TML Schedu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3333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ed Level of Distribution for No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Da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Hou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CWG Update – March 2</a:t>
            </a:r>
            <a:r>
              <a:rPr b="0" lang="en-US" sz="3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to complete Sample Outage Notification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nformation needed within outage notification (Communication Ph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01:05:49Z</dcterms:created>
  <dc:creator>Judy Briscoe</dc:creator>
  <dc:description/>
  <dc:language>en-US</dc:language>
  <cp:lastModifiedBy>OGRTF 022706</cp:lastModifiedBy>
  <dcterms:modified xsi:type="dcterms:W3CDTF">2006-03-14T15:27:40Z</dcterms:modified>
  <cp:revision>4</cp:revision>
  <dc:subject/>
  <dc:title>CCWG Update – March 2nd Meeting</dc:title>
</cp:coreProperties>
</file>