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8D42-9738-4968-B0C6-8BD1A70F2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3506-7031-408B-BDC1-A1C2D7FE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AC20-D4CC-46BB-AC89-48BEA099F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575C-8BA2-42B8-BFA0-1986FF016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8ACF5-3F77-4C31-A3B7-370389CF5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ED8C8-F457-44AD-8996-1721DE8E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DBDA-914D-4B8A-BF28-4AFD6F3D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473A-93C5-450F-B5EF-96D2FC9A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E11E-7079-4336-9D7F-D13228DF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6D9F-8EE6-453F-9BB5-ED5FDA6C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E3AA4-3755-4933-911D-A016B056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7779-E258-44E9-AB45-7243207F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671A-6ED5-4DBA-9A24-5A45A80D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21DB-06F3-4328-98B7-C64511AF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6315-775A-4551-9C38-69B8399C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84B3-E8FE-4F52-80E0-1BEBB94D2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3D0B-B451-41BA-BE7E-90D5200D3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EC86-B153-40F0-8B30-871735E0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58A5-FDD4-4815-994B-5CA83E1D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D197-623B-4E04-BECA-97544322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D5EA-601D-48A1-BB5D-A5F136D2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815F-08C1-4491-8328-6C539469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95BC-020E-443E-A962-92FD22E6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0A07-E71B-462E-9D52-CF5526B0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E90A-A4DA-47B1-B2C8-2DF1ED6C8A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FC71-BEE7-48F7-A129-068F4FF9B1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COPS Communication Working Group</a:t>
            </a:r>
            <a:br>
              <a:rPr sz="2900"/>
            </a:b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2006 Goal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, publish, and maintain a Commercial Operations Market Guide along with established processes for revisions, maintenance and commun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 to improve the communication process between ERCOT and Market Participa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and improve the communications around special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System Change Requests (SCRs) affecting  communication to and from ERC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COPS Communication Working Group</a:t>
            </a:r>
            <a:br>
              <a:rPr sz="2900"/>
            </a:b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2006 Goal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documentation supporting the settlement charge matrix and associated shadow settlement needs to ensure such documentation accurately supports the settlement process and procedures as adopted for Market Particip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21:04:11Z</dcterms:created>
  <dc:creator>Judy Briscoe</dc:creator>
  <dc:description/>
  <dc:language>en-US</dc:language>
  <cp:lastModifiedBy>OGRTF 022706</cp:lastModifiedBy>
  <dcterms:modified xsi:type="dcterms:W3CDTF">2006-03-14T15:27:54Z</dcterms:modified>
  <cp:revision>6</cp:revision>
  <dc:subject/>
  <dc:title>COPS Communication Working Group 2005 Goals</dc:title>
</cp:coreProperties>
</file>