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30B63-5EBB-451A-9304-F184A9134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DE987-5F79-45B4-B4B5-97386A76E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6A210-33D2-41CB-976B-B260EAC06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A7562-C4D8-4E23-BA01-C80C2CD9E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165B-2C08-4ED3-B90E-0AA34C9FD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7A56-E868-41B4-A10B-C16CE3E3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2477-9B9E-4D67-96B4-77E36236F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CB5C-2AEA-4827-9CE1-677AF499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D8AC8-E36E-40D9-A5DE-891E4EF99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7073-C07C-494B-9B1D-92B82F51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5108-C0A2-4F58-AFAB-791FB9018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C0C5-4EA4-427D-8701-D710E224E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3D60-2F08-4AA4-9548-3A6B49DE7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Th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 Transition Activitie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mply With The 2005 EPAC</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TAC Meeting</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9, 2006</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Jones, COO</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2 of the proposed NERC proposed ERO filing was posted on January 26</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Regional friend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bership Committee resto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realistic time schedule included</a:t>
            </a:r>
            <a:endParaRPr b="0" lang="en-US" sz="2000" spc="-1" strike="noStrike">
              <a:solidFill>
                <a:srgbClr val="000000"/>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Managers met with senior NERC staff on February 7, to develop a better understanding of the draft and negotiate further revisions for draft three of the fil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meeting was held on March 6 to further discuss the issu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RC Board is scheduled to vote on the final filing documents at a special March 28 meet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gation Agreement</a:t>
            </a:r>
            <a:endParaRPr b="0" lang="en-US" sz="2800" spc="-1" strike="noStrike">
              <a:solidFill>
                <a:srgbClr val="000000"/>
              </a:solidFill>
              <a:latin typeface="Times New Roman"/>
            </a:endParaRPr>
          </a:p>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al Entities (RE) will be created through delegation of ERO authority in a Delegation Agreement – it will be a pro-forma agreement with individualized, FERC approved, Regional attachments  and will incorporate the “Rules of Procedur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filing 2 appeared to allow unilateral change of rules by NERC</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onal Managers negotiated different wording at the 2/7 meeting</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ments will be negotiated by the Regions and will includ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vernance and Rules – the final FERC ERO/RE certification rule and related discussion, issued February 6, and discussions with FERC staff strongly indicate it will be in ERCOT’s interest to create a separate, independent entity to perform the RE function – ERRO</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ong independence require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RC review of “entire annual budget for statutory and non-statutory activities of each Regional Entity—including the RE’s business pla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COT Protocols kept separate from FERC approved and enforced NERC Standards</a:t>
            </a:r>
            <a:endParaRPr b="0" lang="en-US" sz="1600" spc="-1" strike="noStrike">
              <a:solidFill>
                <a:srgbClr val="000000"/>
              </a:solidFill>
              <a:latin typeface="Times New Roman"/>
            </a:endParaRPr>
          </a:p>
        </p:txBody>
      </p:sp>
      <p:pic>
        <p:nvPicPr>
          <p:cNvPr id="46"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ion Agreement - Cont</a:t>
            </a:r>
            <a:endParaRPr b="0" lang="en-US" sz="2400" spc="-1" strike="noStrike">
              <a:solidFill>
                <a:srgbClr val="000000"/>
              </a:solidFill>
              <a:latin typeface="Times New Roman"/>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ments (continu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iance Process – must be acceptable to ERO and FERC – ERCOT staff will meet with the NERC Board of Trustees Compliance Committee on March 15</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to describe the current ERCOT compliance program</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orcement/Penalty Process – will be developed to administer the final ERO/FERC adopted matrix – currently, penalty basis being discus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onal Standards Development Process – it appears that ERCOT can duplicate its current PRS process under ERCOT RE leadership to meet the requirements for such process to be open and fair</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many Regional Standards are expected in ERCOT</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will be variances from ERO standards as needed by ERCOT </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ding – ERO and RE budget approved by FERC</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ERO and ERCOT RE funding from ERCOT will be sent to the ERO from the ERCOT ISO fe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ERCOT RE will then be funded from that submittal by the ERO</a:t>
            </a:r>
            <a:endParaRPr b="0" lang="en-US" sz="1600" spc="-1" strike="noStrike">
              <a:solidFill>
                <a:srgbClr val="000000"/>
              </a:solidFill>
              <a:latin typeface="Times New Roman"/>
            </a:endParaRPr>
          </a:p>
        </p:txBody>
      </p:sp>
      <p:pic>
        <p:nvPicPr>
          <p:cNvPr id="48"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and Penalty Process</a:t>
            </a:r>
            <a:endParaRPr b="0" lang="en-US" sz="2400" spc="-1" strike="noStrike">
              <a:solidFill>
                <a:srgbClr val="000000"/>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ance review activity remains the sa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event of a compliance violation finding the following steps will be followed in descending ord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tity involved will be notified of the potential viol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RO is notified of the potential viol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COT compliance and the entity involved make their presentations to the RE Compliance Offic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iance Officer makes the initial determination and determines a standard penalty if applic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RO is notified of the results and reviews any confirmed viol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tity involved can appeal a violation finding or penalty to the ER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C is notified of the results of the process and reviews the finding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C makes the final determination and imposes the penalty, if applicable – it is a federal penalty</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Standard</a:t>
            </a:r>
            <a:endParaRPr b="0" lang="en-US" sz="2400" spc="-1" strike="noStrike">
              <a:solidFill>
                <a:srgbClr val="000000"/>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ment Process</a:t>
            </a:r>
            <a:endParaRPr b="0" lang="en-US" sz="2400" spc="-1" strike="noStrike">
              <a:solidFill>
                <a:srgbClr val="000000"/>
              </a:solidFill>
              <a:latin typeface="Times New Roman"/>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gional process must be open, inclusive, balanced,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one can submit a regional standard reque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ERCOT PRS process can be used under RE staff ownership and facilit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proposed regional variance or standard is recommended by the process, it is submitted to the RE Board for approval as a propos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roved proposal is submitted to the ERO for recommendation to FERC</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RO staff reviews the proposal for accept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al is posted by the ERO for commen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ERO staff concurs with the proposal it will be forwarded to the ERO Board for approv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O forwards an approved proposed Regional Standard or variance to FERC for review and  final approval or reman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RC approved regional standard is federally enforceabl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2"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Entity Funding</a:t>
            </a:r>
            <a:endParaRPr b="0" lang="en-US" sz="2400" spc="-1" strike="noStrike">
              <a:solidFill>
                <a:srgbClr val="000000"/>
              </a:solidFill>
              <a:latin typeface="Times New Roman"/>
            </a:endParaRPr>
          </a:p>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 submits its proposed annual budget and business plan for the next year to the ERO by 6/1 – includes non-statutory activiti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O reviews the proposed budget and business plan for adequac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O submits its proposed budget and business plan along with those of all REs to FERC in Augu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RC reviews the entire package for adequacy and approves or remand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pproved, the ERO sends the load serving entities in the Region an invoice for its share of the ERO budget, bases on NEL, and all of that Region’s RE budget (quarterl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RCOT’s case the bill will be sent to ERCOT and included in the settlement process – where those expenses are billed today</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O then sends the RE its share of the funds independent of the ISO or stakeholders</a:t>
            </a:r>
            <a:endParaRPr b="0" lang="en-US" sz="2000" spc="-1" strike="noStrike">
              <a:solidFill>
                <a:srgbClr val="000000"/>
              </a:solidFill>
              <a:latin typeface="Times New Roman"/>
            </a:endParaRPr>
          </a:p>
        </p:txBody>
      </p:sp>
      <p:pic>
        <p:nvPicPr>
          <p:cNvPr id="54"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Schedule</a:t>
            </a:r>
            <a:endParaRPr b="0" lang="en-US" sz="2800" spc="-1" strike="noStrike">
              <a:solidFill>
                <a:srgbClr val="000000"/>
              </a:solidFill>
              <a:latin typeface="Times New Roman"/>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RC will file for ERO certification about 4/4/0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should be in the process of preparing to file and comply – a decision on ERCOT’s RE structure and governance should be made at the March ERCOT Board mee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RC anticipates certification in the June – July time perio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should be prepared to file when the ERO is certified, but not necessarily be in compliance at the time of its fil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al reorganization should be completed by 11/01/0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 begin calculating penalties based on final sanction outline and send letters to the entities – there may be a faze-in period – this compliance time line is not clear at this poi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O/RE structure should be completed and fully operational on 1/1/07</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685800" y="304920"/>
            <a:ext cx="2514600" cy="114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0:51:03Z</dcterms:created>
  <dc:creator>Sam Jones</dc:creator>
  <dc:description/>
  <dc:language>en-US</dc:language>
  <cp:lastModifiedBy>sjones</cp:lastModifiedBy>
  <dcterms:modified xsi:type="dcterms:W3CDTF">2006-03-08T23:38:31Z</dcterms:modified>
  <cp:revision>32</cp:revision>
  <dc:subject/>
  <dc:title>PowerPoint Presentation</dc:title>
</cp:coreProperties>
</file>