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E4D-F32A-4C66-8A46-5C85595D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5A1-C278-49D7-86F1-DA9EE141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175-FED8-444F-A88B-B9B528C6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5B5-CD16-4510-A4FE-579D92CB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5ABB-CCBF-43DF-86B0-84F8B03F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EFE4-F54B-4712-AE72-FE7D61C9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5EDD-2703-4F1F-ACBE-5F8E191A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5D39-A7F7-488F-808D-2A22B138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29A6-0361-4BAE-BB5A-4C897BC8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20FB-2AE8-470B-9666-C2E0ADA4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925F-5096-4B65-819B-A73DA467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E80-CAB1-4F95-B79C-6A082D31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88B8-6887-4EC5-9A0C-C2C6FBCE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7AB8-E14C-4AB4-B6DC-4E59971D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92BE-B7F9-48B1-8469-43D18B7A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FE15-7A97-475D-9804-1802FBC7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30F7-3978-42E0-BAE8-ED0007F8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73C-0E66-439B-ABDD-02B88DF5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B06-8584-498E-B5DC-B04E3937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53F6-E180-4E6E-B3A7-33F1C1D9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5FE-CF38-41D7-98FA-B6024307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30F6-87CF-4FE4-A14E-2B17CB1B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45B-4BE6-48EA-A8C9-70F60F44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FFA-6090-44AE-9AD3-B369C864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3AE8-2CAE-41F0-A359-30B65474260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F8A8-434B-448B-8E98-E3EB9EFE957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TPTF Updat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 Dogg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9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PTF Update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eetings February 6 &amp; 7, February 2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ttendance approximately 4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leted review of ERCOT’s clarification questions on Section 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viewed Architecture Docu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viewed TAC Transition Issu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ext meeting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nday, March 6 and Tuesday, March 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uesday, March 28 and Wednesday, March 2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RCOT’s Clarification Questions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viewed questions from Sections 1, 3, 4, 5, 6, 7, 10, and 22F with TPT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Questions from 2, 8, 9, 16, and 17 yet to be present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RCOT preparing Nodal PRRs, by section, to address synchronization requirements and address clarific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lan to present PRRs for Sections 1, 3, 4, 5, 6, and 7 beginning March 28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PTF Update – NMMS Requirements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Business Requirements Document for TPTF approval is for the Network Model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objectiv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sure consistency between Network Operations Model, CRR Network Model, and Annual Planning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 timing requirements to modify the Network Operations Model close to the time actual operations occur in the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Feb - Posted proposed timeline / framework for appr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Feb - Reviewed proposed timeline / framework for approval w/TPT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Feb - Posted a draft of the document for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 Feb - Sent a note to TAC so other Subcommittee Chairs would be awar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Feb - Overview of document / Q&amp;A with TPT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 Feb - Comment deadline (Received 7 sets of comments from 6 compan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Mar - ERCOT distributed revised document addressing com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Mar - Goal - TPTF approve as being in compliance with applicable Protoc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PTF Update – NMMS Requirements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ived a number of comments around business processes impacted by the nodal requirement of consistency between the models.  This may merit a workshop with TSPs to discuss the requirements in the Nodal Protoco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Transition Plan says, 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declaration of the accomplishment of a major milestone (business requirements, conceptual design, and successful completion of Market Participant testing) or a decision to proceed is contingent on the approval of both ERCOT and TAC.”  Should we bring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usiness requirement document to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AC for approv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AC Transition issues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1.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RCOT must work with the appropriate TAC Subcommittee to develop procedures for characterizing a Simple Transmission Ou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10.7.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ach Transmission Element must have a unique identifier using a consistent naming convention used between ERCOT and TSPs.  ERCOT shall develop the naming convention with the assistance of the TSP and the approval of TA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10.7.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appropriate TAC subcommittee shall establish a task force that is open to Market Participants, comprised of technical experts to develop a set of Telemetry Criteria consistent with the minimum requirements of the Protoc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10.9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appropriate TAC subcommittee shall establish a task force that is open to Market Participants, comprised of technical experts to develop a State Estimator Performance Standard consistent with the minimum requirements of the Protoco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AC Transition issues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19(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 appropriate subcommittee approved by TAC (“TAC Subcommittee”) may develop an alternative list through the analysis described below for determining Competitive Constrai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19(3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AC Subcommittee shall perform the following analysis with the goal of developing an objective standard for determining Competitive Constrai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61(4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process for determining the verifiable actual costs must be developed by ERCOT, approved by the appropriate TAC subcommitt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6.3(3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process for determining the verifiable actual costs for a startup attempt under paragraph (2) above must be developed by ERCOT, approved by the appropriate TAC subcommitt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AC Transition issues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5.7.6.1(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RCOT shall develop a methodology, subject to TAC approval, to determine the optimal frequency bias for given system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5.7.6.2.3(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RCOT shall develop a procedure approved by TAC to deploy Resources providing Non-Spinning Reserv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5.9.4.1(2)(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RCOT shall develop a procedure for determining which Load Resources to interrupt and to equitably allocate Load Resources to one of two deployment stacks to enable a 50% deployment, which procedure must be approved in advance by T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2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appropriate TAC subcommittee shall establish a task force that is open to Market Participants, comprised of technical experts, to develop a naming convention for CRRs consistent with the requirements of the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some instances Section 8 requires ERCOT to develop other performance measures that must be approved by the Technical Advisory Committee (TAC)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33920" y="2438280"/>
            <a:ext cx="1295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33"/>
                </a:solidFill>
                <a:latin typeface="Calisto MT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33"/>
              </a:solidFill>
              <a:latin typeface="Calisto MT"/>
              <a:ea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9:06:24Z</dcterms:created>
  <dc:creator>tdoggett</dc:creator>
  <dc:description/>
  <dc:language>en-US</dc:language>
  <cp:lastModifiedBy>tdoggett</cp:lastModifiedBy>
  <dcterms:modified xsi:type="dcterms:W3CDTF">2006-03-01T23:05:12Z</dcterms:modified>
  <cp:revision>55</cp:revision>
  <dc:subject/>
  <dc:title>TPTF Update for TAC</dc:title>
</cp:coreProperties>
</file>