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905-AE6D-4577-B221-1B558C1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AFE-D0F4-4F02-9E1E-9055F7B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17B-8B95-4F95-8D3B-1668FEB0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E14-DF3F-49AA-86D3-018FE13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D57-F056-4B27-8BD6-2284BAF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C4E-B6C0-4FD2-95CD-295CA6A3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D92-FF8C-47DF-93F0-6122299B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3DB-19E8-45B7-B5CD-5A59A38B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F6B-8BEB-411A-8B29-F48D758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370-EA14-4D56-8FEB-F32BCBC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BE5-C2CB-4C2B-B907-FC59133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02C-3A79-4A07-8FAC-22B7331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66EB-36D6-4041-BA1B-ACB1FCCD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3/9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jor Discussion Items at 2/16/06 ROS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ompl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ystem Stabiliz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rse Field Test of Four New NER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Dynamic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r UFLS study by on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of 8/19/04 Forney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Issues Ex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rse CC Modeling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47 – Gross and Net MW / MVA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ode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v. Operations Mode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 of Topolog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3/9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al List of PRRs Not Discussed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649 – Correct K Factor in Compliance SC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of 8/19/04 Forney Event</a:t>
            </a:r>
            <a:br>
              <a:rPr sz="32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gure 3 – Recorded v. Simulated 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of 8/19/04 Forney Event</a:t>
            </a:r>
            <a:br>
              <a:rPr sz="36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gure 21 – Using 21.4% Droop for each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19920" cy="543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&amp; 2005 RMS1 of ERCOT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3/9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ems Requiring TAC Vote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72 – Special Protection Systems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 the sharing of some TDSP real-time data with Generating Entities subject to an SPS to help avoid SPS operations.  Change approval process for an SPS that involves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July 28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by ROS November 10, 2005 - Unani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RR 174 – Definition of a Single Generating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“generating unit” of a Combined Cycle Facility as the entire train, for transmission reliability testing.  Allows for exception process by ERCOT review of historical forced outag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d September 2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by ROS January 13, 2006 - Unani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3-02T23:24:39Z</dcterms:modified>
  <cp:revision>9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3149030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ROS report to TAC</vt:lpwstr>
  </property>
</Properties>
</file>