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A2D-D39F-49C0-B971-4A82C40D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A3B-AD47-4B60-A56C-72AB74FB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5DAC-BFE4-47CF-B3A5-B1E8C3BB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40AE-30B1-4F46-86AB-72C64B8B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C8F0-14E0-4E1E-9A8E-4FFB2E35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5BB1-01BB-40CE-BBC4-E2E8A5E3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11BF-95BF-4A48-BFF1-9752B91B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21FF-2147-428C-BBC6-61DF949C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A0DE-D0AA-4EE0-ABC1-E9DED916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F9E4-21F3-478D-85EC-3A126B7B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BD15-EB62-40C2-A57C-7D1DC38C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733D-BE3E-4AC8-B9CC-99A6CDC5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E68B-0D8D-40EC-8DA8-2BA19B64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67B8-89F5-4B06-A0F0-D7398F1C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A9A2-545D-4403-87D4-9AB82BE4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923A-D580-4B39-B45B-CC5BCB30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F4EA-DA0D-47CC-9F6D-D66CDC64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F19-5F01-4036-935A-486E4F99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36D-03CE-41CD-9D62-0F5EA0B8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D9C-FAD1-48B0-9C3E-B8AC0D20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566-6988-4124-B0CA-644FCFC0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B8C-947A-45A9-99B5-F84E4817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49A-C3F8-49B9-8CE3-A827DCC7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01A0-FB41-480E-B250-F9F8A5AD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5F49-2BCC-41F0-AB65-7309E598451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05D7-FF14-47EB-B248-A29F41A2F4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MS Update to TAC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arch 9, 200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MS Voting I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MGRR031- IDR Installation 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dentifies roles and responsibilities for Mandatory and Optional IDR Install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ails content of IDR Requirement Repor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cuments request process for both types of IDR Install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cuments error reconciliation between Market Participa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s a standardized request form for processing installation reques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animously approved at R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MS Update to T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 Terms and Conditions Task Force crea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animous approval at 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sk Force will finalize scope document and approach during initial meet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sk Force to begin identifying changes to market processes and documents when Delivery Service Tariff project is finalized at PU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MS Update to T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file Working Group reporting to COP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MS approved the move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motion passed with one negative vote from the Coop segmen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MS Procedures will be revised to reflect this change in RMS scope and submitted to TAC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MS Update to T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strak Project Upd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TPT Script Teams kicked off on February 16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ripts should be completed by April TTPT mee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ket training to begin in early M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ket testing May 22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June 9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duction “Go-Live” with GUI and API June 17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MS Update to T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astrak Project Update con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$861,131 budget increase for the project required for additional contract personnel at ERCOT to complete testing and develop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budget increase will impact other market projects for 2006.  The specific projects impacted could not be identified at the Feb. RMS meeting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acts to project may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e limited to Retail Oper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MS Update to T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9:57:48Z</dcterms:created>
  <dc:creator>ShBowling</dc:creator>
  <dc:description/>
  <dc:language>en-US</dc:language>
  <cp:lastModifiedBy>ShBowling</cp:lastModifiedBy>
  <dcterms:modified xsi:type="dcterms:W3CDTF">2006-03-02T02:44:49Z</dcterms:modified>
  <cp:revision>9</cp:revision>
  <dc:subject/>
  <dc:title>RMS Update to TAC</dc:title>
</cp:coreProperties>
</file>