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6930-14EA-4643-84B8-6259DB750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B18F-38EE-433F-AB8B-B60C40E2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ACF0-0F48-480A-B1D3-9CEAACFE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5C65-E0D8-40C5-B9A4-F303F7DA5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383F-78D9-4E20-8F2D-586C6B17B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C929-C7CF-4389-92BE-72E4107D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57B0-D349-453E-A044-3637DB58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E1EA-5E46-403E-8FEB-8FD255C1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AEE1-FECF-40CB-94EB-6A203411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DFA1-C2E9-4C51-A3D1-CDC414A1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13C7-514B-4822-BAB0-5A509F65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AC96-2C4D-4C44-B549-AAC2DDB8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0141-07B5-4903-B928-3211175F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62BC-A057-4E26-823D-5CAC10DA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D772-77CB-4FCE-AA36-4356FE2B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7C53-552F-4D47-ADD2-8E4D5114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4F36-AC36-4714-A02B-D99542F3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613F-A75E-4962-9BCE-CB732FEE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A838-8226-4391-99DA-5F3271A7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91B3-C5A6-4DBD-AE0E-0092BBD7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27A0-2DBB-40D8-B54A-4629662F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35EE-F431-48CC-B1F5-E6603B97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4AE1-476C-4FAB-9BB6-5CEAB367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DA43-C069-4B7E-811D-FC93E28C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E300-DEC0-456D-BB7E-1F598D394B9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6FEC-FF34-4450-9979-A9FFBFCE551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RMS Mass Transition Task Forc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arch 9, 2006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TTF Update to TA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R for Customer Information Repository (CIR) to be presented at March RMS for discussion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MS to vote on recommendation to PRS for CIR at April RMS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X SET to present overview of long-term transaction solution at March R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RCOT staff to present milestones for reprioritizing and initiating mass transition project in 2006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TTF Update to TA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X SET will develop additional PRRs and RMGRRs to support long-term transactional solution for mass transi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nal review of the transaction solution and  the CIR will be necessary when POLR rule finalized at PUC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9:57:48Z</dcterms:created>
  <dc:creator>ShBowling</dc:creator>
  <dc:description/>
  <dc:language>en-US</dc:language>
  <cp:lastModifiedBy>ERCOT</cp:lastModifiedBy>
  <dcterms:modified xsi:type="dcterms:W3CDTF">2006-03-02T13:50:37Z</dcterms:modified>
  <cp:revision>13</cp:revision>
  <dc:subject/>
  <dc:title>RMS Update to TAC</dc:title>
</cp:coreProperties>
</file>