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60AE-9D9C-4046-ADC5-A55EC5D61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What entities are exposed to the uplift associated with a DAM participant’s failure to p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Questions from COPS 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 the 180 day uplift in the draft Nodal Protocols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0A9-7A6B-47E4-90D8-55020ED7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19C-EB74-4F32-A0AC-834ED7F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361-30BE-46B2-A7AE-58B11D34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508-DDDE-4B85-8ED2-F84E41F0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D32-9244-4D74-95B8-4B0A51C9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450-9755-4436-B4F5-7F54C6C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2C5-824E-4D67-8ED8-535773DD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D48-8633-46FE-93B0-76026667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6C0-75A0-4165-B015-23C61F64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9F8-0875-423C-BCB2-76728208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930-1460-4A6C-B202-8DEBFBE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A33-6257-4174-BA1E-4B37D110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0E33-04CC-41F6-8DD8-F0C4BBFC5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ch 9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C84-1C27-4C51-8925-6336B205A2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006 Goals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solve Funding Issue for Data Ex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inue Growth of Commercial Market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ork with ERCOT staff to improve Communications flow around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nitor implementation of SCR 740 (Improvements to SCR 7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UFE drivers and educate Market Participants on ways to improve their ability to forecast U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cus on Nodal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nitor Progress of Load Research Study – needed transparency about market impac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2B8-0DCB-44DB-9F8F-1DCD24AFE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006 Working Group Leadership: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mmunications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udy Briscoe -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san Potters –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ata Extract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Zach Collard –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nette Morton –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file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rnie Podraza –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d Boles –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FE Task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uck Moore – Co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ric Goff – Co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E8D-8BE6-4480-BFBA-AB81B5C46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143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WG Transition to 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COPS approved a motion to inform RMS that they would welcome Profile Working Group (PWG) into their Subcommittee. 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MS  agreed to the realignment so both subcommittees will adjust their procedures to reflect th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MS and COPS committed to not let in-flight PRRs, SCRs or LPGRRs fall through the cr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D40-EC46-4CE8-A9D3-A12A645E6C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WG February 8</a:t>
            </a:r>
            <a:r>
              <a:rPr b="1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cted deliverables - Create document outlining the communication process ERCOT will use to communicate outages or interruption in any of the market services it provides to MP’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3333cc"/>
                </a:solidFill>
                <a:uFillTx/>
                <a:latin typeface="Arial"/>
              </a:rPr>
              <a:t>Outage Notification Chart and Notification Templ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MS &amp; COPS reviewed draft Sample Outage Notification Chart and Notification Template during Feb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17A-C480-48FB-8B26-3569B7D4DA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WG March 2nd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inued Initiative on Outage Notification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ed Affected System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ll Entities (Data Retrie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tail Specific (NAES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olesale Specific (TML Schedu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sidered Level of Distribution for No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usiness Da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4 Hou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337-2A8A-4A2D-98D1-D05EBCFD3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pdate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R568 – Change Initial Settlement from Day 17 to Day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perating Day January 17, 2006 - Start the migration to Day 10 Initial Settlement, Publication of binding Settlement Statement for this date would be February 2, 2006.  One extra day will be Invoiced weekly for 7 wee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arch 16, 2006 - Anticipated date for completion of PRR5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R638 – Change Settlement Invoice Due Date from 16 Calendar Days to Five Business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April 1, 2006 - Anticipated date for impletion of PRR6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A5E-606A-457E-9DFA-52163A0D4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brisjf</cp:lastModifiedBy>
  <dcterms:modified xsi:type="dcterms:W3CDTF">2006-03-03T22:20:50Z</dcterms:modified>
  <cp:revision>161</cp:revision>
  <dc:subject/>
  <dc:title>Point-to-Point</dc:title>
</cp:coreProperties>
</file>