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8D7-423A-47C1-9665-155A9786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0F8-0A33-4E6A-9FEB-406C2A3E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F0B-BC8E-4F32-8A26-4780591D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3C7-A93A-45F8-A19F-31CD243A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BF19-85BE-4ED0-BC61-2F5DFA13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F2B7-8BB3-4E80-80FA-9FAB587B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62A1-6EA3-4E9C-9391-A36E5CD8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3F9E-B28C-4C8B-933A-7851FF4D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826E-22B9-408C-8EE5-C67BBA39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496E-9CBA-443F-B83B-011C019A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DE69-6D71-4AAC-BC77-6A32974B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A38-D9CF-4661-909A-B6AC477A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6D1B-5D8D-4463-A9BB-1C409707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BF03-CE10-4E97-93D5-9DE7AB9F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054F-BC3E-4043-8DA1-EC782A39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0159-6828-4F93-9834-32ECE108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5C07-0EA6-43AB-87D3-EAD772D0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E55-63C4-427A-9292-8D957B68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4EE-8DE9-41F1-A778-0D1BE6C0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31D-DF03-42BF-B0CA-20144C87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BBE-7053-418E-BC15-824397F0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E6E-1B55-42F5-95DC-BA888D24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FD6-1D23-4889-8B31-03D73958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F32-698B-4A80-9AE7-F8EF8F73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740D-530D-442E-92BA-4F219ED53A5D}" type="slidenum"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1730520"/>
            <a:ext cx="502920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8462c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209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409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D329-223A-4950-8B26-5F87F2821B4F}" type="slidenum"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84872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56d3d"/>
                </a:solidFill>
                <a:latin typeface="Arial Black"/>
              </a:rPr>
              <a:t>Protocol Revision Subcommittee</a:t>
            </a:r>
            <a:endParaRPr b="0" lang="en-US" sz="54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33720" y="4219200"/>
            <a:ext cx="5943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ch 9,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 Black"/>
              </a:rPr>
              <a:t>Guiding Principles for Project Prioritization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Important Considera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Consistent application of prioritization rules by all parties is critica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Everyone must play by the same rul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Key Defini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Critical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 –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liability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 or operational requirement that must be addressed immediatel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High Value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 –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liability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 or operational requirement that if left unaddressed will become critic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Medium Value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 – Important to improv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liability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, service or efficiency of operations of the marke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 Black"/>
              </a:rPr>
              <a:t>Guiding Principles for Project Prioritization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Effective project prioritization is a combination of the following element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PRR/SCR/ERCOT Project Reque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Project description and assump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Market costs and benefit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Credit implica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Relevance to nodal marke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Impact Analy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ERCOT implementation co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ERCOT staffing impa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Estimated delivery tim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Feasibility of implemen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 Black"/>
              </a:rPr>
              <a:t>Guiding Principles for Project Prioritization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Effective project prioritization is a combination of the following element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CBA Outpu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Net benefit ($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Cost-Benefit Rati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Scoring Matrix (Reliability, Security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Risk reduction/Non-quantifiable impac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Market implementation cos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easibility of implement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Other Considera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Impact on ERCOT Control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Prioritization of audit/security projects will be based on the individual merits of the reque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easibility of implement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 Black"/>
              </a:rPr>
              <a:t>Guiding Principles for Project Prioritization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Priorities &amp; Descrip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1 – Projects required by statute, PUCT order, NERC compliance or critical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liability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 of: grid operations; IT infrastructure; commercial settlem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2 –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High Value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 for a majority of market segments or ERC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3 –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High Value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 to one or two segment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r Medium Value for a majority of market segments or ERC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4 –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edium Value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 for only one segm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9 – Parking lot for non-prioritized projec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PRS Summary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Revisit PRR 63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1 PRR for Approv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1 Non-System Changes – IA onl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1 PRR for Rejec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2006 Goa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Guiding Principles for Project Prioritiz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630 – Private Use Networks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47920" y="1600200"/>
          <a:ext cx="7619760" cy="5222880"/>
        </p:xfrm>
        <a:graphic>
          <a:graphicData uri="http://schemas.openxmlformats.org/drawingml/2006/table">
            <a:tbl>
              <a:tblPr/>
              <a:tblGrid>
                <a:gridCol w="2539800"/>
                <a:gridCol w="646200"/>
                <a:gridCol w="4433760"/>
              </a:tblGrid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TXU Wholesale, IOU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equires private use networks (PUN) to maintain and report appropriate watt/VAR metering data at each substation and the addition/deletion of load point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mproved system reliability by requiring PUNs to meet same power factor/voltage standards as other market participant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laces additional reporting requirements on certain PUN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recommended approval with 2 no votes and 2 abstentions; all market segments were present; CNP Comments to PRS Repor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pril 1, 20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630 – Private Use Networks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3347640" y="16002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514600"/>
            <a:ext cx="7619760" cy="38862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1240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6576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1911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7242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52578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57913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6040" y="2666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30880" y="25909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9400" y="25430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90400" y="57913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6400" y="32241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7840" y="37576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67720" y="428004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3333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2760" y="48243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2760" y="53578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3800" y="25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32004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3733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2670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4800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5334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5867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649 – Correct “K” Factor in Compliance SCE Formula - </a:t>
            </a:r>
            <a:r>
              <a:rPr b="1" i="1" lang="en-US" sz="3200" spc="-1" strike="noStrike">
                <a:solidFill>
                  <a:srgbClr val="ff0000"/>
                </a:solidFill>
                <a:latin typeface="Arial Black"/>
              </a:rPr>
              <a:t>URGENT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47920" y="1600200"/>
          <a:ext cx="7619760" cy="5097600"/>
        </p:xfrm>
        <a:graphic>
          <a:graphicData uri="http://schemas.openxmlformats.org/drawingml/2006/table">
            <a:tbl>
              <a:tblPr/>
              <a:tblGrid>
                <a:gridCol w="2539800"/>
                <a:gridCol w="646200"/>
                <a:gridCol w="4433760"/>
              </a:tblGrid>
              <a:tr h="12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ANP, Independent Generator, Freq TF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evises “K” factor from 0.81 to 1.00 in the SCE regulation monitoring formula, thus increasing the operating bandwidth for generators – Comments submitted to TAC by ERCOT &amp; WM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educes the number of potential non-compliance issues investigated by ERCOT and market participant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ay impact ERCOT reliability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recommended approval with 2 votes “no” and 3 abstentions; all market segments were presen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pril 1, 20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649 – Correct “K” Factor in Compliance SCE Formula - </a:t>
            </a:r>
            <a:r>
              <a:rPr b="1" i="1" lang="en-US" sz="3200" spc="-1" strike="noStrike">
                <a:solidFill>
                  <a:srgbClr val="ff0000"/>
                </a:solidFill>
                <a:latin typeface="Arial Black"/>
              </a:rPr>
              <a:t>URGENT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3347640" y="16002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2514600"/>
            <a:ext cx="7619760" cy="38862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251460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31240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6576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41911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72428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525780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5791320"/>
            <a:ext cx="76197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6040" y="2666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30880" y="25909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33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59400" y="254304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90400" y="579132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400" y="322416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7840" y="37576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67720" y="4280040"/>
            <a:ext cx="2152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3333"/>
                </a:solidFill>
                <a:latin typeface="Arial"/>
              </a:rPr>
              <a:t>Computer Systems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2760" y="48243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2760" y="535788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3800" y="25430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32004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37339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267080"/>
            <a:ext cx="380880" cy="38124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4800600"/>
            <a:ext cx="380880" cy="380880"/>
          </a:xfrm>
          <a:prstGeom prst="star5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5334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867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92160" y="483696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equires change in monitoring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PRR 632 – Clawback Mechanism for Generating Resources at a Site with an RMR Unit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447920" y="1600200"/>
          <a:ext cx="7619760" cy="4541760"/>
        </p:xfrm>
        <a:graphic>
          <a:graphicData uri="http://schemas.openxmlformats.org/drawingml/2006/table">
            <a:tbl>
              <a:tblPr/>
              <a:tblGrid>
                <a:gridCol w="2539800"/>
                <a:gridCol w="646200"/>
                <a:gridCol w="4433760"/>
              </a:tblGrid>
              <a:tr h="12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TXU, IOU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Would establish a clawback mechanism applied to RMR Standby costs to prevent improper subsidization of Resources at the same physical location as the RMR unit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enefi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S recommended rejection with 1 abstention; all market segments were present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 Black"/>
              </a:rPr>
              <a:t>Recommended TAC Actions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33"/>
                </a:solidFill>
                <a:latin typeface="Arial"/>
              </a:rPr>
              <a:t>Approval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PRR 630 – Private Use Network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PRR 649 – Correct “K” Factor in Compliance SCE Formul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Arial"/>
              </a:rPr>
              <a:t>Rejec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PRR 632 – Clawback Mechanism for Generating Resources at a Site with an RMR Uni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 Black"/>
              </a:rPr>
              <a:t>2006 Goal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Provide clarity to administrative process for handling Nodal transitory period PR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Continued improvements to the project prioritization proc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Approach to Zonal PRRs during the transition period to Nod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Other approaches for desirable projects that remain unfunded because they cannot compete against projects with high reliability valu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Review the manner in which projects that fall below the cut-line should be addressed and presented to TAC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2:03:33Z</dcterms:created>
  <dc:creator>Windows XP ver. 2.2</dc:creator>
  <dc:description/>
  <cp:keywords/>
  <dc:language>en-US</dc:language>
  <cp:lastModifiedBy>Windows XP ver. 2.2</cp:lastModifiedBy>
  <dcterms:modified xsi:type="dcterms:W3CDTF">2006-03-08T20:48:49Z</dcterms:modified>
  <cp:revision>11</cp:revision>
  <dc:subject/>
  <dc:title>Protocol Revision Sub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31033</vt:lpwstr>
  </property>
</Properties>
</file>