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6CDA8F-02AC-4546-ADFC-A40F0F80E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RC Board recently approved these standards. Implementation periods of four-six months are included; details are available on the NERC website.  They are not included in this year’s annual NERC compliance program but will be mandatory after the implementation period e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ROS has agreed to have working groups review these.  Some are already addressed in ERCOT practices; others may not be.  These begin to include more and more participation from the generation owners into NERC standard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ROS has agreed to participate.  Volunteers from several generation owners will be requested.  Initial work is developing Regional criteria – ERCOT has done some of this in the recent past.  Field tests are meant to improve the standard prior to ado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s to these documents are included in th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2AE3-3A40-4500-B8B5-6162C66A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E41-6CEE-488D-8FE8-85482B85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45D-442A-43CE-AC35-E14335B8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62A0-73D9-4878-AB14-E11636DC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E7BB-BBD8-43B8-9FCA-B4337BB0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049A-5FBA-4DCF-9A3E-DCD2E2F5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CE56-0B0C-44B1-84A0-71AD718B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119A-65AF-4931-B03A-B8F53A10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EF63-5E28-4FB7-ACBF-697223B6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663A-FC26-42FF-8657-88C0BECE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F0C0-5CBD-4056-A47C-080A8C45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AF3-75F9-48AC-A514-B8087EE2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2D7F-A923-4FDF-AD11-50256540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2677-D1BF-4A61-874C-3AD8FFC3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6BC6-845E-442E-A4D3-779E006B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02D3-A0BD-443F-878B-C4416B86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42EC-10CA-4048-99DD-8065F80D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7F2-5ABC-43B3-9A47-0FACB4B1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ECD-4B0B-4DB8-8E43-01652299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2820-55A0-497C-82A5-7B408C23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96DA-30E1-4BCA-B432-A130526E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036F-7646-45A5-A6CF-EF28A494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E0FF-9496-4ADD-BC2F-CF978AD8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B6DA-A02A-4CA9-8726-DFC45A31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3A9F-6EBB-4198-98C5-6EC026D4E3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BDA5-F877-4F7F-97E6-3D8F3B440A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standards.nerc.net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protocol/docs/32350_1_502178.PDF" TargetMode="External"/><Relationship Id="rId3" Type="http://schemas.openxmlformats.org/officeDocument/2006/relationships/hyperlink" Target="http://interchange.puc.state.tx.us/WebApp/Interchange/application/dbapps/login/pgLogin.asp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lists.ercot.com/cgi-bin/majordomo" TargetMode="External"/><Relationship Id="rId3" Type="http://schemas.openxmlformats.org/officeDocument/2006/relationships/hyperlink" Target="http://www.ercot.com/services/training/23rd_Annual_ERCOT_Operations_Training_Seminar.html" TargetMode="External"/><Relationship Id="rId4" Type="http://schemas.openxmlformats.org/officeDocument/2006/relationships/hyperlink" Target="http://www.ercot.com/services/training/23rd_Annual_ERCOT_Operations_Training_Seminar.html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iance Upd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ch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W Approved NERC Standard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–024 Verification of Generator Gross and Net Real Power Cap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–025 Verification of Generator Gross and Net Reactive Power Cap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C–003 Regional Procedure for Analysis of Misoperations of Transmission and Generation Protection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C–004 Analysis and Mitigation of Transmission and Generation Protection System Misope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C–005 Transmission and Generation Protection System Maintenance and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C-020 Under Voltage Load Shedding Program Data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C-021 Under Voltage Load Shedding Program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C-022 Under Voltage Load Shedding Program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s://standards.nerc.net/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1276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w NERC Field Tes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773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C-019 Coordination of Generator Voltage Regulator Controls with Unit Capabilities and Prot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C-024 Generators Performance during Frequency and Voltage Excur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-026-1 Verification of Generator Excitation Systems and Voltage Control Mode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-027-1 Verification and Status of Generating Unit Frequency Respon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eld tests are intended to improve the Standard before ado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S has agreed to particip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tor Owner volunteers will be reques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has participated in field tests bef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liance Program Development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January 3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ERCOT filed i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Compliance Proces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in response to PUCT Substantive Rule 25.503(j), after lengthy review with Commission Staff – Docket 32350 assigned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chnical conference to be held on March 2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adline for initial written comments is April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PUCT Interchan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liance Program Developme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Compliance will present information about its Compliance Enforcement Program to the NERC Board of Trustees Compliance Committee on March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Compliance is currently registering ERCOT entities responsible for NERC Reliability Standards.  This is in support of the NERC filing to be the Electric Reliability Organization (ERO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RCOT’s CPS1 12 Month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lling Average Tre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77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QSE PRR525 10-Minute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rval Sc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E Performance Monitor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E Performance Monitoring scores for all QSEs were published on the Compliance Website by March 8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January SCE Performance Sc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975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525 Passing 10-Min Interval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ercentage Tre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-Factor Comparison of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anuary 525 Sco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077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liability is a Team Effor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f-nominal frequency impacts reliability and market efficienc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dam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grade the quality of the product to end us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reaten system stability resulting in system collap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mission overloa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ery action by one resource requires a reaction by other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QSE that is off-schedule costs the Market Participants money that are following the rules and providing frequency respons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formation and Train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QSE should be represented on the Performance Disturbance Compliance Working Group (PDCWG) and attend the meeting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sign an ERCOT Confidentiality Agreement prior to attending or receiving material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subscribe to the PDCWG E-Mail List, go to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lists.ercot.com/cgi-bin/majordomo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ttend the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ERCOT Operations Training Seminar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(5 consecutive weeks beginning March 27th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LGrimm</cp:lastModifiedBy>
  <dcterms:modified xsi:type="dcterms:W3CDTF">2006-03-06T15:36:47Z</dcterms:modified>
  <cp:revision>105</cp:revision>
  <dc:subject/>
  <dc:title>PRR 525 Compliance Analysis</dc:title>
</cp:coreProperties>
</file>