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11B4-4257-4A61-80B2-E5C6BE62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5880C-8EAF-4DED-BE23-85F5085C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D627-8A24-4397-B68C-EBE2EFC8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2D6F-2B3C-45AD-9CBB-26367B08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8051-90CA-4B7E-A1BB-20B88D8B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2191-38C1-42C4-A0AF-7862317C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BD79-13C6-4132-93D8-BA604FD9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39E4-6AB3-4448-9575-AF8AC311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FEFA-86AE-4BFF-9B2C-24AD7AC0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CC74-976B-4CB8-8A69-487072FE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3EFD-F7C3-4F10-BD1E-0B95CB31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1AA0-6680-488D-8B1F-82D42C60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E386-E371-4B57-956E-80CD176E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3600-25BE-4D4B-89DA-7BFAC1BD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9EC9-ABEB-4E69-ABA0-93C0341A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F1EA-77C2-4CFB-9704-479DC8B8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67E2-3359-4A91-B607-5E1E3EA9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622C0-CD43-4F6F-BE5C-E5235C2A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B737-D347-4DDB-B272-43F0102E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020D6-5334-49AB-9B2C-A6910031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48C4-DD15-4387-A860-7F98143B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938AB-0B37-4D6C-A1F0-8BDDAD38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4E483-AA2C-413A-9077-9D47055F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64EA2-8CE8-465A-98BA-0CA7447A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AB94-D9A2-433E-8283-20596FCC6E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CEEF-70EB-45B8-99F1-2B9C815190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RMS Working Group Leadership for 2006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6858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ompetitive Metering Working Group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hair – Terry Bates, TXU Electric Deliver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ice Chair – Mike McCabe, Reliant Energ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Market Metrics Working Group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hair – Bill Reily, TXU Electric Deliver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ice Chair – Kyle Patrick, Reliant Energ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exas Data Transport Working Group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hair – Debbie McKeever, TXU Electric Deliver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ice Chair – Jesse Cline, EC Powe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exas SET Tea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hair – Kathy Scott, CenterPoint Energ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ice Chair – Rob Bevill, Green Mountain Energ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exas Test Plan Tea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hair – Chuck Moore, Direct Energ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ice Chair – Marla Hanley, Bridge Point Energ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ice Chair – Brian Pidcock, CenterPoint Energ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6:00:25Z</dcterms:created>
  <dc:creator>Ann Boren</dc:creator>
  <dc:description/>
  <dc:language>en-US</dc:language>
  <cp:lastModifiedBy>ssanders</cp:lastModifiedBy>
  <cp:lastPrinted>2006-02-02T14:29:15Z</cp:lastPrinted>
  <dcterms:modified xsi:type="dcterms:W3CDTF">2006-02-09T15:46:19Z</dcterms:modified>
  <cp:revision>10</cp:revision>
  <dc:subject/>
  <dc:title>RMS Working Group Leadership for 2005</dc:title>
</cp:coreProperties>
</file>