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5D5F-841B-4FAF-97D4-08D246EFB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82A3-58B7-45C5-8ED8-1C9CB9552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3BAF-D22F-4CDF-838E-DFFCE52F6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2A5A-9F3F-456F-AD5F-136FAC4DE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40F8-902A-483A-AD9A-75F496ACA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D9B9-10F3-4A62-8290-989A0BC89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73C4-2EA1-435D-91CF-F202655AC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1F6C-7186-4356-9A36-D9335FC9D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519B-3960-4BA1-AD5E-2A45F09F1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77E6-62FC-4AB2-8289-3C572F12A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35C5-F62F-464B-9460-CEB448C3C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3722-EE55-4641-BB96-BCB53F5A4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466e6c"/>
          </a:soli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0741C305-7FAE-464A-A9AD-AA2B44EE46A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99404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588960"/>
            <a:ext cx="1600200" cy="85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24028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Level Up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2421000" y="3081240"/>
            <a:ext cx="5808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l Market Sub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 15th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ystems in/out of scope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cope of S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 Scop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bound and Outbound Proxy Serv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AES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ronic Data Interchange (EDI) - Paperfre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C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prise Application Integration (EAI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stomer Registration (Siebe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RCOT maintained infrastructure (Data Center and Network) that enables communication between the “Retail Market Systems” and market particip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destar related retail transactions (814_2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ut of Scop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xas Market Link (TM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prise Data Warehouse (EDW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sTra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destar sy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ta extracts and repor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668320" y="99072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urrently Under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A491-1C1E-40B2-B8C5-1E0CBF7391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Outage Windows &amp; Availability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recommend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amp;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eeke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8:00am Sat – 10:00pm Su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912 hours per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6 hours per mon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vailability % would b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9.9% = 474 unplanned min/y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9.4% = 2825 unplanned min/y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9.25% = 3531 unplanned min/y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1676520"/>
            <a:ext cx="381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13360" y="1611360"/>
            <a:ext cx="321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52388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leases one weekend/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:00pm Sat – 2:00p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tenance three weekends/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6:00pm Sat – 6:00a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0 hours per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0 hours per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vailability % would b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9.9% = 482 unplanned min/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9.4% = 2894 unplanned min/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9.25% = 3618 unplanned min/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1523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8320" y="99072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urrently Under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EFEA-9953-4A9C-8F40-E6277484E4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Misc. Unresolved Issues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ure of the agreement (RMG, protocol, ERCOT goa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cussed housing the agreement in the RMG with an annual RMGRR to up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klogs due to degradation requested to be in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define, track and meas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856D-D6F1-4097-822D-C7D82D3C7D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Next Steps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internal feasibility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ft a service level agre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roup with market with another SLA worksho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k formalization and appro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90A2-ED30-4E48-B543-18B7E82380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22:11:48Z</dcterms:created>
  <dc:creator/>
  <dc:description/>
  <dc:language>en-US</dc:language>
  <cp:lastModifiedBy>Aaron Smallwood</cp:lastModifiedBy>
  <cp:lastPrinted>2000-10-23T20:56:55Z</cp:lastPrinted>
  <dcterms:modified xsi:type="dcterms:W3CDTF">2006-02-07T16:09:48Z</dcterms:modified>
  <cp:revision>666</cp:revision>
  <dc:subject/>
  <dc:title>No Slide Title</dc:title>
</cp:coreProperties>
</file>