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C33-9C14-4E2E-A36F-B133F737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FE6-7107-4569-9378-041F2C0D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912-F1A3-4DBA-87F8-D4EE9BC9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691-3A62-4FB9-99F7-E9276CAE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A47-7643-404F-B07E-4747B731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10B-626B-4DA0-99CE-97E7B0C2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C7F-2F84-4FA3-89CE-A0291613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A55-C60B-494C-BCB5-0DC6048D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6C5-E690-49EA-B606-0EEE33B7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8C9-822A-4E39-BEAA-F3D2D66B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ECC-B216-4B4E-9697-08F7169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67D-EB86-47A1-8715-324C62E8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08C9-4864-4F60-BA3F-00512D9DC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 Integration - dependent on SOA MID project for integration framework components needed by API (low risk to pro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14300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on – Completed in Feb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Completed in Nov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/Implementation – Started November 14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d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ed the Detail Design Document on ERCOT’s website on January 31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velopment team has started coding the final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Market meeting on Monday, February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discuss the detail design    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project budget has increased from $1,631,804 to $2,492,9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 spend was $881,6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 forecasted spend is $1,611,2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otal project budget has increased $861,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to Project Priority List (PPL) – More detail will be provided at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son for increased project budge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menting development and testing efforts with contract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forecasted hours worked by ERCOT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5943600"/>
            <a:ext cx="21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comp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Design Document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3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Design Document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3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Scrip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tarting to develop February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 Sub Team kickoff meeting February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 draft test scripts developed by ERCOT will be delivered    on February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 will be completed in time to review at the April TTPT meeting (Date T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00" y="597708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product D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entatively scheduled for April 12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 i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17th – May 19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rai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Beginning of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materials will be available to MPs May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 the trainer format in Austin, Houston and D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a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User Gui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Cutover Pl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to submit new issues in old tool – June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June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new issues submitted in new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old tool will not be converted to new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over plans will be finalized prior to Ma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‘go live’ with GUI &amp; AP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00" y="597708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00" y="597708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952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440" y="5164200"/>
            <a:ext cx="10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181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181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5181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181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4419720"/>
            <a:ext cx="3581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 Market Test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4038480"/>
            <a:ext cx="1828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i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342900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971800"/>
            <a:ext cx="1371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438280"/>
            <a:ext cx="1447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Produc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251460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User Gu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19051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Liv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6-02-09T23:28:22Z</dcterms:modified>
  <cp:revision>215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