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E2A-8107-4C01-9A7D-C30E0679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196-9E0D-47EC-851D-5CA384F0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40B-8E50-4BA0-94D6-71D6B470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C6B-925A-463B-929D-89B00462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F40-0654-4828-9026-BA788A5A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5D9-0893-464D-A87E-7B402253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0C1-84D8-4D37-8E78-0592D804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B8A-6387-4CF8-8E80-F3DBE448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0B2-EC92-40E6-9DAB-6CEC6E3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A82-B191-4F22-8CDB-9162409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091-9842-4AF1-B536-A8897CBF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9DA-8515-4D15-8D3D-6FBB295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166B-49F6-492D-B6C8-4FA7DAEF6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514-BA92-4500-9FAD-F0FB025550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 1/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an 1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106 scheduled to conclude 2/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051-8BE9-4AA3-93F4-E264287A3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6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New REPs – 16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New Umbrella D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in new territory – 1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Existing REP testing new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Existing REPs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54 Task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EFE-E99B-42BF-AA04-CD62E67F8A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10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started 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of 2/8/2006 9:00 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y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7.13%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9.57% by end of 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 through Day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outstanding transactions for week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inbound to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outbound from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Point to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 overdue transactions for week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inbound to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outbound from ERC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 Point to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34A-2261-4DED-8FE8-841B85D0A2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Flight - 04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Market Participants will test for FasTr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Meeting 3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quired for ‘FasTrak only’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ight Deadline 3/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quired for ‘FasTrak only’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Kick-off Conference Call 3/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Kick-off Conference Call 4/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Begins 4/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sTrak testing 5/24 – 6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scheduled to conclude 5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A24-AFF2-4584-B9F2-0589CE6DCD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gwingerd</cp:lastModifiedBy>
  <cp:lastPrinted>2002-09-24T18:27:58Z</cp:lastPrinted>
  <dcterms:modified xsi:type="dcterms:W3CDTF">2006-02-08T20:58:01Z</dcterms:modified>
  <cp:revision>377</cp:revision>
  <dc:subject/>
  <dc:title>PowerPoint Presentation</dc:title>
</cp:coreProperties>
</file>