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AB5-C069-4818-A6E7-B7289F4E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7116-68FE-47A2-AD3E-54536FE7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8DF9-DB89-48FD-B612-C6178DFA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6394-3217-4DBA-A09C-0C6B58F8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0B0-F7F8-4E11-BE79-17C1433E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457-E2E1-4901-9E70-680AE747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0691-8A25-4D54-9E49-5DC1B9EB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BF68-F95B-4F02-B0E5-85294CA6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0C81-14AD-4FBD-BDA0-57D032CF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85F-4208-45E2-B46E-B98938C6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0B8C-DE94-4261-8112-0BF41073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8097-6832-404D-9931-9520231A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C52F-6F69-4202-A696-A97FF1349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514600"/>
            <a:ext cx="8153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bruary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 Data Extract Variance Repo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uary CR DEV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of 115 Competitive Retailers reported numbers by the due date for December Reports (02/02/0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of 12 Competitive Retailers that filed DEV Issues within the 90 days proceeding the reporting deadline reported numb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for March RMS (February Reports) are due by March 2,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76520"/>
          <a:ext cx="8000640" cy="4343040"/>
        </p:xfrm>
        <a:graphic>
          <a:graphicData uri="http://schemas.openxmlformats.org/drawingml/2006/table">
            <a:tbl>
              <a:tblPr/>
              <a:tblGrid>
                <a:gridCol w="2238480"/>
                <a:gridCol w="1513440"/>
                <a:gridCol w="1541160"/>
                <a:gridCol w="1354680"/>
                <a:gridCol w="1352880"/>
              </a:tblGrid>
              <a:tr h="104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,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3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8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2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,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,6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,1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3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4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3520" y="1676520"/>
          <a:ext cx="7924320" cy="4419000"/>
        </p:xfrm>
        <a:graphic>
          <a:graphicData uri="http://schemas.openxmlformats.org/drawingml/2006/table">
            <a:tbl>
              <a:tblPr/>
              <a:tblGrid>
                <a:gridCol w="2217240"/>
                <a:gridCol w="1499040"/>
                <a:gridCol w="1526040"/>
                <a:gridCol w="1342080"/>
                <a:gridCol w="1339920"/>
              </a:tblGrid>
              <a:tr h="106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76520"/>
          <a:ext cx="8076960" cy="4495320"/>
        </p:xfrm>
        <a:graphic>
          <a:graphicData uri="http://schemas.openxmlformats.org/drawingml/2006/table">
            <a:tbl>
              <a:tblPr/>
              <a:tblGrid>
                <a:gridCol w="2259720"/>
                <a:gridCol w="1528200"/>
                <a:gridCol w="1555560"/>
                <a:gridCol w="1367640"/>
                <a:gridCol w="1365840"/>
              </a:tblGrid>
              <a:tr h="108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U Electric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3520" y="1752480"/>
          <a:ext cx="8000640" cy="4419360"/>
        </p:xfrm>
        <a:graphic>
          <a:graphicData uri="http://schemas.openxmlformats.org/drawingml/2006/table">
            <a:tbl>
              <a:tblPr/>
              <a:tblGrid>
                <a:gridCol w="2238480"/>
                <a:gridCol w="1513440"/>
                <a:gridCol w="1541160"/>
                <a:gridCol w="1354680"/>
                <a:gridCol w="1352880"/>
              </a:tblGrid>
              <a:tr h="106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3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,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9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2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6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,7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,3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,7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1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4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y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1600200"/>
          <a:ext cx="8153280" cy="4723920"/>
        </p:xfrm>
        <a:graphic>
          <a:graphicData uri="http://schemas.openxmlformats.org/drawingml/2006/table">
            <a:tbl>
              <a:tblPr/>
              <a:tblGrid>
                <a:gridCol w="2281320"/>
                <a:gridCol w="1542240"/>
                <a:gridCol w="1570320"/>
                <a:gridCol w="1380600"/>
                <a:gridCol w="137880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76520"/>
          <a:ext cx="8076960" cy="4495320"/>
        </p:xfrm>
        <a:graphic>
          <a:graphicData uri="http://schemas.openxmlformats.org/drawingml/2006/table">
            <a:tbl>
              <a:tblPr/>
              <a:tblGrid>
                <a:gridCol w="2259720"/>
                <a:gridCol w="1528200"/>
                <a:gridCol w="1555560"/>
                <a:gridCol w="1367640"/>
                <a:gridCol w="1365840"/>
              </a:tblGrid>
              <a:tr h="108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jfrederick</cp:lastModifiedBy>
  <cp:lastPrinted>2002-09-24T18:27:58Z</cp:lastPrinted>
  <dcterms:modified xsi:type="dcterms:W3CDTF">2006-02-02T22:18:41Z</dcterms:modified>
  <cp:revision>320</cp:revision>
  <dc:subject/>
  <dc:title>PowerPoint Presentation</dc:title>
</cp:coreProperties>
</file>