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85D4-5688-4AB8-BD92-7D31B7AA8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891-9C2D-4C8C-9E43-1B633FC0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668-6C19-4B24-B2C9-5BB999F4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8CA-EEE9-4E3E-BAC9-285212E7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0FA-7F17-4F35-9192-AC1FBC58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844-96CD-4018-9F5B-9DD7F2E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1A6-CCBA-4CF4-811B-2698FE4F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33F-F563-4829-9F38-5E09FD6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285-F5B2-4A4A-83FA-E82F8905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4E7-FB72-4721-AA14-81A2FC7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EC8-46F6-4898-BC1C-7E8EC53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1DE-98F2-443F-B4A7-704E6EE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C48-4D0C-43CD-8CE9-1FEBD108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028-4B16-42AB-97D7-92552C17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1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E52-868F-447E-852B-2D14F7DE8A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C approved the COPS Market Guide.  The guide is only the first 3 chapters and sets up a structured revision process to follow, similar to other gu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F93-5B1A-48D7-8C1B-E4A207E4C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mmend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036800"/>
            <a:ext cx="83822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WG Transition to COPS (Vote)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PS approved a motion to inform RMS that they would welcome Profile Working Group (PWG) into their Subcommittee. 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by-laws are silent on the issue of moving a working group from one sub-committee to another, but TAC did approve moving DEWG last year when COPS was chartered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9FF-3BAF-4D8E-9FAB-F34E7E43EB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mmend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fter discussion at TAC, TAC agreed that Working Groups and Task Forces were at the discretion of the Chair, so RMS and COPS should discuss and de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f RMS agrees to the move, RMS and COPS should work together to ensure the smooth transition of any PRRs, LPMGs, or SCRs to minimize impact on 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A90-ABF9-46A3-B86A-0A0CF1E2F0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ommend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llowing discussion from ERCOT staff on the SANs outage, TAC assigned COPS the action item to document and improve the communications around speci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DFE-656E-4CA3-8FF9-C7080989E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2-15T06:14:41Z</dcterms:modified>
  <cp:revision>157</cp:revision>
  <dc:subject/>
  <dc:title>Point-to-Point</dc:title>
</cp:coreProperties>
</file>