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948-D41B-45E0-9F7E-F789AF2C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D19-B68D-4788-977F-D2F560C8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9CE-B40A-4658-87ED-F6A8632D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DED-39F7-4F2B-87B7-65B6AF5A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6FD-5C2D-4D48-B6CB-3412F184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0D4-125F-4C2D-9514-1617EA84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F5C-DF25-4DDE-BCE4-B26B592E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C90-5D26-4E44-82FD-BBF1054D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D7E-1535-487D-9A62-9BBB3948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A6C-4EDF-400D-AD08-96B8B0B2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A3A-9D1F-453A-9545-9C47B715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C08-5A75-4016-BE61-A38830B8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CE9A-E1DB-48E8-9683-21654F610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52388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ing LSE is designated as an Emergency QSE pursuant to Protocols Sec. 16.2.13.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sends an Invoice to the Emergency QSE for the cost of procuring energy for the EQ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s 9.3 and 9.4 require that the Invoice Recipient timely pay the Invo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Invoice is not timely paid, ERCOT will make every reasonable attempt to collect from the Emergency QSE (Sec.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defaulting LSE posted security, ERCOT will draw on any available security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.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teral) under Sections 9.4.4 &amp; 9.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ergency QSE / Defaulting 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6BC-327F-4349-8FA8-DB6ADF30E9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304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y QSE / Defaulting LSE 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suant to Sec. 9.4.4, any amount remaining unpaid after ERCOT exhausts all avenues to collect becomes a short payment to the mar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SEs that are owed monies are short paid initi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0 days later, short paid QSEs are made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maining insufficient funds are charged to QSEs with load on a load ratio share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tocols define “UFE” as “the difference between total metered Load each Settlement Period, adjusted for applicable Distribution Losses and Transmission Losses, and total ERCOT System net generati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ergy procured for the EQSE is not “unaccounted f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815-2025-42C1-9C71-88D78FAF58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ndrew Gallo</cp:lastModifiedBy>
  <cp:lastPrinted>2002-09-24T18:27:58Z</cp:lastPrinted>
  <dcterms:modified xsi:type="dcterms:W3CDTF">2006-02-02T15:51:51Z</dcterms:modified>
  <cp:revision>620</cp:revision>
  <dc:subject/>
  <dc:title>PowerPoint Presentation</dc:title>
</cp:coreProperties>
</file>