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981582-D463-4A2D-9E1F-3C08C3F21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66705-6921-49F2-BF8C-6157134A6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F05F1-A5CD-4B0A-A252-7AF8BDD62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90D17-8BA4-4420-A9AE-6E3D945D7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4ADC4-A25D-4DF3-8CAA-503E22E55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EB75A-6C6E-48B5-B601-44D046880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58F44-5296-4D29-92C5-AA7EDE6B1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8940C-0959-4A90-8462-97AE50AC2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131E0-9878-4086-AEA3-D03711097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FB1CE-2FAE-434A-A644-D56BED092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D9998-F277-4C68-AE2F-C9484EE2D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FF559-EFB2-475A-ABB7-887C013FB6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1D10A-DE94-4E47-9551-570A89F0C93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7086600" y="152280"/>
            <a:ext cx="1828800" cy="982800"/>
          </a:xfrm>
          <a:prstGeom prst="rect">
            <a:avLst/>
          </a:prstGeom>
          <a:ln w="0">
            <a:noFill/>
          </a:ln>
        </p:spPr>
      </p:pic>
      <p:sp>
        <p:nvSpPr>
          <p:cNvPr id="6" name=""/>
          <p:cNvSpPr/>
          <p:nvPr/>
        </p:nvSpPr>
        <p:spPr>
          <a:xfrm>
            <a:off x="380880" y="1219320"/>
            <a:ext cx="8305920" cy="7596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000" bIns="3600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txBox="1"/>
          <p:nvPr/>
        </p:nvSpPr>
        <p:spPr>
          <a:xfrm>
            <a:off x="228600" y="380880"/>
            <a:ext cx="1285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8000"/>
                  </a:solidFill>
                  <a:miter/>
                </a:ln>
                <a:solidFill>
                  <a:srgbClr val="33cccc"/>
                </a:solidFill>
                <a:effectLst>
                  <a:outerShdw dist="17819" dir="2700000" blurRad="0" rotWithShape="0">
                    <a:srgbClr val="990000"/>
                  </a:outerShdw>
                </a:effectLst>
                <a:latin typeface="Impact"/>
              </a:rPr>
              <a:t>TDTWG</a:t>
            </a:r>
            <a:endParaRPr b="0" lang="en-US" sz="2400" spc="1" strike="noStrike">
              <a:ln w="19080">
                <a:solidFill>
                  <a:srgbClr val="008000"/>
                </a:solidFill>
                <a:miter/>
              </a:ln>
              <a:solidFill>
                <a:srgbClr val="33cccc"/>
              </a:solidFill>
              <a:effectLst>
                <a:outerShdw dist="17819" dir="2700000" blurRad="0" rotWithShape="0">
                  <a:srgbClr val="990000"/>
                </a:outerShdw>
              </a:effectLst>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752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DTWG </a:t>
            </a:r>
            <a:br>
              <a:rPr sz="4400"/>
            </a:br>
            <a:r>
              <a:rPr b="0" lang="en-US" sz="4400" spc="-1" strike="noStrike">
                <a:solidFill>
                  <a:srgbClr val="000000"/>
                </a:solidFill>
                <a:latin typeface="Arial"/>
              </a:rPr>
              <a:t>Report to RMS</a:t>
            </a:r>
            <a:endParaRPr b="0" lang="en-US" sz="4400" spc="-1" strike="noStrike">
              <a:solidFill>
                <a:srgbClr val="000000"/>
              </a:solidFill>
              <a:latin typeface="Arial"/>
            </a:endParaRPr>
          </a:p>
        </p:txBody>
      </p:sp>
      <p:sp>
        <p:nvSpPr>
          <p:cNvPr id="46"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5 Accomplishment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6 Goal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ed Work for 2006</a:t>
            </a:r>
            <a:endParaRPr b="0" lang="en-US" sz="3200" spc="-1" strike="noStrike">
              <a:solidFill>
                <a:srgbClr val="000000"/>
              </a:solidFill>
              <a:latin typeface="Arial"/>
            </a:endParaRPr>
          </a:p>
        </p:txBody>
      </p:sp>
      <p:sp>
        <p:nvSpPr>
          <p:cNvPr id="47" name=""/>
          <p:cNvSpPr/>
          <p:nvPr/>
        </p:nvSpPr>
        <p:spPr>
          <a:xfrm>
            <a:off x="5867280" y="5987880"/>
            <a:ext cx="2819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dnesday, February 1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EDEC5B4C-5EA6-451F-9611-B4AF35A909FE}" type="slidenum">
              <a:t>1</a:t>
            </a:fld>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ECF88C17-4312-4DCB-A124-C8C9254760C0}" type="slidenum">
              <a:t>10</a:t>
            </a:fld>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6 Officers</a:t>
            </a:r>
            <a:endParaRPr b="0" lang="en-US" sz="4400" spc="-1" strike="noStrike">
              <a:solidFill>
                <a:srgbClr val="000000"/>
              </a:solidFill>
              <a:latin typeface="Arial"/>
            </a:endParaRPr>
          </a:p>
        </p:txBody>
      </p:sp>
      <p:sp>
        <p:nvSpPr>
          <p:cNvPr id="49" name="PlaceHolder 2"/>
          <p:cNvSpPr>
            <a:spLocks noGrp="1"/>
          </p:cNvSpPr>
          <p:nvPr>
            <p:ph/>
          </p:nvPr>
        </p:nvSpPr>
        <p:spPr>
          <a:xfrm>
            <a:off x="914040" y="1600200"/>
            <a:ext cx="74674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DTWG elected Officers at th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uary 2006 TDTWG mee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ebbie McKeever, Chai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Jesse Cline, Vice Chai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A145DDA-C34E-496A-A901-F039C3B36331}" type="slidenum">
              <a:t>2</a:t>
            </a:fld>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5 Accomplishments</a:t>
            </a:r>
            <a:endParaRPr b="0" lang="en-US" sz="3200" spc="-1" strike="noStrike">
              <a:solidFill>
                <a:srgbClr val="000000"/>
              </a:solidFill>
              <a:latin typeface="Arial"/>
            </a:endParaRPr>
          </a:p>
        </p:txBody>
      </p:sp>
      <p:sp>
        <p:nvSpPr>
          <p:cNvPr id="51"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ed ERCOT system failures and outages in an effort to assist or minimize as possible. This effort was the key driver for the creation of SCR745</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d SCR745 and with ERCOT completed technical analysis necessary to achieve Board approval</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request of PRS, sponsored 15 meetings and conference calls in order to achieve Market consensus for PRR606</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cessfully achieved approval of Texas Market requirement for inclusion in the next release of the NAESB EDM protoco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d Texas Retail Market encryption guild (GPG,PGP User Guid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ed TDTWG NAESB EDM V 1.6 implementation Guid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ed Market Participant issue resolution for connectivity</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D8C034B-C0B4-4EA1-A16E-5794E33017BB}" type="slidenum">
              <a:t>3</a:t>
            </a:fld>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6 Goals</a:t>
            </a:r>
            <a:endParaRPr b="0" lang="en-US" sz="4400" spc="-1" strike="noStrike">
              <a:solidFill>
                <a:srgbClr val="000000"/>
              </a:solidFill>
              <a:latin typeface="Arial"/>
            </a:endParaRPr>
          </a:p>
        </p:txBody>
      </p:sp>
      <p:sp>
        <p:nvSpPr>
          <p:cNvPr id="5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DTWG will continue to work with Market Participants, their agents, ERCOT, the PUCT as well as other interested parties in an effort to improve and insure data delivery processes for the Texas Marke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ill be primarily accomplished by completing the work opportunities detailed on the following slid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02C9BBB-06A6-4B92-B208-D44415C1A9D3}" type="slidenum">
              <a:t>4</a:t>
            </a:fld>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ected Work for 2006</a:t>
            </a:r>
            <a:endParaRPr b="0" lang="en-US" sz="3600" spc="-1" strike="noStrike">
              <a:solidFill>
                <a:srgbClr val="000000"/>
              </a:solidFill>
              <a:latin typeface="Arial"/>
            </a:endParaRPr>
          </a:p>
        </p:txBody>
      </p:sp>
      <p:sp>
        <p:nvSpPr>
          <p:cNvPr id="55" name="PlaceHolder 2"/>
          <p:cNvSpPr>
            <a:spLocks noGrp="1"/>
          </p:cNvSpPr>
          <p:nvPr>
            <p:ph/>
          </p:nvPr>
        </p:nvSpPr>
        <p:spPr>
          <a:xfrm>
            <a:off x="456840" y="1599840"/>
            <a:ext cx="845820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74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DTWG will continue to work with ERCOT to achieve successful implementation of SCR74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Project Manager and a Business Project Analyst have been assign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usiness Project Analyst</a:t>
            </a:r>
            <a:r>
              <a:rPr b="0" lang="en-US" sz="2000" spc="-1" strike="noStrike">
                <a:solidFill>
                  <a:srgbClr val="000000"/>
                </a:solidFill>
                <a:latin typeface="Arial"/>
              </a:rPr>
              <a:t>	</a:t>
            </a:r>
            <a:r>
              <a:rPr b="0" lang="en-US" sz="2000" spc="-1" strike="noStrike">
                <a:solidFill>
                  <a:srgbClr val="000000"/>
                </a:solidFill>
                <a:latin typeface="Arial"/>
              </a:rPr>
              <a:t> Denise Tayl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ject Manage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Julie Thom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System Outages –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TWG is currently working with ERCOT IT to create an SCR for outage information to be displayed on the ERCOT websit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TWG continues to work with ERCOT and Market Participants to determine  the most efficient manner for resolution of NAESB and other system outages and failur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TWG will continue to support ERCOT resolution efforts in addressing each outage experienced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B939D38-8F86-45F6-99CB-5F70A608D58E}" type="slidenum">
              <a:t>5</a:t>
            </a:fld>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ected Work for 2006</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Connectivity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to work with ERCOT and Market Participants in order to resolve connectivity issues as they are experienced or brought forth to TDTWG.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with TTPT to complete automated TC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t with ERCOT as necessary to help insure market impacts for NAESB outages are minim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DTWG will hold a technical workshop to assist with the education of the NAESB EDM v1.6 protocol as well as other technical aspects for the Market if needed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DECBDF5-23F4-417F-BBDD-ED34A3FD3516}" type="slidenum">
              <a:t>6</a:t>
            </a:fld>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ected Work for 2006</a:t>
            </a: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t of Digital Certificates and US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the implementation of PRR606 several areas in the process have been noted as needing modification.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DTWG will hold a conference call/meeting in order to provide an opportunity for those interested to participate.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337ACD6-F1B2-496E-99E7-E8C644C80985}" type="slidenum">
              <a:t>7</a:t>
            </a:fld>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ected Work for 2006</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h American Energy Standards Boar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ESB is responsible for documenting standards for deregulated processe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cluded in these standards is the Electronic Delivery Mechanism communication protocol that is in use today in the Texas Market</a:t>
            </a:r>
            <a:endParaRPr b="0" lang="en-US" sz="2400" spc="-1" strike="noStrike">
              <a:solidFill>
                <a:srgbClr val="000000"/>
              </a:solidFill>
              <a:latin typeface="Arial"/>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DTWG representatives will continue to participate in NAESB meetings in an effort to ensure Texas retail market requirements are included in all future version releases of the EDM</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EE97212-CB33-4867-9695-0524E9D0694D}" type="slidenum">
              <a:t>8</a:t>
            </a:fld>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ected Work for 2006 </a:t>
            </a: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Market Projects as need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DTWG has knowledgeable technical resources available to assist the Market in moving forward with various projects.</a:t>
            </a:r>
            <a:endParaRPr b="0" lang="en-US" sz="28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 will continue to participate in these efforts and take work as assigned by RM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68CF2F1-5673-4F58-856C-8C8F491B5AC1}" type="slidenum">
              <a:t>9</a:t>
            </a:fld>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Registered User</cp:lastModifiedBy>
  <cp:lastPrinted>2002-09-24T18:27:58Z</cp:lastPrinted>
  <dcterms:modified xsi:type="dcterms:W3CDTF">2006-02-14T17:03:26Z</dcterms:modified>
  <cp:revision>369</cp:revision>
  <dc:subject/>
  <dc:title>PowerPoint Presentation</dc:title>
</cp:coreProperties>
</file>