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177-0616-420E-BC4F-D2B2FEBB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9B4-5794-4CD7-8206-E0651E97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A26-5240-49D7-9252-1D230565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573-2BAC-4623-9853-876C69E5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1A7E-8D5E-4893-8ABA-CEA98E37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88E8-04A9-482A-9332-F3EBF96C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A7E1-28F5-4837-A14D-0D652983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7ADB-278B-4617-B36B-21568A3B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9D3F-181E-4E12-8168-94A812A3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A032-503E-4D3D-B8CA-0539F4A6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7732-C1D9-4533-983B-8F7C6190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A2C-A5BB-406C-BE0D-F76B11E1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45FA-AAC0-48A7-9A0B-92B8DDFE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421B-9979-423C-A371-95A503F7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6FA7-6CC0-4D0C-8ED9-3F841441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7C4C-4169-405F-9434-6085E1F3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B370-51E0-49A9-9800-2984B074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EFD8-B99D-4D8A-A304-95D8D401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2B4-641F-4661-95A2-D9FF211B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420C-83A6-4737-83B3-4D2EF396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2C8-DBE5-427A-847D-7C08C1FF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7A7-7A8B-4C54-AB01-06BB249E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4B08-54FE-4513-9A27-6133E52A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086E-8D53-476A-AC50-080C993F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77CC-E5FF-4F8C-AF23-63C6A92FE3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045A-56D3-4F28-8BF8-5A05906CD7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1066320"/>
            <a:ext cx="65534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 Rounded MT Bold"/>
              </a:rPr>
              <a:t>ERCOT Update to RMS on the IDR Requirement Transition Project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5808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Carl Ra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RCOT Load Prof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February 15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Rounded MT Bold"/>
              </a:rPr>
              <a:t>IDR Requirement Report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2076480"/>
            <a:ext cx="822960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Rounded MT Bold"/>
              </a:rPr>
              <a:t>IDR Optional Removal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of February 2, 2006 one TDSP reported having received two IDR removal requests; both have been re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SPs have been requested to submit updates on any additional removal requests to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inder that TDSPs have until later of 120 days or April 30, 2006 to complete IDR instal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R Requirement Reports have not been modified to reflect the above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SI IDs are currently flagged as ‘Overdu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‘Overdue’ indicator does not apply until after 04/30/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1:08:05Z</dcterms:created>
  <dc:creator> </dc:creator>
  <dc:description/>
  <dc:language>en-US</dc:language>
  <cp:lastModifiedBy>craish</cp:lastModifiedBy>
  <dcterms:modified xsi:type="dcterms:W3CDTF">2006-02-03T22:22:19Z</dcterms:modified>
  <cp:revision>42</cp:revision>
  <dc:subject/>
  <dc:title>IDR Taskforce Report to RMS</dc:title>
</cp:coreProperties>
</file>