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B8E-FF14-492B-932A-67800209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586-8BDF-4CD7-8813-8E81FA77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14B-47E2-4912-BDAF-DFB2704A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5A7-3AA4-4A2A-855A-52C6DE46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CD7-31F3-4E36-BBED-BDF7E078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122-4F9F-499B-B2C5-CA9C510B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F5D-7B1C-4CB5-B82D-1C2E9B83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D1B-D805-4150-8C02-AB6624E7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4DE-A2DC-4C19-95D7-AA7960E7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B99-4499-4305-AF9F-62A7CA0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8A6-BD16-445D-B75F-C4E4760E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96A-1C40-4382-9580-6A9A120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B786-DF0B-4CD4-AADF-2A362AF3D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roved formats </a:t>
            </a:r>
            <a:br>
              <a:rPr sz="3600"/>
            </a:br>
            <a:br>
              <a:rPr sz="36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ESI ID Data Integrity Management te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709-9EEE-4A8A-8A81-98EBCAFDA4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5562720"/>
            <a:ext cx="6324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109 In Progress DEV Issues, 44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E02-5CD8-41B0-8F09-79E5EE2662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ru 1/31/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8EF-B8AD-4D64-9D9A-AC66909E96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C6E-9517-4ECB-A627-307EC8A0A8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91A-D1DF-44BE-ACBC-D5A092EFA8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A08-C6AB-49C0-8D57-CBEBF8895C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FCF-F235-489C-BB84-CB575F9AFF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ECC-16B7-478C-961E-D8107003BF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724280"/>
            <a:ext cx="701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30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871-F2C7-4FC7-BB20-02DE3FDC8D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638680"/>
            <a:ext cx="73911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1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rogress D2D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1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6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5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5345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109-9718-4C8B-88D7-08A4C0076D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95288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EE9-94DE-455A-937C-D6B3A7ACC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001000" cy="24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881-23E7-45A6-A846-2C5A30A97A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ssanders</cp:lastModifiedBy>
  <cp:lastPrinted>2002-09-24T18:27:58Z</cp:lastPrinted>
  <dcterms:modified xsi:type="dcterms:W3CDTF">2006-02-07T20:54:35Z</dcterms:modified>
  <cp:revision>619</cp:revision>
  <dc:subject/>
  <dc:title>PowerPoint Presentation</dc:title>
</cp:coreProperties>
</file>