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1E6-E552-4448-A832-0A2CC9A4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15A-BD1F-4870-BAD0-8DF8E3D5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6C0-0310-46C7-9A31-F32ED6B2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172-877E-416F-8B91-FA251F65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5D9D-5522-41A2-83AD-D1D7C719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59CE-B3EA-4F11-AFCC-1AB19F21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A96-85FE-4C31-9781-17CC9B11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F5AC-9E1E-454F-A2E7-A2D8D1C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532F-1C30-4FD3-BEE6-4976147C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7920" y="277920"/>
            <a:ext cx="6248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4CD6-68AA-4FF7-B4F9-3493C29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7DDC-CF02-4AB5-81E9-8B3098E5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F2C-E0EA-4031-996C-4A6DB65F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3675-CAB9-4ECE-BFC9-460AAC95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3804-60B1-4370-9105-C303E52B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8A0D-F1B2-47F2-94A9-F352BFD7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B928-A026-4F99-BDA2-80D882C6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E78D-5CC4-4940-9400-7C419C20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E90-7832-47AD-9974-9FDCB725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3E5-ECB3-4868-9709-D325D006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DCB-A09D-4FCB-B499-73326C35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7920" y="277920"/>
            <a:ext cx="6248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3B5-60CF-4874-96FE-59FB7E3F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444-8DEC-4102-B46B-EAA79EEF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DA9-DC21-4497-A11C-972D4990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FE6-532C-4C11-8E79-8B0EBD32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6C04-34E8-4523-AF3B-466F366A2A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957320" cy="9414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5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7302-71A1-415F-88BF-10893BF65CFE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1957320" cy="941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5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 Narrow"/>
              </a:rPr>
              <a:t>PRR 567 – Simplified Three-Part Bidding for Ancillary Services</a:t>
            </a:r>
            <a:br>
              <a:rPr sz="4600"/>
            </a:br>
            <a:r>
              <a:rPr b="1" lang="en-US" sz="4600" spc="-1" strike="noStrike">
                <a:solidFill>
                  <a:srgbClr val="000066"/>
                </a:solidFill>
                <a:latin typeface="Arial Narrow"/>
              </a:rPr>
              <a:t>Impacts and Priority Issues</a:t>
            </a:r>
            <a:endParaRPr b="1" lang="en-US" sz="4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Procedural History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9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567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/17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tabled pending furthe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/17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set up a task force for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6/23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commende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/1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ubmitted an Impact Analysis (I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/2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commended priority of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08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manded PRR pending the development of a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4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A was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29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viewed the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06/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commended approval with 1.2 priority and 54.5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/ remanded to TAC to develop a more detailed CB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consider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/ remanded to PRS for further review of the CBA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ideration of priority and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4/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/ Refer to taskforce to develop a revised C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19D-D667-4E55-97D3-E71E3C0A9D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Impact Analysis Highlight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st: 3-M ($1 to 3 mill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 similar to RPRS ($2 Million) and Simultaneous A/S clearing ($1 Million) in Release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stimate cannot be further refined until Project Requirements exist.  Requirements will not be developed until after there is an approved PRR and associated, funded, proj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: 12 to 18 mon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or proposals (RFP) process (2-3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velopment (6-9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testing (3-4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testing &amp; implementation (1-2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tensive changes in ERCOT computer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imal business function and long-term staffing impa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impact on ERCOT Grid Operations &amp; Pract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208-5A00-4505-B372-77EB046B65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Known System Change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4771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cillary Service (A/S) Clearing Engine for three-part bidd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gration of three-part bids and hourly bids for A/S optim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 Clearing Price for Capacity (MCPC) determ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imeline of market clearing and awards may need to be changed to accommodate change in processing tim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Operations System (M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 interface with clearing eng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 interface with Lodest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Operator Interface (MO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38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ket User Interface (MU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tal and XM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ility to receive new optional field val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dest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velopment of “make-whole” payment pro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terprise Data Warehouse (ED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rror source system chan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 data extracts and coordinate with mark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date MOMS (Public Utility Commission too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ication interfaces between the above system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429000"/>
            <a:ext cx="8229600" cy="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37160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8"/>
                </a:lnTo>
                <a:cubicBezTo>
                  <a:pt x="10800" y="9658"/>
                  <a:pt x="16200" y="10558"/>
                  <a:pt x="21600" y="10558"/>
                </a:cubicBezTo>
                <a:cubicBezTo>
                  <a:pt x="16200" y="10558"/>
                  <a:pt x="10800" y="11458"/>
                  <a:pt x="10800" y="1235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144792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ly Outsourced Development, with oversight and Implementation by ERCO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3886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and Implemented by ERCOT sta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350532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8"/>
                </a:lnTo>
                <a:cubicBezTo>
                  <a:pt x="10800" y="9658"/>
                  <a:pt x="16200" y="10558"/>
                  <a:pt x="21600" y="10558"/>
                </a:cubicBezTo>
                <a:cubicBezTo>
                  <a:pt x="16200" y="10558"/>
                  <a:pt x="10800" y="11458"/>
                  <a:pt x="10800" y="1235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BFD-66EC-48FA-9192-D5299B007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77920"/>
            <a:ext cx="6248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Prioritization Issues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 appears to have high benefits; howe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has to fit within ERCOT’s fixed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is PRR will require significant/complex system modifications that will not be part of the Nodal market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is PRR will require many of the same resources required for implementation of the Nod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R is prioritized below the 2006 cut line, it’s unlikely that a Project associated with this PRR would be initiated, given its high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R is prioritized just above the 2006 cut line, it’s unlikely that it would be initiated this year, given projected availability of ERCOT resour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oject associated with this PRR to be initiated in 2006 would require that it have a priority not only above the cut line but higher than that assigned to Nodal market redesign Pro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S / RGrub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AC8-DA72-4C25-BA86-A4C619C9AE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9:02:14Z</dcterms:created>
  <dc:creator>Beth Garza</dc:creator>
  <dc:description/>
  <dc:language>en-US</dc:language>
  <cp:lastModifiedBy>Nieves</cp:lastModifiedBy>
  <dcterms:modified xsi:type="dcterms:W3CDTF">2006-02-14T15:57:54Z</dcterms:modified>
  <cp:revision>11</cp:revision>
  <dc:subject/>
  <dc:title>PRR 567 – Simplified Three-Part Bidding for Ancillary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