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6C73-A74D-4870-B0B8-159636BC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3D3C-6BFE-4E32-A842-5217E5E9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112E-2165-4BDE-A2FE-84206479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1516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9440" y="1066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088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1516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9440" y="35737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B6DD-07F5-44B1-BC10-EE18C696C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8AF6-0986-41CB-8950-34E0AA44B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2D03-126B-4E87-8BA3-F08B0C8A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DED-13C2-4BB5-8712-C47B10DF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0079-67D5-4275-B142-D2FC884C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FBD2-35A2-4C65-ADCC-0C538070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0752-1EC5-4473-AB39-1C5B0D7C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6040" y="35737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8456-DDD8-4FA2-85BB-7CD8DB34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6040" y="1066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5737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C67-1D8A-4A07-8125-4B3C61B6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C81C-F86A-42A1-A50E-5935C147E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ole of Account Management at ERCO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294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590920"/>
            <a:ext cx="7696440" cy="21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05 Meeting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upport Survey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r 2006 Sub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ost Meeting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04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dents call for improved post meeting support (i.e., meeting minutes, materials, and other follow-up communications distributed in a more timely manner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295280" y="2438280"/>
          <a:ext cx="6248520" cy="3105360"/>
        </p:xfrm>
        <a:graphic>
          <a:graphicData uri="http://schemas.openxmlformats.org/drawingml/2006/table">
            <a:tbl>
              <a:tblPr/>
              <a:tblGrid>
                <a:gridCol w="2057400"/>
                <a:gridCol w="1374840"/>
                <a:gridCol w="1825560"/>
                <a:gridCol w="99072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s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(n=3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F/WG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ommittee (n=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P Meeting Prepar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04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dents call for improved MP meeting preparation (i.e., more consistent level of preparation among MP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295280" y="2438280"/>
          <a:ext cx="6248520" cy="3105360"/>
        </p:xfrm>
        <a:graphic>
          <a:graphicData uri="http://schemas.openxmlformats.org/drawingml/2006/table">
            <a:tbl>
              <a:tblPr/>
              <a:tblGrid>
                <a:gridCol w="2057400"/>
                <a:gridCol w="1374840"/>
                <a:gridCol w="1825560"/>
                <a:gridCol w="99072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s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(n=3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F/WG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ommittee (n=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ffectiveness of ERCOT Staff Market Meeting Support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762120"/>
          <a:ext cx="8381880" cy="5037120"/>
        </p:xfrm>
        <a:graphic>
          <a:graphicData uri="http://schemas.openxmlformats.org/drawingml/2006/table">
            <a:tbl>
              <a:tblPr/>
              <a:tblGrid>
                <a:gridCol w="3429000"/>
                <a:gridCol w="990720"/>
                <a:gridCol w="1143000"/>
                <a:gridCol w="1523880"/>
                <a:gridCol w="1295280"/>
              </a:tblGrid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 Tw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om Tw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K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preparation of ERCOT present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timely &amp; precise communication (i.e., agendas, voting items &amp; results, mtg minutes) with M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the right resources given the agen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hieving consistent execution of market meeting sup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ly meeting the needs of M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ing appropriate levels of ERCOT staff particip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1752480" y="586728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cale: 1=not at all effective, 7=extremely eff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Overall Effectiveness of the Meeting Management Support Mode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04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, leadership generally finds the model to be effective as nearly half of respondents rated the model as very or extremely effective while no respondents provided a rating below 3 on a 7-point sca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0">
              <a:lnSpc>
                <a:spcPct val="12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04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committee leadership finds the meeting management approach to be more effective than TF/WG respond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066680" y="3124080"/>
          <a:ext cx="7115040" cy="2687400"/>
        </p:xfrm>
        <a:graphic>
          <a:graphicData uri="http://schemas.openxmlformats.org/drawingml/2006/table">
            <a:tbl>
              <a:tblPr/>
              <a:tblGrid>
                <a:gridCol w="2092320"/>
                <a:gridCol w="1046160"/>
                <a:gridCol w="1176120"/>
                <a:gridCol w="1400400"/>
                <a:gridCol w="1400040"/>
              </a:tblGrid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 Tw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om Tw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K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(n=3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F/WG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ommittee (n=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1752480" y="586728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cale: 1=not at all effective, 7=extremely eff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iggest Advantages &amp; Areas for Improvemen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16992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dents most often cite improved consistency &amp; organization of meetings, communications, and meeting materials &amp; activities as the most significant improvements from the new approach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for more consistent &amp; comprehensive support from ERCOT S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for improved meeting produc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exactly whom is responsible for tracking minutes/notes and actually producing the agenda seems to be an undecided issu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% of respondents indicate the most important improvement would be the establishment of a tracking mechanism for agenda items, workflows, and next steps that come out of market meeting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% of respondents feel that starting each agenda call with feedback from last meeting would be an important improveme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16992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% of respondents would like to see a quick checkpoint survey at end of all meeting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297180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What can we do to improve the meeting management concep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040" indent="-380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vey was designed 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her perceptions of ERCOT Staff’s support of committee, working group and task force mee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the efforts collectively made by Staff and stakeholders to make these meetings more effective for all particip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040" indent="-380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vey sent to 57 Chair and Vice-Chairs of committees, working groups and task forc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1% respons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 members of Task Force and Working Group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members of Subcommittee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040" indent="-380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Utiliz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questions were asked using a 7-point sc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means not at all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means extremely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Two” – ranking of 6 or 7 considered very 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tom Two” – ranking of 1 or 2 considered very in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dents answering “Don’t Know” to the topic being analyzed were excluded from the statistical base for the calculation of the mean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4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281952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ummary of Survey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eeting the needs of the Texas Electricity Marke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04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ly half of respondents rate the effectiveness of the ERCOT stakeholder process in meeting the needs of the Texas Electric Market as very effective; three percent rate it as very ineffectiv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5404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committee leadership finds the stakeholder process to be more effective in meeting needs of the electricity mark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752480" y="2819520"/>
          <a:ext cx="5714640" cy="3085920"/>
        </p:xfrm>
        <a:graphic>
          <a:graphicData uri="http://schemas.openxmlformats.org/drawingml/2006/table">
            <a:tbl>
              <a:tblPr/>
              <a:tblGrid>
                <a:gridCol w="2092680"/>
                <a:gridCol w="1046160"/>
                <a:gridCol w="1175760"/>
                <a:gridCol w="1400040"/>
              </a:tblGrid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 Tw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om Tw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(n=3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F/WG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ommittee (n=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1752480" y="594360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cale: 1=not at all effective, 7=extremely eff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eeting the needs of Chairs &amp; Vice-Chair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040" indent="-3808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% of respondents rate the ERCOT stakeholder process as very effective in meeting their needs; 3% rate it as very ineffectiv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54040" indent="-3808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committee leadership finds the stakeholder process to be more effective in meeting their needs.  Many of TF/WG leadership who feel that the ERCOT stakeholder process is not effective in meeting their needs point to inadequate support from ERCOT staff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066680" y="3124080"/>
          <a:ext cx="7115040" cy="2687400"/>
        </p:xfrm>
        <a:graphic>
          <a:graphicData uri="http://schemas.openxmlformats.org/drawingml/2006/table">
            <a:tbl>
              <a:tblPr/>
              <a:tblGrid>
                <a:gridCol w="2092320"/>
                <a:gridCol w="1046160"/>
                <a:gridCol w="1176120"/>
                <a:gridCol w="1400400"/>
                <a:gridCol w="1400040"/>
              </a:tblGrid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 Tw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om Tw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 Kn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(n=3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F/WG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ommittee (n=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1752480" y="5867280"/>
            <a:ext cx="579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cale: 1=not at all effective, 7=extremely eff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Effectiveness of Meeting Management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upport Model Processe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52280" y="762120"/>
          <a:ext cx="8686800" cy="5335560"/>
        </p:xfrm>
        <a:graphic>
          <a:graphicData uri="http://schemas.openxmlformats.org/drawingml/2006/table">
            <a:tbl>
              <a:tblPr/>
              <a:tblGrid>
                <a:gridCol w="3905280"/>
                <a:gridCol w="1435320"/>
                <a:gridCol w="1992240"/>
                <a:gridCol w="1353960"/>
              </a:tblGrid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s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ting Day Coordination (i.e., minutes, meeting set-u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eting Infrastructure (i.e., meeting spaces, posting on we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ting Administration (i.e., email voting, notice of voting items, voting managem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da (i.e., development, planning call, distributio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Meeting Prep (i.e., advance distribution, quality, &amp; timeliness of meeting material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 Meeting (i.e., minutes, post updated presentations, track action item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 Meeting Prep (i.e., follow-up with presenters, post presentation on we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04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ose noting need for improvement, cite need for ERCOT to more clearly define its role in the process and the need for more realistic agend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295280" y="2438280"/>
          <a:ext cx="6248520" cy="3105360"/>
        </p:xfrm>
        <a:graphic>
          <a:graphicData uri="http://schemas.openxmlformats.org/drawingml/2006/table">
            <a:tbl>
              <a:tblPr/>
              <a:tblGrid>
                <a:gridCol w="2057400"/>
                <a:gridCol w="1374840"/>
                <a:gridCol w="1825560"/>
                <a:gridCol w="99072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s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(n=3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F/WG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ommittee (n=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ERCOT Meeting Preparation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404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ose noting need for improvement, suggest that the timeliness of meeting agenda availability could improv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-380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s would like to see appropriate ERCOT SMEs attend meetings more frequentl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0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295280" y="2590920"/>
          <a:ext cx="6248520" cy="3105000"/>
        </p:xfrm>
        <a:graphic>
          <a:graphicData uri="http://schemas.openxmlformats.org/drawingml/2006/table">
            <a:tbl>
              <a:tblPr/>
              <a:tblGrid>
                <a:gridCol w="2057400"/>
                <a:gridCol w="1374840"/>
                <a:gridCol w="1825560"/>
                <a:gridCol w="990720"/>
              </a:tblGrid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s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S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(n=3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F/WG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=2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ommittee (n=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3160" algn="ctr">
                        <a:lnSpc>
                          <a:spcPct val="12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Kate Horne</dc:creator>
  <dc:description/>
  <dc:language>en-US</dc:language>
  <cp:lastModifiedBy>ERCOT</cp:lastModifiedBy>
  <dcterms:modified xsi:type="dcterms:W3CDTF">2006-02-07T15:43:12Z</dcterms:modified>
  <cp:revision>41</cp:revision>
  <dc:subject/>
  <dc:title>Role of Account Management at ERCOT</dc:title>
</cp:coreProperties>
</file>