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A874-95D9-4715-A57A-03C80E8D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5BE6-B095-41C9-9DF1-42F3BBFA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36C8-438F-4B0A-B72C-6EEAE599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A8B-781B-481E-96F0-385B4F75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95F8-AECC-47EE-8BA9-747DB99A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76B-2714-4A03-B3C8-540D53E1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513-24FE-476F-B391-F2EF96D8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E14-C432-45B2-923C-1FC0A656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404-64F8-4E2C-8528-EBC29278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857-1DD6-4CCA-9C75-2E650773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7326-EF69-4EB1-B07A-900B014D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90144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810960"/>
            <a:ext cx="250236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AD6-A183-4DCD-8271-479C2B6D8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66800" y="104760"/>
            <a:ext cx="7020000" cy="26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1096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01440"/>
            <a:ext cx="37926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10960"/>
            <a:ext cx="7772400" cy="26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77160" y="6586560"/>
            <a:ext cx="126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D367C665-38B7-4B8A-8C53-BBD85CD75CB4}" type="slidenum">
              <a:rPr b="1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66800" y="104760"/>
            <a:ext cx="70200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1440"/>
            <a:ext cx="7772400" cy="55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7800" indent="-30780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5704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5640" indent="-204840"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36760" indent="-206280">
              <a:spcBef>
                <a:spcPts val="451"/>
              </a:spcBef>
              <a:buClr>
                <a:srgbClr val="009999"/>
              </a:buClr>
              <a:buFont typeface="Arial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46440" indent="-204840">
              <a:spcBef>
                <a:spcPts val="451"/>
              </a:spcBef>
              <a:buClr>
                <a:srgbClr val="009999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46440" indent="-2048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58840" y="162000"/>
          <a:ext cx="1133280" cy="51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840" y="162000"/>
                    <a:ext cx="113328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258840" y="790560"/>
            <a:ext cx="86821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33200" y="6594480"/>
            <a:ext cx="324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ERCOT TollGate / SRT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4C9F-A794-405A-BA4B-1D28974CFFD5}" type="datetime3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9362-34CD-433E-9CBA-11451E2D79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276720"/>
            <a:ext cx="7772400" cy="0"/>
          </a:xfrm>
          <a:prstGeom prst="line">
            <a:avLst/>
          </a:prstGeom>
          <a:ln w="1015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09680" indent="0" algn="ctr">
              <a:spcBef>
                <a:spcPts val="4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20800" algn="ctr">
              <a:spcBef>
                <a:spcPts val="349"/>
              </a:spcBef>
              <a:buClr>
                <a:srgbClr val="009999"/>
              </a:buClr>
              <a:buFont typeface="Arial"/>
              <a:buChar char="•"/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30480" algn="ctr">
              <a:spcBef>
                <a:spcPts val="349"/>
              </a:spcBef>
              <a:buClr>
                <a:srgbClr val="009999"/>
              </a:buClr>
              <a:buFont typeface="Arial"/>
              <a:buChar char="–"/>
              <a:tabLst>
                <a:tab algn="l" pos="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41600" algn="ctr">
              <a:spcBef>
                <a:spcPts val="349"/>
              </a:spcBef>
              <a:buClr>
                <a:srgbClr val="009999"/>
              </a:buClr>
              <a:buFont typeface="Arial"/>
              <a:buChar char="»"/>
              <a:tabLst>
                <a:tab algn="l" pos="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641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641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tptf/index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607400" y="3532320"/>
            <a:ext cx="62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PTF Overview for CO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09840" y="4375080"/>
            <a:ext cx="632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esday, February 14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00200" cy="86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935600" y="5807160"/>
            <a:ext cx="37148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 Mer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ereness@erco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4320" y="104760"/>
            <a:ext cx="6507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PTF Overview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309320"/>
            <a:ext cx="846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9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PT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99"/>
              </a:spcAft>
              <a:buNone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is TPT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99"/>
              </a:spcAft>
              <a:buNone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is TPT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99"/>
              </a:spcAft>
              <a:buNone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4320" y="104760"/>
            <a:ext cx="6507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PTF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037880"/>
            <a:ext cx="846936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al Transition Plan Task Force (TPTF) was created by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584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PTF reports monthly to T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584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 meeting was November 30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Aft>
                <a:spcPts val="400"/>
              </a:spcAft>
              <a:buNone/>
              <a:tabLst>
                <a:tab algn="l" pos="0"/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imary mission of the TPTF is to assist ERCOT and assure alignment between the requirements of the Protocols and system design and implementation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0"/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revisions from TPTF are limited to the follow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584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) revisions resulting from Commission order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584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) clarifications of Protocol language that do not change the intent or technical specifications of the Protocols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584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) correction of technical errors or processes that are found not to be technically feasible;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5840">
              <a:lnSpc>
                <a:spcPct val="80000"/>
              </a:lnSpc>
              <a:spcAft>
                <a:spcPts val="34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) revisions to the Protocols necessary to implement the results of the value engineering analysis or to otherwise avoid severe cost impact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Protocol revisions go through PRS, TAC, and the 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Aft>
                <a:spcPts val="451"/>
              </a:spcAft>
              <a:buNone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TF will review project documentation for Noda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720" indent="-285840">
              <a:lnSpc>
                <a:spcPct val="80000"/>
              </a:lnSpc>
              <a:spcAft>
                <a:spcPts val="400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Requirements, Conceptual Design, Detail Design, RFI, RFP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84320" y="104760"/>
            <a:ext cx="6507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o is TPTF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037880"/>
            <a:ext cx="846936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PTF is open to all Market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ure and vo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9080">
              <a:lnSpc>
                <a:spcPct val="90000"/>
              </a:lnSpc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tanding memb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9080">
              <a:lnSpc>
                <a:spcPct val="90000"/>
              </a:lnSpc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ired by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9080">
              <a:lnSpc>
                <a:spcPct val="90000"/>
              </a:lnSpc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te attendance is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9080">
              <a:lnSpc>
                <a:spcPct val="90000"/>
              </a:lnSpc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xies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0">
              <a:lnSpc>
                <a:spcPct val="90000"/>
              </a:lnSpc>
              <a:spcAft>
                <a:spcPts val="451"/>
              </a:spcAft>
              <a:buNone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ipation ranging from 20-40 people per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ly 2-day meetings on Mon-Tue, twice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dates provided monthly to T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Aft>
                <a:spcPts val="499"/>
              </a:spcAft>
              <a:buNone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meeting was Nov 30, 2005, will continue until “TAC dissolves TPT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4320" y="104760"/>
            <a:ext cx="650736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ere is TPTF?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1037880"/>
            <a:ext cx="846936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PTF Web page:  </a:t>
            </a:r>
            <a:r>
              <a:rPr b="0" lang="en-US" sz="2000" spc="-1" strike="noStrike" u="sng">
                <a:solidFill>
                  <a:srgbClr val="ef7215"/>
                </a:solidFill>
                <a:uFillTx/>
                <a:latin typeface="Arial"/>
                <a:hlinkClick r:id="rId1"/>
              </a:rPr>
              <a:t>http://www.ercot.com/committees/board/tac/tptf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9080"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ing dates,  Agendas, and Meeting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9080"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Docu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80960" indent="-342720">
              <a:spcAft>
                <a:spcPts val="400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al Transition Plan and Char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80960" indent="-342720">
              <a:spcAft>
                <a:spcPts val="400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al Protocols filed with PUCT September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80960" indent="-342720">
              <a:spcAft>
                <a:spcPts val="400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ocol Clar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9080"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l exploder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9080"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to set-up document library like T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9080"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rical TNT documentation moved to this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0">
              <a:spcAft>
                <a:spcPts val="451"/>
              </a:spcAft>
              <a:buNone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499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etings can be attended remotely or in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9080"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Ex and conference call enabled, remote voting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9080">
              <a:spcAft>
                <a:spcPts val="451"/>
              </a:spcAft>
              <a:buClr>
                <a:srgbClr val="008080"/>
              </a:buClr>
              <a:buFont typeface="Wingdings" charset="2"/>
              <a:buChar char=""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meetings- Feb20, Mar6-7, Mar28-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6807240"/>
                <a:tab algn="l" pos="7790040"/>
                <a:tab algn="l" pos="8902800"/>
                <a:tab algn="l" pos="10015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28:49Z</dcterms:created>
  <dc:creator>mduncan</dc:creator>
  <dc:description/>
  <dc:language>en-US</dc:language>
  <cp:lastModifiedBy>Matt Mereness</cp:lastModifiedBy>
  <cp:lastPrinted>1999-12-01T22:56:09Z</cp:lastPrinted>
  <dcterms:modified xsi:type="dcterms:W3CDTF">2006-02-14T17:50:57Z</dcterms:modified>
  <cp:revision>1316</cp:revision>
  <dc:subject/>
  <dc:title>Toll Gate</dc:title>
</cp:coreProperties>
</file>