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0DF1-7C0D-4A0B-A607-92E07FAE0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49BF-844B-43C3-8435-13D6D633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61D5-9801-425E-95C2-AFAEFC0DF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D641-FD08-4761-9969-2D28E2552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2AE7-C8CE-4650-A635-19831579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C734-9EFD-4A5F-9E4B-5D4AABC0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B65B-064F-419D-A711-8FFB2CB0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4AC8-7E8F-4CBF-B63F-7074C2E3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20DD-9924-433C-B644-1980AB60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A654-F68A-4342-A282-62E65D72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049F-2008-4970-8270-52C4FE8E1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056C-F5B2-4FB5-BC1F-B5F83576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AF918-E09F-4F79-9497-22118843FF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Comic Sans MS"/>
              </a:rPr>
              <a:t>COPS</a:t>
            </a:r>
            <a:br>
              <a:rPr sz="4000"/>
            </a:br>
            <a:r>
              <a:rPr b="1" lang="en-US" sz="4000" spc="-1" strike="noStrike">
                <a:solidFill>
                  <a:srgbClr val="ccffff"/>
                </a:solidFill>
                <a:latin typeface="Comic Sans MS"/>
              </a:rPr>
              <a:t>2005 Accomplishments</a:t>
            </a:r>
            <a:br>
              <a:rPr sz="4000"/>
            </a:br>
            <a:r>
              <a:rPr b="1" lang="en-US" sz="4000" spc="-1" strike="noStrike">
                <a:solidFill>
                  <a:srgbClr val="ccffff"/>
                </a:solidFill>
                <a:latin typeface="Comic Sans MS"/>
              </a:rPr>
              <a:t>2006 GOAL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ebruary 14,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289548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Comic Sans MS"/>
              </a:rPr>
              <a:t>2005 Accomplishmen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a Extract Working Group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sTrak enhanc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hancements to SCR72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unications Working Group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mercial market guid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rket notification process improv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andard templates for market noti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rket notice e-mail lists developmen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pport roll-out of the new ERCOT.com web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ercial Protocol Revisions Working Group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nges to the ADR process – ADR taskfo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R568 – Change Initial Settlement from 17 days to 10 da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view of the settlement dispute proces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alysis of effects of the hurrica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vised COPS procedu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veloped Day-ahead Market (DAM) timeli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sTrak and retail data reconciliatio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1920" y="129492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Resolve Funding Issue for Data Ex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Continue Growth of Commercial Market Gu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Work with ERCOT staff to document and standardize communication flow around ev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onitor implementation of SCR 740 (Enhancements to SCR 72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Understand UFE drivers and educate market participants to improve their ability to forecast U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Monitor Progress of Load Research Study – needed transparency about market imp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Focus on Nodal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2006 Goal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20:57:57Z</dcterms:created>
  <dc:creator>Registered User</dc:creator>
  <dc:description/>
  <dc:language>en-US</dc:language>
  <cp:lastModifiedBy>011306ROS</cp:lastModifiedBy>
  <dcterms:modified xsi:type="dcterms:W3CDTF">2006-02-14T17:05:50Z</dcterms:modified>
  <cp:revision>6</cp:revision>
  <dc:subject/>
  <dc:title>COPS GOALS 2006</dc:title>
</cp:coreProperties>
</file>