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5557-2B3B-4F5B-BA36-551F072AD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EE54-8162-4E88-8A15-CC798B6A7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74359-28DC-4890-A7D8-1A30F17D47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321E-235F-478E-B91A-8F3EEDEAE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4DADE-ED2B-4D1C-B55A-240B8CE02C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5E717-BA67-4D52-9AFF-EE0B94276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6893-5ACE-498C-B426-5A9D02E27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4268-03EB-4FD5-A8A2-B2327B72F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20760"/>
            <a:ext cx="717552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FF10C-4864-4D3D-A1C2-1AA2E1D42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3323-7349-4918-9180-14D85542E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2F7D-2D2F-4C25-9127-042849A8D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3077-ED3D-41DB-8EA9-DBF83FCC2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28720"/>
            <a:ext cx="9144000" cy="6660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3520" cy="82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967080" y="6324120"/>
            <a:ext cx="2133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0BCA-E6A8-422E-BBF4-074C7F1F4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378144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2851200"/>
            <a:ext cx="57913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99920" y="2428560"/>
            <a:ext cx="815004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 Operations Subcommite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5 Accomplish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4578480"/>
            <a:ext cx="8285040" cy="19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bruary 14, 2006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20760"/>
            <a:ext cx="71755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COPS 2005 Accomplishments</a:t>
            </a:r>
            <a:endParaRPr b="1" lang="en-US" sz="28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ta Extract Working Group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rak enhanc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nhancements to SCR72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unications Working Group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ercial market guid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rket notification process improve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ndard templates for market not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rket notice e-mail lists development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 roll-out of the new ERCOT.com webs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mercial Protocol Revisions Working Group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anges to the ADR process – ADR taskforc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R568 – Change Initial Settlement from 17 days to 10 day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ew of the settlement dispute proces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nalysis of effects of the hurrica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ised COPS procedu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Day-ahead Market (DAM) timelin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rak and retail data reconciliation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6BD9-316B-4C2A-9BD4-A0F630D82F91}" type="slidenum">
              <a:t>2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1T18:31:49Z</dcterms:created>
  <dc:creator>Kettlewell</dc:creator>
  <dc:description/>
  <dc:language>en-US</dc:language>
  <cp:lastModifiedBy>Ted Hailu</cp:lastModifiedBy>
  <dcterms:modified xsi:type="dcterms:W3CDTF">2006-02-14T14:29:52Z</dcterms:modified>
  <cp:revision>146</cp:revision>
  <dc:subject/>
  <dc:title>Slide 1</dc:title>
</cp:coreProperties>
</file>