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60E6-C018-435B-B7E8-8A29C550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AD74-4895-465C-84A8-CADD4FBF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B008-2EE7-4342-9A4F-655E200C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462F-8BB3-41EF-8C91-28DBA431B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AD2-351B-4BDE-8149-7A268FCE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89EC-1480-48CC-966B-F18B7F67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A37-6CF0-422F-8C92-72E83341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8A0-C3AE-494D-AECA-72EF9E12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FDA-6172-45AE-AD27-82522EE4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F14C-6906-4C35-A9E6-9FABAFF3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04DD-B973-4CFE-9D1E-AA8F44C1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94C-3E64-4F20-8666-B2CA82A7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72FF-6805-4A76-A889-A4B49FA2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segger@erco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 a solution to either enhance or replace the FasTrak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cope/Why is this important?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transparency for issues that are submitted via FasTr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 users to have improved access to th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reporting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search functionality associa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monitoring and response capabiliti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the us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9999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A Integration - dependent on SOA MID project for integration framework components needed by API (low risk to pro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240" y="68580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 Objectives / Scope / Dep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360" y="5943600"/>
            <a:ext cx="19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32880" y="5943600"/>
            <a:ext cx="66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1143000"/>
            <a:ext cx="8156520" cy="48736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hase: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tion – Completed in Feb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– Completed in Nov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/Implementation – Started November 14,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pda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ed the Detail Design Document on ERCOT’s website on January 31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evelopment team has started coding the final produ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Market meeting on Monday, February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discuss the detail design     docu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project budget has increased from $1,631,804 to $2,492,9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5 spend was $881,66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 forecasted spend is $1,611,2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otal project budget has increased $861,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act to Project Priority List (PPL) – More detail will be provided at me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son for increased project budget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menting development and testing efforts with contract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forecasted hours worked by ERCOT employ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9360" y="609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y of Project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7680" y="5943600"/>
            <a:ext cx="214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comple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ovember 30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ed Design Document publ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anuary 31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Scrip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Starting to develop February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 Sub Team kickoff meeting February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evel draft test scripts developed by ERCOT will be delivered    on February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s will be completed in time to review at the April TTPT meeting (Date TB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00" y="597708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* All dates are were derived from ERCOT’s design and planning effo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product Dem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entatively scheduled for April 12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COT  i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pril 17th – May 19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rain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Beginning of May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materials will be available to MPs May 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 the trainer format in Austin, Houston and Dal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T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Ma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User Gui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June 1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Cutover P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day to submit new issues in old tool –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June 1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ll new issues submitted in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rom old tool will not be converted to new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over plans will be finalized prior to May 2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(‘go live’ with GUI &amp; 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June 1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4800" y="597708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88280" y="71136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800" y="5977080"/>
            <a:ext cx="17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13040" y="597708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49528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440" y="5164200"/>
            <a:ext cx="103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ruar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h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1814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il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51814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99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2920" y="5181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e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4419720"/>
            <a:ext cx="358128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velop Market Test 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4038480"/>
            <a:ext cx="1828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COT i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19920" y="3429000"/>
            <a:ext cx="8380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 Train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0" y="2971800"/>
            <a:ext cx="13716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2438280"/>
            <a:ext cx="14479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P Produc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91520" y="2514600"/>
            <a:ext cx="152388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User Gu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1905120"/>
            <a:ext cx="914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 Live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0280" y="106992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Lead: Scott Eg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one number: 512-248-316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gger@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L:  Sour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rket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1.1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k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prompted the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 7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ing business driv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usage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113976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6840" y="711360"/>
            <a:ext cx="26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30360" y="79200"/>
            <a:ext cx="54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17680" y="5867280"/>
            <a:ext cx="19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of February 7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37440" y="59436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9:20:30Z</dcterms:created>
  <dc:creator>Michelle Duncan</dc:creator>
  <dc:description/>
  <dc:language>en-US</dc:language>
  <cp:lastModifiedBy>segger</cp:lastModifiedBy>
  <dcterms:modified xsi:type="dcterms:W3CDTF">2006-02-09T23:28:22Z</dcterms:modified>
  <cp:revision>215</cp:revision>
  <dc:subject/>
  <dc:title>TX SET V1.5 RFP Evaluation Recommend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Date">
    <vt:lpwstr>2005-03-16T00:00:00Z</vt:lpwstr>
  </property>
  <property fmtid="{D5CDD505-2E9C-101B-9397-08002B2CF9AE}" pid="3" name="GUID">
    <vt:lpwstr>{20050316-2134-581F-B2D0-2DA44B90E9B3}</vt:lpwstr>
  </property>
  <property fmtid="{D5CDD505-2E9C-101B-9397-08002B2CF9AE}" pid="4" name="Owner">
    <vt:lpwstr>197</vt:lpwstr>
  </property>
  <property fmtid="{D5CDD505-2E9C-101B-9397-08002B2CF9AE}" pid="5" name="Status">
    <vt:lpwstr>Final</vt:lpwstr>
  </property>
</Properties>
</file>