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B850-3989-48C3-A740-D85864CA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FE3-26C0-4A1A-9DD1-E300A4A2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5C9-7F5C-4362-9BE2-C42A64BF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8FB-7E79-4707-8170-2BB57218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503-6F5E-4E12-89E4-5FDE62B8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24E-8EB9-48C5-855D-2C7A68A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149-DDEB-4850-8A0C-587F647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D6A-7FB2-433B-AFA4-0213CCAD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90D-FFC9-4071-9D9C-91A6E57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6C1-A4CF-46E0-B364-B66EFFD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5EF-95A7-418F-AA1D-B44F5DB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414-CA56-4FD0-9393-6AB7864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EEC-A088-4D7C-ADB9-54888DF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0424-D41E-4F36-A0FB-BD439BD9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ED0-C666-43A0-9C3A-8F401BA734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553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QSE may request a refund of this portion of their posted cred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refund may be wired to the QS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ld by ERCOT to apply toward the next invoice(s)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oing forward, QSE’s EAL will include only one invoice out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recommends implementation of PRR 638 on April 1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agreed that no additional transition pla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478-60CF-4EE5-A895-D3928D840CC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818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ercial Market Operations Guide (Vote)*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PS recommends approving the COPS Market Guide.  The guide is only the first 3 chapters and sets up a structured revision process to follow, similar to other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71C-2444-4CCE-877F-E13F939FC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371600"/>
            <a:ext cx="83818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WG Transition to COPS (Vote)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PS approved a motion to inform RMS that they would welcome Profile Working Group (PWG) into their Subcommittee. 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y-laws are silent on the issue of moving a working group from one sub-committee to another, but TAC did approve moving DEWG last year when COPS was chartered.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D30-D218-44E0-8F85-D5F6C2DBC1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R568 – Change Initial Settlement from Day 17 to Day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R638 – Change Settlement Invoice Due Date from 16 Calendar Days to Five Business Days (Scheduled for Board Vote)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OPS recommends that TAC ask the Board to remand PRR638 back to TAC for development of an implementation pla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re is a conference call scheduled for Monday afternoon 1/30 to further discuss PRR638.  Based on the outcome of the call, COPS will advise on what is the best way to handle procedurally but wanted to list as a vote to make notice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8FE-43CA-4C61-9F43-8CF878941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9920" y="2430360"/>
            <a:ext cx="8150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PS conference call 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PRR 638 Impleme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4360" y="4578480"/>
            <a:ext cx="828504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anuary 30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73D-C7E5-453F-8E30-6E6F68B25A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R 638 Implem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R 638 changes the Settlement Invoice payment period from 16 Calendar days to 5 Bank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R 638 is schedules to be on the February agenda for the ERCOT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PS discussions on PRR 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R 638 should be implemented after the transition for PRR 568 is completed ( Change in initial settlements from 17 to 10 d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 transition to PRR 638 will involve two weeks during which there will be two invoices due each week (on both Monday and Thursday, assuming no holid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cern over this temporary increase in cash flow requirements to QSEs who are net-p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phase-in period could “ease the pain” of implementing this P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ference call to identify issues with transition, consider impacts and recommend a plan to C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50A-20CF-4C4E-8A0C-DAF83E6AEE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R 638 Implem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ference call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derstand current PRR 638 transition tim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tential increase in cash flow requirement - Two weeks during which two invoices are due each week (Monday and Thurs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tential decrease in cash flow requirement – Related changes to collateral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ntify issues with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cuss transi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5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ommendation to CO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D29-0081-49F5-B06D-2547C07811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5829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voice Payment Periods after PRR 6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oice Payment Perio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51460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3148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6576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0006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43434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791640" y="16351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3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2632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7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7060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30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1632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03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6060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06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0776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10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5492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13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0064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17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4492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20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8920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24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3492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/27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579240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01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62780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04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7208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08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71780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11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7649640" y="16336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15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47040" y="16351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20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6864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600" y="24004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66600" y="163512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/16/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829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nvoice Payment Periods Before PRR 6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34340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68648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92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502920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5372280"/>
            <a:ext cx="9144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502920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372280"/>
            <a:ext cx="2286000" cy="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764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4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448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54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754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8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42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186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474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45640" y="2743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100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6100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4696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444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884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36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59560" y="27432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20" y="504180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L Calculation on 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71880" y="5213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7040" y="352728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L Calculation on 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167080" y="3689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50F-36CD-4655-A201-D849467EA520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553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urrently, each QSE can have up to three invoices outsta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QSE’s Estimated Aggregate Liability (EAL) will include all outstanding invo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uring PRR 638 implement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fter week 1, each QSE will have only two invoice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fter week 2, each QSE will have only one invoice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ll else being equal, A QSE’s EAL will decrease as the number of outstanding invoices decrease (by the amount of the invo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fter week 1, EAL will reflect only two outstanding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fter week 2, EAL will reflect only one outstanding 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9F2-9569-405B-8AE1-A58DBC649A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1-30T23:30:37Z</dcterms:modified>
  <cp:revision>155</cp:revision>
  <dc:subject/>
  <dc:title>Point-to-Point</dc:title>
</cp:coreProperties>
</file>