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CEDA-AAEB-4191-A513-46E2F481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presented at WMS meeting 21 Sept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2.3 days in study which compared actual market results with the same input data run through the new R4 Market Clear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savings * 365 days in year / days in study = 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days in study which compared actual results (R4) with the same data run through a market clearing engine which simulated the pre-R4 sequenti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savings * 365 days in year / days in study = 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-interval load change (except dynamic schedul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Energy is deployed based on the average 15-minute load.  Regulation must account for the difference between the instantaneous and the average value of load in order to maintain scheduled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forecast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rror between the load forecast used for BES deployment and the actual load contributes a component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otal Net 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QSE SCE contributes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Deviation between Static and Dynamic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extent ERCOT forecasts to deploy BES for the difference between the static schedule and the dynamic schedule for dynamic schedulers, this contributes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DC4-8795-4E5B-B946-FCCA773A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780-E625-478F-8CE6-565F1E3C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697-8BFD-4E17-B2A2-A686A633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035-E139-4A50-8F75-5A965AE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3885-1B23-4962-A416-F98FDD7C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3237-AFCF-4DC3-A206-4F24020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FCC5-480C-44AC-B315-8300D578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DD8-A781-4D70-9DCC-A017415A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8FB-A4DF-413E-91AF-E702846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399D-E083-4843-AAC8-0C8B1FC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BD1-D879-4EFC-952F-F10718E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CE8-1613-4515-BF01-D5DDEFC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7F0-BA03-4EB4-ABE8-4E02FFC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F81-4A67-457B-BA7F-A2229F7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5ADA-B205-4E7A-BFF5-E1AAEC57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239-0975-4991-BE87-5ECC9A6A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0519-76BF-4521-93F9-3AEDFBD7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907-FB9E-4A06-9C6C-F695B0F1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464-3639-4897-8ABA-3901AD5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934-43BF-4D6A-AECA-FAE9B48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36C-65FD-4F30-806F-EE566AB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91A-F9D8-47F8-9EDA-008138D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4D2-930D-4396-92F6-D75BD78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17A-07D2-41DF-A126-4F5616E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4B1E-C825-4A71-AF40-B42B57D9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9372-C972-412C-8539-EB76A4135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ing the contribution of S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cating regulation cost to SCE viol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different mechanisms are currently being evalu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rogr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sued market information to QSE’s on frequency respon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ing the recommendation to make governor response a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work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ete the evaluation of SCE and a mechanism to provide financial incentives for acceptable S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WMS a complete report of recommendations by the March 2006 mee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ttlements Metering Operations Guide Revis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ormatted the entire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ubstantive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s requirement for annual CT burden test with written explanation to ERC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requirement for meter event logging and adds definitions for meter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C Action Requi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approved as submitted,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sent back to the MWG for additional work,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rej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king Group Leaders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estion Management – has not m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SE Managers – has not m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Anne Brelinsky (Relia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d Young (Air Liquid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e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ty DiSanto (STE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 Rollins (LCR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e the work of the Frequency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regular event repor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issues associated with SB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lve the Demand Side resource p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More depth in the TAC report with reasons for WMS recommen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ome special reports to T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RPRS work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id the cost of TCRs change in 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as the cost/benefit of TCR ownership in 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art the transmission outage scheduling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and break down BENA into trackable settlement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thing else that TAC comes up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ussion of EMMS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earlier than date (Proposed March 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Day market notice with Test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ment training in early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vings meet or beat pred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ness in network model f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multaneous Selection of Ancillary Servic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 Savings Est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72428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on Cost = Offer price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to Market   = MCPC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ected Savings assumes 1 year of identical result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209680"/>
          <a:ext cx="7620120" cy="2286000"/>
        </p:xfrm>
        <a:graphic>
          <a:graphicData uri="http://schemas.openxmlformats.org/drawingml/2006/table">
            <a:tbl>
              <a:tblPr/>
              <a:tblGrid>
                <a:gridCol w="2895480"/>
                <a:gridCol w="2754360"/>
                <a:gridCol w="19702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on C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to Marke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d Savings           ~ 162.3 da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1,083,719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8,965,858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Savings (1 yr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2,436,074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20,154,199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multaneous Selection of Ancillary Servic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d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87692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on Cost = Offer price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to Market   = MCPC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ected Savings assumes 1 year of identical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209680"/>
          <a:ext cx="7619760" cy="2284920"/>
        </p:xfrm>
        <a:graphic>
          <a:graphicData uri="http://schemas.openxmlformats.org/drawingml/2006/table">
            <a:tbl>
              <a:tblPr/>
              <a:tblGrid>
                <a:gridCol w="2939400"/>
                <a:gridCol w="2710080"/>
                <a:gridCol w="19702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on C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to Marke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served Savings         ~ 79 da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  878,23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9,440,4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Savings (1 yr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4,057,656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43,617,1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b Helton to remain chai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 deviation 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-interval load ch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ad forecast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Total Net 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and Dynamic Schedule Dev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bbelk</dc:creator>
  <dc:description/>
  <dc:language>en-US</dc:language>
  <cp:lastModifiedBy>ssanders</cp:lastModifiedBy>
  <dcterms:modified xsi:type="dcterms:W3CDTF">2006-02-02T12:45:28Z</dcterms:modified>
  <cp:revision>10</cp:revision>
  <dc:subject/>
  <dc:title>WMS Report TO TAC</dc:title>
</cp:coreProperties>
</file>