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4CF-3596-4EFB-BEED-44E7B611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881-4689-422A-B8B1-79F7D24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43B-CFAE-4DBF-B31F-5E5F232C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402-B2B9-445E-B15A-2154DD16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240-59F0-4D06-A8B3-62B58495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DBC2-2A74-4B41-BD4C-A6656AFF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C95D-E09E-482B-B4CC-A540BF5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439D-9F8C-4D0E-98D1-B875629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B06-2B3B-45B8-A3F8-9EC268B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6B9F-4A49-4088-8C7D-54AB367B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E785-D758-4541-AC63-298681F0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3D2-F23D-4D86-BC65-2004CAC1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3F1-87F2-4C80-A632-D1319D0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82C-4AE3-416F-A508-E51CA6B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A8BA-6736-4272-81F9-763CF0B2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EE03-6769-4EC9-94CA-3D68A68F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0AC1-2027-43E3-A1C0-6D114E60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78A-AB51-4859-AD40-CAE25AD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E50-1B48-464A-BEAB-84993EB5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6BD-2BAE-42B2-957B-76CCFD7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2BE-2AF4-4C8D-A13E-FC938091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ED0-9171-41AE-A953-E07ACDD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D40-4A0A-43E3-90C5-9D55BCD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043-CF19-4C17-A150-1F58A0F8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88E7-2D52-49DB-B16A-A3A3F11B9952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8388-FC7D-4D0C-981D-CEBCDA5A7BA7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84872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6d3d"/>
                </a:solidFill>
                <a:latin typeface="Arial Black"/>
              </a:rPr>
              <a:t>Protocol Revision Subcommittee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4219200"/>
            <a:ext cx="5943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ebruary 2,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 Black"/>
              </a:rPr>
              <a:t>PRR 640 – Update Provisions for Capacity/Energy Payments for RMR &amp; Add New Standard Form Agreement For Synchronous Service</a:t>
            </a:r>
            <a:endParaRPr b="0" lang="en-US" sz="2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42 – Lower Limit to IDR Meters in MRE for True-Up Settlement IDR Threshold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447920" y="1600200"/>
          <a:ext cx="7619760" cy="520704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TXU Wholesale, IOU, COPS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ts a lower limit to the number of IDR meters within a Meter Reading Entity (MRE) that would be considered when determining whether or not the IDR threshold requirement is met for True-Up Settlem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voids impact of missed True-Up Settlement; eliminates risk of True-Up Settlement suspension; allows for more predictable exchange of dollars per the Settlement calendar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42 – Lower Limit to IDR Meters in MRE for True-Up Settlement IDR Threshold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02 – AS Obligation for DC Tie Export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447920" y="16002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Tenaska, IPM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moves AS obligations for DC Tie exports, PRR remanded by TAC for further CBA developm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flects the true impact of the QSE exporting over the DC Tie to the ERCOT gri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withdrawal unanimously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Recommended TAC Action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R 567 – Simplified 3-Part Bidding for A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R 630 – Private Use Networ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R 635 – Resource Plan Performance Metrics Updat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R 640 – Update Provisions for Capacity &amp; Energy Payments for RMR Service and Add a New Standard Form Agreement for Synchronous Condenser Servi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R 642 – Lower Limit to IDR Meters in MRE for True-Up Settlement IDR Threshol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Withdraw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R 602 – AS Obligation for DC Tie Ex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PRS Summary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5 PRRs for Approv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1 System Changes – IA/CB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 Non-System Changes – IA onl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1 PRR for Withdraw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567 – Simplified 3-Part Bidding for A/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1600200"/>
          <a:ext cx="7619760" cy="5154480"/>
        </p:xfrm>
        <a:graphic>
          <a:graphicData uri="http://schemas.openxmlformats.org/drawingml/2006/table">
            <a:tbl>
              <a:tblPr/>
              <a:tblGrid>
                <a:gridCol w="2133360"/>
                <a:gridCol w="1052640"/>
                <a:gridCol w="443376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Constellation, IPM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R creates parameters for start-up costs, capacity offers, minimum operating costs and others that would allow ERCOT to reduce AS costs and provides for make-whole payments where appropri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eater participation in A/S markets; lower AS cos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quires redesign of bid submittal interface with ERCOT systems; may also require more complex bidding strategy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t Benefits -- $6.3MM; Ratio – 3.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XU analysis of each day (11/04-10/05); High Implementation Cost Case -- $3MM; in effect 12 months; reduced benefits by 50% for conservatism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maintained a 1.2 Priority &amp; 54.5 Rank with 7 no votes &amp; one abstention (use of ERCOT resources could delay nodal)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567 – Simplified 3-Part Bidding for A/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2004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267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00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91800" y="431172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s several system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2160" y="324468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$1-$3 MM system cos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3320" y="4844880"/>
            <a:ext cx="32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Resource use could delay noda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0 – Private Use Network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1600200"/>
          <a:ext cx="7619760" cy="522288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TXU Wholesale, IOU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quires private use networks (PUN) to maintain and report appropriate watt/VAR metering data at each substation and the addition/deletion of load poin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mproved system reliability by requiring PUNs to meet same power factor/voltage standards as other market participan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laces additional reporting requirements on certain PU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with 2 no votes and 2 abstentions; all market segments were present; CNP Comments to PRS Repor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0 – Private Use Network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5 – Resource Plan Performance Metrics Update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7619760" cy="495000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Tenaska, IPM, QSEMW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odifies metrics to, among other things, account for changes due to EMMS R4, exclude units in testing or with operational issues, clarify that the down bid/obligation measure is done by congestion zone where possibl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nsures accuracy of resource pla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5 – Resource Plan Performance Metrics Update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 Black"/>
              </a:rPr>
              <a:t>PRR 640 – Update Provisions for Capacity/Energy Payments for RMR &amp; Add New Standard Form Agreement For Synchronous Service</a:t>
            </a:r>
            <a:endParaRPr b="0" lang="en-US" sz="24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47920" y="1600200"/>
          <a:ext cx="7619760" cy="495000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vises RMR language to provide more consistency between agreement and protocols, removes synchronous condenser language and includes a new agreement for Synchronous Condenser Servic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learer payment process for RMR uni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with one no vote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2:03:33Z</dcterms:created>
  <dc:creator>Windows XP ver. 2.2</dc:creator>
  <dc:description/>
  <cp:keywords/>
  <dc:language>en-US</dc:language>
  <cp:lastModifiedBy>Windows XP ver. 2.2</cp:lastModifiedBy>
  <dcterms:modified xsi:type="dcterms:W3CDTF">2006-02-01T22:27:14Z</dcterms:modified>
  <cp:revision>9</cp:revision>
  <dc:subject/>
  <dc:title>Protocol Revision Sub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31033</vt:lpwstr>
  </property>
</Properties>
</file>