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A7D5-C73C-4BBC-B795-5B8AD3E92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1CA5-332B-49E9-B221-18D3758DD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5BC3-3659-4EEC-8E56-33B11C565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EEED-E10B-4217-8417-572B925FF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F400-055B-4E7E-A898-75B7FDCFD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1AB-161A-4972-8E30-BF1FEF6EB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5FC-036E-454E-937C-4D08828F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67A-D7EB-40B4-91FD-E5E0E007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721-5403-41BE-A779-B1502CB8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749-9D2D-4D12-862C-25FC772E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D264-00FB-45CE-8030-4634F5AF49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7F5-0A8B-4310-914E-2D5BD8E2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D33-1EF3-415F-94E5-8AC45A0B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44D-3839-4AF9-B84C-67B41E73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4D5-9A2F-4650-A0C8-B7BAA003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EBC-A2AB-4072-88D7-4D291E59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00D-5680-486B-909A-173AAF3E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642-68C1-49BB-BBC0-51E081A32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2313-4402-4CD9-9A04-B755AB9F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6618-0A5A-441E-8A0B-F23996F1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5B6-BC89-485E-A56B-7BF84847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DD08-1F96-46C3-83AE-5DF9E64895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A91F-463D-4F90-9DC5-1AF881F4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46FD-726B-40B3-B126-7D007B52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3EB1-627F-4C05-B36E-FA526A66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6C7E-E006-4AB5-BC98-3DCEDB0A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CA5F-2322-408B-A240-E3F72017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CFAB-E831-47BE-9276-D01B1FA2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6CDD-7BF0-4518-B1A7-24547B7E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A675-AF7F-4158-A8FD-424677AF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8245-874C-4542-8E3B-E9E917D6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398C-50B8-429A-9B53-55B59A1E0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2DAD-91BA-4FEF-81CB-052926E9C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E251-4C50-424A-9517-BF4E809C1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9071-817D-4F73-A7BD-331244BC8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21BE-63AB-458F-B942-96C36FF67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466e6c"/>
          </a:soli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4B3638A8-2164-472B-BE32-1F0BE413F0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99404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88960"/>
            <a:ext cx="1600200" cy="8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2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3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5A39-CEE9-4022-9C09-44D414586C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720" y="647712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C Half Banner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4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5"/>
          </p:nvPr>
        </p:nvSpPr>
        <p:spPr>
          <a:xfrm>
            <a:off x="-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6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2D1B-98F5-4A3D-B360-9A8D664207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600" y="655308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1960" y="224028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Redesign Up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2421000" y="3081240"/>
            <a:ext cx="5808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 2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Market Redesign Update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al Budget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ources and Co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eline and Critical Pro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DA2B-08AF-454A-86A4-C688ABBFA0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nd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G Omega"/>
              </a:rPr>
              <a:t>Resources: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Estimated commitment of ~50 existing ERCOT FTEs, who all need to be backfille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Estimate requires ~ 40 additional contractor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G Omega"/>
              </a:rPr>
              <a:t>Cost: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Range of $95 – 130MM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G Omega"/>
              </a:rPr>
              <a:t>Contrast to CBA: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CBA estimated $59.4 – 76.2MM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Several categories slightly higher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Hardware costs significantly higher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C48-8151-42DF-BB27-53BEBAFC0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line and Critical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773600"/>
            <a:ext cx="838224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or effort estimation assumed 1/1/2009 for Go L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With 3 months for Pilot and 6 months for Mock Market, 27 months remain to complete all Nodal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A number of Nodal projects are now on the critical path (require ~27 months to deli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NMMS, NSA Enhancements, Settlements and Billing, EDW framework, and Nodal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05800" cy="31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E34-859D-4860-A19C-1741C180C4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197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taffing of Project Management Office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Project Team Staffing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ritical path project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D88-1538-4EBC-8916-D744DCC024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22:11:48Z</dcterms:created>
  <dc:creator/>
  <dc:description/>
  <dc:language>en-US</dc:language>
  <cp:lastModifiedBy>tdoggett</cp:lastModifiedBy>
  <cp:lastPrinted>2000-10-23T20:56:55Z</cp:lastPrinted>
  <dcterms:modified xsi:type="dcterms:W3CDTF">2006-01-25T14:29:24Z</dcterms:modified>
  <cp:revision>636</cp:revision>
  <dc:subject/>
  <dc:title>No Slide Title</dc:title>
</cp:coreProperties>
</file>