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305-0A00-42CE-A07D-D89192D8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A0E-AF0E-43CE-8EE9-EB6A714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FBE-D238-4AA2-8CF8-E4659A3C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E13-E00D-44A8-9807-82DCDCBC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1066-DD7A-4062-AD4C-6E243BCA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01A-F522-45A8-9303-C174C7C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FC7-1B19-42B8-83EB-09C75F5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EECC-2AA2-42D2-931A-AB76B98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B0BD-BCC2-472B-B7E1-4430756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7920" y="277920"/>
            <a:ext cx="6248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4052-B26A-47D4-9C2C-856A7D52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56E-2871-4804-BD58-8EB9047E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BFA-0A14-4AE6-9EC2-1E5009F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B13C-B5FC-4540-A163-6DBCF0D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7240-7BC5-4877-B5CC-1AE8E4C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0C3-48CA-4C9A-9C8B-0AB280C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24E6-D379-42BA-8C38-8A749385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EE3-067B-432C-98FC-EDD07E60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36D-AEF9-4552-B9C5-4FF6D6F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8C4-CE5F-437D-A859-62F4082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06B-1FE6-4CA1-89DF-92833A30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7920" y="277920"/>
            <a:ext cx="6248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AB8-FB80-4911-8EE6-46E3099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07E-38E0-4E61-99AD-F015124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208-A18B-444D-A507-2CACE25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4E1-6562-4445-AFA8-1E2ACE2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3238-579F-4F4C-B480-63E2A1EC0B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95732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6D93-8B29-49DA-89A2-BEFD95C85B3C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5732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 Narrow"/>
              </a:rPr>
              <a:t>PRR 567 – Simplified Three-Part Bidding for Ancillary Services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Impacts and Priority Issues</a:t>
            </a:r>
            <a:endParaRPr b="1" lang="en-US" sz="4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Procedural History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9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567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/17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tabled pending furth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/17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set up a task force for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6/23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commende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/1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ubmitted an Impact Analysis (I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commended priority of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08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manded PRR pending the development of a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A was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29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viewed the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06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commended approval with 1.2 priority and 54.5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/ remanded to TAC to develop a more detailed CB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consider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manded to PRS for further review of the CBA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ideration of priority and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4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fer to taskforce to develop a revised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B8E-BD4F-4080-B652-90900C650F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Impact Analysis Highlight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st: 3-M ($1 to 3 mill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similar to RPRS ($2 Million) and Simultaneous A/S clearing ($1 Million) in Releas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cannot be further refined until Project Requirements exist.  Requirements will not be developed until after there is an approved PRR and associated, funded, pro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: 12 to 18 mon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proposals (RFP) process (2-3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(6-9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testing (3-4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esting &amp; implementation (1-2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tensive changes in ERCOT computer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imal business function and long-term staffing impa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impact on ERCOT Grid Operations &amp; Pract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F3A-E3FD-4068-A972-9C30AC7FC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Known System Change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4771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cillary Service (A/S) Clearing Engine for three-part bidd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gration of three-part bids and hourly bids for A/S opt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 Clearing Price for Capacity (MCPC) determ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meline of market clearing and awards may need to be changed to accommodate change in processing tim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Operations System (M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interface with clearing eng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interface with Lodes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Operator Interface (MO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38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User Interface (MU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tal and X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ility to receive new optional field val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ment of “make-whole” payment 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rror source system chan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 data extracts and coordinate with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 MOMS (Public Utility Commission too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 interfaces between the above system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429000"/>
            <a:ext cx="82296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37160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8"/>
                </a:lnTo>
                <a:cubicBezTo>
                  <a:pt x="10800" y="9658"/>
                  <a:pt x="16200" y="10558"/>
                  <a:pt x="21600" y="10558"/>
                </a:cubicBezTo>
                <a:cubicBezTo>
                  <a:pt x="16200" y="10558"/>
                  <a:pt x="10800" y="11458"/>
                  <a:pt x="10800" y="1235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144792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ly Outsourced Development, with oversight and Implementation by ERCO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3886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and Implemented by ERCOT sta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350532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8"/>
                </a:lnTo>
                <a:cubicBezTo>
                  <a:pt x="10800" y="9658"/>
                  <a:pt x="16200" y="10558"/>
                  <a:pt x="21600" y="10558"/>
                </a:cubicBezTo>
                <a:cubicBezTo>
                  <a:pt x="16200" y="10558"/>
                  <a:pt x="10800" y="11458"/>
                  <a:pt x="10800" y="1235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044-AECF-44F9-A4C7-2AEAE487A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Prioritization Issue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appears to have high benefits; how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has to fit within ERCOT’s fixed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is PRR will require significant/complex system modifications that will not be part of the Nodal market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is PRR will require many of the same resources required for implementation of the Nod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R is prioritized below the 2006 cut line, it’s unlikely that a Project associated with this PRR would be initiated, given its high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R is prioritized just above the 2006 cut line, it’s unlikely that it would be initiated this year, given projected availability of ERCOT resou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oject associated with this PRR to be initiated in 2006 would require that it have a priority not only above the cut line but higher than that assigned to Nodal market redesign Pro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B23-23C4-4F26-AAB0-256C5E8451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9:02:14Z</dcterms:created>
  <dc:creator>Beth Garza</dc:creator>
  <dc:description/>
  <dc:language>en-US</dc:language>
  <cp:lastModifiedBy>Nieves</cp:lastModifiedBy>
  <dcterms:modified xsi:type="dcterms:W3CDTF">2006-02-01T22:41:04Z</dcterms:modified>
  <cp:revision>12</cp:revision>
  <dc:subject/>
  <dc:title>PRR 567 – Simplified Three-Part Bidding for Ancillary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