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62C1-138B-4859-B0D1-727FDDECA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e presented at WMS meeting 21 Septembe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2.3 days in study which compared actual market results with the same input data run through the new R4 Market Clear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savings * 365 days in year / days in study = Expected Sav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 days in study which compared actual results (R4) with the same data run through a market clearing engine which simulated the pre-R4 sequential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savings * 365 days in year / days in study = Expected Sav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a-interval load change (except dynamic schedul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Energy is deployed based on the average 15-minute load.  Regulation must account for the difference between the instantaneous and the average value of load in order to maintain scheduled freq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forecast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rror between the load forecast used for BES deployment and the actual load contributes a component to Reg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Total Net 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QSE SCE contributes to Reg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Deviation between Static and Dynamic Sche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extent ERCOT forecasts to deploy BES for the difference between the static schedule and the dynamic schedule for dynamic schedulers, this contributes to Reg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18A-85EB-4957-B829-26FAAB69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374E-1FDC-4E1D-AE13-16E59A2E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08D-EBAF-493E-8CDC-240C4162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E64-4538-4AC8-83E7-A9128CCC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E47C-AB31-4090-879D-C92AE1C8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5623-CF20-47E6-84A7-20D9EEB5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9981-6D0F-4CB6-84F0-C6BC7901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0BED-AE85-4B70-B986-EDDF1E77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BADC-20A0-453E-94C7-C8E6CF4D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4AA3-3CDF-4D62-9EFF-AFA0CBE7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FDAF-0F85-44EB-A67C-46DC0BA3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A8D-BA62-4279-B7A2-27681682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61F3-D62B-46C1-B711-6BB5A9B0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A921-AD69-46C6-88B0-5E635DC8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549D-6D71-4C4E-A01D-A001DF28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F907-17C3-4B72-A7A5-85AD843A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DFB1-CBC2-406C-8809-5AC5DFC9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CAD9-7CEF-4541-983D-2642ED80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BB1-FC46-451B-BFA6-C49DCD01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0C8-6C6C-454D-8DE7-FB6A6F6A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EFF-500C-4926-84F5-6646E92D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1D7-DE77-4BC8-AAA1-A038B1A2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A95D-FD21-46E6-99D4-607709E5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473-636B-4AC3-A892-C0C4C3F8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5CE6-8CB2-4D86-A5B0-FBB78B04A7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C238-57AD-4EAA-97B1-BCF4CCEE6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MS Report TO TA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bruary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requency Task Forc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(Continued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ermining the contribution of S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cating regulation cost to SCE viol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ral different mechanisms are currently being evalu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progress to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sued market information to QSE’s on frequency respon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valuating the recommendation to make governor response a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work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lete the evaluation of SCE and a mechanism to provide financial incentives for acceptable S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WMS a complete report of recommendations by the March 2006 meet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ettlements Metering Operations Guide Revis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ormatted the entire docu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substantive 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oves requirement for annual CT burden test with written explanation to ERC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s requirement for meter event logging and adds definitions for meter ev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AC Action Requir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posed SMOG language revisions are approved as submitted, 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posed SMOG language revisions are sent back to the MWG for additional work, 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posed SMOG language revisions are rej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orking Group Leaders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estion Management – has not m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SE Managers – has not me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and S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y Anne Brelinsky (Reliant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d Young (Air Liquid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er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rothy DiSanto (STE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k Rollins (LCRA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liminary Goals for 2006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te the work of the Frequency Task Fo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regular event repor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ine issues associated with SB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lve the Demand Side resource produ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liminary Goals for 2006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(continued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More depth in the TAC report with reasons for WMS recommend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pare some special reports to TA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s RPRS work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id the cost of TCRs change in 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as the cost/benefit of TCR ownership in 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liminary Goals for 2006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(continued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examine transmission outage schedu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and break down BENA into trackable settlement i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thing else that TAC comes up wi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cussion of EMMS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earlier than date (Proposed March 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 Day market notice with Test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tlement training in early M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vings meet or beat predi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akness in network model f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imultaneous Selection of Ancillary Servic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iginal Savings Estim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724280"/>
            <a:ext cx="7924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ion Cost = Offer price multiplied by MW Cle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st to Market   = MCPC multiplied by MW Cle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ected Savings assumes 1 year of identical result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2209680"/>
          <a:ext cx="7620120" cy="2286000"/>
        </p:xfrm>
        <a:graphic>
          <a:graphicData uri="http://schemas.openxmlformats.org/drawingml/2006/table">
            <a:tbl>
              <a:tblPr/>
              <a:tblGrid>
                <a:gridCol w="2895480"/>
                <a:gridCol w="2754360"/>
                <a:gridCol w="1970280"/>
              </a:tblGrid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duction Cos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 to Marke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ied Savings           ~ 162.3 day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           1,083,719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8,965,858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cted Savings (1 yr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           2,436,074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20,154,199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imultaneous Selection of Ancillary Servic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erved Resul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876920"/>
            <a:ext cx="7924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ion Cost = Offer price multiplied by MW Cle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st to Market   = MCPC multiplied by MW Cle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ected Savings assumes 1 year of identical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5800" y="2209680"/>
          <a:ext cx="7619760" cy="2284920"/>
        </p:xfrm>
        <a:graphic>
          <a:graphicData uri="http://schemas.openxmlformats.org/drawingml/2006/table">
            <a:tbl>
              <a:tblPr/>
              <a:tblGrid>
                <a:gridCol w="2939400"/>
                <a:gridCol w="2710080"/>
                <a:gridCol w="1970280"/>
              </a:tblGrid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duction Cos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 to Marke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served Savings         ~ 79 day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             878,23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9,440,41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cted Savings (1 yr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            4,057,656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 43,617,10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requency Task Force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b Helton to remain chair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quency deviation ca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a-interval load chan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ad forecast err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stem Total Net S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c and Dynamic Schedule Devi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6:12:36Z</dcterms:created>
  <dc:creator>bbelk</dc:creator>
  <dc:description/>
  <dc:language>en-US</dc:language>
  <cp:lastModifiedBy>bbelk</cp:lastModifiedBy>
  <dcterms:modified xsi:type="dcterms:W3CDTF">2006-01-25T15:07:20Z</dcterms:modified>
  <cp:revision>8</cp:revision>
  <dc:subject/>
  <dc:title>WMS Report TO TAC</dc:title>
</cp:coreProperties>
</file>