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8117B-88AC-4189-849E-E04FBAB7C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C9BC7-1342-47D5-948B-3BBE4932E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73112-9DD7-4E07-A7E4-72BDC121B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B9AFA-DB3E-4FEB-9777-B124E0CC4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DD2FD-20B9-47E4-A39B-99ABC3999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CA9C2-B14B-4DC5-A944-C2CE9F6DF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A1304-A6C4-4B91-AC93-A7A04B436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37F06-0719-489A-9042-92998B441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E7976-58B1-4EE0-B15E-B18439020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F51DA-E78C-4548-82C6-4743F6FEF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5771A-7259-4C77-A1B0-98FE9349F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1004F-4EA8-40AA-976B-13E102A23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C48BE-88F6-49EA-9301-BD1416EFD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A0549-921A-4D24-8F33-CA1F2E617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2E5C4-C690-4155-824E-D405C81F1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0BC83-746C-4FCF-959F-011BB0F25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4A92E-5561-4F85-9DD9-A78EB9C19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23B35-D92D-4B93-BEDC-84E9BD7C3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0C494-8B1F-4807-8272-C712A05E9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35702-4653-4FDD-9664-11C5D6A1E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D0711-AAA9-4CDE-A84B-04C998479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9962F-D13E-451C-96C5-B4E31398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4746-609C-45D1-8E06-DBD2430A3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BCF7-2F8D-47C3-85E8-B9C0EBDEB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0B46-82E5-4A29-9017-4B3DC61E85F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A490-8A5C-4F22-A641-7D4E1D98248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PTF Update</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p Dogget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2, 2006</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PTF Update</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89"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eetings January 9 &amp; 10, January 23 &amp; 24</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tendance approximately 40</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roduced Steve Grendel as Business Program Director for Market Redesign Project</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mpleted review of ERCOT’s clarification questions on Section 3, 4, 5, and 6.  Started Section 7</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ext meetings </a:t>
            </a:r>
            <a:endParaRPr b="0" lang="en-US" sz="29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nday, February 6 and Tuesday, February 7</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nday, February 20</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NT Proxy Policy</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91"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equested by TAC, in your January 12 Meeting, I have provided the Proxy policy below that was used by the Texas Nodal Team</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es: Representatives of Corporate Members in all Segments other than the Consumer Segment may hold up to three (3) proxies from other Corporate Members from within their own segment. Members of the Consumer Segment may carry unlimited proxies from other members of the Consumer Segment. In order to hold proxies, representatives of members must attend in person. </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rporate members of ERCOT can also vote but must be present at the meetings and cannot hold prox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352680" y="380520"/>
            <a:ext cx="518184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Questions</a:t>
            </a:r>
            <a:endParaRPr b="0" lang="en-US" sz="4200" spc="-1" strike="noStrike">
              <a:solidFill>
                <a:srgbClr val="006633"/>
              </a:solidFill>
              <a:latin typeface="Garamond"/>
            </a:endParaRPr>
          </a:p>
        </p:txBody>
      </p:sp>
      <p:sp>
        <p:nvSpPr>
          <p:cNvPr id="93"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6633"/>
                </a:solidFill>
                <a:latin typeface="Calisto MT"/>
              </a:rPr>
              <a:t>?</a:t>
            </a:r>
            <a:endParaRPr b="1" lang="en-US" sz="9600" spc="1" strike="noStrike">
              <a:ln w="9360">
                <a:solidFill>
                  <a:srgbClr val="000000"/>
                </a:solidFill>
                <a:miter/>
              </a:ln>
              <a:solidFill>
                <a:srgbClr val="006633"/>
              </a:solidFill>
              <a:latin typeface="Calisto MT"/>
              <a:ea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06:24Z</dcterms:created>
  <dc:creator>tdoggett</dc:creator>
  <dc:description/>
  <dc:language>en-US</dc:language>
  <cp:lastModifiedBy>tdoggett</cp:lastModifiedBy>
  <dcterms:modified xsi:type="dcterms:W3CDTF">2006-01-25T21:45:17Z</dcterms:modified>
  <cp:revision>45</cp:revision>
  <dc:subject/>
  <dc:title>TPTF Update for TAC</dc:title>
</cp:coreProperties>
</file>