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B94-8A52-40C4-9003-04911144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BD9-2AE9-40AD-8DBC-E0B8AC6D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32C-5AC7-4D8A-9264-DA3F5FA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2D4-8D35-4C86-A338-BBB35C05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F3A-0FCF-4185-B082-934D421F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D3E-5426-468C-B068-2EA18EA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CE8-C1F9-41D0-BBFF-9FBC2512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D621-F363-4A35-B897-0A9BBD3E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0835-CE7F-41F0-B899-70DA7544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9C70-2E71-4D06-AA78-364B291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E124-E557-4B87-86C9-A5C440A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E40-DDC7-44AF-8FE8-A14C176A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6E93-F9DA-4614-AA43-186A4C2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975C-FB78-4A07-AA01-DAB0C732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2313-FCB3-443C-A0A8-1310A349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5E4-256D-41CF-B9C0-EED00AD4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8E27-38D9-41F1-A539-0A909D66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909-1E6D-4AD8-A370-FF8C4E1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EEF-71EA-4F74-A208-C6E58DC8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7B8-F4B1-4CFF-AAF7-8FADBC0B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B55-E543-4A9E-9C81-53B8D764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C59-0941-4B92-B865-15BEC28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174-9101-47E1-9E1F-ABCA07A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938-F8F4-4CF5-9054-D5A6EDF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6ED4-0A4F-4E09-866E-DE1E7A28C5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E58-3624-4030-ABD1-B83C2EB032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ebruary 2, 200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005 Annual Validation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Residential ESI ID Pro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MS recommended and TAC approved the suspension of 2005 residential Annual Load Valid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RCOT BOD approved but required that the suspension be resumed by 12-31-0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RCOT staff successfully completed the Survey and created a new algorithm using the  resul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ew algorithm was applied to the originally selected profile migration po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533-6581-4E45-91DD-650594BF95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005 Annual Validation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Residential ESI ID Pro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S recommended and TAC approved Market Participants to move forward with 2005 Residential Annual Validation transactions for those ESI IDs for which ERCOT’s analysis indicated movement to a  more representative profi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8AF-6E8F-43F9-B48E-BBFE8D7C5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005 Annual Validation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December, RMS approved the PWG recommendation that RMS authorize Market Participants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send the remaining transactions for residential ESI IDs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recommendation requires a change to the 2005 Annual Validation proce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EB0-F454-4C03-AD9B-2433445FE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ting Item for 2005 Annual Valid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S requests that the TAC approve a temporary change to the 2005 Annual Validation authorizing Market Participants 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bmit the 2005 Residential Annual Validation transactions for those ESI IDs that would, based on ERCOT’s analysis, be assigned a less representative profi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temporary change waives the requirements for the final validation steps as specified in the Load Profiling Guide, Section 11.4.1,paragraphs 11 and 12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1E1-CB7F-42EB-98E0-073CF217E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3:36Z</dcterms:created>
  <dc:creator>ShBowling</dc:creator>
  <dc:description/>
  <dc:language>en-US</dc:language>
  <cp:lastModifiedBy>ShBowling</cp:lastModifiedBy>
  <dcterms:modified xsi:type="dcterms:W3CDTF">2006-01-25T21:10:25Z</dcterms:modified>
  <cp:revision>4</cp:revision>
  <dc:subject/>
  <dc:title>RMS Update to TAC</dc:title>
</cp:coreProperties>
</file>