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DFF-7AB8-4E63-9C24-9741060A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05C-DED7-421D-B16F-DD2FB524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7B4-AE0B-4CB1-9FD7-2CC153D2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7C4-1449-44DE-8594-3CEC20BA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EA4-71B3-4755-B1F4-6E9D16E4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C99-E942-42B7-99BC-70590085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C19-4C55-4822-A695-2C5F9260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686-768F-4E10-B7BF-703D54CB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3A6-F5AC-485C-ADE6-C3023492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EAC-EFF8-4F51-A26A-3390824F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080-7A65-46B4-B6EC-71AA95D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F3E-B7E8-4AD6-B042-90C9D74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2488-C1EA-4930-8B9E-27FBEC187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2/2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1/13/06 ROS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ompl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Operations under FE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Reliability 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illary Service 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ystem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ricane Rita 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Spin 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8 2005 Del Rio area black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Operation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RR165 Update Unit Telemetry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RR174 Definition of Single Generating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2/2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006 Working Group Leadership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: Wes Woitt     Vice Chair: Vance Beaure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: Jack Thormahlen     Vice Chair: Steve Kn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Data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: David Grubbs     Vice Chair: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y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 Ken Chui     Vice Chair: Dwight Beck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Disturbance Compli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: Sydney Niemeyer     Vice Chair: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Prot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: Stan Ginsburg     Vice Chair: Rick Gur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1-31T21:13:11Z</dcterms:modified>
  <cp:revision>3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17612232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ROS Report to TAC</vt:lpwstr>
  </property>
</Properties>
</file>