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23A-3797-43C5-B675-0215152C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754-9A8E-4563-93FD-09969879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C51-69D3-4FD2-BAE3-728B93C6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552-3F78-4514-B604-F26C53FB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C1D5-7441-4A26-A188-3B813CE7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4574-AC78-4C03-80C9-0F078247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7BC1-3C13-41E5-BB6F-693146F2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467-FE8F-449C-9FE7-2BB38414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7C23-8721-4B2D-A98F-98898BDF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7920" y="277920"/>
            <a:ext cx="6248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E3F1-6C57-460F-B3C8-94E96E54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7D56-745F-46B5-A4D2-ECB6332A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CB6-BE77-472F-B054-16CC0DFE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70D5-A8D0-4EFA-8412-CBA16C44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88B1-8C6B-424D-81C9-1F7703B5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C4B6-F0D2-4EF4-B869-FB50F039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142D-FE5D-43AA-8EC9-7AA58434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774C-F5EE-4C2D-9726-EA29CAD8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49C-8E2F-4B3D-8BE3-5D49E1E5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A73-4389-4930-B2AD-2DAEA2CC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790-B0F9-44B6-B00B-75371FA3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7920" y="277920"/>
            <a:ext cx="6248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114-29C5-4C6B-AD8F-94F55CD4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C5C-4A75-418A-82AB-AD6D03D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825-C54E-49E8-839C-73891AAD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7C3-243D-45D0-B9BD-A7F77CC3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0DE2-7DD6-43E3-812D-D08A54C166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95732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5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C50B-3528-4596-AFC1-E154C8D2755E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957320" cy="941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5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 Narrow"/>
              </a:rPr>
              <a:t>PRR 567 – Simplified Three-Part Bidding for Ancillary Services</a:t>
            </a:r>
            <a:br>
              <a:rPr sz="4600"/>
            </a:br>
            <a:r>
              <a:rPr b="1" lang="en-US" sz="4600" spc="-1" strike="noStrike">
                <a:solidFill>
                  <a:srgbClr val="000066"/>
                </a:solidFill>
                <a:latin typeface="Arial Narrow"/>
              </a:rPr>
              <a:t>Impacts and Priority Issues</a:t>
            </a:r>
            <a:endParaRPr b="1" lang="en-US" sz="4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9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Procedural History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9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567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/17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tabled pending furthe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/17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set up a task force for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6/23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commende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/14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ubmitted an Impact Analysis (I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/24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commended priority of 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08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/ remanded PRR pending the development of a C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4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A was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29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viewed the C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06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/ recommended approval with 1.2 priority and 54.5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/ remanded to TAC to develop a more detailed CB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consider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/ remanded to PRS for further review of the CBA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ideration of priority and 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4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fer to taskforce to develop a revised C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030-442A-43B3-A109-7662F0E698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Impact Analysis Highlights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st: 3-M ($1 to 3 mill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 similar to RPRS ($2 Million) and Simultaneous A/S clearing ($1 Million) in Release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stimate cannot be further refined until Project Requirements exist.  Requirements will not be developed until after there is an approved PRR and associated, funded, proj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ime: 12 to 18 mon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for proposals (RFP) process (2-3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velopment (6-9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testing (3-4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esting &amp; implementation (1-2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tensive changes in ERCOT computer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nimal business function and long-term staffing impa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impact on ERCOT Grid Operations &amp; Pract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4ED-A7C2-4C32-BBD7-D3DE2DA518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Known System Changes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4771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cillary Service (A/S) Clearing Engine for three-part biddin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gration of three-part bids and hourly bids for A/S optim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ket Clearing Price for Capacity (MCPC) determ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imeline of market clearing and awards may need to be changed to accommodate change in processing tim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et Operations System (M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a interface with clearing eng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a interface with Lodest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et Operator Interface (MO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38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et User Interface (MU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rtal and XM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ility to receive new optional field val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dest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ment of “make-whole” payment pro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erprise Data Warehouse (EDW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rror source system chan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date data extracts and coordinate with mar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date MOMS (Public Utility Commission too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ication interfaces between the above system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429000"/>
            <a:ext cx="82296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137160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58"/>
                </a:lnTo>
                <a:cubicBezTo>
                  <a:pt x="10800" y="9658"/>
                  <a:pt x="16200" y="10558"/>
                  <a:pt x="21600" y="10558"/>
                </a:cubicBezTo>
                <a:cubicBezTo>
                  <a:pt x="16200" y="10558"/>
                  <a:pt x="10800" y="11458"/>
                  <a:pt x="10800" y="1235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144792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ly Outsourced Development, with oversight and Implementation by ERCOT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3886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and Implemented by ERCOT sta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350532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58"/>
                </a:lnTo>
                <a:cubicBezTo>
                  <a:pt x="10800" y="9658"/>
                  <a:pt x="16200" y="10558"/>
                  <a:pt x="21600" y="10558"/>
                </a:cubicBezTo>
                <a:cubicBezTo>
                  <a:pt x="16200" y="10558"/>
                  <a:pt x="10800" y="11458"/>
                  <a:pt x="10800" y="1235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66B-27B9-4A01-A4C8-F67C494727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Prioritization Issues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 appears to have high benefits; howe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has to fit within ERCOT’s fixed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is PRR will require significant/complex system modifications that will not be part of the Nodal market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is PRR will require many of the same resources required for implementation of the Nodal mar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RR is prioritized below the 2006 cut line, it’s unlikely that a Project associated with this PRR would be initiated, given its high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RR is prioritized just above the 2006 cut line, it’s unlikely that it would be initiated this year, given projected availability of ERCOT resour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Project associated with this PRR to be initiated in 2006 would require that it have a priority not only above the cut line but higher than that assigned to Nodal market redesign Proj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A62-39A6-451A-BD7D-06CC034942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9:02:14Z</dcterms:created>
  <dc:creator>Beth Garza</dc:creator>
  <dc:description/>
  <dc:language>en-US</dc:language>
  <cp:lastModifiedBy>Nieves</cp:lastModifiedBy>
  <dcterms:modified xsi:type="dcterms:W3CDTF">2006-02-01T22:41:04Z</dcterms:modified>
  <cp:revision>12</cp:revision>
  <dc:subject/>
  <dc:title>PRR 567 – Simplified Three-Part Bidding for Ancillary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