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21BE-E0EC-45B3-A3B1-0E4CFD9CA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BF03-0C2A-4F6D-844D-8348469D8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74A9-B794-45EB-B8EE-239D543BE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54C0-C210-4741-BE55-8F6EFF77A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45B0-965F-411C-943C-035F01767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F9C6-F996-45C5-B161-5280E8F74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0668-59FA-44FD-A873-0710D8AF4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9BF0-0928-44D7-B47A-8902BEB59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B3B2-4511-430D-B321-EBE0E1D05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F1A3-5B45-411A-98B7-E58D554D2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7BE6-58AE-4BB2-B82C-EA060B73F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FBC9-44AE-4177-8074-AE9018481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28720"/>
            <a:ext cx="9144000" cy="66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3520" cy="82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96708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5259-0E3F-43D8-8AFE-B34F038D0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78144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85120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9920" y="2123280"/>
            <a:ext cx="81500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R 568 – Settlement Timeli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R 638 – Invoice Timeli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R 599 – Mismatch Not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4578480"/>
            <a:ext cx="828504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 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87560"/>
            <a:ext cx="81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371600"/>
          <a:ext cx="7543800" cy="3154320"/>
        </p:xfrm>
        <a:graphic>
          <a:graphicData uri="http://schemas.openxmlformats.org/drawingml/2006/table">
            <a:tbl>
              <a:tblPr/>
              <a:tblGrid>
                <a:gridCol w="2311560"/>
                <a:gridCol w="1936440"/>
                <a:gridCol w="1935360"/>
                <a:gridCol w="136044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340920"/>
            <a:ext cx="7010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R 568 Settlement Statement Calendar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3320" y="2971800"/>
            <a:ext cx="1120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/S Lookback changed from 21 to 14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30D6-58FC-4F09-853D-2A2D049337D6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oice Payment Periods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74320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31488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65760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00068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34340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468648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502920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7916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/1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12632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/20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17060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/23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1632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/27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6060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02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0776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0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5492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09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0064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13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4492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1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8920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20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53492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23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579240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27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62780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30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67208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03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71780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06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6496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10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4884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/13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37228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8600" y="26290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-66600" y="18637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/09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829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nvoice Payment Periods without PRR 6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686480"/>
            <a:ext cx="9144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029200"/>
            <a:ext cx="9144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5372280"/>
            <a:ext cx="9144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829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nvoice Payment Periods after PRR 6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20040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Init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3543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Init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88620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Init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42292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Init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457200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Init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49150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Init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525780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Init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C93E-4B77-4792-BA6F-A8F8D6F9F8CC}" type="slidenum">
              <a:t>11</a:t>
            </a:fld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43080" y="2971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R 548, PRR 59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13F3-774A-4579-9BF6-BB9AAC28F63D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R 599 Update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ERCOT remedies mismatched schedules by resolving both parties’ schedules into an Obligation to ERCOT and a Supply from ERC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 548 directs ERCOT to resolve only the difference between the mismatched schedules into an ERCOT Obligation or Supply, as appropri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 599 directs ERCOT to provide a record of the amount of the mismatch to both parties involved in the mismat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 599 is scheduled to be implemented with PRR 548 on March 29, 200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9E14-E77F-4CDF-A478-7CB34095CDF4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348080" y="3009960"/>
            <a:ext cx="898560" cy="1795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71880" y="2171880"/>
            <a:ext cx="52578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FFCD-1783-467B-85BF-E5DEE194250D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20800"/>
            <a:ext cx="81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86040" indent="-18860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R 568 – Change Initial Settlement from 17 days to 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953800"/>
            <a:ext cx="81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86040" indent="-18860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R 638 – Change Settlement Invoice Due Date from 16 Calendar Days to Five Bank Business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00480" y="340920"/>
            <a:ext cx="646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pdates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7840" y="4503600"/>
            <a:ext cx="81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86040" indent="-18860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R 599 – Notification for Mismatched Inter-QSE Energy Sched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CF97-8101-457D-90A9-67DE641C24C6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43080" y="2971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R 56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R 63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DC68-47BB-4E36-878A-03A7930D04F9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0920"/>
            <a:ext cx="7734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R 568 – Where Are We?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098720"/>
          <a:ext cx="8763120" cy="5424480"/>
        </p:xfrm>
        <a:graphic>
          <a:graphicData uri="http://schemas.openxmlformats.org/drawingml/2006/table">
            <a:tbl>
              <a:tblPr/>
              <a:tblGrid>
                <a:gridCol w="1828800"/>
                <a:gridCol w="6934320"/>
              </a:tblGrid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is Perio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provides Ch 0 cuts for Load and Generation Extra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0 day run in Aug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0 day run Sept 15 to Oct 15,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 0 is a day 8 aggregation, the data that would be used for day 10 sett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provides reporting similar to Report provided at COPS Feb 2005 mt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s exchange ideas observations of Ch 0 cuts in conference calls every 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all to occur approximately 20 days after the first date Ch 0 data was made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 14,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s end Ch 0 analysis.  Ready for COPS vote/Recommendation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1,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S recommendation to TAC if desired to change the February 2006 implementation schedule for PRR5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e Date to Start the migration to Day 10 Initial Settlement, Publication of binding Settlement Statement for this date would be February 2,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ch 16,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cipated date for completion of PRR568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28600" y="534348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 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FF39-BF05-4973-B5E5-89625A71546A}" type="slidenum">
              <a:t>4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s with Initial Settlement of January 17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sh extra Initial Statement on each Invoi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bruary 9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bruary 16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bruary 23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2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9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16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23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30 Invoice will contain 7 Initial Statements published according to the 10-day settlement peri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943280" y="340920"/>
            <a:ext cx="6821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R 568 Implementation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A794-5A50-4ECD-8A4A-8FE8213C7012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s Invoice due date from 16 calendar days after issuance to 5 bank business days after issu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ved by TAC on January 12, 200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s to the ERCOT Board on February 20, 200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pproved by the ERCOT Board, this PRR will go into effect with the Invoice issued on March 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voice due dates will begin changing before we have completely transitioned from 17-day to 10-day Initial Sett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43280" y="340920"/>
            <a:ext cx="6821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R 638 Status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EA72-CED1-4ACF-BE87-3F8DEEC069A5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40920"/>
            <a:ext cx="7010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R 568 Settlement Statement Calendar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143000"/>
          <a:ext cx="7543800" cy="5580000"/>
        </p:xfrm>
        <a:graphic>
          <a:graphicData uri="http://schemas.openxmlformats.org/drawingml/2006/table">
            <a:tbl>
              <a:tblPr/>
              <a:tblGrid>
                <a:gridCol w="2313000"/>
                <a:gridCol w="1935000"/>
                <a:gridCol w="1935360"/>
                <a:gridCol w="136044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/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8313-89F6-4CC4-8995-39DE6D4A95B4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143000"/>
          <a:ext cx="7543800" cy="5580000"/>
        </p:xfrm>
        <a:graphic>
          <a:graphicData uri="http://schemas.openxmlformats.org/drawingml/2006/table">
            <a:tbl>
              <a:tblPr/>
              <a:tblGrid>
                <a:gridCol w="2313000"/>
                <a:gridCol w="1935000"/>
                <a:gridCol w="1924200"/>
                <a:gridCol w="137160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/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40920"/>
            <a:ext cx="7010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R 568 Settlement Statement Calendar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4CE8-EB87-46EF-A178-CAA032EFD62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125360"/>
          <a:ext cx="7620120" cy="5580360"/>
        </p:xfrm>
        <a:graphic>
          <a:graphicData uri="http://schemas.openxmlformats.org/drawingml/2006/table">
            <a:tbl>
              <a:tblPr/>
              <a:tblGrid>
                <a:gridCol w="2335320"/>
                <a:gridCol w="1955520"/>
                <a:gridCol w="1954440"/>
                <a:gridCol w="137484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8043840" y="1881360"/>
            <a:ext cx="1100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RR638 Would Take Effec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340920"/>
            <a:ext cx="7010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R 568 Settlement Statement Calendar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09E5-349A-4615-B290-F7CDEF552D1E}" type="slidenum">
              <a:t>9</a:t>
            </a:fld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autoRev="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8:31:49Z</dcterms:created>
  <dc:creator>Kettlewell</dc:creator>
  <dc:description/>
  <dc:language>en-US</dc:language>
  <cp:lastModifiedBy>adeller</cp:lastModifiedBy>
  <dcterms:modified xsi:type="dcterms:W3CDTF">2006-01-24T15:55:36Z</dcterms:modified>
  <cp:revision>136</cp:revision>
  <dc:subject/>
  <dc:title>Slide 1</dc:title>
</cp:coreProperties>
</file>