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199313" cy="9510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B6C9-B3F3-4BE3-B882-CDC7B453C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3891600"/>
            <a:ext cx="7391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2821-6C27-4392-8EE1-814D0BDF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5640" y="198108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389160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5640" y="389160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1949-6691-40DD-B399-9682AE2BF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23799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7560" y="1981080"/>
            <a:ext cx="23799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36680" y="1981080"/>
            <a:ext cx="23799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3891600"/>
            <a:ext cx="23799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7560" y="3891600"/>
            <a:ext cx="23799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36680" y="3891600"/>
            <a:ext cx="23799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C243-7FD0-417E-9899-C577DD1D9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EB9E-B8C0-4691-B738-1C01D71D6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98108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3F02-5835-4B0E-B752-500819A0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4564-49D9-48AC-B3E9-04C4AD50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606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5640" y="1981080"/>
            <a:ext cx="3606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CD13-BA0F-4770-8CB6-0EAC9F7F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6D74-8E83-4BF3-BF5B-B529C6D2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37920" y="456840"/>
            <a:ext cx="6324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AF3A-4458-4996-BE35-CB77F6E0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5640" y="1981080"/>
            <a:ext cx="3606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389160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13A7-9DB9-4D80-B1F6-522E30CD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98108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B5D7-2AB4-425D-BE64-40D39370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606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5640" y="198108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25640" y="389160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6AC1-8FC6-4118-AF0C-279D80F8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5640" y="198108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3891600"/>
            <a:ext cx="7391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0424-2635-4CC0-8378-63C8BFC4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3891600"/>
            <a:ext cx="7391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8FCB-BC16-4777-8404-1AEE8ED2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5640" y="198108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389160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25640" y="389160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F62D-A8A6-4011-9190-95CC031E7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23799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7560" y="1981080"/>
            <a:ext cx="23799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36680" y="1981080"/>
            <a:ext cx="23799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3891600"/>
            <a:ext cx="23799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7560" y="3891600"/>
            <a:ext cx="23799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36680" y="3891600"/>
            <a:ext cx="23799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06CB-5070-4AE5-A9D9-761E7E088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0AAB-69A2-407E-92EF-E270C56F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606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5640" y="1981080"/>
            <a:ext cx="3606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12ED-8939-4F24-921F-AA1B6975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7519-544F-4098-852E-739FDAD9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437920" y="456840"/>
            <a:ext cx="6324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A3C8-64BE-496A-BFE8-BF39AD89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5640" y="1981080"/>
            <a:ext cx="3606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389160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13CF-0525-4C9A-B4BC-D8AA3E7E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606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5640" y="198108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5640" y="389160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C962-EA43-4823-8FD5-37A262F3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5640" y="198108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3891600"/>
            <a:ext cx="7391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E172-44B6-4095-A844-A1A77E99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98108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CC50-6AC7-4FB5-8D20-1E1433A0C339}" type="datetime3">
              <a:rPr b="0" lang="en-US" sz="1200" spc="-1" strike="noStrike">
                <a:solidFill>
                  <a:srgbClr val="ccccff"/>
                </a:solidFill>
                <a:latin typeface="Tahoma"/>
              </a:rPr>
              <a:t>July 31, 2026</a:t>
            </a:fld>
            <a:r>
              <a:rPr b="0" lang="en-US" sz="1200" spc="-1" strike="noStrike">
                <a:solidFill>
                  <a:srgbClr val="ccccff"/>
                </a:solidFill>
                <a:latin typeface="Tahoma"/>
              </a:rPr>
              <a:t>Jan. 13,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80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ahoma"/>
              </a:rPr>
              <a:t>&lt;footer&gt;</a:t>
            </a:r>
            <a:r>
              <a:rPr b="0" lang="en-US" sz="1200" spc="-1" strike="noStrike">
                <a:solidFill>
                  <a:srgbClr val="ccccff"/>
                </a:solidFill>
                <a:latin typeface="Tahoma"/>
              </a:rPr>
              <a:t>ERCOT Legislative D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484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cccc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9A9E-7ED8-453B-A1ED-A1D4F2820EB4}" type="slidenum">
              <a:rPr b="1" lang="en-US" sz="1400" spc="-1" strike="noStrike">
                <a:solidFill>
                  <a:srgbClr val="cccc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01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6197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62120" y="5867280"/>
            <a:ext cx="1676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ECA2-87DF-4701-A79B-09D334935701}" type="datetime3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y 31, 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2666880" y="58672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29400" y="586728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4ECA-BC05-4CF6-A0FC-F8B54DC404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60020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002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arket Participant Default Update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800"/>
            </a:br>
            <a:br>
              <a:rPr sz="4800"/>
            </a:br>
            <a:br>
              <a:rPr sz="32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ercial Operations Subcommittee (COPS) Meeting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nuary 24,2006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QSE Default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redit Exposure – Mass Transitions 2005/20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Est MWh/da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Est ESID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Tot Est Exposu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SE 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5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3,00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$    400,0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SE 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5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50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$      30,0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SE 2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65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55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$    220,0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SE 2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3,500          12,25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$ 5,500,0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SE 3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1,50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10,00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$    200,0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SE 3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125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2,50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$    100,0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$ 6,450,0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09FB-1A4A-4F24-A5CC-81A9F528F2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7T00:47:31Z</dcterms:created>
  <dc:creator>Troy Barber</dc:creator>
  <dc:description/>
  <dc:language>en-US</dc:language>
  <cp:lastModifiedBy>Ted Hailu</cp:lastModifiedBy>
  <dcterms:modified xsi:type="dcterms:W3CDTF">2006-01-24T15:43:40Z</dcterms:modified>
  <cp:revision>406</cp:revision>
  <dc:subject>Powerpoint Presentation</dc:subject>
  <dc:title>ERCOT Soaring</dc:title>
</cp:coreProperties>
</file>