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9B7-D78C-481D-904E-8D281B05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97D-07F7-46E0-AAF0-1CEB1E87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B2C-9802-4028-BC5D-85513687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AAB-EDD5-4F97-BD95-FEFB0267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C76-A366-4E96-B6C0-1A99379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6EF-5541-437D-BADE-BC5E2B9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56C-FF6F-4403-AE68-4B999A2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DF6-C98C-44E7-BABA-18B18FC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03C-1D62-43B7-9A8E-A29F7B2D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356-C370-4E76-A856-71ACB77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5A3-0CDE-4FA3-9606-65088C3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16F-A208-4D1C-9003-E012683A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1332-47EA-405D-96C3-9297622BF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ata Extracts Working Group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DEWG) Up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24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eet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1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a Conference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16, 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16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S / RMS Up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on RMS RCSO Report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 RCSO (867s Received on Cancelled Servic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tanding 2005 Projects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577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of Aggregated Load Data by T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provided to TDSPs manually by 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743 - QSE Dispute Ext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50026 (SIR 7013) Enhancements to the 99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Notice sent 01/13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50023 Potential Load Loss Ext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with 12/03/06 Maintenance Retai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634 Un Retiring ESI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illary Services Ex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to work with MPs to determine if we can discontinue part or whole ex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vailable in B&amp;S Ex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50024 (SCR 74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currently hosting separate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reviewed at February C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6 Go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reviewed at February C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PS Voting Items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6 Data Extract Working Group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chary Collard with CenterPoin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ette Morton with American Electric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otential COPS Voting I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Vote on Discontinu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_03 Final or 867_04 Initial received on a Canceled Servic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ally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ly produced for CRs and TD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ed by DEWG and RMS to discontinue providing to 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8 of 196 reports downloaded in 3 month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reached out to CRs using report – none currently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information available via Siebel Service Order 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posed using same discontinuation method as used in the past for several other repo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Questions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24080" y="2514600"/>
            <a:ext cx="2895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chary Collard</cp:lastModifiedBy>
  <dcterms:modified xsi:type="dcterms:W3CDTF">2006-01-24T15:30:18Z</dcterms:modified>
  <cp:revision>14</cp:revision>
  <dc:subject/>
  <dc:title>PowerPoint Presentation</dc:title>
</cp:coreProperties>
</file>