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0273E-FACB-4A32-B58D-739EFC58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3D205-F729-483F-A314-4BCD06C2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8CB4D-A3F6-4714-8050-B7F942E1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6EC6B-F971-432A-BB06-8B7E4DFC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63BA-D21F-4DFA-BA7B-A012CF16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CC2A-AB21-46BB-A015-5166B370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5B90-121B-4B8B-BF5D-3E2FFD4E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24DB-E73D-40AA-9FDF-0242D7D3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CA40-D133-45AE-9886-C146E505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CB6C-BE44-44DE-BFE3-0384EF1B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1A8B-BCBB-469E-9932-DBFE8594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7D5F3-DB94-4E01-998B-EBD0DCBB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228C-C748-449D-AB9F-17550FD6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1749-1F8E-44C8-B3CE-AB4C62BB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2D56-9705-49B7-9123-5AAA971C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4B3A-4187-4F9A-A624-14095F09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BCB9-BE3A-4797-80D3-B775F99D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C6262-F710-452C-B93A-CD1F2473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2823E-A68D-4351-86AE-716F76BA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8CB27-FF8A-47FD-84EA-93C5D7FE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10CBA-825A-45C3-B390-578DF1D6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40C59-C726-49D5-90F4-5062F604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71D8D-4AE1-44EC-8F2D-2E46241B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AC105-E112-4579-8768-B04064B4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EA97-9435-4BEB-B3FD-FB4AEE3B16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DA70-8DF0-4170-9763-EF6044340F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Arial"/>
              </a:rPr>
              <a:t>UFE Stud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verage Daily % UF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003 – 2004 - 200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95680" y="304920"/>
            <a:ext cx="441972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41904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7:26:45Z</dcterms:created>
  <dc:creator>WHoffman</dc:creator>
  <dc:description/>
  <dc:language>en-US</dc:language>
  <cp:lastModifiedBy>Randy Roberts</cp:lastModifiedBy>
  <dcterms:modified xsi:type="dcterms:W3CDTF">2006-01-23T19:10:48Z</dcterms:modified>
  <cp:revision>8</cp:revision>
  <dc:subject/>
  <dc:title>1st Choice Power</dc:title>
</cp:coreProperties>
</file>