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67F-3D6A-4631-9D12-B675CC0C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B2A-BC26-452A-8EF8-D4A41A92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35F-AA9E-463E-80A0-2573C82A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42F-6750-4A0E-AC3A-501513A3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D74-981D-4ADB-ACD0-F7BCA75A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3CE-6907-4E41-9853-63A3E9B0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793-9944-4DCB-8D54-1F06A32D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E32-C8AE-4608-81F5-88A0E174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031-931C-4013-BF40-9A49D53B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1C4-586E-49A0-985E-2A603CFB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01DB-5174-47A8-94AB-62A0E747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464-AF72-406D-A857-71B2ACB2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4997-D071-443A-9FCC-77C856151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55600" y="6445080"/>
            <a:ext cx="2895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"/>
          <p:cNvSpPr/>
          <p:nvPr/>
        </p:nvSpPr>
        <p:spPr>
          <a:xfrm>
            <a:off x="5791320" y="6445080"/>
            <a:ext cx="3124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Nam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duction outage – 12/26/2005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as not impa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lements and Inv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lement Dispute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Factor po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Estimation Counts and Vol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Month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S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Bid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Schedul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duction outage – 12/26/2005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was impacted – 24 Extracts and Repor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estar Extra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 and Bi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IID Service History and Usage (SCR 727)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 Extra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ds and Sche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cillary Serv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ca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Operations Repor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 Plan Performance 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/S Bid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/S Deploy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ahead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duction outage – 12/26/2005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outstanding – 5 Extracts and Re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destar Extra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ID Service History and Usage (SCR 727)   - restored on 1/16/06, experiencing a subsequent problem, has not posted since 1/18/06 – running two a day, expect to catch up by 1/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 Extra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Information, Forecast – possibly missing data from Solutions and Studies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Re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7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Plan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adeller</cp:lastModifiedBy>
  <dcterms:modified xsi:type="dcterms:W3CDTF">2006-01-23T23:12:18Z</dcterms:modified>
  <cp:revision>21</cp:revision>
  <dc:subject/>
  <dc:title>Role of Account Management at ERCOT</dc:title>
</cp:coreProperties>
</file>