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62AE-E8B3-4701-A09D-F7BDC2433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hly average must be above 100.00 to pass this NERC requiremen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E15-A80B-4CDF-A491-96BA164D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92C-0D64-45B4-9E51-DFF06849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8FED-71C2-4B3B-AF30-04B47871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0A12-9073-4B47-A9C2-76F79224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600-8861-419F-96C9-D212D151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FF6-B78D-449F-84F6-4A00F356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9A5-7EEB-4F2F-9AE9-7CF01693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78B-80E9-4322-B843-9318BC83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327-50CA-41F2-BE0B-99E4B22B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9329-D4F5-40FD-BF7A-67CBD230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F7C9-EB5C-4ADE-BF5A-A3976D4D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7C0-DDDA-42E4-B363-FC8C12A9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F043-6593-49DB-AEF8-23F98DAF3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CPS1 by Day- November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4760" y="905040"/>
            <a:ext cx="903924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CPS1 by Interval November 130.8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058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OT CPS1 12 Month Rolling Ave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5.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2438280"/>
            <a:ext cx="8380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819920" cy="5438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4 &amp; 2005 RMS1 of ERCOT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0, 2004 &amp; 2005 RMS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2920" y="42840"/>
            <a:ext cx="8858160" cy="6772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124080" y="2133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5 MW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v 9, 2005 07:13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2920" y="42840"/>
            <a:ext cx="8858160" cy="6772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62520" y="1752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9.52 MW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v 17, 2005 03:11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2920" y="42840"/>
            <a:ext cx="8858160" cy="6772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86200" y="1752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49.66 MW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v 17, 2005 17:18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4:12:17Z</dcterms:created>
  <dc:creator>sniemeyer</dc:creator>
  <dc:description/>
  <dc:language>en-US</dc:language>
  <cp:lastModifiedBy>sniemeyer</cp:lastModifiedBy>
  <dcterms:modified xsi:type="dcterms:W3CDTF">2005-12-05T22:25:59Z</dcterms:modified>
  <cp:revision>40</cp:revision>
  <dc:subject/>
  <dc:title>PowerPoint Presentation</dc:title>
</cp:coreProperties>
</file>