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557-094D-4998-86B3-16B99FD9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1A1-771A-4F95-AB75-4D06E3D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221-E5BD-49C5-BA47-5B217F0A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868-62DF-4F53-BE16-882E808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229-6ECC-43A6-AF7C-21FC977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E22-7EA9-4336-B456-7427C14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EF4-C79F-4DFC-B527-51B8272D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D16-C5A5-4EB2-B896-90B149D3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B0E-F6F0-4CFA-BE10-4B3F220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76D-94AA-4226-B11B-07E7EE2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276-58E1-4A44-AEA1-C8E65EF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699-E6E0-4D6A-82EF-0BB2B36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AFA-EA5B-48BF-BF5D-35F2E4B7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tanding Issues &amp; Action I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ligations to Honor Ancillary Services Commit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ERCOT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 reversals of the Regulation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Desk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of Requested ACE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operator to scale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= ACE% * |bias*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rmally set to 100%.  Procedures direct operator to adjust the sett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ent Oscillation or under control (2.5.1 (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ing ERCOT CPS  &gt; 100 (2.4.3 (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als of the Regulation Signal</a:t>
            </a: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FCTF indicated counting the times the Regulation signal changed direction may be valuable in evaluating secondary frequenc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nths data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8/06 18:30 – 20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4 reversals over the day, 56 over the 2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57440" y="10164600"/>
            <a:ext cx="3886200" cy="1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152200" cy="4524840"/>
        </p:xfrm>
        <a:graphic>
          <a:graphicData uri="http://schemas.openxmlformats.org/drawingml/2006/table">
            <a:tbl>
              <a:tblPr/>
              <a:tblGrid>
                <a:gridCol w="2425680"/>
                <a:gridCol w="1908720"/>
                <a:gridCol w="1909440"/>
                <a:gridCol w="1908360"/>
              </a:tblGrid>
              <a:tr h="156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d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447920"/>
          <a:ext cx="77724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19320" y="1600200"/>
          <a:ext cx="70102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010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447920"/>
          <a:ext cx="723888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2388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 6.6.4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Obligations to Honor Ancillary Services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llary Service Obligations from the schedule submitted prior to the close of the Adjustment Period are binding commitments of the QSE to ERCOT.  If ERCOT issues Resource-specific OOME or Resource-specific Balancing Energy Dispatch Instructions to a QSE that causes the QSE to be unable to Supply its Ancillary Service Obligation(s), the ERCOT shall issue a verbal Dispatch Instruction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ves that QSE from having to provide the specific Ancillary Service(s) for specific intervals and the reason 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s the Dispatch given to the QSE so that the QSE may come back into compliance with their Ancillary Service Obliga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 2 &amp; 4 deplo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RS deployment supersedes the Category 2 or 4 deplo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DI granted only if RRS was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DI temporarily relieve them from their Category 2’s and 4’s During RRS de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Variable ERCOT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OS discussions on PRR 586, ERCOT was requested to investigate implementing a variable bi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Bias calculated by averaging observed performance of Measurable Events over 2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st to September 30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st to April 30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Options Consid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QSE telemetered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Bias based on unit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Bias over smaller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significant variance in the bias term requires additional tuning of other parameters.  A bias that could change with system conditions would be difficult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Sum QSE telemetered bi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required to telemeter frequency bias of portfolio generation resources in accordance with Protoc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 6.5.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e sum of individual bias does not reflect tot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st bias values provided are fairly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me QSE currently are not submitting a bias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ata failure could lead to wide variances in ERCOT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Estimate Bias based on unit m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ogic in EMMS that varies bias based on unit type and generic droop for each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ual droop characteristic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vailable capacity (unit at HSL or LSL) changes actual individual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ata failure could lead to wide variances in ERCOT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 significant variance in the bias term requires additional tuning of other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Average Bias over smaller peri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onthly based on previou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samp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y need 3+ years of response to have adequate number of Measurab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lling average would encompass peak and off-peak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Bias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bias term is static, ERCOT AGC adjusts the amount of control over different system conditions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frequency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deviations ~   bias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deviations ~ bias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6:23:05Z</dcterms:created>
  <dc:creator>jhealy</dc:creator>
  <dc:description/>
  <dc:language>en-US</dc:language>
  <cp:lastModifiedBy>jhealy</cp:lastModifiedBy>
  <dcterms:modified xsi:type="dcterms:W3CDTF">2006-01-16T20:05:49Z</dcterms:modified>
  <cp:revision>7</cp:revision>
  <dc:subject/>
  <dc:title>Outstanding Issues &amp; Action Items </dc:title>
</cp:coreProperties>
</file>