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4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62520" y="6265800"/>
            <a:ext cx="1163520" cy="560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77840" y="6546960"/>
            <a:ext cx="122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/08/2005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port 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istorical Frequency Deviations 0600,0100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12, 200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S Mee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 Control Center (MET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You will recall from last meeting…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reported several frequency deviations around 0600 and 0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 asked if there was a degradation in frequency performance at these ho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2600" y="795240"/>
            <a:ext cx="85852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1920" y="276120"/>
            <a:ext cx="856584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urly CPS1 average for all hours vs 6 a.m. hourly average CPS1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1536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urly CPS1 average for all hours vs 1 a.m. hourly average CPS1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6:00:00Z</dcterms:created>
  <dc:creator/>
  <dc:description/>
  <dc:language>en-US</dc:language>
  <cp:lastModifiedBy/>
  <dcterms:modified xsi:type="dcterms:W3CDTF">2006-01-13T01:26:25Z</dcterms:modified>
  <cp:revision>8</cp:revision>
  <dc:subject/>
  <dc:title>Slide 1</dc:title>
</cp:coreProperties>
</file>