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lick to edit the title text format</a:t>
            </a:r>
            <a:endParaRPr b="0" lang="en-US" sz="40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grpSp>
        <p:nvGrpSpPr>
          <p:cNvPr id="3" name=""/>
          <p:cNvGrpSpPr/>
          <p:nvPr/>
        </p:nvGrpSpPr>
        <p:grpSpPr>
          <a:xfrm>
            <a:off x="55440" y="87480"/>
            <a:ext cx="9043920" cy="6701760"/>
            <a:chOff x="55440" y="87480"/>
            <a:chExt cx="9043920" cy="6701760"/>
          </a:xfrm>
        </p:grpSpPr>
        <p:sp>
          <p:nvSpPr>
            <p:cNvPr id="4" name=""/>
            <p:cNvSpPr/>
            <p:nvPr/>
          </p:nvSpPr>
          <p:spPr>
            <a:xfrm>
              <a:off x="139320" y="87480"/>
              <a:ext cx="8873280" cy="670176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5440" y="176040"/>
              <a:ext cx="9043920" cy="652824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98640" y="131760"/>
              <a:ext cx="8957160" cy="66168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7" name=""/>
          <p:cNvSpPr/>
          <p:nvPr/>
        </p:nvSpPr>
        <p:spPr>
          <a:xfrm>
            <a:off x="3940200" y="6281640"/>
            <a:ext cx="12193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 name="" descr=""/>
          <p:cNvPicPr/>
          <p:nvPr/>
        </p:nvPicPr>
        <p:blipFill>
          <a:blip r:embed="rId2"/>
          <a:stretch/>
        </p:blipFill>
        <p:spPr>
          <a:xfrm>
            <a:off x="3962520" y="6265800"/>
            <a:ext cx="1163520" cy="560520"/>
          </a:xfrm>
          <a:prstGeom prst="rect">
            <a:avLst/>
          </a:prstGeom>
          <a:ln w="0">
            <a:noFill/>
          </a:ln>
        </p:spPr>
      </p:pic>
      <p:sp>
        <p:nvSpPr>
          <p:cNvPr id="9" name=""/>
          <p:cNvSpPr/>
          <p:nvPr/>
        </p:nvSpPr>
        <p:spPr>
          <a:xfrm>
            <a:off x="177840" y="6546960"/>
            <a:ext cx="122868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08/2005 Ken Donohoo</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39760" y="457200"/>
            <a:ext cx="8651880" cy="388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l Rio Blackout December 8, 2005</a:t>
            </a:r>
            <a:br>
              <a:rPr sz="3600"/>
            </a:br>
            <a:br>
              <a:rPr sz="2400"/>
            </a:br>
            <a:r>
              <a:rPr b="1" lang="en-US" sz="1800" spc="-1" strike="noStrike">
                <a:solidFill>
                  <a:srgbClr val="000000"/>
                </a:solidFill>
                <a:latin typeface="Arial"/>
              </a:rPr>
              <a:t>January 12, 2006</a:t>
            </a:r>
            <a:br>
              <a:rPr sz="1800"/>
            </a:br>
            <a:r>
              <a:rPr b="1" lang="en-US" sz="1800" spc="-1" strike="noStrike">
                <a:solidFill>
                  <a:srgbClr val="000000"/>
                </a:solidFill>
                <a:latin typeface="Arial"/>
              </a:rPr>
              <a:t> ROS Meeting </a:t>
            </a:r>
            <a:br>
              <a:rPr sz="1800"/>
            </a:br>
            <a:r>
              <a:rPr b="1" lang="en-US" sz="1800" spc="-1" strike="noStrike">
                <a:solidFill>
                  <a:srgbClr val="000000"/>
                </a:solidFill>
                <a:latin typeface="Arial"/>
              </a:rPr>
              <a:t>Austin Control Center (MET Cen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On December 8th</a:t>
            </a:r>
            <a:endParaRPr b="0" lang="en-US" sz="4000" spc="-1" strike="noStrike">
              <a:solidFill>
                <a:srgbClr val="333399"/>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or to the event the following were in effect:</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sherton – West Conoco 138kV line was open due to a planned outage,</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Transmission Emergency was issued on 12/06/05 due to the Loss of Sonora – Hamilton 138kV overloads Uvalde – Asphalt Mines 138kV and impending weather condition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Winter Storm Warn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Del Rio Area</a:t>
            </a:r>
            <a:endParaRPr b="0" lang="en-US" sz="4000" spc="-1" strike="noStrike">
              <a:solidFill>
                <a:srgbClr val="333399"/>
              </a:solidFill>
              <a:latin typeface="Arial"/>
            </a:endParaRPr>
          </a:p>
        </p:txBody>
      </p:sp>
      <p:graphicFrame>
        <p:nvGraphicFramePr>
          <p:cNvPr id="50" name=""/>
          <p:cNvGraphicFramePr/>
          <p:nvPr/>
        </p:nvGraphicFramePr>
        <p:xfrm>
          <a:off x="0" y="139680"/>
          <a:ext cx="8881920" cy="6718320"/>
        </p:xfrm>
        <a:graphic>
          <a:graphicData uri="http://schemas.openxmlformats.org/presentationml/2006/ole">
            <p:oleObj r:id="rId1" spid="">
              <p:embed/>
              <p:pic>
                <p:nvPicPr>
                  <p:cNvPr id="51" name="" descr=""/>
                  <p:cNvPicPr/>
                  <p:nvPr/>
                </p:nvPicPr>
                <p:blipFill>
                  <a:blip r:embed="rId2"/>
                  <a:stretch/>
                </p:blipFill>
                <p:spPr>
                  <a:xfrm>
                    <a:off x="0" y="139680"/>
                    <a:ext cx="8881920" cy="6718320"/>
                  </a:xfrm>
                  <a:prstGeom prst="rect">
                    <a:avLst/>
                  </a:prstGeom>
                  <a:ln w="0">
                    <a:noFill/>
                  </a:ln>
                </p:spPr>
              </p:pic>
            </p:oleObj>
          </a:graphicData>
        </a:graphic>
      </p:graphicFrame>
      <p:sp>
        <p:nvSpPr>
          <p:cNvPr id="52" name=""/>
          <p:cNvSpPr/>
          <p:nvPr/>
        </p:nvSpPr>
        <p:spPr>
          <a:xfrm>
            <a:off x="2284560" y="1720800"/>
            <a:ext cx="1539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3 MW pre -contingency</a:t>
            </a:r>
            <a:endParaRPr b="0" lang="en-US" sz="1800" spc="-1" strike="noStrike">
              <a:solidFill>
                <a:srgbClr val="000000"/>
              </a:solidFill>
              <a:latin typeface="Arial"/>
            </a:endParaRPr>
          </a:p>
        </p:txBody>
      </p:sp>
      <p:sp>
        <p:nvSpPr>
          <p:cNvPr id="53" name=""/>
          <p:cNvSpPr/>
          <p:nvPr/>
        </p:nvSpPr>
        <p:spPr>
          <a:xfrm>
            <a:off x="3352680" y="2819520"/>
            <a:ext cx="2330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6 MW=&gt;149 MW 137% Tripp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351000"/>
            <a:ext cx="8229600" cy="5775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8   20:14 </a:t>
            </a:r>
            <a:r>
              <a:rPr b="1" lang="en-US" sz="2400" spc="-1" strike="noStrike">
                <a:solidFill>
                  <a:srgbClr val="000000"/>
                </a:solidFill>
                <a:latin typeface="Arial"/>
              </a:rPr>
              <a:t>	</a:t>
            </a:r>
            <a:r>
              <a:rPr b="1" lang="en-US" sz="2400" spc="-1" strike="noStrike">
                <a:solidFill>
                  <a:srgbClr val="000000"/>
                </a:solidFill>
                <a:latin typeface="Arial"/>
              </a:rPr>
              <a:t>The Hamilton – Sonora 138kV line tripped carrying 73 MW. The reported cause was a broken cross arm resulting from galloping conductors. The loading on the Uvalde – Hamilton 138kV line increased from 76 MW to 149 MW, 137% of the elements 111 MVA dynamic rating.  At 20:17, loading on the Uvalde – Hamilton 138 kV line caused a failure at a sleeve. This left only one 69kV line Hamilton – Illinois #4 and the DC tie at Eagle Pass feeding the area’s 161 MW demand.  The DC tie locked out and the 69kV line tripped due to low voltage causing the loss of the 161 MW of load.</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351000"/>
            <a:ext cx="8229600" cy="5775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21:59 local generation came online in an attempt to restore power to the Del Rio area in accordance with the Black Start Plan provided in the Temporary Outage Action Plan for the Asherton – West Conoco 138kV line outage. By 22:33, the Amistad – Buena Vista – Del Rio – Hamilton Rd 138kV corridor was established and load was restored. At 00:38 on 12/09/05 the local units tripped while crews were trying to connect the 69kV line from Hamilton – Illinois #4 due to stabilization problems with the incremental load addition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351000"/>
            <a:ext cx="8229600" cy="5775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01:02 a BLT at Eagle Pass was established and the DC Tie was bypassed to maximize the load restoration. By 01:10 the 138kV bus at Eagle Pass was energized and by 01:30 the Eagle Pass City – Rosita Creek 138kV line was energized with about 40 MW of load restored.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02:55, one local unit was back on line and generating about 30 MW and by 02:57 the Amistad – Amistad Tap – Hamilton Rd 138kV line had been energized along with the Hamilton Rd – Illinois #4 69kV line. A second unit was started at 04:58.</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351000"/>
            <a:ext cx="8229600" cy="5775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 03:00 the repairs on the Uvalde – Hamilton 138kV line had been completed. The line could not be put into service due to problems with one phase at Bracketville. At 05:13 a fly over of the Sonora – Hamilton Rd 138kV line detected a broken cross-arm on the Sonora – Hamilton Rd 138kV line.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351000"/>
            <a:ext cx="8229600" cy="5775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08:17 restoration of the area began with the Uvalde – Hamilton Rd 138kV line energized followed by the Hamilton – Maverick 138kV line at 08:46, and the Hamilton – Del Rio – Buena Vista – Amistad 138kV corridor at 09:36.  At 18:58 the Asherton – West Conoco 138kV line was restored.  At 20:00 The Transmission Emergency for the Del Rio and Eagle Pass area ended as well as the Transmission Emergency for loss of Sonora – Hamilton Rd 138kV loads Uvalde – Asphalt Mines 138kV that was declared on 12/06/05. At 21:56 the Sonora – Hamilton Rd 138kV line was returned to service. At this time the entire transmission load of 161 MW (32,000 customers) was restored. Distribution load was completely restored around 14:00 on 12/10/05.</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6:00:00Z</dcterms:created>
  <dc:creator/>
  <dc:description/>
  <dc:language>en-US</dc:language>
  <cp:lastModifiedBy/>
  <dcterms:modified xsi:type="dcterms:W3CDTF">2006-01-20T22:29:24Z</dcterms:modified>
  <cp:revision>13</cp:revision>
  <dc:subject/>
  <dc:title>Slide 1</dc:title>
</cp:coreProperties>
</file>