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38A5-1BC5-4597-A51C-29F15FED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657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 from Block Load Transfers following Hurricane 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6080" y="5181480"/>
            <a:ext cx="53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and Operations Subcommittee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3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’s Lea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: Brief evaluation of Block Load Transfers (BLTs) in the aftermath of Hurricane Rita to pick up load in Entergy Gulf States Service territ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Pa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XU Energy Delivery – Deep East Texas Cooperative BL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10 MW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point – Crosby Station BL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80 MW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gy Gulf St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’s Lea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Iss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ittle ERCOT can do. Work needed to block load over and all closely associated activities are between TDS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line drawings delivered ASAP are very important for a timely transfer (acceptable form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ual issues between the TDSP’s (how to compensate TDSPs for work) can slow up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’s Lea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Iss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create a LSE in ERCOT’s system was a hind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ual Issues between the TDSPs should be considered in advance of the need to use an emergency B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lement quality metering during a BLT for emergency restoration (.2% vs .6% CT accurac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for providing metering data as well as method for provi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’s Lea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investigate the creation entities and their relationships ahead of time (LSE for BLT into ERCOT; RE for BLT into other control area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ring CT accuracy (.6%) will be allowed for emergency load restoration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recommends actual meter data be provided before initial settlement run. Use of default profiles would introduce significant error if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be flexible as to the format for data submittal (Loadstar, Excel, etc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clearing Interstate Commerce issues in advance for BLTs that could block loads across state li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checklist for entities to use as a guide to prepare for an emerg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mpatterson</cp:lastModifiedBy>
  <cp:lastPrinted>2000-09-19T10:42:49Z</cp:lastPrinted>
  <dcterms:modified xsi:type="dcterms:W3CDTF">2006-01-12T20:15:46Z</dcterms:modified>
  <cp:revision>211</cp:revision>
  <dc:subject/>
  <dc:title>No Slide Title</dc:title>
</cp:coreProperties>
</file>