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E6B6-5678-4FBB-9E45-8832339F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67CF-3693-469A-A0A8-00C2951A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1DF2-6EF7-4165-9D16-18B9903FD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61C3-46A8-4397-9E50-D1EB9BCA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9F50-885E-4D6F-B8FF-B198A027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91E4-6834-4240-A4F8-3D3C599C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6392-C17B-4828-9D1F-FE007B97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EE0B-C4AE-43BD-A50B-0FF2EB90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0FC5-31EB-47AD-9B7E-75075526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FD86-2263-4038-9F36-660AFC03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5D86-63F4-465A-AE5F-B2834461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4096-062F-48F4-B9EE-D6979F6B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3B7A-4165-4E47-889C-60BAD0DDF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905040"/>
            <a:ext cx="9039240" cy="5952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914400"/>
            <a:ext cx="5790960" cy="16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 13: Poor CPS1 contributing facto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or 05:00 &amp; 05:15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COT Site failover problems @ 10:00 through 10: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 of Regulation Service at 15:15 &amp; 18:03 for about 30 minutes each ti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it trips at 13:33 &amp; 22:03 (quick recove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2590920"/>
            <a:ext cx="3045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COT CPS1 by Day- December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05840" cy="6019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COT CPS1 by Interval December 138.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CPS1 Rolling A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59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400800" y="1447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ember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0120" y="182880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4724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ember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8001000" y="47239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ily Frequency RMS1 2004 &amp;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357120"/>
            <a:ext cx="8763120" cy="61977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ily Frequency RMS1 2000 &amp; 2004-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3840" y="195120"/>
            <a:ext cx="8896320" cy="6467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505320" y="12193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5 MW lost Obli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 9, 2005 Loss of Obli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22:47:07Z</dcterms:created>
  <dc:creator>sniemeyer</dc:creator>
  <dc:description/>
  <dc:language>en-US</dc:language>
  <cp:lastModifiedBy>ssanders</cp:lastModifiedBy>
  <dcterms:modified xsi:type="dcterms:W3CDTF">2006-01-10T20:23:37Z</dcterms:modified>
  <cp:revision>3</cp:revision>
  <dc:subject/>
  <dc:title>PowerPoint Presentation</dc:title>
</cp:coreProperties>
</file>