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CE845E-846A-4669-8FDE-73616832F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Stages of testing means that we have wrapped up the planned software tests and are evaluating marke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ital Functions Operational” means that the pieces of RPRS and SFT which are mandatory are working.  There are some extra features which could allow ERCOT operations some additional flexibility and/or improve RPRS/SFT performance which are expected to be fix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MC and RPRS Comparison – Each list of procurements and constraints is analyzed.  These comparisons have led to ERCOT’s discovery of the network model inconsistencies.  There are expected to be differences due to the offline nature of the OOMC studies and the economics of the RPRS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C Verification – An MCPC is generated whenever RPRS detects a capacity deficit (or zonal congestion) after the evaluation of local congestion (step 1).   When there is a deployment for Step 2, an analyst manually calculates the MCPC for that hour and compares with the RPRS calculated MCPC.  All calculations have been correct since the January 4</a:t>
            </a:r>
            <a:r>
              <a:rPr b="0" lang="en-US" sz="1200" spc="-1" strike="noStrike" baseline="30000">
                <a:solidFill>
                  <a:srgbClr val="000000"/>
                </a:solidFill>
                <a:latin typeface="Arial"/>
              </a:rPr>
              <a:t>th</a:t>
            </a:r>
            <a:r>
              <a:rPr b="0" lang="en-US" sz="1200" spc="-1" strike="noStrike">
                <a:solidFill>
                  <a:srgbClr val="000000"/>
                </a:solidFill>
                <a:latin typeface="Arial"/>
              </a:rPr>
              <a:t> P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ructured Testing – Several ERCOT analysts conduct tests on the RPRS results each day.  These tests vary a great deal and are based on each analyst’s experience.  One example would be to determine reasons for every deployment – or to look to see why SFT identified a certain constra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about 25 fixes to RPRS put in place since R4 implementation.  These are the most crucial remaining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Breaker Status – Through daily verification of RPRS, ERCOT has discovered several inconsistencies with regard to normal status settings.  ERCOT Network Model group has been actively working with TDSPs to resolve the inconsist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 Modeling – Through daily verification of RPRS, ERCOT has discovered that stations with LaaR in the network model do not always have the correct MW flow represented in SFT.  This results in additional MW load at certain stations, leading to inaccurate SFT results.  This problem is exacerbated by Private Network generation with the La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T Patch – There are some additional features in SFT that ERCOT is expecting.  While these features are not necessary for the initial deployment of RPRS, they will improve SFT performance, thus improving RPRS performance in order to get deployments out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ility in SFT – During ERCOT’s evaluation of RPRS it was found necessary to understand what SFT sees in its study.  While there are some workarounds that our Engineers can perform which have allowed us to find some errors, it is still not completely visible.  Efforts are underway to determine the best way to ‘see inside the box.’    It remains to be seen if this issue will prevent RPRS from becoming a fully functional market before it is resolved.  It is possible that the coming improvements to the Network Model and SFT may allow ERCOT to proceed in the short term without a fix in this are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MC and RPRS Comparison – Based on preliminary results, ERCOT expects that RPRS will order more efficient set of units online than our present day OOMC procedures.  Sometimes the efficiency is gained due to more cost effective generation being selected, and at others it is because less generation is needed with RPRS.   It is important to note that sometimes we have seen additional resources brought on with RPRS than we have brought on with OOM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C Verification – An MCPC is generated whenever RPRS detects a capacity deficit (or zonal congestion) after the evaluation of local congestion (step 1).   In preliminary results, ERCOT has observed few MCPCs, and the range has been large – from $11 to $245.   The main reason for the large observed gap is the lack of lower priced b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Base Load Generation – It has been observed that RPRS will assume that base load generation is always available to move down to solve local constraints before committing additional units.  ERCOT does expect that this can lead to the reduction (via OOME or LBES) in generation from traditionally base loaded generation such as coal and lignite.  This is because RPRS only commits based on the startup and operational cost, not on the incremental costs for each resource.  In Texas Nodal, a similar approach is 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6.6.3.2.1 (4) “ERCOT will solve security violations using a transmission security-constrained ... objective is to minimize based on Resource Category Generic Cost, capacity price, operation price, and Resource Shift Factors, as described in Section 4.4.16, ERCOT receipt of Replacement Reserve Bids, …” (this indicates that RPRS can only use the capacity and operation price from the RPRS b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will be informed as to how the reports will be transmit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presented at WMS meeting 21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3 days in study which compared actual market results with the same input data run through the new R4 Market Clearing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savings * 365 days in year / days in study = Expected Sa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presented at WMS meeting 21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hidden to conserv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days in study which compared actual results (R4) with the same data run through a market clearing engine which simulated the pre-R4 sequential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savings * 365 days in year / days in study = Expected Sa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FA1E1-B876-41F7-8692-505D0017D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6B9D-724E-41DC-94EA-51E9B3462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D1DB5-4661-4301-ABA1-726DB0B4F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007D9-C8BF-4B1A-B3AD-745B3B062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C3C36-7F75-4695-8419-69A6DA7D5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459E0-16D4-4F1A-A611-939C7C3A8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55D8C-C1DF-457E-9C75-3158028F9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187AF-F334-4E8F-9F04-202888B2F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7BD09-03A6-4349-A4C8-76F87B993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EB322-3D51-4A6B-AF92-1AB379716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F84C9-B3BD-4EAE-A953-A962BD3C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9860-8039-4B9D-A718-18461833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8DB91-E553-49CF-A0E3-81142863B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F56F-C5E9-425D-AB67-24E944A32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1D18B-DD79-4B3C-A0A0-8384D16F6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74C9E-AA1C-4FCB-8B32-0A4FC0726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7D44A-D57F-443D-B879-B6BC92FD6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BBA6-5A53-4FEA-BA3C-D0F3C40A2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2B0FD-5D81-410D-AB8C-83514B32A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76676-E49C-4D70-A3D0-0F43CB9E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5731E-9A28-49A3-8AA9-9B2A61595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F0FC-1473-496A-96AD-74F316630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8894-48C2-4E78-8398-1A53F7B6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4287-945A-41C3-BF2B-8A8962897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6180120"/>
            <a:ext cx="1676520" cy="677880"/>
          </a:xfrm>
          <a:prstGeom prst="rect">
            <a:avLst/>
          </a:prstGeom>
          <a:ln w="0">
            <a:noFill/>
          </a:ln>
        </p:spPr>
      </p:pic>
      <p:sp>
        <p:nvSpPr>
          <p:cNvPr id="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3"/>
          <p:cNvSpPr>
            <a:spLocks noGrp="1"/>
          </p:cNvSpPr>
          <p:nvPr>
            <p:ph type="dt" idx="1"/>
          </p:nvPr>
        </p:nvSpPr>
        <p:spPr>
          <a:xfrm>
            <a:off x="4571640" y="638136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1676160" y="6381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3080" y="638136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52AA-9DE6-4D0D-ABA7-CC13A95DFA3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3"/>
          <a:stretch/>
        </p:blipFill>
        <p:spPr>
          <a:xfrm>
            <a:off x="0" y="6180120"/>
            <a:ext cx="1676520" cy="677880"/>
          </a:xfrm>
          <a:prstGeom prst="rect">
            <a:avLst/>
          </a:prstGeom>
          <a:ln w="0">
            <a:noFill/>
          </a:ln>
        </p:spPr>
      </p:pic>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4724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18284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FC89-3DB7-4030-8003-C7EBF7CEFFF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MMS Release 4 Market Wrap-up</a:t>
            </a:r>
            <a:endParaRPr b="0" lang="en-US" sz="4000" spc="-1" strike="noStrike">
              <a:solidFill>
                <a:srgbClr val="000000"/>
              </a:solidFill>
              <a:latin typeface="Verdana"/>
            </a:endParaRPr>
          </a:p>
        </p:txBody>
      </p:sp>
      <p:sp>
        <p:nvSpPr>
          <p:cNvPr id="9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MS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18</a:t>
            </a:r>
            <a:r>
              <a:rPr b="0" lang="en-US" sz="2800" spc="-1" strike="noStrike" baseline="30000">
                <a:solidFill>
                  <a:srgbClr val="000000"/>
                </a:solidFill>
                <a:latin typeface="Verdana"/>
              </a:rPr>
              <a:t>th</a:t>
            </a:r>
            <a:r>
              <a:rPr b="0" lang="en-US" sz="2800" spc="-1" strike="noStrike">
                <a:solidFill>
                  <a:srgbClr val="000000"/>
                </a:solidFill>
                <a:latin typeface="Verdana"/>
              </a:rPr>
              <a:t>, 2006</a:t>
            </a: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Brandon Whittle, ERCOT</a:t>
            </a:r>
          </a:p>
        </p:txBody>
      </p:sp>
      <p:sp>
        <p:nvSpPr>
          <p:cNvPr id="5" name="PlaceHolder 4"/>
          <p:cNvSpPr>
            <a:spLocks noGrp="1"/>
          </p:cNvSpPr>
          <p:nvPr>
            <p:ph type="sldNum" idx="6"/>
          </p:nvPr>
        </p:nvSpPr>
        <p:spPr/>
        <p:txBody>
          <a:bodyPr/>
          <a:p>
            <a:fld id="{BE9BC3E8-2E52-483D-8710-0F637E2F0DEE}" type="slidenum">
              <a:t>1</a:t>
            </a:fld>
          </a:p>
        </p:txBody>
      </p:sp>
      <p:sp>
        <p:nvSpPr>
          <p:cNvPr id="6" name="PlaceHolder 5"/>
          <p:cNvSpPr>
            <a:spLocks noGrp="1"/>
          </p:cNvSpPr>
          <p:nvPr>
            <p:ph type="dt" idx="4"/>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u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nal Stages of Testi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PRS Market Clearing Engine (MCE)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nd</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imultaneous Feasibility Test (SF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nuary 4</a:t>
            </a:r>
            <a:r>
              <a:rPr b="0" lang="en-US" sz="2200" spc="-1" strike="noStrike" baseline="30000">
                <a:solidFill>
                  <a:srgbClr val="000000"/>
                </a:solidFill>
                <a:latin typeface="Verdana"/>
              </a:rPr>
              <a:t>th</a:t>
            </a:r>
            <a:r>
              <a:rPr b="0" lang="en-US" sz="2200" spc="-1" strike="noStrike">
                <a:solidFill>
                  <a:srgbClr val="000000"/>
                </a:solidFill>
                <a:latin typeface="Verdana"/>
              </a:rPr>
              <a:t>, 2006 Patch Installed</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tal Functions Operational</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itional Patch Expected</a:t>
            </a:r>
            <a:endParaRPr b="0" lang="en-US" sz="22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998D0F30-6649-4F9E-B08B-3E7E1D43C741}" type="slidenum">
              <a:t>10</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rrent Activiti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ily Verification of Result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arison between OOMC and RPRS</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r each difference, an explanation</a:t>
            </a:r>
            <a:endParaRPr b="0" lang="en-US" sz="21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CPC Verification</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rrect</a:t>
            </a:r>
            <a:endParaRPr b="0" lang="en-US" sz="21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structured Testing</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 RPRS unit selection, dispatch</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erything has been as expected</a:t>
            </a:r>
            <a:endParaRPr b="0" lang="en-US" sz="21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168C52DD-89EF-45FE-96A9-4549377635FB}" type="slidenum">
              <a:t>11</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maining Challeng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twork Model Inconsistenci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mal Breaker Status (ETA 1/20/06)</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aR Modeling (ETA 2/28/06)</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FT Patch (ETA 2/15/0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bility in SF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32C20CD0-0EDC-45FF-AD3B-C06DF9400670}" type="slidenum">
              <a:t>12</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servations from Tes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OMC and RPRS Compariso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lly more efficient set of resourc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CPC Verification – All Good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of Base Load Generatio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lves local constraints by reducing before buying</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FB793D2B-B9E0-46C7-8BE1-8D1092912F85}" type="slidenum">
              <a:t>13</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mittal of Test Dat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st wait until results are accurat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ket Clearing Price for Capacity</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W Procured for each step</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915F5CC0-6CC4-4048-B805-A7C6627B23BD}" type="slidenum">
              <a:t>14</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Earlier-Than Dat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rch 15</a:t>
            </a:r>
            <a:r>
              <a:rPr b="0" lang="en-US" sz="3000" spc="-1" strike="noStrike" baseline="30000">
                <a:solidFill>
                  <a:srgbClr val="000000"/>
                </a:solidFill>
                <a:latin typeface="Verdana"/>
              </a:rPr>
              <a:t>th</a:t>
            </a:r>
            <a:r>
              <a:rPr b="0" lang="en-US" sz="3000" spc="-1" strike="noStrike">
                <a:solidFill>
                  <a:srgbClr val="000000"/>
                </a:solidFill>
                <a:latin typeface="Verdana"/>
              </a:rPr>
              <a:t>, 200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sumption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twork Model is correct</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aR Modeling solution is implemente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s are satisfactory</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1077B1DF-6D02-4540-802A-D7392565A116}" type="slidenum">
              <a:t>15</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MMS Release 4 Market Wrap-up</a:t>
            </a:r>
            <a:endParaRPr b="0" lang="en-US" sz="4000" spc="-1" strike="noStrike">
              <a:solidFill>
                <a:srgbClr val="000000"/>
              </a:solidFill>
              <a:latin typeface="Verdana"/>
            </a:endParaRPr>
          </a:p>
        </p:txBody>
      </p:sp>
      <p:sp>
        <p:nvSpPr>
          <p:cNvPr id="131" name="PlaceHolder 2"/>
          <p:cNvSpPr>
            <a:spLocks noGrp="1"/>
          </p:cNvSpPr>
          <p:nvPr>
            <p:ph type="subTitle"/>
          </p:nvPr>
        </p:nvSpPr>
        <p:spPr>
          <a:xfrm>
            <a:off x="609480" y="3580920"/>
            <a:ext cx="70106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a:t>
            </a: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Brandon Whittle, ERCOT</a:t>
            </a:r>
          </a:p>
        </p:txBody>
      </p:sp>
      <p:sp>
        <p:nvSpPr>
          <p:cNvPr id="5" name="PlaceHolder 4"/>
          <p:cNvSpPr>
            <a:spLocks noGrp="1"/>
          </p:cNvSpPr>
          <p:nvPr>
            <p:ph type="sldNum" idx="6"/>
          </p:nvPr>
        </p:nvSpPr>
        <p:spPr/>
        <p:txBody>
          <a:bodyPr/>
          <a:p>
            <a:fld id="{A631DDF9-E283-4D51-A0AB-534E99DACBE7}" type="slidenum">
              <a:t>16</a:t>
            </a:fld>
          </a:p>
        </p:txBody>
      </p:sp>
      <p:sp>
        <p:nvSpPr>
          <p:cNvPr id="6" name="PlaceHolder 5"/>
          <p:cNvSpPr>
            <a:spLocks noGrp="1"/>
          </p:cNvSpPr>
          <p:nvPr>
            <p:ph type="dt" idx="4"/>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lease 4 Market Wrap-up</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4 Market Components</a:t>
            </a:r>
            <a:endParaRPr b="0" lang="en-US" sz="2600" spc="-1" strike="noStrike">
              <a:solidFill>
                <a:srgbClr val="000000"/>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Simultaneous Selection PRR 342 </a:t>
            </a:r>
            <a:endParaRPr b="0" lang="en-US" sz="2600" spc="-1" strike="noStrike">
              <a:solidFill>
                <a:srgbClr val="000000"/>
              </a:solidFill>
              <a:latin typeface="Verdana"/>
            </a:endParaRPr>
          </a:p>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acement Reserve Service PRR 413/491</a:t>
            </a:r>
            <a:endParaRPr b="0" lang="en-US" sz="2600" spc="-1" strike="noStrike">
              <a:solidFill>
                <a:srgbClr val="000000"/>
              </a:solidFill>
              <a:latin typeface="Verdana"/>
            </a:endParaRPr>
          </a:p>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Plan improvements PRR 359</a:t>
            </a:r>
            <a:endParaRPr b="0" lang="en-US" sz="2600" spc="-1" strike="noStrike">
              <a:solidFill>
                <a:srgbClr val="000000"/>
              </a:solidFill>
              <a:latin typeface="Verdana"/>
            </a:endParaRPr>
          </a:p>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Specific Bid Limits PRR 485 </a:t>
            </a:r>
            <a:endParaRPr b="0" lang="en-US" sz="2600" spc="-1" strike="noStrike">
              <a:solidFill>
                <a:srgbClr val="000000"/>
              </a:solidFill>
              <a:latin typeface="Verdana"/>
            </a:endParaRPr>
          </a:p>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OM Enhancements PRR 422, 423 </a:t>
            </a:r>
            <a:endParaRPr b="0" lang="en-US" sz="2600" spc="-1" strike="noStrike">
              <a:solidFill>
                <a:srgbClr val="000000"/>
              </a:solidFill>
              <a:latin typeface="Verdana"/>
            </a:endParaRPr>
          </a:p>
          <a:p>
            <a:pPr marL="571680" indent="-571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ication of Ancillary Services Allo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31A24A4D-F834-4B1C-9B54-DED35C8BC558}" type="slidenum">
              <a:t>2</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MMS Release 4 Market Wrap-up</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multaneous Selection of Ancillary Servic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placement Reserve Servic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DC60ED47-F54C-440B-9F69-1AE77EDDBD3A}" type="slidenum">
              <a:t>3</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multaneous Selection of Ancillary Services</a:t>
            </a:r>
            <a:endParaRPr b="0" lang="en-US" sz="34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iginal Savings Estima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served Resul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2D1A7D8B-6EC6-4B06-8A59-7C7F0B8F736C}" type="slidenum">
              <a:t>4</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multaneous Selection of Ancillary Services</a:t>
            </a:r>
            <a:endParaRPr b="0" lang="en-US" sz="34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iginal Savings Estimat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
          <p:cNvSpPr/>
          <p:nvPr/>
        </p:nvSpPr>
        <p:spPr>
          <a:xfrm>
            <a:off x="685800" y="4724280"/>
            <a:ext cx="79246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ion Cost = Offer price multiplied by MW Clea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to Market   = MCPC multiplied by MW Clea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Savings assumes 1 year of identical results  </a:t>
            </a:r>
            <a:endParaRPr b="0" lang="en-US" sz="2000" spc="-1" strike="noStrike">
              <a:solidFill>
                <a:srgbClr val="000000"/>
              </a:solidFill>
              <a:latin typeface="Arial"/>
            </a:endParaRPr>
          </a:p>
        </p:txBody>
      </p:sp>
      <p:graphicFrame>
        <p:nvGraphicFramePr>
          <p:cNvPr id="105" name=""/>
          <p:cNvGraphicFramePr/>
          <p:nvPr/>
        </p:nvGraphicFramePr>
        <p:xfrm>
          <a:off x="685800" y="2209680"/>
          <a:ext cx="7620120" cy="2286000"/>
        </p:xfrm>
        <a:graphic>
          <a:graphicData uri="http://schemas.openxmlformats.org/drawingml/2006/table">
            <a:tbl>
              <a:tblPr/>
              <a:tblGrid>
                <a:gridCol w="2895480"/>
                <a:gridCol w="2754360"/>
                <a:gridCol w="1970280"/>
              </a:tblGrid>
              <a:tr h="762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duction Cost</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 to Market</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762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ied Savings           ~ 162.3 days</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83,719 </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8,965,858 </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761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cted Savings (1 yr)</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436,074 </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0,154,199 </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14BDBB0C-8622-4555-8BD8-18C6191CC656}" type="slidenum">
              <a:t>5</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multaneous Selection of Ancillary Services</a:t>
            </a:r>
            <a:endParaRPr b="0" lang="en-US" sz="3400" spc="-1" strike="noStrike">
              <a:solidFill>
                <a:srgbClr val="000000"/>
              </a:solidFill>
              <a:latin typeface="Verdana"/>
            </a:endParaRPr>
          </a:p>
        </p:txBody>
      </p:sp>
      <p:graphicFrame>
        <p:nvGraphicFramePr>
          <p:cNvPr id="107" name=""/>
          <p:cNvGraphicFramePr/>
          <p:nvPr/>
        </p:nvGraphicFramePr>
        <p:xfrm>
          <a:off x="533520" y="2819520"/>
          <a:ext cx="8000640" cy="2438280"/>
        </p:xfrm>
        <a:graphic>
          <a:graphicData uri="http://schemas.openxmlformats.org/drawingml/2006/table">
            <a:tbl>
              <a:tblPr/>
              <a:tblGrid>
                <a:gridCol w="1891080"/>
                <a:gridCol w="2317680"/>
                <a:gridCol w="2165040"/>
                <a:gridCol w="1626840"/>
              </a:tblGrid>
              <a:tr h="387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S</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R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SR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557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4 MCE</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87 </a:t>
                      </a:r>
                      <a:endParaRPr b="0" lang="en-US" sz="1400" spc="-1" strike="noStrike">
                        <a:solidFill>
                          <a:srgbClr val="000000"/>
                        </a:solidFill>
                        <a:latin typeface="Arial"/>
                      </a:endParaRPr>
                    </a:p>
                  </a:txBody>
                  <a:tcPr anchor="b" marL="90000" marR="90000">
                    <a:lnL w="5760">
                      <a:solidFill>
                        <a:srgbClr val="000000"/>
                      </a:solidFill>
                    </a:lnL>
                    <a:lnR w="5760">
                      <a:solidFill>
                        <a:srgbClr val="c0c0c0"/>
                      </a:solidFill>
                    </a:lnR>
                    <a:lnT w="5760">
                      <a:solidFill>
                        <a:srgbClr val="000000"/>
                      </a:solidFill>
                    </a:lnT>
                    <a:lnB w="5760">
                      <a:solidFill>
                        <a:srgbClr val="c0c0c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27 </a:t>
                      </a:r>
                      <a:endParaRPr b="0" lang="en-US" sz="14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000000"/>
                      </a:solidFill>
                    </a:lnT>
                    <a:lnB w="5760">
                      <a:solidFill>
                        <a:srgbClr val="c0c0c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6 </a:t>
                      </a:r>
                      <a:endParaRPr b="0" lang="en-US" sz="14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000000"/>
                      </a:solidFill>
                    </a:lnT>
                    <a:lnB w="5760">
                      <a:solidFill>
                        <a:srgbClr val="c0c0c0"/>
                      </a:solidFill>
                    </a:lnB>
                    <a:noFill/>
                  </a:tcPr>
                </a:tc>
              </a:tr>
              <a:tr h="673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duction</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87 </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c0c0c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39 </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22 </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000000"/>
                      </a:solidFill>
                    </a:lnB>
                    <a:noFill/>
                  </a:tcPr>
                </a:tc>
              </a:tr>
              <a:tr h="82044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12)</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5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108"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iginal Savings Estimate - MCPC</a:t>
            </a:r>
            <a:endParaRPr b="0" lang="en-US" sz="3000" spc="-1" strike="noStrike">
              <a:solidFill>
                <a:srgbClr val="000000"/>
              </a:solidFill>
              <a:latin typeface="Arial"/>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Brandon Whittle, ERCOT</a:t>
            </a:r>
          </a:p>
        </p:txBody>
      </p:sp>
      <p:sp>
        <p:nvSpPr>
          <p:cNvPr id="4" name="PlaceHolder 3"/>
          <p:cNvSpPr>
            <a:spLocks noGrp="1"/>
          </p:cNvSpPr>
          <p:nvPr>
            <p:ph type="sldNum" idx="3"/>
          </p:nvPr>
        </p:nvSpPr>
        <p:spPr/>
        <p:txBody>
          <a:bodyPr/>
          <a:p>
            <a:fld id="{28106C89-646B-4095-9EFB-C72E29C4D795}" type="slidenum">
              <a:t>6</a:t>
            </a:fld>
          </a:p>
        </p:txBody>
      </p:sp>
      <p:sp>
        <p:nvSpPr>
          <p:cNvPr id="5" name="PlaceHolder 4"/>
          <p:cNvSpPr>
            <a:spLocks noGrp="1"/>
          </p:cNvSpPr>
          <p:nvPr>
            <p:ph type="dt" idx="1"/>
          </p:nvPr>
        </p:nvSpPr>
        <p:spPr/>
        <p:txBody>
          <a:bodyPr/>
          <a:p>
            <a:r>
              <a:rPr lang="en-US"/>
              <a:t>January 18th,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multaneous Selection of Ancillary Services</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served Results</a:t>
            </a:r>
            <a:endParaRPr b="0" lang="en-US" sz="3000" spc="-1" strike="noStrike">
              <a:solidFill>
                <a:srgbClr val="000000"/>
              </a:solidFill>
              <a:latin typeface="Verdana"/>
            </a:endParaRPr>
          </a:p>
        </p:txBody>
      </p:sp>
      <p:sp>
        <p:nvSpPr>
          <p:cNvPr id="111" name=""/>
          <p:cNvSpPr/>
          <p:nvPr/>
        </p:nvSpPr>
        <p:spPr>
          <a:xfrm>
            <a:off x="685800" y="4876920"/>
            <a:ext cx="79246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ion Cost = Offer price multiplied by MW Clea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to Market   = MCPC multiplied by MW Clea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Savings assumes 1 year of identical results</a:t>
            </a:r>
            <a:endParaRPr b="0" lang="en-US" sz="2000" spc="-1" strike="noStrike">
              <a:solidFill>
                <a:srgbClr val="000000"/>
              </a:solidFill>
              <a:latin typeface="Arial"/>
            </a:endParaRPr>
          </a:p>
        </p:txBody>
      </p:sp>
      <p:graphicFrame>
        <p:nvGraphicFramePr>
          <p:cNvPr id="112" name=""/>
          <p:cNvGraphicFramePr/>
          <p:nvPr/>
        </p:nvGraphicFramePr>
        <p:xfrm>
          <a:off x="685800" y="2209680"/>
          <a:ext cx="7619760" cy="2284920"/>
        </p:xfrm>
        <a:graphic>
          <a:graphicData uri="http://schemas.openxmlformats.org/drawingml/2006/table">
            <a:tbl>
              <a:tblPr/>
              <a:tblGrid>
                <a:gridCol w="2939400"/>
                <a:gridCol w="2710080"/>
                <a:gridCol w="1970280"/>
              </a:tblGrid>
              <a:tr h="761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duction Cost</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 to Market</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761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bserved Savings         ~ 79 days</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878,232</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9,440,413</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761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cted Savings (1 yr)</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4,057,656 </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43,617,101</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9C659855-886B-4D6D-A3BB-BAA9CCBA66ED}" type="slidenum">
              <a:t>7</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multaneous Selection of Ancillary Services</a:t>
            </a:r>
            <a:endParaRPr b="0" lang="en-US" sz="3400" spc="-1" strike="noStrike">
              <a:solidFill>
                <a:srgbClr val="000000"/>
              </a:solidFill>
              <a:latin typeface="Verdana"/>
            </a:endParaRPr>
          </a:p>
        </p:txBody>
      </p:sp>
      <p:sp>
        <p:nvSpPr>
          <p:cNvPr id="114"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served Results – MCPC </a:t>
            </a:r>
            <a:endParaRPr b="0" lang="en-US" sz="3000" spc="-1" strike="noStrike">
              <a:solidFill>
                <a:srgbClr val="000000"/>
              </a:solidFill>
              <a:latin typeface="Arial"/>
            </a:endParaRPr>
          </a:p>
        </p:txBody>
      </p:sp>
      <p:graphicFrame>
        <p:nvGraphicFramePr>
          <p:cNvPr id="115" name=""/>
          <p:cNvGraphicFramePr/>
          <p:nvPr/>
        </p:nvGraphicFramePr>
        <p:xfrm>
          <a:off x="533520" y="2971800"/>
          <a:ext cx="8119800" cy="2438280"/>
        </p:xfrm>
        <a:graphic>
          <a:graphicData uri="http://schemas.openxmlformats.org/drawingml/2006/table">
            <a:tbl>
              <a:tblPr/>
              <a:tblGrid>
                <a:gridCol w="1095120"/>
                <a:gridCol w="878040"/>
                <a:gridCol w="878040"/>
                <a:gridCol w="877680"/>
                <a:gridCol w="878040"/>
                <a:gridCol w="879480"/>
                <a:gridCol w="877680"/>
                <a:gridCol w="878040"/>
                <a:gridCol w="877680"/>
              </a:tblGrid>
              <a:tr h="60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S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60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verag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9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60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ffer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Brandon Whittle, ERCOT</a:t>
            </a:r>
          </a:p>
        </p:txBody>
      </p:sp>
      <p:sp>
        <p:nvSpPr>
          <p:cNvPr id="4" name="PlaceHolder 3"/>
          <p:cNvSpPr>
            <a:spLocks noGrp="1"/>
          </p:cNvSpPr>
          <p:nvPr>
            <p:ph type="sldNum" idx="3"/>
          </p:nvPr>
        </p:nvSpPr>
        <p:spPr/>
        <p:txBody>
          <a:bodyPr/>
          <a:p>
            <a:fld id="{FABCAFA2-9E3F-41A1-9880-67703429462E}" type="slidenum">
              <a:t>8</a:t>
            </a:fld>
          </a:p>
        </p:txBody>
      </p:sp>
      <p:sp>
        <p:nvSpPr>
          <p:cNvPr id="5" name="PlaceHolder 4"/>
          <p:cNvSpPr>
            <a:spLocks noGrp="1"/>
          </p:cNvSpPr>
          <p:nvPr>
            <p:ph type="dt" idx="1"/>
          </p:nvPr>
        </p:nvSpPr>
        <p:spPr/>
        <p:txBody>
          <a:bodyPr/>
          <a:p>
            <a:r>
              <a:rPr lang="en-US"/>
              <a:t>January 18th,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placement Reserve Service</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u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rrent Activiti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maining Challeng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servations from Test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mittal of Test 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Earlier-Than Dat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Brandon Whittle, ERCOT</a:t>
            </a:r>
          </a:p>
        </p:txBody>
      </p:sp>
      <p:sp>
        <p:nvSpPr>
          <p:cNvPr id="5" name="PlaceHolder 4"/>
          <p:cNvSpPr>
            <a:spLocks noGrp="1"/>
          </p:cNvSpPr>
          <p:nvPr>
            <p:ph type="sldNum" idx="3"/>
          </p:nvPr>
        </p:nvSpPr>
        <p:spPr/>
        <p:txBody>
          <a:bodyPr/>
          <a:p>
            <a:fld id="{4B6845D2-72B1-453F-986B-CBFC2E22FBE0}" type="slidenum">
              <a:t>9</a:t>
            </a:fld>
          </a:p>
        </p:txBody>
      </p:sp>
      <p:sp>
        <p:nvSpPr>
          <p:cNvPr id="6" name="PlaceHolder 5"/>
          <p:cNvSpPr>
            <a:spLocks noGrp="1"/>
          </p:cNvSpPr>
          <p:nvPr>
            <p:ph type="dt" idx="1"/>
          </p:nvPr>
        </p:nvSpPr>
        <p:spPr/>
        <p:txBody>
          <a:bodyPr/>
          <a:p>
            <a:r>
              <a:rPr lang="en-US"/>
              <a:t>January 18th,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20:24:30Z</dcterms:created>
  <dc:creator>Brandon T. Whittle</dc:creator>
  <dc:description/>
  <dc:language>en-US</dc:language>
  <cp:lastModifiedBy>Brandon T. Whittle</cp:lastModifiedBy>
  <dcterms:modified xsi:type="dcterms:W3CDTF">2006-01-17T14:38:41Z</dcterms:modified>
  <cp:revision>37</cp:revision>
  <dc:subject/>
  <dc:title>EMMS Release 4 Update</dc:title>
</cp:coreProperties>
</file>