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548-1D79-4C76-B15D-5E935DC4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C678-0E07-4DC2-8FFE-278B9362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2E43-396D-4F05-A134-1CFDD655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4BF3-846C-45B4-B416-EEAE52A7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682E-A0E4-4D7A-A09E-95DD34B1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EADC-C80B-4311-AD1B-8A2A3869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3FF7-5533-4FEE-9955-9CCF8CFE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4A99-F4B1-4447-A21B-2DE79780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2BE7-16F3-4A01-A38C-87F032A5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75AA-A229-423F-A31B-B40262BA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393E-CA9E-48DA-9CDA-F810209D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9149-9E0C-437B-951E-770E2CD7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3A42-790E-4BD8-9E4D-888683423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oes ERC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, Verify and Approve RMR Cos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In response to questions that were asked during PRR 632 discuss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pared for the 01-18-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MS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tlements and Bi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FBAD-033F-4C03-BDC2-DC8B149440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tion of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1676520"/>
            <a:ext cx="8305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SE submits proposed budg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reviews proposed budget.  (Operations, Legal, S &amp; B, and consultant).  Budgets are submitted for each individual un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verifies projects are necessary and approves final budg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ved budget is used for Initial Settlement.  (Same amount each mon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ual costs submitted to ERCOT before Finals and True-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Actual and Appropriate Eligible Costs attributable to operating the RMR unit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9674-AF44-458A-AFA5-B1D7146B7F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tion of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1676520"/>
            <a:ext cx="8305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 Payments” (Standby Price) based on “Eligible Costs” in section 6.8.3.1.  (Base Cost of Operations, Outage Maintenance Cost, Non-Outage Maintenance Cost, Other Budget Items) --- submitted on monthly ba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Payments” (Fuel Costs) --- submitted on monthly basis  (for each individual uni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Actual and Appropriate Eligible Costs attributable to operating the RMR unit.  Costs that are identified as inappropriate are disallowed and not paid.  QSE can disp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8579-D8F5-4EB2-B530-75508D1A4D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Parts of the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1676520"/>
            <a:ext cx="830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SE submits costs with signed cover sheet for each month for each unit.  “These are actual costs attributable to operating this RMR uni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reviews monthly submittals.  We do not hesitate to ask for more documentation (or explanation letters) to verify co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8E2F-F19C-4CD3-A78E-9869147B0D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Con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167652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has had a consultant review budgets and actual costs submitted by RMR service providers.  Asked to identif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ssive costs or errors (including allocations from parent or related compani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iance with “eligible costs” as defined by the protoc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s or expenses that are inconsistent with other units, plants or projects which are “similar to” the reviewed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lvage value of any Capital Expendi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1E5-2076-4DEE-AEE6-71D2625DC2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3199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S / CONCER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F5D0-3CA8-438E-B3C6-7E5338EE4D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20:51:03Z</dcterms:created>
  <dc:creator>Kenneth Ragsdale</dc:creator>
  <dc:description/>
  <dc:language>en-US</dc:language>
  <cp:lastModifiedBy>KRagsdale</cp:lastModifiedBy>
  <dcterms:modified xsi:type="dcterms:W3CDTF">2006-01-16T15:14:56Z</dcterms:modified>
  <cp:revision>40</cp:revision>
  <dc:subject/>
  <dc:title>PRR 632 Questions</dc:title>
</cp:coreProperties>
</file>