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8959850" cy="6721475"/>
  <p:notesSz cx="9283700" cy="6997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7D0AFF-0A7A-4E78-8896-307015DE6F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36440" y="559440"/>
            <a:ext cx="709776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2280" y="1341000"/>
            <a:ext cx="857592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152280" y="2344320"/>
            <a:ext cx="857592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488567-3CD3-4D81-9C3A-723C7EB760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6440" y="559440"/>
            <a:ext cx="709776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52280" y="1341000"/>
            <a:ext cx="418500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46800" y="1341000"/>
            <a:ext cx="418500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52280" y="2344320"/>
            <a:ext cx="418500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546800" y="2344320"/>
            <a:ext cx="418500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F04082-5595-4543-BB11-1C6E56769D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440" y="559440"/>
            <a:ext cx="709776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2280" y="1341000"/>
            <a:ext cx="276120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052080" y="1341000"/>
            <a:ext cx="276120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951520" y="1341000"/>
            <a:ext cx="276120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152280" y="2344320"/>
            <a:ext cx="276120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052080" y="2344320"/>
            <a:ext cx="276120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5951520" y="2344320"/>
            <a:ext cx="276120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E003AF-66A8-4764-BB42-B0BABA79E3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6440" y="559440"/>
            <a:ext cx="709776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52280" y="1341000"/>
            <a:ext cx="8575920" cy="192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440" y="559440"/>
            <a:ext cx="709776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280" y="1341000"/>
            <a:ext cx="8575920" cy="192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6440" y="559440"/>
            <a:ext cx="709776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52280" y="1341000"/>
            <a:ext cx="4185000" cy="192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46800" y="1341000"/>
            <a:ext cx="4185000" cy="192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440" y="559440"/>
            <a:ext cx="709776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36440" y="559440"/>
            <a:ext cx="7097760" cy="169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6440" y="559440"/>
            <a:ext cx="709776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52280" y="1341000"/>
            <a:ext cx="418500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46800" y="1341000"/>
            <a:ext cx="4185000" cy="192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52280" y="2344320"/>
            <a:ext cx="418500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6440" y="559440"/>
            <a:ext cx="709776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152280" y="1341000"/>
            <a:ext cx="8575920" cy="192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094EE2-939D-40B0-BA4B-D40F14CA3C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36440" y="559440"/>
            <a:ext cx="709776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52280" y="1341000"/>
            <a:ext cx="4185000" cy="192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546800" y="1341000"/>
            <a:ext cx="418500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46800" y="2344320"/>
            <a:ext cx="418500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6440" y="559440"/>
            <a:ext cx="709776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52280" y="1341000"/>
            <a:ext cx="418500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46800" y="1341000"/>
            <a:ext cx="418500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52280" y="2344320"/>
            <a:ext cx="857592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6440" y="559440"/>
            <a:ext cx="709776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52280" y="1341000"/>
            <a:ext cx="857592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52280" y="2344320"/>
            <a:ext cx="857592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6440" y="559440"/>
            <a:ext cx="709776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52280" y="1341000"/>
            <a:ext cx="418500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546800" y="1341000"/>
            <a:ext cx="418500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52280" y="2344320"/>
            <a:ext cx="418500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46800" y="2344320"/>
            <a:ext cx="418500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6440" y="559440"/>
            <a:ext cx="709776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52280" y="1341000"/>
            <a:ext cx="276120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052080" y="1341000"/>
            <a:ext cx="276120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51520" y="1341000"/>
            <a:ext cx="276120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52280" y="2344320"/>
            <a:ext cx="276120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052080" y="2344320"/>
            <a:ext cx="276120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51520" y="2344320"/>
            <a:ext cx="276120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6440" y="559440"/>
            <a:ext cx="709776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280" y="1341000"/>
            <a:ext cx="8575920" cy="192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7ACEC7-7D58-484B-A3AF-BC5CE18FAE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6440" y="559440"/>
            <a:ext cx="709776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52280" y="1341000"/>
            <a:ext cx="4185000" cy="192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46800" y="1341000"/>
            <a:ext cx="4185000" cy="192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DC6B86-F79C-4F2D-BF68-11280258B6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6440" y="559440"/>
            <a:ext cx="709776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C51DBC-9992-4AEA-8333-F020993012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136440" y="559440"/>
            <a:ext cx="7097760" cy="169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AA3D05-6EB2-4A4D-9101-ED702C0E02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6440" y="559440"/>
            <a:ext cx="709776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52280" y="1341000"/>
            <a:ext cx="418500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46800" y="1341000"/>
            <a:ext cx="4185000" cy="192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52280" y="2344320"/>
            <a:ext cx="418500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A20787-DB06-4490-8CBF-F93B187A48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440" y="559440"/>
            <a:ext cx="709776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52280" y="1341000"/>
            <a:ext cx="4185000" cy="192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546800" y="1341000"/>
            <a:ext cx="418500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46800" y="2344320"/>
            <a:ext cx="418500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9CC946-0E32-46E3-B690-92E6EFF6F1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36440" y="559440"/>
            <a:ext cx="709776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2280" y="1341000"/>
            <a:ext cx="418500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46800" y="1341000"/>
            <a:ext cx="418500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2280" y="2344320"/>
            <a:ext cx="857592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CC26B5-D752-4001-82AC-95F2535D5D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8551800" y="6511680"/>
            <a:ext cx="18576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fld id="{F335548C-B877-43E2-9CCB-189DA17895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80" y="1341000"/>
            <a:ext cx="8575920" cy="192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7840" indent="-177840">
              <a:buClr>
                <a:srgbClr val="000000"/>
              </a:buClr>
              <a:buSzPct val="120000"/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65240">
              <a:buClr>
                <a:srgbClr val="00279f"/>
              </a:buClr>
              <a:buSzPct val="125000"/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114120">
              <a:buClr>
                <a:srgbClr val="006b61"/>
              </a:buClr>
              <a:buFont typeface="Arial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977760" indent="-114120">
              <a:buClr>
                <a:srgbClr val="000000"/>
              </a:buClr>
              <a:buSzPct val="89000"/>
              <a:buFont typeface="Arial"/>
              <a:buChar char="»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257480" indent="-111240">
              <a:buClr>
                <a:srgbClr val="000000"/>
              </a:buClr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257480" indent="-111240">
              <a:buClr>
                <a:srgbClr val="000000"/>
              </a:buClr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257480" indent="-111240">
              <a:buClr>
                <a:srgbClr val="000000"/>
              </a:buClr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14480" y="6521400"/>
            <a:ext cx="3224160" cy="14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© 2005 Reliant Energy Proprietary and Confidential Informa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25280" y="1055520"/>
            <a:ext cx="8602920" cy="0"/>
          </a:xfrm>
          <a:prstGeom prst="line">
            <a:avLst/>
          </a:prstGeom>
          <a:ln w="5076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5280" y="6505560"/>
            <a:ext cx="860292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25280" y="192240"/>
            <a:ext cx="860292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title"/>
          </p:nvPr>
        </p:nvSpPr>
        <p:spPr>
          <a:xfrm>
            <a:off x="136440" y="559440"/>
            <a:ext cx="709776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grpSp>
        <p:nvGrpSpPr>
          <p:cNvPr id="7" name="McK Slide Elements"/>
          <p:cNvGrpSpPr/>
          <p:nvPr/>
        </p:nvGrpSpPr>
        <p:grpSpPr>
          <a:xfrm>
            <a:off x="136440" y="1122480"/>
            <a:ext cx="8595360" cy="5371920"/>
            <a:chOff x="136440" y="1122480"/>
            <a:chExt cx="8595360" cy="5371920"/>
          </a:xfrm>
        </p:grpSpPr>
        <p:sp>
          <p:nvSpPr>
            <p:cNvPr id="8" name="McK Measure" hidden="1"/>
            <p:cNvSpPr/>
            <p:nvPr/>
          </p:nvSpPr>
          <p:spPr>
            <a:xfrm>
              <a:off x="137520" y="1122480"/>
              <a:ext cx="1433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Unit of meas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McK Footnote" hidden="1"/>
            <p:cNvSpPr/>
            <p:nvPr/>
          </p:nvSpPr>
          <p:spPr>
            <a:xfrm>
              <a:off x="136440" y="6103440"/>
              <a:ext cx="8591760" cy="39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spAutoFit/>
            </a:bodyPr>
            <a:p>
              <a:pPr marL="563400" indent="-563400">
                <a:lnSpc>
                  <a:spcPct val="100000"/>
                </a:lnSpc>
                <a:spcAft>
                  <a:spcPts val="201"/>
                </a:spcAft>
                <a:tabLst>
                  <a:tab algn="l" pos="0"/>
                  <a:tab algn="r" pos="51768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otno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63400" indent="-563400">
                <a:lnSpc>
                  <a:spcPct val="100000"/>
                </a:lnSpc>
                <a:spcAft>
                  <a:spcPts val="201"/>
                </a:spcAft>
                <a:tabLst>
                  <a:tab algn="l" pos="0"/>
                  <a:tab algn="r" pos="51768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ource: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ourc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" name="McK Legend"/>
            <p:cNvGrpSpPr/>
            <p:nvPr/>
          </p:nvGrpSpPr>
          <p:grpSpPr>
            <a:xfrm>
              <a:off x="7872480" y="1538280"/>
              <a:ext cx="859320" cy="767160"/>
              <a:chOff x="7872480" y="1538280"/>
              <a:chExt cx="859320" cy="767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7872480" y="1538280"/>
                <a:ext cx="859320" cy="182880"/>
                <a:chOff x="7872480" y="1538280"/>
                <a:chExt cx="859320" cy="182880"/>
              </a:xfrm>
            </p:grpSpPr>
            <p:sp>
              <p:nvSpPr>
                <p:cNvPr id="12" name="" hidden="1"/>
                <p:cNvSpPr/>
                <p:nvPr/>
              </p:nvSpPr>
              <p:spPr>
                <a:xfrm>
                  <a:off x="7872480" y="1560600"/>
                  <a:ext cx="284040" cy="13968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b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McK Footnote" hidden="1"/>
                <p:cNvSpPr/>
                <p:nvPr/>
              </p:nvSpPr>
              <p:spPr>
                <a:xfrm>
                  <a:off x="8219160" y="1538280"/>
                  <a:ext cx="5126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804960"/>
                      <a:tab algn="l" pos="1609560"/>
                      <a:tab algn="l" pos="2414520"/>
                      <a:tab algn="l" pos="3219480"/>
                      <a:tab algn="l" pos="4024440"/>
                      <a:tab algn="l" pos="4829040"/>
                      <a:tab algn="l" pos="5634000"/>
                      <a:tab algn="l" pos="6438960"/>
                      <a:tab algn="l" pos="7243920"/>
                      <a:tab algn="l" pos="8048520"/>
                      <a:tab algn="l" pos="8853480"/>
                      <a:tab algn="l" pos="9658440"/>
                      <a:tab algn="l" pos="1046304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Legend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7872480" y="1731960"/>
                <a:ext cx="859320" cy="182880"/>
                <a:chOff x="7872480" y="1731960"/>
                <a:chExt cx="859320" cy="182880"/>
              </a:xfrm>
            </p:grpSpPr>
            <p:sp>
              <p:nvSpPr>
                <p:cNvPr id="15" name="" hidden="1"/>
                <p:cNvSpPr/>
                <p:nvPr/>
              </p:nvSpPr>
              <p:spPr>
                <a:xfrm>
                  <a:off x="7872480" y="1754280"/>
                  <a:ext cx="284040" cy="139680"/>
                </a:xfrm>
                <a:prstGeom prst="rect">
                  <a:avLst/>
                </a:prstGeom>
                <a:solidFill>
                  <a:srgbClr val="474747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b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McK Footnote" hidden="1"/>
                <p:cNvSpPr/>
                <p:nvPr/>
              </p:nvSpPr>
              <p:spPr>
                <a:xfrm>
                  <a:off x="8219160" y="1731960"/>
                  <a:ext cx="5126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804960"/>
                      <a:tab algn="l" pos="1609560"/>
                      <a:tab algn="l" pos="2414520"/>
                      <a:tab algn="l" pos="3219480"/>
                      <a:tab algn="l" pos="4024440"/>
                      <a:tab algn="l" pos="4829040"/>
                      <a:tab algn="l" pos="5634000"/>
                      <a:tab algn="l" pos="6438960"/>
                      <a:tab algn="l" pos="7243920"/>
                      <a:tab algn="l" pos="8048520"/>
                      <a:tab algn="l" pos="8853480"/>
                      <a:tab algn="l" pos="9658440"/>
                      <a:tab algn="l" pos="1046304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Legend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" name=""/>
              <p:cNvGrpSpPr/>
              <p:nvPr/>
            </p:nvGrpSpPr>
            <p:grpSpPr>
              <a:xfrm>
                <a:off x="7872480" y="1927440"/>
                <a:ext cx="859320" cy="182880"/>
                <a:chOff x="7872480" y="1927440"/>
                <a:chExt cx="859320" cy="182880"/>
              </a:xfrm>
            </p:grpSpPr>
            <p:sp>
              <p:nvSpPr>
                <p:cNvPr id="18" name="" hidden="1"/>
                <p:cNvSpPr/>
                <p:nvPr/>
              </p:nvSpPr>
              <p:spPr>
                <a:xfrm>
                  <a:off x="7872480" y="1949400"/>
                  <a:ext cx="284040" cy="140040"/>
                </a:xfrm>
                <a:prstGeom prst="rect">
                  <a:avLst/>
                </a:prstGeom>
                <a:solidFill>
                  <a:srgbClr val="676767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b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McK Footnote" hidden="1"/>
                <p:cNvSpPr/>
                <p:nvPr/>
              </p:nvSpPr>
              <p:spPr>
                <a:xfrm>
                  <a:off x="8219160" y="1927440"/>
                  <a:ext cx="5126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804960"/>
                      <a:tab algn="l" pos="1609560"/>
                      <a:tab algn="l" pos="2414520"/>
                      <a:tab algn="l" pos="3219480"/>
                      <a:tab algn="l" pos="4024440"/>
                      <a:tab algn="l" pos="4829040"/>
                      <a:tab algn="l" pos="5634000"/>
                      <a:tab algn="l" pos="6438960"/>
                      <a:tab algn="l" pos="7243920"/>
                      <a:tab algn="l" pos="8048520"/>
                      <a:tab algn="l" pos="8853480"/>
                      <a:tab algn="l" pos="9658440"/>
                      <a:tab algn="l" pos="1046304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Legend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" name=""/>
              <p:cNvGrpSpPr/>
              <p:nvPr/>
            </p:nvGrpSpPr>
            <p:grpSpPr>
              <a:xfrm>
                <a:off x="7872480" y="2122560"/>
                <a:ext cx="859320" cy="182880"/>
                <a:chOff x="7872480" y="2122560"/>
                <a:chExt cx="859320" cy="182880"/>
              </a:xfrm>
            </p:grpSpPr>
            <p:sp>
              <p:nvSpPr>
                <p:cNvPr id="21" name="" hidden="1"/>
                <p:cNvSpPr/>
                <p:nvPr/>
              </p:nvSpPr>
              <p:spPr>
                <a:xfrm>
                  <a:off x="7872480" y="2144880"/>
                  <a:ext cx="284040" cy="139680"/>
                </a:xfrm>
                <a:prstGeom prst="rect">
                  <a:avLst/>
                </a:prstGeom>
                <a:solidFill>
                  <a:srgbClr val="dadada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b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McK Footnote" hidden="1"/>
                <p:cNvSpPr/>
                <p:nvPr/>
              </p:nvSpPr>
              <p:spPr>
                <a:xfrm>
                  <a:off x="8219160" y="2122560"/>
                  <a:ext cx="5126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804960"/>
                      <a:tab algn="l" pos="1609560"/>
                      <a:tab algn="l" pos="2414520"/>
                      <a:tab algn="l" pos="3219480"/>
                      <a:tab algn="l" pos="4024440"/>
                      <a:tab algn="l" pos="4829040"/>
                      <a:tab algn="l" pos="5634000"/>
                      <a:tab algn="l" pos="6438960"/>
                      <a:tab algn="l" pos="7243920"/>
                      <a:tab algn="l" pos="8048520"/>
                      <a:tab algn="l" pos="8853480"/>
                      <a:tab algn="l" pos="9658440"/>
                      <a:tab algn="l" pos="1046304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Legend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3" name="McK Sticker"/>
            <p:cNvGrpSpPr/>
            <p:nvPr/>
          </p:nvGrpSpPr>
          <p:grpSpPr>
            <a:xfrm>
              <a:off x="7289280" y="1166400"/>
              <a:ext cx="1434960" cy="221400"/>
              <a:chOff x="7289280" y="1166400"/>
              <a:chExt cx="1434960" cy="221400"/>
            </a:xfrm>
          </p:grpSpPr>
          <p:sp>
            <p:nvSpPr>
              <p:cNvPr id="24" name="McK Sticker" hidden="1"/>
              <p:cNvSpPr/>
              <p:nvPr/>
            </p:nvSpPr>
            <p:spPr>
              <a:xfrm>
                <a:off x="7289280" y="1166760"/>
                <a:ext cx="1434960" cy="219600"/>
              </a:xfrm>
              <a:prstGeom prst="leftRightArrow">
                <a:avLst>
                  <a:gd name="adj1" fmla="val 100000"/>
                  <a:gd name="adj2" fmla="val 0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18360" bIns="1836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812880"/>
                    <a:tab algn="l" pos="1625760"/>
                    <a:tab algn="l" pos="2438280"/>
                    <a:tab algn="l" pos="3251160"/>
                    <a:tab algn="l" pos="4064040"/>
                    <a:tab algn="l" pos="4876920"/>
                    <a:tab algn="l" pos="5689440"/>
                    <a:tab algn="l" pos="6502320"/>
                    <a:tab algn="l" pos="7315200"/>
                    <a:tab algn="l" pos="8128080"/>
                    <a:tab algn="l" pos="8940960"/>
                    <a:tab algn="l" pos="9753480"/>
                    <a:tab algn="l" pos="1056636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Arial"/>
                  </a:rPr>
                  <a:t>STICKER (ALL CAP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25" name=""/>
              <p:cNvCxnSpPr/>
              <p:nvPr/>
            </p:nvCxnSpPr>
            <p:spPr>
              <a:xfrm>
                <a:off x="7291080" y="1166400"/>
                <a:ext cx="1430640" cy="108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</a:ln>
            </p:spPr>
          </p:cxnSp>
          <p:cxnSp>
            <p:nvCxnSpPr>
              <p:cNvPr id="26" name=""/>
              <p:cNvCxnSpPr/>
              <p:nvPr/>
            </p:nvCxnSpPr>
            <p:spPr>
              <a:xfrm>
                <a:off x="7291080" y="1387080"/>
                <a:ext cx="1430640" cy="108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</a:ln>
            </p:spPr>
          </p:cxn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50960" y="2884320"/>
            <a:ext cx="5732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35000" y="6512040"/>
            <a:ext cx="3224160" cy="14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© 2002 Reliant Energy Proprietary and Confidential Informa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146160" y="1647720"/>
            <a:ext cx="8668800" cy="3054240"/>
            <a:chOff x="146160" y="1647720"/>
            <a:chExt cx="8668800" cy="3054240"/>
          </a:xfrm>
        </p:grpSpPr>
        <p:sp>
          <p:nvSpPr>
            <p:cNvPr id="66" name=""/>
            <p:cNvSpPr/>
            <p:nvPr/>
          </p:nvSpPr>
          <p:spPr>
            <a:xfrm>
              <a:off x="146160" y="4701960"/>
              <a:ext cx="8668800" cy="0"/>
            </a:xfrm>
            <a:prstGeom prst="line">
              <a:avLst/>
            </a:prstGeom>
            <a:ln w="507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46160" y="1647720"/>
              <a:ext cx="8668800" cy="0"/>
            </a:xfrm>
            <a:prstGeom prst="line">
              <a:avLst/>
            </a:prstGeom>
            <a:ln w="507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8" name="" descr=""/>
          <p:cNvPicPr/>
          <p:nvPr/>
        </p:nvPicPr>
        <p:blipFill>
          <a:blip r:embed="rId2"/>
          <a:srcRect l="7982" t="13752" r="8104" b="13440"/>
          <a:stretch/>
        </p:blipFill>
        <p:spPr>
          <a:xfrm>
            <a:off x="114480" y="1878120"/>
            <a:ext cx="2170080" cy="1109520"/>
          </a:xfrm>
          <a:prstGeom prst="rect">
            <a:avLst/>
          </a:prstGeom>
          <a:ln w="0">
            <a:noFill/>
          </a:ln>
        </p:spPr>
      </p:pic>
      <p:grpSp>
        <p:nvGrpSpPr>
          <p:cNvPr id="69" name="McK Title Elements"/>
          <p:cNvGrpSpPr/>
          <p:nvPr/>
        </p:nvGrpSpPr>
        <p:grpSpPr>
          <a:xfrm>
            <a:off x="7754760" y="1023840"/>
            <a:ext cx="1117800" cy="4138920"/>
            <a:chOff x="7754760" y="1023840"/>
            <a:chExt cx="1117800" cy="4138920"/>
          </a:xfrm>
        </p:grpSpPr>
        <p:sp>
          <p:nvSpPr>
            <p:cNvPr id="70" name="McK Sticker" hidden="1"/>
            <p:cNvSpPr/>
            <p:nvPr/>
          </p:nvSpPr>
          <p:spPr>
            <a:xfrm>
              <a:off x="7754760" y="1023840"/>
              <a:ext cx="11178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TICK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McK Date" hidden="1"/>
            <p:cNvSpPr/>
            <p:nvPr/>
          </p:nvSpPr>
          <p:spPr>
            <a:xfrm>
              <a:off x="8488440" y="4979880"/>
              <a:ext cx="331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447840" y="1572480"/>
            <a:ext cx="8064000" cy="389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7840" indent="-177840">
              <a:buClr>
                <a:srgbClr val="000000"/>
              </a:buClr>
              <a:buSzPct val="120000"/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440" indent="0"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46160" indent="425520" algn="ctr">
              <a:buClr>
                <a:srgbClr val="006b61"/>
              </a:buClr>
              <a:buFont typeface="Arial"/>
              <a:buChar char="–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297000" indent="566640" algn="ctr">
              <a:buClr>
                <a:srgbClr val="000000"/>
              </a:buClr>
              <a:buSzPct val="89000"/>
              <a:buFont typeface="Arial"/>
              <a:buChar char="»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433440" indent="712800" algn="ctr">
              <a:buClr>
                <a:srgbClr val="000000"/>
              </a:buClr>
              <a:buFont typeface="Arial"/>
              <a:buChar char="•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433440" indent="7128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433440" indent="7128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" name=""/>
          <p:cNvGrpSpPr/>
          <p:nvPr/>
        </p:nvGrpSpPr>
        <p:grpSpPr>
          <a:xfrm>
            <a:off x="230040" y="1701720"/>
            <a:ext cx="8496360" cy="2994120"/>
            <a:chOff x="230040" y="1701720"/>
            <a:chExt cx="8496360" cy="2994120"/>
          </a:xfrm>
        </p:grpSpPr>
        <p:sp>
          <p:nvSpPr>
            <p:cNvPr id="110" name=""/>
            <p:cNvSpPr/>
            <p:nvPr/>
          </p:nvSpPr>
          <p:spPr>
            <a:xfrm>
              <a:off x="230040" y="4695840"/>
              <a:ext cx="8496360" cy="0"/>
            </a:xfrm>
            <a:prstGeom prst="line">
              <a:avLst/>
            </a:prstGeom>
            <a:ln w="507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30040" y="1701720"/>
              <a:ext cx="8496360" cy="0"/>
            </a:xfrm>
            <a:prstGeom prst="line">
              <a:avLst/>
            </a:prstGeom>
            <a:ln w="507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560" y="2453760"/>
            <a:ext cx="7848360" cy="97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spcBef>
                <a:spcPts val="40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MS LaaR Bidding Update</a:t>
            </a:r>
            <a:br>
              <a:rPr sz="3200"/>
            </a:b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715080" y="4216320"/>
            <a:ext cx="20066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anuary 18, 200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6440" y="559440"/>
            <a:ext cx="709776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ecent LaaR Bidding Behavior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5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spcBef>
                <a:spcPts val="876"/>
              </a:spcBef>
              <a:spcAft>
                <a:spcPts val="876"/>
              </a:spcAft>
              <a:buClr>
                <a:srgbClr val="000000"/>
              </a:buClr>
              <a:buSzPct val="120000"/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rrent limit for LaaR provided RRS in ERCOT 50% or 1,150 MW per hour (ERCOT nominates percentage limit monthl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876"/>
              </a:spcBef>
              <a:spcAft>
                <a:spcPts val="876"/>
              </a:spcAft>
              <a:buClr>
                <a:srgbClr val="000000"/>
              </a:buClr>
              <a:buSzPct val="120000"/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s can self arrange 50% of their Responsive Reserve obligations with LaaR Respons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876"/>
              </a:spcBef>
              <a:spcAft>
                <a:spcPts val="876"/>
              </a:spcAft>
              <a:buClr>
                <a:srgbClr val="000000"/>
              </a:buClr>
              <a:buSzPct val="120000"/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aRs that are not self arranged can participate in the Daily ERCOT a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876"/>
              </a:spcBef>
              <a:spcAft>
                <a:spcPts val="876"/>
              </a:spcAft>
              <a:buClr>
                <a:srgbClr val="000000"/>
              </a:buClr>
              <a:buSzPct val="120000"/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aRs are selected by bid price; to be selected they are required to bid aggressiv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5ABFB3-5E82-4B54-897A-3F4BFA389B5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6440" y="559440"/>
            <a:ext cx="709776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pecial Task Force Formed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7848360" cy="46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876"/>
              </a:spcBef>
              <a:spcAft>
                <a:spcPts val="876"/>
              </a:spcAft>
              <a:buClr>
                <a:srgbClr val="000000"/>
              </a:buClr>
              <a:buSzPct val="120000"/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pecial Task Force was assembled to evaluate and propose long term sol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spcAft>
                <a:spcPts val="876"/>
              </a:spcAft>
              <a:buClr>
                <a:srgbClr val="000000"/>
              </a:buClr>
              <a:buSzPct val="120000"/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am consists of a range of market participants includ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2440" indent="-165240">
              <a:spcBef>
                <a:spcPts val="374"/>
              </a:spcBef>
              <a:spcAft>
                <a:spcPts val="374"/>
              </a:spcAft>
              <a:buClr>
                <a:srgbClr val="00279f"/>
              </a:buClr>
              <a:buSzPct val="125000"/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Anne Brelinsky – Reli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22440" indent="-165240">
              <a:spcBef>
                <a:spcPts val="374"/>
              </a:spcBef>
              <a:spcAft>
                <a:spcPts val="374"/>
              </a:spcAft>
              <a:buClr>
                <a:srgbClr val="00279f"/>
              </a:buClr>
              <a:buSzPct val="125000"/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ith Emery – Tenask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22440" indent="-165240">
              <a:spcBef>
                <a:spcPts val="374"/>
              </a:spcBef>
              <a:spcAft>
                <a:spcPts val="374"/>
              </a:spcAft>
              <a:buClr>
                <a:srgbClr val="00279f"/>
              </a:buClr>
              <a:buSzPct val="125000"/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yton Greer – Constel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22440" indent="-165240">
              <a:spcBef>
                <a:spcPts val="374"/>
              </a:spcBef>
              <a:spcAft>
                <a:spcPts val="374"/>
              </a:spcAft>
              <a:buClr>
                <a:srgbClr val="00279f"/>
              </a:buClr>
              <a:buSzPct val="125000"/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ndy Jones – Calpin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22440" indent="-165240">
              <a:spcBef>
                <a:spcPts val="374"/>
              </a:spcBef>
              <a:spcAft>
                <a:spcPts val="374"/>
              </a:spcAft>
              <a:buClr>
                <a:srgbClr val="00279f"/>
              </a:buClr>
              <a:buSzPct val="125000"/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ve Krein – ERC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22440" indent="-165240">
              <a:spcBef>
                <a:spcPts val="374"/>
              </a:spcBef>
              <a:spcAft>
                <a:spcPts val="374"/>
              </a:spcAft>
              <a:buClr>
                <a:srgbClr val="00279f"/>
              </a:buClr>
              <a:buSzPct val="125000"/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Lightbourn – TX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spcAft>
                <a:spcPts val="876"/>
              </a:spcAft>
              <a:buClr>
                <a:srgbClr val="000000"/>
              </a:buClr>
              <a:buSzPct val="120000"/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sk Force met Monday and identified eight potential long term sol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09200" y="3192480"/>
            <a:ext cx="3449520" cy="17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t">
            <a:spAutoFit/>
          </a:bodyPr>
          <a:p>
            <a:pPr lvl="1" marL="571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k Patterson – ERC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lcolm Smith – Energy Data Sour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nda Stephenson– TX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Walker – Exx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ott Wardle – Oxy Che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27972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49D450-B832-47C4-BD1C-F6B5231F12A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36440" y="559440"/>
            <a:ext cx="7097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Long Term Solutions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04920" y="1219320"/>
            <a:ext cx="8138880" cy="537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am reviewed eight potential long term solu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SzPct val="120000"/>
              <a:buFont typeface="Arial"/>
              <a:buAutoNum type="arabicPeriod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vise settlement process and how defaults are process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SzPct val="120000"/>
              <a:buFont typeface="Arial"/>
              <a:buAutoNum type="arabicPeriod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vise credit provisions to require protection prior to bidding and create ability to monitor real ti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SzPct val="120000"/>
              <a:buFont typeface="Arial"/>
              <a:buAutoNum type="arabicPeriod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hift credit risk to Resources rather than QS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SzPct val="120000"/>
              <a:buFont typeface="Arial"/>
              <a:buAutoNum type="arabicPeriod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reate two separate markets, one for LaaRs and one for G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SzPct val="120000"/>
              <a:buFont typeface="Arial"/>
              <a:buAutoNum type="arabicPeriod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intain a single market clearing engine, but with separate clearing prices for LaaR and Ge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SzPct val="120000"/>
              <a:buFont typeface="Arial"/>
              <a:buAutoNum type="arabicPeriod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odify current award mechanism for LaaRs; LaaRs offered at a price below MCPC are award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SzPct val="120000"/>
              <a:buFont typeface="Arial"/>
              <a:buAutoNum type="arabicPeriod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Eliminate sunset date on short term solution and modify system to reject bids below -$1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SzPct val="120000"/>
              <a:buFont typeface="Arial"/>
              <a:buAutoNum type="arabicPeriod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odify current short term solution to not allow negative bids to be submitted for R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00"/>
              </a:buClr>
              <a:buSzPct val="120000"/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eam will be meeting again on January 26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t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30492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279f"/>
              </a:buClr>
              <a:buSzPct val="125000"/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AB7E16-B859-4788-9622-75CF78CEB5F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0T19:25:53Z</dcterms:created>
  <dc:creator>Scott Tevingtonれ๔֞㢠〿_x0002_</dc:creator>
  <dc:description>US version</dc:description>
  <cp:keywords>V5</cp:keywords>
  <dc:language>en-US</dc:language>
  <cp:lastModifiedBy>Mary Anne</cp:lastModifiedBy>
  <cp:lastPrinted>2001-06-21T19:06:21Z</cp:lastPrinted>
  <dcterms:modified xsi:type="dcterms:W3CDTF">2006-01-18T15:23:50Z</dcterms:modified>
  <cp:revision>476</cp:revision>
  <dc:subject/>
  <dc:title>Title (Initial Cap All)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ocID">
    <vt:lpwstr>10627 HLP089.PPT</vt:lpwstr>
  </property>
  <property fmtid="{D5CDD505-2E9C-101B-9397-08002B2CF9AE}" pid="3" name="DocIDPosition">
    <vt:r8>0</vt:r8>
  </property>
  <property fmtid="{D5CDD505-2E9C-101B-9397-08002B2CF9AE}" pid="4" name="DocIDinSlide">
    <vt:bool>1</vt:bool>
  </property>
  <property fmtid="{D5CDD505-2E9C-101B-9397-08002B2CF9AE}" pid="5" name="DocIDinTitle">
    <vt:bool>1</vt:bool>
  </property>
  <property fmtid="{D5CDD505-2E9C-101B-9397-08002B2CF9AE}" pid="6" name="McKPaperSize">
    <vt:lpwstr>US</vt:lpwstr>
  </property>
  <property fmtid="{D5CDD505-2E9C-101B-9397-08002B2CF9AE}" pid="7" name="NotesPageLayout">
    <vt:lpwstr>Lower</vt:lpwstr>
  </property>
  <property fmtid="{D5CDD505-2E9C-101B-9397-08002B2CF9AE}" pid="8" name="Universal Objects">
    <vt:bool>1</vt:bool>
  </property>
</Properties>
</file>