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3EE-A3E8-484F-880A-2E9DBF01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0E9-EB55-4E92-B9BA-4C8C9882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83E-3315-466A-83F5-C488DDDF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42E-4CEE-4313-AD52-7D70DE7E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7FDD-8496-4E43-ADD9-EFA1D934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2232-10EA-47B6-8EB1-49938332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7D7C-3025-4B76-B142-FB0390AF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710F-276B-4043-B988-8C9A5CB7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ED8-7F07-4859-9EF5-2BE2EBD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4B2-BB7A-49E4-82EB-9DEA543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C45D-28E9-4CDC-97E1-EA64E43A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568-4EFA-4C58-AFF2-66F6710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ACB-DFE2-4376-AEE1-7C7CF94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35FB-5358-4E61-8234-4ED198B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7FCD-3102-4900-AC36-DD653802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06A7-069A-44CD-A3C4-B72BEBFB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2C7-403F-4E4A-8EF4-9617FC2F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0BE-8FC1-47AC-8F19-2CFD32A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7DD-D719-44AC-9DA4-AE5DF729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CFB-4219-4968-99DC-F70A6E80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4FB-CC95-4A1C-BF88-ED7003C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C85-A753-4CE8-9175-F66630C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889-F2D9-4CD3-ADF9-2470446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F29-BDEE-4ED1-BCD2-48BEDF4F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6E7A-FE15-4634-90A6-3309D14D1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A53-8842-4BFA-8D8E-BB5323343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anuary 12,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14EE-904B-40F3-B1BA-3CECBD0A14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9 – Notification of Repairs to EPS Facilities Under Emergenc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35D-7431-47DE-B123-50E9D0E075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46 – Establish a Floor for Responsive Reserve Service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280" y="1143000"/>
          <a:ext cx="8839440" cy="49705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, ISO, CW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that until 1/1/07, all bids to provide Responsive Reserve must be equal to or greater than –$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s large negative bids reduces credit exposure or liability in ER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ved as amended by PRS with 2 abstentions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y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B0A-A442-4F7C-9570-F0817998A0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43 – Shorten Payment Default Timelines --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R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35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F6B-5DC4-4198-BCC8-5B463CBCAA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543 – Schedules &amp; Emergency Assistance Over CFE-ERCOT DC 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27 – RMR Transmission Issues &amp; RMR Contract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38 – Change Settlement Invoice Due Date from 16 Calendar Days to 5 Bank Business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39 – Notification of Repairs to EPS Meter Facilities Under Emergenc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646 – Establish a Floor for Responsive Reserve Service Bids -- UR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A38-3762-4339-9916-2F48FCDF26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Amendment to System Project Prioritization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9327-E14F-47DB-8497-543948147A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006 System Change Prioritiza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categorization of system projects based on review of 2005 Prioritiz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w criteria would be used to review existing and future system priorit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22D-813E-475D-816B-813E226E4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006 System Change Prioritiza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ity Desig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1 – Projects required by statute, PUCT Order, NERC Compliance or critical reliability of grid operations, IT infrastructure or commercial sett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2 – High value for a majority of market segments or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3 – High value for one or two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4 -- Medium value for a majority of market segments or ERC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5 – Medium value for only one 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9 – Parking lot for non-prioritized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D08-EB3C-4C41-8823-BB498FCAA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2006 System Change Prioritizat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mportant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istent application by all parties is cri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itical – operational necessity that must be addressed immedia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igh Value – operational requirement that if left unaddressed will become cri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dium Value – important to improve service or efficiency of operations of the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ffective project prioritization is a combination of the following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hange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BA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2CE-9420-4572-B0DA-4A24FCCBBE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CE6-E2D9-45F7-A7A2-503D173B4F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P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System Changes – IA/C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Non-System Changes – IA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oritiz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C93-C665-44D8-8C7D-FE46F0851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543 – Schedules &amp; Emergency Assistance Over CFE-ERCOT DC 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280" y="1143000"/>
          <a:ext cx="8839440" cy="455616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RCO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es the use of Back-to-Back ties and BLTs with CFE during emergency cond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r reliability in emergency cond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approval unanimously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824-9D84-44B1-85E9-217369D93D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543 – Schedules &amp; Emergency Assistance Over CFE-ERCOT DC 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6800" y="5334120"/>
            <a:ext cx="33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k exists when energy flows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FE from ERC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65720" y="4267080"/>
            <a:ext cx="340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act required prior to ERC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of P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786-7A1E-42EA-AEDD-8E721CBBB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7 – RMR Transmission Issues &amp; RMR Contrac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52280" y="1143000"/>
          <a:ext cx="8839440" cy="564516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, IO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blishes TDSP reporting requirements regarding RMR exit strategy implementation; codifies ERCOT ability to extend RMR/MRA contract if exit strategy delay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nsparency regarding RMR/MRA exit strategy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nsparency regarding RMR/MRA exit strategy implementation (Change from Recommendation Re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ed approval with 3 abstentions; all market segments were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BF4-317C-405C-B813-0092EFD67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27 – RMR Transmission Issues &amp; RMR Contrac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0476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05740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205740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666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733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267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48006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334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7480" y="21477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02280" y="2133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0800" y="20858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520" y="54100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2320" y="2743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3240" y="3276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4680" y="38098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1600" y="434340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520" y="4876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5200" y="20858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2743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276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3809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343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4876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410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3BD-35D1-49AC-9236-A07F84182A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8 – Change Settlement Invoice Due Date from 16 Calendar Days to 5 Bank Business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1676520"/>
          <a:ext cx="8839440" cy="469872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, IOU, CO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s the Settlement Invoice Due Date from sixteen (16) calendar days to five (5) Bank Business Day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te settlement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te settlement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233-0555-4203-BE69-8C5FCCBA4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8 – Change Settlement Invoice Due Date from 16 Calendar Days to 5 Bank Business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4760" y="13399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13372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13372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13372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213372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7432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2767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98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3434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8769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4100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97480" y="2224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02280" y="22096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0800" y="216216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520" y="54864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2320" y="28195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3240" y="3352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4680" y="38862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600" y="441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2520" y="4952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5200" y="21621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28195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33526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38862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44197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9528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54864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2DF-179E-4EC2-9C66-38783978D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R 639 – Notification of Repairs to EPS Facilities Under Emergency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1397160"/>
          <a:ext cx="8839440" cy="4554360"/>
        </p:xfrm>
        <a:graphic>
          <a:graphicData uri="http://schemas.openxmlformats.org/drawingml/2006/table">
            <a:tbl>
              <a:tblPr/>
              <a:tblGrid>
                <a:gridCol w="2946600"/>
                <a:gridCol w="749160"/>
                <a:gridCol w="51436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XU, IOU, MW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ws TDSP to repair EPS meter prior to notifying ERCOT in emergency situ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ws for more timely repairs of EPS meters during emergency situ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Impa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S Vo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nimously approved; all segments pre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1,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859-B9C9-4030-9D86-B7BDB06767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ERCOT</cp:lastModifiedBy>
  <dcterms:modified xsi:type="dcterms:W3CDTF">2006-01-12T13:59:17Z</dcterms:modified>
  <cp:revision>98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037D34FBCFF039438863FA30F612A76C0700162CD748CF8119438D558F0A96BDC591000001DC0C400000458CFB968BE63B4FB567197AA1D4FC9700000003354B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TentativeReviewCycleID">
    <vt:r8>1576423983</vt:r8>
  </property>
</Properties>
</file>