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9A7-8E9A-4444-AC95-19C533F8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EF9-3AE4-42A3-9087-C9197E8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BB2-2163-4AD6-AEA4-2711A068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61E-1CC9-4A82-B0FF-D1EC9BB3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03AC-1BCB-489C-A00E-287C3CDB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6C86-6939-4D95-ABD0-2155245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AEA-5FFD-4DE2-803E-BA9E2C9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153-CEAD-4165-A11A-EC82767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21FE-E155-4183-ADE6-04E443C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DBC7-190B-4DE6-8BFC-E9DFE760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0CFB-6C06-4886-9558-93677043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C3D-DE99-4CE8-9B77-6CC92FD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AA20-61D8-4468-BEFD-405AE19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D43-33A7-4DC0-BB64-AE11AAD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E17A-68B3-4515-BBF1-E90DB9EA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46FE-2229-4FA8-B1E1-6C3F6FC5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BAF3-B96C-4C07-A41B-9413D040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8F8-E3B6-4828-BB8A-78DB2B1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A51-378B-4D21-99B1-12AA4DE8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9C3-1876-433C-97A9-BF1B861D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35F-6C2D-47F5-BFE3-0DA307D8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B1F-8930-48A9-83FD-A6E94D2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F04-49C3-46E4-88E1-3DB44FE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AC0-0356-453E-BE4C-A92DF72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23EC-577C-468B-AF0B-FCE136245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2A3-87D3-4FEC-AFC7-94255C498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anuary 12,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D96-3751-460B-BCAE-2BA5B7ECC4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9 – Notification of Repairs to EPS Facilities Under Emergenc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271-A6A8-4A72-9024-370A6A3A3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6 – Establish a Floor for Responsive Reserve Service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280" y="1143000"/>
          <a:ext cx="8839440" cy="49705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, ISO, CW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that until 1/1/07, all bids to provide Responsive Reserve must be equal to or greater than –$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s large negative bids reduces credit exposure or liability in ER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as amended by PRS with 2 abstentions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1F9-9A0A-41BB-9E4F-04B67DEC39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3 – Shorten Payment Default Timelines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1D4-D309-4DDE-B6EB-3DEFE0564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543 – Schedules &amp; Emergency Assistance Over CFE-ERCOT DC 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27 – RMR Transmission Issues &amp; RMR Contract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39 – Notification of Repairs to EPS Meter Facilities Under Emergenc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46 – Establish a Floor for Responsive Reserve Service Bids -- UR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48A-F607-4640-9DE6-78539DEB47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Amendment to System Project Prioritization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6FE-B70F-484B-9272-57C326433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categorization of system projects based on review of 2005 Prioritiz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w criteria would be used to review existing and future system priorit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CF9-2537-4D17-9D16-D7FB55A0B0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y Desig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1 – Projects required by statute, PUCT Order, NERC Compliance or critical reliability of grid operations, IT infrastructure or commercial sett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2 – High value for a majority of market segments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3 – High value for one or two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4 -- Medium value for a majority of market segments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5 – Medium value for only one 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9 – Parking lot for non-prioritized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D06-8417-4025-A62F-D2AD34D89D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istent application by all parties is cri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itical – operational necessity that must be addressed immedia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igh Value – operational requirement that if left unaddressed will become cri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dium Value – important to improve service or efficiency of operations of the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ffective project prioritization is a combination of the following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hange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BA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EB4-6D1D-411E-9E7C-589AA284B5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F7D-194B-4759-A5CD-8BACBE41E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System Changes – IA/C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Non-System Changes – IA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oritiz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663-7DB0-4772-95BF-5EA5D6B04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43 – Schedules &amp; Emergency Assistance Over CFE-ERCOT DC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280" y="1143000"/>
          <a:ext cx="8839440" cy="45561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es the use of Back-to-Back ties and BLTs with CFE during emergency cond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r reliability in emergency cond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approval unanimously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DC5-273D-4CC7-BD10-09E027424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43 – Schedules &amp; Emergency Assistance Over CFE-ERCOT DC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6800" y="5334120"/>
            <a:ext cx="33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k exists when energy flows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FE from ERC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5720" y="4267080"/>
            <a:ext cx="34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act required prior to ERC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of P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415-18E8-4E55-85BB-5A8A9D4EA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7 – RMR Transmission Issues &amp; RMR Contrac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1143000"/>
          <a:ext cx="8839440" cy="56451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blishes TDSP reporting requirements regarding RMR exit strategy implementation; codifies ERCOT ability to extend RMR/MRA contract if exit strategy delay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nsparency regarding RMR/MRA exit strategy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nsparency regarding RMR/MRA exit strategy implementation (Change from Recommendation Re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approval with 3 abstentions; all market segments wer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68D-35BE-4893-BB1F-0106613912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7 – RMR Transmission Issues &amp; RMR Contrac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864-1842-4558-9A20-4C5A45380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1676520"/>
          <a:ext cx="8839440" cy="46987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, CO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the Settlement Invoice Due Date from sixteen (16) calendar days to five (5) Bank Business Day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te settlement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te settlement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E09-2B0D-4300-B012-C8E99188C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4760" y="13399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7432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2767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9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343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410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7480" y="2224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02280" y="22096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0800" y="21621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520" y="54864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320" y="28195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3240" y="3352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4680" y="38862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600" y="441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2520" y="4952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5200" y="21621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28195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3352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3886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419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952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5486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5F7-2562-4E41-B598-7F3864A52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9 – Notification of Repairs to EPS Facilities Under Emergenc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1397160"/>
          <a:ext cx="8839440" cy="45543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, M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ws TDSP to repair EPS meter prior to notifying ERCOT in emergency situ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ws for more timely repairs of EPS meters during emergency situ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763-B0A4-4E40-A3D4-0839F02EF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ERCOT</cp:lastModifiedBy>
  <dcterms:modified xsi:type="dcterms:W3CDTF">2006-01-12T13:59:17Z</dcterms:modified>
  <cp:revision>98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037D34FBCFF039438863FA30F612A76C0700162CD748CF8119438D558F0A96BDC591000001DC0C400000458CFB968BE63B4FB567197AA1D4FC9700000003354B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TentativeReviewCycleID">
    <vt:r8>1576423983</vt:r8>
  </property>
</Properties>
</file>