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CAA-1772-4A42-8CFC-92BB6809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1D9-B91B-4A91-B83F-F1018C48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B88-4E25-4F20-9665-00C5CDA0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810-08DC-48E4-8DE0-FE6F2DC5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4D4-5765-4CEF-BAC3-5016DF98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5BF5-0E60-453C-A16B-BA056D97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07FB-D7B6-45CD-98BA-0C2C8408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D30-EBFF-4313-AFDE-44335FDB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6778-7333-40B7-ABED-B2DAB953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6565-4D4C-4A81-96A4-F44B9252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5DB-C35F-49BA-881D-7164827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321-0FF2-4A9B-8970-A77710E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872F-C83D-417F-AE09-758BFA3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FF02-7E7A-4516-8467-C01E512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D104-AD37-496C-AC7E-72638A68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53B4-704E-4F53-9020-97CC8CC6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0F1-0400-4CE3-BF11-31C18C25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329-27FD-472A-87CF-EB75BF6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432-5BF4-42C4-90F9-C602E91B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17B-6635-4F7D-A7CD-441791BC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601-2EC0-47E1-B991-E7793999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D07-1927-4E3B-8961-A623B34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D70-E9F1-4808-B127-DD67A38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6DE-044E-4042-9C7D-A7B4A20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25AE-D425-45AA-A56E-7D80152C69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FE00-9C57-4508-AE79-5EE2027F50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PTF Updat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 Dogg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2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PTF Upda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TPTF Meeting was held on December 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ximately 40 att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ded to attempt back-to back 2-day meetings in the near fu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ral members expressed concern with not allowing phone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ved our Char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ewed Nodal Training Plan comments that Pamela Dautel received from TPTF members on Module Abstracts, Content Advisor Matrix and Pilot Nodal Cour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ed Draft Implementation Time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rted review of ERCOT’s clarification questions on Section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xt meetin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day, January 9 and Tuesday, January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day, January 23 and Tuesday, January 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tion Requested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PTF draft Charter started with the creation of a baseline created by copying text from the TAC approved Transition Pl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modified some wording from the Transition Pl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proved unanimously by TPT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ou have 3 copies of the chart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ackline/final ver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line version reflecting all edits to the doc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line version of “net changes” to highlight the modifications to baseline Transition Plan language in Char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est that TAC approve our Charter as submit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06:24Z</dcterms:created>
  <dc:creator>tdoggett</dc:creator>
  <dc:description/>
  <dc:language>en-US</dc:language>
  <cp:lastModifiedBy>tdoggett</cp:lastModifiedBy>
  <dcterms:modified xsi:type="dcterms:W3CDTF">2006-01-05T15:58:51Z</dcterms:modified>
  <cp:revision>40</cp:revision>
  <dc:subject/>
  <dc:title>TPTF Update for TAC</dc:title>
</cp:coreProperties>
</file>