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E1C10-929A-467D-9E03-C4EFCB14F0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6290C-6E33-4E14-AB24-E9EA8217D9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2E478-6701-4F88-AAAC-554DF5941E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D4F34-1840-4427-85D5-9C20A13A2E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828800" y="74880"/>
            <a:ext cx="594360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CB6BA-46CD-4975-9B72-C3BEB3F110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40287-D677-4D21-A10D-AD14AB8C76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557FF-A70A-415D-9663-2219EE0764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AEACD-ADCF-4C82-8939-CC373F215D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74880"/>
            <a:ext cx="594360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357AD-406B-4482-A1B6-71B2FCF7C9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E3F09-A7E3-4D5C-BAAE-62C5B3D792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3A4FC-FDD1-48FB-A32D-125B6132F6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FF368-4ADE-4BFA-A543-3025596058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solidFill>
            <a:srgbClr val="466e6c"/>
          </a:soli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229600" y="662904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86D6220E-AD81-4C7D-BD00-06BD73D07F9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71600" cy="6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solidFill>
            <a:srgbClr val="466e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solidFill>
            <a:srgbClr val="466e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1994040"/>
            <a:ext cx="579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2120" y="588960"/>
            <a:ext cx="1600200" cy="858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1960" y="1813320"/>
            <a:ext cx="61722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rage failure and its impact on ERCOT servi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20640" y="3081240"/>
            <a:ext cx="5808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line and Ev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920" y="-2520"/>
            <a:ext cx="73152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Verdana"/>
              </a:rPr>
              <a:t>Storage failure and its impact on ERCOT applications and services</a:t>
            </a:r>
            <a:endParaRPr b="0" lang="en-US" sz="2000" spc="-1" strike="noStrike">
              <a:solidFill>
                <a:srgbClr val="00808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5800" y="1050840"/>
            <a:ext cx="7543800" cy="565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7C303-6823-4DC8-AC27-CC3BA520A2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The Emerging Problem</a:t>
            </a: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784872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C06D9-E70F-4E3C-8490-51DEBA36B1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Initial System Recovery</a:t>
            </a: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7848360" cy="561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FE858-230C-475C-9987-2E713EDBE4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Recovery and Restoration</a:t>
            </a: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0247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7E295-25E1-471B-AE29-D6E4268DCF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Restoration and Certification</a:t>
            </a: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076960" cy="557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61375-EE78-4402-A10B-7DBCBAE98D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Other Items</a:t>
            </a: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-111600" y="1447920"/>
            <a:ext cx="728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Impacts of December 26 disk fail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98640" y="1981080"/>
            <a:ext cx="64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usiness Proc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2438280"/>
            <a:ext cx="8001000" cy="25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500"/>
              </a:spcAft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lesale Settlements &amp; Bill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500"/>
              </a:spcAft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 Extract Pro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500"/>
              </a:spcAft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ain Reports &amp; Extr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250"/>
              </a:spcAft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ail Process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st Case Impac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4952880"/>
            <a:ext cx="8305560" cy="14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8  Switches will miss the first available switch date in January and are schedule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for Febru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6,835  Move-Ins did not execute on proper da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itigated by “safety-net” process to keep them on the proper day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,144  Move-Outs did not execute on proper 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37320" y="2432160"/>
            <a:ext cx="1985400" cy="21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- 3 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- 2 w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- 3 d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632E9-DE27-4202-B71B-6AA0931933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4T22:11:48Z</dcterms:created>
  <dc:creator/>
  <dc:description/>
  <dc:language>en-US</dc:language>
  <cp:lastModifiedBy>ERCOT</cp:lastModifiedBy>
  <cp:lastPrinted>2000-10-23T20:56:55Z</cp:lastPrinted>
  <dcterms:modified xsi:type="dcterms:W3CDTF">2006-01-11T14:44:03Z</dcterms:modified>
  <cp:revision>602</cp:revision>
  <dc:subject/>
  <dc:title>No Slide Title</dc:title>
</cp:coreProperties>
</file>