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A2AD-37A6-4EED-AEA2-4182CD379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0724-2DA8-466A-9D14-F4A3ED33A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982F-3D45-4C89-B5E3-BC7EFC06F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0753-7482-4BC1-B0BB-5753AABE1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1A5E-5F6F-4067-8527-0316D7BA2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862D-6281-487B-AE0D-18C3D60F6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C952-4296-4CE0-A317-7AC1C6886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5A02-A579-44B9-BF3D-6645167A5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74880"/>
            <a:ext cx="59436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8B15-CAC8-4869-8B11-572587605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CEB4-B291-4452-A728-A711292C5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52F6-6387-4990-BC9B-C36CCB57E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D500-A6C9-44EF-A46B-DB5570897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466e6c"/>
          </a:soli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F169FC32-F64D-4306-BCC3-318E33F778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solidFill>
            <a:srgbClr val="466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99404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120" y="588960"/>
            <a:ext cx="1600200" cy="8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1813320"/>
            <a:ext cx="61722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 failure and its impact on ERCOT servi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8124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ine and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-2520"/>
            <a:ext cx="731520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Verdana"/>
              </a:rPr>
              <a:t>Storage failure and its impact on ERCOT applications and services</a:t>
            </a:r>
            <a:endParaRPr b="0" lang="en-US" sz="20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543800" cy="565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C047-7EAF-4F26-B281-BEE43D93DE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The Emerging Problem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84872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D281-93DA-4E5B-AD99-4C5FF7965E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Initial System Recovery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848360" cy="56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96BA-E8D3-4594-882D-0E30C4E1C6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covery and Restor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0247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31C9-281B-4B0E-9FC9-F88D9B43C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Restoration and Certification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076960" cy="55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8006-93B4-44FC-966F-B66A1AFEF1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Other Items</a:t>
            </a:r>
            <a:endParaRPr b="0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-111600" y="1447920"/>
            <a:ext cx="728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Impacts of December 26 disk fail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98640" y="1981080"/>
            <a:ext cx="64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438280"/>
            <a:ext cx="80010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Settlements &amp; Bill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xtract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Reports &amp; Ex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Proces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mpa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952880"/>
            <a:ext cx="830556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8  Switches will miss the first available switch date in January and are schedu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for 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,835  Move-Ins did not execute on proper d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itigated by “safety-net” process to keep them on the proper 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,144  Move-Outs did not execute on proper 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7320" y="2432160"/>
            <a:ext cx="198540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3 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2 w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3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BD28-FF80-47A4-820C-30CD5EF96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4T22:11:48Z</dcterms:created>
  <dc:creator/>
  <dc:description/>
  <dc:language>en-US</dc:language>
  <cp:lastModifiedBy>ERCOT</cp:lastModifiedBy>
  <cp:lastPrinted>2000-10-23T20:56:55Z</cp:lastPrinted>
  <dcterms:modified xsi:type="dcterms:W3CDTF">2006-01-11T14:44:03Z</dcterms:modified>
  <cp:revision>602</cp:revision>
  <dc:subject/>
  <dc:title>No Slide Title</dc:title>
</cp:coreProperties>
</file>