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7C329-3AF8-470A-8079-6A8F9AE50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7781-571B-4250-A9D7-4836378C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1B42B-B194-4DC1-A5A3-77B6D064E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9B079-3F31-45F2-B61F-0311B7A2C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FA04-44AD-48E8-BF3C-2B12280A8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2A8C-7B16-4A1E-B944-C4F5FB87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D3F7-EAED-45F5-9F83-9292287C2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6C72-6926-4A8A-80B8-32DB7DA9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E4F54-687E-48D2-94F5-DA52FB62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BCF45-59E2-41E2-8488-77CAC85E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2216-3C8F-4F6F-AE71-EF53C801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B7BF-CCF9-43E0-B404-70FCBFD5F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52ED-03F9-4C5A-9D05-F12C0DEC6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Arial"/>
              </a:rPr>
              <a:t>TAC</a:t>
            </a:r>
            <a:br>
              <a:rPr sz="4000"/>
            </a:br>
            <a:r>
              <a:rPr b="1" i="1" lang="en-US" sz="4000" spc="-1" strike="noStrike">
                <a:solidFill>
                  <a:srgbClr val="0000ff"/>
                </a:solidFill>
                <a:latin typeface="Arial"/>
              </a:rPr>
              <a:t>Potomac Recommendation Monthly Update</a:t>
            </a:r>
            <a:br>
              <a:rPr sz="4000"/>
            </a:br>
            <a:r>
              <a:rPr b="1" i="1" lang="en-US" sz="4000" spc="-1" strike="noStrike">
                <a:solidFill>
                  <a:srgbClr val="0000ff"/>
                </a:solidFill>
                <a:latin typeface="Arial"/>
              </a:rPr>
              <a:t>January 13, 2006</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ves L</a:t>
            </a:r>
            <a:r>
              <a:rPr b="0" lang="en-US" sz="1800" spc="-1" strike="noStrike">
                <a:solidFill>
                  <a:srgbClr val="000000"/>
                </a:solidFill>
                <a:latin typeface="Arial"/>
                <a:ea typeface="Arial"/>
              </a:rPr>
              <a:t>ópe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RCOT Market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In Summary:</a:t>
            </a:r>
            <a:endParaRPr b="0" lang="en-US" sz="3200" spc="-1" strike="noStrike">
              <a:solidFill>
                <a:srgbClr val="000000"/>
              </a:solidFill>
              <a:latin typeface="Arial"/>
            </a:endParaRPr>
          </a:p>
        </p:txBody>
      </p:sp>
      <p:sp>
        <p:nvSpPr>
          <p:cNvPr id="60"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5 and 12 delayed pending future market design.</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1, 2, 3, 4, 6, 7, 8, 9, 10, and 13 complet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11 and 14 in progres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report will be posted on the ERCOT web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a:t>
            </a:r>
            <a:endParaRPr b="0" lang="en-US" sz="2000" spc="-1" strike="noStrike">
              <a:solidFill>
                <a:srgbClr val="000000"/>
              </a:solidFill>
              <a:latin typeface="Arial"/>
            </a:endParaRPr>
          </a:p>
        </p:txBody>
      </p:sp>
      <p:graphicFrame>
        <p:nvGraphicFramePr>
          <p:cNvPr id="44" name=""/>
          <p:cNvGraphicFramePr/>
          <p:nvPr/>
        </p:nvGraphicFramePr>
        <p:xfrm>
          <a:off x="457200" y="685800"/>
          <a:ext cx="8229600" cy="5497560"/>
        </p:xfrm>
        <a:graphic>
          <a:graphicData uri="http://schemas.openxmlformats.org/drawingml/2006/table">
            <a:tbl>
              <a:tblPr/>
              <a:tblGrid>
                <a:gridCol w="3352680"/>
                <a:gridCol w="1143000"/>
                <a:gridCol w="3733920"/>
              </a:tblGrid>
              <a:tr h="45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9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Improve the process for designating zones to minimize the effects of the simplifying zonal assumption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9 (CSC and Zone Determina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7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Improve process for evaluating and revising CSC defini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W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ggested improvements have been incorporated into the current versions of PRR587 and PRR 689.</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071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odify the calculation methodology of the zonal average shift factor to exclude generation whose output is generally fixed (e.g., nuclear uni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92 (Modify Shift Factor Calculation to Exclude  Fixed Output Generator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1/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Congestion Management – Cont’d</a:t>
            </a:r>
            <a:endParaRPr b="0" lang="en-US" sz="2000" spc="-1" strike="noStrike">
              <a:solidFill>
                <a:srgbClr val="000000"/>
              </a:solidFill>
              <a:latin typeface="Arial"/>
            </a:endParaRPr>
          </a:p>
        </p:txBody>
      </p:sp>
      <p:graphicFrame>
        <p:nvGraphicFramePr>
          <p:cNvPr id="46" name=""/>
          <p:cNvGraphicFramePr/>
          <p:nvPr/>
        </p:nvGraphicFramePr>
        <p:xfrm>
          <a:off x="457200" y="1219320"/>
          <a:ext cx="8229600" cy="5432400"/>
        </p:xfrm>
        <a:graphic>
          <a:graphicData uri="http://schemas.openxmlformats.org/drawingml/2006/table">
            <a:tbl>
              <a:tblPr/>
              <a:tblGrid>
                <a:gridCol w="3276720"/>
                <a:gridCol w="1295280"/>
                <a:gridCol w="3657600"/>
              </a:tblGrid>
              <a:tr h="450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 Provide ERCOT the operational flexibility to temporarily modify the definition of a CSC associated with topology chang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7 (Intra-Year Modification of CR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6/21/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on 7/1/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2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 ERCOT should modify its multi-step balancing energy market optimization to recognize the interactions between its local congestion management and zonal balancing energy deployments to minimize the costs of both classes of deploym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on 11/15/06: To be addressed in Nodal market.  Implementation would take same time and resources as implementation of Nodal mar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Load Forecas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8" name=""/>
          <p:cNvGraphicFramePr/>
          <p:nvPr/>
        </p:nvGraphicFramePr>
        <p:xfrm>
          <a:off x="457200" y="1282680"/>
          <a:ext cx="8229600" cy="3137040"/>
        </p:xfrm>
        <a:graphic>
          <a:graphicData uri="http://schemas.openxmlformats.org/drawingml/2006/table">
            <a:tbl>
              <a:tblPr/>
              <a:tblGrid>
                <a:gridCol w="2743200"/>
                <a:gridCol w="1295280"/>
                <a:gridCol w="41911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8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 ERCOT examine its load forecasting model to determine whether there are additional factors that could be considered or other changes to their model that would improve its accuracy.</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going and on schedule.  ERCOT has completed some items relating to load forecasting.  ERCOT will continue to evaluate and make any additional changes.  No PRR required for implementation.</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endParaRPr b="0" lang="en-US" sz="2000" spc="-1" strike="noStrike">
              <a:solidFill>
                <a:srgbClr val="000000"/>
              </a:solidFill>
              <a:latin typeface="Arial"/>
            </a:endParaRPr>
          </a:p>
        </p:txBody>
      </p:sp>
      <p:graphicFrame>
        <p:nvGraphicFramePr>
          <p:cNvPr id="50" name=""/>
          <p:cNvGraphicFramePr/>
          <p:nvPr/>
        </p:nvGraphicFramePr>
        <p:xfrm>
          <a:off x="228600" y="914400"/>
          <a:ext cx="8686800" cy="5664240"/>
        </p:xfrm>
        <a:graphic>
          <a:graphicData uri="http://schemas.openxmlformats.org/drawingml/2006/table">
            <a:tbl>
              <a:tblPr/>
              <a:tblGrid>
                <a:gridCol w="3657600"/>
                <a:gridCol w="1295280"/>
                <a:gridCol w="37339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85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 Allow QSEs to submit an energy schedule for the end of the next hour that would be used by ERCOT to produce 15-minute schedule quantities by interpolating across the hour.</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ska – for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609 (Smooth 15-Minute Resource Schedule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jected by TAC on 7/21/07.</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11/15/06: ERCOT Staff concurred with TAC decision</a:t>
                      </a: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1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mplement an optional capability for QSEs to automatically adjust their hourly balancing energy offers for the changes in their 15-minute schedules.  This would help ensure that the participant’s portfolio energy offer is consistent with its energy schedules when the energy schedule is changing each interv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 through QSE PM W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0 (Align BES Bids with Resource Plan Capability and Resource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r>
                        <a:rPr b="1" lang="en-US" sz="1800" spc="-1" strike="noStrike">
                          <a:solidFill>
                            <a:srgbClr val="cc0000"/>
                          </a:solidFill>
                          <a:latin typeface="Arial"/>
                        </a:rPr>
                        <a: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9/20/05.</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ive 10/1/05.</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2" name=""/>
          <p:cNvGraphicFramePr/>
          <p:nvPr/>
        </p:nvGraphicFramePr>
        <p:xfrm>
          <a:off x="152280" y="838080"/>
          <a:ext cx="8839440" cy="4983120"/>
        </p:xfrm>
        <a:graphic>
          <a:graphicData uri="http://schemas.openxmlformats.org/drawingml/2006/table">
            <a:tbl>
              <a:tblPr/>
              <a:tblGrid>
                <a:gridCol w="3733920"/>
                <a:gridCol w="1143000"/>
                <a:gridCol w="3962520"/>
              </a:tblGrid>
              <a:tr h="370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liminating the load and generation plateau in the middle of the interval by changing the modeling approach for load and generatio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601 (15 Minute Ramping for BES and Base Power Schedule)</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pproved by BOD on 11/15/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83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 Require that QSEs submit physically feasible energy schedules.  It would be difficult to automatically validate the schedules for feasibility since they can be submitted well before the operating hour.  However, it could be monitored and enforced through ex post validation of complianc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25 (SCE Performance and Monitoring).</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BOD on 4/19/05</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artial implementation effective 5/1/05.  Full implementation 1/1/06.  Enforcement mid-2006</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4" name=""/>
          <p:cNvGraphicFramePr/>
          <p:nvPr/>
        </p:nvGraphicFramePr>
        <p:xfrm>
          <a:off x="228600" y="838080"/>
          <a:ext cx="8686800" cy="4876920"/>
        </p:xfrm>
        <a:graphic>
          <a:graphicData uri="http://schemas.openxmlformats.org/drawingml/2006/table">
            <a:tbl>
              <a:tblPr/>
              <a:tblGrid>
                <a:gridCol w="3657600"/>
                <a:gridCol w="1219320"/>
                <a:gridCol w="3809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 Implement uninstructed deviation charges that allocate a portion of the regulation costs to the QSEs exhibiting large SCEs in the periods during each hour with the largest regulation needs.  In particular, we propose specific changes to PRR 356 that has been pending for more than two year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T WM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R 586 (SCE Performance and Regulation Cost Re-Allocatio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gency Status denied.</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Backcast reviewed at 4/21/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 again discussed at 4/17/05 WMS meeting.</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S considered the PRR on 5/19/05 and 7/21/05.  PRR is remanded the PRR to ROS and WM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Recommendations Related to Balancing Energy Market</a:t>
            </a:r>
            <a:r>
              <a:rPr b="1" i="1" lang="en-US" sz="2400" spc="-1" strike="noStrike">
                <a:solidFill>
                  <a:srgbClr val="0000ff"/>
                </a:solidFill>
                <a:latin typeface="Arial"/>
              </a:rPr>
              <a:t> - Cont’d</a:t>
            </a:r>
            <a:endParaRPr b="0" lang="en-US" sz="2400" spc="-1" strike="noStrike">
              <a:solidFill>
                <a:srgbClr val="000000"/>
              </a:solidFill>
              <a:latin typeface="Arial"/>
            </a:endParaRPr>
          </a:p>
        </p:txBody>
      </p:sp>
      <p:graphicFrame>
        <p:nvGraphicFramePr>
          <p:cNvPr id="56" name=""/>
          <p:cNvGraphicFramePr/>
          <p:nvPr/>
        </p:nvGraphicFramePr>
        <p:xfrm>
          <a:off x="457200" y="1600200"/>
          <a:ext cx="8229600" cy="3886200"/>
        </p:xfrm>
        <a:graphic>
          <a:graphicData uri="http://schemas.openxmlformats.org/drawingml/2006/table">
            <a:tbl>
              <a:tblPr/>
              <a:tblGrid>
                <a:gridCol w="3465360"/>
                <a:gridCol w="1154160"/>
                <a:gridCol w="36100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1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Consider a specific modification of ERCOT’s portfolio ramp rate methodology that would recognize the changes in energy schedule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complexity and cost, the issue deferred until after the PUCT decision on the nodal market design.</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y C.</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on 11/15/06: To be addressed in Nodal market.  Implementation would take same time and resources as implementation of Nodal mark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680"/>
            <a:ext cx="8458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Recommendations Related to Balancing Energy Market</a:t>
            </a:r>
            <a:r>
              <a:rPr b="1" i="1" lang="en-US" sz="2000" spc="-1" strike="noStrike">
                <a:solidFill>
                  <a:srgbClr val="0000ff"/>
                </a:solidFill>
                <a:latin typeface="Arial"/>
              </a:rPr>
              <a:t> - Cont’d</a:t>
            </a:r>
            <a:endParaRPr b="0" lang="en-US" sz="2000" spc="-1" strike="noStrike">
              <a:solidFill>
                <a:srgbClr val="000000"/>
              </a:solidFill>
              <a:latin typeface="Arial"/>
            </a:endParaRPr>
          </a:p>
        </p:txBody>
      </p:sp>
      <p:graphicFrame>
        <p:nvGraphicFramePr>
          <p:cNvPr id="58" name=""/>
          <p:cNvGraphicFramePr/>
          <p:nvPr/>
        </p:nvGraphicFramePr>
        <p:xfrm>
          <a:off x="152280" y="762120"/>
          <a:ext cx="8839440" cy="5181480"/>
        </p:xfrm>
        <a:graphic>
          <a:graphicData uri="http://schemas.openxmlformats.org/drawingml/2006/table">
            <a:tbl>
              <a:tblPr/>
              <a:tblGrid>
                <a:gridCol w="2514600"/>
                <a:gridCol w="1219320"/>
                <a:gridCol w="51055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ns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3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 ERCOT modify the limit on the quantity of responsive reserves provided from a single unit to make it less binding on relatively small unit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4 (Responsive Reserve MW Limit).</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5/12/05, ROS voted to reject this OGRR.</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OD Report 11/15/05: ERCOT Staff concurred with ROS deci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666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 ERCOT institute procedures to monitor whether QSEs are meeting their reserve obligations in real time.</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PRR 590 (Update Unit Telemetry Requirem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GRR 165 (Update Unit Telemetry Requirements).</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 A.</a:t>
                      </a:r>
                      <a:endParaRPr b="0" lang="en-US" sz="1800" spc="-1" strike="noStrike">
                        <a:solidFill>
                          <a:srgbClr val="000000"/>
                        </a:solidFill>
                        <a:latin typeface="Arial"/>
                      </a:endParaRPr>
                    </a:p>
                    <a:p>
                      <a:pPr>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R approved by the BOD on 8/16/05</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GRR scheduled for March T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6:12:35Z</dcterms:created>
  <dc:creator>Nieves Lopez </dc:creator>
  <dc:description/>
  <dc:language>en-US</dc:language>
  <cp:lastModifiedBy>ERCOT</cp:lastModifiedBy>
  <dcterms:modified xsi:type="dcterms:W3CDTF">2006-01-11T23:15:34Z</dcterms:modified>
  <cp:revision>20</cp:revision>
  <dc:subject/>
  <dc:title>TAC Potomac Recommendation Monthly Update July 7, 2005 </dc:title>
</cp:coreProperties>
</file>