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C9C-B7FB-4DA5-92A0-B90B7AFB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FF1-EA57-4D75-902F-EC61A7F6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851-E46B-43E0-AEE8-94E87AE5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572-613F-4D4A-B5D0-14F92B6B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6550-5A21-4718-B42D-3E28E790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5D0B-0EAD-4D02-A2FD-ED9F0831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3312-ACCF-4DBF-B16B-995D66FD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2364-7C4D-4933-B5EC-64597B39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903D-11EC-4CB9-81C6-C9C2D551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EF75-BF8B-40A1-957F-0020E306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A037-02BC-404A-AA8C-D76BF8CC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DD7-F390-49EF-B42C-F3337F5C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BF9D-3F9D-491F-8104-00BA31D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B21B-A055-44C4-B103-F9FA6D80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3ACF-EEC0-472D-BBBE-862BEC10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87A8-8B99-4E7D-BB29-481DB352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D679-C4E6-4779-A143-6830F11B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784-AA70-41B3-9CD4-EFEB3F3D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F5D-DDBF-41DF-9F54-207762F6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488-6EA7-4B81-A4A3-3C62CE32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BDB-E1ED-4BAE-914A-B0CE5E60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FC9-38CE-4FDA-BB6B-2982F2F0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C61-7A9E-4EE4-B1E8-0CD7C8C4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61F-EC92-45D8-92C3-6D1168B2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BB47-6837-42C1-8857-F78A23B030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C15B-54F0-4A50-96D6-7991E18271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TPTF Updat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 Dogg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2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PTF Upda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TPTF Meeting was held on December 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proximately 40 atten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ided to attempt back-to back 2-day meetings in the near fu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ral members expressed concern with not allowing phone vo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proved our Char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ewed Nodal Training Plan comments that Pamela Dautel received from TPTF members on Module Abstracts, Content Advisor Matrix and Pilot Nodal Cour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ed Draft Implementation Time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rted review of ERCOT’s clarification questions on Section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xt meeting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day, January 9 and Tuesday, January 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day, January 23 and Tuesday, January 2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tion Requested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PTF draft Charter started with the creation of a baseline created by copying text from the TAC approved Transition Pl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modified some wording from the Transition Pl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proved unanimously by TPT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ou have 3 copies of the chart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ackline/final vers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dline version reflecting all edits to the docu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dline version of “net changes” to highlight the modifications to baseline Transition Plan language in Char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est that TAC approve our Charter as submit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06:24Z</dcterms:created>
  <dc:creator>tdoggett</dc:creator>
  <dc:description/>
  <dc:language>en-US</dc:language>
  <cp:lastModifiedBy>tdoggett</cp:lastModifiedBy>
  <dcterms:modified xsi:type="dcterms:W3CDTF">2006-01-05T15:58:51Z</dcterms:modified>
  <cp:revision>40</cp:revision>
  <dc:subject/>
  <dc:title>TPTF Update for TAC</dc:title>
</cp:coreProperties>
</file>