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071-2A3A-44B2-AEFF-B2D420F6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426-6A34-4337-B5C7-77A47347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8F6-2638-4234-9D00-7B23886B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BE4-1B0F-4E87-992F-604946DB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285-95CE-416D-9D64-856B8ED1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FFD-23B8-4703-AE68-B3C72A95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2FE-3121-4E30-889F-2FCAED5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29F-8B87-4061-B2BD-794BD154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3D0-5903-47D8-A20C-8D06072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28A-26A6-4AFD-81A1-DD3BA294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731-2B54-436E-A0A7-1E43CD4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410-FCFB-4625-8232-0C947BF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85A1-8A0B-4236-A81F-5144AAC2C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C79-09F9-4380-9F38-E495D28532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Meeting 1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Deadline 12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Kick-off Conference Call 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 1/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ins 1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B9D-0906-4C40-95C8-C32EB08592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6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New REPs – 16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New Umbrella D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in new territory – 1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Existing REP testing new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Existing REPs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54 Task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9DA-CCA2-4FBB-9126-05C4D531C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6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started 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1/10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14 of 17 days (8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of 43 Penny Test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D68-D3C1-4153-8BE7-383FA62158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gwingerd</cp:lastModifiedBy>
  <cp:lastPrinted>2002-09-24T18:27:58Z</cp:lastPrinted>
  <dcterms:modified xsi:type="dcterms:W3CDTF">2006-01-10T23:44:59Z</dcterms:modified>
  <cp:revision>376</cp:revision>
  <dc:subject/>
  <dc:title>PowerPoint Presentation</dc:title>
</cp:coreProperties>
</file>