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F896-2800-4E7F-9979-776FC5DAF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5D38-FFE2-4FE7-973A-C1045B80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D547-81BB-4C5D-8A0D-0A0CC39B2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6E7B-ACD3-4829-AB07-680317D62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A7D3-B4CA-42C5-809C-323A73FE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28F4-2CAB-437E-8E12-83BAFA3A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2B65-035F-4EA4-A587-A87FF32E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DD62-F57E-4416-8152-42AA526E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DCF3-6FD4-401F-924C-3D7B9850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ECDB-DD65-455E-8504-5DC38CF6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E0B3-0E4A-47F2-97A3-0457C786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5CC1-781E-4DFA-A855-E00C4A18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2F9E-061F-4CBD-91EA-2EC69518B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7848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Materials for RMS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ember 2005 Stats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1B50-67B6-4F9D-9DC7-2644B2FBEB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y to Day’ FasTr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1/01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05720" y="1676520"/>
            <a:ext cx="220968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32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Progress D2D Issues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9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resolved and awaiting other party resolution check of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D2D Issue ESI IDs worked to date since January 1, 2005 =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266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6400800" cy="378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2910-0CD3-4D28-BCB4-15DD338EA4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y to Day’ FasTr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1/01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516560" cy="129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28600" y="2743200"/>
            <a:ext cx="8610480" cy="350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330B-1900-4889-A45F-23902C6ADF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 FasTr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ssue Typ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1/01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410080"/>
            <a:ext cx="601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nts are of issues submitted during each month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10480" cy="193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381C-0C26-44FB-8825-4B87E4179BB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 FasTr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ssue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1/01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5562720"/>
            <a:ext cx="63244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148 In Progress DEV Issues, 43 are resolved and awaiting other party resolution check of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83944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FA1F-C77D-4235-8E2B-B244AAB4BF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V FasTra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Issue Typ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hru 1/01/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28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063E-52D0-4ADB-8E04-5F17FFCD53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 FasTr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ssue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1/01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839440" cy="541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DF55-B4F1-4BAA-B3A6-D54D22B58F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905120"/>
            <a:ext cx="8077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rterly Report to 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 2005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0831-13BF-4A05-A950-D4F5B02CE5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1430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eriodically receives 867_03 Finals and 867_04s for service orders that are Cancelled in ERCOT systems.  The Service Order Sub-Statuses that are considered Cancelled are:  CR Requested, Customer Objection, ERCOT Operating Rule, Manual, Permit Not Received, with Exception, Unexecutable and Rejected by TDSP.   This can indicate an out-of-sync condition between the TDSP and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Mechanism for Handling 867 RCS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COT produces 867RCSO data each Friday and submits a report file to each TDSP and CR via the ERCOT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TDSPs review the report line items and take one of the following a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ancell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further action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omplet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y will initiate a day-to-day FasTrak issue and work with ERCOT to get ERCOT systems changed to complete.  Completion of cancelled service orders will require the approval of the CR initiating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For Cancel by Customer Objection, the TDSP will honor the cancel in their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E0EC-7F00-4826-B020-12676F464A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83944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587C-9884-4F37-9E64-405449E9F3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52388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867 Report Summary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nthly Report to RMS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ember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F364-0D78-43D0-B115-7456DAF801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219320"/>
            <a:ext cx="8610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867 Re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867 Report will provide TDSPs information about Service Orders in a scheduled state for which ERCOT has not received an 867 completing transaction at least seven days after the scheduled meter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ekly report provided to the TDSP via the ERCOT Por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ts Summar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3144960"/>
            <a:ext cx="8534520" cy="310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2215-6590-4242-B71B-32E3F70F3E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327320"/>
            <a:ext cx="8305920" cy="492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666D-9292-4027-9772-BC851332D4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175248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rak Issue Stats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hly Report to RMS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ember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3A8B-BBFA-4778-A456-B434BCADE3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y to Day’ FasTr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01/01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038480"/>
            <a:ext cx="70102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nts are of issues submitted during each month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I = ERCOT Initiated Iss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n-ERCOT issue = Issues logged directly between the CR and TDSP with no ERCOT involvement to resolv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tegory of “All Other” does not have subtype.  Issues logged as “All Other” can include Transaction Issues, Rep of Record Issues, Service Order Changes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839440" cy="28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6153-4436-4C75-AE13-BD8F87D38DE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farley</cp:lastModifiedBy>
  <cp:lastPrinted>2002-09-24T18:27:58Z</cp:lastPrinted>
  <dcterms:modified xsi:type="dcterms:W3CDTF">2006-01-03T18:14:15Z</dcterms:modified>
  <cp:revision>621</cp:revision>
  <dc:subject/>
  <dc:title>PowerPoint Presentation</dc:title>
</cp:coreProperties>
</file>