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F38E-EA5C-4A48-8737-96652C7AE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here is to underline the massive amount of work done in a short time for this issue.  I also speak to PWG’s Kudo’s for ERCOT LP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here is to underline the massive amount of work done in a short time for this issue.  I also speak to PWG’s Kudo’s for ERCOT LP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here is to underline the massive amount of work done in a short time for this issue.  I also speak to PWG’s Kudo’s for ERCOT LP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here is to underline the massive amount of work done in a short time for this issue.  I also speak to PWG’s Kudo’s for ERCOT LP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here is to underline the massive amount of work done in a short time for this issue.  I also speak to PWG’s Kudo’s for ERCOT LP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here is to underline the massive amount of work done in a short time for this issue.  I also speak to PWG’s Kudo’s for ERCOT LP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here is to underline the massive amount of work done in a short time for this issue.  I also speak to PWG’s Kudo’s for ERCOT LP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here is to underline the massive amount of work done in a short time for this issue.  I also speak to PWG’s Kudo’s for ERCOT LP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here is to underline the massive amount of work done in a short time for this issue.  I also speak to PWG’s Kudo’s for ERCOT LP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here is to underline the massive amount of work done in a short time for this issue.  I also speak to PWG’s Kudo’s for ERCOT LP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here is to underline the massive amount of work done in a short time for this issue.  I also speak to PWG’s Kudo’s for ERCOT LP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70365-FEDB-4AC2-82EC-43753A0ECF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4283C-8D65-4BA2-9193-1C7E61FC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B7B4-49EB-45BF-B874-B6B577E3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E7F4-F6E3-4E60-A906-D9B3402179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FE058-B277-46B7-A861-D7F7256A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F19F-7F92-4C3A-97DD-4E805244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D4C4-7487-4D4A-875F-AB32EC56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1517-5096-4EBB-84B2-1DC8503D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E371-31C6-41C1-8330-48E90F57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742CE-E368-4B68-B653-62554A05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4B7D-B87D-4880-A4CF-1EB4F824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24AC-73AA-4343-BDF9-41F3B38E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66C8-B6A5-4E41-92C7-4E9E3440B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elian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M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anuary 11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6768-EE7C-4A2E-8BD8-1591B507DE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133720"/>
            <a:ext cx="807696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 Writing PRRs as required – D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us – on g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R488 Weather Responsiveness Determination Eff. 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R514 Twelve Month Window for Non-IDR Scaling Eff. 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R536 lower IDR Mandatory Installation Threshold Eff. 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R544 12-Month Window for Scaling NIDR to IDR Eff 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R565 Calculation of Losses for Settlement Eff 05 – implementation 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R566 Implementation of IDR Optional Removal Threshold Eff 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R572 Weather sensitivity classification Eff 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R617 IDR Optional Removal Eff 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d a draft of Historical Usage Requirement for Opt-In Ent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d a draft of Transmission language for IDR Optional Remov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90F7D-96AD-4A99-A20B-0B808378D0EF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2133720"/>
            <a:ext cx="807696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 LRS sample selection round two – D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us – pe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Report on sample evaluation develop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Data review with TDSPs in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12 months of data for most meters as of October 20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) Tentative Milestone Targ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3/31/0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Analysis of current profile models comple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4/30/0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Sample Point selection for round 2 comple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6/30/0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Complete profile model build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9/30/06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Stakeholder process completion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st case scenar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2/28/07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50 day notification comple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8744A-9C9C-4A0E-A363-80D5626438A1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133720"/>
            <a:ext cx="80769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 IDR Analysis – 2 issues left – D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us – pe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s LRS project data analys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Consider the impact of mandatory TOU metering and application of th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profile chunking methodology as both an alternative and a supplement t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IDR meter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Repeat the analysis when ERCOT load research data is available to mo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ccurately assess where the IDR threshold should be 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4095E-74DE-4B01-9371-F09954FD0A1F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2133720"/>
            <a:ext cx="80769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 Agreement between decision tree language and LPG – D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us – pe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LPGRR discussed and extensive draft in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9A486-BBA6-443E-9C6E-609D91924E74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828800"/>
            <a:ext cx="853416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S sample selection round tw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ing Profile Evaluation and New Profile Recommend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new profile requests – Oil &amp;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Profile ID assignment responsibil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ual Validation 2006 – make changes and comple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Possibility including new residential to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ual Validation 2007 review for any additional chan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2004 &amp; 2005 UFE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FE evalu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ture mass outage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fects of TDSP meter read estimate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Lagged Dynamic prof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R Analysis – 2 issues outstanding from original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Profiling Guides and Decision Tree upd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ing PRRs as requir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FF35-E65A-45DC-948F-44306E6A065C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133720"/>
            <a:ext cx="8076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Profile ID assignment responsibilities – J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ual Validation 2005 – make changes and complete – Dec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 2006 – review of 2005 changes per long term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(June), cut point (De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Lagged Dynamics – D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ng Load Profiling Guides current – D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new profile requests – Oil &amp; Gas, Convenience Store – D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aboration with UFE TF – D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ing PRRs as required – D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S sample selection round two – D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R Analysis – 2 issues left – D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reement between decision tree language and LPG – D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7F11-75F3-4459-B6DF-7C6678CA4FDA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133720"/>
            <a:ext cx="807696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Profile ID assignment responsibilities – J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us – pe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Two full day workshops and several conference cal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4 million dollars est. total change &amp; 1 million dollars partial chan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Oct. 14, 2005 conference call achieved consensus on option 2 (partia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Nov. 17, 2005 PWG reviewed option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) Dec. 15, 2005 PWG reached consensus on option 2 for Resident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Business Segment still under study by TDSPs for option 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63FD7-1A7D-426E-8FC6-C7F2EC249223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2133720"/>
            <a:ext cx="807696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nnual Validation 2005 – make changes and complete – Dec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us –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TDSPs and ERCOT instituted several algorithm changes per 2005 pl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Decision Tree upd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TDSPs and ERCOT completed all transa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) In August PWG debated and submitted a recommend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d) RMS/TAC/BOD suspended Residential Transactions pending ERCOT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e) ERCOT conducted a Residential Surv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f) October 29, 2005 PWG recommends the flow of residential transa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g) November 7, 2005 RMS recommends partial flow of residential transa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h) December 1, 2005 TAC approved RMS recommend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) December 15, 2005 RMS recommendation passes on remaining transactions and 99% criteria. (going to TAC in January 2006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Italics are unplan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791D8-9CEC-42EE-8351-63D3C22FC587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2133720"/>
            <a:ext cx="807696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AV 2006 – review of 2005 changes per long term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(June), cut point (De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us – pe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PWG has consensus on four changes for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December PWG to reviewed specifics on the four decision tree changes for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Two Business suggestions dropped due to very low impa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Two Residential suggestions pending market approval of c) and d) be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c) Possibility of ERCOT having partial responsibility for profile id assign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d) Possibility of new residential profile id assignment algorith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Italics are unplan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E8F06-8D24-47BE-B983-C5CA7B55F2D9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133720"/>
            <a:ext cx="80769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Evaluate Lagged Dynamics – D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us – on g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had several discussions to educate and discuss possi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6B7D-9E8A-452D-9067-29963D0114BD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2133720"/>
            <a:ext cx="807696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Bring Load Profiling Guides current – D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us – on g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LPGRR005 Remove 1000 kW references appro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LPGRR006 Retail Market Guide Reference – withdraw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LPGRR007 IDR Requirement Changes pending approval of RMGRR03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) LPGRR008 Profile ID Assignment Effective Date approved by RMS 11/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) Additional drafts being written by PWG sub-te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) Written drafts under review for LPG Sections 8, 9 and 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E46EF-0A64-4E4A-93BD-9A91DD257A5E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2133720"/>
            <a:ext cx="8076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Processing new profile requests – Oil &amp; Gas, Convenience Store – D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us – pe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Convenience Store request withdraw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Oil &amp; Gas request is in data validation phase of evaluation by ERCOT Sta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2D74E-2EE0-4750-ABA0-8A43F8E02F5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2133720"/>
            <a:ext cx="807696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Collaboration with UFE TF – D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us – ong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3 UFE report by ERCOT staff issu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4 UFE report pending ERCOT resource allo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COPS has suggested PWG evaluate affects of Hurricane R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COPS has suggested PWG evaluate TDSP meter estimation proces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Italics are unplan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AF0F-9B14-4FA1-9C49-180C41D99916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Windows XP ver. 2.2</cp:lastModifiedBy>
  <dcterms:modified xsi:type="dcterms:W3CDTF">2006-01-04T16:09:05Z</dcterms:modified>
  <cp:revision>155</cp:revision>
  <dc:subject/>
  <dc:title>PowerPoint Presentation</dc:title>
</cp:coreProperties>
</file>