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031-993E-4E61-8AFF-EDFDB3DC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693-F32C-4474-BF6B-1BEDAB01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ABB-55A2-470B-BD88-DF72AECB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1D6-C683-456E-AAE6-E279CCF8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9F4-96DD-49CD-8850-A09F6505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112-3FE1-4957-8C33-38CD297A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FCC-002A-41C1-B7C8-0A4085A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F6F-2D76-46F7-AB38-AFA50950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C4C-C786-4613-B97F-D3514B8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988-8BD9-4DBF-BC16-0EBCF98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01D-D2C3-469B-AEC3-D8C37F6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459-DB78-4077-B9FF-E761BFB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3AB1-3899-4797-A585-36D7E1099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nuar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4 Competitive Retailers reported numbers by the due date for December Reports (01/04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of 15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February RMS (January Reports) are due by February 2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76520"/>
          <a:ext cx="8229240" cy="457164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09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6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523880"/>
          <a:ext cx="8229240" cy="480024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240" cy="4723920"/>
        </p:xfrm>
        <a:graphic>
          <a:graphicData uri="http://schemas.openxmlformats.org/drawingml/2006/table">
            <a:tbl>
              <a:tblPr/>
              <a:tblGrid>
                <a:gridCol w="2302560"/>
                <a:gridCol w="1556640"/>
                <a:gridCol w="1585080"/>
                <a:gridCol w="1393560"/>
                <a:gridCol w="13914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00200"/>
          <a:ext cx="8305560" cy="472392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523880"/>
          <a:ext cx="8305560" cy="4800240"/>
        </p:xfrm>
        <a:graphic>
          <a:graphicData uri="http://schemas.openxmlformats.org/drawingml/2006/table">
            <a:tbl>
              <a:tblPr/>
              <a:tblGrid>
                <a:gridCol w="2323800"/>
                <a:gridCol w="1571040"/>
                <a:gridCol w="1599840"/>
                <a:gridCol w="1406520"/>
                <a:gridCol w="1404360"/>
              </a:tblGrid>
              <a:tr h="11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6-01-05T20:21:36Z</dcterms:modified>
  <cp:revision>317</cp:revision>
  <dc:subject/>
  <dc:title>PowerPoint Presentation</dc:title>
</cp:coreProperties>
</file>