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CD41-19B1-4A38-B5DB-4CE8AF51C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ACC8-B367-4FA0-BEF6-D14157478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96A8-6EED-4174-A108-CF9CE3A39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C401-8F2F-4315-A522-0B9449D75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C14E2-C5CE-428D-810C-AD086497C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A4B73-7C65-4783-ACE0-C82A5632E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8250E-8AC1-4A0C-AF0B-56C884FC1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C6206-725E-4419-A75B-04B4961E6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8A401-50C8-40EE-9D2F-46DC27FF1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572DE-C762-4F66-9ADA-F9B4E6C90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631A6-A017-49F6-850D-59679AC1B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6E18-F5B1-4610-96DF-F9BF276A0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C9362-9E9C-44C7-B127-189141CC4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9CBF8-2F0F-4C04-979C-B712204AF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BEF16-C7F3-4F54-9B12-37B8FAAFA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4DAD1-2228-43BB-BAC3-0814A7AAB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C6B50-CC12-4C21-989E-CF5C06091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0CAC-F55D-4756-9750-6034BD94D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D6E0-2012-4875-8F92-7BA84F71F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8D66-DD11-4F3A-8253-0058FA21F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2773-525C-4E0A-8B48-87D6E5A42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CFC7-3B64-467F-9F76-B47B1FD4F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5E7A-A3F2-4126-9BF6-2F3E801FD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2987-6D7F-4126-A424-31E3638C2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DA5D2-BF68-4CD5-8438-DA9D87E5955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E3710-9725-4F9E-8F88-900C5B7FA94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81080" y="1066320"/>
            <a:ext cx="655344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ERCOT Update to RMS on the IDR Requirement Transition Project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981080" y="3886200"/>
            <a:ext cx="58089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rl Ra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RCOT Load Profi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anuary 11,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Arial"/>
              </a:rPr>
              <a:t>IDR Requirement Reports</a:t>
            </a: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762120" y="2093760"/>
            <a:ext cx="8381880" cy="346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IDR Optional Removal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9246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of January 2, 2006 one TDSP reported having received two IDR removal requests; both have been remo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DSPs have been requested to submit updates on any additional removal requests to ERC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s??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31T01:08:05Z</dcterms:created>
  <dc:creator> </dc:creator>
  <dc:description/>
  <dc:language>en-US</dc:language>
  <cp:lastModifiedBy>AMarquez</cp:lastModifiedBy>
  <dcterms:modified xsi:type="dcterms:W3CDTF">2006-01-05T18:47:14Z</dcterms:modified>
  <cp:revision>35</cp:revision>
  <dc:subject/>
  <dc:title>IDR Taskforce Report to RMS</dc:title>
</cp:coreProperties>
</file>