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DAD-8B18-4574-B3EC-30BE8944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C35-570C-4A8D-9043-BBB3CFDD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224-B13F-4986-8665-B63B09B7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47D-EEBA-4B41-A1B6-C3430D77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7DB7-4C88-456B-B45B-05610A19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1560-CB7A-4669-9AF2-708F2B18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924D-0F61-4AB4-B05C-4D148DEE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AD52-1156-4C94-BA2C-9B1706DD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E158-CD26-4ABF-A4C1-D8DE39AE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D12C-1063-4E7C-A798-DBD9CEF3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6F56-5165-4799-8291-6B96FA97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526-3793-491A-AD06-9A954400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AD7C-1F98-40BA-B3FE-904B4953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BB3F-8770-4FD4-A45A-119FFB04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F067-16D8-4B0A-BC98-A72F5DB2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7490-A906-4319-AFF6-03BA8908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D84B-11FA-4F68-B5A2-52016709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BA9-566A-4075-8CD8-3571D69F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AB0-B666-420E-82CF-5FA13DD9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750-2A3A-4D31-852D-8CD5E7AE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42A-4077-4768-BD32-275E1A7E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CD5-C949-4542-8B91-4FB85974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9F5-4A02-43DB-A87B-F87DB88B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9B1-D1D2-4670-B76E-A6080CE5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0638-91F2-4100-9AEE-5FE5F36CD405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0468-3524-4474-AB6D-B30BF6178F7C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e941c"/>
                </a:solidFill>
                <a:latin typeface="Agency FB"/>
              </a:rPr>
              <a:t>2005 </a:t>
            </a:r>
            <a:r>
              <a:rPr b="1" lang="en-US" sz="5100" spc="-1" strike="noStrike">
                <a:solidFill>
                  <a:srgbClr val="ee941c"/>
                </a:solidFill>
                <a:latin typeface="Agency FB"/>
              </a:rPr>
              <a:t> </a:t>
            </a:r>
            <a:r>
              <a:rPr b="1" lang="en-US" sz="5100" spc="-1" strike="noStrike">
                <a:solidFill>
                  <a:srgbClr val="ee941c"/>
                </a:solidFill>
                <a:latin typeface="Agency FB"/>
              </a:rPr>
              <a:t>Accomplishments</a:t>
            </a:r>
            <a:br>
              <a:rPr sz="5100"/>
            </a:br>
            <a:r>
              <a:rPr b="1" lang="en-US" sz="5100" spc="-1" strike="noStrike">
                <a:solidFill>
                  <a:srgbClr val="ee941c"/>
                </a:solidFill>
                <a:latin typeface="Agency FB"/>
              </a:rPr>
              <a:t>&amp;</a:t>
            </a:r>
            <a:br>
              <a:rPr sz="5100"/>
            </a:br>
            <a:r>
              <a:rPr b="1" lang="en-US" sz="5100" spc="-1" strike="noStrike">
                <a:solidFill>
                  <a:srgbClr val="ee941c"/>
                </a:solidFill>
                <a:latin typeface="Agency FB"/>
              </a:rPr>
              <a:t>2006 </a:t>
            </a:r>
            <a:r>
              <a:rPr b="1" lang="en-US" sz="5100" spc="-1" strike="noStrike">
                <a:solidFill>
                  <a:srgbClr val="ee941c"/>
                </a:solidFill>
                <a:latin typeface="Agency FB"/>
              </a:rPr>
              <a:t> </a:t>
            </a:r>
            <a:r>
              <a:rPr b="1" lang="en-US" sz="5100" spc="-1" strike="noStrike">
                <a:solidFill>
                  <a:srgbClr val="ee941c"/>
                </a:solidFill>
                <a:latin typeface="Agency FB"/>
              </a:rPr>
              <a:t>Goals</a:t>
            </a:r>
            <a:endParaRPr b="0" lang="en-US" sz="51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82" name=""/>
          <p:cNvSpPr/>
          <p:nvPr/>
        </p:nvSpPr>
        <p:spPr>
          <a:xfrm>
            <a:off x="3251160" y="685800"/>
            <a:ext cx="2733840" cy="24321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3" name=""/>
          <p:cNvSpPr/>
          <p:nvPr/>
        </p:nvSpPr>
        <p:spPr>
          <a:xfrm>
            <a:off x="3424320" y="785880"/>
            <a:ext cx="2371680" cy="1942920"/>
          </a:xfrm>
          <a:prstGeom prst="star5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44920" y="2513160"/>
            <a:ext cx="3445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0c0c0"/>
                </a:solidFill>
                <a:latin typeface="Niagara Solid"/>
              </a:rPr>
              <a:t>06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c0c0c0"/>
              </a:solidFill>
              <a:latin typeface="Niagara Solid"/>
              <a:ea typeface="Niagara Solid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19520" y="1160640"/>
            <a:ext cx="3581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666699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c0c0c0"/>
                  </a:outerShdw>
                </a:effectLst>
                <a:latin typeface="Niagara Solid"/>
              </a:rPr>
              <a:t>TX SET</a:t>
            </a:r>
            <a:endParaRPr b="0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666699"/>
                  </a:gs>
                </a:gsLst>
                <a:lin ang="5400000"/>
              </a:gradFill>
              <a:effectLst>
                <a:outerShdw dist="38160" dir="5400000" blurRad="0" rotWithShape="0">
                  <a:srgbClr val="c0c0c0"/>
                </a:outerShdw>
              </a:effectLst>
              <a:latin typeface="Niagara Solid"/>
              <a:ea typeface="Niagara So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Drop to AREP Announcement and automated process implemented with version 2.1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Mass Transition – High level Market Guide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Defined, Developed, Published, and Implemented  TX SET Version 2.1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Discussed Smoothing Usage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Implemented RMS Assignment form  and process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01680" y="2318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Accomplishment</a:t>
            </a: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s </a:t>
            </a: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for 2005</a:t>
            </a:r>
            <a:endParaRPr b="0" lang="en-US" sz="4800" spc="-1" strike="noStrike">
              <a:solidFill>
                <a:srgbClr val="b7e7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1143000"/>
            <a:ext cx="8534520" cy="533412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Updated Protocols when and where necessary.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ssisted the MOU/EC market participants where needed, especially with developing MOU/EC transactions and system functionality for the first MOU/EC Market Participant implementation with Version 2.1. 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Refined market practices and develop transactional solutions, and address PUCT/RMS assignments.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57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57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01680" y="15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Accomplishment</a:t>
            </a: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s </a:t>
            </a: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for 2005</a:t>
            </a:r>
            <a:endParaRPr b="0" lang="en-US" sz="4800" spc="-1" strike="noStrike">
              <a:solidFill>
                <a:srgbClr val="b7e7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0042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reated a Version Release Schedule for 2005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Updated Version Stacking document where needed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Meter Estimation – Denial of Access Process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Discussed  the Drop to POLR Process (Manual vs. Automation )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Accomplishments for 2005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Define and Implement next TX SET Version for TX SET Release, which includes the following: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1" marL="601560" indent="-231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Mass Transition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2" marL="925560" indent="-185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Detailed Requirements and  Market Guide will be created</a:t>
            </a: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3" marL="1296000" indent="-185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gency FB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PRR , SCR, and RMGRR  modified or created when and where needed. 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3" marL="1296000" indent="-185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gency FB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Update TX SET Implementation Guides for a Version Release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1" marL="601560" indent="-231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Support approved projects by Applicable Legal Authorities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77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77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Goals- 2006 </a:t>
            </a:r>
            <a:endParaRPr b="0" lang="en-US" sz="4800" spc="-1" strike="noStrike">
              <a:solidFill>
                <a:srgbClr val="b7e7ff"/>
              </a:solidFill>
              <a:latin typeface="Agency FB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Update Protocols and Retail Market Guide when and where necessary.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be involved with all market participants providing assistance where needed.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Encourage all market participants to attend and participant in TX SET meetings and workshops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Goals- 2006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Work with RMS to enhance Market Budgeting Process.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reate a Version Release Schedule for 2007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maintain and update the Stacking documentation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Goals- 2006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37:34Z</dcterms:created>
  <dc:creator>kpatrick</dc:creator>
  <dc:description/>
  <dc:language>en-US</dc:language>
  <cp:lastModifiedBy>Windows XP ver. 2.2</cp:lastModifiedBy>
  <dcterms:modified xsi:type="dcterms:W3CDTF">2006-01-04T22:40:38Z</dcterms:modified>
  <cp:revision>23</cp:revision>
  <dc:subject/>
  <dc:title>PowerPoint Presentation</dc:title>
</cp:coreProperties>
</file>