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B07-AB84-4673-AA53-47F1537C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F1D-9194-4FFD-AF77-B30AB78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526-4A19-4829-A040-508056BF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93-21D1-4C0B-AE1E-69D62AE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DCD-D075-4E1F-90BD-67D6705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DD4-3A05-4AC2-AE3F-C008782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262-89E6-4553-BE53-942D2B1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0B4-358C-48A5-851A-56C223E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4AC-F443-4751-B457-018EE1D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A57-E3FC-4ECE-8087-90AE6BA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6C0-3814-48BC-B10C-2525489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876-B65C-4881-BD22-B3B9FBF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6100-0B3A-44EF-BDF8-505B5E57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projects/current/50007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anuar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in Nov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Started November 1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ed meeting with MPs on December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view Market Design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d original business requirements document and the document outlining the changes to the business requirements to ERCOT.com 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comm/projects/current/50007/index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er the Key Documents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chedule to deliver the Detailed Design Document to MPs on January 31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ject is on schedule to meet milestone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anuar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ERCOT design is complete and Execution plan finalized in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Doc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Guide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target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nd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080" y="5977080"/>
            <a:ext cx="16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anuar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January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1-06T15:44:26Z</dcterms:modified>
  <cp:revision>201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