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431-0CB7-49EE-B8A6-AB69913F4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7A9B-0A6F-453B-B581-5AC0D9837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1AEE-96E8-4E9A-9DBD-C2A9F5FBA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6D55-6605-4AFF-9FC4-82DE9E40F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D8EA-B826-4A12-B05E-A5B6844A2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DEDD-9FE8-423D-92E1-0911B1FC7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DE96-BD9F-49E6-A76D-A29D7569F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71BB-957B-4638-BC4C-886DE7F7A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0A7F-A51C-4B78-8716-121711829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B226-4310-4A5C-B07C-EC6F39BAC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06F6-FD84-425D-8861-F6D01F166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A397-8438-4985-A75A-D731582A2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F139A905-1426-463A-9549-0E80B68D2A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1813320"/>
            <a:ext cx="6172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 failure and its impact on ERCOT servi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ine and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-2520"/>
            <a:ext cx="73152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Verdana"/>
              </a:rPr>
              <a:t>Storage failure and its impact on ERCOT applications and services</a:t>
            </a:r>
            <a:endParaRPr b="0" lang="en-US" sz="20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543800" cy="565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07DB-A130-4974-8A12-CB335C1CE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The Emerging Problem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84872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F8C9-3E5B-4049-9B93-6E7F09613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Initial System Recovery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848360" cy="56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6971-C216-4E1D-B307-D116362B9C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covery and Restor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0247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76FD-08E0-4C0D-869A-89311A8D43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storation and Certific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076960" cy="55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6C69-2359-42B0-83EE-0A11AF1D4F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Other Items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-111600" y="1447920"/>
            <a:ext cx="728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Impacts of December 26 disk fail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98640" y="1981080"/>
            <a:ext cx="64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438280"/>
            <a:ext cx="80010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Settlements &amp; Bil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xtract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Reports &amp; Ex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Proces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mpa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952880"/>
            <a:ext cx="830556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8  Switches will miss the first available switch date in January and are schedu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for 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,835  Move-Ins did not execute on proper d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itigated by “safety-net” process to keep them on the proper 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,144  Move-Outs did not execute on proper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7320" y="2432160"/>
            <a:ext cx="19854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3 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2 w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3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935C-F4F8-4251-9557-019EE867F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ssanders</cp:lastModifiedBy>
  <cp:lastPrinted>2000-10-23T20:56:55Z</cp:lastPrinted>
  <dcterms:modified xsi:type="dcterms:W3CDTF">2006-01-11T14:53:18Z</dcterms:modified>
  <cp:revision>602</cp:revision>
  <dc:subject/>
  <dc:title>No Slide Title</dc:title>
</cp:coreProperties>
</file>