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F1B1-54C4-4D65-813E-18841FE3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BB3F-B066-4306-83A4-8B21BA45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98F5-2B46-423A-80E9-BC122179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F236-3576-4192-B9F5-126893CF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49D1-8BDD-4A50-8C21-D0DBBF08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3B3D-EEA3-4649-A9AE-8C2118B3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4398-CDEC-4179-B871-1A3EC209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6079-D9A1-45C2-B5EC-9A7046AC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4324-DEA1-44E3-ADCC-F1CC4F84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E7A1-57F0-4CDB-9C5E-35E376F7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71CC-4B98-4264-AC6D-DED06760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AABA-90DB-4E0E-8CD9-3184F14A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056C-516A-4288-9BD2-AAAFFABC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EA8B-AF34-4171-86DE-B64D4451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9FBA-A21C-4D15-B249-8AF4C7BF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9B17-29DA-47F3-9825-3A68C9DD8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7BA5-C1CF-4825-8050-1485F525D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7685-0C6B-4A33-AEA8-37076677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B86C-9A48-423C-8C80-F7089B7A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463A-E7D2-477B-8DAC-5E8BD7A4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5DD0-6761-4A42-A811-C1AE4635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DC22-AAA5-48E5-924A-3AF78961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385F-0796-4210-995F-8730CF95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B9DD-B6CA-41C8-AF24-A72AC9F5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6FF2-915D-43B0-83C7-B1C6FAB585C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B6DF-352A-46C8-AF91-7493A39E004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2438280" y="152280"/>
          <a:ext cx="45720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52280"/>
                    <a:ext cx="45720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572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TTPT Goals &amp; Accomplishments</a:t>
            </a:r>
            <a:endParaRPr b="0" lang="en-US" sz="5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54100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January 11, 2006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304920"/>
            <a:ext cx="7620120" cy="48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2005 Accomplishments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ompleted 4 successful Test Flights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One flight being a TX Set Version Upgrade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Implement Random Testing for Marketing Participants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iloted in Flight 0105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tandard testing procedures in following flights for new Market Participants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CR472 – submitted, approved by RMS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Implemented the New Retail Testing Website – Sept 2005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3 releases were also implemented in 2005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Maintained TTPT documentation within market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MTP updates submitted and approved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rotocol updates to TTPT section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TPT procedures developed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304920"/>
            <a:ext cx="7620120" cy="51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2005 Accomplishments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Developed Scripts/Testing Methodology in support of TX Set Version 2.1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ERCOT PIVAR (Post Implementation Verification and Reporting) analysis and criteria established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light Metrics now provided on Retail Testing Website during Test Flights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light Planning for 2006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reated and posted example X12 Transactions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Implemented Ad Hoc testing in 2005 allowing Market Participants to test certain situations outside of scheduled flight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Banking Changes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New DUNS for existing Market Participant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rvice Provider Changes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What a Year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Overall TTPT accomplished </a:t>
            </a:r>
            <a:r>
              <a:rPr b="1" lang="en-US" sz="4400" spc="-1" strike="noStrike">
                <a:solidFill>
                  <a:srgbClr val="ff3300"/>
                </a:solidFill>
                <a:latin typeface="Verdana"/>
              </a:rPr>
              <a:t>100%</a:t>
            </a: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 of the Goals set by the team for 2005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304920"/>
            <a:ext cx="76201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2006 Goals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onduct 4 Test Flights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onduct Flight Orientations and continue to improve format to support Market Testing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Develop and Conduct Script Testing for new FasTrak system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ontinued enhancements of the Retail Testing Website (RTW) to support Market testing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upport of TX Set upgrade or RMS required testing if necessary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MTP Updates as necessary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TPT Procedures and Protocols update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light 2007 Planning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CR742 documentation updates for 2007 project prioritization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1:54:01Z</dcterms:created>
  <dc:creator>00206072</dc:creator>
  <dc:description/>
  <dc:language>en-US</dc:language>
  <cp:lastModifiedBy>Jennifer Teel</cp:lastModifiedBy>
  <dcterms:modified xsi:type="dcterms:W3CDTF">2006-01-11T14:10:07Z</dcterms:modified>
  <cp:revision>33</cp:revision>
  <dc:subject/>
  <dc:title>No Slide Title</dc:title>
</cp:coreProperties>
</file>