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70F-C4A7-40F7-A864-F7939744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6CD-8177-464F-997A-5A699C6D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11A-18EA-4504-982F-D1EC09E3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7BC-1417-4F4B-9CDA-E07C85E8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0BD-DB6A-440D-AAD2-7EB0CE33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70C-28D4-49C3-90D8-321C7529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121-03A3-43BD-9E97-F761214A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854-5D4C-4828-AA66-FF8D9334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375-7AE3-4A6F-8018-E200EC0F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C4E-E31A-4650-8986-FF06F495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758-5E46-4701-A36A-7A9D6AB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C30-83E0-4AE0-B65A-58C1759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E70-C0EC-434F-B280-43867FCE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urten Swit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6576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RCOT Board of Dir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l Bojorq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ember 13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1214280"/>
            <a:ext cx="7467480" cy="564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yan and College Statio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10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ption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633680"/>
            <a:ext cx="4496040" cy="446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1143000"/>
            <a:ext cx="4191120" cy="53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38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truct a 345-kV substation, Kurten Switch, in one circuit of the Twin Oak-Gibbons Creek 345-kV double circuit lines with a 345/138-kV 600-MVA autotransform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38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truct a double circuit 138-kV line from Kurten Switch through Kurten into Tabor; break the Dansby to Steephollow 138-kV line so that the portion to Steephollow ties into Tabor and the portion to Dansby ties into Kur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38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mplete the Booneville to College Station Switch 138-kV upgrade (not show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38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vert Booneville to Tabor to 138-kV operation (not show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38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ove the 69-kV line from Sutton to terminate at Tabor (not show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307200"/>
            <a:ext cx="4044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service date is spring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295280"/>
            <a:ext cx="80769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evaluated 10 options to meet the long-term reliability needs of the Bryan/ College Station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rten Switch sufficiently met the area’s needs for 2009 and beyond at the lowest ne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net cost of project is $16.6 million (or approximately $2.7 million annual carrying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Justification and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343160"/>
            <a:ext cx="7788240" cy="55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t study effort between Bryan Texas Utilities, City of College Station Utilities, Brazos Electric Cooperative, Texas Municipal Power Agency and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updates presented at North Regional Planning Group meetings on November 16, 2004 and May 11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omment period was held beginning in October 2005. Comments supporting the results were receiv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XU Electric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xas-New Mexic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yan Texas 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of Ga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XU Wholes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stakeholder comments were in support of the project with no dissenting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 supported the recommendation on December 1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4960" y="2286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9732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staff recommends that the Board endorse the need for the Kurten Switch Project as described in the ERCOT report to the Board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560" y="30492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bbojorquez</cp:lastModifiedBy>
  <dcterms:modified xsi:type="dcterms:W3CDTF">2006-01-09T23:30:10Z</dcterms:modified>
  <cp:revision>126</cp:revision>
  <dc:subject/>
  <dc:title>Point-to-Point</dc:title>
</cp:coreProperties>
</file>