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AF70-4D73-43C8-970F-7D3F814A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3991-B308-42AC-B174-DABB7D26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8046-98E2-4681-A273-631CAB48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68DF-8009-40AD-A314-4FF5AFBC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6B97-078B-43CF-BC4C-4F7ACAF9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55AC-6E6E-4AD2-B263-448F713B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2131-A3FA-4422-BBBC-470CF82E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112B-05E0-4DBB-82BF-7FC45659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9CA-7A54-4343-8A74-C4B6EC14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FAF3-F08B-4A51-AA70-86644AB4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5CE3-7318-42A1-93AF-27B21549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7966-987B-4CD4-8463-4123B204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55DF-FB09-45D3-B4EE-74D141198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segger@erco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a solution to either enhance or replace the FasTrak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ope/Why is this important?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the transparency for issues that are submitted via FasTr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users to have improved access to th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the reporting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search functionality associ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monitoring and response capabiliti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the us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A Integration - dependent on SOA MID project for integration framework components needed by API (low risk to pro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240" y="68580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Objectives / Scope / 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360" y="5943600"/>
            <a:ext cx="19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November 29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32880" y="5943600"/>
            <a:ext cx="66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990720"/>
            <a:ext cx="8156520" cy="48736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ase: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tion – Completed in Feb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ing – Complete in Nov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on/Implementation – November 14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cen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ducted MP visits to understand how users handle bulk issues with current toolset/workflows the week of November 14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sited TXUED, TXUES, Centerpoint, Direct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ptual System Design document comple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Detail Design document completed and made available to MPs on Nov. 30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meeting scheduled for December 9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review Market Detailed Design doc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xt step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e development work – GUI and AP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e work on Digital Certificate/LDAP integration prototy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 and deliver Detailed Design document January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9360" y="60948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7680" y="5943600"/>
            <a:ext cx="214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November 29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 All target dates will become firm after ERCOT design is complete and Execution plan finalized in Janu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comple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June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Detailed Design publish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ovember 30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Detailed Design – January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Test Scripts targ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arch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Guides targ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pril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 Materials targ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pril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Test targ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ay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target (‘go live’ with GUI &amp; AP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end of May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7920" y="71136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leve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3360" y="597708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November 29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Lead: Scott Eg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 number: 512-248-316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gger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ke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usag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6840" y="71136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7680" y="5867280"/>
            <a:ext cx="19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November 29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9:20:30Z</dcterms:created>
  <dc:creator>Michelle Duncan</dc:creator>
  <dc:description/>
  <dc:language>en-US</dc:language>
  <cp:lastModifiedBy>segger</cp:lastModifiedBy>
  <dcterms:modified xsi:type="dcterms:W3CDTF">2005-11-30T17:29:00Z</dcterms:modified>
  <cp:revision>197</cp:revision>
  <dc:subject/>
  <dc:title>TX SET V1.5 RFP Evaluation Recommend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Date">
    <vt:lpwstr>2005-03-16T00:00:00Z</vt:lpwstr>
  </property>
  <property fmtid="{D5CDD505-2E9C-101B-9397-08002B2CF9AE}" pid="3" name="GUID">
    <vt:lpwstr>{20050316-2134-581F-B2D0-2DA44B90E9B3}</vt:lpwstr>
  </property>
  <property fmtid="{D5CDD505-2E9C-101B-9397-08002B2CF9AE}" pid="4" name="Owner">
    <vt:lpwstr>197</vt:lpwstr>
  </property>
  <property fmtid="{D5CDD505-2E9C-101B-9397-08002B2CF9AE}" pid="5" name="Status">
    <vt:lpwstr>Final</vt:lpwstr>
  </property>
</Properties>
</file>