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41E4-EA9E-487E-8DE0-13897259E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BFD4-FA96-4A63-A54E-CD2EDAEFC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601B-0D16-4851-9A15-19B175C79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542D-49C9-4AAC-928F-D4A591B7A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7551-DC4C-4041-B29E-0CB68CB80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2DF6-85AD-41DD-9E68-97561E822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3888-9EF9-4A0A-B9F4-3306A6C84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46F6-8AA0-40D1-A654-56D268391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C91B-CD3E-4908-8221-0EEF8F554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DD05-9C93-47C3-ABCF-6A2E1B82D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7067-EF19-496D-917A-A1AB32DC1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471D-18B5-49AF-8A2E-C4F920020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8E75-1D29-4436-A2AF-4BD7CD5A7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7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681120" indent="0">
              <a:spcBef>
                <a:spcPts val="45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S Revised Project Prioritiz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Priority List Up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3429000"/>
                <a:tab algn="l" pos="3772080"/>
                <a:tab algn="l" pos="4635360"/>
                <a:tab algn="l" pos="51436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3518-F390-4C0F-A435-761772726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S Revised Project Prioritiz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349"/>
              </a:spcBef>
              <a:buNone/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ver the past 2 months, PRS has been developing a proposal to change the current project priority defin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86080" indent="-279720"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urrent:   1.1, 1.2, 1.3,     2.1, 2.2, 2.3,     3.1, 3.2, 3.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effort was in response to concerns about the current ranking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objective was to better define the prioritization levels to help ensure that projects from various sources were fairly ranked in relation to each o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 additional objective was to better incorporate CBA results in the ranking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51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349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349"/>
              </a:spcBef>
              <a:buNone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E891-2E8A-4BFD-AB61-C9AA76D1D7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3880" y="763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Criteria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990720"/>
            <a:ext cx="8686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itial Draft of Proposed Criteria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s of 10/27/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 - Projects required by Statute, PUCT order, NERC compliance, or critical reliability of grid operations, IT infrastructure, or commercial sett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- High "value" to all market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- High "value" to one or two segments or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 - Medium "value" for all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 - Medium "value" for only one segment or ERC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8098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alue" as determined by CBA, longevity (e.g. benefit is long term or short term), and other qualitative consid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bcategory (IT infrastructure, grid operations, commercial settlement) and level of criticality (critical/high/medium/low) for reliability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act on existing approved and prioritized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rect benefit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ther Ideas Off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BA Net Benefit Ratio could provide default for “High” vs “Medium” 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sk exposure as defined by risk management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raw vote information on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895A-2ED0-471A-9130-061FB4545F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763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Criteria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RCOT Program Management Office (PMO) takes PRS recommendation to ERCOT stakeholders for review and 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RCOT input applied to PRS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l product reviewed at future P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MO procedures updated and communicated to all stakeholder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-ranking of projects by PRS and ERCOT according to new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rly 2006 Implementation and Re-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erhaps as early as 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0916-503B-432D-81BA-312B934BC6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ject Priority List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ctober PPL posted to ERCOT.com on 10/26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vember PPL posted to ERCOT.com on 11/28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ail project statu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e Excel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ill working through market request for changes to thi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PMO is currently implementing a simplified EVM (Earned Value Management) process that might assist in providing enhanced information for market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st data is now projected to end of each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itted to Date” now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value captures YTD project expenditures including those that have not yet been recorded in the Accoun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uals YTD” reflects amount recorded by 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006 Arrow Diagrams will be posted in Dec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7972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1CD4-0A0B-4C4C-884D-0BF303EB6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1676520"/>
            <a:ext cx="5410440" cy="2590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0">
              <a:spcBef>
                <a:spcPts val="400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76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MO 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7439-9F71-403A-B5AB-7FA1ED4993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5-11-30T21:16:35Z</dcterms:modified>
  <cp:revision>151</cp:revision>
  <dc:subject/>
  <dc:title>Slide 1</dc:title>
</cp:coreProperties>
</file>