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C1C2-7259-4A4B-A537-9B54A0148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AD6F-5764-48DF-A86F-F70E0A31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FA00-A7C3-4C23-879A-51A3F6685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4652-A9BA-4C1E-8E03-800E30328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A49E-BD30-45AE-A4E5-A47F93223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CE56-A56E-48E2-ADA8-6DCD1322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D738-40F1-4FC3-84E6-F10D85E7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A89D-9241-4A3B-9E45-856F7FEE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5422-59A5-48AA-A15A-930A7325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154F-9D6F-4B4E-95D3-13E03BCA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5A4C-31AA-4890-8621-CBB04892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368A-636E-4FFA-83CB-987609E0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302F-0F00-4CDF-B30E-E365B2EE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D948-F7E0-485A-8335-E01E9E2E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AF04-19BC-4E75-8DDB-8A25EE69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4AB2-E8C8-4B57-AA0B-CBD64C452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2EE8-1E66-45B7-BB65-A4FA4BB09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53D4-6E77-497D-977C-B5B33E98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E3F9-445F-43A2-9CB6-2C5EDAC5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18B5-06DB-40FE-A1A0-33818481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1F16-ECEA-4667-BADB-E13B0D11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0CA8-8C9B-4908-AB97-957AE548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04E1-7C5E-473A-81DD-7DFA8F6F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4084-FB1E-45E8-93FF-01B8B597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68C8-4CB2-40C2-BB02-EC553480A68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8F2D-F22B-4D05-9DFB-83AF67E5FBF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Market Redesign Updat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n Hins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MS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ember 7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at is Market Redesig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UCT has determined that we will implement a Nodal market.  They have determined that this market will be implemented on January 1, 2009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reasons to move to a nodal market includ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d transparency in energy pr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rational challenges in portfolio scheduling and bid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assignment of local congestion c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some of the history behind the decision, refer to PUCT Order 26376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will be a Contested Case at the PUCT to consider the Nodal Protocols but currently the TNT Protocols include the functionality described in the following slid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at is Market Redesig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190520" y="1371600"/>
          <a:ext cx="676116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0520" y="1371600"/>
                    <a:ext cx="676116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at is Market Redesig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246320"/>
          <a:ext cx="8229600" cy="469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46320"/>
                    <a:ext cx="8229600" cy="46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Update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ocols re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twork Model Project – Developing Requir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ing a Requirements templ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didate 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ing an RFP to search for outside PMO ser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upd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52280" y="2286000"/>
          <a:ext cx="4038840" cy="32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0"/>
                    <a:ext cx="4038840" cy="32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4800600" y="1027080"/>
            <a:ext cx="4191120" cy="2400480"/>
          </a:xfrm>
          <a:prstGeom prst="borderCallout2">
            <a:avLst>
              <a:gd name="adj1" fmla="val 18750"/>
              <a:gd name="adj2" fmla="val -8333"/>
              <a:gd name="adj3" fmla="val 4763"/>
              <a:gd name="adj4" fmla="val -42347"/>
              <a:gd name="adj5" fmla="val 82472"/>
              <a:gd name="adj6" fmla="val -8587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3505320"/>
            <a:ext cx="4419720" cy="3124080"/>
          </a:xfrm>
          <a:prstGeom prst="borderCallout2">
            <a:avLst>
              <a:gd name="adj1" fmla="val 18750"/>
              <a:gd name="adj2" fmla="val -8333"/>
              <a:gd name="adj3" fmla="val 3657"/>
              <a:gd name="adj4" fmla="val -8083"/>
              <a:gd name="adj5" fmla="val 28453"/>
              <a:gd name="adj6" fmla="val -20078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0" y="3733920"/>
          <a:ext cx="4495680" cy="27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3733920"/>
                    <a:ext cx="4495680" cy="27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286000" y="4267080"/>
            <a:ext cx="1905120" cy="1219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61722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20968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876920" y="1066680"/>
          <a:ext cx="4038480" cy="220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1066680"/>
                    <a:ext cx="4038480" cy="22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2286000"/>
            <a:ext cx="2057400" cy="1371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33920" y="228600"/>
            <a:ext cx="4419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ystems Impact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495680"/>
            <a:ext cx="2209680" cy="457200"/>
          </a:xfrm>
          <a:prstGeom prst="rect">
            <a:avLst/>
          </a:prstGeom>
          <a:solidFill>
            <a:srgbClr val="ffcc99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457200"/>
            <a:ext cx="914400" cy="228600"/>
          </a:xfrm>
          <a:prstGeom prst="rect">
            <a:avLst/>
          </a:prstGeom>
          <a:solidFill>
            <a:srgbClr val="cc99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80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419720"/>
            <a:ext cx="3429000" cy="1447560"/>
          </a:xfrm>
          <a:prstGeom prst="rect">
            <a:avLst/>
          </a:prstGeom>
          <a:solidFill>
            <a:srgbClr val="cc99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762120"/>
            <a:ext cx="914400" cy="2286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6858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rate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3657600"/>
            <a:ext cx="1600200" cy="22860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143000"/>
            <a:ext cx="914400" cy="22860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1066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ificant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3048120"/>
            <a:ext cx="1676520" cy="53316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2438280"/>
            <a:ext cx="762120" cy="533520"/>
          </a:xfrm>
          <a:prstGeom prst="rect">
            <a:avLst/>
          </a:prstGeom>
          <a:gradFill rotWithShape="0">
            <a:gsLst>
              <a:gs pos="0">
                <a:srgbClr val="ffff99">
                  <a:alpha val="30196"/>
                </a:srgbClr>
              </a:gs>
              <a:gs pos="100000">
                <a:srgbClr val="e54513">
                  <a:alpha val="3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2590920"/>
            <a:ext cx="914400" cy="45720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3276720"/>
            <a:ext cx="914400" cy="68580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10280" y="1066680"/>
            <a:ext cx="1905120" cy="1905120"/>
          </a:xfrm>
          <a:prstGeom prst="rect">
            <a:avLst/>
          </a:prstGeom>
          <a:gradFill rotWithShape="0">
            <a:gsLst>
              <a:gs pos="0">
                <a:srgbClr val="ffff99">
                  <a:alpha val="30196"/>
                </a:srgbClr>
              </a:gs>
              <a:gs pos="100000">
                <a:srgbClr val="e54513">
                  <a:alpha val="3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76920" y="1447920"/>
            <a:ext cx="1752480" cy="160020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roject Proces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20640" y="914400"/>
          <a:ext cx="775008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914400"/>
                    <a:ext cx="77500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1600200" y="1143000"/>
            <a:ext cx="441972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143000"/>
            <a:ext cx="99072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2825400">
            <a:off x="6400440" y="838080"/>
            <a:ext cx="870120" cy="892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00800" y="1981080"/>
            <a:ext cx="914400" cy="5335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T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0120" y="1143000"/>
            <a:ext cx="83808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F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3809880"/>
            <a:ext cx="312444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14800" y="3809880"/>
            <a:ext cx="60948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05520" y="3809880"/>
            <a:ext cx="83808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24480" y="3505320"/>
            <a:ext cx="990720" cy="914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343400"/>
            <a:ext cx="1295640" cy="6094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C, TPTF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Staff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91520" y="3809880"/>
            <a:ext cx="1218960" cy="304920"/>
          </a:xfrm>
          <a:prstGeom prst="rect">
            <a:avLst/>
          </a:prstGeom>
          <a:solidFill>
            <a:srgbClr val="e545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rganiz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80880" y="990720"/>
          <a:ext cx="8229600" cy="51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90720"/>
                    <a:ext cx="8229600" cy="51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352680" y="38052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733920" y="2438280"/>
            <a:ext cx="12952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33"/>
                </a:solidFill>
                <a:latin typeface="Calisto MT"/>
              </a:rPr>
              <a:t>?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6633"/>
              </a:solidFill>
              <a:latin typeface="Calisto MT"/>
              <a:ea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9:06:24Z</dcterms:created>
  <dc:creator>rhinsley</dc:creator>
  <dc:description/>
  <dc:language>en-US</dc:language>
  <cp:lastModifiedBy>Ann Boren</cp:lastModifiedBy>
  <dcterms:modified xsi:type="dcterms:W3CDTF">2005-11-29T22:28:19Z</dcterms:modified>
  <cp:revision>27</cp:revision>
  <dc:subject/>
  <dc:title>Market Redesign Update</dc:title>
</cp:coreProperties>
</file>