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8A8-4EFE-49BC-9B6B-C61C9694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F67-C15E-4959-8592-D9B2EB92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31C-4935-4F90-B10B-5C754DDB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F44-8BC8-4300-9CC4-437E8ACB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833A-08C5-4CD9-A565-5E15982B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DAB-3038-421F-A002-4F32123A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54D-C344-4364-BE68-C5F570CA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003-D3F1-47A8-A4E4-86FA7844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872-A5F6-4AE7-87C9-031E0727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9F7-9286-4B73-A5F0-06988D7F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1A6-ADAC-4294-8260-36B76ECA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3C5-C11A-4762-BCFC-618B2F24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382A-F872-4B85-86BB-A65A7B78E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304920"/>
          <a:ext cx="7695720" cy="5943240"/>
        </p:xfrm>
        <a:graphic>
          <a:graphicData uri="http://schemas.openxmlformats.org/drawingml/2006/table">
            <a:tbl>
              <a:tblPr/>
              <a:tblGrid>
                <a:gridCol w="1489680"/>
                <a:gridCol w="1104120"/>
                <a:gridCol w="1000440"/>
                <a:gridCol w="1104120"/>
                <a:gridCol w="1000440"/>
                <a:gridCol w="1104120"/>
                <a:gridCol w="892800"/>
              </a:tblGrid>
              <a:tr h="4244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UC #24462 Market Metrics Report t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7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MS - December 7,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7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witch Protocol Compari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Q3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2 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3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7,1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2,2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,0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7,1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9.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5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5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99,8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,6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,3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2,1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9.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8,5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,3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1,7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9.8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,8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,2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8,3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8.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,9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,5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93,1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9.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,4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,6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89,1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9.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,52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,2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7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88,4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,4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,9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15,2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9.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,3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,8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4AA-0807-42C5-90B8-9BCEB65CB1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85800" y="380880"/>
          <a:ext cx="7772400" cy="5648400"/>
        </p:xfrm>
        <a:graphic>
          <a:graphicData uri="http://schemas.openxmlformats.org/drawingml/2006/table">
            <a:tbl>
              <a:tblPr/>
              <a:tblGrid>
                <a:gridCol w="1527120"/>
                <a:gridCol w="1073160"/>
                <a:gridCol w="1025640"/>
                <a:gridCol w="1131840"/>
                <a:gridCol w="1025640"/>
                <a:gridCol w="1073160"/>
                <a:gridCol w="915840"/>
              </a:tblGrid>
              <a:tr h="403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UC #24462 Market Metrics Report t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MS - December 7,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ve-In Protocol Compari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Q3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2 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3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715,8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,0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,8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1,3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8.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3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.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2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703,8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7.9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1,7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.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9,8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.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89,8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9.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4,0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1,9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85,8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8.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8,7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1,6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.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376,4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8.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,6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6,8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345,7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9.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3,0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2,8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375,8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8.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0,1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7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,5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375,3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0,1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1,0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64,3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9.9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8,9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9,47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4B5-7B5B-4CE2-BCBB-BBC4209FBF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380880"/>
          <a:ext cx="8001000" cy="6019560"/>
        </p:xfrm>
        <a:graphic>
          <a:graphicData uri="http://schemas.openxmlformats.org/drawingml/2006/table">
            <a:tbl>
              <a:tblPr/>
              <a:tblGrid>
                <a:gridCol w="1549440"/>
                <a:gridCol w="1147680"/>
                <a:gridCol w="1039680"/>
                <a:gridCol w="1147680"/>
                <a:gridCol w="1040040"/>
                <a:gridCol w="1147680"/>
                <a:gridCol w="928800"/>
              </a:tblGrid>
              <a:tr h="4064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UC #24462 Market Metrics Report t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MS - December 7,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rop to AREP Protocol Compari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Q3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2 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3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5,2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8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5,2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9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7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4,7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82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4,7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9.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2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3,1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9.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6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4_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5,7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65.5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6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0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.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4,6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9.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47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3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4,6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4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3,5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99.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1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527-F21F-4759-8D51-2F1692D4CF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21:38:34Z</dcterms:created>
  <dc:creator>mmccarty</dc:creator>
  <dc:description/>
  <dc:language>en-US</dc:language>
  <cp:lastModifiedBy>mmccarty</cp:lastModifiedBy>
  <dcterms:modified xsi:type="dcterms:W3CDTF">2005-11-28T22:20:22Z</dcterms:modified>
  <cp:revision>8</cp:revision>
  <dc:subject/>
  <dc:title>Slide 1</dc:title>
</cp:coreProperties>
</file>