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40EE-491E-41D4-8387-A4B9E9E02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0146-956C-4579-97A1-C50D30DDA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08FC-EBE3-4A74-9ED3-650A1FD56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2590-33D6-43C5-8EB5-D1E4308C1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A6F6-791C-4EE7-9093-1356F850D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770E-C0AB-4397-8688-610B77DFB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AD7F-1C36-4094-847E-492ADEE38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66E9-B337-443D-BA9B-81D6B8F34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55FD-8B87-489B-943B-1B2E6EC53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5401-2FEB-4A14-B653-D49A56ADB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8416-103B-4D7F-86E0-0C1009061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FC1B-2145-49D2-BC8A-6062E66DA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466e6c"/>
          </a:soli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EADB2A49-249D-463B-889F-279004E9D7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99404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88960"/>
            <a:ext cx="1600200" cy="8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24028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 745 Approach and S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304812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 Hins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O, Vice Presi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Retail System Scope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914400"/>
          <a:ext cx="8763120" cy="54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6312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4360-9279-4A3D-941D-1A0064101E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Phased Implementation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d Implementation Recommen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phase involves the purchase and installation of hardware to eliminate single points of failure by delivering system failover and redundancy capabili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I – NAESB and Proxy Clustered Environmen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 approx. $600,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II – Paperfree Clustered Environ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 approx. $86,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III – Database Clustered Environ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 approx. $1.73 mill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9DAE-2ACB-4A95-85AD-90A8F5882E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6324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urrent Availability Performance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pe: Retail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service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ar to date availability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99.4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action processing only, excludes We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oss minutes – planned outage = Net avail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93,120 – 9417 = 383,70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t availability – unplanned minutes = Percent avail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83,703 – 2296 = 381,40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cent available = 381,407/383,703 =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99.4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9C08-1F78-4EAD-977E-973111C2C9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7488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Proposed Service Level Agreemen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ned outages to occur only during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eekend of each mon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enance window between 8 a.m. Saturday and 10 p.m. Sunday (systems unavailable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ility of 99.25% outside of maintenance wind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99.9% availability after implementation of Phase I and Phase II of SCR7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99.9% cannot be achieved by those projects, then consider implementation of phase III of SCR7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850A-19A4-4D00-891E-4E3CDB63AD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22:11:48Z</dcterms:created>
  <dc:creator/>
  <dc:description/>
  <dc:language>en-US</dc:language>
  <cp:lastModifiedBy>Ann Boren</cp:lastModifiedBy>
  <cp:lastPrinted>2000-10-23T20:56:55Z</cp:lastPrinted>
  <dcterms:modified xsi:type="dcterms:W3CDTF">2005-11-23T15:49:15Z</dcterms:modified>
  <cp:revision>634</cp:revision>
  <dc:subject/>
  <dc:title>No Slide Title</dc:title>
</cp:coreProperties>
</file>