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79D-7B72-4EF6-B66C-EF7B01D8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9D26-47F4-4A2A-ADED-F068EB99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8CC-699A-4363-931F-3188D681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F50-57B2-4FD5-A420-B793188F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34AC-2F94-4E10-BB98-F8F66AA84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94E2-E356-43C5-9801-094793ED7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4ABD-029F-47FA-8069-419222193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B61D-E815-4A40-92EB-8B0B3FD78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CC37-1CEF-4056-85B3-8DED20FB7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CA28-690B-4F37-B278-B70EA428C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2BE5-6EB5-49B3-964F-BC689084F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1BB3-21F9-487B-B98C-101212D7A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4151-0E71-4290-AD91-E77C5F7AA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7AF1-D079-4F7B-8408-1FE5AF75C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910D-C2E4-4828-9E78-286F3423E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C253-2055-4B88-90FE-C9FB98EF4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7F9-FC2B-4B6F-BC7D-3000D1E4E9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1445400"/>
            <a:ext cx="609624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ard of Director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Aspects of Mass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Market Statistics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# of LSEs by average daily MWh for August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tent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Wh/da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I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ss by c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lt; 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48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31%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$     200k 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-2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2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4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6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40%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$  2,000k 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,000-20,000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3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3%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$20,000k 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 20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 7        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  10       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75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8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156  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5272-89B3-4E3B-91DE-F6EDFE6AD8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Market Statistics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daily MWh for August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W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O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 200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1,56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2,29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,86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4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-2,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16,50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27,82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4,33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3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,000-20,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182,52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76,48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259,016          25.1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gt; 20,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578,401        148,377          726,778          70.3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79,002       254,984      1,033,986       100.0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B047-332E-44C1-A174-75302E253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Estimated losses in 2005 to date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nt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yp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 Expo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SE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350 MWh/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$   40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50 MWh/day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$     25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 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65 MWh/day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$   200,000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1042-15FA-4F2D-8DD9-A5A8C9440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896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Options available to mitigate credit exposur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SEs, increase collateral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liquidity conc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advertently incent use of B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Working Group is evaluating o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SEs being dropped by their QSE, increase notice period from Q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625 in process will increase noti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5 BDays to 20 d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Protocol language is clea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consequ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624 in process to clarify Payment Default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DB23-3564-4613-9E42-3C84971091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6080"/>
            <a:ext cx="7010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Options available to mitigate credit exposur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duce Exposure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isk earl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comprehens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evaluating too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number of notice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6 B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begun to take 2 BDays out of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olves changing contracts to reduce cure period from 3 BDays to 2 BDay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the number of days it takes to do Mass Transi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9 – 11 B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ill in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llenges to further streamline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mbination of above – no “silver bulle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496E-1F98-43F8-8935-9C712619B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1755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f5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d5f5d"/>
                </a:solidFill>
                <a:latin typeface="Arial"/>
              </a:rPr>
              <a:t>Challenges – Reducing # of days for Mass Transition</a:t>
            </a:r>
            <a:endParaRPr b="0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600200"/>
          <a:ext cx="8001000" cy="4862520"/>
        </p:xfrm>
        <a:graphic>
          <a:graphicData uri="http://schemas.openxmlformats.org/drawingml/2006/table">
            <a:tbl>
              <a:tblPr/>
              <a:tblGrid>
                <a:gridCol w="2432160"/>
                <a:gridCol w="2216160"/>
                <a:gridCol w="33526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k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tigation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sta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R ability to rapidly initiate transactions at volu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dedicated TX SET transa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st of POLR ability to act in transition event (at volum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R designations change every two yea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DSP ability to rapidly read large number of dispersed met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imated read” to effectuate swit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to impl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ition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al/automated solu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CT customer protection ru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R ability to procure resourc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lo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DSP ability to obtain meter read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cooperative defaulting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er information repository.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illing vs prem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 dedication to populate/main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8080"/>
                        </a:buClr>
                        <a:buSzPct val="7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to main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CFC6-8B7D-4671-9C8F-764EC9125F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81440"/>
            <a:ext cx="7175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d5f5d"/>
                </a:solidFill>
                <a:latin typeface="Arial"/>
              </a:rPr>
              <a:t>Next     </a:t>
            </a:r>
            <a:endParaRPr b="0" lang="en-US" sz="2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from market the level of acceptable unmitigated credit expo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with market to implement changes to get to desired level of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0175-BBB0-403D-B56C-82ED5FDC5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45120" y="2311200"/>
            <a:ext cx="7853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6000" y="3013200"/>
            <a:ext cx="71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Verdana"/>
              </a:rPr>
              <a:t>Input, Questions, and Wrap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2C10-4BA7-4551-8383-D1F90D00A5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15084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Credit Exposure (primarily QSEs)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Exposure – 3 primary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standing Invo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nvoiced items (historic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cted Forward Li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f this discussion - Expected Forward Liabilit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oth QSEs and LS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for “exit”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currently unmitigated credit exposure in the market in this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with current mitigation plans, there is still expected to be unmitigated credit expo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6D01-5DA5-45BF-B82D-376A62E794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50840"/>
            <a:ext cx="6261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Credit Exposure – How much?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 for the market and the BO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an acceptable level of unmitigated credit exposu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e market get to that level of credit exposu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63A8-667E-491B-938B-DE826E831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11680"/>
            <a:ext cx="6782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Credit Exposure – Expected Forward Liability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exposure related to a troubled entity centers around that entity’s use of the Balancing Energy Service (B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troubled entity that has been “cut off” for credit reasons from its bilateral energy providers still serve its end us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default, energy requirements come from the BES, creating liability for remaining market particip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exposure related to a QSE or LSE exists as long as end users are associated with that 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ergy continues to flow to end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6836-9484-4A3D-863A-F9D5BE15C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4560" y="76680"/>
            <a:ext cx="7495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Credit Exposure – around Mass Transition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exposure can only be eliminated by moving end users to another ent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the Mass Transition pro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exposure is currently mitigate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lthough not fully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i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teral covers approximately 2 weeks forward for “exit” proces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t historical levels of BES us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B584-9F4E-4CA1-A544-85028750A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1296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Credit Exposure – Mitigation Shortfalls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recent experienc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with smaller players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takes longer than 2 weeks for “exit” pro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ing notice periods and Mass Trans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lieve majority of liability – close to 3 wee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losses have been experience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nd are likely to continu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e to a combination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ollateral is calculated per Protoc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long it currently takes the market to transition end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93B7-D3AB-4627-A0CD-B6F7251C75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14976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Approx Timeline to Remove a Troubled QS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entify problem and make collateral ca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tice periods (6 B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ateral d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ice of default giv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BDays to cure defaul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ass transition (9-11 BDay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ference call to begin Mass Transi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Rs initiate switches (5 BDays allowed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es to date have taken, on avg 3 BDay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until switch complete by TDS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ay 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ote:  15 business days + 6 weekend days = 21 days of liabilit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7D9A-4AFA-4888-AED5-20EF9EDA1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5084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Potential loss in exit scenario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 los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mplified examp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llateral he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,000 MWh/day  x $100/MWh x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0%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4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ys =   $    14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t 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,000 MWh/day x $100/MWh x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00%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ays =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$ 2,10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tential loss to the marke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$ 1,96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100 MWh/da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$   196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10,000 MWh/da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$ 19,60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question: Is 21 days a reasonable estimate if the MP is a larger entity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9933-6082-4BDD-9723-7EE5E98A95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4560" y="12960"/>
            <a:ext cx="677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d5f5d"/>
                </a:solidFill>
                <a:latin typeface="Arial"/>
              </a:rPr>
              <a:t>Potential loss in exit scenario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loss r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MCPE = $100/MWh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ized based 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S   10%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S 100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 Default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S 100%          BES 10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    100 MWh/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$ 196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        7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 1,000 MWh/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  1,960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      70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10,000 MWh/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$ 19,600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   7,00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7A63-BA71-4286-A973-7C0CB4007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nn Boren</cp:lastModifiedBy>
  <dcterms:modified xsi:type="dcterms:W3CDTF">2005-11-22T21:51:42Z</dcterms:modified>
  <cp:revision>220</cp:revision>
  <dc:subject/>
  <dc:title>Slide 1</dc:title>
</cp:coreProperties>
</file>