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E58-9BA2-4917-B096-0D61264C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7F2-E0B0-46CF-A7BC-8384F8F1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8D6-7978-49E9-81A4-851F0673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1C8-654E-4A45-90EC-587B395D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F1B4-9CDC-448B-BAAC-A0B8CD32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27D4-39ED-4328-AB5D-1A045466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ABF7-FBD2-494F-BD94-72EFA2B9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B3A6-45E2-4EBA-A196-8F3AB31C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6C99-6C1C-4072-8742-7AE95603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CE8E-697D-4DDC-8DEE-6E21B155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E265-C05B-4A64-8C80-0F9DA72C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576-AD9D-419F-B20E-DA66E635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63F3-CFD4-4C3C-92D0-0F851E74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6DB6-DD31-4281-B48A-CE732021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304D-8978-49D0-BF58-87DC1C5B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0471-D715-44C6-8A0F-7DB8A738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0483-F8BA-4831-B7D8-9FAE0414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4F3-6ADE-43AB-8DC7-6E0B96DD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AC4-3B37-4DF3-9E67-E40C74B5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DA4-E464-482B-B2C0-4AE86748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CC4-440E-429C-8D88-9DDCCDE1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DFA-27D6-4551-980F-28B889E1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5C0-5EF9-4609-B6FA-4B533F1B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DCA-1DD3-48BE-8889-84D7A744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132C-A6A5-4886-9403-DAE7CED6A4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5725-8C0C-44C7-97C7-E8CC8D4952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rotocol Revision Subcommitte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November 3,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2149-135F-4654-88B2-2D2B29BEF4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19 – Day-Ahead Procurement of LaaR for R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52280" y="1143000"/>
          <a:ext cx="8839440" cy="484668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enaska, IPM, DSW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s all cleared LaaR bids to proportional awar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minates the need for “zero” bids to ensure participation; may reduce credit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ef45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ef45"/>
                          </a:solidFill>
                          <a:latin typeface="Arial"/>
                        </a:rPr>
                        <a:t>Priority 2.1; Rank 106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ef45"/>
                          </a:solidFill>
                          <a:latin typeface="Arial"/>
                        </a:rPr>
                        <a:t>No CBA Ratio – Unquantifiable Benef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cost ~$50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ee “Benefit” abov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ved (6 Abstentions; 6 Opposed)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on System Imple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1CE-5008-49E0-BBA2-640CB111A4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19 – Day-Ahead Procurement of LaaR for R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27432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38098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20080" y="27795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$100 K; 3 mon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20080" y="38466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E3F-18E9-4E07-91D6-427DE8791E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0 – Notifying QSEs of their DBES Perce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280" y="1143000"/>
          <a:ext cx="8839440" cy="445464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P Energy, IP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quires ERCOT to post %s and only notify of DBES % changes via we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s unnecessary message traff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nimously approved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y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197-4475-4E7C-A533-55B72C92F9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0 – Notifying QSEs of their DBES Perce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20800" y="384660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time system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4120" y="435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8080" y="435780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Months Needed for Upd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042-9A24-49A1-96CF-AD2991B090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1 – QSE Qualification Using Renewable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52280" y="1143000"/>
          <a:ext cx="8839440" cy="500364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PL Energy, IGE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fies QSEs representing only Uncontrollable Resources may qualify to provide DBES; clarifies quantity available to ERCOT based on qualifi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ows Uncontrollable Resources to provide D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nimously approved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y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D61-D9B3-46CB-AC7E-8D07999066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1 – QSE Qualification Using Renewable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4120" y="435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7720" y="435780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Week Needed for Upd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91A-2492-4CF5-AE44-DE50375321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2 – Calculation of Marginal HR for Resources Receiving OOME UP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52280" y="1143000"/>
          <a:ext cx="8839440" cy="441972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RCO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etes conflicting sentence inadvertently left in PRR 5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col accura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nimously approved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y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8CF-84BC-469A-80B3-FD65D1F4C2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2 – Calculation of Marginal HR for Resources Receiving OOME UP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435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D6B-C1CF-4858-9E16-1F2FA65FDF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3 – Resource Plan Use for OOME Instructed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52280" y="1143000"/>
          <a:ext cx="8839440" cy="469908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RCO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fies that most current Resource Plan available for RT Balancing Market Clearing be u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gns protocols with EMMS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nimously approved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y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7C1-5919-413B-9A77-DC78991CB8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3 – Resource Plan Use for OOME Instructed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435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C20-4165-4869-A156-C6021542D2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S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ce Chair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ve Madden, StarTex Power (IRE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 PRRs for 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System Changes – IA/C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Non-System Changes – IA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standing PRR System Change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dural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itization Issue – ERCOT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93B-CFE0-4BF8-8993-5785BB6255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4 – Clarification of Market Participant Default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52280" y="1143000"/>
          <a:ext cx="8839440" cy="469908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NP, IGEN, WMS/RMS JTF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 the WMS/RMS Joint Task Force recommendation, the PRR strengthens/clarifies protocols addressing default situ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ngthens the market default mechan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ved (1 Abstention)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y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278-C72B-46BD-9029-1C4B4C990D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4 – Clarification of Market Participant Default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4120" y="435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C45-12B5-4F1B-AC14-2A1DC9E6C1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8 – ERCOT Operation Performance – Non-Spin Reserve Service Deploy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52280" y="1143000"/>
          <a:ext cx="8839440" cy="469908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XU Wholesale, IO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quires ERCOT to publish % of BES bids awarded during every interval that includes non-spin reserve serv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s market transparen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nimous approval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y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473-4EEE-47CF-B67E-733BB438F9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8 – ERCOT Operation Performance – Non-Spin Reserve Service Deploy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435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0FF-A4B5-48DB-8277-A022324195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36 – Texas SET Version 2.1 – Customer Registration -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UR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52280" y="1143000"/>
          <a:ext cx="8839440" cy="476424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eliant Energy, IPM, TXS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dated and added sections to conform with TX SET 2.1 changes to transaction and business proces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iance with updated TX SET guidelin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dates to retail transaction business processing and computer syste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nimously approved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y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573-0AA1-47C4-97E4-F35B91DFF5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36 – Texas SET Version 2.1 – Customer Registration --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UR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34120" y="435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31C-7615-4A84-AE97-992713FC86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37 – Texas SET Version 2.1 – Retail Point-to-Point Communications --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UR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52280" y="1143000"/>
          <a:ext cx="8839440" cy="475920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eliant Energy, IPM, TXS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cations &amp; additions to support TX SET 2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iance with updated TX SET guidelin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dates to retail transaction business processing and computer syste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nimously approved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y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7CD-8C91-4336-BFD7-C7B342B033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37 – Texas SET Version 2.1 – Retail Point-to-Point Communications --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UR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34120" y="435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A02-F3D8-40C2-A25C-EB710B2719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R 598 – Extension of Credit Against OOM Start-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R 601 – 15 Minute Ramping for BES &amp; Base Power Sche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R 602 – A/S Obligation for DC Tie Ex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R 619 – Day-Ahead Procurement of LaaR for R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R 620 – Notifying QSEs of their DBES Percent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R 621 – QSE Qualification Using Renewable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R 622 – Calculation of Marginal HR for Resources Receiving OOME Up Instru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R 623 – Resource Plan Use for OOME Instructed Devi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R 624 – Clarification of Market Participant Default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R 636 – Texas SET Version 2.1 – Customer Regis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R 637 – Texas SET Version 2.1 – Retail Point-to-Point Trans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307-606B-44AE-AD01-EAACB9871E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Other PRS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25F2-4A63-4B63-9F14-001E0FA0D0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rotocol Revision Reques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AF31-02B5-46DE-BB87-3F4A29AF90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S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S updated its procedures reflecting the changes made by TAC to the TAC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st TAC approve the revised PRS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493-6E22-44F9-980A-8170D28F8D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Outstanding PRR System Change 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F2B-63C8-4ACD-93BC-9895F4717B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Outstanding PRR System Change 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initiated review of outstanding PRRs awaiting system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 PRS meetings – October 7 &amp; 27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criteria to apply to current market design system change proposals for appropriate priorit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criteria to existing protocols on the project list and determine if priority i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B8D-53D2-417E-8E46-E5E74ED5AE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Outstanding PRR System Change 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ft Criteria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required by statute, PUCT order, NERC compliance or critical reliability of grid operations, IT infrastructure or commercial sett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“value” to all market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“value” to one or two market segments or ER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um “value” to all market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um “value” to only one segment or ER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44B-D9BF-44ED-8DED-E3A3E18C16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Outstanding PRR System Change 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ue” defin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ed by CBA, longevity (e.g., modification is long-term or short-term) and qualitative considerations such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tential to conflict with ERCOT resources devoted ot other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category (IT infrastructure, grid operations, commercial settlement) and level of criticality for reliability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aw vote information on 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 benefit to 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act on existing approved/prioritized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exposure as defined by risk management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980-E6A1-4A59-BDC5-C2D723613D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Outstanding PRR System Change 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COT internally assessing application of new criteria to existing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COT to report at November PRS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S to approve criteria for use and apply to the current project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S reports findings to TAC (January 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DDD-5937-45AB-B2ED-4E3AFB9EE6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RS Policy Question For TAC Conside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4CB4-9E0D-49F5-A3F0-61DD3D3160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S Review of ERCOT Proj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C assigned PRS with prioritizing all projects (PUCT Staff, Market &amp; ERCO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projects are not associated with PR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s are reviewed over a 4 months in at least 4 public meetings and sometimes more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OCT and PUCT projects not associated with a PRR are simply listed for PRS to review with limit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S is confident in its ability to rank reviewed PRR projects, but lacks the information to properly rank ERCOT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250-A794-4F10-B28B-2F62FFA015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S Review of ERCOT Proj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is addressing the issues of improved criteria for prioritizing all PRRs and having ERCOT provide mor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aises the issues surrounding ERCOT projects and requests feedback on the process and whether PRS is the best group to rank all pro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219-6CD9-44D1-9F12-0FEF0A0DAC4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071-8B91-4E6C-B3BE-3E13C205CF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598 – Charge Against OOM Start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280" y="1143000"/>
          <a:ext cx="8839440" cy="561492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PUC – Consum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 MCPE &gt; RCG Min Energy Cost, the difference will be charged against start-up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OOMC costs when MCPE is 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rofit for OOMC Resource &amp; reduced market costs when MCPE is 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ef45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ef45"/>
                          </a:solidFill>
                          <a:latin typeface="Arial"/>
                        </a:rPr>
                        <a:t>Priority 1.1; Rank 32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ef45"/>
                          </a:solidFill>
                          <a:latin typeface="Arial"/>
                        </a:rPr>
                        <a:t>No CBA Ratio – Unquantifiable Benef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cost ~$50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OT analysis indicates some claw-back of start-up costs would occur 8% of the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MP implementation cost, no ongoing ERCOT staffing c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nimously approved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on System Imple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81F-37E3-4544-BE0B-49DC6D6B7F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598 – Charge Against OOM Start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27432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38098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20080" y="277956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$100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22600" y="384660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or Lodestar co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2CC-4752-4353-B0BE-1A6C6A7F8B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01 – 15-Minute Ramping for BES &amp; Base Power 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280" y="1143000"/>
          <a:ext cx="8839440" cy="524520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enaska, IPM, QSEW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 Potomac #9, changes ramping period from 10 minutes to 15 min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BES deployment; may reduce Reg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quires QSE/Resource system modific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ef45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ef45"/>
                          </a:solidFill>
                          <a:latin typeface="Arial"/>
                        </a:rPr>
                        <a:t>Priority 1.2; Rank 79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ef45"/>
                          </a:solidFill>
                          <a:latin typeface="Arial"/>
                        </a:rPr>
                        <a:t>No CBA Ratio – Unquantifiable Benef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cost ~$360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BES liquidity, enacts Potomac #9, SCE performance may improve, may reduce reg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even if Regulation is reduced 0.75% or l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ved (1 Abstention)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on System Imple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904-FC3C-4690-B602-0FFA5DCE2B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01 – 15-Minute Ramping for BES &amp; Base Power 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7432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8098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434340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21880" y="277956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00-$500 K; 4-6 mon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20080" y="384660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destar, SPD &amp; AG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8800" y="435780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s new testing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357-E821-4AEB-A69F-FF2691CEE3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02 – A/S Obligation for DC Tie 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280" y="1143000"/>
          <a:ext cx="8839440" cy="528012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enaska, IPM, QSEW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oves A/S allocation to DC-Tie expo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/PRS comment to amend – exclude RP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lects export impacts to ERCOT 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/S obligations change slight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ef45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ef45"/>
                          </a:solidFill>
                          <a:latin typeface="Arial"/>
                        </a:rPr>
                        <a:t>Priority 1.1; Rank 32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ef45"/>
                          </a:solidFill>
                          <a:latin typeface="Arial"/>
                        </a:rPr>
                        <a:t>CBA Ratio – 33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 Benefit $1.6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eates export opportunities (500 MW for 300 hours/year, marginal value $3/MW over 4 year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lusion does not apply to RP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ved (2 Abstentions)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on System Imple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959-81B9-4B39-8DD3-CC4FE83A4D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02 – A/S Obligation for DC Tie 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27432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38098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19360" y="27795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$100 K; ~6 mon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20800" y="3846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dest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9160" y="489096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s procedures up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A1E-7A53-4883-962C-09AF820087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1:47Z</dcterms:created>
  <dc:creator>Michael Oldak</dc:creator>
  <dc:description/>
  <dc:language>en-US</dc:language>
  <cp:lastModifiedBy>kgresham</cp:lastModifiedBy>
  <dcterms:modified xsi:type="dcterms:W3CDTF">2005-11-02T21:53:41Z</dcterms:modified>
  <cp:revision>86</cp:revision>
  <dc:subject/>
  <dc:title>Electricity 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E85B5003D51B714A8A6436DB6BD21B1D0700F69D146182963C4BBADCC8C900482FB200000012F8A40000F69D146182963C4BBADCC8C900482FB2000001F039290000</vt:lpwstr>
  </property>
  <property fmtid="{D5CDD505-2E9C-101B-9397-08002B2CF9AE}" pid="3" name="_NewReviewCycle">
    <vt:lpwstr/>
  </property>
  <property fmtid="{D5CDD505-2E9C-101B-9397-08002B2CF9AE}" pid="4" name="_ReviewCycleID">
    <vt:r8>1576423983</vt:r8>
  </property>
  <property fmtid="{D5CDD505-2E9C-101B-9397-08002B2CF9AE}" pid="5" name="_TentativeReviewCycleID">
    <vt:r8>1576423983</vt:r8>
  </property>
</Properties>
</file>