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8EAF6-F59A-4F15-A451-389CC73D1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C8418-CEFA-41A8-AAE9-EC0AEF686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797E8-ABA4-403E-9DBE-918E3E2A5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B21B3-FE51-49A2-9C40-F96D8ED89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B50D6-8BA9-4ACE-8A8F-64B2972D9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F4E59-C9AE-464F-8181-F367A26FE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920BC-1B77-4135-AF02-66FC8EE4F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C7A81-6E23-4350-998A-71583DB4D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084D6-2DAE-4494-8AC8-0F05DD2DF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2B725-42D7-4E68-83BF-129BE0891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3429B-0788-420E-B01E-109548BA0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BAC63-0491-44C9-875A-B3B655303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2F93-9C21-4B7A-9614-DD1134170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TAC</a:t>
            </a:r>
            <a:br>
              <a:rPr sz="4000"/>
            </a:br>
            <a:r>
              <a:rPr b="1" i="1" lang="en-US" sz="4000" spc="-1" strike="noStrike">
                <a:solidFill>
                  <a:srgbClr val="0000ff"/>
                </a:solidFill>
                <a:latin typeface="Arial"/>
              </a:rPr>
              <a:t>Potomac Recommendation Monthly Update</a:t>
            </a:r>
            <a:br>
              <a:rPr sz="4000"/>
            </a:br>
            <a:r>
              <a:rPr b="1" i="1" lang="en-US" sz="4000" spc="-1" strike="noStrike">
                <a:solidFill>
                  <a:srgbClr val="0000ff"/>
                </a:solidFill>
                <a:latin typeface="Arial"/>
              </a:rPr>
              <a:t>October 6, 2005</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eves L</a:t>
            </a:r>
            <a:r>
              <a:rPr b="0" lang="en-US" sz="1800" spc="-1" strike="noStrike">
                <a:solidFill>
                  <a:srgbClr val="000000"/>
                </a:solidFill>
                <a:latin typeface="Arial"/>
                <a:ea typeface="Arial"/>
              </a:rPr>
              <a:t>ópez</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RCOT Market R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Congestion Management</a:t>
            </a:r>
            <a:endParaRPr b="0" lang="en-US" sz="2000" spc="-1" strike="noStrike">
              <a:solidFill>
                <a:srgbClr val="000000"/>
              </a:solidFill>
              <a:latin typeface="Arial"/>
            </a:endParaRPr>
          </a:p>
        </p:txBody>
      </p:sp>
      <p:graphicFrame>
        <p:nvGraphicFramePr>
          <p:cNvPr id="44" name=""/>
          <p:cNvGraphicFramePr/>
          <p:nvPr/>
        </p:nvGraphicFramePr>
        <p:xfrm>
          <a:off x="457200" y="685800"/>
          <a:ext cx="8229600" cy="5497560"/>
        </p:xfrm>
        <a:graphic>
          <a:graphicData uri="http://schemas.openxmlformats.org/drawingml/2006/table">
            <a:tbl>
              <a:tblPr/>
              <a:tblGrid>
                <a:gridCol w="3352680"/>
                <a:gridCol w="1143000"/>
                <a:gridCol w="3733920"/>
              </a:tblGrid>
              <a:tr h="456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99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Improve the process for designating zones to minimize the effects of the simplifying zonal assumption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9 (CSC and Zone Determina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B</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6/21/05.</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7/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37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 Improve process for evaluating and revising CSC definiti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W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ggested improvements have been incorporated into the current versions of PRR587 and PRR 689.</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071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 Modify the calculation methodology of the zonal average shift factor to exclude generation whose output is generally fixed (e.g., nuclear uni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92 (Modify Shift Factor Calculation to Exclude  Fixed Output Generator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6/21/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11/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Congestion Management – Cont’d</a:t>
            </a:r>
            <a:endParaRPr b="0" lang="en-US" sz="2000" spc="-1" strike="noStrike">
              <a:solidFill>
                <a:srgbClr val="000000"/>
              </a:solidFill>
              <a:latin typeface="Arial"/>
            </a:endParaRPr>
          </a:p>
        </p:txBody>
      </p:sp>
      <p:graphicFrame>
        <p:nvGraphicFramePr>
          <p:cNvPr id="46" name=""/>
          <p:cNvGraphicFramePr/>
          <p:nvPr/>
        </p:nvGraphicFramePr>
        <p:xfrm>
          <a:off x="457200" y="1219320"/>
          <a:ext cx="8229600" cy="5376600"/>
        </p:xfrm>
        <a:graphic>
          <a:graphicData uri="http://schemas.openxmlformats.org/drawingml/2006/table">
            <a:tbl>
              <a:tblPr/>
              <a:tblGrid>
                <a:gridCol w="3276720"/>
                <a:gridCol w="1295280"/>
                <a:gridCol w="3657600"/>
              </a:tblGrid>
              <a:tr h="45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8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 Provide ERCOT the operational flexibility to temporarily modify the definition of a CSC associated with topology chang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7 (Intra-Year Modification of CRE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6/21/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on 7/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6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 ERCOT should modify its multi-step balancing energy market optimization to recognize the interactions between its local congestion management and zonal balancing energy deployments to minimize the costs of both classes of deploymen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complexity and cost, the issue deferred until after the PUCT decision on the nodal market desig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C</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Load Forecast</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48" name=""/>
          <p:cNvGraphicFramePr/>
          <p:nvPr/>
        </p:nvGraphicFramePr>
        <p:xfrm>
          <a:off x="457200" y="1282680"/>
          <a:ext cx="8229600" cy="3137040"/>
        </p:xfrm>
        <a:graphic>
          <a:graphicData uri="http://schemas.openxmlformats.org/drawingml/2006/table">
            <a:tbl>
              <a:tblPr/>
              <a:tblGrid>
                <a:gridCol w="2743200"/>
                <a:gridCol w="1295280"/>
                <a:gridCol w="419112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8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 ERCOT examine its load forecasting model to determine whether there are additional factors that could be considered or other changes to their model that would improve its accuracy.</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going and on schedule.  ERCOT has completed some items relating to load forecasting.  ERCOT will continue to evaluate and make any additional changes.  No PRR required for implementatio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Balancing Energy Market</a:t>
            </a:r>
            <a:endParaRPr b="0" lang="en-US" sz="2000" spc="-1" strike="noStrike">
              <a:solidFill>
                <a:srgbClr val="000000"/>
              </a:solidFill>
              <a:latin typeface="Arial"/>
            </a:endParaRPr>
          </a:p>
        </p:txBody>
      </p:sp>
      <p:graphicFrame>
        <p:nvGraphicFramePr>
          <p:cNvPr id="50" name=""/>
          <p:cNvGraphicFramePr/>
          <p:nvPr/>
        </p:nvGraphicFramePr>
        <p:xfrm>
          <a:off x="228600" y="914400"/>
          <a:ext cx="8686800" cy="5719680"/>
        </p:xfrm>
        <a:graphic>
          <a:graphicData uri="http://schemas.openxmlformats.org/drawingml/2006/table">
            <a:tbl>
              <a:tblPr/>
              <a:tblGrid>
                <a:gridCol w="3505320"/>
                <a:gridCol w="1447560"/>
                <a:gridCol w="373392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68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 Allow QSEs to submit an energy schedule for the end of the next hour that would be used by ERCOT to produce 15-minute schedule quantities by interpolating across the hour.</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aska – for QSE PM W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609 (Smooth 15-Minute Resource Schedule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jected by TAC on 7/21/07.</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3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mplement an optional capability for QSEs to automatically adjust their hourly balancing energy offers for the changes in their 15-minute schedules.  This would help ensure that the participant’s portfolio energy offer is consistent with its energy schedules when the energy schedule is changing each interval.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 through QSE PM W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600 (Align BES Bids with Resource Plan Capability and Resource Schedule)</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r>
                        <a:rPr b="1" lang="en-US" sz="1800" spc="-1" strike="noStrike">
                          <a:solidFill>
                            <a:srgbClr val="cc0000"/>
                          </a:solidFill>
                          <a:latin typeface="Arial"/>
                        </a:rPr>
                        <a:t>.</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pproved by BOD on 9/20/05.</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ffective 10/1/05.</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Recommendations Related to Balancing Energy Market</a:t>
            </a:r>
            <a:r>
              <a:rPr b="1" i="1" lang="en-US" sz="2000" spc="-1" strike="noStrike">
                <a:solidFill>
                  <a:srgbClr val="0000ff"/>
                </a:solidFill>
                <a:latin typeface="Arial"/>
              </a:rPr>
              <a:t> - Cont’d</a:t>
            </a:r>
            <a:endParaRPr b="0" lang="en-US" sz="2000" spc="-1" strike="noStrike">
              <a:solidFill>
                <a:srgbClr val="000000"/>
              </a:solidFill>
              <a:latin typeface="Arial"/>
            </a:endParaRPr>
          </a:p>
        </p:txBody>
      </p:sp>
      <p:graphicFrame>
        <p:nvGraphicFramePr>
          <p:cNvPr id="52" name=""/>
          <p:cNvGraphicFramePr/>
          <p:nvPr/>
        </p:nvGraphicFramePr>
        <p:xfrm>
          <a:off x="152280" y="838080"/>
          <a:ext cx="8839440" cy="6113520"/>
        </p:xfrm>
        <a:graphic>
          <a:graphicData uri="http://schemas.openxmlformats.org/drawingml/2006/table">
            <a:tbl>
              <a:tblPr/>
              <a:tblGrid>
                <a:gridCol w="3733920"/>
                <a:gridCol w="1143000"/>
                <a:gridCol w="3962520"/>
              </a:tblGrid>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91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Eliminating the load and generation plateau in the middle of the interval by changing the modeling approach for load and generatio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601 (15 Minute Ramping for BES and Base Power Schedule)</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manded to TAC by BOD on 9/20/05.</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manded to PRS by BOD on 10/6/05.</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ill be addressed by TAC on 1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 Require that QSEs submit physically feasible energy schedules.  It would be difficult to automatically validate the schedules for feasibility since they can be submitted well before the operating hour.  However, it could be monitored and enforced through ex post validation of compliance.</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25 (SCE Performance and Monitoring).</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ed by BOD on 4/19/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implementation effective 5/1/05.  Full implementation and enforcement effective upon system implementa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Recommendations Related to Balancing Energy Market</a:t>
            </a:r>
            <a:r>
              <a:rPr b="1" i="1" lang="en-US" sz="2000" spc="-1" strike="noStrike">
                <a:solidFill>
                  <a:srgbClr val="0000ff"/>
                </a:solidFill>
                <a:latin typeface="Arial"/>
              </a:rPr>
              <a:t> - Cont’d</a:t>
            </a:r>
            <a:endParaRPr b="0" lang="en-US" sz="2000" spc="-1" strike="noStrike">
              <a:solidFill>
                <a:srgbClr val="000000"/>
              </a:solidFill>
              <a:latin typeface="Arial"/>
            </a:endParaRPr>
          </a:p>
        </p:txBody>
      </p:sp>
      <p:graphicFrame>
        <p:nvGraphicFramePr>
          <p:cNvPr id="54" name=""/>
          <p:cNvGraphicFramePr/>
          <p:nvPr/>
        </p:nvGraphicFramePr>
        <p:xfrm>
          <a:off x="228600" y="685800"/>
          <a:ext cx="8686800" cy="5548320"/>
        </p:xfrm>
        <a:graphic>
          <a:graphicData uri="http://schemas.openxmlformats.org/drawingml/2006/table">
            <a:tbl>
              <a:tblPr/>
              <a:tblGrid>
                <a:gridCol w="3657600"/>
                <a:gridCol w="1219320"/>
                <a:gridCol w="380988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72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 Implement uninstructed deviation charges that allocate a portion of the regulation costs to the QSEs exhibiting large SCEs in the periods during each hour with the largest regulation needs.  In particular, we propose specific changes to PRR 356 that has been pending for more than two year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CT WM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6 (SCE Performance and Regulation Cost Re-Allocatio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rgency Status denied.</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ackcast reviewed at 4/21/05 WMS meeting.</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again discussed at 4/17/05 WMS meeting.</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S considered the PRR on 5/19/05 and 7/21/05.  PRR is remanded the PRR to ROS and WM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2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 Consider a specific modification of ERCOT’s portfolio ramp rate methodology that would recognize the changes in energy schedule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complexity and cost, the issue deferred until after the PUCT decision on the nodal market desig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4582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Recommendations Related to Balancing Energy Market</a:t>
            </a:r>
            <a:r>
              <a:rPr b="1" i="1" lang="en-US" sz="2000" spc="-1" strike="noStrike">
                <a:solidFill>
                  <a:srgbClr val="0000ff"/>
                </a:solidFill>
                <a:latin typeface="Arial"/>
              </a:rPr>
              <a:t> - Cont’d</a:t>
            </a:r>
            <a:endParaRPr b="0" lang="en-US" sz="2000" spc="-1" strike="noStrike">
              <a:solidFill>
                <a:srgbClr val="000000"/>
              </a:solidFill>
              <a:latin typeface="Arial"/>
            </a:endParaRPr>
          </a:p>
        </p:txBody>
      </p:sp>
      <p:graphicFrame>
        <p:nvGraphicFramePr>
          <p:cNvPr id="56" name=""/>
          <p:cNvGraphicFramePr/>
          <p:nvPr/>
        </p:nvGraphicFramePr>
        <p:xfrm>
          <a:off x="152280" y="762120"/>
          <a:ext cx="8839440" cy="5181480"/>
        </p:xfrm>
        <a:graphic>
          <a:graphicData uri="http://schemas.openxmlformats.org/drawingml/2006/table">
            <a:tbl>
              <a:tblPr/>
              <a:tblGrid>
                <a:gridCol w="2514600"/>
                <a:gridCol w="1219320"/>
                <a:gridCol w="5105520"/>
              </a:tblGrid>
              <a:tr h="380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33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3. ERCOT modify the limit on the quantity of responsive reserves provided from a single unit to make it less binding on relatively small unit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GRR 164 (Responsive Reserve MW Limit).</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5/12/05, ROS voted to reject this OGR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666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 ERCOT institute procedures to monitor whether QSEs are meeting their reserve obligations in real time.</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90 (Update Unit Telemetry Requiremen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GRR 165 (Update Unit Telemetry Requirement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A.</a:t>
                      </a:r>
                      <a:endParaRPr b="0" lang="en-US" sz="1800" spc="-1" strike="noStrike">
                        <a:solidFill>
                          <a:srgbClr val="000000"/>
                        </a:solidFill>
                        <a:latin typeface="Arial"/>
                      </a:endParaRPr>
                    </a:p>
                    <a:p>
                      <a:pPr>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R approved by the BOD on 8/16/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GRR is being address by R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In Summary:</a:t>
            </a:r>
            <a:endParaRPr b="0" lang="en-US" sz="3200" spc="-1" strike="noStrike">
              <a:solidFill>
                <a:srgbClr val="000000"/>
              </a:solidFill>
              <a:latin typeface="Arial"/>
            </a:endParaRPr>
          </a:p>
        </p:txBody>
      </p:sp>
      <p:sp>
        <p:nvSpPr>
          <p:cNvPr id="58"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 5 and 12 delayed pending Commission decision regarding future market design.</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 1, 2, 3, 4, 6, 7, 8, 10, and 13 complete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 9 remanded pending development of CBA.</a:t>
            </a:r>
            <a:endParaRPr b="0" lang="en-US" sz="2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 11 and 14 in progress.</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report will be posted on the ERCOT webs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6:12:35Z</dcterms:created>
  <dc:creator>Nieves Lopez </dc:creator>
  <dc:description/>
  <dc:language>en-US</dc:language>
  <cp:lastModifiedBy>BHELTON</cp:lastModifiedBy>
  <dcterms:modified xsi:type="dcterms:W3CDTF">2005-11-03T15:50:58Z</dcterms:modified>
  <cp:revision>17</cp:revision>
  <dc:subject/>
  <dc:title>TAC Potomac Recommendation Monthly Update July 7, 2005 </dc:title>
</cp:coreProperties>
</file>