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FE91-CE4F-43CA-86C1-90E55623D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8E3-B170-42A6-A2BB-87578D9B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461-7997-44C2-8501-B75B0A28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B75-7CE6-4B99-A571-06AC7A1C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9D6-48F5-4823-83AA-30D3FE87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851-5BC1-488A-8602-406E13A7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115-3554-4D0C-9DA1-AD4DF316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57E-1942-4BBC-B946-4771989E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BFB-AAC0-4557-8060-5F597E33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F72-1116-4C73-A040-F737081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A2E-76A9-438F-8E31-A9F6228E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A1B-B8B2-4FBB-9C70-9C27614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7C8-A3C5-4897-8ACB-AE3761B3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B250-1D70-4E64-B37E-404247767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vember 3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8E8-BC77-4723-AE21-AEEFB50B49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3880"/>
            <a:ext cx="83818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COPS voted to approve a draft PRR that “sets a lower limit to the number IDR meters within a Meter Reading Entity (MRE) that would be considered when determining whether the IDR threshold requirement is met or not for true-up settlement.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There are situations where 1 missed read was close to delaying True-Up Sett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Continuing the analysis of PRR 568 “Reducing Initial Settlement from 17 to 10 days.”  At this time, the second review period has not completed both the Day 8 and Day 15 aggregation check points.  Conference call set for Nov 9 for final data review.  Progress on recommendation to implement PRR568 appears positive.  Vote to be requested at the December TAC meet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DCD-CACA-4562-AFD8-699CB1A30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/ PWG Review of Commercial Settlement during Hurricane Rit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295280"/>
            <a:ext cx="83818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RCOT staff presented UFE analysis for Sept 19 –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FE vacillated from -24 to +2% due to estimated usage from previous month’s avg daily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RCOT Load is approximately 50% IDR and 50% non-I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RCOT processes calculate initial settlement usage from previous usage peri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rofiled ESIIDs use previous months avg daily kWh until a meter read for the period i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DR metered ESIIDs use similar day proxy data for initial settlemen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nal and True-up Settlements are expected to have estimated use replaced with “actual” meter 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E71-5719-41A6-99A3-D815FC7C2B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DSP Activity - Hurricane Rita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66680"/>
            <a:ext cx="83818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DSPs estimated reads due to adverse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orted estimates for non-IDR meter read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tilized standard VEE Uniform Business Practice rules for estim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 unusual adjustments were applied to the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EP estimated 8500 reads across 2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NP estimated 250,071 reads across 8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NMP estimated 15,000 reads across 3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XU ED estimated 100 reads – no cycles 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CD1-06DE-46E3-90FE-314FE59F88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dentified Conce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828800"/>
            <a:ext cx="83818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solutions will create financial winners and l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ome MPs self adjusted schedules assuming load loss during the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djusting Profiles after the fact may undermine MPs that adjusted schedules in the day ahead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cerns that a historical correction is inappropriate given the large bi-lateral ERCOT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97A-80C8-42EB-BDE9-C88EFD2D13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commend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828800"/>
            <a:ext cx="8381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voted to not adjust backcasted profiles due to events around Hurricane 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agreed an additional settlement was not necessary between Final and True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recommends PWG identify ways to accommodate extreme events on the Settle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735-7557-46B9-BEA6-7EEDA1FF14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5-10-27T15:25:37Z</dcterms:modified>
  <cp:revision>151</cp:revision>
  <dc:subject/>
  <dc:title>Point-to-Point</dc:title>
</cp:coreProperties>
</file>