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44BD-690B-41B0-9577-70146E49F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3C09-BEC6-4A90-8E15-ACCCE53D4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6338-3C74-4B75-9281-938F2E9A2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D1E8-6358-4608-A27C-82E8AD2A5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2A89-BBF8-4AED-AD6B-367AE821F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B1DB-811E-4ABA-86AA-F09ABC5A3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90AA-991D-4109-AAE8-955266375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77BB-A6A3-4632-833A-75FEF99F5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EE52-0083-4EE8-8C24-33E8E24B2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0265-5DED-48A3-B8CC-131BB08E5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B980-9A91-4F6B-A221-8457E3F4B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A1B2-CFD5-4D79-B294-5A2CA71E9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4440A-5CA5-4E28-B9C4-E61ED867B2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62120" y="38736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870120" y="1295280"/>
            <a:ext cx="6937200" cy="5580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15840" bIns="1584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9480" y="1905120"/>
            <a:ext cx="7543800" cy="22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Market Participant Default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Joint Taskforce Upd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eport on Recent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ustomer Transition Activi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362320" y="4800600"/>
            <a:ext cx="4190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rt to T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vember 03,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CC4B-8A8A-4627-823D-299A17BC1B6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cent Customer Transition Activity: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P Defaul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467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iday, September 9,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COT initiated the Mass Transition process for the ESI IDs represented by USAVE Energy Services Inc., a Qualified Scheduling Entity (QSE) and Retail Electric Provider (REP) in the ERCOT Reg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AVE represents approximately 550 ESI IDs and accounting for less than 65 MWh of Load per day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COT began facilitating daily calls and checkpoints with PUCT and impacted TDSPs and POL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COT provided TDSPs and POLRs transition ESI ID lists (no customer information available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iday, September 16,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0% of Initiating transactions submitted by POL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Business Day of the transi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4BEF-F5CB-4B02-910D-F860B03CA28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cent Customer Transition Activity: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P Defaul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day, September 26, 200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ESI IDs from initial lists have transitioned away from defaulting RE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Rs submitted off-cycle Switches to gain ESI I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LR submission tim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POLR submitted same or next day as receipt of lis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 POLR submitted within 2-3 business day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POLR submitted within 5 business day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3FE4-72F9-4D84-960E-989CE577E82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cent Customer Transition Activity: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P Defaul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924680" y="38862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7315200" y="2209680"/>
            <a:ext cx="1523880" cy="1600200"/>
            <a:chOff x="7315200" y="2209680"/>
            <a:chExt cx="1523880" cy="1600200"/>
          </a:xfrm>
        </p:grpSpPr>
        <p:sp>
          <p:nvSpPr>
            <p:cNvPr id="68" name=""/>
            <p:cNvSpPr/>
            <p:nvPr/>
          </p:nvSpPr>
          <p:spPr>
            <a:xfrm>
              <a:off x="7315200" y="2209680"/>
              <a:ext cx="152388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ast ESI ID   transitioned awa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7924320" y="3200400"/>
              <a:ext cx="1126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1066680" y="43434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38862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267080" y="4114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4876920"/>
            <a:ext cx="76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9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1066680" y="1447920"/>
            <a:ext cx="1981440" cy="2361960"/>
            <a:chOff x="1066680" y="1447920"/>
            <a:chExt cx="1981440" cy="2361960"/>
          </a:xfrm>
        </p:grpSpPr>
        <p:sp>
          <p:nvSpPr>
            <p:cNvPr id="75" name=""/>
            <p:cNvSpPr/>
            <p:nvPr/>
          </p:nvSpPr>
          <p:spPr>
            <a:xfrm>
              <a:off x="1066680" y="1447920"/>
              <a:ext cx="19814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RCOT begins daily checkpoints with impacted TDSPs, POLRs, &amp; PUC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1143000" y="2438280"/>
              <a:ext cx="53352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3886200" y="4724280"/>
            <a:ext cx="762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9/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3276720" y="3276720"/>
            <a:ext cx="2286000" cy="838080"/>
            <a:chOff x="3276720" y="3276720"/>
            <a:chExt cx="2286000" cy="838080"/>
          </a:xfrm>
        </p:grpSpPr>
        <p:sp>
          <p:nvSpPr>
            <p:cNvPr id="79" name=""/>
            <p:cNvSpPr/>
            <p:nvPr/>
          </p:nvSpPr>
          <p:spPr>
            <a:xfrm>
              <a:off x="3276720" y="3276720"/>
              <a:ext cx="2286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Times New Roman"/>
                </a:rPr>
                <a:t>th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Business Day – 100% of Initiating Transactions s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4419720" y="3733920"/>
              <a:ext cx="763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7543800" y="4724280"/>
            <a:ext cx="762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9/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228600" y="2209680"/>
            <a:ext cx="1295280" cy="1676520"/>
            <a:chOff x="228600" y="2209680"/>
            <a:chExt cx="1295280" cy="1676520"/>
          </a:xfrm>
        </p:grpSpPr>
        <p:sp>
          <p:nvSpPr>
            <p:cNvPr id="83" name=""/>
            <p:cNvSpPr/>
            <p:nvPr/>
          </p:nvSpPr>
          <p:spPr>
            <a:xfrm>
              <a:off x="228600" y="2209680"/>
              <a:ext cx="12952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P defaults under Agreements with ERCOT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5800" y="3200400"/>
              <a:ext cx="304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1066680" y="5715000"/>
            <a:ext cx="6858000" cy="307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ustomer transition should be completed in 11 Business or 17 Calendar D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43000" y="5181480"/>
            <a:ext cx="6629400" cy="533520"/>
          </a:xfrm>
          <a:prstGeom prst="rightArrow">
            <a:avLst>
              <a:gd name="adj1" fmla="val 50000"/>
              <a:gd name="adj2" fmla="val 31064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ustomer transition in prog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143000" y="2362320"/>
            <a:ext cx="2743200" cy="1523880"/>
            <a:chOff x="1143000" y="2362320"/>
            <a:chExt cx="2743200" cy="1523880"/>
          </a:xfrm>
        </p:grpSpPr>
        <p:sp>
          <p:nvSpPr>
            <p:cNvPr id="88" name=""/>
            <p:cNvSpPr/>
            <p:nvPr/>
          </p:nvSpPr>
          <p:spPr>
            <a:xfrm flipH="1">
              <a:off x="1143000" y="2819520"/>
              <a:ext cx="83808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828800" y="2362320"/>
              <a:ext cx="2057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RCOT provides ESI ID list to POLRs &amp; TDSP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1295280" y="3124080"/>
            <a:ext cx="2286000" cy="990720"/>
            <a:chOff x="1295280" y="3124080"/>
            <a:chExt cx="2286000" cy="990720"/>
          </a:xfrm>
        </p:grpSpPr>
        <p:sp>
          <p:nvSpPr>
            <p:cNvPr id="91" name=""/>
            <p:cNvSpPr/>
            <p:nvPr/>
          </p:nvSpPr>
          <p:spPr>
            <a:xfrm>
              <a:off x="1752480" y="3124080"/>
              <a:ext cx="18288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o customer info available.  POLRs begin working with TDSPs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1295280" y="3886200"/>
              <a:ext cx="8380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A302-0EE0-4940-84A5-B9870FFFDE7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557440" y="2189160"/>
            <a:ext cx="4033800" cy="3740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6A63-6797-4CD1-B331-9BABD0A882F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skforce Purpo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C created RMS/WMS joint taskforce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view current procedures for Market Participant defa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ermine whether improvements can be m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 of taskforce is to minimize or eliminate uplift expo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he initial Joint TF meet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-triggering event issues to be addressed by W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t-triggering event issues to be addressed by 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t meetings will be scheduled as 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24E6-651A-4104-A789-9EADDCD134F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MS TF Meet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ail Market Guide Revision Request (RMGRR) 0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dural Histor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 10/12/2005, RMS considered this RMGRR and unanimously voted to recommend approval of RMGRR029 as modified by the Mass Transition Taskforce comments.  All Market segments were present for the vot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sted on 11/03/05 TAC Agenda for approv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MGRR029 incorporated short-term recommendations previously passed by an email vote of RMS in July 2005 as well as additional language to address PUCT POLR Rules for ESI IDs with a peak demand above 1 M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rt-term defined as no system changes necessa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mmary of 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E558-5A6B-41B4-A59E-A150AD248E1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MS TF Meet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MGRR029 Summ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stomer Inform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LSE does not cure, defaulting LSE must provide ERCOT customer information.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COT is to send best available information to POLRs (either ESI ID list or customer information that has been obtained from defaulting RE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e event the defaulting LSE cannot provide ERCOT with customer information, POLR is to work with TDSP to obtain existing customer inform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actions and Tim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gaining CR is to submit off-cycle, unprotected 814_01 switches based on the first available switch date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the gaining CR is a POLR and the ESI ID has a peak demand above one MW, the effective date for the switch will not exceed 11 days from the submittal of the switch request to ERCO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switches must be submitted by the gaining CR within five Retail Business Days of receipt of ESI ID information from ERCOT; provided however if the gaining CR is a POLR and the ESI ID has a peak demand above one MW, the switch must be submitted within one Retail Business Day of receipt of ESI ID information from ERCO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1B78-7B95-4B25-9D49-81E67FD4512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MS TF Meet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MS Mass Transition TF recommendations for long-term 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est TX SET develop transactional solution for CR to CR tran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est RMS Mass Transition TF develop requirements for a centralized repository for customer inform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n 10/12/05, RMS endorsed the long-term recommendations of the T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 Activit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X SET is developing options for a transactional solu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MS Mass Transition TF began developing the requirements for a centralized repository for customer information and is working on a PR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EFAA-2D98-4850-BC2A-FEC85ED19D3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S TF Meet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 of previous WMS TF meetings was the submission of two Protocol Revision Requests (PRR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R624: Clarification of Market Participant Default Langu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poses changes that strengthen or clarify Protocol language that address default situations.  Much of language is based on language drafted for TNT Protoc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the situation where a QSE defaults, LSEs (other than LSEs representing themselves) are dropped to the Default QSE (16.2.12.2).  PRR clarifies that LSEs have the additional option of becoming an Emergency (EQSE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n 9/29/05, PRS voted to recommend approval of PRR624 as amended by P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n 10/20/05, PRS reviewed the Impact Analysis for PRR624 and noted that it does not require a system project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EC57-60DA-4C6C-A835-62F16A1C25D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S TF Meet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818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 of previous WMS TF meetings was the submission of two PRRs (continued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R625: Clarification of Emergency QSE Langu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poses changes that strengthen or clarify Protocol language that address when and how Emergency QSEs may be us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a default where an LSE is no longer represented by a QSE, provides for use of a virtual QSE for tracking and scheduling of the LSE’s load at ERCO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tends notification requirement to 20 Days for a QSE intending to terminate its relationship with an LS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y noon on the 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usiness Day, LSE must either name a new QSE or qualify as an EQSE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LSE does not meet either, then LSE is in breach of contrac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ice provided on afternoon of 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usiness Day and cure period begins on 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usiness Day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LSE does not cure, initiate mass transition of customer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 end of 2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Day current QSE/LSE relationship is terminated and LSE is assigned to a virtual QSE for tracking purpo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On 10/20/05, PRS voted to recommend approval of PRR625 as modified by PRS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DBDE-4E17-4DA3-A7B6-FC34204F7FD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 of Recen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stomer Transition A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5F3A-0B1F-4425-A5BE-9E838144384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ition Comparis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380880" y="1447920"/>
          <a:ext cx="8382240" cy="4263840"/>
        </p:xfrm>
        <a:graphic>
          <a:graphicData uri="http://schemas.openxmlformats.org/drawingml/2006/table">
            <a:tbl>
              <a:tblPr/>
              <a:tblGrid>
                <a:gridCol w="1739880"/>
                <a:gridCol w="1613160"/>
                <a:gridCol w="1676160"/>
                <a:gridCol w="1677960"/>
                <a:gridCol w="1675080"/>
              </a:tblGrid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t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ankl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iting 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a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nth Beg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/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/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/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9/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pproximate # of ESI I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# of Days to Submit Initiating Transac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Busin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Busin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Busin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Busin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# of Days to Complete Transi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 Business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 Calend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 Business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 Calend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Business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 Calend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 Business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 Calend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457200" y="5943600"/>
            <a:ext cx="73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Average # of Days to Complete Transition: 14 Business/20 Calend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9B70-5F8B-4E10-ACFB-C5AE61C9692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khobbs</cp:lastModifiedBy>
  <cp:lastPrinted>2002-08-23T18:53:47Z</cp:lastPrinted>
  <dcterms:modified xsi:type="dcterms:W3CDTF">2005-10-27T19:25:20Z</dcterms:modified>
  <cp:revision>680</cp:revision>
  <dc:subject/>
  <dc:title>PowerPoint Presentation</dc:title>
</cp:coreProperties>
</file>