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260B-FD19-47DC-9EE8-B0F9A3D25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7706-6CEA-4A44-B99D-CD0484FBA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F85F-8644-432E-A7B7-67EF7FE85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C256-3980-4528-A2E1-9C6E9E0A7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74880"/>
            <a:ext cx="59436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B243-BAF5-47F4-9D12-AF6E3D630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0141-9A5F-4E7A-A869-2274F3CFF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CB660-01E0-45AA-8A9B-1758E9867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6595-B6F9-4A99-832E-7FECEDC79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74880"/>
            <a:ext cx="59436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0AF3-9514-4AB2-82E0-00851C07E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E072-A2B2-4414-BE29-1C28799BD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D931-240D-4C0B-9599-206B105F8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5DCA-B69D-42BB-9AC2-16C1EBCF6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466e6c"/>
          </a:soli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C85CB260-15BC-4731-8293-3168D6C25BB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solidFill>
            <a:srgbClr val="466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solidFill>
            <a:srgbClr val="466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994040"/>
            <a:ext cx="579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588960"/>
            <a:ext cx="1600200" cy="858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240280"/>
            <a:ext cx="6172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/TNT TaskForce Up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8124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J Flow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3, 200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TAC/TNT TaskForce Update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special meetings were held to identify issues/gaps with TNT Transition Plan (T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ic philosophy of TP has been kept int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ed definition of Business Requirements, Conceptual System Design, RFI, RFP, Daylight Saving Time, and Emergency Electric Curtailment Pl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ed clarity to voting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fort to ensure all effected parties have ample opportunity to particip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fort to ensure Market has protection mechanisms in the event computer systems or market design has limi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ed clarity to high level process flow which Ron Hinsley will be presen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04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04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4CE59-35E2-4B92-B23A-3532BC72DD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TAC/TNT TaskForce Update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tion to accept the Nodal Transition Plan document as amended and to immediately create a Nodal Transition Plan Task Force (NTPTF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04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04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79F9-2A4D-41CB-A57E-A3D68E058E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4T22:11:48Z</dcterms:created>
  <dc:creator/>
  <dc:description/>
  <dc:language>en-US</dc:language>
  <cp:lastModifiedBy>Ann Boren</cp:lastModifiedBy>
  <cp:lastPrinted>2000-10-23T20:56:55Z</cp:lastPrinted>
  <dcterms:modified xsi:type="dcterms:W3CDTF">2005-11-02T21:00:47Z</dcterms:modified>
  <cp:revision>630</cp:revision>
  <dc:subject/>
  <dc:title>No Slide Title</dc:title>
</cp:coreProperties>
</file>