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086B4-DAA2-4566-A628-CFC3BB29F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64EA0-125E-4E22-B147-5146DDD4B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4175A-6739-41AD-8B0D-B27871112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E49E5-04E1-495B-8A33-184FAF20F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8630E2-0986-4CD8-9F7E-5386A5F9EB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D8C73-EF8E-4EA0-B0A7-4E44AEB1BE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8E44B-A2C7-4877-8593-C722682F6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6D9B1-676D-4AE6-A27D-DA0297FADD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0CD0B-A7E4-4FC0-AAF2-273293275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2F3CD-2522-4F51-9CD1-9183663BB8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EE2B0-7C82-4E09-B216-8284B3E9C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A5680-AA38-4385-A93B-E93F1E591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50786-4707-46AF-B45C-221BE4583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09040-847A-4C24-8923-242821DF8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04ABC-25F8-4875-8EAE-E2D5B408F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6BB8B1-5151-46D4-BA87-8A9156489F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68EF66-1CDF-49DD-BCB7-15E4D7826E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0EBB5-CCE5-43DA-9B74-06714489F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1E1DB-32B1-4D9B-9EB4-317329E17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5C17A-4D73-4525-AF09-070C5F07D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84F4A-0542-42CF-9008-F469E5C52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55EC4-AD4C-4F78-9243-8ACC0EFFC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C194B-6478-42DE-A6CF-6C28C4131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15B00-C89A-4D68-B1E4-70773F084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7209B-2D7A-4C4E-B0C3-A7F2847C107F}"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CA13A-6B5F-48C2-BCD4-3485D89C2B50}"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CR 747</a:t>
            </a:r>
            <a:endParaRPr b="0" lang="en-US" sz="4400" spc="-1" strike="noStrike">
              <a:solidFill>
                <a:srgbClr val="ccffff"/>
              </a:solidFill>
              <a:latin typeface="Tahoma"/>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  </a:t>
            </a:r>
            <a:r>
              <a:rPr b="1" lang="en-US" sz="2800" spc="-1" strike="noStrike" u="sng">
                <a:solidFill>
                  <a:srgbClr val="ccecff"/>
                </a:solidFill>
                <a:uFillTx/>
                <a:latin typeface="Tahoma"/>
              </a:rPr>
              <a:t>Issue:</a:t>
            </a:r>
            <a:r>
              <a:rPr b="1" lang="en-US" sz="2800" spc="-1" strike="noStrike">
                <a:solidFill>
                  <a:srgbClr val="ccecff"/>
                </a:solidFill>
                <a:latin typeface="Tahoma"/>
              </a:rPr>
              <a:t> </a:t>
            </a:r>
            <a:r>
              <a:rPr b="0" lang="en-US" sz="2800" spc="-1" strike="noStrike">
                <a:solidFill>
                  <a:srgbClr val="ccecff"/>
                </a:solidFill>
                <a:latin typeface="Tahoma"/>
              </a:rPr>
              <a:t>In the Real Time Balancing Market, Price Administration performed by SPD produces MCPEs and Shadow Prices for CSCs when there are infeasible solutions.  When there is an infeasible solution because of a violation of a CSC, MCPEs calculated by the Market Clearing Engine are not rational.   Zones where Balancing Energy demand is greater than supply do not always have higher prices then those zones where supply is greater than demand.</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CR 747</a:t>
            </a:r>
            <a:endParaRPr b="0" lang="en-US" sz="4400" spc="-1" strike="noStrike">
              <a:solidFill>
                <a:srgbClr val="ccffff"/>
              </a:solidFill>
              <a:latin typeface="Tahoma"/>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ecff"/>
                </a:solidFill>
                <a:uFillTx/>
                <a:latin typeface="Tahoma"/>
              </a:rPr>
              <a:t>Resolution:  </a:t>
            </a:r>
            <a:r>
              <a:rPr b="0" lang="en-US" sz="2800" spc="-1" strike="noStrike">
                <a:solidFill>
                  <a:srgbClr val="ccecff"/>
                </a:solidFill>
                <a:latin typeface="Tahoma"/>
              </a:rPr>
              <a:t>Because of the implementation of Penalty Factors that limit solving CSC congestion to $2,500 on June 9th, 2005, it is now possible to eliminate CSC violations as a trigger for Price Administration.  The Price Administration processing within SPD can be changed to not invoke Price Administration solely for violations on CSCs.   Market Operations Bulletin #20 will also be updated to reflect this change.</a:t>
            </a:r>
            <a:endParaRPr b="0" lang="en-US" sz="2800" spc="-1" strike="noStrike">
              <a:solidFill>
                <a:srgbClr val="ccec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CR 747</a:t>
            </a:r>
            <a:endParaRPr b="0" lang="en-US" sz="4400" spc="-1" strike="noStrike">
              <a:solidFill>
                <a:srgbClr val="ccffff"/>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WMS Recommendation</a:t>
            </a:r>
            <a:endParaRPr b="0" lang="en-US" sz="3200" spc="-1" strike="noStrike">
              <a:solidFill>
                <a:srgbClr val="ccecff"/>
              </a:solidFill>
              <a:latin typeface="Tahoma"/>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609480" indent="-609480">
              <a:lnSpc>
                <a:spcPct val="80000"/>
              </a:lnSpc>
              <a:spcBef>
                <a:spcPts val="799"/>
              </a:spcBef>
              <a:buClr>
                <a:srgbClr val="0066f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WMS recommends that TAC approve SCR 747 as submitted by WM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6T01:57:05Z</dcterms:created>
  <dc:creator>BHELTON</dc:creator>
  <dc:description/>
  <dc:language>en-US</dc:language>
  <cp:lastModifiedBy>BHELTON</cp:lastModifiedBy>
  <dcterms:modified xsi:type="dcterms:W3CDTF">2005-11-03T16:00:50Z</dcterms:modified>
  <cp:revision>13</cp:revision>
  <dc:subject/>
  <dc:title>WMS UPDATE</dc:title>
</cp:coreProperties>
</file>