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DBB-7C76-4D4A-BD37-F1BE40B2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AD8-4F68-4BD9-B8F6-14737132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C0A-9FAF-4103-BBEC-99F5BB4E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3F3-05E9-4DEE-A86D-CB150FA5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1C1-7F60-4653-8A65-37E99CC0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C26-62C1-45C9-A050-746C2177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153-3AF5-4ED1-996E-03D1C82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514-E0C8-4D14-B763-DB4DA919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495-EFE3-41FB-939B-0DF4DD00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A59-4F6A-40BD-BFB5-66B4F5A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875-5860-4CD2-8AD6-2554048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A4D-7289-4895-9D05-9035933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693-1F97-4480-BC63-7BEC4E02C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daily extract of customer loss notifications from Siebel and Paperfree and make it available to CRs via the ERCOT 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CRs to modify their load profiles, purchasing power agreements and energy schedules for enhanced daily load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would provide CRs timely notification of pending loss of customer load for appropriate adjustments to power purchases and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t on release of testing resources used for PR-40034 TX SET 2.1 implementation December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09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00" y="59770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August 1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October 17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to be completed December 3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 project state:  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documentation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ding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cycle currently 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00" y="59770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ract data fields identified in SCR 73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 DUNs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SP DUNs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Rea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Period End Date (i.e. SM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ract attributes defined in SCR 73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 output to DUNs number of Losing 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DDL for extract so CRs can discern extract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Note: DDL will NOT be in file contents rather will be a supplemental item available with other DDLs on 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 output file in .csv format to Market Participant folder within Repo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rer on ERCOT 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33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00" y="59770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Denise E. Tay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9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taylo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9 Pending Load Loss Reports for C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or more accurate and timely visibility into retail customer load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time and cost incurred by CRs to adjust their power purchase forecasts and power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00" y="59770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mber 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14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DTaylor</cp:lastModifiedBy>
  <dcterms:modified xsi:type="dcterms:W3CDTF">2005-11-02T21:41:31Z</dcterms:modified>
  <cp:revision>221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2-38D4-A149-08521C1C1544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