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18.gif" ContentType="image/gi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6251-CAA5-42B7-A809-7CAE31F5A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65E4A-92A9-438B-A9BC-CF140CD3F3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D2E2E-060D-47D5-B10E-92135D178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06F3-5125-4C8A-B008-257EB5BD65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1319D-0475-4576-898D-DE6D8A42A9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E16A9-8FB5-464D-8178-10718D332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BC09F-B8AC-4A17-86E1-01423C088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612BC-9931-4D8D-A95C-B1FDBF899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A26BD-ECB2-41EB-BE61-BE73D62254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F6359-BF67-4E7A-812D-5512371168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FAFC9-C31F-4642-BF3A-5039250993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424E-10E9-4688-AB96-CCDB90D42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8CC0-D40D-4C72-B291-81341F236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901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Analysis of 2005 Residential Annual Validation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361960" y="335268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Load Profi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ed to RMS - November 9,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70040" y="6578640"/>
            <a:ext cx="191880" cy="191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1920" y="648000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9240" y="6480000"/>
            <a:ext cx="24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/Bottled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31080" y="6480000"/>
            <a:ext cx="19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/Not 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35160" y="6578640"/>
            <a:ext cx="192240" cy="191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78440" y="6578640"/>
            <a:ext cx="192240" cy="191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763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Primary Heat/Age of Res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456080" y="3583080"/>
            <a:ext cx="3840120" cy="2958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85920" y="779400"/>
            <a:ext cx="3841560" cy="2960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457880" y="770040"/>
            <a:ext cx="3840120" cy="2962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384120" y="3581280"/>
            <a:ext cx="3841920" cy="295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3233B-57BC-4FBD-A4DC-B41801B23E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70040" y="6578640"/>
            <a:ext cx="191880" cy="191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61920" y="648000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89240" y="6500880"/>
            <a:ext cx="24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/Bottled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31080" y="6480000"/>
            <a:ext cx="19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/Not 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35160" y="6578640"/>
            <a:ext cx="192240" cy="191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78440" y="6578640"/>
            <a:ext cx="192240" cy="191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763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Primary Heat/Age of Res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456080" y="3618000"/>
            <a:ext cx="3841920" cy="2960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85920" y="3619440"/>
            <a:ext cx="3840120" cy="2959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456080" y="779400"/>
            <a:ext cx="3841920" cy="29574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85920" y="777960"/>
            <a:ext cx="3841560" cy="29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3E295-D1AE-4151-9AB6-C27E1D1E03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905120" y="763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Residential Surve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70040" y="5573880"/>
            <a:ext cx="8066160" cy="1234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09480" y="1239840"/>
            <a:ext cx="8076960" cy="4570200"/>
            <a:chOff x="609480" y="1239840"/>
            <a:chExt cx="8076960" cy="4570200"/>
          </a:xfrm>
        </p:grpSpPr>
        <p:grpSp>
          <p:nvGrpSpPr>
            <p:cNvPr id="153" name=""/>
            <p:cNvGrpSpPr/>
            <p:nvPr/>
          </p:nvGrpSpPr>
          <p:grpSpPr>
            <a:xfrm>
              <a:off x="3189240" y="2392560"/>
              <a:ext cx="2664000" cy="1688400"/>
              <a:chOff x="3189240" y="2392560"/>
              <a:chExt cx="2664000" cy="1688400"/>
            </a:xfrm>
          </p:grpSpPr>
          <p:sp>
            <p:nvSpPr>
              <p:cNvPr id="154" name=""/>
              <p:cNvSpPr/>
              <p:nvPr/>
            </p:nvSpPr>
            <p:spPr>
              <a:xfrm>
                <a:off x="3232440" y="2615760"/>
                <a:ext cx="2575800" cy="959760"/>
              </a:xfrm>
              <a:custGeom>
                <a:avLst/>
                <a:gdLst/>
                <a:ahLst/>
                <a:rect l="l" t="t" r="r" b="b"/>
                <a:pathLst>
                  <a:path w="1897" h="1579">
                    <a:moveTo>
                      <a:pt x="1004" y="1567"/>
                    </a:moveTo>
                    <a:lnTo>
                      <a:pt x="1002" y="1570"/>
                    </a:lnTo>
                    <a:lnTo>
                      <a:pt x="999" y="1572"/>
                    </a:lnTo>
                    <a:lnTo>
                      <a:pt x="995" y="1574"/>
                    </a:lnTo>
                    <a:lnTo>
                      <a:pt x="991" y="1576"/>
                    </a:lnTo>
                    <a:lnTo>
                      <a:pt x="986" y="1576"/>
                    </a:lnTo>
                    <a:lnTo>
                      <a:pt x="980" y="1578"/>
                    </a:lnTo>
                    <a:lnTo>
                      <a:pt x="973" y="1578"/>
                    </a:lnTo>
                    <a:lnTo>
                      <a:pt x="967" y="1579"/>
                    </a:lnTo>
                    <a:lnTo>
                      <a:pt x="959" y="1579"/>
                    </a:lnTo>
                    <a:lnTo>
                      <a:pt x="952" y="1579"/>
                    </a:lnTo>
                    <a:lnTo>
                      <a:pt x="944" y="1579"/>
                    </a:lnTo>
                    <a:lnTo>
                      <a:pt x="937" y="1579"/>
                    </a:lnTo>
                    <a:lnTo>
                      <a:pt x="930" y="1578"/>
                    </a:lnTo>
                    <a:lnTo>
                      <a:pt x="924" y="1578"/>
                    </a:lnTo>
                    <a:lnTo>
                      <a:pt x="917" y="1576"/>
                    </a:lnTo>
                    <a:lnTo>
                      <a:pt x="912" y="1576"/>
                    </a:lnTo>
                    <a:lnTo>
                      <a:pt x="907" y="1574"/>
                    </a:lnTo>
                    <a:lnTo>
                      <a:pt x="904" y="1572"/>
                    </a:lnTo>
                    <a:lnTo>
                      <a:pt x="901" y="1569"/>
                    </a:lnTo>
                    <a:lnTo>
                      <a:pt x="898" y="1567"/>
                    </a:lnTo>
                    <a:lnTo>
                      <a:pt x="0" y="0"/>
                    </a:lnTo>
                    <a:lnTo>
                      <a:pt x="41" y="39"/>
                    </a:lnTo>
                    <a:lnTo>
                      <a:pt x="95" y="77"/>
                    </a:lnTo>
                    <a:lnTo>
                      <a:pt x="165" y="109"/>
                    </a:lnTo>
                    <a:lnTo>
                      <a:pt x="249" y="138"/>
                    </a:lnTo>
                    <a:lnTo>
                      <a:pt x="343" y="161"/>
                    </a:lnTo>
                    <a:lnTo>
                      <a:pt x="448" y="181"/>
                    </a:lnTo>
                    <a:lnTo>
                      <a:pt x="562" y="197"/>
                    </a:lnTo>
                    <a:lnTo>
                      <a:pt x="685" y="207"/>
                    </a:lnTo>
                    <a:lnTo>
                      <a:pt x="816" y="215"/>
                    </a:lnTo>
                    <a:lnTo>
                      <a:pt x="952" y="216"/>
                    </a:lnTo>
                    <a:lnTo>
                      <a:pt x="1086" y="215"/>
                    </a:lnTo>
                    <a:lnTo>
                      <a:pt x="1214" y="207"/>
                    </a:lnTo>
                    <a:lnTo>
                      <a:pt x="1336" y="197"/>
                    </a:lnTo>
                    <a:lnTo>
                      <a:pt x="1449" y="182"/>
                    </a:lnTo>
                    <a:lnTo>
                      <a:pt x="1553" y="163"/>
                    </a:lnTo>
                    <a:lnTo>
                      <a:pt x="1647" y="138"/>
                    </a:lnTo>
                    <a:lnTo>
                      <a:pt x="1729" y="111"/>
                    </a:lnTo>
                    <a:lnTo>
                      <a:pt x="1799" y="79"/>
                    </a:lnTo>
                    <a:lnTo>
                      <a:pt x="1855" y="43"/>
                    </a:lnTo>
                    <a:lnTo>
                      <a:pt x="1897" y="3"/>
                    </a:lnTo>
                    <a:lnTo>
                      <a:pt x="1005" y="1567"/>
                    </a:lnTo>
                    <a:lnTo>
                      <a:pt x="1005" y="1567"/>
                    </a:lnTo>
                    <a:lnTo>
                      <a:pt x="1004" y="15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32440" y="2615760"/>
                <a:ext cx="2575800" cy="959760"/>
              </a:xfrm>
              <a:custGeom>
                <a:avLst/>
                <a:gdLst/>
                <a:ahLst/>
                <a:rect l="l" t="t" r="r" b="b"/>
                <a:pathLst>
                  <a:path w="1897" h="1579">
                    <a:moveTo>
                      <a:pt x="1004" y="1567"/>
                    </a:moveTo>
                    <a:lnTo>
                      <a:pt x="1002" y="1570"/>
                    </a:lnTo>
                    <a:lnTo>
                      <a:pt x="999" y="1572"/>
                    </a:lnTo>
                    <a:lnTo>
                      <a:pt x="995" y="1574"/>
                    </a:lnTo>
                    <a:lnTo>
                      <a:pt x="991" y="1576"/>
                    </a:lnTo>
                    <a:lnTo>
                      <a:pt x="986" y="1576"/>
                    </a:lnTo>
                    <a:lnTo>
                      <a:pt x="980" y="1578"/>
                    </a:lnTo>
                    <a:lnTo>
                      <a:pt x="973" y="1578"/>
                    </a:lnTo>
                    <a:lnTo>
                      <a:pt x="967" y="1579"/>
                    </a:lnTo>
                    <a:lnTo>
                      <a:pt x="959" y="1579"/>
                    </a:lnTo>
                    <a:lnTo>
                      <a:pt x="952" y="1579"/>
                    </a:lnTo>
                    <a:lnTo>
                      <a:pt x="944" y="1579"/>
                    </a:lnTo>
                    <a:lnTo>
                      <a:pt x="937" y="1579"/>
                    </a:lnTo>
                    <a:lnTo>
                      <a:pt x="930" y="1578"/>
                    </a:lnTo>
                    <a:lnTo>
                      <a:pt x="924" y="1578"/>
                    </a:lnTo>
                    <a:lnTo>
                      <a:pt x="917" y="1576"/>
                    </a:lnTo>
                    <a:lnTo>
                      <a:pt x="912" y="1576"/>
                    </a:lnTo>
                    <a:lnTo>
                      <a:pt x="907" y="1574"/>
                    </a:lnTo>
                    <a:lnTo>
                      <a:pt x="904" y="1572"/>
                    </a:lnTo>
                    <a:lnTo>
                      <a:pt x="901" y="1569"/>
                    </a:lnTo>
                    <a:lnTo>
                      <a:pt x="898" y="1567"/>
                    </a:lnTo>
                    <a:lnTo>
                      <a:pt x="0" y="0"/>
                    </a:lnTo>
                    <a:lnTo>
                      <a:pt x="41" y="39"/>
                    </a:lnTo>
                    <a:lnTo>
                      <a:pt x="95" y="77"/>
                    </a:lnTo>
                    <a:lnTo>
                      <a:pt x="165" y="109"/>
                    </a:lnTo>
                    <a:lnTo>
                      <a:pt x="249" y="138"/>
                    </a:lnTo>
                    <a:lnTo>
                      <a:pt x="343" y="161"/>
                    </a:lnTo>
                    <a:lnTo>
                      <a:pt x="448" y="181"/>
                    </a:lnTo>
                    <a:lnTo>
                      <a:pt x="562" y="197"/>
                    </a:lnTo>
                    <a:lnTo>
                      <a:pt x="685" y="207"/>
                    </a:lnTo>
                    <a:lnTo>
                      <a:pt x="816" y="215"/>
                    </a:lnTo>
                    <a:lnTo>
                      <a:pt x="952" y="216"/>
                    </a:lnTo>
                    <a:lnTo>
                      <a:pt x="1086" y="215"/>
                    </a:lnTo>
                    <a:lnTo>
                      <a:pt x="1214" y="207"/>
                    </a:lnTo>
                    <a:lnTo>
                      <a:pt x="1336" y="197"/>
                    </a:lnTo>
                    <a:lnTo>
                      <a:pt x="1449" y="182"/>
                    </a:lnTo>
                    <a:lnTo>
                      <a:pt x="1553" y="163"/>
                    </a:lnTo>
                    <a:lnTo>
                      <a:pt x="1647" y="138"/>
                    </a:lnTo>
                    <a:lnTo>
                      <a:pt x="1729" y="111"/>
                    </a:lnTo>
                    <a:lnTo>
                      <a:pt x="1799" y="79"/>
                    </a:lnTo>
                    <a:lnTo>
                      <a:pt x="1855" y="43"/>
                    </a:lnTo>
                    <a:lnTo>
                      <a:pt x="1897" y="3"/>
                    </a:lnTo>
                    <a:lnTo>
                      <a:pt x="1005" y="1567"/>
                    </a:lnTo>
                    <a:lnTo>
                      <a:pt x="1005" y="1567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87880" y="2426400"/>
                <a:ext cx="2471400" cy="268200"/>
              </a:xfrm>
              <a:custGeom>
                <a:avLst/>
                <a:gdLst/>
                <a:ahLst/>
                <a:rect l="l" t="t" r="r" b="b"/>
                <a:pathLst>
                  <a:path w="1820" h="442">
                    <a:moveTo>
                      <a:pt x="909" y="441"/>
                    </a:moveTo>
                    <a:lnTo>
                      <a:pt x="1059" y="439"/>
                    </a:lnTo>
                    <a:lnTo>
                      <a:pt x="1201" y="432"/>
                    </a:lnTo>
                    <a:lnTo>
                      <a:pt x="1332" y="419"/>
                    </a:lnTo>
                    <a:lnTo>
                      <a:pt x="1451" y="401"/>
                    </a:lnTo>
                    <a:lnTo>
                      <a:pt x="1557" y="380"/>
                    </a:lnTo>
                    <a:lnTo>
                      <a:pt x="1647" y="356"/>
                    </a:lnTo>
                    <a:lnTo>
                      <a:pt x="1720" y="328"/>
                    </a:lnTo>
                    <a:lnTo>
                      <a:pt x="1775" y="297"/>
                    </a:lnTo>
                    <a:lnTo>
                      <a:pt x="1809" y="263"/>
                    </a:lnTo>
                    <a:lnTo>
                      <a:pt x="1820" y="228"/>
                    </a:lnTo>
                    <a:lnTo>
                      <a:pt x="1809" y="192"/>
                    </a:lnTo>
                    <a:lnTo>
                      <a:pt x="1775" y="158"/>
                    </a:lnTo>
                    <a:lnTo>
                      <a:pt x="1720" y="125"/>
                    </a:lnTo>
                    <a:lnTo>
                      <a:pt x="1647" y="95"/>
                    </a:lnTo>
                    <a:lnTo>
                      <a:pt x="1557" y="68"/>
                    </a:lnTo>
                    <a:lnTo>
                      <a:pt x="1451" y="45"/>
                    </a:lnTo>
                    <a:lnTo>
                      <a:pt x="1332" y="27"/>
                    </a:lnTo>
                    <a:lnTo>
                      <a:pt x="1201" y="13"/>
                    </a:lnTo>
                    <a:lnTo>
                      <a:pt x="1059" y="4"/>
                    </a:lnTo>
                    <a:lnTo>
                      <a:pt x="911" y="0"/>
                    </a:lnTo>
                    <a:lnTo>
                      <a:pt x="761" y="4"/>
                    </a:lnTo>
                    <a:lnTo>
                      <a:pt x="620" y="13"/>
                    </a:lnTo>
                    <a:lnTo>
                      <a:pt x="489" y="27"/>
                    </a:lnTo>
                    <a:lnTo>
                      <a:pt x="370" y="45"/>
                    </a:lnTo>
                    <a:lnTo>
                      <a:pt x="265" y="68"/>
                    </a:lnTo>
                    <a:lnTo>
                      <a:pt x="174" y="95"/>
                    </a:lnTo>
                    <a:lnTo>
                      <a:pt x="101" y="125"/>
                    </a:lnTo>
                    <a:lnTo>
                      <a:pt x="47" y="158"/>
                    </a:lnTo>
                    <a:lnTo>
                      <a:pt x="12" y="192"/>
                    </a:lnTo>
                    <a:lnTo>
                      <a:pt x="0" y="228"/>
                    </a:lnTo>
                    <a:lnTo>
                      <a:pt x="12" y="263"/>
                    </a:lnTo>
                    <a:lnTo>
                      <a:pt x="47" y="297"/>
                    </a:lnTo>
                    <a:lnTo>
                      <a:pt x="101" y="328"/>
                    </a:lnTo>
                    <a:lnTo>
                      <a:pt x="174" y="356"/>
                    </a:lnTo>
                    <a:lnTo>
                      <a:pt x="265" y="380"/>
                    </a:lnTo>
                    <a:lnTo>
                      <a:pt x="370" y="401"/>
                    </a:lnTo>
                    <a:lnTo>
                      <a:pt x="489" y="419"/>
                    </a:lnTo>
                    <a:lnTo>
                      <a:pt x="620" y="432"/>
                    </a:lnTo>
                    <a:lnTo>
                      <a:pt x="761" y="439"/>
                    </a:lnTo>
                    <a:lnTo>
                      <a:pt x="911" y="442"/>
                    </a:lnTo>
                    <a:lnTo>
                      <a:pt x="911" y="44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450320" y="3993480"/>
                <a:ext cx="146520" cy="87480"/>
              </a:xfrm>
              <a:custGeom>
                <a:avLst/>
                <a:gdLst/>
                <a:ahLst/>
                <a:rect l="l" t="t" r="r" b="b"/>
                <a:pathLst>
                  <a:path w="108" h="145">
                    <a:moveTo>
                      <a:pt x="0" y="127"/>
                    </a:moveTo>
                    <a:lnTo>
                      <a:pt x="1" y="120"/>
                    </a:lnTo>
                    <a:lnTo>
                      <a:pt x="4" y="111"/>
                    </a:lnTo>
                    <a:lnTo>
                      <a:pt x="7" y="101"/>
                    </a:lnTo>
                    <a:lnTo>
                      <a:pt x="12" y="90"/>
                    </a:lnTo>
                    <a:lnTo>
                      <a:pt x="17" y="77"/>
                    </a:lnTo>
                    <a:lnTo>
                      <a:pt x="23" y="66"/>
                    </a:lnTo>
                    <a:lnTo>
                      <a:pt x="31" y="54"/>
                    </a:lnTo>
                    <a:lnTo>
                      <a:pt x="38" y="43"/>
                    </a:lnTo>
                    <a:lnTo>
                      <a:pt x="47" y="32"/>
                    </a:lnTo>
                    <a:lnTo>
                      <a:pt x="56" y="22"/>
                    </a:lnTo>
                    <a:lnTo>
                      <a:pt x="66" y="13"/>
                    </a:lnTo>
                    <a:lnTo>
                      <a:pt x="74" y="7"/>
                    </a:lnTo>
                    <a:lnTo>
                      <a:pt x="81" y="2"/>
                    </a:lnTo>
                    <a:lnTo>
                      <a:pt x="88" y="0"/>
                    </a:lnTo>
                    <a:lnTo>
                      <a:pt x="94" y="0"/>
                    </a:lnTo>
                    <a:lnTo>
                      <a:pt x="99" y="0"/>
                    </a:lnTo>
                    <a:lnTo>
                      <a:pt x="103" y="4"/>
                    </a:lnTo>
                    <a:lnTo>
                      <a:pt x="105" y="7"/>
                    </a:lnTo>
                    <a:lnTo>
                      <a:pt x="107" y="13"/>
                    </a:lnTo>
                    <a:lnTo>
                      <a:pt x="108" y="20"/>
                    </a:lnTo>
                    <a:lnTo>
                      <a:pt x="107" y="27"/>
                    </a:lnTo>
                    <a:lnTo>
                      <a:pt x="105" y="36"/>
                    </a:lnTo>
                    <a:lnTo>
                      <a:pt x="103" y="47"/>
                    </a:lnTo>
                    <a:lnTo>
                      <a:pt x="98" y="56"/>
                    </a:lnTo>
                    <a:lnTo>
                      <a:pt x="93" y="66"/>
                    </a:lnTo>
                    <a:lnTo>
                      <a:pt x="88" y="77"/>
                    </a:lnTo>
                    <a:lnTo>
                      <a:pt x="80" y="88"/>
                    </a:lnTo>
                    <a:lnTo>
                      <a:pt x="72" y="99"/>
                    </a:lnTo>
                    <a:lnTo>
                      <a:pt x="64" y="109"/>
                    </a:lnTo>
                    <a:lnTo>
                      <a:pt x="55" y="118"/>
                    </a:lnTo>
                    <a:lnTo>
                      <a:pt x="46" y="127"/>
                    </a:lnTo>
                    <a:lnTo>
                      <a:pt x="37" y="135"/>
                    </a:lnTo>
                    <a:lnTo>
                      <a:pt x="29" y="140"/>
                    </a:lnTo>
                    <a:lnTo>
                      <a:pt x="22" y="144"/>
                    </a:lnTo>
                    <a:lnTo>
                      <a:pt x="17" y="145"/>
                    </a:lnTo>
                    <a:lnTo>
                      <a:pt x="10" y="145"/>
                    </a:lnTo>
                    <a:lnTo>
                      <a:pt x="7" y="144"/>
                    </a:lnTo>
                    <a:lnTo>
                      <a:pt x="4" y="140"/>
                    </a:lnTo>
                    <a:lnTo>
                      <a:pt x="1" y="135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50320" y="3993480"/>
                <a:ext cx="146520" cy="87480"/>
              </a:xfrm>
              <a:custGeom>
                <a:avLst/>
                <a:gdLst/>
                <a:ahLst/>
                <a:rect l="l" t="t" r="r" b="b"/>
                <a:pathLst>
                  <a:path w="108" h="145">
                    <a:moveTo>
                      <a:pt x="0" y="127"/>
                    </a:moveTo>
                    <a:lnTo>
                      <a:pt x="1" y="120"/>
                    </a:lnTo>
                    <a:lnTo>
                      <a:pt x="4" y="111"/>
                    </a:lnTo>
                    <a:lnTo>
                      <a:pt x="7" y="101"/>
                    </a:lnTo>
                    <a:lnTo>
                      <a:pt x="12" y="90"/>
                    </a:lnTo>
                    <a:lnTo>
                      <a:pt x="17" y="77"/>
                    </a:lnTo>
                    <a:lnTo>
                      <a:pt x="23" y="66"/>
                    </a:lnTo>
                    <a:lnTo>
                      <a:pt x="31" y="54"/>
                    </a:lnTo>
                    <a:lnTo>
                      <a:pt x="38" y="43"/>
                    </a:lnTo>
                    <a:lnTo>
                      <a:pt x="47" y="32"/>
                    </a:lnTo>
                    <a:lnTo>
                      <a:pt x="56" y="22"/>
                    </a:lnTo>
                    <a:lnTo>
                      <a:pt x="66" y="13"/>
                    </a:lnTo>
                    <a:lnTo>
                      <a:pt x="74" y="7"/>
                    </a:lnTo>
                    <a:lnTo>
                      <a:pt x="81" y="2"/>
                    </a:lnTo>
                    <a:lnTo>
                      <a:pt x="88" y="0"/>
                    </a:lnTo>
                    <a:lnTo>
                      <a:pt x="94" y="0"/>
                    </a:lnTo>
                    <a:lnTo>
                      <a:pt x="99" y="0"/>
                    </a:lnTo>
                    <a:lnTo>
                      <a:pt x="103" y="4"/>
                    </a:lnTo>
                    <a:lnTo>
                      <a:pt x="105" y="7"/>
                    </a:lnTo>
                    <a:lnTo>
                      <a:pt x="107" y="13"/>
                    </a:lnTo>
                    <a:lnTo>
                      <a:pt x="108" y="20"/>
                    </a:lnTo>
                    <a:lnTo>
                      <a:pt x="107" y="27"/>
                    </a:lnTo>
                    <a:lnTo>
                      <a:pt x="105" y="36"/>
                    </a:lnTo>
                    <a:lnTo>
                      <a:pt x="103" y="47"/>
                    </a:lnTo>
                    <a:lnTo>
                      <a:pt x="98" y="56"/>
                    </a:lnTo>
                    <a:lnTo>
                      <a:pt x="93" y="66"/>
                    </a:lnTo>
                    <a:lnTo>
                      <a:pt x="88" y="77"/>
                    </a:lnTo>
                    <a:lnTo>
                      <a:pt x="80" y="88"/>
                    </a:lnTo>
                    <a:lnTo>
                      <a:pt x="72" y="99"/>
                    </a:lnTo>
                    <a:lnTo>
                      <a:pt x="64" y="109"/>
                    </a:lnTo>
                    <a:lnTo>
                      <a:pt x="55" y="118"/>
                    </a:lnTo>
                    <a:lnTo>
                      <a:pt x="46" y="127"/>
                    </a:lnTo>
                    <a:lnTo>
                      <a:pt x="37" y="135"/>
                    </a:lnTo>
                    <a:lnTo>
                      <a:pt x="29" y="140"/>
                    </a:lnTo>
                    <a:lnTo>
                      <a:pt x="22" y="144"/>
                    </a:lnTo>
                    <a:lnTo>
                      <a:pt x="17" y="145"/>
                    </a:lnTo>
                    <a:lnTo>
                      <a:pt x="10" y="145"/>
                    </a:lnTo>
                    <a:lnTo>
                      <a:pt x="7" y="144"/>
                    </a:lnTo>
                    <a:lnTo>
                      <a:pt x="4" y="140"/>
                    </a:lnTo>
                    <a:lnTo>
                      <a:pt x="1" y="135"/>
                    </a:lnTo>
                    <a:lnTo>
                      <a:pt x="1" y="127"/>
                    </a:lnTo>
                    <a:lnTo>
                      <a:pt x="1" y="127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475160" y="4008240"/>
                <a:ext cx="100080" cy="59400"/>
              </a:xfrm>
              <a:custGeom>
                <a:avLst/>
                <a:gdLst/>
                <a:ahLst/>
                <a:rect l="l" t="t" r="r" b="b"/>
                <a:pathLst>
                  <a:path w="74" h="97">
                    <a:moveTo>
                      <a:pt x="0" y="90"/>
                    </a:moveTo>
                    <a:lnTo>
                      <a:pt x="1" y="86"/>
                    </a:lnTo>
                    <a:lnTo>
                      <a:pt x="2" y="81"/>
                    </a:lnTo>
                    <a:lnTo>
                      <a:pt x="5" y="74"/>
                    </a:lnTo>
                    <a:lnTo>
                      <a:pt x="8" y="67"/>
                    </a:lnTo>
                    <a:lnTo>
                      <a:pt x="11" y="59"/>
                    </a:lnTo>
                    <a:lnTo>
                      <a:pt x="15" y="52"/>
                    </a:lnTo>
                    <a:lnTo>
                      <a:pt x="19" y="45"/>
                    </a:lnTo>
                    <a:lnTo>
                      <a:pt x="24" y="38"/>
                    </a:lnTo>
                    <a:lnTo>
                      <a:pt x="30" y="31"/>
                    </a:lnTo>
                    <a:lnTo>
                      <a:pt x="35" y="24"/>
                    </a:lnTo>
                    <a:lnTo>
                      <a:pt x="42" y="18"/>
                    </a:lnTo>
                    <a:lnTo>
                      <a:pt x="47" y="13"/>
                    </a:lnTo>
                    <a:lnTo>
                      <a:pt x="52" y="9"/>
                    </a:lnTo>
                    <a:lnTo>
                      <a:pt x="57" y="6"/>
                    </a:lnTo>
                    <a:lnTo>
                      <a:pt x="62" y="2"/>
                    </a:lnTo>
                    <a:lnTo>
                      <a:pt x="66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2" y="4"/>
                    </a:lnTo>
                    <a:lnTo>
                      <a:pt x="74" y="7"/>
                    </a:lnTo>
                    <a:lnTo>
                      <a:pt x="72" y="11"/>
                    </a:lnTo>
                    <a:lnTo>
                      <a:pt x="71" y="18"/>
                    </a:lnTo>
                    <a:lnTo>
                      <a:pt x="68" y="24"/>
                    </a:lnTo>
                    <a:lnTo>
                      <a:pt x="66" y="31"/>
                    </a:lnTo>
                    <a:lnTo>
                      <a:pt x="62" y="38"/>
                    </a:lnTo>
                    <a:lnTo>
                      <a:pt x="57" y="45"/>
                    </a:lnTo>
                    <a:lnTo>
                      <a:pt x="52" y="54"/>
                    </a:lnTo>
                    <a:lnTo>
                      <a:pt x="47" y="61"/>
                    </a:lnTo>
                    <a:lnTo>
                      <a:pt x="41" y="67"/>
                    </a:lnTo>
                    <a:lnTo>
                      <a:pt x="35" y="74"/>
                    </a:lnTo>
                    <a:lnTo>
                      <a:pt x="30" y="79"/>
                    </a:lnTo>
                    <a:lnTo>
                      <a:pt x="24" y="84"/>
                    </a:lnTo>
                    <a:lnTo>
                      <a:pt x="20" y="88"/>
                    </a:lnTo>
                    <a:lnTo>
                      <a:pt x="15" y="92"/>
                    </a:lnTo>
                    <a:lnTo>
                      <a:pt x="11" y="95"/>
                    </a:lnTo>
                    <a:lnTo>
                      <a:pt x="8" y="97"/>
                    </a:lnTo>
                    <a:lnTo>
                      <a:pt x="5" y="97"/>
                    </a:lnTo>
                    <a:lnTo>
                      <a:pt x="2" y="97"/>
                    </a:lnTo>
                    <a:lnTo>
                      <a:pt x="1" y="93"/>
                    </a:lnTo>
                    <a:lnTo>
                      <a:pt x="1" y="90"/>
                    </a:lnTo>
                    <a:lnTo>
                      <a:pt x="1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475160" y="4008240"/>
                <a:ext cx="100080" cy="59400"/>
              </a:xfrm>
              <a:custGeom>
                <a:avLst/>
                <a:gdLst/>
                <a:ahLst/>
                <a:rect l="l" t="t" r="r" b="b"/>
                <a:pathLst>
                  <a:path w="74" h="97">
                    <a:moveTo>
                      <a:pt x="0" y="90"/>
                    </a:moveTo>
                    <a:lnTo>
                      <a:pt x="1" y="86"/>
                    </a:lnTo>
                    <a:lnTo>
                      <a:pt x="2" y="81"/>
                    </a:lnTo>
                    <a:lnTo>
                      <a:pt x="5" y="74"/>
                    </a:lnTo>
                    <a:lnTo>
                      <a:pt x="8" y="67"/>
                    </a:lnTo>
                    <a:lnTo>
                      <a:pt x="11" y="59"/>
                    </a:lnTo>
                    <a:lnTo>
                      <a:pt x="15" y="52"/>
                    </a:lnTo>
                    <a:lnTo>
                      <a:pt x="19" y="45"/>
                    </a:lnTo>
                    <a:lnTo>
                      <a:pt x="24" y="38"/>
                    </a:lnTo>
                    <a:lnTo>
                      <a:pt x="30" y="31"/>
                    </a:lnTo>
                    <a:lnTo>
                      <a:pt x="35" y="24"/>
                    </a:lnTo>
                    <a:lnTo>
                      <a:pt x="42" y="18"/>
                    </a:lnTo>
                    <a:lnTo>
                      <a:pt x="47" y="13"/>
                    </a:lnTo>
                    <a:lnTo>
                      <a:pt x="52" y="9"/>
                    </a:lnTo>
                    <a:lnTo>
                      <a:pt x="57" y="6"/>
                    </a:lnTo>
                    <a:lnTo>
                      <a:pt x="62" y="2"/>
                    </a:lnTo>
                    <a:lnTo>
                      <a:pt x="66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2" y="4"/>
                    </a:lnTo>
                    <a:lnTo>
                      <a:pt x="74" y="7"/>
                    </a:lnTo>
                    <a:lnTo>
                      <a:pt x="72" y="11"/>
                    </a:lnTo>
                    <a:lnTo>
                      <a:pt x="71" y="18"/>
                    </a:lnTo>
                    <a:lnTo>
                      <a:pt x="68" y="24"/>
                    </a:lnTo>
                    <a:lnTo>
                      <a:pt x="66" y="31"/>
                    </a:lnTo>
                    <a:lnTo>
                      <a:pt x="62" y="38"/>
                    </a:lnTo>
                    <a:lnTo>
                      <a:pt x="57" y="45"/>
                    </a:lnTo>
                    <a:lnTo>
                      <a:pt x="52" y="54"/>
                    </a:lnTo>
                    <a:lnTo>
                      <a:pt x="47" y="61"/>
                    </a:lnTo>
                    <a:lnTo>
                      <a:pt x="41" y="67"/>
                    </a:lnTo>
                    <a:lnTo>
                      <a:pt x="35" y="74"/>
                    </a:lnTo>
                    <a:lnTo>
                      <a:pt x="30" y="79"/>
                    </a:lnTo>
                    <a:lnTo>
                      <a:pt x="24" y="84"/>
                    </a:lnTo>
                    <a:lnTo>
                      <a:pt x="20" y="88"/>
                    </a:lnTo>
                    <a:lnTo>
                      <a:pt x="15" y="92"/>
                    </a:lnTo>
                    <a:lnTo>
                      <a:pt x="11" y="95"/>
                    </a:lnTo>
                    <a:lnTo>
                      <a:pt x="8" y="97"/>
                    </a:lnTo>
                    <a:lnTo>
                      <a:pt x="5" y="97"/>
                    </a:lnTo>
                    <a:lnTo>
                      <a:pt x="2" y="97"/>
                    </a:lnTo>
                    <a:lnTo>
                      <a:pt x="1" y="93"/>
                    </a:lnTo>
                    <a:lnTo>
                      <a:pt x="1" y="90"/>
                    </a:lnTo>
                    <a:lnTo>
                      <a:pt x="1" y="9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450320" y="3567240"/>
                <a:ext cx="146520" cy="504000"/>
              </a:xfrm>
              <a:custGeom>
                <a:avLst/>
                <a:gdLst/>
                <a:ahLst/>
                <a:rect l="l" t="t" r="r" b="b"/>
                <a:pathLst>
                  <a:path w="108" h="829">
                    <a:moveTo>
                      <a:pt x="0" y="827"/>
                    </a:moveTo>
                    <a:lnTo>
                      <a:pt x="1" y="820"/>
                    </a:lnTo>
                    <a:lnTo>
                      <a:pt x="4" y="811"/>
                    </a:lnTo>
                    <a:lnTo>
                      <a:pt x="7" y="801"/>
                    </a:lnTo>
                    <a:lnTo>
                      <a:pt x="12" y="790"/>
                    </a:lnTo>
                    <a:lnTo>
                      <a:pt x="17" y="777"/>
                    </a:lnTo>
                    <a:lnTo>
                      <a:pt x="23" y="766"/>
                    </a:lnTo>
                    <a:lnTo>
                      <a:pt x="31" y="754"/>
                    </a:lnTo>
                    <a:lnTo>
                      <a:pt x="38" y="743"/>
                    </a:lnTo>
                    <a:lnTo>
                      <a:pt x="47" y="732"/>
                    </a:lnTo>
                    <a:lnTo>
                      <a:pt x="56" y="722"/>
                    </a:lnTo>
                    <a:lnTo>
                      <a:pt x="66" y="713"/>
                    </a:lnTo>
                    <a:lnTo>
                      <a:pt x="74" y="707"/>
                    </a:lnTo>
                    <a:lnTo>
                      <a:pt x="81" y="702"/>
                    </a:lnTo>
                    <a:lnTo>
                      <a:pt x="88" y="700"/>
                    </a:lnTo>
                    <a:lnTo>
                      <a:pt x="94" y="700"/>
                    </a:lnTo>
                    <a:lnTo>
                      <a:pt x="99" y="700"/>
                    </a:lnTo>
                    <a:lnTo>
                      <a:pt x="103" y="704"/>
                    </a:lnTo>
                    <a:lnTo>
                      <a:pt x="105" y="707"/>
                    </a:lnTo>
                    <a:lnTo>
                      <a:pt x="107" y="713"/>
                    </a:lnTo>
                    <a:lnTo>
                      <a:pt x="108" y="720"/>
                    </a:lnTo>
                    <a:lnTo>
                      <a:pt x="108" y="0"/>
                    </a:lnTo>
                    <a:lnTo>
                      <a:pt x="105" y="3"/>
                    </a:lnTo>
                    <a:lnTo>
                      <a:pt x="102" y="5"/>
                    </a:lnTo>
                    <a:lnTo>
                      <a:pt x="98" y="7"/>
                    </a:lnTo>
                    <a:lnTo>
                      <a:pt x="94" y="9"/>
                    </a:lnTo>
                    <a:lnTo>
                      <a:pt x="89" y="9"/>
                    </a:lnTo>
                    <a:lnTo>
                      <a:pt x="83" y="11"/>
                    </a:lnTo>
                    <a:lnTo>
                      <a:pt x="76" y="11"/>
                    </a:lnTo>
                    <a:lnTo>
                      <a:pt x="70" y="12"/>
                    </a:lnTo>
                    <a:lnTo>
                      <a:pt x="62" y="12"/>
                    </a:lnTo>
                    <a:lnTo>
                      <a:pt x="55" y="12"/>
                    </a:lnTo>
                    <a:lnTo>
                      <a:pt x="47" y="12"/>
                    </a:lnTo>
                    <a:lnTo>
                      <a:pt x="40" y="12"/>
                    </a:lnTo>
                    <a:lnTo>
                      <a:pt x="33" y="11"/>
                    </a:lnTo>
                    <a:lnTo>
                      <a:pt x="27" y="11"/>
                    </a:lnTo>
                    <a:lnTo>
                      <a:pt x="20" y="9"/>
                    </a:lnTo>
                    <a:lnTo>
                      <a:pt x="15" y="9"/>
                    </a:lnTo>
                    <a:lnTo>
                      <a:pt x="10" y="7"/>
                    </a:lnTo>
                    <a:lnTo>
                      <a:pt x="7" y="5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1" y="829"/>
                    </a:lnTo>
                    <a:lnTo>
                      <a:pt x="1" y="827"/>
                    </a:lnTo>
                    <a:lnTo>
                      <a:pt x="1" y="827"/>
                    </a:lnTo>
                    <a:lnTo>
                      <a:pt x="0" y="82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50320" y="3567240"/>
                <a:ext cx="146520" cy="504000"/>
              </a:xfrm>
              <a:custGeom>
                <a:avLst/>
                <a:gdLst/>
                <a:ahLst/>
                <a:rect l="l" t="t" r="r" b="b"/>
                <a:pathLst>
                  <a:path w="108" h="829">
                    <a:moveTo>
                      <a:pt x="0" y="827"/>
                    </a:moveTo>
                    <a:lnTo>
                      <a:pt x="1" y="820"/>
                    </a:lnTo>
                    <a:lnTo>
                      <a:pt x="4" y="811"/>
                    </a:lnTo>
                    <a:lnTo>
                      <a:pt x="7" y="801"/>
                    </a:lnTo>
                    <a:lnTo>
                      <a:pt x="12" y="790"/>
                    </a:lnTo>
                    <a:lnTo>
                      <a:pt x="17" y="777"/>
                    </a:lnTo>
                    <a:lnTo>
                      <a:pt x="23" y="766"/>
                    </a:lnTo>
                    <a:lnTo>
                      <a:pt x="31" y="754"/>
                    </a:lnTo>
                    <a:lnTo>
                      <a:pt x="38" y="743"/>
                    </a:lnTo>
                    <a:lnTo>
                      <a:pt x="47" y="732"/>
                    </a:lnTo>
                    <a:lnTo>
                      <a:pt x="56" y="722"/>
                    </a:lnTo>
                    <a:lnTo>
                      <a:pt x="66" y="713"/>
                    </a:lnTo>
                    <a:lnTo>
                      <a:pt x="74" y="707"/>
                    </a:lnTo>
                    <a:lnTo>
                      <a:pt x="81" y="702"/>
                    </a:lnTo>
                    <a:lnTo>
                      <a:pt x="88" y="700"/>
                    </a:lnTo>
                    <a:lnTo>
                      <a:pt x="94" y="700"/>
                    </a:lnTo>
                    <a:lnTo>
                      <a:pt x="99" y="700"/>
                    </a:lnTo>
                    <a:lnTo>
                      <a:pt x="103" y="704"/>
                    </a:lnTo>
                    <a:lnTo>
                      <a:pt x="105" y="707"/>
                    </a:lnTo>
                    <a:lnTo>
                      <a:pt x="107" y="713"/>
                    </a:lnTo>
                    <a:lnTo>
                      <a:pt x="108" y="720"/>
                    </a:lnTo>
                    <a:lnTo>
                      <a:pt x="108" y="0"/>
                    </a:lnTo>
                    <a:lnTo>
                      <a:pt x="105" y="3"/>
                    </a:lnTo>
                    <a:lnTo>
                      <a:pt x="102" y="5"/>
                    </a:lnTo>
                    <a:lnTo>
                      <a:pt x="98" y="7"/>
                    </a:lnTo>
                    <a:lnTo>
                      <a:pt x="94" y="9"/>
                    </a:lnTo>
                    <a:lnTo>
                      <a:pt x="89" y="9"/>
                    </a:lnTo>
                    <a:lnTo>
                      <a:pt x="83" y="11"/>
                    </a:lnTo>
                    <a:lnTo>
                      <a:pt x="76" y="11"/>
                    </a:lnTo>
                    <a:lnTo>
                      <a:pt x="70" y="12"/>
                    </a:lnTo>
                    <a:lnTo>
                      <a:pt x="62" y="12"/>
                    </a:lnTo>
                    <a:lnTo>
                      <a:pt x="55" y="12"/>
                    </a:lnTo>
                    <a:lnTo>
                      <a:pt x="47" y="12"/>
                    </a:lnTo>
                    <a:lnTo>
                      <a:pt x="40" y="12"/>
                    </a:lnTo>
                    <a:lnTo>
                      <a:pt x="33" y="11"/>
                    </a:lnTo>
                    <a:lnTo>
                      <a:pt x="27" y="11"/>
                    </a:lnTo>
                    <a:lnTo>
                      <a:pt x="20" y="9"/>
                    </a:lnTo>
                    <a:lnTo>
                      <a:pt x="15" y="9"/>
                    </a:lnTo>
                    <a:lnTo>
                      <a:pt x="10" y="7"/>
                    </a:lnTo>
                    <a:lnTo>
                      <a:pt x="7" y="5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1" y="829"/>
                    </a:lnTo>
                    <a:lnTo>
                      <a:pt x="1" y="827"/>
                    </a:lnTo>
                    <a:lnTo>
                      <a:pt x="1" y="827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76240" y="4008240"/>
                <a:ext cx="99000" cy="59400"/>
              </a:xfrm>
              <a:custGeom>
                <a:avLst/>
                <a:gdLst/>
                <a:ahLst/>
                <a:rect l="l" t="t" r="r" b="b"/>
                <a:pathLst>
                  <a:path w="73" h="97">
                    <a:moveTo>
                      <a:pt x="34" y="72"/>
                    </a:moveTo>
                    <a:lnTo>
                      <a:pt x="40" y="67"/>
                    </a:lnTo>
                    <a:lnTo>
                      <a:pt x="46" y="61"/>
                    </a:lnTo>
                    <a:lnTo>
                      <a:pt x="51" y="54"/>
                    </a:lnTo>
                    <a:lnTo>
                      <a:pt x="56" y="45"/>
                    </a:lnTo>
                    <a:lnTo>
                      <a:pt x="61" y="38"/>
                    </a:lnTo>
                    <a:lnTo>
                      <a:pt x="65" y="31"/>
                    </a:lnTo>
                    <a:lnTo>
                      <a:pt x="67" y="24"/>
                    </a:lnTo>
                    <a:lnTo>
                      <a:pt x="70" y="18"/>
                    </a:lnTo>
                    <a:lnTo>
                      <a:pt x="71" y="11"/>
                    </a:lnTo>
                    <a:lnTo>
                      <a:pt x="73" y="7"/>
                    </a:lnTo>
                    <a:lnTo>
                      <a:pt x="71" y="4"/>
                    </a:lnTo>
                    <a:lnTo>
                      <a:pt x="70" y="2"/>
                    </a:lnTo>
                    <a:lnTo>
                      <a:pt x="67" y="0"/>
                    </a:lnTo>
                    <a:lnTo>
                      <a:pt x="65" y="0"/>
                    </a:lnTo>
                    <a:lnTo>
                      <a:pt x="61" y="2"/>
                    </a:lnTo>
                    <a:lnTo>
                      <a:pt x="56" y="6"/>
                    </a:lnTo>
                    <a:lnTo>
                      <a:pt x="51" y="9"/>
                    </a:lnTo>
                    <a:lnTo>
                      <a:pt x="46" y="13"/>
                    </a:lnTo>
                    <a:lnTo>
                      <a:pt x="41" y="18"/>
                    </a:lnTo>
                    <a:lnTo>
                      <a:pt x="34" y="24"/>
                    </a:lnTo>
                    <a:lnTo>
                      <a:pt x="29" y="31"/>
                    </a:lnTo>
                    <a:lnTo>
                      <a:pt x="23" y="38"/>
                    </a:lnTo>
                    <a:lnTo>
                      <a:pt x="18" y="45"/>
                    </a:lnTo>
                    <a:lnTo>
                      <a:pt x="14" y="52"/>
                    </a:lnTo>
                    <a:lnTo>
                      <a:pt x="10" y="59"/>
                    </a:lnTo>
                    <a:lnTo>
                      <a:pt x="7" y="67"/>
                    </a:lnTo>
                    <a:lnTo>
                      <a:pt x="4" y="74"/>
                    </a:lnTo>
                    <a:lnTo>
                      <a:pt x="1" y="81"/>
                    </a:lnTo>
                    <a:lnTo>
                      <a:pt x="0" y="86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4" y="97"/>
                    </a:lnTo>
                    <a:lnTo>
                      <a:pt x="7" y="97"/>
                    </a:lnTo>
                    <a:lnTo>
                      <a:pt x="10" y="95"/>
                    </a:lnTo>
                    <a:lnTo>
                      <a:pt x="14" y="92"/>
                    </a:lnTo>
                    <a:lnTo>
                      <a:pt x="19" y="88"/>
                    </a:lnTo>
                    <a:lnTo>
                      <a:pt x="23" y="84"/>
                    </a:lnTo>
                    <a:lnTo>
                      <a:pt x="29" y="79"/>
                    </a:lnTo>
                    <a:lnTo>
                      <a:pt x="34" y="74"/>
                    </a:lnTo>
                    <a:lnTo>
                      <a:pt x="34" y="7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189240" y="2392560"/>
                <a:ext cx="2664000" cy="354600"/>
              </a:xfrm>
              <a:custGeom>
                <a:avLst/>
                <a:gdLst/>
                <a:ahLst/>
                <a:rect l="l" t="t" r="r" b="b"/>
                <a:pathLst>
                  <a:path w="1962" h="583">
                    <a:moveTo>
                      <a:pt x="0" y="283"/>
                    </a:moveTo>
                    <a:lnTo>
                      <a:pt x="14" y="236"/>
                    </a:lnTo>
                    <a:lnTo>
                      <a:pt x="51" y="191"/>
                    </a:lnTo>
                    <a:lnTo>
                      <a:pt x="111" y="150"/>
                    </a:lnTo>
                    <a:lnTo>
                      <a:pt x="189" y="114"/>
                    </a:lnTo>
                    <a:lnTo>
                      <a:pt x="287" y="80"/>
                    </a:lnTo>
                    <a:lnTo>
                      <a:pt x="401" y="53"/>
                    </a:lnTo>
                    <a:lnTo>
                      <a:pt x="531" y="30"/>
                    </a:lnTo>
                    <a:lnTo>
                      <a:pt x="672" y="14"/>
                    </a:lnTo>
                    <a:lnTo>
                      <a:pt x="824" y="3"/>
                    </a:lnTo>
                    <a:lnTo>
                      <a:pt x="984" y="0"/>
                    </a:lnTo>
                    <a:lnTo>
                      <a:pt x="1144" y="3"/>
                    </a:lnTo>
                    <a:lnTo>
                      <a:pt x="1295" y="14"/>
                    </a:lnTo>
                    <a:lnTo>
                      <a:pt x="1435" y="30"/>
                    </a:lnTo>
                    <a:lnTo>
                      <a:pt x="1564" y="53"/>
                    </a:lnTo>
                    <a:lnTo>
                      <a:pt x="1678" y="80"/>
                    </a:lnTo>
                    <a:lnTo>
                      <a:pt x="1775" y="114"/>
                    </a:lnTo>
                    <a:lnTo>
                      <a:pt x="1854" y="150"/>
                    </a:lnTo>
                    <a:lnTo>
                      <a:pt x="1912" y="191"/>
                    </a:lnTo>
                    <a:lnTo>
                      <a:pt x="1949" y="236"/>
                    </a:lnTo>
                    <a:lnTo>
                      <a:pt x="1962" y="283"/>
                    </a:lnTo>
                    <a:lnTo>
                      <a:pt x="1949" y="338"/>
                    </a:lnTo>
                    <a:lnTo>
                      <a:pt x="1912" y="388"/>
                    </a:lnTo>
                    <a:lnTo>
                      <a:pt x="1854" y="433"/>
                    </a:lnTo>
                    <a:lnTo>
                      <a:pt x="1775" y="472"/>
                    </a:lnTo>
                    <a:lnTo>
                      <a:pt x="1678" y="506"/>
                    </a:lnTo>
                    <a:lnTo>
                      <a:pt x="1564" y="533"/>
                    </a:lnTo>
                    <a:lnTo>
                      <a:pt x="1435" y="557"/>
                    </a:lnTo>
                    <a:lnTo>
                      <a:pt x="1295" y="571"/>
                    </a:lnTo>
                    <a:lnTo>
                      <a:pt x="1144" y="582"/>
                    </a:lnTo>
                    <a:lnTo>
                      <a:pt x="984" y="583"/>
                    </a:lnTo>
                    <a:lnTo>
                      <a:pt x="824" y="582"/>
                    </a:lnTo>
                    <a:lnTo>
                      <a:pt x="672" y="571"/>
                    </a:lnTo>
                    <a:lnTo>
                      <a:pt x="531" y="557"/>
                    </a:lnTo>
                    <a:lnTo>
                      <a:pt x="401" y="533"/>
                    </a:lnTo>
                    <a:lnTo>
                      <a:pt x="287" y="506"/>
                    </a:lnTo>
                    <a:lnTo>
                      <a:pt x="189" y="472"/>
                    </a:lnTo>
                    <a:lnTo>
                      <a:pt x="111" y="433"/>
                    </a:lnTo>
                    <a:lnTo>
                      <a:pt x="51" y="388"/>
                    </a:lnTo>
                    <a:lnTo>
                      <a:pt x="14" y="338"/>
                    </a:lnTo>
                    <a:lnTo>
                      <a:pt x="2" y="283"/>
                    </a:lnTo>
                    <a:lnTo>
                      <a:pt x="2" y="283"/>
                    </a:lnTo>
                  </a:path>
                </a:pathLst>
              </a:custGeom>
              <a:noFill/>
              <a:ln w="20520">
                <a:solidFill>
                  <a:srgbClr val="7373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193200" y="2393640"/>
                <a:ext cx="2654640" cy="351000"/>
              </a:xfrm>
              <a:custGeom>
                <a:avLst/>
                <a:gdLst/>
                <a:ahLst/>
                <a:rect l="l" t="t" r="r" b="b"/>
                <a:pathLst>
                  <a:path w="1955" h="579">
                    <a:moveTo>
                      <a:pt x="0" y="280"/>
                    </a:moveTo>
                    <a:lnTo>
                      <a:pt x="14" y="235"/>
                    </a:lnTo>
                    <a:lnTo>
                      <a:pt x="51" y="190"/>
                    </a:lnTo>
                    <a:lnTo>
                      <a:pt x="109" y="151"/>
                    </a:lnTo>
                    <a:lnTo>
                      <a:pt x="189" y="113"/>
                    </a:lnTo>
                    <a:lnTo>
                      <a:pt x="287" y="81"/>
                    </a:lnTo>
                    <a:lnTo>
                      <a:pt x="400" y="52"/>
                    </a:lnTo>
                    <a:lnTo>
                      <a:pt x="529" y="31"/>
                    </a:lnTo>
                    <a:lnTo>
                      <a:pt x="670" y="13"/>
                    </a:lnTo>
                    <a:lnTo>
                      <a:pt x="821" y="4"/>
                    </a:lnTo>
                    <a:lnTo>
                      <a:pt x="981" y="0"/>
                    </a:lnTo>
                    <a:lnTo>
                      <a:pt x="1141" y="4"/>
                    </a:lnTo>
                    <a:lnTo>
                      <a:pt x="1292" y="13"/>
                    </a:lnTo>
                    <a:lnTo>
                      <a:pt x="1431" y="31"/>
                    </a:lnTo>
                    <a:lnTo>
                      <a:pt x="1559" y="52"/>
                    </a:lnTo>
                    <a:lnTo>
                      <a:pt x="1672" y="81"/>
                    </a:lnTo>
                    <a:lnTo>
                      <a:pt x="1770" y="113"/>
                    </a:lnTo>
                    <a:lnTo>
                      <a:pt x="1849" y="151"/>
                    </a:lnTo>
                    <a:lnTo>
                      <a:pt x="1907" y="190"/>
                    </a:lnTo>
                    <a:lnTo>
                      <a:pt x="1942" y="235"/>
                    </a:lnTo>
                    <a:lnTo>
                      <a:pt x="1955" y="280"/>
                    </a:lnTo>
                    <a:lnTo>
                      <a:pt x="1942" y="335"/>
                    </a:lnTo>
                    <a:lnTo>
                      <a:pt x="1907" y="385"/>
                    </a:lnTo>
                    <a:lnTo>
                      <a:pt x="1849" y="430"/>
                    </a:lnTo>
                    <a:lnTo>
                      <a:pt x="1770" y="468"/>
                    </a:lnTo>
                    <a:lnTo>
                      <a:pt x="1672" y="502"/>
                    </a:lnTo>
                    <a:lnTo>
                      <a:pt x="1559" y="529"/>
                    </a:lnTo>
                    <a:lnTo>
                      <a:pt x="1431" y="550"/>
                    </a:lnTo>
                    <a:lnTo>
                      <a:pt x="1292" y="566"/>
                    </a:lnTo>
                    <a:lnTo>
                      <a:pt x="1141" y="575"/>
                    </a:lnTo>
                    <a:lnTo>
                      <a:pt x="981" y="579"/>
                    </a:lnTo>
                    <a:lnTo>
                      <a:pt x="821" y="575"/>
                    </a:lnTo>
                    <a:lnTo>
                      <a:pt x="670" y="566"/>
                    </a:lnTo>
                    <a:lnTo>
                      <a:pt x="529" y="550"/>
                    </a:lnTo>
                    <a:lnTo>
                      <a:pt x="400" y="529"/>
                    </a:lnTo>
                    <a:lnTo>
                      <a:pt x="287" y="502"/>
                    </a:lnTo>
                    <a:lnTo>
                      <a:pt x="189" y="468"/>
                    </a:lnTo>
                    <a:lnTo>
                      <a:pt x="109" y="430"/>
                    </a:lnTo>
                    <a:lnTo>
                      <a:pt x="51" y="385"/>
                    </a:lnTo>
                    <a:lnTo>
                      <a:pt x="14" y="335"/>
                    </a:lnTo>
                    <a:lnTo>
                      <a:pt x="1" y="280"/>
                    </a:lnTo>
                    <a:lnTo>
                      <a:pt x="1" y="280"/>
                    </a:lnTo>
                  </a:path>
                </a:pathLst>
              </a:custGeom>
              <a:noFill/>
              <a:ln w="20520">
                <a:solidFill>
                  <a:srgbClr val="7b7b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195720" y="2393640"/>
                <a:ext cx="2649240" cy="348480"/>
              </a:xfrm>
              <a:custGeom>
                <a:avLst/>
                <a:gdLst/>
                <a:ahLst/>
                <a:rect l="l" t="t" r="r" b="b"/>
                <a:pathLst>
                  <a:path w="1951" h="573">
                    <a:moveTo>
                      <a:pt x="0" y="280"/>
                    </a:moveTo>
                    <a:lnTo>
                      <a:pt x="13" y="233"/>
                    </a:lnTo>
                    <a:lnTo>
                      <a:pt x="50" y="190"/>
                    </a:lnTo>
                    <a:lnTo>
                      <a:pt x="110" y="151"/>
                    </a:lnTo>
                    <a:lnTo>
                      <a:pt x="188" y="113"/>
                    </a:lnTo>
                    <a:lnTo>
                      <a:pt x="286" y="81"/>
                    </a:lnTo>
                    <a:lnTo>
                      <a:pt x="399" y="54"/>
                    </a:lnTo>
                    <a:lnTo>
                      <a:pt x="527" y="33"/>
                    </a:lnTo>
                    <a:lnTo>
                      <a:pt x="668" y="15"/>
                    </a:lnTo>
                    <a:lnTo>
                      <a:pt x="819" y="4"/>
                    </a:lnTo>
                    <a:lnTo>
                      <a:pt x="979" y="0"/>
                    </a:lnTo>
                    <a:lnTo>
                      <a:pt x="1139" y="4"/>
                    </a:lnTo>
                    <a:lnTo>
                      <a:pt x="1288" y="15"/>
                    </a:lnTo>
                    <a:lnTo>
                      <a:pt x="1428" y="33"/>
                    </a:lnTo>
                    <a:lnTo>
                      <a:pt x="1556" y="54"/>
                    </a:lnTo>
                    <a:lnTo>
                      <a:pt x="1669" y="81"/>
                    </a:lnTo>
                    <a:lnTo>
                      <a:pt x="1765" y="113"/>
                    </a:lnTo>
                    <a:lnTo>
                      <a:pt x="1843" y="151"/>
                    </a:lnTo>
                    <a:lnTo>
                      <a:pt x="1901" y="190"/>
                    </a:lnTo>
                    <a:lnTo>
                      <a:pt x="1938" y="233"/>
                    </a:lnTo>
                    <a:lnTo>
                      <a:pt x="1951" y="280"/>
                    </a:lnTo>
                    <a:lnTo>
                      <a:pt x="1938" y="333"/>
                    </a:lnTo>
                    <a:lnTo>
                      <a:pt x="1901" y="384"/>
                    </a:lnTo>
                    <a:lnTo>
                      <a:pt x="1843" y="427"/>
                    </a:lnTo>
                    <a:lnTo>
                      <a:pt x="1765" y="466"/>
                    </a:lnTo>
                    <a:lnTo>
                      <a:pt x="1669" y="498"/>
                    </a:lnTo>
                    <a:lnTo>
                      <a:pt x="1556" y="525"/>
                    </a:lnTo>
                    <a:lnTo>
                      <a:pt x="1428" y="547"/>
                    </a:lnTo>
                    <a:lnTo>
                      <a:pt x="1288" y="561"/>
                    </a:lnTo>
                    <a:lnTo>
                      <a:pt x="1139" y="572"/>
                    </a:lnTo>
                    <a:lnTo>
                      <a:pt x="979" y="573"/>
                    </a:lnTo>
                    <a:lnTo>
                      <a:pt x="819" y="572"/>
                    </a:lnTo>
                    <a:lnTo>
                      <a:pt x="668" y="561"/>
                    </a:lnTo>
                    <a:lnTo>
                      <a:pt x="527" y="547"/>
                    </a:lnTo>
                    <a:lnTo>
                      <a:pt x="399" y="525"/>
                    </a:lnTo>
                    <a:lnTo>
                      <a:pt x="286" y="498"/>
                    </a:lnTo>
                    <a:lnTo>
                      <a:pt x="188" y="466"/>
                    </a:lnTo>
                    <a:lnTo>
                      <a:pt x="110" y="427"/>
                    </a:lnTo>
                    <a:lnTo>
                      <a:pt x="50" y="384"/>
                    </a:lnTo>
                    <a:lnTo>
                      <a:pt x="13" y="333"/>
                    </a:lnTo>
                    <a:lnTo>
                      <a:pt x="0" y="280"/>
                    </a:lnTo>
                    <a:lnTo>
                      <a:pt x="0" y="280"/>
                    </a:lnTo>
                  </a:path>
                </a:pathLst>
              </a:custGeom>
              <a:noFill/>
              <a:ln w="20520">
                <a:solidFill>
                  <a:srgbClr val="82828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199680" y="2394720"/>
                <a:ext cx="2639520" cy="344880"/>
              </a:xfrm>
              <a:custGeom>
                <a:avLst/>
                <a:gdLst/>
                <a:ahLst/>
                <a:rect l="l" t="t" r="r" b="b"/>
                <a:pathLst>
                  <a:path w="1944" h="568">
                    <a:moveTo>
                      <a:pt x="0" y="276"/>
                    </a:moveTo>
                    <a:lnTo>
                      <a:pt x="13" y="231"/>
                    </a:lnTo>
                    <a:lnTo>
                      <a:pt x="50" y="188"/>
                    </a:lnTo>
                    <a:lnTo>
                      <a:pt x="108" y="149"/>
                    </a:lnTo>
                    <a:lnTo>
                      <a:pt x="188" y="113"/>
                    </a:lnTo>
                    <a:lnTo>
                      <a:pt x="284" y="81"/>
                    </a:lnTo>
                    <a:lnTo>
                      <a:pt x="397" y="54"/>
                    </a:lnTo>
                    <a:lnTo>
                      <a:pt x="525" y="31"/>
                    </a:lnTo>
                    <a:lnTo>
                      <a:pt x="666" y="14"/>
                    </a:lnTo>
                    <a:lnTo>
                      <a:pt x="816" y="4"/>
                    </a:lnTo>
                    <a:lnTo>
                      <a:pt x="976" y="0"/>
                    </a:lnTo>
                    <a:lnTo>
                      <a:pt x="1134" y="4"/>
                    </a:lnTo>
                    <a:lnTo>
                      <a:pt x="1285" y="14"/>
                    </a:lnTo>
                    <a:lnTo>
                      <a:pt x="1424" y="31"/>
                    </a:lnTo>
                    <a:lnTo>
                      <a:pt x="1550" y="54"/>
                    </a:lnTo>
                    <a:lnTo>
                      <a:pt x="1663" y="81"/>
                    </a:lnTo>
                    <a:lnTo>
                      <a:pt x="1760" y="113"/>
                    </a:lnTo>
                    <a:lnTo>
                      <a:pt x="1837" y="149"/>
                    </a:lnTo>
                    <a:lnTo>
                      <a:pt x="1896" y="188"/>
                    </a:lnTo>
                    <a:lnTo>
                      <a:pt x="1931" y="231"/>
                    </a:lnTo>
                    <a:lnTo>
                      <a:pt x="1944" y="278"/>
                    </a:lnTo>
                    <a:lnTo>
                      <a:pt x="1931" y="331"/>
                    </a:lnTo>
                    <a:lnTo>
                      <a:pt x="1896" y="380"/>
                    </a:lnTo>
                    <a:lnTo>
                      <a:pt x="1837" y="423"/>
                    </a:lnTo>
                    <a:lnTo>
                      <a:pt x="1760" y="460"/>
                    </a:lnTo>
                    <a:lnTo>
                      <a:pt x="1663" y="493"/>
                    </a:lnTo>
                    <a:lnTo>
                      <a:pt x="1550" y="520"/>
                    </a:lnTo>
                    <a:lnTo>
                      <a:pt x="1424" y="541"/>
                    </a:lnTo>
                    <a:lnTo>
                      <a:pt x="1285" y="555"/>
                    </a:lnTo>
                    <a:lnTo>
                      <a:pt x="1134" y="564"/>
                    </a:lnTo>
                    <a:lnTo>
                      <a:pt x="976" y="568"/>
                    </a:lnTo>
                    <a:lnTo>
                      <a:pt x="816" y="564"/>
                    </a:lnTo>
                    <a:lnTo>
                      <a:pt x="666" y="555"/>
                    </a:lnTo>
                    <a:lnTo>
                      <a:pt x="525" y="541"/>
                    </a:lnTo>
                    <a:lnTo>
                      <a:pt x="397" y="520"/>
                    </a:lnTo>
                    <a:lnTo>
                      <a:pt x="284" y="493"/>
                    </a:lnTo>
                    <a:lnTo>
                      <a:pt x="188" y="460"/>
                    </a:lnTo>
                    <a:lnTo>
                      <a:pt x="108" y="423"/>
                    </a:lnTo>
                    <a:lnTo>
                      <a:pt x="50" y="380"/>
                    </a:lnTo>
                    <a:lnTo>
                      <a:pt x="13" y="331"/>
                    </a:lnTo>
                    <a:lnTo>
                      <a:pt x="0" y="278"/>
                    </a:lnTo>
                    <a:lnTo>
                      <a:pt x="0" y="278"/>
                    </a:lnTo>
                  </a:path>
                </a:pathLst>
              </a:custGeom>
              <a:noFill/>
              <a:ln w="20520">
                <a:solidFill>
                  <a:srgbClr val="8a8a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204000" y="2395800"/>
                <a:ext cx="2630160" cy="340200"/>
              </a:xfrm>
              <a:custGeom>
                <a:avLst/>
                <a:gdLst/>
                <a:ahLst/>
                <a:rect l="l" t="t" r="r" b="b"/>
                <a:pathLst>
                  <a:path w="1937" h="561">
                    <a:moveTo>
                      <a:pt x="0" y="274"/>
                    </a:moveTo>
                    <a:lnTo>
                      <a:pt x="12" y="229"/>
                    </a:lnTo>
                    <a:lnTo>
                      <a:pt x="49" y="186"/>
                    </a:lnTo>
                    <a:lnTo>
                      <a:pt x="107" y="147"/>
                    </a:lnTo>
                    <a:lnTo>
                      <a:pt x="186" y="111"/>
                    </a:lnTo>
                    <a:lnTo>
                      <a:pt x="283" y="81"/>
                    </a:lnTo>
                    <a:lnTo>
                      <a:pt x="397" y="52"/>
                    </a:lnTo>
                    <a:lnTo>
                      <a:pt x="524" y="30"/>
                    </a:lnTo>
                    <a:lnTo>
                      <a:pt x="663" y="14"/>
                    </a:lnTo>
                    <a:lnTo>
                      <a:pt x="814" y="3"/>
                    </a:lnTo>
                    <a:lnTo>
                      <a:pt x="973" y="0"/>
                    </a:lnTo>
                    <a:lnTo>
                      <a:pt x="1131" y="3"/>
                    </a:lnTo>
                    <a:lnTo>
                      <a:pt x="1281" y="14"/>
                    </a:lnTo>
                    <a:lnTo>
                      <a:pt x="1419" y="30"/>
                    </a:lnTo>
                    <a:lnTo>
                      <a:pt x="1546" y="52"/>
                    </a:lnTo>
                    <a:lnTo>
                      <a:pt x="1658" y="81"/>
                    </a:lnTo>
                    <a:lnTo>
                      <a:pt x="1754" y="111"/>
                    </a:lnTo>
                    <a:lnTo>
                      <a:pt x="1832" y="147"/>
                    </a:lnTo>
                    <a:lnTo>
                      <a:pt x="1889" y="186"/>
                    </a:lnTo>
                    <a:lnTo>
                      <a:pt x="1926" y="229"/>
                    </a:lnTo>
                    <a:lnTo>
                      <a:pt x="1937" y="274"/>
                    </a:lnTo>
                    <a:lnTo>
                      <a:pt x="1926" y="328"/>
                    </a:lnTo>
                    <a:lnTo>
                      <a:pt x="1889" y="376"/>
                    </a:lnTo>
                    <a:lnTo>
                      <a:pt x="1832" y="419"/>
                    </a:lnTo>
                    <a:lnTo>
                      <a:pt x="1754" y="455"/>
                    </a:lnTo>
                    <a:lnTo>
                      <a:pt x="1658" y="487"/>
                    </a:lnTo>
                    <a:lnTo>
                      <a:pt x="1546" y="514"/>
                    </a:lnTo>
                    <a:lnTo>
                      <a:pt x="1419" y="534"/>
                    </a:lnTo>
                    <a:lnTo>
                      <a:pt x="1281" y="550"/>
                    </a:lnTo>
                    <a:lnTo>
                      <a:pt x="1131" y="559"/>
                    </a:lnTo>
                    <a:lnTo>
                      <a:pt x="973" y="561"/>
                    </a:lnTo>
                    <a:lnTo>
                      <a:pt x="814" y="559"/>
                    </a:lnTo>
                    <a:lnTo>
                      <a:pt x="663" y="550"/>
                    </a:lnTo>
                    <a:lnTo>
                      <a:pt x="524" y="534"/>
                    </a:lnTo>
                    <a:lnTo>
                      <a:pt x="397" y="514"/>
                    </a:lnTo>
                    <a:lnTo>
                      <a:pt x="283" y="487"/>
                    </a:lnTo>
                    <a:lnTo>
                      <a:pt x="186" y="455"/>
                    </a:lnTo>
                    <a:lnTo>
                      <a:pt x="107" y="419"/>
                    </a:lnTo>
                    <a:lnTo>
                      <a:pt x="49" y="376"/>
                    </a:lnTo>
                    <a:lnTo>
                      <a:pt x="12" y="328"/>
                    </a:lnTo>
                    <a:lnTo>
                      <a:pt x="0" y="274"/>
                    </a:lnTo>
                    <a:lnTo>
                      <a:pt x="0" y="274"/>
                    </a:lnTo>
                  </a:path>
                </a:pathLst>
              </a:custGeom>
              <a:noFill/>
              <a:ln w="20520">
                <a:solidFill>
                  <a:srgbClr val="92929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205080" y="2397240"/>
                <a:ext cx="2624760" cy="336240"/>
              </a:xfrm>
              <a:custGeom>
                <a:avLst/>
                <a:gdLst/>
                <a:ahLst/>
                <a:rect l="l" t="t" r="r" b="b"/>
                <a:pathLst>
                  <a:path w="1933" h="555">
                    <a:moveTo>
                      <a:pt x="0" y="270"/>
                    </a:moveTo>
                    <a:lnTo>
                      <a:pt x="14" y="227"/>
                    </a:lnTo>
                    <a:lnTo>
                      <a:pt x="49" y="184"/>
                    </a:lnTo>
                    <a:lnTo>
                      <a:pt x="108" y="147"/>
                    </a:lnTo>
                    <a:lnTo>
                      <a:pt x="186" y="111"/>
                    </a:lnTo>
                    <a:lnTo>
                      <a:pt x="284" y="79"/>
                    </a:lnTo>
                    <a:lnTo>
                      <a:pt x="397" y="52"/>
                    </a:lnTo>
                    <a:lnTo>
                      <a:pt x="524" y="30"/>
                    </a:lnTo>
                    <a:lnTo>
                      <a:pt x="663" y="14"/>
                    </a:lnTo>
                    <a:lnTo>
                      <a:pt x="813" y="3"/>
                    </a:lnTo>
                    <a:lnTo>
                      <a:pt x="972" y="0"/>
                    </a:lnTo>
                    <a:lnTo>
                      <a:pt x="1130" y="3"/>
                    </a:lnTo>
                    <a:lnTo>
                      <a:pt x="1279" y="14"/>
                    </a:lnTo>
                    <a:lnTo>
                      <a:pt x="1417" y="30"/>
                    </a:lnTo>
                    <a:lnTo>
                      <a:pt x="1544" y="52"/>
                    </a:lnTo>
                    <a:lnTo>
                      <a:pt x="1654" y="79"/>
                    </a:lnTo>
                    <a:lnTo>
                      <a:pt x="1751" y="111"/>
                    </a:lnTo>
                    <a:lnTo>
                      <a:pt x="1827" y="147"/>
                    </a:lnTo>
                    <a:lnTo>
                      <a:pt x="1885" y="184"/>
                    </a:lnTo>
                    <a:lnTo>
                      <a:pt x="1921" y="227"/>
                    </a:lnTo>
                    <a:lnTo>
                      <a:pt x="1933" y="272"/>
                    </a:lnTo>
                    <a:lnTo>
                      <a:pt x="1921" y="324"/>
                    </a:lnTo>
                    <a:lnTo>
                      <a:pt x="1885" y="372"/>
                    </a:lnTo>
                    <a:lnTo>
                      <a:pt x="1827" y="413"/>
                    </a:lnTo>
                    <a:lnTo>
                      <a:pt x="1751" y="451"/>
                    </a:lnTo>
                    <a:lnTo>
                      <a:pt x="1654" y="482"/>
                    </a:lnTo>
                    <a:lnTo>
                      <a:pt x="1544" y="508"/>
                    </a:lnTo>
                    <a:lnTo>
                      <a:pt x="1417" y="528"/>
                    </a:lnTo>
                    <a:lnTo>
                      <a:pt x="1279" y="542"/>
                    </a:lnTo>
                    <a:lnTo>
                      <a:pt x="1130" y="551"/>
                    </a:lnTo>
                    <a:lnTo>
                      <a:pt x="972" y="555"/>
                    </a:lnTo>
                    <a:lnTo>
                      <a:pt x="813" y="551"/>
                    </a:lnTo>
                    <a:lnTo>
                      <a:pt x="663" y="542"/>
                    </a:lnTo>
                    <a:lnTo>
                      <a:pt x="524" y="528"/>
                    </a:lnTo>
                    <a:lnTo>
                      <a:pt x="397" y="508"/>
                    </a:lnTo>
                    <a:lnTo>
                      <a:pt x="284" y="482"/>
                    </a:lnTo>
                    <a:lnTo>
                      <a:pt x="186" y="451"/>
                    </a:lnTo>
                    <a:lnTo>
                      <a:pt x="108" y="413"/>
                    </a:lnTo>
                    <a:lnTo>
                      <a:pt x="49" y="372"/>
                    </a:lnTo>
                    <a:lnTo>
                      <a:pt x="14" y="324"/>
                    </a:lnTo>
                    <a:lnTo>
                      <a:pt x="1" y="272"/>
                    </a:lnTo>
                    <a:lnTo>
                      <a:pt x="1" y="272"/>
                    </a:lnTo>
                  </a:path>
                </a:pathLst>
              </a:custGeom>
              <a:noFill/>
              <a:ln w="20520">
                <a:solidFill>
                  <a:srgbClr val="9a9a9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207960" y="2398320"/>
                <a:ext cx="2617920" cy="332640"/>
              </a:xfrm>
              <a:custGeom>
                <a:avLst/>
                <a:gdLst/>
                <a:ahLst/>
                <a:rect l="l" t="t" r="r" b="b"/>
                <a:pathLst>
                  <a:path w="1928" h="549">
                    <a:moveTo>
                      <a:pt x="0" y="269"/>
                    </a:moveTo>
                    <a:lnTo>
                      <a:pt x="13" y="226"/>
                    </a:lnTo>
                    <a:lnTo>
                      <a:pt x="50" y="183"/>
                    </a:lnTo>
                    <a:lnTo>
                      <a:pt x="108" y="146"/>
                    </a:lnTo>
                    <a:lnTo>
                      <a:pt x="187" y="110"/>
                    </a:lnTo>
                    <a:lnTo>
                      <a:pt x="283" y="79"/>
                    </a:lnTo>
                    <a:lnTo>
                      <a:pt x="396" y="52"/>
                    </a:lnTo>
                    <a:lnTo>
                      <a:pt x="523" y="31"/>
                    </a:lnTo>
                    <a:lnTo>
                      <a:pt x="661" y="15"/>
                    </a:lnTo>
                    <a:lnTo>
                      <a:pt x="811" y="4"/>
                    </a:lnTo>
                    <a:lnTo>
                      <a:pt x="970" y="0"/>
                    </a:lnTo>
                    <a:lnTo>
                      <a:pt x="1127" y="4"/>
                    </a:lnTo>
                    <a:lnTo>
                      <a:pt x="1277" y="15"/>
                    </a:lnTo>
                    <a:lnTo>
                      <a:pt x="1414" y="31"/>
                    </a:lnTo>
                    <a:lnTo>
                      <a:pt x="1539" y="52"/>
                    </a:lnTo>
                    <a:lnTo>
                      <a:pt x="1651" y="79"/>
                    </a:lnTo>
                    <a:lnTo>
                      <a:pt x="1746" y="110"/>
                    </a:lnTo>
                    <a:lnTo>
                      <a:pt x="1822" y="146"/>
                    </a:lnTo>
                    <a:lnTo>
                      <a:pt x="1879" y="183"/>
                    </a:lnTo>
                    <a:lnTo>
                      <a:pt x="1915" y="226"/>
                    </a:lnTo>
                    <a:lnTo>
                      <a:pt x="1928" y="269"/>
                    </a:lnTo>
                    <a:lnTo>
                      <a:pt x="1915" y="321"/>
                    </a:lnTo>
                    <a:lnTo>
                      <a:pt x="1879" y="368"/>
                    </a:lnTo>
                    <a:lnTo>
                      <a:pt x="1822" y="411"/>
                    </a:lnTo>
                    <a:lnTo>
                      <a:pt x="1746" y="446"/>
                    </a:lnTo>
                    <a:lnTo>
                      <a:pt x="1651" y="477"/>
                    </a:lnTo>
                    <a:lnTo>
                      <a:pt x="1539" y="504"/>
                    </a:lnTo>
                    <a:lnTo>
                      <a:pt x="1414" y="523"/>
                    </a:lnTo>
                    <a:lnTo>
                      <a:pt x="1277" y="538"/>
                    </a:lnTo>
                    <a:lnTo>
                      <a:pt x="1127" y="545"/>
                    </a:lnTo>
                    <a:lnTo>
                      <a:pt x="970" y="549"/>
                    </a:lnTo>
                    <a:lnTo>
                      <a:pt x="811" y="545"/>
                    </a:lnTo>
                    <a:lnTo>
                      <a:pt x="661" y="538"/>
                    </a:lnTo>
                    <a:lnTo>
                      <a:pt x="523" y="523"/>
                    </a:lnTo>
                    <a:lnTo>
                      <a:pt x="396" y="504"/>
                    </a:lnTo>
                    <a:lnTo>
                      <a:pt x="283" y="477"/>
                    </a:lnTo>
                    <a:lnTo>
                      <a:pt x="187" y="446"/>
                    </a:lnTo>
                    <a:lnTo>
                      <a:pt x="108" y="411"/>
                    </a:lnTo>
                    <a:lnTo>
                      <a:pt x="50" y="368"/>
                    </a:lnTo>
                    <a:lnTo>
                      <a:pt x="13" y="321"/>
                    </a:lnTo>
                    <a:lnTo>
                      <a:pt x="0" y="269"/>
                    </a:lnTo>
                    <a:lnTo>
                      <a:pt x="0" y="269"/>
                    </a:lnTo>
                  </a:path>
                </a:pathLst>
              </a:custGeom>
              <a:noFill/>
              <a:ln w="205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211920" y="2399760"/>
                <a:ext cx="2608920" cy="329040"/>
              </a:xfrm>
              <a:custGeom>
                <a:avLst/>
                <a:gdLst/>
                <a:ahLst/>
                <a:rect l="l" t="t" r="r" b="b"/>
                <a:pathLst>
                  <a:path w="1921" h="543">
                    <a:moveTo>
                      <a:pt x="0" y="265"/>
                    </a:moveTo>
                    <a:lnTo>
                      <a:pt x="13" y="222"/>
                    </a:lnTo>
                    <a:lnTo>
                      <a:pt x="49" y="181"/>
                    </a:lnTo>
                    <a:lnTo>
                      <a:pt x="108" y="144"/>
                    </a:lnTo>
                    <a:lnTo>
                      <a:pt x="185" y="110"/>
                    </a:lnTo>
                    <a:lnTo>
                      <a:pt x="282" y="77"/>
                    </a:lnTo>
                    <a:lnTo>
                      <a:pt x="395" y="50"/>
                    </a:lnTo>
                    <a:lnTo>
                      <a:pt x="520" y="29"/>
                    </a:lnTo>
                    <a:lnTo>
                      <a:pt x="660" y="15"/>
                    </a:lnTo>
                    <a:lnTo>
                      <a:pt x="809" y="4"/>
                    </a:lnTo>
                    <a:lnTo>
                      <a:pt x="967" y="0"/>
                    </a:lnTo>
                    <a:lnTo>
                      <a:pt x="1124" y="4"/>
                    </a:lnTo>
                    <a:lnTo>
                      <a:pt x="1273" y="15"/>
                    </a:lnTo>
                    <a:lnTo>
                      <a:pt x="1410" y="29"/>
                    </a:lnTo>
                    <a:lnTo>
                      <a:pt x="1535" y="50"/>
                    </a:lnTo>
                    <a:lnTo>
                      <a:pt x="1646" y="77"/>
                    </a:lnTo>
                    <a:lnTo>
                      <a:pt x="1739" y="110"/>
                    </a:lnTo>
                    <a:lnTo>
                      <a:pt x="1817" y="144"/>
                    </a:lnTo>
                    <a:lnTo>
                      <a:pt x="1874" y="181"/>
                    </a:lnTo>
                    <a:lnTo>
                      <a:pt x="1909" y="222"/>
                    </a:lnTo>
                    <a:lnTo>
                      <a:pt x="1921" y="267"/>
                    </a:lnTo>
                    <a:lnTo>
                      <a:pt x="1909" y="319"/>
                    </a:lnTo>
                    <a:lnTo>
                      <a:pt x="1874" y="364"/>
                    </a:lnTo>
                    <a:lnTo>
                      <a:pt x="1817" y="405"/>
                    </a:lnTo>
                    <a:lnTo>
                      <a:pt x="1739" y="441"/>
                    </a:lnTo>
                    <a:lnTo>
                      <a:pt x="1646" y="471"/>
                    </a:lnTo>
                    <a:lnTo>
                      <a:pt x="1535" y="496"/>
                    </a:lnTo>
                    <a:lnTo>
                      <a:pt x="1410" y="516"/>
                    </a:lnTo>
                    <a:lnTo>
                      <a:pt x="1273" y="530"/>
                    </a:lnTo>
                    <a:lnTo>
                      <a:pt x="1124" y="539"/>
                    </a:lnTo>
                    <a:lnTo>
                      <a:pt x="967" y="543"/>
                    </a:lnTo>
                    <a:lnTo>
                      <a:pt x="809" y="539"/>
                    </a:lnTo>
                    <a:lnTo>
                      <a:pt x="660" y="530"/>
                    </a:lnTo>
                    <a:lnTo>
                      <a:pt x="520" y="516"/>
                    </a:lnTo>
                    <a:lnTo>
                      <a:pt x="395" y="496"/>
                    </a:lnTo>
                    <a:lnTo>
                      <a:pt x="282" y="471"/>
                    </a:lnTo>
                    <a:lnTo>
                      <a:pt x="185" y="441"/>
                    </a:lnTo>
                    <a:lnTo>
                      <a:pt x="108" y="405"/>
                    </a:lnTo>
                    <a:lnTo>
                      <a:pt x="49" y="364"/>
                    </a:lnTo>
                    <a:lnTo>
                      <a:pt x="13" y="319"/>
                    </a:lnTo>
                    <a:lnTo>
                      <a:pt x="0" y="267"/>
                    </a:lnTo>
                    <a:lnTo>
                      <a:pt x="0" y="267"/>
                    </a:lnTo>
                  </a:path>
                </a:pathLst>
              </a:custGeom>
              <a:noFill/>
              <a:ln w="2052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214440" y="2400840"/>
                <a:ext cx="2601720" cy="324000"/>
              </a:xfrm>
              <a:custGeom>
                <a:avLst/>
                <a:gdLst/>
                <a:ahLst/>
                <a:rect l="l" t="t" r="r" b="b"/>
                <a:pathLst>
                  <a:path w="1916" h="536">
                    <a:moveTo>
                      <a:pt x="0" y="263"/>
                    </a:moveTo>
                    <a:lnTo>
                      <a:pt x="13" y="220"/>
                    </a:lnTo>
                    <a:lnTo>
                      <a:pt x="49" y="179"/>
                    </a:lnTo>
                    <a:lnTo>
                      <a:pt x="107" y="142"/>
                    </a:lnTo>
                    <a:lnTo>
                      <a:pt x="186" y="108"/>
                    </a:lnTo>
                    <a:lnTo>
                      <a:pt x="281" y="77"/>
                    </a:lnTo>
                    <a:lnTo>
                      <a:pt x="394" y="50"/>
                    </a:lnTo>
                    <a:lnTo>
                      <a:pt x="519" y="29"/>
                    </a:lnTo>
                    <a:lnTo>
                      <a:pt x="658" y="13"/>
                    </a:lnTo>
                    <a:lnTo>
                      <a:pt x="807" y="4"/>
                    </a:lnTo>
                    <a:lnTo>
                      <a:pt x="965" y="0"/>
                    </a:lnTo>
                    <a:lnTo>
                      <a:pt x="1122" y="4"/>
                    </a:lnTo>
                    <a:lnTo>
                      <a:pt x="1269" y="13"/>
                    </a:lnTo>
                    <a:lnTo>
                      <a:pt x="1406" y="29"/>
                    </a:lnTo>
                    <a:lnTo>
                      <a:pt x="1531" y="50"/>
                    </a:lnTo>
                    <a:lnTo>
                      <a:pt x="1641" y="77"/>
                    </a:lnTo>
                    <a:lnTo>
                      <a:pt x="1735" y="108"/>
                    </a:lnTo>
                    <a:lnTo>
                      <a:pt x="1812" y="142"/>
                    </a:lnTo>
                    <a:lnTo>
                      <a:pt x="1868" y="179"/>
                    </a:lnTo>
                    <a:lnTo>
                      <a:pt x="1904" y="220"/>
                    </a:lnTo>
                    <a:lnTo>
                      <a:pt x="1916" y="263"/>
                    </a:lnTo>
                    <a:lnTo>
                      <a:pt x="1904" y="315"/>
                    </a:lnTo>
                    <a:lnTo>
                      <a:pt x="1868" y="360"/>
                    </a:lnTo>
                    <a:lnTo>
                      <a:pt x="1812" y="401"/>
                    </a:lnTo>
                    <a:lnTo>
                      <a:pt x="1735" y="437"/>
                    </a:lnTo>
                    <a:lnTo>
                      <a:pt x="1641" y="466"/>
                    </a:lnTo>
                    <a:lnTo>
                      <a:pt x="1531" y="491"/>
                    </a:lnTo>
                    <a:lnTo>
                      <a:pt x="1406" y="511"/>
                    </a:lnTo>
                    <a:lnTo>
                      <a:pt x="1269" y="525"/>
                    </a:lnTo>
                    <a:lnTo>
                      <a:pt x="1122" y="532"/>
                    </a:lnTo>
                    <a:lnTo>
                      <a:pt x="965" y="536"/>
                    </a:lnTo>
                    <a:lnTo>
                      <a:pt x="807" y="532"/>
                    </a:lnTo>
                    <a:lnTo>
                      <a:pt x="658" y="525"/>
                    </a:lnTo>
                    <a:lnTo>
                      <a:pt x="519" y="511"/>
                    </a:lnTo>
                    <a:lnTo>
                      <a:pt x="394" y="491"/>
                    </a:lnTo>
                    <a:lnTo>
                      <a:pt x="281" y="466"/>
                    </a:lnTo>
                    <a:lnTo>
                      <a:pt x="186" y="437"/>
                    </a:lnTo>
                    <a:lnTo>
                      <a:pt x="107" y="401"/>
                    </a:lnTo>
                    <a:lnTo>
                      <a:pt x="49" y="360"/>
                    </a:lnTo>
                    <a:lnTo>
                      <a:pt x="13" y="315"/>
                    </a:lnTo>
                    <a:lnTo>
                      <a:pt x="0" y="263"/>
                    </a:lnTo>
                    <a:lnTo>
                      <a:pt x="0" y="263"/>
                    </a:lnTo>
                  </a:path>
                </a:pathLst>
              </a:custGeom>
              <a:noFill/>
              <a:ln w="2052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217320" y="2400840"/>
                <a:ext cx="2594880" cy="321840"/>
              </a:xfrm>
              <a:custGeom>
                <a:avLst/>
                <a:gdLst/>
                <a:ahLst/>
                <a:rect l="l" t="t" r="r" b="b"/>
                <a:pathLst>
                  <a:path w="1911" h="528">
                    <a:moveTo>
                      <a:pt x="0" y="260"/>
                    </a:moveTo>
                    <a:lnTo>
                      <a:pt x="14" y="218"/>
                    </a:lnTo>
                    <a:lnTo>
                      <a:pt x="49" y="177"/>
                    </a:lnTo>
                    <a:lnTo>
                      <a:pt x="108" y="140"/>
                    </a:lnTo>
                    <a:lnTo>
                      <a:pt x="185" y="106"/>
                    </a:lnTo>
                    <a:lnTo>
                      <a:pt x="281" y="75"/>
                    </a:lnTo>
                    <a:lnTo>
                      <a:pt x="393" y="50"/>
                    </a:lnTo>
                    <a:lnTo>
                      <a:pt x="519" y="29"/>
                    </a:lnTo>
                    <a:lnTo>
                      <a:pt x="657" y="12"/>
                    </a:lnTo>
                    <a:lnTo>
                      <a:pt x="805" y="3"/>
                    </a:lnTo>
                    <a:lnTo>
                      <a:pt x="963" y="0"/>
                    </a:lnTo>
                    <a:lnTo>
                      <a:pt x="1119" y="3"/>
                    </a:lnTo>
                    <a:lnTo>
                      <a:pt x="1267" y="12"/>
                    </a:lnTo>
                    <a:lnTo>
                      <a:pt x="1403" y="29"/>
                    </a:lnTo>
                    <a:lnTo>
                      <a:pt x="1527" y="50"/>
                    </a:lnTo>
                    <a:lnTo>
                      <a:pt x="1638" y="75"/>
                    </a:lnTo>
                    <a:lnTo>
                      <a:pt x="1730" y="106"/>
                    </a:lnTo>
                    <a:lnTo>
                      <a:pt x="1806" y="140"/>
                    </a:lnTo>
                    <a:lnTo>
                      <a:pt x="1864" y="177"/>
                    </a:lnTo>
                    <a:lnTo>
                      <a:pt x="1898" y="218"/>
                    </a:lnTo>
                    <a:lnTo>
                      <a:pt x="1911" y="261"/>
                    </a:lnTo>
                    <a:lnTo>
                      <a:pt x="1898" y="312"/>
                    </a:lnTo>
                    <a:lnTo>
                      <a:pt x="1864" y="356"/>
                    </a:lnTo>
                    <a:lnTo>
                      <a:pt x="1806" y="397"/>
                    </a:lnTo>
                    <a:lnTo>
                      <a:pt x="1730" y="432"/>
                    </a:lnTo>
                    <a:lnTo>
                      <a:pt x="1638" y="462"/>
                    </a:lnTo>
                    <a:lnTo>
                      <a:pt x="1527" y="485"/>
                    </a:lnTo>
                    <a:lnTo>
                      <a:pt x="1403" y="505"/>
                    </a:lnTo>
                    <a:lnTo>
                      <a:pt x="1267" y="517"/>
                    </a:lnTo>
                    <a:lnTo>
                      <a:pt x="1119" y="526"/>
                    </a:lnTo>
                    <a:lnTo>
                      <a:pt x="963" y="528"/>
                    </a:lnTo>
                    <a:lnTo>
                      <a:pt x="805" y="526"/>
                    </a:lnTo>
                    <a:lnTo>
                      <a:pt x="657" y="517"/>
                    </a:lnTo>
                    <a:lnTo>
                      <a:pt x="519" y="505"/>
                    </a:lnTo>
                    <a:lnTo>
                      <a:pt x="393" y="485"/>
                    </a:lnTo>
                    <a:lnTo>
                      <a:pt x="281" y="462"/>
                    </a:lnTo>
                    <a:lnTo>
                      <a:pt x="185" y="432"/>
                    </a:lnTo>
                    <a:lnTo>
                      <a:pt x="108" y="397"/>
                    </a:lnTo>
                    <a:lnTo>
                      <a:pt x="49" y="356"/>
                    </a:lnTo>
                    <a:lnTo>
                      <a:pt x="14" y="312"/>
                    </a:lnTo>
                    <a:lnTo>
                      <a:pt x="1" y="261"/>
                    </a:lnTo>
                    <a:lnTo>
                      <a:pt x="1" y="261"/>
                    </a:lnTo>
                  </a:path>
                </a:pathLst>
              </a:custGeom>
              <a:noFill/>
              <a:ln w="20520">
                <a:solidFill>
                  <a:srgbClr val="b9b9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20200" y="2401920"/>
                <a:ext cx="2586600" cy="318240"/>
              </a:xfrm>
              <a:custGeom>
                <a:avLst/>
                <a:gdLst/>
                <a:ahLst/>
                <a:rect l="l" t="t" r="r" b="b"/>
                <a:pathLst>
                  <a:path w="1905" h="523">
                    <a:moveTo>
                      <a:pt x="0" y="258"/>
                    </a:moveTo>
                    <a:lnTo>
                      <a:pt x="13" y="216"/>
                    </a:lnTo>
                    <a:lnTo>
                      <a:pt x="50" y="175"/>
                    </a:lnTo>
                    <a:lnTo>
                      <a:pt x="107" y="139"/>
                    </a:lnTo>
                    <a:lnTo>
                      <a:pt x="186" y="105"/>
                    </a:lnTo>
                    <a:lnTo>
                      <a:pt x="281" y="75"/>
                    </a:lnTo>
                    <a:lnTo>
                      <a:pt x="392" y="50"/>
                    </a:lnTo>
                    <a:lnTo>
                      <a:pt x="518" y="28"/>
                    </a:lnTo>
                    <a:lnTo>
                      <a:pt x="656" y="12"/>
                    </a:lnTo>
                    <a:lnTo>
                      <a:pt x="803" y="3"/>
                    </a:lnTo>
                    <a:lnTo>
                      <a:pt x="961" y="0"/>
                    </a:lnTo>
                    <a:lnTo>
                      <a:pt x="1117" y="3"/>
                    </a:lnTo>
                    <a:lnTo>
                      <a:pt x="1264" y="12"/>
                    </a:lnTo>
                    <a:lnTo>
                      <a:pt x="1400" y="28"/>
                    </a:lnTo>
                    <a:lnTo>
                      <a:pt x="1524" y="50"/>
                    </a:lnTo>
                    <a:lnTo>
                      <a:pt x="1633" y="75"/>
                    </a:lnTo>
                    <a:lnTo>
                      <a:pt x="1726" y="105"/>
                    </a:lnTo>
                    <a:lnTo>
                      <a:pt x="1802" y="139"/>
                    </a:lnTo>
                    <a:lnTo>
                      <a:pt x="1858" y="175"/>
                    </a:lnTo>
                    <a:lnTo>
                      <a:pt x="1893" y="216"/>
                    </a:lnTo>
                    <a:lnTo>
                      <a:pt x="1905" y="258"/>
                    </a:lnTo>
                    <a:lnTo>
                      <a:pt x="1893" y="308"/>
                    </a:lnTo>
                    <a:lnTo>
                      <a:pt x="1858" y="353"/>
                    </a:lnTo>
                    <a:lnTo>
                      <a:pt x="1802" y="392"/>
                    </a:lnTo>
                    <a:lnTo>
                      <a:pt x="1726" y="426"/>
                    </a:lnTo>
                    <a:lnTo>
                      <a:pt x="1633" y="456"/>
                    </a:lnTo>
                    <a:lnTo>
                      <a:pt x="1524" y="480"/>
                    </a:lnTo>
                    <a:lnTo>
                      <a:pt x="1400" y="498"/>
                    </a:lnTo>
                    <a:lnTo>
                      <a:pt x="1264" y="512"/>
                    </a:lnTo>
                    <a:lnTo>
                      <a:pt x="1117" y="519"/>
                    </a:lnTo>
                    <a:lnTo>
                      <a:pt x="961" y="523"/>
                    </a:lnTo>
                    <a:lnTo>
                      <a:pt x="803" y="519"/>
                    </a:lnTo>
                    <a:lnTo>
                      <a:pt x="656" y="512"/>
                    </a:lnTo>
                    <a:lnTo>
                      <a:pt x="518" y="498"/>
                    </a:lnTo>
                    <a:lnTo>
                      <a:pt x="392" y="480"/>
                    </a:lnTo>
                    <a:lnTo>
                      <a:pt x="281" y="456"/>
                    </a:lnTo>
                    <a:lnTo>
                      <a:pt x="186" y="426"/>
                    </a:lnTo>
                    <a:lnTo>
                      <a:pt x="107" y="392"/>
                    </a:lnTo>
                    <a:lnTo>
                      <a:pt x="50" y="353"/>
                    </a:lnTo>
                    <a:lnTo>
                      <a:pt x="13" y="308"/>
                    </a:lnTo>
                    <a:lnTo>
                      <a:pt x="2" y="258"/>
                    </a:lnTo>
                    <a:lnTo>
                      <a:pt x="2" y="258"/>
                    </a:lnTo>
                  </a:path>
                </a:pathLst>
              </a:custGeom>
              <a:noFill/>
              <a:ln w="20520">
                <a:solidFill>
                  <a:srgbClr val="c1c1c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224160" y="2403360"/>
                <a:ext cx="2578680" cy="313200"/>
              </a:xfrm>
              <a:custGeom>
                <a:avLst/>
                <a:gdLst/>
                <a:ahLst/>
                <a:rect l="l" t="t" r="r" b="b"/>
                <a:pathLst>
                  <a:path w="1899" h="516">
                    <a:moveTo>
                      <a:pt x="0" y="257"/>
                    </a:moveTo>
                    <a:lnTo>
                      <a:pt x="12" y="215"/>
                    </a:lnTo>
                    <a:lnTo>
                      <a:pt x="48" y="176"/>
                    </a:lnTo>
                    <a:lnTo>
                      <a:pt x="106" y="138"/>
                    </a:lnTo>
                    <a:lnTo>
                      <a:pt x="184" y="104"/>
                    </a:lnTo>
                    <a:lnTo>
                      <a:pt x="279" y="76"/>
                    </a:lnTo>
                    <a:lnTo>
                      <a:pt x="391" y="49"/>
                    </a:lnTo>
                    <a:lnTo>
                      <a:pt x="516" y="29"/>
                    </a:lnTo>
                    <a:lnTo>
                      <a:pt x="653" y="13"/>
                    </a:lnTo>
                    <a:lnTo>
                      <a:pt x="802" y="4"/>
                    </a:lnTo>
                    <a:lnTo>
                      <a:pt x="958" y="0"/>
                    </a:lnTo>
                    <a:lnTo>
                      <a:pt x="1114" y="4"/>
                    </a:lnTo>
                    <a:lnTo>
                      <a:pt x="1260" y="13"/>
                    </a:lnTo>
                    <a:lnTo>
                      <a:pt x="1395" y="29"/>
                    </a:lnTo>
                    <a:lnTo>
                      <a:pt x="1519" y="49"/>
                    </a:lnTo>
                    <a:lnTo>
                      <a:pt x="1628" y="76"/>
                    </a:lnTo>
                    <a:lnTo>
                      <a:pt x="1720" y="104"/>
                    </a:lnTo>
                    <a:lnTo>
                      <a:pt x="1796" y="138"/>
                    </a:lnTo>
                    <a:lnTo>
                      <a:pt x="1852" y="176"/>
                    </a:lnTo>
                    <a:lnTo>
                      <a:pt x="1886" y="215"/>
                    </a:lnTo>
                    <a:lnTo>
                      <a:pt x="1899" y="257"/>
                    </a:lnTo>
                    <a:lnTo>
                      <a:pt x="1886" y="305"/>
                    </a:lnTo>
                    <a:lnTo>
                      <a:pt x="1852" y="350"/>
                    </a:lnTo>
                    <a:lnTo>
                      <a:pt x="1796" y="389"/>
                    </a:lnTo>
                    <a:lnTo>
                      <a:pt x="1720" y="423"/>
                    </a:lnTo>
                    <a:lnTo>
                      <a:pt x="1628" y="452"/>
                    </a:lnTo>
                    <a:lnTo>
                      <a:pt x="1519" y="475"/>
                    </a:lnTo>
                    <a:lnTo>
                      <a:pt x="1395" y="493"/>
                    </a:lnTo>
                    <a:lnTo>
                      <a:pt x="1260" y="506"/>
                    </a:lnTo>
                    <a:lnTo>
                      <a:pt x="1114" y="514"/>
                    </a:lnTo>
                    <a:lnTo>
                      <a:pt x="958" y="516"/>
                    </a:lnTo>
                    <a:lnTo>
                      <a:pt x="802" y="514"/>
                    </a:lnTo>
                    <a:lnTo>
                      <a:pt x="653" y="506"/>
                    </a:lnTo>
                    <a:lnTo>
                      <a:pt x="516" y="493"/>
                    </a:lnTo>
                    <a:lnTo>
                      <a:pt x="391" y="475"/>
                    </a:lnTo>
                    <a:lnTo>
                      <a:pt x="279" y="452"/>
                    </a:lnTo>
                    <a:lnTo>
                      <a:pt x="184" y="423"/>
                    </a:lnTo>
                    <a:lnTo>
                      <a:pt x="106" y="389"/>
                    </a:lnTo>
                    <a:lnTo>
                      <a:pt x="48" y="350"/>
                    </a:lnTo>
                    <a:lnTo>
                      <a:pt x="12" y="305"/>
                    </a:lnTo>
                    <a:lnTo>
                      <a:pt x="0" y="257"/>
                    </a:lnTo>
                    <a:lnTo>
                      <a:pt x="0" y="257"/>
                    </a:lnTo>
                  </a:path>
                </a:pathLst>
              </a:custGeom>
              <a:noFill/>
              <a:ln w="20520">
                <a:solidFill>
                  <a:srgbClr val="c9c9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227040" y="2404440"/>
                <a:ext cx="2570400" cy="309600"/>
              </a:xfrm>
              <a:custGeom>
                <a:avLst/>
                <a:gdLst/>
                <a:ahLst/>
                <a:rect l="l" t="t" r="r" b="b"/>
                <a:pathLst>
                  <a:path w="1893" h="511">
                    <a:moveTo>
                      <a:pt x="0" y="253"/>
                    </a:moveTo>
                    <a:lnTo>
                      <a:pt x="13" y="212"/>
                    </a:lnTo>
                    <a:lnTo>
                      <a:pt x="49" y="174"/>
                    </a:lnTo>
                    <a:lnTo>
                      <a:pt x="107" y="136"/>
                    </a:lnTo>
                    <a:lnTo>
                      <a:pt x="183" y="104"/>
                    </a:lnTo>
                    <a:lnTo>
                      <a:pt x="278" y="74"/>
                    </a:lnTo>
                    <a:lnTo>
                      <a:pt x="390" y="49"/>
                    </a:lnTo>
                    <a:lnTo>
                      <a:pt x="515" y="27"/>
                    </a:lnTo>
                    <a:lnTo>
                      <a:pt x="652" y="13"/>
                    </a:lnTo>
                    <a:lnTo>
                      <a:pt x="800" y="4"/>
                    </a:lnTo>
                    <a:lnTo>
                      <a:pt x="956" y="0"/>
                    </a:lnTo>
                    <a:lnTo>
                      <a:pt x="1111" y="4"/>
                    </a:lnTo>
                    <a:lnTo>
                      <a:pt x="1258" y="13"/>
                    </a:lnTo>
                    <a:lnTo>
                      <a:pt x="1392" y="27"/>
                    </a:lnTo>
                    <a:lnTo>
                      <a:pt x="1515" y="49"/>
                    </a:lnTo>
                    <a:lnTo>
                      <a:pt x="1623" y="74"/>
                    </a:lnTo>
                    <a:lnTo>
                      <a:pt x="1716" y="104"/>
                    </a:lnTo>
                    <a:lnTo>
                      <a:pt x="1791" y="136"/>
                    </a:lnTo>
                    <a:lnTo>
                      <a:pt x="1846" y="174"/>
                    </a:lnTo>
                    <a:lnTo>
                      <a:pt x="1882" y="212"/>
                    </a:lnTo>
                    <a:lnTo>
                      <a:pt x="1893" y="253"/>
                    </a:lnTo>
                    <a:lnTo>
                      <a:pt x="1882" y="303"/>
                    </a:lnTo>
                    <a:lnTo>
                      <a:pt x="1846" y="346"/>
                    </a:lnTo>
                    <a:lnTo>
                      <a:pt x="1791" y="384"/>
                    </a:lnTo>
                    <a:lnTo>
                      <a:pt x="1716" y="418"/>
                    </a:lnTo>
                    <a:lnTo>
                      <a:pt x="1623" y="446"/>
                    </a:lnTo>
                    <a:lnTo>
                      <a:pt x="1515" y="470"/>
                    </a:lnTo>
                    <a:lnTo>
                      <a:pt x="1392" y="487"/>
                    </a:lnTo>
                    <a:lnTo>
                      <a:pt x="1258" y="500"/>
                    </a:lnTo>
                    <a:lnTo>
                      <a:pt x="1111" y="507"/>
                    </a:lnTo>
                    <a:lnTo>
                      <a:pt x="956" y="511"/>
                    </a:lnTo>
                    <a:lnTo>
                      <a:pt x="800" y="507"/>
                    </a:lnTo>
                    <a:lnTo>
                      <a:pt x="652" y="500"/>
                    </a:lnTo>
                    <a:lnTo>
                      <a:pt x="515" y="487"/>
                    </a:lnTo>
                    <a:lnTo>
                      <a:pt x="390" y="470"/>
                    </a:lnTo>
                    <a:lnTo>
                      <a:pt x="278" y="446"/>
                    </a:lnTo>
                    <a:lnTo>
                      <a:pt x="183" y="418"/>
                    </a:lnTo>
                    <a:lnTo>
                      <a:pt x="107" y="384"/>
                    </a:lnTo>
                    <a:lnTo>
                      <a:pt x="49" y="346"/>
                    </a:lnTo>
                    <a:lnTo>
                      <a:pt x="13" y="303"/>
                    </a:lnTo>
                    <a:lnTo>
                      <a:pt x="0" y="253"/>
                    </a:lnTo>
                    <a:lnTo>
                      <a:pt x="0" y="253"/>
                    </a:lnTo>
                  </a:path>
                </a:pathLst>
              </a:custGeom>
              <a:noFill/>
              <a:ln w="205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229560" y="2405880"/>
                <a:ext cx="2563560" cy="306000"/>
              </a:xfrm>
              <a:custGeom>
                <a:avLst/>
                <a:gdLst/>
                <a:ahLst/>
                <a:rect l="l" t="t" r="r" b="b"/>
                <a:pathLst>
                  <a:path w="1888" h="503">
                    <a:moveTo>
                      <a:pt x="0" y="251"/>
                    </a:moveTo>
                    <a:lnTo>
                      <a:pt x="14" y="210"/>
                    </a:lnTo>
                    <a:lnTo>
                      <a:pt x="49" y="172"/>
                    </a:lnTo>
                    <a:lnTo>
                      <a:pt x="106" y="134"/>
                    </a:lnTo>
                    <a:lnTo>
                      <a:pt x="184" y="102"/>
                    </a:lnTo>
                    <a:lnTo>
                      <a:pt x="279" y="73"/>
                    </a:lnTo>
                    <a:lnTo>
                      <a:pt x="389" y="48"/>
                    </a:lnTo>
                    <a:lnTo>
                      <a:pt x="513" y="27"/>
                    </a:lnTo>
                    <a:lnTo>
                      <a:pt x="650" y="13"/>
                    </a:lnTo>
                    <a:lnTo>
                      <a:pt x="798" y="2"/>
                    </a:lnTo>
                    <a:lnTo>
                      <a:pt x="954" y="0"/>
                    </a:lnTo>
                    <a:lnTo>
                      <a:pt x="1109" y="2"/>
                    </a:lnTo>
                    <a:lnTo>
                      <a:pt x="1254" y="13"/>
                    </a:lnTo>
                    <a:lnTo>
                      <a:pt x="1389" y="27"/>
                    </a:lnTo>
                    <a:lnTo>
                      <a:pt x="1512" y="48"/>
                    </a:lnTo>
                    <a:lnTo>
                      <a:pt x="1620" y="73"/>
                    </a:lnTo>
                    <a:lnTo>
                      <a:pt x="1711" y="102"/>
                    </a:lnTo>
                    <a:lnTo>
                      <a:pt x="1786" y="134"/>
                    </a:lnTo>
                    <a:lnTo>
                      <a:pt x="1842" y="172"/>
                    </a:lnTo>
                    <a:lnTo>
                      <a:pt x="1876" y="210"/>
                    </a:lnTo>
                    <a:lnTo>
                      <a:pt x="1888" y="251"/>
                    </a:lnTo>
                    <a:lnTo>
                      <a:pt x="1876" y="299"/>
                    </a:lnTo>
                    <a:lnTo>
                      <a:pt x="1842" y="342"/>
                    </a:lnTo>
                    <a:lnTo>
                      <a:pt x="1786" y="380"/>
                    </a:lnTo>
                    <a:lnTo>
                      <a:pt x="1711" y="412"/>
                    </a:lnTo>
                    <a:lnTo>
                      <a:pt x="1620" y="441"/>
                    </a:lnTo>
                    <a:lnTo>
                      <a:pt x="1512" y="464"/>
                    </a:lnTo>
                    <a:lnTo>
                      <a:pt x="1389" y="480"/>
                    </a:lnTo>
                    <a:lnTo>
                      <a:pt x="1254" y="494"/>
                    </a:lnTo>
                    <a:lnTo>
                      <a:pt x="1109" y="502"/>
                    </a:lnTo>
                    <a:lnTo>
                      <a:pt x="954" y="503"/>
                    </a:lnTo>
                    <a:lnTo>
                      <a:pt x="798" y="502"/>
                    </a:lnTo>
                    <a:lnTo>
                      <a:pt x="650" y="494"/>
                    </a:lnTo>
                    <a:lnTo>
                      <a:pt x="513" y="480"/>
                    </a:lnTo>
                    <a:lnTo>
                      <a:pt x="389" y="464"/>
                    </a:lnTo>
                    <a:lnTo>
                      <a:pt x="279" y="441"/>
                    </a:lnTo>
                    <a:lnTo>
                      <a:pt x="184" y="412"/>
                    </a:lnTo>
                    <a:lnTo>
                      <a:pt x="106" y="380"/>
                    </a:lnTo>
                    <a:lnTo>
                      <a:pt x="49" y="342"/>
                    </a:lnTo>
                    <a:lnTo>
                      <a:pt x="14" y="299"/>
                    </a:lnTo>
                    <a:lnTo>
                      <a:pt x="1" y="251"/>
                    </a:lnTo>
                    <a:lnTo>
                      <a:pt x="1" y="251"/>
                    </a:lnTo>
                  </a:path>
                </a:pathLst>
              </a:custGeom>
              <a:noFill/>
              <a:ln w="20520">
                <a:solidFill>
                  <a:srgbClr val="d9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233880" y="2406960"/>
                <a:ext cx="2557080" cy="303480"/>
              </a:xfrm>
              <a:custGeom>
                <a:avLst/>
                <a:gdLst/>
                <a:ahLst/>
                <a:rect l="l" t="t" r="r" b="b"/>
                <a:pathLst>
                  <a:path w="1883" h="500">
                    <a:moveTo>
                      <a:pt x="0" y="249"/>
                    </a:moveTo>
                    <a:lnTo>
                      <a:pt x="13" y="209"/>
                    </a:lnTo>
                    <a:lnTo>
                      <a:pt x="49" y="170"/>
                    </a:lnTo>
                    <a:lnTo>
                      <a:pt x="106" y="134"/>
                    </a:lnTo>
                    <a:lnTo>
                      <a:pt x="183" y="102"/>
                    </a:lnTo>
                    <a:lnTo>
                      <a:pt x="277" y="73"/>
                    </a:lnTo>
                    <a:lnTo>
                      <a:pt x="387" y="48"/>
                    </a:lnTo>
                    <a:lnTo>
                      <a:pt x="512" y="28"/>
                    </a:lnTo>
                    <a:lnTo>
                      <a:pt x="649" y="12"/>
                    </a:lnTo>
                    <a:lnTo>
                      <a:pt x="796" y="3"/>
                    </a:lnTo>
                    <a:lnTo>
                      <a:pt x="951" y="0"/>
                    </a:lnTo>
                    <a:lnTo>
                      <a:pt x="1106" y="3"/>
                    </a:lnTo>
                    <a:lnTo>
                      <a:pt x="1250" y="12"/>
                    </a:lnTo>
                    <a:lnTo>
                      <a:pt x="1385" y="28"/>
                    </a:lnTo>
                    <a:lnTo>
                      <a:pt x="1508" y="48"/>
                    </a:lnTo>
                    <a:lnTo>
                      <a:pt x="1616" y="73"/>
                    </a:lnTo>
                    <a:lnTo>
                      <a:pt x="1707" y="102"/>
                    </a:lnTo>
                    <a:lnTo>
                      <a:pt x="1782" y="134"/>
                    </a:lnTo>
                    <a:lnTo>
                      <a:pt x="1836" y="170"/>
                    </a:lnTo>
                    <a:lnTo>
                      <a:pt x="1871" y="209"/>
                    </a:lnTo>
                    <a:lnTo>
                      <a:pt x="1883" y="249"/>
                    </a:lnTo>
                    <a:lnTo>
                      <a:pt x="1871" y="297"/>
                    </a:lnTo>
                    <a:lnTo>
                      <a:pt x="1836" y="338"/>
                    </a:lnTo>
                    <a:lnTo>
                      <a:pt x="1782" y="376"/>
                    </a:lnTo>
                    <a:lnTo>
                      <a:pt x="1707" y="408"/>
                    </a:lnTo>
                    <a:lnTo>
                      <a:pt x="1616" y="437"/>
                    </a:lnTo>
                    <a:lnTo>
                      <a:pt x="1508" y="458"/>
                    </a:lnTo>
                    <a:lnTo>
                      <a:pt x="1385" y="476"/>
                    </a:lnTo>
                    <a:lnTo>
                      <a:pt x="1250" y="489"/>
                    </a:lnTo>
                    <a:lnTo>
                      <a:pt x="1106" y="498"/>
                    </a:lnTo>
                    <a:lnTo>
                      <a:pt x="951" y="500"/>
                    </a:lnTo>
                    <a:lnTo>
                      <a:pt x="796" y="498"/>
                    </a:lnTo>
                    <a:lnTo>
                      <a:pt x="649" y="489"/>
                    </a:lnTo>
                    <a:lnTo>
                      <a:pt x="512" y="476"/>
                    </a:lnTo>
                    <a:lnTo>
                      <a:pt x="387" y="458"/>
                    </a:lnTo>
                    <a:lnTo>
                      <a:pt x="277" y="437"/>
                    </a:lnTo>
                    <a:lnTo>
                      <a:pt x="183" y="408"/>
                    </a:lnTo>
                    <a:lnTo>
                      <a:pt x="106" y="376"/>
                    </a:lnTo>
                    <a:lnTo>
                      <a:pt x="49" y="338"/>
                    </a:lnTo>
                    <a:lnTo>
                      <a:pt x="13" y="297"/>
                    </a:lnTo>
                    <a:lnTo>
                      <a:pt x="0" y="249"/>
                    </a:lnTo>
                    <a:lnTo>
                      <a:pt x="0" y="249"/>
                    </a:lnTo>
                  </a:path>
                </a:pathLst>
              </a:custGeom>
              <a:noFill/>
              <a:ln w="205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239280" y="2409480"/>
                <a:ext cx="2548800" cy="299880"/>
              </a:xfrm>
              <a:custGeom>
                <a:avLst/>
                <a:gdLst/>
                <a:ahLst/>
                <a:rect l="l" t="t" r="r" b="b"/>
                <a:pathLst>
                  <a:path w="1877" h="495">
                    <a:moveTo>
                      <a:pt x="0" y="248"/>
                    </a:moveTo>
                    <a:lnTo>
                      <a:pt x="13" y="208"/>
                    </a:lnTo>
                    <a:lnTo>
                      <a:pt x="48" y="169"/>
                    </a:lnTo>
                    <a:lnTo>
                      <a:pt x="106" y="133"/>
                    </a:lnTo>
                    <a:lnTo>
                      <a:pt x="182" y="101"/>
                    </a:lnTo>
                    <a:lnTo>
                      <a:pt x="276" y="72"/>
                    </a:lnTo>
                    <a:lnTo>
                      <a:pt x="386" y="47"/>
                    </a:lnTo>
                    <a:lnTo>
                      <a:pt x="510" y="27"/>
                    </a:lnTo>
                    <a:lnTo>
                      <a:pt x="646" y="13"/>
                    </a:lnTo>
                    <a:lnTo>
                      <a:pt x="792" y="2"/>
                    </a:lnTo>
                    <a:lnTo>
                      <a:pt x="947" y="0"/>
                    </a:lnTo>
                    <a:lnTo>
                      <a:pt x="1100" y="2"/>
                    </a:lnTo>
                    <a:lnTo>
                      <a:pt x="1246" y="13"/>
                    </a:lnTo>
                    <a:lnTo>
                      <a:pt x="1379" y="27"/>
                    </a:lnTo>
                    <a:lnTo>
                      <a:pt x="1501" y="47"/>
                    </a:lnTo>
                    <a:lnTo>
                      <a:pt x="1609" y="72"/>
                    </a:lnTo>
                    <a:lnTo>
                      <a:pt x="1702" y="101"/>
                    </a:lnTo>
                    <a:lnTo>
                      <a:pt x="1775" y="133"/>
                    </a:lnTo>
                    <a:lnTo>
                      <a:pt x="1831" y="169"/>
                    </a:lnTo>
                    <a:lnTo>
                      <a:pt x="1865" y="208"/>
                    </a:lnTo>
                    <a:lnTo>
                      <a:pt x="1877" y="248"/>
                    </a:lnTo>
                    <a:lnTo>
                      <a:pt x="1865" y="294"/>
                    </a:lnTo>
                    <a:lnTo>
                      <a:pt x="1831" y="335"/>
                    </a:lnTo>
                    <a:lnTo>
                      <a:pt x="1775" y="371"/>
                    </a:lnTo>
                    <a:lnTo>
                      <a:pt x="1702" y="403"/>
                    </a:lnTo>
                    <a:lnTo>
                      <a:pt x="1609" y="432"/>
                    </a:lnTo>
                    <a:lnTo>
                      <a:pt x="1501" y="454"/>
                    </a:lnTo>
                    <a:lnTo>
                      <a:pt x="1379" y="471"/>
                    </a:lnTo>
                    <a:lnTo>
                      <a:pt x="1246" y="484"/>
                    </a:lnTo>
                    <a:lnTo>
                      <a:pt x="1100" y="491"/>
                    </a:lnTo>
                    <a:lnTo>
                      <a:pt x="947" y="495"/>
                    </a:lnTo>
                    <a:lnTo>
                      <a:pt x="792" y="491"/>
                    </a:lnTo>
                    <a:lnTo>
                      <a:pt x="646" y="484"/>
                    </a:lnTo>
                    <a:lnTo>
                      <a:pt x="510" y="471"/>
                    </a:lnTo>
                    <a:lnTo>
                      <a:pt x="386" y="454"/>
                    </a:lnTo>
                    <a:lnTo>
                      <a:pt x="276" y="432"/>
                    </a:lnTo>
                    <a:lnTo>
                      <a:pt x="182" y="403"/>
                    </a:lnTo>
                    <a:lnTo>
                      <a:pt x="106" y="371"/>
                    </a:lnTo>
                    <a:lnTo>
                      <a:pt x="48" y="335"/>
                    </a:lnTo>
                    <a:lnTo>
                      <a:pt x="13" y="294"/>
                    </a:lnTo>
                    <a:lnTo>
                      <a:pt x="0" y="248"/>
                    </a:lnTo>
                    <a:lnTo>
                      <a:pt x="0" y="248"/>
                    </a:lnTo>
                  </a:path>
                </a:pathLst>
              </a:custGeom>
              <a:noFill/>
              <a:ln w="20520">
                <a:solidFill>
                  <a:srgbClr val="c9c9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243240" y="2410560"/>
                <a:ext cx="2541960" cy="297720"/>
              </a:xfrm>
              <a:custGeom>
                <a:avLst/>
                <a:gdLst/>
                <a:ahLst/>
                <a:rect l="l" t="t" r="r" b="b"/>
                <a:pathLst>
                  <a:path w="1872" h="491">
                    <a:moveTo>
                      <a:pt x="0" y="246"/>
                    </a:moveTo>
                    <a:lnTo>
                      <a:pt x="12" y="206"/>
                    </a:lnTo>
                    <a:lnTo>
                      <a:pt x="48" y="169"/>
                    </a:lnTo>
                    <a:lnTo>
                      <a:pt x="105" y="133"/>
                    </a:lnTo>
                    <a:lnTo>
                      <a:pt x="181" y="100"/>
                    </a:lnTo>
                    <a:lnTo>
                      <a:pt x="275" y="72"/>
                    </a:lnTo>
                    <a:lnTo>
                      <a:pt x="384" y="49"/>
                    </a:lnTo>
                    <a:lnTo>
                      <a:pt x="509" y="29"/>
                    </a:lnTo>
                    <a:lnTo>
                      <a:pt x="644" y="13"/>
                    </a:lnTo>
                    <a:lnTo>
                      <a:pt x="789" y="4"/>
                    </a:lnTo>
                    <a:lnTo>
                      <a:pt x="944" y="0"/>
                    </a:lnTo>
                    <a:lnTo>
                      <a:pt x="1097" y="4"/>
                    </a:lnTo>
                    <a:lnTo>
                      <a:pt x="1242" y="13"/>
                    </a:lnTo>
                    <a:lnTo>
                      <a:pt x="1376" y="29"/>
                    </a:lnTo>
                    <a:lnTo>
                      <a:pt x="1497" y="49"/>
                    </a:lnTo>
                    <a:lnTo>
                      <a:pt x="1605" y="72"/>
                    </a:lnTo>
                    <a:lnTo>
                      <a:pt x="1696" y="100"/>
                    </a:lnTo>
                    <a:lnTo>
                      <a:pt x="1771" y="133"/>
                    </a:lnTo>
                    <a:lnTo>
                      <a:pt x="1826" y="169"/>
                    </a:lnTo>
                    <a:lnTo>
                      <a:pt x="1861" y="206"/>
                    </a:lnTo>
                    <a:lnTo>
                      <a:pt x="1872" y="246"/>
                    </a:lnTo>
                    <a:lnTo>
                      <a:pt x="1861" y="292"/>
                    </a:lnTo>
                    <a:lnTo>
                      <a:pt x="1826" y="332"/>
                    </a:lnTo>
                    <a:lnTo>
                      <a:pt x="1771" y="369"/>
                    </a:lnTo>
                    <a:lnTo>
                      <a:pt x="1696" y="400"/>
                    </a:lnTo>
                    <a:lnTo>
                      <a:pt x="1605" y="428"/>
                    </a:lnTo>
                    <a:lnTo>
                      <a:pt x="1497" y="450"/>
                    </a:lnTo>
                    <a:lnTo>
                      <a:pt x="1376" y="468"/>
                    </a:lnTo>
                    <a:lnTo>
                      <a:pt x="1242" y="480"/>
                    </a:lnTo>
                    <a:lnTo>
                      <a:pt x="1097" y="487"/>
                    </a:lnTo>
                    <a:lnTo>
                      <a:pt x="944" y="491"/>
                    </a:lnTo>
                    <a:lnTo>
                      <a:pt x="789" y="487"/>
                    </a:lnTo>
                    <a:lnTo>
                      <a:pt x="644" y="480"/>
                    </a:lnTo>
                    <a:lnTo>
                      <a:pt x="509" y="468"/>
                    </a:lnTo>
                    <a:lnTo>
                      <a:pt x="384" y="450"/>
                    </a:lnTo>
                    <a:lnTo>
                      <a:pt x="275" y="428"/>
                    </a:lnTo>
                    <a:lnTo>
                      <a:pt x="181" y="400"/>
                    </a:lnTo>
                    <a:lnTo>
                      <a:pt x="105" y="369"/>
                    </a:lnTo>
                    <a:lnTo>
                      <a:pt x="48" y="332"/>
                    </a:lnTo>
                    <a:lnTo>
                      <a:pt x="12" y="292"/>
                    </a:lnTo>
                    <a:lnTo>
                      <a:pt x="1" y="246"/>
                    </a:lnTo>
                    <a:lnTo>
                      <a:pt x="1" y="246"/>
                    </a:lnTo>
                  </a:path>
                </a:pathLst>
              </a:custGeom>
              <a:noFill/>
              <a:ln w="20520">
                <a:solidFill>
                  <a:srgbClr val="c1c1c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48640" y="2412000"/>
                <a:ext cx="2533680" cy="293760"/>
              </a:xfrm>
              <a:custGeom>
                <a:avLst/>
                <a:gdLst/>
                <a:ahLst/>
                <a:rect l="l" t="t" r="r" b="b"/>
                <a:pathLst>
                  <a:path w="1866" h="483">
                    <a:moveTo>
                      <a:pt x="0" y="242"/>
                    </a:moveTo>
                    <a:lnTo>
                      <a:pt x="12" y="204"/>
                    </a:lnTo>
                    <a:lnTo>
                      <a:pt x="48" y="166"/>
                    </a:lnTo>
                    <a:lnTo>
                      <a:pt x="104" y="131"/>
                    </a:lnTo>
                    <a:lnTo>
                      <a:pt x="180" y="100"/>
                    </a:lnTo>
                    <a:lnTo>
                      <a:pt x="274" y="71"/>
                    </a:lnTo>
                    <a:lnTo>
                      <a:pt x="383" y="46"/>
                    </a:lnTo>
                    <a:lnTo>
                      <a:pt x="506" y="27"/>
                    </a:lnTo>
                    <a:lnTo>
                      <a:pt x="640" y="12"/>
                    </a:lnTo>
                    <a:lnTo>
                      <a:pt x="786" y="2"/>
                    </a:lnTo>
                    <a:lnTo>
                      <a:pt x="940" y="0"/>
                    </a:lnTo>
                    <a:lnTo>
                      <a:pt x="1093" y="2"/>
                    </a:lnTo>
                    <a:lnTo>
                      <a:pt x="1237" y="12"/>
                    </a:lnTo>
                    <a:lnTo>
                      <a:pt x="1371" y="27"/>
                    </a:lnTo>
                    <a:lnTo>
                      <a:pt x="1492" y="46"/>
                    </a:lnTo>
                    <a:lnTo>
                      <a:pt x="1600" y="71"/>
                    </a:lnTo>
                    <a:lnTo>
                      <a:pt x="1691" y="100"/>
                    </a:lnTo>
                    <a:lnTo>
                      <a:pt x="1766" y="131"/>
                    </a:lnTo>
                    <a:lnTo>
                      <a:pt x="1820" y="166"/>
                    </a:lnTo>
                    <a:lnTo>
                      <a:pt x="1855" y="204"/>
                    </a:lnTo>
                    <a:lnTo>
                      <a:pt x="1866" y="243"/>
                    </a:lnTo>
                    <a:lnTo>
                      <a:pt x="1855" y="288"/>
                    </a:lnTo>
                    <a:lnTo>
                      <a:pt x="1820" y="328"/>
                    </a:lnTo>
                    <a:lnTo>
                      <a:pt x="1766" y="363"/>
                    </a:lnTo>
                    <a:lnTo>
                      <a:pt x="1691" y="394"/>
                    </a:lnTo>
                    <a:lnTo>
                      <a:pt x="1600" y="421"/>
                    </a:lnTo>
                    <a:lnTo>
                      <a:pt x="1492" y="444"/>
                    </a:lnTo>
                    <a:lnTo>
                      <a:pt x="1371" y="462"/>
                    </a:lnTo>
                    <a:lnTo>
                      <a:pt x="1237" y="474"/>
                    </a:lnTo>
                    <a:lnTo>
                      <a:pt x="1093" y="482"/>
                    </a:lnTo>
                    <a:lnTo>
                      <a:pt x="940" y="483"/>
                    </a:lnTo>
                    <a:lnTo>
                      <a:pt x="786" y="482"/>
                    </a:lnTo>
                    <a:lnTo>
                      <a:pt x="640" y="474"/>
                    </a:lnTo>
                    <a:lnTo>
                      <a:pt x="506" y="462"/>
                    </a:lnTo>
                    <a:lnTo>
                      <a:pt x="383" y="444"/>
                    </a:lnTo>
                    <a:lnTo>
                      <a:pt x="274" y="421"/>
                    </a:lnTo>
                    <a:lnTo>
                      <a:pt x="180" y="394"/>
                    </a:lnTo>
                    <a:lnTo>
                      <a:pt x="104" y="363"/>
                    </a:lnTo>
                    <a:lnTo>
                      <a:pt x="48" y="328"/>
                    </a:lnTo>
                    <a:lnTo>
                      <a:pt x="12" y="288"/>
                    </a:lnTo>
                    <a:lnTo>
                      <a:pt x="0" y="243"/>
                    </a:lnTo>
                    <a:lnTo>
                      <a:pt x="0" y="243"/>
                    </a:lnTo>
                  </a:path>
                </a:pathLst>
              </a:custGeom>
              <a:noFill/>
              <a:ln w="20520">
                <a:solidFill>
                  <a:srgbClr val="b9b9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251160" y="2413080"/>
                <a:ext cx="2530080" cy="291240"/>
              </a:xfrm>
              <a:custGeom>
                <a:avLst/>
                <a:gdLst/>
                <a:ahLst/>
                <a:rect l="l" t="t" r="r" b="b"/>
                <a:pathLst>
                  <a:path w="1863" h="480">
                    <a:moveTo>
                      <a:pt x="0" y="241"/>
                    </a:moveTo>
                    <a:lnTo>
                      <a:pt x="13" y="204"/>
                    </a:lnTo>
                    <a:lnTo>
                      <a:pt x="48" y="166"/>
                    </a:lnTo>
                    <a:lnTo>
                      <a:pt x="104" y="130"/>
                    </a:lnTo>
                    <a:lnTo>
                      <a:pt x="180" y="100"/>
                    </a:lnTo>
                    <a:lnTo>
                      <a:pt x="274" y="71"/>
                    </a:lnTo>
                    <a:lnTo>
                      <a:pt x="382" y="46"/>
                    </a:lnTo>
                    <a:lnTo>
                      <a:pt x="505" y="26"/>
                    </a:lnTo>
                    <a:lnTo>
                      <a:pt x="640" y="12"/>
                    </a:lnTo>
                    <a:lnTo>
                      <a:pt x="784" y="3"/>
                    </a:lnTo>
                    <a:lnTo>
                      <a:pt x="938" y="0"/>
                    </a:lnTo>
                    <a:lnTo>
                      <a:pt x="1090" y="3"/>
                    </a:lnTo>
                    <a:lnTo>
                      <a:pt x="1235" y="12"/>
                    </a:lnTo>
                    <a:lnTo>
                      <a:pt x="1368" y="26"/>
                    </a:lnTo>
                    <a:lnTo>
                      <a:pt x="1488" y="46"/>
                    </a:lnTo>
                    <a:lnTo>
                      <a:pt x="1596" y="71"/>
                    </a:lnTo>
                    <a:lnTo>
                      <a:pt x="1688" y="100"/>
                    </a:lnTo>
                    <a:lnTo>
                      <a:pt x="1761" y="130"/>
                    </a:lnTo>
                    <a:lnTo>
                      <a:pt x="1817" y="166"/>
                    </a:lnTo>
                    <a:lnTo>
                      <a:pt x="1851" y="204"/>
                    </a:lnTo>
                    <a:lnTo>
                      <a:pt x="1863" y="241"/>
                    </a:lnTo>
                    <a:lnTo>
                      <a:pt x="1851" y="284"/>
                    </a:lnTo>
                    <a:lnTo>
                      <a:pt x="1817" y="324"/>
                    </a:lnTo>
                    <a:lnTo>
                      <a:pt x="1761" y="360"/>
                    </a:lnTo>
                    <a:lnTo>
                      <a:pt x="1688" y="390"/>
                    </a:lnTo>
                    <a:lnTo>
                      <a:pt x="1596" y="417"/>
                    </a:lnTo>
                    <a:lnTo>
                      <a:pt x="1488" y="440"/>
                    </a:lnTo>
                    <a:lnTo>
                      <a:pt x="1368" y="456"/>
                    </a:lnTo>
                    <a:lnTo>
                      <a:pt x="1235" y="469"/>
                    </a:lnTo>
                    <a:lnTo>
                      <a:pt x="1090" y="478"/>
                    </a:lnTo>
                    <a:lnTo>
                      <a:pt x="938" y="480"/>
                    </a:lnTo>
                    <a:lnTo>
                      <a:pt x="784" y="478"/>
                    </a:lnTo>
                    <a:lnTo>
                      <a:pt x="640" y="469"/>
                    </a:lnTo>
                    <a:lnTo>
                      <a:pt x="505" y="456"/>
                    </a:lnTo>
                    <a:lnTo>
                      <a:pt x="382" y="440"/>
                    </a:lnTo>
                    <a:lnTo>
                      <a:pt x="274" y="417"/>
                    </a:lnTo>
                    <a:lnTo>
                      <a:pt x="180" y="390"/>
                    </a:lnTo>
                    <a:lnTo>
                      <a:pt x="104" y="360"/>
                    </a:lnTo>
                    <a:lnTo>
                      <a:pt x="48" y="324"/>
                    </a:lnTo>
                    <a:lnTo>
                      <a:pt x="13" y="284"/>
                    </a:lnTo>
                    <a:lnTo>
                      <a:pt x="1" y="241"/>
                    </a:lnTo>
                    <a:lnTo>
                      <a:pt x="1" y="241"/>
                    </a:lnTo>
                  </a:path>
                </a:pathLst>
              </a:custGeom>
              <a:noFill/>
              <a:ln w="2052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56920" y="2415600"/>
                <a:ext cx="2520000" cy="287640"/>
              </a:xfrm>
              <a:custGeom>
                <a:avLst/>
                <a:gdLst/>
                <a:ahLst/>
                <a:rect l="l" t="t" r="r" b="b"/>
                <a:pathLst>
                  <a:path w="1856" h="475">
                    <a:moveTo>
                      <a:pt x="0" y="238"/>
                    </a:moveTo>
                    <a:lnTo>
                      <a:pt x="13" y="201"/>
                    </a:lnTo>
                    <a:lnTo>
                      <a:pt x="47" y="165"/>
                    </a:lnTo>
                    <a:lnTo>
                      <a:pt x="104" y="129"/>
                    </a:lnTo>
                    <a:lnTo>
                      <a:pt x="179" y="99"/>
                    </a:lnTo>
                    <a:lnTo>
                      <a:pt x="271" y="70"/>
                    </a:lnTo>
                    <a:lnTo>
                      <a:pt x="381" y="47"/>
                    </a:lnTo>
                    <a:lnTo>
                      <a:pt x="502" y="27"/>
                    </a:lnTo>
                    <a:lnTo>
                      <a:pt x="637" y="13"/>
                    </a:lnTo>
                    <a:lnTo>
                      <a:pt x="781" y="2"/>
                    </a:lnTo>
                    <a:lnTo>
                      <a:pt x="934" y="0"/>
                    </a:lnTo>
                    <a:lnTo>
                      <a:pt x="1086" y="2"/>
                    </a:lnTo>
                    <a:lnTo>
                      <a:pt x="1229" y="13"/>
                    </a:lnTo>
                    <a:lnTo>
                      <a:pt x="1363" y="27"/>
                    </a:lnTo>
                    <a:lnTo>
                      <a:pt x="1483" y="47"/>
                    </a:lnTo>
                    <a:lnTo>
                      <a:pt x="1590" y="70"/>
                    </a:lnTo>
                    <a:lnTo>
                      <a:pt x="1681" y="99"/>
                    </a:lnTo>
                    <a:lnTo>
                      <a:pt x="1756" y="129"/>
                    </a:lnTo>
                    <a:lnTo>
                      <a:pt x="1810" y="165"/>
                    </a:lnTo>
                    <a:lnTo>
                      <a:pt x="1845" y="201"/>
                    </a:lnTo>
                    <a:lnTo>
                      <a:pt x="1856" y="240"/>
                    </a:lnTo>
                    <a:lnTo>
                      <a:pt x="1845" y="281"/>
                    </a:lnTo>
                    <a:lnTo>
                      <a:pt x="1810" y="321"/>
                    </a:lnTo>
                    <a:lnTo>
                      <a:pt x="1756" y="355"/>
                    </a:lnTo>
                    <a:lnTo>
                      <a:pt x="1681" y="385"/>
                    </a:lnTo>
                    <a:lnTo>
                      <a:pt x="1590" y="412"/>
                    </a:lnTo>
                    <a:lnTo>
                      <a:pt x="1483" y="434"/>
                    </a:lnTo>
                    <a:lnTo>
                      <a:pt x="1363" y="452"/>
                    </a:lnTo>
                    <a:lnTo>
                      <a:pt x="1229" y="464"/>
                    </a:lnTo>
                    <a:lnTo>
                      <a:pt x="1086" y="473"/>
                    </a:lnTo>
                    <a:lnTo>
                      <a:pt x="934" y="475"/>
                    </a:lnTo>
                    <a:lnTo>
                      <a:pt x="781" y="473"/>
                    </a:lnTo>
                    <a:lnTo>
                      <a:pt x="637" y="464"/>
                    </a:lnTo>
                    <a:lnTo>
                      <a:pt x="502" y="452"/>
                    </a:lnTo>
                    <a:lnTo>
                      <a:pt x="381" y="434"/>
                    </a:lnTo>
                    <a:lnTo>
                      <a:pt x="271" y="412"/>
                    </a:lnTo>
                    <a:lnTo>
                      <a:pt x="179" y="385"/>
                    </a:lnTo>
                    <a:lnTo>
                      <a:pt x="104" y="355"/>
                    </a:lnTo>
                    <a:lnTo>
                      <a:pt x="47" y="321"/>
                    </a:lnTo>
                    <a:lnTo>
                      <a:pt x="13" y="281"/>
                    </a:lnTo>
                    <a:lnTo>
                      <a:pt x="0" y="240"/>
                    </a:lnTo>
                    <a:lnTo>
                      <a:pt x="0" y="240"/>
                    </a:lnTo>
                  </a:path>
                </a:pathLst>
              </a:custGeom>
              <a:noFill/>
              <a:ln w="2052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262320" y="2416680"/>
                <a:ext cx="2513160" cy="285480"/>
              </a:xfrm>
              <a:custGeom>
                <a:avLst/>
                <a:gdLst/>
                <a:ahLst/>
                <a:rect l="l" t="t" r="r" b="b"/>
                <a:pathLst>
                  <a:path w="1851" h="471">
                    <a:moveTo>
                      <a:pt x="0" y="238"/>
                    </a:moveTo>
                    <a:lnTo>
                      <a:pt x="11" y="201"/>
                    </a:lnTo>
                    <a:lnTo>
                      <a:pt x="47" y="165"/>
                    </a:lnTo>
                    <a:lnTo>
                      <a:pt x="102" y="129"/>
                    </a:lnTo>
                    <a:lnTo>
                      <a:pt x="177" y="98"/>
                    </a:lnTo>
                    <a:lnTo>
                      <a:pt x="270" y="70"/>
                    </a:lnTo>
                    <a:lnTo>
                      <a:pt x="378" y="47"/>
                    </a:lnTo>
                    <a:lnTo>
                      <a:pt x="500" y="27"/>
                    </a:lnTo>
                    <a:lnTo>
                      <a:pt x="634" y="12"/>
                    </a:lnTo>
                    <a:lnTo>
                      <a:pt x="777" y="4"/>
                    </a:lnTo>
                    <a:lnTo>
                      <a:pt x="930" y="0"/>
                    </a:lnTo>
                    <a:lnTo>
                      <a:pt x="1082" y="4"/>
                    </a:lnTo>
                    <a:lnTo>
                      <a:pt x="1224" y="12"/>
                    </a:lnTo>
                    <a:lnTo>
                      <a:pt x="1357" y="27"/>
                    </a:lnTo>
                    <a:lnTo>
                      <a:pt x="1478" y="47"/>
                    </a:lnTo>
                    <a:lnTo>
                      <a:pt x="1584" y="70"/>
                    </a:lnTo>
                    <a:lnTo>
                      <a:pt x="1676" y="98"/>
                    </a:lnTo>
                    <a:lnTo>
                      <a:pt x="1749" y="129"/>
                    </a:lnTo>
                    <a:lnTo>
                      <a:pt x="1805" y="165"/>
                    </a:lnTo>
                    <a:lnTo>
                      <a:pt x="1839" y="201"/>
                    </a:lnTo>
                    <a:lnTo>
                      <a:pt x="1851" y="238"/>
                    </a:lnTo>
                    <a:lnTo>
                      <a:pt x="1839" y="279"/>
                    </a:lnTo>
                    <a:lnTo>
                      <a:pt x="1805" y="317"/>
                    </a:lnTo>
                    <a:lnTo>
                      <a:pt x="1749" y="353"/>
                    </a:lnTo>
                    <a:lnTo>
                      <a:pt x="1676" y="381"/>
                    </a:lnTo>
                    <a:lnTo>
                      <a:pt x="1584" y="408"/>
                    </a:lnTo>
                    <a:lnTo>
                      <a:pt x="1478" y="430"/>
                    </a:lnTo>
                    <a:lnTo>
                      <a:pt x="1357" y="448"/>
                    </a:lnTo>
                    <a:lnTo>
                      <a:pt x="1224" y="460"/>
                    </a:lnTo>
                    <a:lnTo>
                      <a:pt x="1082" y="467"/>
                    </a:lnTo>
                    <a:lnTo>
                      <a:pt x="930" y="471"/>
                    </a:lnTo>
                    <a:lnTo>
                      <a:pt x="777" y="467"/>
                    </a:lnTo>
                    <a:lnTo>
                      <a:pt x="634" y="460"/>
                    </a:lnTo>
                    <a:lnTo>
                      <a:pt x="500" y="448"/>
                    </a:lnTo>
                    <a:lnTo>
                      <a:pt x="378" y="430"/>
                    </a:lnTo>
                    <a:lnTo>
                      <a:pt x="270" y="408"/>
                    </a:lnTo>
                    <a:lnTo>
                      <a:pt x="177" y="381"/>
                    </a:lnTo>
                    <a:lnTo>
                      <a:pt x="102" y="353"/>
                    </a:lnTo>
                    <a:lnTo>
                      <a:pt x="47" y="317"/>
                    </a:lnTo>
                    <a:lnTo>
                      <a:pt x="11" y="279"/>
                    </a:lnTo>
                    <a:lnTo>
                      <a:pt x="0" y="238"/>
                    </a:lnTo>
                    <a:lnTo>
                      <a:pt x="0" y="238"/>
                    </a:lnTo>
                  </a:path>
                </a:pathLst>
              </a:custGeom>
              <a:noFill/>
              <a:ln w="205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264840" y="2419200"/>
                <a:ext cx="2509560" cy="282960"/>
              </a:xfrm>
              <a:custGeom>
                <a:avLst/>
                <a:gdLst/>
                <a:ahLst/>
                <a:rect l="l" t="t" r="r" b="b"/>
                <a:pathLst>
                  <a:path w="1848" h="465">
                    <a:moveTo>
                      <a:pt x="0" y="234"/>
                    </a:moveTo>
                    <a:lnTo>
                      <a:pt x="13" y="198"/>
                    </a:lnTo>
                    <a:lnTo>
                      <a:pt x="47" y="161"/>
                    </a:lnTo>
                    <a:lnTo>
                      <a:pt x="103" y="127"/>
                    </a:lnTo>
                    <a:lnTo>
                      <a:pt x="178" y="96"/>
                    </a:lnTo>
                    <a:lnTo>
                      <a:pt x="270" y="69"/>
                    </a:lnTo>
                    <a:lnTo>
                      <a:pt x="378" y="44"/>
                    </a:lnTo>
                    <a:lnTo>
                      <a:pt x="499" y="26"/>
                    </a:lnTo>
                    <a:lnTo>
                      <a:pt x="632" y="12"/>
                    </a:lnTo>
                    <a:lnTo>
                      <a:pt x="775" y="1"/>
                    </a:lnTo>
                    <a:lnTo>
                      <a:pt x="928" y="0"/>
                    </a:lnTo>
                    <a:lnTo>
                      <a:pt x="1079" y="1"/>
                    </a:lnTo>
                    <a:lnTo>
                      <a:pt x="1222" y="12"/>
                    </a:lnTo>
                    <a:lnTo>
                      <a:pt x="1354" y="26"/>
                    </a:lnTo>
                    <a:lnTo>
                      <a:pt x="1475" y="44"/>
                    </a:lnTo>
                    <a:lnTo>
                      <a:pt x="1581" y="69"/>
                    </a:lnTo>
                    <a:lnTo>
                      <a:pt x="1673" y="96"/>
                    </a:lnTo>
                    <a:lnTo>
                      <a:pt x="1746" y="127"/>
                    </a:lnTo>
                    <a:lnTo>
                      <a:pt x="1801" y="161"/>
                    </a:lnTo>
                    <a:lnTo>
                      <a:pt x="1835" y="198"/>
                    </a:lnTo>
                    <a:lnTo>
                      <a:pt x="1848" y="236"/>
                    </a:lnTo>
                    <a:lnTo>
                      <a:pt x="1835" y="275"/>
                    </a:lnTo>
                    <a:lnTo>
                      <a:pt x="1801" y="313"/>
                    </a:lnTo>
                    <a:lnTo>
                      <a:pt x="1746" y="347"/>
                    </a:lnTo>
                    <a:lnTo>
                      <a:pt x="1673" y="376"/>
                    </a:lnTo>
                    <a:lnTo>
                      <a:pt x="1581" y="403"/>
                    </a:lnTo>
                    <a:lnTo>
                      <a:pt x="1475" y="424"/>
                    </a:lnTo>
                    <a:lnTo>
                      <a:pt x="1354" y="442"/>
                    </a:lnTo>
                    <a:lnTo>
                      <a:pt x="1222" y="454"/>
                    </a:lnTo>
                    <a:lnTo>
                      <a:pt x="1079" y="462"/>
                    </a:lnTo>
                    <a:lnTo>
                      <a:pt x="928" y="465"/>
                    </a:lnTo>
                    <a:lnTo>
                      <a:pt x="775" y="462"/>
                    </a:lnTo>
                    <a:lnTo>
                      <a:pt x="632" y="454"/>
                    </a:lnTo>
                    <a:lnTo>
                      <a:pt x="499" y="442"/>
                    </a:lnTo>
                    <a:lnTo>
                      <a:pt x="378" y="424"/>
                    </a:lnTo>
                    <a:lnTo>
                      <a:pt x="270" y="403"/>
                    </a:lnTo>
                    <a:lnTo>
                      <a:pt x="178" y="376"/>
                    </a:lnTo>
                    <a:lnTo>
                      <a:pt x="103" y="347"/>
                    </a:lnTo>
                    <a:lnTo>
                      <a:pt x="47" y="313"/>
                    </a:lnTo>
                    <a:lnTo>
                      <a:pt x="13" y="275"/>
                    </a:lnTo>
                    <a:lnTo>
                      <a:pt x="2" y="236"/>
                    </a:lnTo>
                    <a:lnTo>
                      <a:pt x="2" y="236"/>
                    </a:lnTo>
                  </a:path>
                </a:pathLst>
              </a:custGeom>
              <a:noFill/>
              <a:ln w="20520">
                <a:solidFill>
                  <a:srgbClr val="9a9a9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70240" y="2420280"/>
                <a:ext cx="2499840" cy="280440"/>
              </a:xfrm>
              <a:custGeom>
                <a:avLst/>
                <a:gdLst/>
                <a:ahLst/>
                <a:rect l="l" t="t" r="r" b="b"/>
                <a:pathLst>
                  <a:path w="1841" h="462">
                    <a:moveTo>
                      <a:pt x="0" y="235"/>
                    </a:moveTo>
                    <a:lnTo>
                      <a:pt x="13" y="197"/>
                    </a:lnTo>
                    <a:lnTo>
                      <a:pt x="47" y="162"/>
                    </a:lnTo>
                    <a:lnTo>
                      <a:pt x="103" y="127"/>
                    </a:lnTo>
                    <a:lnTo>
                      <a:pt x="176" y="97"/>
                    </a:lnTo>
                    <a:lnTo>
                      <a:pt x="269" y="70"/>
                    </a:lnTo>
                    <a:lnTo>
                      <a:pt x="376" y="47"/>
                    </a:lnTo>
                    <a:lnTo>
                      <a:pt x="497" y="27"/>
                    </a:lnTo>
                    <a:lnTo>
                      <a:pt x="629" y="13"/>
                    </a:lnTo>
                    <a:lnTo>
                      <a:pt x="773" y="4"/>
                    </a:lnTo>
                    <a:lnTo>
                      <a:pt x="924" y="0"/>
                    </a:lnTo>
                    <a:lnTo>
                      <a:pt x="1075" y="4"/>
                    </a:lnTo>
                    <a:lnTo>
                      <a:pt x="1217" y="13"/>
                    </a:lnTo>
                    <a:lnTo>
                      <a:pt x="1349" y="27"/>
                    </a:lnTo>
                    <a:lnTo>
                      <a:pt x="1469" y="47"/>
                    </a:lnTo>
                    <a:lnTo>
                      <a:pt x="1576" y="70"/>
                    </a:lnTo>
                    <a:lnTo>
                      <a:pt x="1667" y="97"/>
                    </a:lnTo>
                    <a:lnTo>
                      <a:pt x="1741" y="127"/>
                    </a:lnTo>
                    <a:lnTo>
                      <a:pt x="1795" y="162"/>
                    </a:lnTo>
                    <a:lnTo>
                      <a:pt x="1830" y="197"/>
                    </a:lnTo>
                    <a:lnTo>
                      <a:pt x="1841" y="235"/>
                    </a:lnTo>
                    <a:lnTo>
                      <a:pt x="1830" y="274"/>
                    </a:lnTo>
                    <a:lnTo>
                      <a:pt x="1795" y="310"/>
                    </a:lnTo>
                    <a:lnTo>
                      <a:pt x="1741" y="344"/>
                    </a:lnTo>
                    <a:lnTo>
                      <a:pt x="1667" y="373"/>
                    </a:lnTo>
                    <a:lnTo>
                      <a:pt x="1576" y="400"/>
                    </a:lnTo>
                    <a:lnTo>
                      <a:pt x="1469" y="421"/>
                    </a:lnTo>
                    <a:lnTo>
                      <a:pt x="1349" y="439"/>
                    </a:lnTo>
                    <a:lnTo>
                      <a:pt x="1217" y="452"/>
                    </a:lnTo>
                    <a:lnTo>
                      <a:pt x="1075" y="459"/>
                    </a:lnTo>
                    <a:lnTo>
                      <a:pt x="924" y="462"/>
                    </a:lnTo>
                    <a:lnTo>
                      <a:pt x="773" y="459"/>
                    </a:lnTo>
                    <a:lnTo>
                      <a:pt x="629" y="452"/>
                    </a:lnTo>
                    <a:lnTo>
                      <a:pt x="497" y="439"/>
                    </a:lnTo>
                    <a:lnTo>
                      <a:pt x="376" y="421"/>
                    </a:lnTo>
                    <a:lnTo>
                      <a:pt x="269" y="400"/>
                    </a:lnTo>
                    <a:lnTo>
                      <a:pt x="176" y="373"/>
                    </a:lnTo>
                    <a:lnTo>
                      <a:pt x="103" y="344"/>
                    </a:lnTo>
                    <a:lnTo>
                      <a:pt x="47" y="310"/>
                    </a:lnTo>
                    <a:lnTo>
                      <a:pt x="13" y="274"/>
                    </a:lnTo>
                    <a:lnTo>
                      <a:pt x="0" y="235"/>
                    </a:lnTo>
                    <a:lnTo>
                      <a:pt x="0" y="235"/>
                    </a:lnTo>
                  </a:path>
                </a:pathLst>
              </a:custGeom>
              <a:noFill/>
              <a:ln w="20520">
                <a:solidFill>
                  <a:srgbClr val="92929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74200" y="2421720"/>
                <a:ext cx="2494440" cy="276840"/>
              </a:xfrm>
              <a:custGeom>
                <a:avLst/>
                <a:gdLst/>
                <a:ahLst/>
                <a:rect l="l" t="t" r="r" b="b"/>
                <a:pathLst>
                  <a:path w="1837" h="455">
                    <a:moveTo>
                      <a:pt x="0" y="231"/>
                    </a:moveTo>
                    <a:lnTo>
                      <a:pt x="12" y="195"/>
                    </a:lnTo>
                    <a:lnTo>
                      <a:pt x="47" y="159"/>
                    </a:lnTo>
                    <a:lnTo>
                      <a:pt x="102" y="127"/>
                    </a:lnTo>
                    <a:lnTo>
                      <a:pt x="176" y="95"/>
                    </a:lnTo>
                    <a:lnTo>
                      <a:pt x="267" y="68"/>
                    </a:lnTo>
                    <a:lnTo>
                      <a:pt x="375" y="45"/>
                    </a:lnTo>
                    <a:lnTo>
                      <a:pt x="496" y="25"/>
                    </a:lnTo>
                    <a:lnTo>
                      <a:pt x="628" y="11"/>
                    </a:lnTo>
                    <a:lnTo>
                      <a:pt x="770" y="2"/>
                    </a:lnTo>
                    <a:lnTo>
                      <a:pt x="921" y="0"/>
                    </a:lnTo>
                    <a:lnTo>
                      <a:pt x="1070" y="2"/>
                    </a:lnTo>
                    <a:lnTo>
                      <a:pt x="1213" y="11"/>
                    </a:lnTo>
                    <a:lnTo>
                      <a:pt x="1345" y="25"/>
                    </a:lnTo>
                    <a:lnTo>
                      <a:pt x="1465" y="45"/>
                    </a:lnTo>
                    <a:lnTo>
                      <a:pt x="1572" y="68"/>
                    </a:lnTo>
                    <a:lnTo>
                      <a:pt x="1662" y="95"/>
                    </a:lnTo>
                    <a:lnTo>
                      <a:pt x="1735" y="127"/>
                    </a:lnTo>
                    <a:lnTo>
                      <a:pt x="1790" y="159"/>
                    </a:lnTo>
                    <a:lnTo>
                      <a:pt x="1824" y="195"/>
                    </a:lnTo>
                    <a:lnTo>
                      <a:pt x="1837" y="233"/>
                    </a:lnTo>
                    <a:lnTo>
                      <a:pt x="1824" y="270"/>
                    </a:lnTo>
                    <a:lnTo>
                      <a:pt x="1790" y="306"/>
                    </a:lnTo>
                    <a:lnTo>
                      <a:pt x="1735" y="338"/>
                    </a:lnTo>
                    <a:lnTo>
                      <a:pt x="1662" y="367"/>
                    </a:lnTo>
                    <a:lnTo>
                      <a:pt x="1572" y="394"/>
                    </a:lnTo>
                    <a:lnTo>
                      <a:pt x="1465" y="415"/>
                    </a:lnTo>
                    <a:lnTo>
                      <a:pt x="1345" y="432"/>
                    </a:lnTo>
                    <a:lnTo>
                      <a:pt x="1213" y="444"/>
                    </a:lnTo>
                    <a:lnTo>
                      <a:pt x="1070" y="453"/>
                    </a:lnTo>
                    <a:lnTo>
                      <a:pt x="921" y="455"/>
                    </a:lnTo>
                    <a:lnTo>
                      <a:pt x="770" y="453"/>
                    </a:lnTo>
                    <a:lnTo>
                      <a:pt x="628" y="444"/>
                    </a:lnTo>
                    <a:lnTo>
                      <a:pt x="496" y="432"/>
                    </a:lnTo>
                    <a:lnTo>
                      <a:pt x="375" y="415"/>
                    </a:lnTo>
                    <a:lnTo>
                      <a:pt x="267" y="394"/>
                    </a:lnTo>
                    <a:lnTo>
                      <a:pt x="176" y="367"/>
                    </a:lnTo>
                    <a:lnTo>
                      <a:pt x="102" y="338"/>
                    </a:lnTo>
                    <a:lnTo>
                      <a:pt x="47" y="306"/>
                    </a:lnTo>
                    <a:lnTo>
                      <a:pt x="12" y="270"/>
                    </a:lnTo>
                    <a:lnTo>
                      <a:pt x="1" y="233"/>
                    </a:lnTo>
                    <a:lnTo>
                      <a:pt x="1" y="233"/>
                    </a:lnTo>
                  </a:path>
                </a:pathLst>
              </a:custGeom>
              <a:noFill/>
              <a:ln w="20520">
                <a:solidFill>
                  <a:srgbClr val="8a8a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278520" y="2422800"/>
                <a:ext cx="2486160" cy="274320"/>
              </a:xfrm>
              <a:custGeom>
                <a:avLst/>
                <a:gdLst/>
                <a:ahLst/>
                <a:rect l="l" t="t" r="r" b="b"/>
                <a:pathLst>
                  <a:path w="1831" h="451">
                    <a:moveTo>
                      <a:pt x="0" y="231"/>
                    </a:moveTo>
                    <a:lnTo>
                      <a:pt x="13" y="195"/>
                    </a:lnTo>
                    <a:lnTo>
                      <a:pt x="47" y="159"/>
                    </a:lnTo>
                    <a:lnTo>
                      <a:pt x="102" y="127"/>
                    </a:lnTo>
                    <a:lnTo>
                      <a:pt x="175" y="96"/>
                    </a:lnTo>
                    <a:lnTo>
                      <a:pt x="267" y="70"/>
                    </a:lnTo>
                    <a:lnTo>
                      <a:pt x="373" y="46"/>
                    </a:lnTo>
                    <a:lnTo>
                      <a:pt x="494" y="27"/>
                    </a:lnTo>
                    <a:lnTo>
                      <a:pt x="626" y="12"/>
                    </a:lnTo>
                    <a:lnTo>
                      <a:pt x="768" y="3"/>
                    </a:lnTo>
                    <a:lnTo>
                      <a:pt x="918" y="0"/>
                    </a:lnTo>
                    <a:lnTo>
                      <a:pt x="1067" y="3"/>
                    </a:lnTo>
                    <a:lnTo>
                      <a:pt x="1210" y="12"/>
                    </a:lnTo>
                    <a:lnTo>
                      <a:pt x="1340" y="27"/>
                    </a:lnTo>
                    <a:lnTo>
                      <a:pt x="1461" y="46"/>
                    </a:lnTo>
                    <a:lnTo>
                      <a:pt x="1566" y="70"/>
                    </a:lnTo>
                    <a:lnTo>
                      <a:pt x="1657" y="96"/>
                    </a:lnTo>
                    <a:lnTo>
                      <a:pt x="1731" y="127"/>
                    </a:lnTo>
                    <a:lnTo>
                      <a:pt x="1786" y="159"/>
                    </a:lnTo>
                    <a:lnTo>
                      <a:pt x="1820" y="195"/>
                    </a:lnTo>
                    <a:lnTo>
                      <a:pt x="1831" y="231"/>
                    </a:lnTo>
                    <a:lnTo>
                      <a:pt x="1820" y="268"/>
                    </a:lnTo>
                    <a:lnTo>
                      <a:pt x="1786" y="302"/>
                    </a:lnTo>
                    <a:lnTo>
                      <a:pt x="1731" y="335"/>
                    </a:lnTo>
                    <a:lnTo>
                      <a:pt x="1657" y="363"/>
                    </a:lnTo>
                    <a:lnTo>
                      <a:pt x="1566" y="390"/>
                    </a:lnTo>
                    <a:lnTo>
                      <a:pt x="1461" y="412"/>
                    </a:lnTo>
                    <a:lnTo>
                      <a:pt x="1340" y="428"/>
                    </a:lnTo>
                    <a:lnTo>
                      <a:pt x="1210" y="440"/>
                    </a:lnTo>
                    <a:lnTo>
                      <a:pt x="1067" y="449"/>
                    </a:lnTo>
                    <a:lnTo>
                      <a:pt x="918" y="451"/>
                    </a:lnTo>
                    <a:lnTo>
                      <a:pt x="768" y="449"/>
                    </a:lnTo>
                    <a:lnTo>
                      <a:pt x="626" y="440"/>
                    </a:lnTo>
                    <a:lnTo>
                      <a:pt x="494" y="428"/>
                    </a:lnTo>
                    <a:lnTo>
                      <a:pt x="373" y="412"/>
                    </a:lnTo>
                    <a:lnTo>
                      <a:pt x="267" y="390"/>
                    </a:lnTo>
                    <a:lnTo>
                      <a:pt x="175" y="363"/>
                    </a:lnTo>
                    <a:lnTo>
                      <a:pt x="102" y="335"/>
                    </a:lnTo>
                    <a:lnTo>
                      <a:pt x="47" y="302"/>
                    </a:lnTo>
                    <a:lnTo>
                      <a:pt x="13" y="268"/>
                    </a:lnTo>
                    <a:lnTo>
                      <a:pt x="0" y="231"/>
                    </a:lnTo>
                    <a:lnTo>
                      <a:pt x="0" y="231"/>
                    </a:lnTo>
                  </a:path>
                </a:pathLst>
              </a:custGeom>
              <a:noFill/>
              <a:ln w="20520">
                <a:solidFill>
                  <a:srgbClr val="82828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282840" y="2425320"/>
                <a:ext cx="2480760" cy="270720"/>
              </a:xfrm>
              <a:custGeom>
                <a:avLst/>
                <a:gdLst/>
                <a:ahLst/>
                <a:rect l="l" t="t" r="r" b="b"/>
                <a:pathLst>
                  <a:path w="1827" h="446">
                    <a:moveTo>
                      <a:pt x="0" y="228"/>
                    </a:moveTo>
                    <a:lnTo>
                      <a:pt x="13" y="192"/>
                    </a:lnTo>
                    <a:lnTo>
                      <a:pt x="47" y="158"/>
                    </a:lnTo>
                    <a:lnTo>
                      <a:pt x="101" y="126"/>
                    </a:lnTo>
                    <a:lnTo>
                      <a:pt x="175" y="95"/>
                    </a:lnTo>
                    <a:lnTo>
                      <a:pt x="266" y="68"/>
                    </a:lnTo>
                    <a:lnTo>
                      <a:pt x="373" y="45"/>
                    </a:lnTo>
                    <a:lnTo>
                      <a:pt x="492" y="25"/>
                    </a:lnTo>
                    <a:lnTo>
                      <a:pt x="623" y="11"/>
                    </a:lnTo>
                    <a:lnTo>
                      <a:pt x="765" y="2"/>
                    </a:lnTo>
                    <a:lnTo>
                      <a:pt x="915" y="0"/>
                    </a:lnTo>
                    <a:lnTo>
                      <a:pt x="1064" y="2"/>
                    </a:lnTo>
                    <a:lnTo>
                      <a:pt x="1205" y="11"/>
                    </a:lnTo>
                    <a:lnTo>
                      <a:pt x="1337" y="25"/>
                    </a:lnTo>
                    <a:lnTo>
                      <a:pt x="1457" y="45"/>
                    </a:lnTo>
                    <a:lnTo>
                      <a:pt x="1562" y="68"/>
                    </a:lnTo>
                    <a:lnTo>
                      <a:pt x="1653" y="95"/>
                    </a:lnTo>
                    <a:lnTo>
                      <a:pt x="1727" y="126"/>
                    </a:lnTo>
                    <a:lnTo>
                      <a:pt x="1781" y="158"/>
                    </a:lnTo>
                    <a:lnTo>
                      <a:pt x="1814" y="192"/>
                    </a:lnTo>
                    <a:lnTo>
                      <a:pt x="1827" y="228"/>
                    </a:lnTo>
                    <a:lnTo>
                      <a:pt x="1814" y="265"/>
                    </a:lnTo>
                    <a:lnTo>
                      <a:pt x="1781" y="299"/>
                    </a:lnTo>
                    <a:lnTo>
                      <a:pt x="1727" y="332"/>
                    </a:lnTo>
                    <a:lnTo>
                      <a:pt x="1653" y="360"/>
                    </a:lnTo>
                    <a:lnTo>
                      <a:pt x="1562" y="384"/>
                    </a:lnTo>
                    <a:lnTo>
                      <a:pt x="1457" y="405"/>
                    </a:lnTo>
                    <a:lnTo>
                      <a:pt x="1337" y="423"/>
                    </a:lnTo>
                    <a:lnTo>
                      <a:pt x="1205" y="436"/>
                    </a:lnTo>
                    <a:lnTo>
                      <a:pt x="1064" y="443"/>
                    </a:lnTo>
                    <a:lnTo>
                      <a:pt x="915" y="446"/>
                    </a:lnTo>
                    <a:lnTo>
                      <a:pt x="765" y="443"/>
                    </a:lnTo>
                    <a:lnTo>
                      <a:pt x="623" y="436"/>
                    </a:lnTo>
                    <a:lnTo>
                      <a:pt x="492" y="423"/>
                    </a:lnTo>
                    <a:lnTo>
                      <a:pt x="373" y="405"/>
                    </a:lnTo>
                    <a:lnTo>
                      <a:pt x="266" y="384"/>
                    </a:lnTo>
                    <a:lnTo>
                      <a:pt x="175" y="360"/>
                    </a:lnTo>
                    <a:lnTo>
                      <a:pt x="101" y="332"/>
                    </a:lnTo>
                    <a:lnTo>
                      <a:pt x="47" y="299"/>
                    </a:lnTo>
                    <a:lnTo>
                      <a:pt x="13" y="265"/>
                    </a:lnTo>
                    <a:lnTo>
                      <a:pt x="1" y="228"/>
                    </a:lnTo>
                    <a:lnTo>
                      <a:pt x="1" y="228"/>
                    </a:lnTo>
                  </a:path>
                </a:pathLst>
              </a:custGeom>
              <a:noFill/>
              <a:ln w="20520">
                <a:solidFill>
                  <a:srgbClr val="7b7b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287880" y="2426400"/>
                <a:ext cx="2471400" cy="268200"/>
              </a:xfrm>
              <a:custGeom>
                <a:avLst/>
                <a:gdLst/>
                <a:ahLst/>
                <a:rect l="l" t="t" r="r" b="b"/>
                <a:pathLst>
                  <a:path w="1820" h="442">
                    <a:moveTo>
                      <a:pt x="909" y="441"/>
                    </a:moveTo>
                    <a:lnTo>
                      <a:pt x="1059" y="439"/>
                    </a:lnTo>
                    <a:lnTo>
                      <a:pt x="1201" y="432"/>
                    </a:lnTo>
                    <a:lnTo>
                      <a:pt x="1332" y="419"/>
                    </a:lnTo>
                    <a:lnTo>
                      <a:pt x="1451" y="401"/>
                    </a:lnTo>
                    <a:lnTo>
                      <a:pt x="1557" y="380"/>
                    </a:lnTo>
                    <a:lnTo>
                      <a:pt x="1647" y="356"/>
                    </a:lnTo>
                    <a:lnTo>
                      <a:pt x="1720" y="328"/>
                    </a:lnTo>
                    <a:lnTo>
                      <a:pt x="1775" y="297"/>
                    </a:lnTo>
                    <a:lnTo>
                      <a:pt x="1809" y="263"/>
                    </a:lnTo>
                    <a:lnTo>
                      <a:pt x="1820" y="228"/>
                    </a:lnTo>
                    <a:lnTo>
                      <a:pt x="1809" y="192"/>
                    </a:lnTo>
                    <a:lnTo>
                      <a:pt x="1775" y="158"/>
                    </a:lnTo>
                    <a:lnTo>
                      <a:pt x="1720" y="125"/>
                    </a:lnTo>
                    <a:lnTo>
                      <a:pt x="1647" y="95"/>
                    </a:lnTo>
                    <a:lnTo>
                      <a:pt x="1557" y="68"/>
                    </a:lnTo>
                    <a:lnTo>
                      <a:pt x="1451" y="45"/>
                    </a:lnTo>
                    <a:lnTo>
                      <a:pt x="1332" y="27"/>
                    </a:lnTo>
                    <a:lnTo>
                      <a:pt x="1201" y="13"/>
                    </a:lnTo>
                    <a:lnTo>
                      <a:pt x="1059" y="4"/>
                    </a:lnTo>
                    <a:lnTo>
                      <a:pt x="911" y="0"/>
                    </a:lnTo>
                    <a:lnTo>
                      <a:pt x="761" y="4"/>
                    </a:lnTo>
                    <a:lnTo>
                      <a:pt x="620" y="13"/>
                    </a:lnTo>
                    <a:lnTo>
                      <a:pt x="489" y="27"/>
                    </a:lnTo>
                    <a:lnTo>
                      <a:pt x="370" y="45"/>
                    </a:lnTo>
                    <a:lnTo>
                      <a:pt x="265" y="68"/>
                    </a:lnTo>
                    <a:lnTo>
                      <a:pt x="174" y="95"/>
                    </a:lnTo>
                    <a:lnTo>
                      <a:pt x="101" y="125"/>
                    </a:lnTo>
                    <a:lnTo>
                      <a:pt x="47" y="158"/>
                    </a:lnTo>
                    <a:lnTo>
                      <a:pt x="12" y="192"/>
                    </a:lnTo>
                    <a:lnTo>
                      <a:pt x="0" y="228"/>
                    </a:lnTo>
                    <a:lnTo>
                      <a:pt x="12" y="263"/>
                    </a:lnTo>
                    <a:lnTo>
                      <a:pt x="47" y="297"/>
                    </a:lnTo>
                    <a:lnTo>
                      <a:pt x="101" y="328"/>
                    </a:lnTo>
                    <a:lnTo>
                      <a:pt x="174" y="356"/>
                    </a:lnTo>
                    <a:lnTo>
                      <a:pt x="265" y="380"/>
                    </a:lnTo>
                    <a:lnTo>
                      <a:pt x="370" y="401"/>
                    </a:lnTo>
                    <a:lnTo>
                      <a:pt x="489" y="419"/>
                    </a:lnTo>
                    <a:lnTo>
                      <a:pt x="620" y="432"/>
                    </a:lnTo>
                    <a:lnTo>
                      <a:pt x="761" y="439"/>
                    </a:lnTo>
                    <a:lnTo>
                      <a:pt x="911" y="442"/>
                    </a:lnTo>
                    <a:lnTo>
                      <a:pt x="911" y="442"/>
                    </a:lnTo>
                  </a:path>
                </a:pathLst>
              </a:custGeom>
              <a:noFill/>
              <a:ln w="20520">
                <a:solidFill>
                  <a:srgbClr val="7373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89240" y="2392560"/>
                <a:ext cx="2664000" cy="354600"/>
              </a:xfrm>
              <a:custGeom>
                <a:avLst/>
                <a:gdLst/>
                <a:ahLst/>
                <a:rect l="l" t="t" r="r" b="b"/>
                <a:pathLst>
                  <a:path w="1962" h="583">
                    <a:moveTo>
                      <a:pt x="0" y="283"/>
                    </a:moveTo>
                    <a:lnTo>
                      <a:pt x="14" y="236"/>
                    </a:lnTo>
                    <a:lnTo>
                      <a:pt x="51" y="191"/>
                    </a:lnTo>
                    <a:lnTo>
                      <a:pt x="111" y="150"/>
                    </a:lnTo>
                    <a:lnTo>
                      <a:pt x="189" y="114"/>
                    </a:lnTo>
                    <a:lnTo>
                      <a:pt x="287" y="80"/>
                    </a:lnTo>
                    <a:lnTo>
                      <a:pt x="401" y="53"/>
                    </a:lnTo>
                    <a:lnTo>
                      <a:pt x="531" y="30"/>
                    </a:lnTo>
                    <a:lnTo>
                      <a:pt x="672" y="14"/>
                    </a:lnTo>
                    <a:lnTo>
                      <a:pt x="824" y="3"/>
                    </a:lnTo>
                    <a:lnTo>
                      <a:pt x="984" y="0"/>
                    </a:lnTo>
                    <a:lnTo>
                      <a:pt x="1144" y="3"/>
                    </a:lnTo>
                    <a:lnTo>
                      <a:pt x="1295" y="14"/>
                    </a:lnTo>
                    <a:lnTo>
                      <a:pt x="1435" y="30"/>
                    </a:lnTo>
                    <a:lnTo>
                      <a:pt x="1564" y="53"/>
                    </a:lnTo>
                    <a:lnTo>
                      <a:pt x="1678" y="80"/>
                    </a:lnTo>
                    <a:lnTo>
                      <a:pt x="1775" y="114"/>
                    </a:lnTo>
                    <a:lnTo>
                      <a:pt x="1854" y="150"/>
                    </a:lnTo>
                    <a:lnTo>
                      <a:pt x="1912" y="191"/>
                    </a:lnTo>
                    <a:lnTo>
                      <a:pt x="1949" y="236"/>
                    </a:lnTo>
                    <a:lnTo>
                      <a:pt x="1962" y="283"/>
                    </a:lnTo>
                    <a:lnTo>
                      <a:pt x="1949" y="338"/>
                    </a:lnTo>
                    <a:lnTo>
                      <a:pt x="1912" y="388"/>
                    </a:lnTo>
                    <a:lnTo>
                      <a:pt x="1854" y="433"/>
                    </a:lnTo>
                    <a:lnTo>
                      <a:pt x="1775" y="472"/>
                    </a:lnTo>
                    <a:lnTo>
                      <a:pt x="1678" y="506"/>
                    </a:lnTo>
                    <a:lnTo>
                      <a:pt x="1564" y="533"/>
                    </a:lnTo>
                    <a:lnTo>
                      <a:pt x="1435" y="557"/>
                    </a:lnTo>
                    <a:lnTo>
                      <a:pt x="1295" y="571"/>
                    </a:lnTo>
                    <a:lnTo>
                      <a:pt x="1144" y="582"/>
                    </a:lnTo>
                    <a:lnTo>
                      <a:pt x="984" y="583"/>
                    </a:lnTo>
                    <a:lnTo>
                      <a:pt x="824" y="582"/>
                    </a:lnTo>
                    <a:lnTo>
                      <a:pt x="672" y="571"/>
                    </a:lnTo>
                    <a:lnTo>
                      <a:pt x="531" y="557"/>
                    </a:lnTo>
                    <a:lnTo>
                      <a:pt x="401" y="533"/>
                    </a:lnTo>
                    <a:lnTo>
                      <a:pt x="287" y="506"/>
                    </a:lnTo>
                    <a:lnTo>
                      <a:pt x="189" y="472"/>
                    </a:lnTo>
                    <a:lnTo>
                      <a:pt x="111" y="433"/>
                    </a:lnTo>
                    <a:lnTo>
                      <a:pt x="51" y="388"/>
                    </a:lnTo>
                    <a:lnTo>
                      <a:pt x="14" y="338"/>
                    </a:lnTo>
                    <a:lnTo>
                      <a:pt x="2" y="283"/>
                    </a:lnTo>
                    <a:lnTo>
                      <a:pt x="2" y="28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287880" y="2426400"/>
                <a:ext cx="2471400" cy="268200"/>
              </a:xfrm>
              <a:custGeom>
                <a:avLst/>
                <a:gdLst/>
                <a:ahLst/>
                <a:rect l="l" t="t" r="r" b="b"/>
                <a:pathLst>
                  <a:path w="1820" h="442">
                    <a:moveTo>
                      <a:pt x="0" y="228"/>
                    </a:moveTo>
                    <a:lnTo>
                      <a:pt x="12" y="192"/>
                    </a:lnTo>
                    <a:lnTo>
                      <a:pt x="47" y="158"/>
                    </a:lnTo>
                    <a:lnTo>
                      <a:pt x="101" y="125"/>
                    </a:lnTo>
                    <a:lnTo>
                      <a:pt x="174" y="95"/>
                    </a:lnTo>
                    <a:lnTo>
                      <a:pt x="265" y="68"/>
                    </a:lnTo>
                    <a:lnTo>
                      <a:pt x="370" y="45"/>
                    </a:lnTo>
                    <a:lnTo>
                      <a:pt x="489" y="27"/>
                    </a:lnTo>
                    <a:lnTo>
                      <a:pt x="620" y="13"/>
                    </a:lnTo>
                    <a:lnTo>
                      <a:pt x="761" y="4"/>
                    </a:lnTo>
                    <a:lnTo>
                      <a:pt x="911" y="0"/>
                    </a:lnTo>
                    <a:lnTo>
                      <a:pt x="1059" y="4"/>
                    </a:lnTo>
                    <a:lnTo>
                      <a:pt x="1201" y="13"/>
                    </a:lnTo>
                    <a:lnTo>
                      <a:pt x="1332" y="27"/>
                    </a:lnTo>
                    <a:lnTo>
                      <a:pt x="1451" y="45"/>
                    </a:lnTo>
                    <a:lnTo>
                      <a:pt x="1557" y="68"/>
                    </a:lnTo>
                    <a:lnTo>
                      <a:pt x="1647" y="95"/>
                    </a:lnTo>
                    <a:lnTo>
                      <a:pt x="1720" y="125"/>
                    </a:lnTo>
                    <a:lnTo>
                      <a:pt x="1775" y="158"/>
                    </a:lnTo>
                    <a:lnTo>
                      <a:pt x="1809" y="192"/>
                    </a:lnTo>
                    <a:lnTo>
                      <a:pt x="1820" y="228"/>
                    </a:lnTo>
                    <a:lnTo>
                      <a:pt x="1809" y="263"/>
                    </a:lnTo>
                    <a:lnTo>
                      <a:pt x="1775" y="297"/>
                    </a:lnTo>
                    <a:lnTo>
                      <a:pt x="1720" y="328"/>
                    </a:lnTo>
                    <a:lnTo>
                      <a:pt x="1647" y="356"/>
                    </a:lnTo>
                    <a:lnTo>
                      <a:pt x="1557" y="380"/>
                    </a:lnTo>
                    <a:lnTo>
                      <a:pt x="1451" y="401"/>
                    </a:lnTo>
                    <a:lnTo>
                      <a:pt x="1332" y="419"/>
                    </a:lnTo>
                    <a:lnTo>
                      <a:pt x="1201" y="432"/>
                    </a:lnTo>
                    <a:lnTo>
                      <a:pt x="1059" y="439"/>
                    </a:lnTo>
                    <a:lnTo>
                      <a:pt x="911" y="442"/>
                    </a:lnTo>
                    <a:lnTo>
                      <a:pt x="761" y="439"/>
                    </a:lnTo>
                    <a:lnTo>
                      <a:pt x="620" y="432"/>
                    </a:lnTo>
                    <a:lnTo>
                      <a:pt x="489" y="419"/>
                    </a:lnTo>
                    <a:lnTo>
                      <a:pt x="370" y="401"/>
                    </a:lnTo>
                    <a:lnTo>
                      <a:pt x="265" y="380"/>
                    </a:lnTo>
                    <a:lnTo>
                      <a:pt x="174" y="356"/>
                    </a:lnTo>
                    <a:lnTo>
                      <a:pt x="101" y="328"/>
                    </a:lnTo>
                    <a:lnTo>
                      <a:pt x="47" y="297"/>
                    </a:lnTo>
                    <a:lnTo>
                      <a:pt x="12" y="263"/>
                    </a:lnTo>
                    <a:lnTo>
                      <a:pt x="0" y="228"/>
                    </a:lnTo>
                    <a:lnTo>
                      <a:pt x="0" y="22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287880" y="2426400"/>
                <a:ext cx="2471400" cy="268200"/>
              </a:xfrm>
              <a:custGeom>
                <a:avLst/>
                <a:gdLst/>
                <a:ahLst/>
                <a:rect l="l" t="t" r="r" b="b"/>
                <a:pathLst>
                  <a:path w="1820" h="442">
                    <a:moveTo>
                      <a:pt x="0" y="228"/>
                    </a:moveTo>
                    <a:lnTo>
                      <a:pt x="12" y="192"/>
                    </a:lnTo>
                    <a:lnTo>
                      <a:pt x="47" y="158"/>
                    </a:lnTo>
                    <a:lnTo>
                      <a:pt x="101" y="125"/>
                    </a:lnTo>
                    <a:lnTo>
                      <a:pt x="174" y="95"/>
                    </a:lnTo>
                    <a:lnTo>
                      <a:pt x="265" y="68"/>
                    </a:lnTo>
                    <a:lnTo>
                      <a:pt x="370" y="45"/>
                    </a:lnTo>
                    <a:lnTo>
                      <a:pt x="489" y="27"/>
                    </a:lnTo>
                    <a:lnTo>
                      <a:pt x="620" y="13"/>
                    </a:lnTo>
                    <a:lnTo>
                      <a:pt x="761" y="4"/>
                    </a:lnTo>
                    <a:lnTo>
                      <a:pt x="911" y="0"/>
                    </a:lnTo>
                    <a:lnTo>
                      <a:pt x="1059" y="4"/>
                    </a:lnTo>
                    <a:lnTo>
                      <a:pt x="1201" y="13"/>
                    </a:lnTo>
                    <a:lnTo>
                      <a:pt x="1332" y="27"/>
                    </a:lnTo>
                    <a:lnTo>
                      <a:pt x="1451" y="45"/>
                    </a:lnTo>
                    <a:lnTo>
                      <a:pt x="1557" y="68"/>
                    </a:lnTo>
                    <a:lnTo>
                      <a:pt x="1647" y="95"/>
                    </a:lnTo>
                    <a:lnTo>
                      <a:pt x="1720" y="125"/>
                    </a:lnTo>
                    <a:lnTo>
                      <a:pt x="1775" y="158"/>
                    </a:lnTo>
                    <a:lnTo>
                      <a:pt x="1809" y="192"/>
                    </a:lnTo>
                    <a:lnTo>
                      <a:pt x="1820" y="228"/>
                    </a:lnTo>
                    <a:lnTo>
                      <a:pt x="1809" y="263"/>
                    </a:lnTo>
                    <a:lnTo>
                      <a:pt x="1775" y="297"/>
                    </a:lnTo>
                    <a:lnTo>
                      <a:pt x="1720" y="328"/>
                    </a:lnTo>
                    <a:lnTo>
                      <a:pt x="1647" y="356"/>
                    </a:lnTo>
                    <a:lnTo>
                      <a:pt x="1557" y="380"/>
                    </a:lnTo>
                    <a:lnTo>
                      <a:pt x="1451" y="401"/>
                    </a:lnTo>
                    <a:lnTo>
                      <a:pt x="1332" y="419"/>
                    </a:lnTo>
                    <a:lnTo>
                      <a:pt x="1201" y="432"/>
                    </a:lnTo>
                    <a:lnTo>
                      <a:pt x="1059" y="439"/>
                    </a:lnTo>
                    <a:lnTo>
                      <a:pt x="911" y="442"/>
                    </a:lnTo>
                    <a:lnTo>
                      <a:pt x="761" y="439"/>
                    </a:lnTo>
                    <a:lnTo>
                      <a:pt x="620" y="432"/>
                    </a:lnTo>
                    <a:lnTo>
                      <a:pt x="489" y="419"/>
                    </a:lnTo>
                    <a:lnTo>
                      <a:pt x="370" y="401"/>
                    </a:lnTo>
                    <a:lnTo>
                      <a:pt x="265" y="380"/>
                    </a:lnTo>
                    <a:lnTo>
                      <a:pt x="174" y="356"/>
                    </a:lnTo>
                    <a:lnTo>
                      <a:pt x="101" y="328"/>
                    </a:lnTo>
                    <a:lnTo>
                      <a:pt x="47" y="297"/>
                    </a:lnTo>
                    <a:lnTo>
                      <a:pt x="12" y="263"/>
                    </a:lnTo>
                    <a:lnTo>
                      <a:pt x="0" y="228"/>
                    </a:lnTo>
                    <a:lnTo>
                      <a:pt x="0" y="228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287880" y="2565000"/>
                <a:ext cx="2471400" cy="129960"/>
              </a:xfrm>
              <a:custGeom>
                <a:avLst/>
                <a:gdLst/>
                <a:ahLst/>
                <a:rect l="l" t="t" r="r" b="b"/>
                <a:pathLst>
                  <a:path w="1820" h="214">
                    <a:moveTo>
                      <a:pt x="0" y="0"/>
                    </a:moveTo>
                    <a:lnTo>
                      <a:pt x="12" y="35"/>
                    </a:lnTo>
                    <a:lnTo>
                      <a:pt x="47" y="69"/>
                    </a:lnTo>
                    <a:lnTo>
                      <a:pt x="101" y="100"/>
                    </a:lnTo>
                    <a:lnTo>
                      <a:pt x="174" y="128"/>
                    </a:lnTo>
                    <a:lnTo>
                      <a:pt x="265" y="152"/>
                    </a:lnTo>
                    <a:lnTo>
                      <a:pt x="370" y="173"/>
                    </a:lnTo>
                    <a:lnTo>
                      <a:pt x="489" y="191"/>
                    </a:lnTo>
                    <a:lnTo>
                      <a:pt x="620" y="204"/>
                    </a:lnTo>
                    <a:lnTo>
                      <a:pt x="761" y="211"/>
                    </a:lnTo>
                    <a:lnTo>
                      <a:pt x="911" y="214"/>
                    </a:lnTo>
                    <a:lnTo>
                      <a:pt x="1059" y="211"/>
                    </a:lnTo>
                    <a:lnTo>
                      <a:pt x="1201" y="204"/>
                    </a:lnTo>
                    <a:lnTo>
                      <a:pt x="1332" y="191"/>
                    </a:lnTo>
                    <a:lnTo>
                      <a:pt x="1451" y="173"/>
                    </a:lnTo>
                    <a:lnTo>
                      <a:pt x="1557" y="152"/>
                    </a:lnTo>
                    <a:lnTo>
                      <a:pt x="1647" y="128"/>
                    </a:lnTo>
                    <a:lnTo>
                      <a:pt x="1720" y="100"/>
                    </a:lnTo>
                    <a:lnTo>
                      <a:pt x="1775" y="69"/>
                    </a:lnTo>
                    <a:lnTo>
                      <a:pt x="1809" y="35"/>
                    </a:lnTo>
                    <a:lnTo>
                      <a:pt x="182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4572000" y="1239840"/>
              <a:ext cx="4114440" cy="1447560"/>
              <a:chOff x="4572000" y="1239840"/>
              <a:chExt cx="4114440" cy="1447560"/>
            </a:xfrm>
          </p:grpSpPr>
          <p:sp>
            <p:nvSpPr>
              <p:cNvPr id="196" name=""/>
              <p:cNvSpPr/>
              <p:nvPr/>
            </p:nvSpPr>
            <p:spPr>
              <a:xfrm flipH="1" rot="16200000">
                <a:off x="5052240" y="1381320"/>
                <a:ext cx="825480" cy="1786320"/>
              </a:xfrm>
              <a:custGeom>
                <a:avLst/>
                <a:gdLst>
                  <a:gd name="textAreaLeft" fmla="*/ -360 w 825480"/>
                  <a:gd name="textAreaRight" fmla="*/ 825480 w 825480"/>
                  <a:gd name="textAreaTop" fmla="*/ 0 h 1786320"/>
                  <a:gd name="textAreaBottom" fmla="*/ 1786680 h 178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921" stAng="10800000" swAng="5400000"/>
                    <a:lnTo>
                      <a:pt x="15422" y="4239"/>
                    </a:lnTo>
                    <a:lnTo>
                      <a:pt x="15422" y="0"/>
                    </a:lnTo>
                    <a:lnTo>
                      <a:pt x="21600" y="6079"/>
                    </a:lnTo>
                    <a:lnTo>
                      <a:pt x="15422" y="12158"/>
                    </a:lnTo>
                    <a:lnTo>
                      <a:pt x="15422" y="7919"/>
                    </a:lnTo>
                    <a:lnTo>
                      <a:pt x="12427" y="7919"/>
                    </a:lnTo>
                    <a:arcTo wR="8747" hR="4241" stAng="16200000" swAng="-5400000"/>
                    <a:lnTo>
                      <a:pt x="3680" y="2160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230880" y="1239840"/>
                <a:ext cx="2455560" cy="137916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7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Responder’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Usag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Histor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609480" y="1246320"/>
              <a:ext cx="3845880" cy="1453680"/>
              <a:chOff x="609480" y="1246320"/>
              <a:chExt cx="3845880" cy="1453680"/>
            </a:xfrm>
          </p:grpSpPr>
          <p:sp>
            <p:nvSpPr>
              <p:cNvPr id="199" name=""/>
              <p:cNvSpPr/>
              <p:nvPr/>
            </p:nvSpPr>
            <p:spPr>
              <a:xfrm rot="5400000">
                <a:off x="3222720" y="1467000"/>
                <a:ext cx="829080" cy="1636200"/>
              </a:xfrm>
              <a:custGeom>
                <a:avLst/>
                <a:gdLst>
                  <a:gd name="textAreaLeft" fmla="*/ 0 w 829080"/>
                  <a:gd name="textAreaRight" fmla="*/ 829440 w 829080"/>
                  <a:gd name="textAreaTop" fmla="*/ 0 h 1636200"/>
                  <a:gd name="textAreaBottom" fmla="*/ 1636560 h 163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921" stAng="10800000" swAng="5400000"/>
                    <a:lnTo>
                      <a:pt x="15422" y="4239"/>
                    </a:lnTo>
                    <a:lnTo>
                      <a:pt x="15422" y="0"/>
                    </a:lnTo>
                    <a:lnTo>
                      <a:pt x="21600" y="6079"/>
                    </a:lnTo>
                    <a:lnTo>
                      <a:pt x="15422" y="12158"/>
                    </a:lnTo>
                    <a:lnTo>
                      <a:pt x="15422" y="7919"/>
                    </a:lnTo>
                    <a:lnTo>
                      <a:pt x="12427" y="7919"/>
                    </a:lnTo>
                    <a:arcTo wR="8747" hR="4241" stAng="16200000" swAng="-5400000"/>
                    <a:lnTo>
                      <a:pt x="3680" y="2160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09480" y="1246320"/>
                <a:ext cx="2328480" cy="138492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7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Survey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Respon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2036880" y="3724200"/>
              <a:ext cx="4953960" cy="2085840"/>
              <a:chOff x="2036880" y="3724200"/>
              <a:chExt cx="4953960" cy="2085840"/>
            </a:xfrm>
          </p:grpSpPr>
          <p:sp>
            <p:nvSpPr>
              <p:cNvPr id="202" name=""/>
              <p:cNvSpPr/>
              <p:nvPr/>
            </p:nvSpPr>
            <p:spPr>
              <a:xfrm>
                <a:off x="2036880" y="3724200"/>
                <a:ext cx="4953960" cy="2085840"/>
              </a:xfrm>
              <a:custGeom>
                <a:avLst/>
                <a:gdLst/>
                <a:ahLst/>
                <a:rect l="l" t="t" r="r" b="b"/>
                <a:pathLst>
                  <a:path w="1152" h="1150">
                    <a:moveTo>
                      <a:pt x="577" y="0"/>
                    </a:moveTo>
                    <a:lnTo>
                      <a:pt x="592" y="38"/>
                    </a:lnTo>
                    <a:lnTo>
                      <a:pt x="607" y="76"/>
                    </a:lnTo>
                    <a:lnTo>
                      <a:pt x="622" y="111"/>
                    </a:lnTo>
                    <a:lnTo>
                      <a:pt x="637" y="143"/>
                    </a:lnTo>
                    <a:lnTo>
                      <a:pt x="652" y="174"/>
                    </a:lnTo>
                    <a:lnTo>
                      <a:pt x="670" y="202"/>
                    </a:lnTo>
                    <a:lnTo>
                      <a:pt x="685" y="229"/>
                    </a:lnTo>
                    <a:lnTo>
                      <a:pt x="702" y="254"/>
                    </a:lnTo>
                    <a:lnTo>
                      <a:pt x="722" y="277"/>
                    </a:lnTo>
                    <a:lnTo>
                      <a:pt x="742" y="302"/>
                    </a:lnTo>
                    <a:lnTo>
                      <a:pt x="767" y="327"/>
                    </a:lnTo>
                    <a:lnTo>
                      <a:pt x="792" y="352"/>
                    </a:lnTo>
                    <a:lnTo>
                      <a:pt x="820" y="378"/>
                    </a:lnTo>
                    <a:lnTo>
                      <a:pt x="852" y="405"/>
                    </a:lnTo>
                    <a:lnTo>
                      <a:pt x="885" y="431"/>
                    </a:lnTo>
                    <a:lnTo>
                      <a:pt x="920" y="458"/>
                    </a:lnTo>
                    <a:lnTo>
                      <a:pt x="962" y="488"/>
                    </a:lnTo>
                    <a:lnTo>
                      <a:pt x="1007" y="523"/>
                    </a:lnTo>
                    <a:lnTo>
                      <a:pt x="1045" y="559"/>
                    </a:lnTo>
                    <a:lnTo>
                      <a:pt x="1077" y="594"/>
                    </a:lnTo>
                    <a:lnTo>
                      <a:pt x="1105" y="629"/>
                    </a:lnTo>
                    <a:lnTo>
                      <a:pt x="1125" y="665"/>
                    </a:lnTo>
                    <a:lnTo>
                      <a:pt x="1140" y="700"/>
                    </a:lnTo>
                    <a:lnTo>
                      <a:pt x="1150" y="735"/>
                    </a:lnTo>
                    <a:lnTo>
                      <a:pt x="1152" y="770"/>
                    </a:lnTo>
                    <a:lnTo>
                      <a:pt x="1150" y="808"/>
                    </a:lnTo>
                    <a:lnTo>
                      <a:pt x="1142" y="846"/>
                    </a:lnTo>
                    <a:lnTo>
                      <a:pt x="1127" y="881"/>
                    </a:lnTo>
                    <a:lnTo>
                      <a:pt x="1110" y="916"/>
                    </a:lnTo>
                    <a:lnTo>
                      <a:pt x="1085" y="949"/>
                    </a:lnTo>
                    <a:lnTo>
                      <a:pt x="1057" y="981"/>
                    </a:lnTo>
                    <a:lnTo>
                      <a:pt x="1022" y="1011"/>
                    </a:lnTo>
                    <a:lnTo>
                      <a:pt x="982" y="1039"/>
                    </a:lnTo>
                    <a:lnTo>
                      <a:pt x="960" y="1052"/>
                    </a:lnTo>
                    <a:lnTo>
                      <a:pt x="937" y="1065"/>
                    </a:lnTo>
                    <a:lnTo>
                      <a:pt x="915" y="1077"/>
                    </a:lnTo>
                    <a:lnTo>
                      <a:pt x="892" y="1087"/>
                    </a:lnTo>
                    <a:lnTo>
                      <a:pt x="870" y="1097"/>
                    </a:lnTo>
                    <a:lnTo>
                      <a:pt x="845" y="1107"/>
                    </a:lnTo>
                    <a:lnTo>
                      <a:pt x="820" y="1115"/>
                    </a:lnTo>
                    <a:lnTo>
                      <a:pt x="795" y="1122"/>
                    </a:lnTo>
                    <a:lnTo>
                      <a:pt x="770" y="1128"/>
                    </a:lnTo>
                    <a:lnTo>
                      <a:pt x="742" y="1135"/>
                    </a:lnTo>
                    <a:lnTo>
                      <a:pt x="717" y="1140"/>
                    </a:lnTo>
                    <a:lnTo>
                      <a:pt x="690" y="1143"/>
                    </a:lnTo>
                    <a:lnTo>
                      <a:pt x="662" y="1147"/>
                    </a:lnTo>
                    <a:lnTo>
                      <a:pt x="635" y="1148"/>
                    </a:lnTo>
                    <a:lnTo>
                      <a:pt x="607" y="1150"/>
                    </a:lnTo>
                    <a:lnTo>
                      <a:pt x="577" y="1150"/>
                    </a:lnTo>
                    <a:lnTo>
                      <a:pt x="547" y="1150"/>
                    </a:lnTo>
                    <a:lnTo>
                      <a:pt x="517" y="1148"/>
                    </a:lnTo>
                    <a:lnTo>
                      <a:pt x="490" y="1147"/>
                    </a:lnTo>
                    <a:lnTo>
                      <a:pt x="462" y="1143"/>
                    </a:lnTo>
                    <a:lnTo>
                      <a:pt x="435" y="1140"/>
                    </a:lnTo>
                    <a:lnTo>
                      <a:pt x="407" y="1135"/>
                    </a:lnTo>
                    <a:lnTo>
                      <a:pt x="382" y="1128"/>
                    </a:lnTo>
                    <a:lnTo>
                      <a:pt x="355" y="1122"/>
                    </a:lnTo>
                    <a:lnTo>
                      <a:pt x="330" y="1115"/>
                    </a:lnTo>
                    <a:lnTo>
                      <a:pt x="305" y="1107"/>
                    </a:lnTo>
                    <a:lnTo>
                      <a:pt x="282" y="1097"/>
                    </a:lnTo>
                    <a:lnTo>
                      <a:pt x="257" y="1087"/>
                    </a:lnTo>
                    <a:lnTo>
                      <a:pt x="235" y="1077"/>
                    </a:lnTo>
                    <a:lnTo>
                      <a:pt x="212" y="1065"/>
                    </a:lnTo>
                    <a:lnTo>
                      <a:pt x="192" y="1052"/>
                    </a:lnTo>
                    <a:lnTo>
                      <a:pt x="170" y="1039"/>
                    </a:lnTo>
                    <a:lnTo>
                      <a:pt x="130" y="1011"/>
                    </a:lnTo>
                    <a:lnTo>
                      <a:pt x="95" y="981"/>
                    </a:lnTo>
                    <a:lnTo>
                      <a:pt x="65" y="949"/>
                    </a:lnTo>
                    <a:lnTo>
                      <a:pt x="42" y="916"/>
                    </a:lnTo>
                    <a:lnTo>
                      <a:pt x="22" y="881"/>
                    </a:lnTo>
                    <a:lnTo>
                      <a:pt x="10" y="846"/>
                    </a:lnTo>
                    <a:lnTo>
                      <a:pt x="2" y="808"/>
                    </a:lnTo>
                    <a:lnTo>
                      <a:pt x="0" y="770"/>
                    </a:lnTo>
                    <a:lnTo>
                      <a:pt x="2" y="735"/>
                    </a:lnTo>
                    <a:lnTo>
                      <a:pt x="12" y="700"/>
                    </a:lnTo>
                    <a:lnTo>
                      <a:pt x="27" y="665"/>
                    </a:lnTo>
                    <a:lnTo>
                      <a:pt x="47" y="629"/>
                    </a:lnTo>
                    <a:lnTo>
                      <a:pt x="75" y="594"/>
                    </a:lnTo>
                    <a:lnTo>
                      <a:pt x="107" y="559"/>
                    </a:lnTo>
                    <a:lnTo>
                      <a:pt x="145" y="523"/>
                    </a:lnTo>
                    <a:lnTo>
                      <a:pt x="190" y="488"/>
                    </a:lnTo>
                    <a:lnTo>
                      <a:pt x="232" y="458"/>
                    </a:lnTo>
                    <a:lnTo>
                      <a:pt x="267" y="431"/>
                    </a:lnTo>
                    <a:lnTo>
                      <a:pt x="300" y="405"/>
                    </a:lnTo>
                    <a:lnTo>
                      <a:pt x="332" y="378"/>
                    </a:lnTo>
                    <a:lnTo>
                      <a:pt x="360" y="352"/>
                    </a:lnTo>
                    <a:lnTo>
                      <a:pt x="385" y="327"/>
                    </a:lnTo>
                    <a:lnTo>
                      <a:pt x="410" y="302"/>
                    </a:lnTo>
                    <a:lnTo>
                      <a:pt x="430" y="277"/>
                    </a:lnTo>
                    <a:lnTo>
                      <a:pt x="450" y="254"/>
                    </a:lnTo>
                    <a:lnTo>
                      <a:pt x="467" y="229"/>
                    </a:lnTo>
                    <a:lnTo>
                      <a:pt x="485" y="202"/>
                    </a:lnTo>
                    <a:lnTo>
                      <a:pt x="502" y="174"/>
                    </a:lnTo>
                    <a:lnTo>
                      <a:pt x="517" y="143"/>
                    </a:lnTo>
                    <a:lnTo>
                      <a:pt x="532" y="111"/>
                    </a:lnTo>
                    <a:lnTo>
                      <a:pt x="547" y="76"/>
                    </a:lnTo>
                    <a:lnTo>
                      <a:pt x="562" y="38"/>
                    </a:lnTo>
                    <a:lnTo>
                      <a:pt x="577" y="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578680" y="4330080"/>
                <a:ext cx="4102560" cy="14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Best correl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RESLOWR or RESHIW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"/>
          <p:cNvSpPr/>
          <p:nvPr/>
        </p:nvSpPr>
        <p:spPr>
          <a:xfrm>
            <a:off x="3689280" y="273852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Calligraphy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23720" y="3276720"/>
            <a:ext cx="1919520" cy="10206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149720" y="3160800"/>
            <a:ext cx="730080" cy="53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62EFE-C83C-4B45-B1C4-32EED46E59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905120" y="763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Residential Classification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31880" y="1134720"/>
            <a:ext cx="7772400" cy="5722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1960" indent="-291960">
              <a:lnSpc>
                <a:spcPct val="85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ep1: survey response validation using an initial version of the algorithm developed from the pilot survey … 85% valid heating system type respon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85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ep2: algorithm fine tuning to minimize miss-classification error … an iterative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230040">
              <a:lnSpc>
                <a:spcPct val="85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95.4% of the final algorithm’s classifications agreed with the survey responses regarding heating system typ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230040">
              <a:lnSpc>
                <a:spcPct val="85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remaining 4.6% of the responses generally had usage patterns which were not clearly indicative of the heating system typ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85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ep3: apply final algorithm to ESIIDs with Annual Validation changes to compare assign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51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0">
              <a:spcBef>
                <a:spcPts val="451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00EA-948A-4BDE-A057-589D93479B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905120" y="763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Algorithm Basics – 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50880" y="1641600"/>
            <a:ext cx="7839000" cy="4827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039680" y="1103400"/>
            <a:ext cx="725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000"/>
                </a:solidFill>
                <a:latin typeface="Arial"/>
              </a:rPr>
              <a:t>Actual survey respondent’s usage history plotted with scaled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4D7A0-8FB5-4D3D-9E29-4544902462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905120" y="763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Algorithm - Classific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185320" cy="5715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8080"/>
              </a:buClr>
              <a:buSzPct val="75000"/>
              <a:buFont typeface="Verdana"/>
              <a:buAutoNum type="arabicPeriod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f number of winter readings &lt; 3 or shoulder readings &lt; 3 then assign “RESLOWD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buClr>
                <a:srgbClr val="008080"/>
              </a:buClr>
              <a:buSzPct val="75000"/>
              <a:buFont typeface="Verdana"/>
              <a:buAutoNum type="arabicPeriod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lse if the highest winter reading kWh/day is less than 15 kWh/d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n assign “RESLOWR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buClr>
                <a:srgbClr val="008080"/>
              </a:buClr>
              <a:buSzPct val="75000"/>
              <a:buFont typeface="Verdana"/>
              <a:buAutoNum type="arabicPeriod" startAt="3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lse if Correlatio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Verdana"/>
              </a:rPr>
              <a:t>RESHIWR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&gt; 0.60 and Correlatio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Verdana"/>
              </a:rPr>
              <a:t>RESHIWR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&gt; Correlatio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Verdana"/>
              </a:rPr>
              <a:t>RESLOWR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n assign “RESHIWR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buClr>
                <a:srgbClr val="008080"/>
              </a:buClr>
              <a:buSzPct val="75000"/>
              <a:buFont typeface="Verdana"/>
              <a:buAutoNum type="arabicPeriod" startAt="4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lse if the number of readings available &gt; 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d Correlatio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Verdana"/>
              </a:rPr>
              <a:t>RESHIWR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&gt; 0.9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d (Correlatio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Verdana"/>
              </a:rPr>
              <a:t>RESHIWR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+ 0.010) &gt; Correlatio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Verdana"/>
              </a:rPr>
              <a:t>RESLOW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d Winter Max kWh/day &gt; 5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n assign “RESHIWR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buClr>
                <a:srgbClr val="008080"/>
              </a:buClr>
              <a:buSzPct val="75000"/>
              <a:buFont typeface="Verdana"/>
              <a:buAutoNum type="arabicPeriod" startAt="5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lse if the number of readings available &gt; 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d Correlatio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Verdana"/>
              </a:rPr>
              <a:t>RESHIWR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&gt; 0.9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d (Correlatio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Verdana"/>
              </a:rPr>
              <a:t>RESHIWR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+ 0.015) &gt; Correlatio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Verdana"/>
              </a:rPr>
              <a:t>RESLOW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d Winter Max kWh/day &gt; 6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n assign “RESHIWR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buClr>
                <a:srgbClr val="008080"/>
              </a:buClr>
              <a:buSzPct val="75000"/>
              <a:buFont typeface="Verdana"/>
              <a:buAutoNum type="arabicPeriod" startAt="6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lse assign “RESLOWR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2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2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6C237-629C-41BD-A048-3FB6225E42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05120" y="-2520"/>
            <a:ext cx="717552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5f5d"/>
                </a:solidFill>
                <a:latin typeface="Arial"/>
              </a:rPr>
              <a:t>SUMMARY OF 2005 ANNUAL VALIDATION</a:t>
            </a:r>
            <a:br>
              <a:rPr sz="2000"/>
            </a:br>
            <a:r>
              <a:rPr b="1" lang="en-US" sz="2000" spc="-1" strike="noStrike">
                <a:solidFill>
                  <a:srgbClr val="3d5f5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d5f5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d5f5d"/>
                </a:solidFill>
                <a:latin typeface="Arial"/>
              </a:rPr>
              <a:t>PROFILE TYPE CHANGES</a:t>
            </a:r>
            <a:endParaRPr b="0" lang="en-US" sz="20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692360" y="1009800"/>
            <a:ext cx="5808600" cy="566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6267B-F6D3-468D-9A86-72F393B577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37920" y="183600"/>
            <a:ext cx="81025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5f5d"/>
                </a:solidFill>
                <a:latin typeface="Arial"/>
              </a:rPr>
              <a:t>ACCURACY OF AV 2005 PROFILE TYPE CHANGES</a:t>
            </a:r>
            <a:endParaRPr b="0" lang="en-US" sz="20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523880" y="965160"/>
            <a:ext cx="6172200" cy="569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A671F-DDCA-4325-98E4-BF79A3DF15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92160" y="-18360"/>
            <a:ext cx="717552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5f5d"/>
                </a:solidFill>
                <a:latin typeface="Arial"/>
              </a:rPr>
              <a:t>RESIDENTIAL POPULATION ACCURACY</a:t>
            </a:r>
            <a:br>
              <a:rPr sz="2000"/>
            </a:br>
            <a:r>
              <a:rPr b="1" lang="en-US" sz="2000" spc="-1" strike="noStrike">
                <a:solidFill>
                  <a:srgbClr val="3d5f5d"/>
                </a:solidFill>
                <a:latin typeface="Arial"/>
              </a:rPr>
              <a:t>         BEFORE &amp; AFTER AV 2005 CHANGES</a:t>
            </a:r>
            <a:endParaRPr b="0" lang="en-US" sz="20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104920" y="971640"/>
            <a:ext cx="4886280" cy="560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2240-8ADB-4109-957E-6B80850EC4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14600" y="102240"/>
            <a:ext cx="82245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Run Test Settlements to See Effects of AV</a:t>
            </a:r>
            <a:endParaRPr b="0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61560" y="1163160"/>
            <a:ext cx="7342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pare test environment to run settlements for different scen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ct a sample of 30 (or so) days to analyze … three strata based on differences between RESHIWR and RESLOW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n test settlements with currently assigned Profile IDs and capture result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est environment, change Profile IDs as directed by the 2005 Annual Validation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n test settlements with changed Profile IDs and capture resul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e changes in UFE and Load Ratio Share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12DFF-F9D0-4FF5-8334-E63D440DD4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05120" y="763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Residential Surve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31880" y="1134720"/>
            <a:ext cx="7772400" cy="5722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1960" indent="-291960"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bjective: quantify the accuracy of the 2005 Annual Validation Residential Profile Assignment Chan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51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pproach: use survey responses together with each responder’s usage history build an accurate algorithm to predict presence and use of electric space hea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51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pply the algorithm to each of the 578,572 ESI IDs with 2005 Annual Validation Profile Assignment chan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51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termine the percent of changes which are corr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230040"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HIWR with electric he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230040"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LOWR without electric he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 the majority of changes are correct then AV 2005 is improving Profile Assignment Accurac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00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0">
              <a:spcBef>
                <a:spcPts val="400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B1C20-382D-4B8C-986D-6DBB87A48B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76440" y="102240"/>
            <a:ext cx="83772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Selecting Days to Analyze</a:t>
            </a:r>
            <a:endParaRPr b="0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5800" y="971640"/>
            <a:ext cx="7620120" cy="568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B7FF-0BA3-4DB3-A57C-5118A3D6629C}" type="slidenum">
              <a:t>20</a:t>
            </a:fld>
          </a:p>
        </p:txBody>
      </p:sp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99760" y="102240"/>
            <a:ext cx="83012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UFE Changes in MWh</a:t>
            </a:r>
            <a:endParaRPr b="0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50960" y="971640"/>
            <a:ext cx="7630920" cy="564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646EE-6BE5-4F80-BBA6-A55C2EDBA45A}" type="slidenum">
              <a:t>21</a:t>
            </a:fld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14600" y="102240"/>
            <a:ext cx="8339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Change in Load Ratio Share for One LSE</a:t>
            </a:r>
            <a:endParaRPr b="0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62120" y="971640"/>
            <a:ext cx="7543800" cy="56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B5AE-3944-4A6E-AC19-F17906C23DB8}" type="slidenum">
              <a:t>22</a:t>
            </a:fld>
          </a:p>
        </p:txBody>
      </p:sp>
    </p:spTree>
  </p:cSld>
  <p:transition>
    <p:cover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00120" y="1101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Change in Load Ratio Share and MWh</a:t>
            </a:r>
            <a:endParaRPr b="0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38080" y="971640"/>
            <a:ext cx="746784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914B8-F38E-4D14-AEEC-C794B0DCAA9C}" type="slidenum">
              <a:t>23</a:t>
            </a:fld>
          </a:p>
        </p:txBody>
      </p:sp>
    </p:spTree>
  </p:cSld>
  <p:transition>
    <p:cover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76440" y="1101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Change in Load Ratio Share and MWh</a:t>
            </a:r>
            <a:endParaRPr b="0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857160" y="971640"/>
            <a:ext cx="7472520" cy="564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7A3E-C619-4192-B98B-93F90DA1F0D4}" type="slidenum">
              <a:t>24</a:t>
            </a:fld>
          </a:p>
        </p:txBody>
      </p:sp>
    </p:spTree>
  </p:cSld>
  <p:transition>
    <p:cover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76440" y="102240"/>
            <a:ext cx="83008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Change in Load Ratio Share and MWh</a:t>
            </a:r>
            <a:endParaRPr b="0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38080" y="971640"/>
            <a:ext cx="7491600" cy="565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203C-9781-426E-915D-A82488BB7E5B}" type="slidenum">
              <a:t>25</a:t>
            </a:fld>
          </a:p>
        </p:txBody>
      </p:sp>
    </p:spTree>
  </p:cSld>
  <p:transition>
    <p:cover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905120" y="763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62% of 2005 Annual Validation Profile Type changes are accurat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hanges to RESHIWR are significantly more accurate (78.4%) than are changes to RESLOWR (43.5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ccuracy of the changes by weather zone range from a low of 59.8% in the SOUTH zone to a high of 68.8% in the EAST zo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lthough AV 2005 has identified 578,572 Profile Type changes, the net impact of the changes overall is to increase the number of RESHIWR ESI IDs only by 39,418 … a 2.5% increase and a corresponding 1.1% decrease for RESLOW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e Residential population will have somewhat more accurate Profile Type assignments as a result of conducting 2005 Annual Validation (81.4% vs. 78.7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 spite of the small net number of Profile Type changes Settlement impacts are present both for UFE and L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982F-EF21-4B8F-AF59-82B27419A07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769680" y="1315800"/>
            <a:ext cx="7412040" cy="46861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1960" indent="-29196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ceed with submission of 2005 Annual Validation Profile ID chan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inue PWG-sponsored efforts to improve the Profile Type assignment algorith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inue consideration of shifting Profile Type calculation responsibilities to ERCOT primarily to allow use of several years worth of data in the algorith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0"/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0">
              <a:spcBef>
                <a:spcPts val="400"/>
              </a:spcBef>
              <a:buNone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0"/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0">
              <a:spcBef>
                <a:spcPts val="451"/>
              </a:spcBef>
              <a:buNone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1806480" y="125280"/>
            <a:ext cx="63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ERCOT Staff Recommendations to P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F4B4E-BB43-42E9-93BB-0011E2B8FE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05120" y="763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Residential Surve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31880" y="1134720"/>
            <a:ext cx="7772400" cy="5722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1960" indent="-29196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verall survey response rate was 11.4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sponse accuracy by weather zone ranges from ±3.7% - ± 4.8% at the 95% confidenc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sponse accuracy at the ERCOT level ±1.5% at the 95% confidenc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51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0">
              <a:spcBef>
                <a:spcPts val="451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66A43-6F03-437C-9016-4ACBE34C7B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52480" y="763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Responses by WZone/Profile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92360" y="5925960"/>
            <a:ext cx="618336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1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5%          12.6%     10.5%        9.9%         13.6%       11.3%       10.6%        14.1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1576440" y="5964120"/>
            <a:ext cx="230040" cy="152640"/>
          </a:xfrm>
          <a:prstGeom prst="rightArrow">
            <a:avLst>
              <a:gd name="adj1" fmla="val 50000"/>
              <a:gd name="adj2" fmla="val 3767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72240"/>
            <a:ext cx="165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s / Mailed by W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08240" y="1031760"/>
            <a:ext cx="6408720" cy="49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E1F46-9CF0-423D-B01E-59AA4AE76F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52480" y="763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Q2 – Primary Home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70040" y="6116760"/>
            <a:ext cx="191880" cy="191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6192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89240" y="6019920"/>
            <a:ext cx="24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/Bottled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31080" y="6019920"/>
            <a:ext cx="19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/Not 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35160" y="6116760"/>
            <a:ext cx="192240" cy="191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78440" y="6116760"/>
            <a:ext cx="192240" cy="191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38240" y="849240"/>
            <a:ext cx="6489720" cy="499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B7CB7-0C61-4D9A-9FF0-BB1CB2A2E9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52480" y="763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Q2 – Primary Home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0040" y="6002280"/>
            <a:ext cx="191880" cy="192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920" y="590400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89240" y="5904000"/>
            <a:ext cx="24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/Bottled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31080" y="5904000"/>
            <a:ext cx="19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/Not 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74520" y="1819440"/>
            <a:ext cx="4530600" cy="3490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816200"/>
            <a:ext cx="4532400" cy="3494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35160" y="6002280"/>
            <a:ext cx="192240" cy="192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78440" y="6002280"/>
            <a:ext cx="192240" cy="192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76400" y="106668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Profile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94EF7-7E90-4D4F-B5DB-F865FB6093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52480" y="763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Q3 – If Electricity, is it a Heat Pum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00120" y="855720"/>
            <a:ext cx="6797880" cy="523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4183C-01B3-4646-A453-2FA5C0E88B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22360" y="76320"/>
            <a:ext cx="74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Q5 – Added Central Elec. Cooling/H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12840" y="1009800"/>
            <a:ext cx="4916520" cy="549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616F-2CC8-4848-8B13-4E914C17DB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70040" y="6578640"/>
            <a:ext cx="191880" cy="191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1920" y="648000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89240" y="6480000"/>
            <a:ext cx="24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/Bottled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31080" y="6480000"/>
            <a:ext cx="19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/Not 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35160" y="6578640"/>
            <a:ext cx="192240" cy="191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78440" y="6578640"/>
            <a:ext cx="192240" cy="191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763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Primary Heat/Age of Res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23760" y="809640"/>
            <a:ext cx="6989760" cy="538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0E48D-BF49-485D-8B8B-663B8FA3F4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craish</cp:lastModifiedBy>
  <dcterms:modified xsi:type="dcterms:W3CDTF">2005-11-02T16:20:56Z</dcterms:modified>
  <cp:revision>189</cp:revision>
  <dc:subject/>
  <dc:title>Slide 1</dc:title>
</cp:coreProperties>
</file>