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B5AF-1C39-45A7-8156-684724562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D9BA-9049-4713-A9EA-DCA71F72C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C573-CA9E-4E0D-9B4F-1AD362BB9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4DE9-4B07-47EA-B53C-7587CC5B7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FFA2-6247-47AF-9BA6-99CCA5689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6953-8672-455C-B88D-5CB19D614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D344-F46D-4989-A2AB-148F5259F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99EE-C0CB-438C-AB9C-7EE573744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C7EE-CB6D-4841-9C7C-8C0E751BE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A3D9-E755-4BF0-9058-F32344FD7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62B1-9A29-47F0-B8C3-6D0D1C83A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186D-1DF0-4CE3-94E3-5871914B9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466e6c"/>
          </a:soli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B332BCF7-C90A-482A-A6DD-194A729CDB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99404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8896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24028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 745 Approach and S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304812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 Hins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O, Vice Presi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Retail System Scope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914400"/>
          <a:ext cx="8763120" cy="54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6312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B840-E102-4BDE-B19F-84744AB710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Phased Implementation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d Implementation Recommen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phase involves the purchase and installation of hardware to eliminate single points of failure by delivering system failover and redundancy capabili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I – NAESB and Proxy Clustered Environme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 approx. $600,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II – Paperfree Clustered Environ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 approx. $86,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III – Database Clustered Environ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 approx. $1.73 mill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3866-3E8F-4964-9973-2766663194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6324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urrent Availability Performance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pe: Retail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service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ar to date availability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99.4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action processing only, excludes W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oss minutes – planned outage = Net avail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93,120 – 9417 = 383,70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 availability – unplanned minutes = Percent avail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83,703 – 2296 = 381,40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cent available = 381,407/383,703 =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99.4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A05C-BDCE-4820-9DD9-64819454ED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7488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Proposed Service Level Agreemen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ned outages to occur only during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eekend of each mon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enance window between 8 a.m. Saturday and 10 p.m. Sunday (systems unavailable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ility of 99.25% outside of maintenance wind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99.9% availability after implementation of Phase I and Phase II of SCR7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99.9% cannot be achieved by those projects, then consider implementation of phase III of SCR7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4448-2C62-429A-BCE7-4D1AE02BF1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22:11:48Z</dcterms:created>
  <dc:creator/>
  <dc:description/>
  <dc:language>en-US</dc:language>
  <cp:lastModifiedBy>Aaron Smallwood</cp:lastModifiedBy>
  <cp:lastPrinted>2000-10-23T20:56:55Z</cp:lastPrinted>
  <dcterms:modified xsi:type="dcterms:W3CDTF">2005-11-02T21:23:52Z</dcterms:modified>
  <cp:revision>634</cp:revision>
  <dc:subject/>
  <dc:title>No Slide Title</dc:title>
</cp:coreProperties>
</file>