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057-8A3F-487D-AB76-DC3513A2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CBF1-AA14-4A1D-AA4E-DAA7CF5C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F4E-E2E7-462D-AB33-8B1D0361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D3F-437C-417C-8DE0-0AF989F5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D10-1C3F-47BB-83E2-5AB50022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AC58-9253-43AC-BE2C-CAC614C9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AB0-16D1-41EB-B593-AA944179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828A-560A-440A-B7CB-63C2CA2C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9FA-E230-4FE6-A631-958D7C1D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A93-20F9-4CA2-BEFD-D02299F3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24CF-2843-4372-A268-74027E5E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0DE-9E2A-485A-9563-0CEC67CE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1F2C-6CD8-43DE-9360-3591FF560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D87D-0317-4A32-BFE4-610211D15C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1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Market Participants are testing for TX SET Version 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Kick-off Conference Call 10/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Began 10/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 SET 2.1 portion of Flight ends Monday 11/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1005 for new MPs and territories ends 12/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4FE-3E27-4BD3-A3F1-4F3E1B84C6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1005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ight manif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TDS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6 Existing Market participants / umbre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9 Existing MP Relationships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New REPs – 9 New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New Umbrella D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Existing REP testing in new territory – 11 New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Existing REP testing new function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Existing REPs changing Service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Existing REPs changing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29 Tasks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4B7C-BE73-400A-B407-5977760ED5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1005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vity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 started 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of 11/3/2005 9:00 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y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4.23%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1.63% by end of to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 outstanding transactions for week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inbound to ERC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outbound from ERC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 Point to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1 overdue transactions for week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7 inbound to ERC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1 outbound from ERC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3 Point to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2D8-8400-4C68-8620-078C053171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gwingerd</cp:lastModifiedBy>
  <cp:lastPrinted>2002-09-24T18:27:58Z</cp:lastPrinted>
  <dcterms:modified xsi:type="dcterms:W3CDTF">2005-11-03T15:02:14Z</dcterms:modified>
  <cp:revision>375</cp:revision>
  <dc:subject/>
  <dc:title>PowerPoint Presentation</dc:title>
</cp:coreProperties>
</file>