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A80-B875-4675-BAEB-6C97AF77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638-7583-453A-A2C7-FAB89DE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408-CD35-4D65-BE89-9EEB9416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F22-7991-4AC2-A70C-A88630BB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98F-9196-46CA-B495-C89D464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697-6507-4A2C-A1ED-350B00E9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4AF-454E-40D6-B741-93B465B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626-4362-4282-87BF-3CAED71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5D5-257C-4F28-88D3-56896682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DC1-FC63-4453-B081-0BCFCF1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16F-37F3-4D1F-A821-1DCF8658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10D-3831-4619-B8F9-DF54BB3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77D-2C8F-4365-B5F8-C47E0F9C7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vembe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f 111 Competitive Retailers reported numbers by the due date for October Reports (11/02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17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December RMS (November Reports) are due by December 2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600200"/>
          <a:ext cx="8229240" cy="472392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6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676520"/>
          <a:ext cx="8305560" cy="472392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64796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76520"/>
          <a:ext cx="8229240" cy="472392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15292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69960"/>
                <a:gridCol w="1380960"/>
                <a:gridCol w="137844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11-03T16:43:39Z</dcterms:modified>
  <cp:revision>311</cp:revision>
  <dc:subject/>
  <dc:title>PowerPoint Presentation</dc:title>
</cp:coreProperties>
</file>