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1BB6-5ECF-41C5-9ED0-D562F595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9E1F-C750-4C7D-8D82-26DAD9AC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45B-38B7-44F2-B15E-B1577E3E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836-E4D2-4ACA-9FD1-C498CF7D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83B-1E99-4FE6-913E-407FC761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D7B-6F86-4B66-9D38-9A78E658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35A-11D7-49DC-B727-D6D5F82E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8159-0CED-4BD4-B8EE-9A6EFBFB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107A-393B-4BD7-A078-A4AFFA59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3FD-D21D-4A2E-B9D7-9173FD72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2E9-12A4-41A0-8DA5-7C0ED442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B04-6A27-4DCA-9631-CCA13905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74CF-DE13-4315-BD18-6DD3A4970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hyperlink" Target="http://newercot.ercot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rated over 12,000 files to the new site (i.e. .xls, .doc, pd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site has over 25,000 unique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loyment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mber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site is available via a link on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 direct access at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ewercot.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current and new site running in parallel and updated content will be synchronized between both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ember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ercot.com will take users to new site beginning Dec.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d site will be available via a link on www.ercot.com or direct access at http://oldercot.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 updates only to new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d site will be un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8280" y="71136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27840" y="79200"/>
            <a:ext cx="45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080" y="5977080"/>
            <a:ext cx="183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November 2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amartinez</cp:lastModifiedBy>
  <dcterms:modified xsi:type="dcterms:W3CDTF">2005-11-02T21:36:05Z</dcterms:modified>
  <cp:revision>192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4-581F-B2D0-2DA44B90E9B3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