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854064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767760"/>
            <a:ext cx="854064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13940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76776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76776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274968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139400"/>
            <a:ext cx="274968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139400"/>
            <a:ext cx="274968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767760"/>
            <a:ext cx="274968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767760"/>
            <a:ext cx="274968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767760"/>
            <a:ext cx="274968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991DCB-0D4A-4A01-BDB6-0C78214FB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1680" y="1139400"/>
            <a:ext cx="8540640" cy="50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DD8BE7-4781-4DC4-9D21-0B52EDE5B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854064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55511E-ED7D-48C7-9188-9FA87A861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416772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8200" y="1139400"/>
            <a:ext cx="416772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B3AE2F-AF6A-4C4C-A408-D0ED9072F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91E2EE-BFC7-42C1-94B0-37ED06B76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0" y="380520"/>
            <a:ext cx="6327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DEF425-3BAC-4C18-9DB0-855B4B890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8200" y="1139400"/>
            <a:ext cx="416772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01680" y="376776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6DF784-34A0-408E-A011-314FD107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139400"/>
            <a:ext cx="8540640" cy="50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416772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8200" y="113940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8200" y="376776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8116C6-D978-4226-B28A-CE6ECAC7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8200" y="113940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1680" y="3767760"/>
            <a:ext cx="854064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0CC044-F744-41A8-ACA3-E0EFD236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854064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1680" y="3767760"/>
            <a:ext cx="854064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4BED60-4500-4D58-BE1E-9402799FD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8200" y="113940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1680" y="376776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8200" y="376776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D43AE0-B157-4DDA-8D6D-8CE5FF742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274968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9240" y="1139400"/>
            <a:ext cx="274968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76800" y="1139400"/>
            <a:ext cx="274968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01680" y="3767760"/>
            <a:ext cx="274968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9240" y="3767760"/>
            <a:ext cx="274968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76800" y="3767760"/>
            <a:ext cx="274968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9272E7-FF60-4E1C-AD20-1C891CDF4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854064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416772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139400"/>
            <a:ext cx="416772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0" y="380520"/>
            <a:ext cx="6327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139400"/>
            <a:ext cx="416772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76776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416772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13940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76776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13940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767760"/>
            <a:ext cx="854064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dfd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301680" y="1139400"/>
            <a:ext cx="854064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601"/>
              </a:spcBef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73080" indent="-407880">
              <a:spcBef>
                <a:spcPts val="601"/>
              </a:spcBef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425600" indent="-338040">
              <a:spcBef>
                <a:spcPts val="601"/>
              </a:spcBef>
              <a:buClr>
                <a:srgbClr val="00808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830240" indent="-290520">
              <a:spcBef>
                <a:spcPts val="601"/>
              </a:spcBef>
              <a:buClr>
                <a:srgbClr val="00808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168640" indent="-223920">
              <a:spcBef>
                <a:spcPts val="601"/>
              </a:spcBef>
              <a:buClr>
                <a:srgbClr val="008080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168640" indent="-223920">
              <a:spcBef>
                <a:spcPts val="601"/>
              </a:spcBef>
              <a:buClr>
                <a:srgbClr val="000000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168640" indent="-223920">
              <a:spcBef>
                <a:spcPts val="601"/>
              </a:spcBef>
              <a:buClr>
                <a:srgbClr val="000000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2057400" y="990720"/>
            <a:ext cx="6781680" cy="0"/>
          </a:xfrm>
          <a:prstGeom prst="line">
            <a:avLst/>
          </a:prstGeom>
          <a:ln w="1015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957680" cy="941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13E9C-2695-42BF-9C84-B5B7A3815EA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1015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362320" y="152280"/>
            <a:ext cx="4114800" cy="19782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173160" algn="ctr">
              <a:spcBef>
                <a:spcPts val="451"/>
              </a:spcBef>
              <a:buClr>
                <a:srgbClr val="00808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168120" algn="ctr">
              <a:spcBef>
                <a:spcPts val="400"/>
              </a:spcBef>
              <a:buClr>
                <a:srgbClr val="008080"/>
              </a:buClr>
              <a:buFont typeface="Wingdings 3" charset="2"/>
              <a:buChar char="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115920" algn="ctr">
              <a:spcBef>
                <a:spcPts val="400"/>
              </a:spcBef>
              <a:buClr>
                <a:srgbClr val="008080"/>
              </a:buClr>
              <a:buSzPct val="80000"/>
              <a:buFont typeface="Wingdings 3" charset="2"/>
              <a:buChar char="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115920">
              <a:spcBef>
                <a:spcPts val="400"/>
              </a:spcBef>
              <a:buClr>
                <a:srgbClr val="000000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115920">
              <a:spcBef>
                <a:spcPts val="400"/>
              </a:spcBef>
              <a:buClr>
                <a:srgbClr val="000000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13012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MS – Project Updat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Verdana"/>
              </a:rPr>
              <a:t>Commercial Operations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Verdana"/>
              </a:rPr>
              <a:t>Paula Feuerba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Verdana"/>
              </a:rPr>
              <a:t>November 9, 200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dfd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4267080"/>
            <a:ext cx="4038480" cy="2394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760" y="380520"/>
            <a:ext cx="6556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50025 Enhance ESI-id Look-up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00200" y="1143000"/>
            <a:ext cx="72388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601"/>
              </a:spcBef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ject Status:  </a:t>
            </a:r>
            <a:r>
              <a:rPr b="0" lang="en-US" sz="2400" spc="-1" strike="noStrike">
                <a:solidFill>
                  <a:srgbClr val="339966"/>
                </a:solidFill>
                <a:latin typeface="Verdana"/>
              </a:rPr>
              <a:t>Planning Ph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73080" indent="-407880">
              <a:spcBef>
                <a:spcPts val="499"/>
              </a:spcBef>
              <a:buClr>
                <a:srgbClr val="0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quirements -- comple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73080" indent="-407880">
              <a:spcBef>
                <a:spcPts val="499"/>
              </a:spcBef>
              <a:buClr>
                <a:srgbClr val="0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Verdana"/>
              </a:rPr>
              <a:t>DEWG exploring two options in Detail Desig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5600" indent="-338040">
              <a:spcBef>
                <a:spcPts val="451"/>
              </a:spcBef>
              <a:buClr>
                <a:srgbClr val="00808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one column to end of DDL to allow concatenation of all pending Service Orders logged at ERCOT per ESI-i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830240" indent="-290520">
              <a:spcBef>
                <a:spcPts val="400"/>
              </a:spcBef>
              <a:buClr>
                <a:srgbClr val="008080"/>
              </a:buClr>
              <a:buFont typeface="Wingdings 3" charset="2"/>
              <a:buChar char="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nlimited number of service orders to repor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830240" indent="-290520">
              <a:spcBef>
                <a:spcPts val="400"/>
              </a:spcBef>
              <a:buClr>
                <a:srgbClr val="008080"/>
              </a:buClr>
              <a:buFont typeface="Wingdings 3" charset="2"/>
              <a:buChar char="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ariable column length depending on number pending Service Ord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425600" indent="-338040">
              <a:spcBef>
                <a:spcPts val="451"/>
              </a:spcBef>
              <a:buClr>
                <a:srgbClr val="00808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ten (10) null columns to end of DD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830240" indent="-290520">
              <a:spcBef>
                <a:spcPts val="400"/>
              </a:spcBef>
              <a:buClr>
                <a:srgbClr val="008080"/>
              </a:buClr>
              <a:buFont typeface="Wingdings 3" charset="2"/>
              <a:buChar char="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ximum reporting number of Service Orders = 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2168640" indent="-223920">
              <a:spcBef>
                <a:spcPts val="400"/>
              </a:spcBef>
              <a:buClr>
                <a:srgbClr val="008080"/>
              </a:buClr>
              <a:buSzPct val="80000"/>
              <a:buFont typeface="Wingdings 3" charset="2"/>
              <a:buChar char="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cheduled Date and Order Type data would be populated in separate columns (10 / 2 = 5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2168640" indent="-223920">
              <a:spcBef>
                <a:spcPts val="400"/>
              </a:spcBef>
              <a:buClr>
                <a:srgbClr val="008080"/>
              </a:buClr>
              <a:buSzPct val="80000"/>
              <a:buFont typeface="Wingdings 3" charset="2"/>
              <a:buChar char="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f more than 5 Service Orders existed, they would not be included on the report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830240" indent="-290520">
              <a:spcBef>
                <a:spcPts val="400"/>
              </a:spcBef>
              <a:buClr>
                <a:srgbClr val="008080"/>
              </a:buClr>
              <a:buFont typeface="Wingdings 3" charset="2"/>
              <a:buChar char="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otential impact to extract production performanc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dfd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ext Steps…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139760"/>
            <a:ext cx="8540640" cy="53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601"/>
              </a:spcBef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ce decision is made with regard to Service Order reporting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73080" indent="-407880">
              <a:spcBef>
                <a:spcPts val="499"/>
              </a:spcBef>
              <a:buClr>
                <a:srgbClr val="0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DL will be finaliz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73080" indent="-407880">
              <a:spcBef>
                <a:spcPts val="499"/>
              </a:spcBef>
              <a:buClr>
                <a:srgbClr val="0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ket Bulletin will be sent – targeting Thanksgiving holiday timefr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5600" indent="-338040">
              <a:spcBef>
                <a:spcPts val="451"/>
              </a:spcBef>
              <a:buClr>
                <a:srgbClr val="00808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DL Detail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425600" indent="-338040">
              <a:spcBef>
                <a:spcPts val="451"/>
              </a:spcBef>
              <a:buClr>
                <a:srgbClr val="00808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stimated Deployment Date for Phase O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601"/>
              </a:spcBef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ployment Date impacted by following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73080" indent="-407880">
              <a:spcBef>
                <a:spcPts val="499"/>
              </a:spcBef>
              <a:buClr>
                <a:srgbClr val="0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sting constrai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5600" indent="-338040">
              <a:spcBef>
                <a:spcPts val="451"/>
              </a:spcBef>
              <a:buClr>
                <a:srgbClr val="00808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425600" indent="-338040">
              <a:spcBef>
                <a:spcPts val="451"/>
              </a:spcBef>
              <a:buClr>
                <a:srgbClr val="00808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vironme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73080" indent="-407880">
              <a:spcBef>
                <a:spcPts val="499"/>
              </a:spcBef>
              <a:buClr>
                <a:srgbClr val="0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ce Detailed Designs complete and testing criteria defined, better able to determine integration into testing pipeline and required time to test – will continue to provide updat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559640" y="0"/>
            <a:ext cx="158436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dfd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hased Approach – Phase On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8540640" cy="556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601"/>
              </a:spcBef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pdate TDSP ESI-id Extract to return the following information: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73080" indent="-407880">
              <a:spcBef>
                <a:spcPts val="499"/>
              </a:spcBef>
              <a:buClr>
                <a:srgbClr val="0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emise Type </a:t>
            </a:r>
            <a:r>
              <a:rPr b="0" i="1" lang="en-US" sz="2000" spc="-1" strike="noStrike">
                <a:solidFill>
                  <a:srgbClr val="cc6600"/>
                </a:solidFill>
                <a:latin typeface="Verdana"/>
              </a:rPr>
              <a:t>(populated value)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73080" indent="-407880">
              <a:spcBef>
                <a:spcPts val="499"/>
              </a:spcBef>
              <a:buClr>
                <a:srgbClr val="0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Station ID </a:t>
            </a:r>
            <a:r>
              <a:rPr b="0" i="1" lang="en-US" sz="2000" spc="-1" strike="noStrike">
                <a:solidFill>
                  <a:srgbClr val="cc6600"/>
                </a:solidFill>
                <a:latin typeface="Verdana"/>
              </a:rPr>
              <a:t>(null valu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73080" indent="-407880">
              <a:spcBef>
                <a:spcPts val="499"/>
              </a:spcBef>
              <a:buClr>
                <a:srgbClr val="0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ower Region </a:t>
            </a:r>
            <a:r>
              <a:rPr b="0" i="1" lang="en-US" sz="2000" spc="-1" strike="noStrike">
                <a:solidFill>
                  <a:srgbClr val="cc6600"/>
                </a:solidFill>
                <a:latin typeface="Verdana"/>
              </a:rPr>
              <a:t>(null valu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73080" indent="-407880">
              <a:spcBef>
                <a:spcPts val="499"/>
              </a:spcBef>
              <a:buClr>
                <a:srgbClr val="0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Metered/Un-metered Flag </a:t>
            </a:r>
            <a:r>
              <a:rPr b="0" i="1" lang="en-US" sz="2000" spc="-1" strike="noStrike">
                <a:solidFill>
                  <a:srgbClr val="cc6600"/>
                </a:solidFill>
                <a:latin typeface="Verdana"/>
              </a:rPr>
              <a:t>(null valu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73080" indent="-407880">
              <a:spcBef>
                <a:spcPts val="499"/>
              </a:spcBef>
              <a:buClr>
                <a:srgbClr val="0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ending Move-in/Move-out </a:t>
            </a:r>
            <a:r>
              <a:rPr b="0" i="1" lang="en-US" sz="2000" spc="-1" strike="noStrike">
                <a:solidFill>
                  <a:srgbClr val="cc6600"/>
                </a:solidFill>
                <a:latin typeface="Verdana"/>
              </a:rPr>
              <a:t>(null valu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601"/>
              </a:spcBef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e DDL with null values until fields are available in Phase Two (see next slide); Premise Type values would be available immediatel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601"/>
              </a:spcBef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s only one change to DD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dfd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hased Approach – Phase Two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8540640" cy="556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601"/>
              </a:spcBef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pdate TML, extract and API (ensuring synchronization) to include the following informati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73080" indent="-407880">
              <a:spcBef>
                <a:spcPts val="499"/>
              </a:spcBef>
              <a:buClr>
                <a:srgbClr val="0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Station I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73080" indent="-407880">
              <a:spcBef>
                <a:spcPts val="499"/>
              </a:spcBef>
              <a:buClr>
                <a:srgbClr val="0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ower Reg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73080" indent="-407880">
              <a:spcBef>
                <a:spcPts val="499"/>
              </a:spcBef>
              <a:buClr>
                <a:srgbClr val="0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Metered/Un-metered Fla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73080" indent="-407880">
              <a:spcBef>
                <a:spcPts val="499"/>
              </a:spcBef>
              <a:buClr>
                <a:srgbClr val="0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ending Move-in/Move-ou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447920" y="4648320"/>
            <a:ext cx="61722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QUESTIONS?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4191120"/>
            <a:ext cx="8305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5T03:41:46Z</dcterms:created>
  <dc:creator>Steve Wallace</dc:creator>
  <dc:description/>
  <dc:language>en-US</dc:language>
  <cp:lastModifiedBy>pfeuerbacher</cp:lastModifiedBy>
  <cp:lastPrinted>2009-04-22T19:24:48Z</cp:lastPrinted>
  <dcterms:modified xsi:type="dcterms:W3CDTF">2005-11-02T14:33:47Z</dcterms:modified>
  <cp:revision>153</cp:revision>
  <dc:subject/>
  <dc:title>ERCOT POS MOS V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