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9F57-F369-4C66-AA25-930CC9875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F0E6-1099-49F0-866E-72A5AB35A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E68F-1014-46BE-A94B-E7A64D6FC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2106-B740-4BB9-86F2-CE77B9042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F5A-6801-4A01-9CC6-4D4821A7C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A935-7BA4-4625-9DAD-163843ED8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5988-199F-4BE8-B317-8F4AE7072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7F58-E361-4AA3-9D57-40D6DC9FF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A018-680F-4D28-9DB4-C8234BB05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BAA8-EDA0-4028-899F-CE3EC7296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3BC1-CA84-4329-9135-5A97D5652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A880-F05F-4A11-B60D-A76B41C56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B33D-C329-4FF9-AAEE-A5D704363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681120" indent="0"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S Revised Project Prioritiz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y List 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921C-44E0-4D3F-B281-C8B00A8CE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S Revised Project Prioritiz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ver the past 2 months, PRS has been developing a proposal to change the current project priority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86080" indent="-27972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rrent:   1.1, 1.2, 1.3,     2.1, 2.2, 2.3,     3.1, 3.2, 3.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effort was in response to concerns about the current ranking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objective was to better define the prioritization levels to help ensure that projects from various sources were fairly ranked in relation to each o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 additional objective was to better incorporate CBA results in the ranking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349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349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BF67-73CF-4C40-B0ED-0F81DC81A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3880" y="76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990720"/>
            <a:ext cx="8686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itial Draft of Proposed Criteria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 of 10/27/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 - Projects required by Statute, PUCT order, NERC compliance, or critical reliability of grid operations, IT infrastructure, or commercial sett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- High "value" to all market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- High "value" to one or two segments or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 - Medium "value" for all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 - Medium "value" for only one segment or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098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lue" as determined by CBA, longevity (e.g. benefit is long term or short term), and other qualitative consid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bcategory (IT infrastructure, grid operations, commercial settlement) and level of criticality (critical/high/medium/low) for reliability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act on existing approved and prioritized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rect benefit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ther Ideas Off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BA Net Benefit Ratio could provide default for “High” vs “Medium” 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k exposure as defined by risk management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raw vote information on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4CF0-3798-45A2-9664-378C35C6B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6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COT Program Management Office (PMO) takes PRS recommendation to ERCOT stakeholders for review and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COT input applied to PRS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 product reviewed at future P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MO procedures updated and communicated to all stakeholde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-ranking of projects by PRS and ERCOT according to new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rly 2006 Implementation and Re-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haps as early as 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2325-6728-4476-99A3-48D6207B2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y Lis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ober PPL posted to ERCOT.com on 10/26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ail project statu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e Excel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ill working through market request for changes to thi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PMO is currently implementing a simplified EVM (Earned Value Management) process that might assist in providing enhanced information for market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st data is now projected to end of each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itted to Date” now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value captures YTD project expenditures including those that have not yet been recorded in the Accoun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s YTD” reflects amount recorded by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006 Arrow Diagrams will be posted in 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0BB7-06B0-4188-A4C4-70978A3B3D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76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EAD1-A944-4327-902B-A8E61ED6E4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11-02T20:21:33Z</dcterms:modified>
  <cp:revision>149</cp:revision>
  <dc:subject/>
  <dc:title>Slide 1</dc:title>
</cp:coreProperties>
</file>