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B1A-6049-4096-8D5B-B09851CC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161-B68E-42DC-9BBF-3F1F6944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D40-CECB-4300-8574-94FD8ED8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F03-5D96-4DBD-ACE3-E472E96C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8C1A-946D-460D-8591-A4CD3150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70D6-C28E-47E5-8463-604268F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B812-9392-4C5F-8F43-AA5364E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665C-DD34-4D25-B529-053B364D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C160-B8B2-4089-A28B-1D55C3A8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A7A0-7D29-4CD3-95B4-DE6ECBF6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0846-9DE0-459F-B140-1CA3687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3A4-3E53-4BAF-B1FB-3AB1D4B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F251-3E04-4F32-9551-F166875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3D90-7CD6-46B7-A6A3-CFDADF01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6D9-8C52-41BB-8C82-EAA3DD20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07FE-986E-49EE-8C57-B6D32118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4CF3-54E2-4C28-A4FC-719A90BB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F43-1926-4FBD-B1E6-55D9D0A5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43E-4182-47DF-92F1-44DC197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4E1-F159-4D00-9386-D7F99312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34C-8A87-408E-AD3F-20968BFB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51C-A2B6-4A30-853F-89A2E185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7BA-D0E4-4EB9-80EA-720390CB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448-3359-4DB3-A7FE-186CFD16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F61A-976C-45BF-B89B-A80E83EAC4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0765-017A-4EE9-A0FD-531D5E1B5B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ERCOT Update to RMS on the IDR Requirement Transition Projec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005 IDR Requiremen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total of 67 ESI IDs listed on the report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65 Active, 2 De-Energiz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005 IDR Requiremen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,155 ESI IDs listed due to lowering threshold to 700 k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l of 1,230 ESI IDs were on the report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1,223 Active, 7 De-Energiz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sed on submitted Meter Data Type changes, 55 IDRs were installed during the month of Octob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005 IDR Requirement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l of 1,249 ESI IDs were on the report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,239 Active, 9 De-Energized, 1 Ina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4 ESI IDs appeared on the reports for the first tim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DR Optional Remov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November 2, 2005 one TDSP reported having received two IDR removal requests … one IDR has been removed and one is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s have been requested to submit updates on any additional removal requests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craish</cp:lastModifiedBy>
  <dcterms:modified xsi:type="dcterms:W3CDTF">2005-11-02T21:01:53Z</dcterms:modified>
  <cp:revision>30</cp:revision>
  <dc:subject/>
  <dc:title>IDR Taskforce Report to RMS</dc:title>
</cp:coreProperties>
</file>