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365C-53DD-4A2B-9D38-AFCAE789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6FA-15FC-4A87-87FB-5CC43707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78E6-7F3E-45DC-984E-A920DADD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06A9-6F29-4211-8287-20C22741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C37E-F494-4241-A19E-377CBD69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ECE4-4524-4607-BFB5-5F8CB2A1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0ED-21FE-4E0E-9A8B-B9ACB516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3C47-A401-4DC0-BA70-AB4BD8D6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B9CD-40AB-4681-825F-EFFC3BF5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27B-B4BE-4FEB-9DE3-2E236520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D6E9-EBC3-4D5F-ACE9-CFF516BA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7ADD-F79F-4D0D-BEB9-FCB285C9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1963-DFC5-4875-B592-7CA758E84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X SET V2.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Coordination Te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600200"/>
            <a:ext cx="838224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lead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zette Wilb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2) 248-39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lburn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RCOT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/EC Entrance to Texas Deregulated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Transactional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icient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process soli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lement all approved Change Controls as identified by the TX SET Working Group for market-wid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coordination, clarification of issues, and documentation for v2.1 Change Controls through the Market Coordination Team (MCT)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the MOU/EC entrance into the Texas deregulated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Disconnect for Non-Pay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additional billing determinants to th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 of Market Requirements from TX SET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600200"/>
            <a:ext cx="8308800" cy="48006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as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March 2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Completed May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Goal to complete December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Goal to complete late Dec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GRR030 approved by 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636 and PRR637 approved by P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erence Call to review Contingency Plan on November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xt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Market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Weekend on December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676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(pens dow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ed April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(internal docume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Completed May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Completed July 2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ed August 2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ion goal of November 17th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ion goal of November 2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cember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828800"/>
            <a:ext cx="754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as SET Version 2.1 Contingency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will rollback to 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SP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SP will follow guidelines outlined in Contingency Plan for sending/receiving transactions in 2.0 until they can implement 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 will follow guidelines outlined in Contingency Plan for sending/receiving transactions in 2.0 until they can implement 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point Conference Calls established throughout Implementation Weekend to monitor migration su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.1 MC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.1 MC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9960" y="2743200"/>
            <a:ext cx="4792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5:21:16Z</dcterms:created>
  <dc:creator>jkassel</dc:creator>
  <dc:description/>
  <dc:language>en-US</dc:language>
  <cp:lastModifiedBy>swilburn</cp:lastModifiedBy>
  <dcterms:modified xsi:type="dcterms:W3CDTF">2005-11-02T13:34:01Z</dcterms:modified>
  <cp:revision>42</cp:revision>
  <dc:subject/>
  <dc:title>Slide 1</dc:title>
</cp:coreProperties>
</file>