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ED8-1BE9-417D-856F-3E729A02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9E0-EEF5-4346-A384-D6248DE4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6C1-E21A-413D-87C9-20CA7979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1E8-A72A-4DD2-90AD-DD707349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122-BB0D-4B1D-8033-808B30DC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880-8BD7-4132-863C-F497B369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04C-DA6F-422C-B063-B4ACA4B1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CA1-67AC-44E9-B3DD-4A5F33A0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2A8-565C-429B-863E-5AF9D4CB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F03-C420-4592-8F55-35EADD24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87F-0249-4947-9144-7E2457D5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B0A-065E-4AF3-955E-675763E6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D1C9-7B43-4FE0-9CCB-ADA56B7D0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solution to either enhance or replace the FasTrak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the transparency for issues that are submitted via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users to have improved access to th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reporting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search functionality associ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monitoring and response capabiliti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us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 Integration - dependent on SOA MID project for integration framework components needed by API (low risk to pro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68580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360" y="5943600"/>
            <a:ext cx="19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November 2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328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99072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ion – Completed in Feb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ing – Target complete in Ja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/Implementation – Target complete in May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Meeting with FasTrak market group held on 10/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 demo; bus. rules review; Mkt Detail Design template &amp; content format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ual System Design document drafted; finalization under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Detail Design document started (template comments from MPs due by 11/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uct MP visits to understand how users handle bulk issues with current toolset/work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ing TXUED, TNMP, Centerpoint, Direct Energy, Green Moun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 Workflow definitions for all “out of the box” i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I prototype complete and start building Market facing AP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Certificate/LDAP integration prototy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 Conceptual Design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 and deliver Market Detailed Design by 11/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 Market mtg to review Detailed Design week of 12/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9360" y="609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7680" y="5943600"/>
            <a:ext cx="214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November 2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target dates will become firm after ERCOT design is complete and Execution plan finalized in Janu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comple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n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Detailed Design publis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vember 30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Detailed Design – January 15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 Scripts tar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arch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Guides tar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pril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tar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pril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 tar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ay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target (‘go live’ with GUI &amp; AP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nd of May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7920" y="7113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4080" y="5977080"/>
            <a:ext cx="183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November 2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1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k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7680" y="5867280"/>
            <a:ext cx="19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November 2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amartinez</cp:lastModifiedBy>
  <dcterms:modified xsi:type="dcterms:W3CDTF">2005-11-02T21:37:55Z</dcterms:modified>
  <cp:revision>192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4-581F-B2D0-2DA44B90E9B3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