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F623-963B-4AA1-AD96-3CACBE0D1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D7E4-A369-40BE-BC38-D717BB440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5A4B-EF77-4D2D-9F6B-E2C19FDF2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339C-231C-4A3C-AC95-DB9940D63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09E0-5088-442E-B851-64C60937B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D948-2DB9-4915-90DF-26B14A2B7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0847-3BCC-4460-8144-68D8BA740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9B4-2CBD-48A1-B188-428D0CC4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13B-8456-4F70-8824-340E1941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D49A-10A1-4B6C-87C3-B52C570F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9818-DE1C-4CF6-9A4A-4904114B2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600B-5359-4271-B58E-DD5797D2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09E8-9059-4746-91CE-79A413D1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28B4-4462-4EAB-A587-F2893E51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8D54-B9D5-4E6D-A2A5-53E155C3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039F-47C0-424B-9067-E16F5555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2D45-991A-455E-9844-20EE80AC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2813-8AA6-4E9B-B528-84743C50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400-1B0E-4C04-A2C2-A4E5E3B4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20D8-E8AF-401B-BA5A-3BBE39CCF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-50023 Potential Load Los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E. Taylor, Business Project Analy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th Haynes, Project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ober 13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6076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daily extract of customer loss notifications from Siebel and Paperfree and make it available to CRs via the ERCOT 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urpo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would provide CRs timely notification of pending loss of customer load for appropriate adjustments to power purchases and scheduling for enhanced daily load fore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7920" y="638280"/>
            <a:ext cx="39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Objective/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29280" y="79200"/>
            <a:ext cx="45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3 Potential Load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14080" y="597708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October 13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6076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ct data fields defi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I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 DUNs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SP DUNs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Reason (Scheduled, Cancel Pen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Period End Date (i.e. SM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act attributes defi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 output to DUNs number of Losing 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ed DDL into extract so CRs can discern extract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 output file in .csv format to MP folder via RMC within Repor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r on ERCOT 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7920" y="63828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Load Loss Extract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29280" y="79200"/>
            <a:ext cx="45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3 Potential Load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4080" y="597708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October 13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6076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106668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 process to retrieve all pending Move Ins and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 transactions into “DAILYEXTRACT81406” with record status of “SIEBELOUT”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 process to extract the data and update record status to “DELIVER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distinct list of all CRs for which have records with a status of “SIEBELOUT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e process to select all records from table for CR DUNs number and create output extract f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 output extract files to production share directory for report delive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 Manager Component registers report and makes available to us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Wingdings" charset="2"/>
              <a:buChar char="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0840" y="609480"/>
            <a:ext cx="56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Level Design for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29280" y="79200"/>
            <a:ext cx="45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3 Potential Load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080" y="597708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October 13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6076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62120" y="1066680"/>
            <a:ext cx="7927920" cy="472464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1920" y="609480"/>
            <a:ext cx="590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of Potential Load Loss Ex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229280" y="79200"/>
            <a:ext cx="45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3 Potential Load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080" y="597708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October 13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6076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816200" y="2438280"/>
          <a:ext cx="5511600" cy="3047760"/>
        </p:xfrm>
        <a:graphic>
          <a:graphicData uri="http://schemas.openxmlformats.org/drawingml/2006/table">
            <a:tbl>
              <a:tblPr/>
              <a:tblGrid>
                <a:gridCol w="5511600"/>
              </a:tblGrid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4372ESIID1,111111111,666666666,Scheduled,10/01/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4372ESIID2,111111111,666666666,Scheduled,10/31/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4372ESIID3,111111111,666666666,Scheduled,10/12/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4372ESIID4,111111111,666666666,Scheduled,10/18/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4372ESIID5,111111111,666666666,Scheduled,10/19/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4372ESIID6,111111111,666666666,Scheduled,10/24/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4372ESIID7,111111111,666666666,Scheduled,10/02/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14480" indent="-1144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4372ESIID8,111111111,666666666,Scheduled,10/15/200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2133720" y="213372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19051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I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52680" y="182880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 D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67080" y="182880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DSP DU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182880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 Rea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17524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iod End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990720"/>
            <a:ext cx="8156520" cy="47242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tiation – completed August 1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– completed October 10, 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 – to be completed December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ing/Unit Test – to be completed November 4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Test – to be completed November 11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ST – November 16, 2005 through November 30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/Go live – December 3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ing – to be completed December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c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tained signatures on detail business requirements &amp; conceptu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d high level test pl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tained TOLLGATE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to move from planning to execution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ff33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ext step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gin project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4440" y="68580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29280" y="79200"/>
            <a:ext cx="453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23 Potential Load L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4080" y="597708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October 13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30T20:34:08Z</dcterms:created>
  <dc:creator>DTaylor</dc:creator>
  <dc:description/>
  <dc:language>en-US</dc:language>
  <cp:lastModifiedBy>DTaylor</cp:lastModifiedBy>
  <dcterms:modified xsi:type="dcterms:W3CDTF">2005-10-12T14:22:44Z</dcterms:modified>
  <cp:revision>27</cp:revision>
  <dc:subject/>
  <dc:title>Potential Load Loss PR 50023</dc:title>
</cp:coreProperties>
</file>