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BA720-5D09-4F4D-B611-F2B83E127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DC4D9-FF4B-4054-B2D4-C32721BA3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10016-E5D3-40F3-8177-DCA47C15BE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F93CF-2BC4-4D66-9899-FDC90F43E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B9727-35A5-4A02-90BF-61487F98A0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21C26-07D1-4488-9737-7DA6E4A202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F21F-9E40-409B-8709-7ADC0F0E2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2FF27-5400-48B2-8D79-4DA281D5C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66F3-F88D-47A6-86BC-3050D632F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AED2-FC4A-45F0-B87F-022319D750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92D23-9F24-4C65-8807-47B50A6EAB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892C5-D841-48EF-8AF1-4A82CC696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ED81-D549-4082-A744-0EA52A0D3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retire ESI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Extracts Working Gro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tober 15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362320" y="76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137160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out of sync condition concerning Retired ESIIDs has been recognized between Market Participants and ERC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arch has identified 7 ESI IDs that are currently out of sy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ESI IDs have an INACTIVE status in ERCOT systems but are ACTIVE with the TDSP and 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SEs are receiving 867 and 810 transactions and continue to bill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ESI IDs are not a part of the aggregation and settlements process at 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5AB2-07C5-4302-8FD8-F75F12E6B3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362320" y="76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143000"/>
            <a:ext cx="88390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Legal provided an interpretation of protocol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RCOT may not un-retire ESIIDs per sections 15.4 &amp; 15.4.1.3. For these sections, a retirement is a retirement whether mistaken or otherwise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ata Extract Working Group (DEWG) has submitted a PRR634 to clarify the language of these protocol sections and to allow ESI IDs to be un-retired.  PRR634 was reviewed and endorsed at the September DEWG and COPS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RCOT provided options to resolve these issues through the DEV process and presented them at the September DEWG meet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37864-73C0-4A59-AE0C-36CCC84DA4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62320" y="76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37160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the October meeting (10/13/05), DEWG will recommend a new DEV process to correct out of sync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urrent out of sync ESI IDs will be corrected – presumably through the new DEV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48774-2676-4FE2-90CF-BEED6E1C15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95280" y="2743200"/>
            <a:ext cx="632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cc"/>
                </a:solidFill>
                <a:latin typeface="Arial"/>
              </a:rPr>
              <a:t>Questions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0601C-44E4-4F50-9D6A-5DC161C356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Jlavas</cp:lastModifiedBy>
  <dcterms:modified xsi:type="dcterms:W3CDTF">2005-10-07T19:18:09Z</dcterms:modified>
  <cp:revision>281</cp:revision>
  <dc:subject/>
  <dc:title>Slide 1</dc:title>
</cp:coreProperties>
</file>