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3C6-10DA-4EE8-ADB1-34C074EC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042-B270-4874-ACFF-C56AF053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3728-7410-4C04-8EE9-BB8D2E38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D63B-903D-404D-96F6-759851E3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154-67A9-4067-B7C0-00DB175C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30C-6665-420F-93C6-5894AEA8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83D-366E-47D1-BC2A-6490B498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216B-71C5-4C3A-B2BF-FC1FF425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895-0E16-497A-A03D-E8A9468B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CC50-0935-4645-8500-4A3F3220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830-1A67-4992-936A-E5303AE5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7AB-33BC-4396-A426-E7815922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6654-6CF5-494C-9CEB-AB97CFDD7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2560" y="0"/>
            <a:ext cx="9038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CPS1 by Day – Sep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CPS1 by Interval – Sep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05840" cy="6096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19920" y="1219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5.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162920" y="1371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5.03 CP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7543440" y="175248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12 Month Rolling AVG CP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95120"/>
            <a:ext cx="8991720" cy="6359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5280" y="2895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 ------2001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2895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-------2003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1523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-------2005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ily RMS1 2000 &amp; 2004-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407880"/>
            <a:ext cx="8763120" cy="6094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ily RMS1 2004 &amp;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4:12:17Z</dcterms:created>
  <dc:creator>sniemeyer</dc:creator>
  <dc:description/>
  <dc:language>en-US</dc:language>
  <cp:lastModifiedBy>Ann Boren</cp:lastModifiedBy>
  <dcterms:modified xsi:type="dcterms:W3CDTF">2005-10-10T19:56:40Z</dcterms:modified>
  <cp:revision>8</cp:revision>
  <dc:subject/>
  <dc:title>PowerPoint Presentation</dc:title>
</cp:coreProperties>
</file>