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D9D5C-699A-4CA9-9DF4-AA88507B9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F1BF-39C2-4514-ABE3-A948703BF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3D996-18D9-4475-9704-9FC904445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C59B7-DCA3-4671-B060-89CDBFFCF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B727D-4757-41BB-BD90-C6841234A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ECC09-6906-4537-9E06-D6E82DFB1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35210-905B-4CC0-AD1D-4B308C2AE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95985-B332-4ACD-B5B2-6AF222B2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25BD1-6412-46F9-BE01-9CAB7E0D3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AFF28-8F9C-4E93-BEB9-0202187D9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33945-6F22-4674-9AB8-B31F487B4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8E41B-38C7-44B0-B5FC-CDC234915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9CD3A-CE40-4C06-A12B-9828234F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820D-5160-4F44-9A9E-418C587AF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B0F56-4804-4ACE-A993-A364C104B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E0799-B4F6-4C94-92CE-3F3F27DBB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DE0A3-AA3E-47DF-94E1-41C900F8C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6BBE-B77E-4C07-9650-042D11B32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50085-CDE2-4481-9579-C6AD8FE14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9EA3-7619-4DE6-B091-9CD60116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1F57-E3F4-4B18-A6F8-DF66E3A5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9AC1-6502-4DC4-8A49-57ACDAE63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97C8-4B37-4805-9308-0DBAA108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4433-0D25-47E8-9B3B-0F3774D85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7555-9D03-470E-9457-38971DE3A1D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12" name="" descr=""/>
          <p:cNvPicPr/>
          <p:nvPr/>
        </p:nvPicPr>
        <p:blipFill>
          <a:blip r:embed="rId2"/>
          <a:stretch/>
        </p:blipFill>
        <p:spPr>
          <a:xfrm>
            <a:off x="7854840" y="6164280"/>
            <a:ext cx="128916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5867280" cy="6858000"/>
            <a:chOff x="0" y="0"/>
            <a:chExt cx="5867280" cy="6858000"/>
          </a:xfrm>
        </p:grpSpPr>
        <p:sp>
          <p:nvSpPr>
            <p:cNvPr id="5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
          <p:cNvGrpSpPr/>
          <p:nvPr/>
        </p:nvGrpSpPr>
        <p:grpSpPr>
          <a:xfrm>
            <a:off x="3632040" y="4889520"/>
            <a:ext cx="4876920" cy="318960"/>
            <a:chOff x="3632040" y="4889520"/>
            <a:chExt cx="4876920" cy="318960"/>
          </a:xfrm>
        </p:grpSpPr>
        <p:sp>
          <p:nvSpPr>
            <p:cNvPr id="5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5"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DD90-AF4A-4001-A1C9-63359EDEB0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59" name="" descr=""/>
          <p:cNvPicPr/>
          <p:nvPr/>
        </p:nvPicPr>
        <p:blipFill>
          <a:blip r:embed="rId2"/>
          <a:stretch/>
        </p:blipFill>
        <p:spPr>
          <a:xfrm>
            <a:off x="7854840" y="6164280"/>
            <a:ext cx="1289160" cy="693720"/>
          </a:xfrm>
          <a:prstGeom prst="rect">
            <a:avLst/>
          </a:prstGeom>
          <a:ln w="0">
            <a:noFill/>
          </a:ln>
        </p:spPr>
      </p:pic>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990360"/>
            <a:ext cx="66294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RCOT</a:t>
            </a:r>
            <a:br>
              <a:rPr sz="3600"/>
            </a:br>
            <a:r>
              <a:rPr b="1" lang="en-US" sz="3600" spc="-1" strike="noStrike">
                <a:solidFill>
                  <a:srgbClr val="003366"/>
                </a:solidFill>
                <a:latin typeface="Arial"/>
              </a:rPr>
              <a:t>Operational Audit 2005</a:t>
            </a:r>
            <a:endParaRPr b="1" lang="en-US" sz="3600" spc="-1" strike="noStrike">
              <a:solidFill>
                <a:srgbClr val="003366"/>
              </a:solidFill>
              <a:latin typeface="Arial"/>
            </a:endParaRPr>
          </a:p>
        </p:txBody>
      </p:sp>
      <p:sp>
        <p:nvSpPr>
          <p:cNvPr id="98" name="PlaceHolder 2"/>
          <p:cNvSpPr>
            <a:spLocks noGrp="1"/>
          </p:cNvSpPr>
          <p:nvPr>
            <p:ph type="subTitle"/>
          </p:nvPr>
        </p:nvSpPr>
        <p:spPr>
          <a:xfrm>
            <a:off x="0" y="4114440"/>
            <a:ext cx="4572000" cy="6858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gust 1 - August 19, 2005</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7:  Steps performed out of sequence when issuing an Alert</a:t>
            </a: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quency Control Desk Section 2.6.3:  Issue an Alert</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as determined that performing these steps out of order did </a:t>
            </a:r>
            <a:r>
              <a:rPr b="0" lang="en-US" sz="2400" spc="-1" strike="noStrike" u="sng">
                <a:solidFill>
                  <a:srgbClr val="003366"/>
                </a:solidFill>
                <a:uFillTx/>
                <a:latin typeface="Arial"/>
              </a:rPr>
              <a:t>not</a:t>
            </a:r>
            <a:r>
              <a:rPr b="0" lang="en-US" sz="2400" spc="-1" strike="noStrike">
                <a:solidFill>
                  <a:srgbClr val="003366"/>
                </a:solidFill>
                <a:latin typeface="Arial"/>
              </a:rPr>
              <a:t> have an adverse impact on the desired result of the procedure.  A note has been added to inform the operator the sequence is only a recommendation.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Comple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8:  Did not check ENS or MIS notifications</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quency Control Desk Section 2.6.3:  Issue an Aler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u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imperative that the system operators have checks and balances during real time operations.  When a situation arises that requires the posting of a message, system operators should verify the posting occurred by either viewing the message system or by consulting with other system operators. The importance of this verification will be covered in Continuous Training Cycle 2.  </a:t>
            </a:r>
            <a:r>
              <a:rPr b="0" lang="en-US" sz="2000" spc="-1" strike="noStrike" u="sng">
                <a:solidFill>
                  <a:srgbClr val="003366"/>
                </a:solidFill>
                <a:uFillTx/>
                <a:latin typeface="Arial"/>
              </a:rPr>
              <a:t>Expected Completion Date</a:t>
            </a:r>
            <a:r>
              <a:rPr b="0" lang="en-US" sz="2000" spc="-1" strike="noStrike">
                <a:solidFill>
                  <a:srgbClr val="003366"/>
                </a:solidFill>
                <a:latin typeface="Arial"/>
              </a:rPr>
              <a:t>:  </a:t>
            </a:r>
            <a:r>
              <a:rPr b="1" lang="en-US" sz="2000" spc="-1" strike="noStrike">
                <a:solidFill>
                  <a:srgbClr val="003366"/>
                </a:solidFill>
                <a:latin typeface="Arial"/>
              </a:rPr>
              <a:t>October 13, 2005</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sue 9:  Logging error</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quency Control Desk Section 2.4.1:  Monitor SCE for each QSE</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required that system operators log any pertinent information regarding an event in the electronic logs.  The importance of the logging requirement will be covered in Continuous Training Cycle 2.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October 13, 200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10:  Unscheduled Generator Testi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quency Control Desk Section 2.3.1:  Unscheduled Generator Tes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procedure was removed from the Frequency Desk and the Shift Supervisor’s procedure was enhanced to govern the process in the future.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Comple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perations Department showed improvement from the last Operational Aud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last three years we have improved on the Compliance Operational Aud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understand the benefit of the audit and welcome the input to better our operational readines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99"/>
                </a:solidFill>
                <a:latin typeface="Brush Script MT"/>
              </a:rPr>
              <a:t>Questions</a:t>
            </a:r>
            <a:br>
              <a:rPr sz="4400"/>
            </a:br>
            <a:endParaRPr b="1" lang="en-US" sz="4400" spc="-1" strike="noStrike">
              <a:solidFill>
                <a:srgbClr val="006666"/>
              </a:solidFill>
              <a:latin typeface="Arial"/>
            </a:endParaRPr>
          </a:p>
        </p:txBody>
      </p:sp>
      <p:pic>
        <p:nvPicPr>
          <p:cNvPr id="126" name="" descr=""/>
          <p:cNvPicPr/>
          <p:nvPr/>
        </p:nvPicPr>
        <p:blipFill>
          <a:blip r:embed="rId1"/>
          <a:stretch/>
        </p:blipFill>
        <p:spPr>
          <a:xfrm>
            <a:off x="4038480" y="281952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erview</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ere a total of 251 items assess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1 complia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 non-complia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iant Score of 96%</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s to the 10 non-compliant items are provided in the following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10 non-compliant findings in the audit have been addressed and solutions are provided. The beneficial aspects of an Operational Audit are demonstrated by the improvements observed in this year’s performance. Actions taken as a result of previous audits contributed to this year’s succe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1:  Steps performed out of sequence on Day Ahead Replacement</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y Ahead Desk Section 2.12:  Initiate ERCOT Day Ahead Replacement Capacity Market. Steps not performed in sequ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as determined that performing these steps out of order did </a:t>
            </a:r>
            <a:r>
              <a:rPr b="0" lang="en-US" sz="2400" spc="-1" strike="noStrike" u="sng">
                <a:solidFill>
                  <a:srgbClr val="003366"/>
                </a:solidFill>
                <a:uFillTx/>
                <a:latin typeface="Arial"/>
              </a:rPr>
              <a:t>not</a:t>
            </a:r>
            <a:r>
              <a:rPr b="0" lang="en-US" sz="2400" spc="-1" strike="noStrike">
                <a:solidFill>
                  <a:srgbClr val="003366"/>
                </a:solidFill>
                <a:latin typeface="Arial"/>
              </a:rPr>
              <a:t> have an adverse impact on the desired result.  The procedure was changed to remove the sequential requirement.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Comple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2:  Time delay before executing Hour Ahead Study not observed</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ing Period Desk Section 2.1.1:  Execute Hour Ahead Study</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 is being changed to instruct the system operator to verify the real-time balancing market has cleared by utilizing a message screen in the MOI.  This will be covered in Continuous Training Cycle 2.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October 13, 200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3:  Omitted step recalling NSRS without recognized exception</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ing Period Desk Appendix 3.4:  How to deploy NS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wo steps that were omitted were </a:t>
            </a:r>
            <a:r>
              <a:rPr b="0" lang="en-US" sz="2400" spc="-1" strike="noStrike" u="sng">
                <a:solidFill>
                  <a:srgbClr val="003366"/>
                </a:solidFill>
                <a:uFillTx/>
                <a:latin typeface="Arial"/>
              </a:rPr>
              <a:t>not</a:t>
            </a:r>
            <a:r>
              <a:rPr b="0" lang="en-US" sz="2400" spc="-1" strike="noStrike">
                <a:solidFill>
                  <a:srgbClr val="003366"/>
                </a:solidFill>
                <a:latin typeface="Arial"/>
              </a:rPr>
              <a:t> needed to recall NSRS.  The recall is only needed for one market participant who believes they have corrected the issue.  The appendix will be changed to include one procedure for deploying NSRS and one for recalling NSRS.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October 13, 200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4:  Steps performed out of sequence when issuing an Alert</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and Security Desk Section 2.5.3:  Issue an Alert</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as determined that performing these steps out of order did </a:t>
            </a:r>
            <a:r>
              <a:rPr b="0" lang="en-US" sz="2400" spc="-1" strike="noStrike" u="sng">
                <a:solidFill>
                  <a:srgbClr val="003366"/>
                </a:solidFill>
                <a:uFillTx/>
                <a:latin typeface="Arial"/>
              </a:rPr>
              <a:t>not</a:t>
            </a:r>
            <a:r>
              <a:rPr b="0" lang="en-US" sz="2400" spc="-1" strike="noStrike">
                <a:solidFill>
                  <a:srgbClr val="003366"/>
                </a:solidFill>
                <a:latin typeface="Arial"/>
              </a:rPr>
              <a:t> have an adverse impact on the desired result of the procedure.  A note has been added to inform the operator the sequence is only a recommendation.  </a:t>
            </a:r>
            <a:r>
              <a:rPr b="0" lang="en-US" sz="2400" spc="-1" strike="noStrike" u="sng">
                <a:solidFill>
                  <a:srgbClr val="003366"/>
                </a:solidFill>
                <a:uFillTx/>
                <a:latin typeface="Arial"/>
              </a:rPr>
              <a:t>Expected Completion Date</a:t>
            </a:r>
            <a:r>
              <a:rPr b="0" lang="en-US" sz="2400" spc="-1" strike="noStrike">
                <a:solidFill>
                  <a:srgbClr val="003366"/>
                </a:solidFill>
                <a:latin typeface="Arial"/>
              </a:rPr>
              <a:t>:  </a:t>
            </a:r>
            <a:r>
              <a:rPr b="1" lang="en-US" sz="2400" spc="-1" strike="noStrike">
                <a:solidFill>
                  <a:srgbClr val="003366"/>
                </a:solidFill>
                <a:latin typeface="Arial"/>
              </a:rPr>
              <a:t>Completed</a:t>
            </a:r>
            <a:endParaRPr b="0" lang="en-US" sz="2400" spc="-1" strike="noStrike">
              <a:solidFill>
                <a:srgbClr val="003366"/>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5:  Did not print Hot Line call log</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nsmission and Security Desk Section 2.5.3:  Issue an Aler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u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n Operating Guide requirement (Section 2.3.2) to record or file all written or electronic dispatch instructions and acknowledgements as soon as practicable after the issuance of the dispatch instruction.  The importance of the hot line call log will be covered in Continuous Training Cycle 2.  </a:t>
            </a:r>
            <a:r>
              <a:rPr b="0" lang="en-US" sz="2000" spc="-1" strike="noStrike" u="sng">
                <a:solidFill>
                  <a:srgbClr val="003366"/>
                </a:solidFill>
                <a:uFillTx/>
                <a:latin typeface="Arial"/>
              </a:rPr>
              <a:t>Expected Completion Date</a:t>
            </a:r>
            <a:r>
              <a:rPr b="0" lang="en-US" sz="2000" spc="-1" strike="noStrike">
                <a:solidFill>
                  <a:srgbClr val="003366"/>
                </a:solidFill>
                <a:latin typeface="Arial"/>
              </a:rPr>
              <a:t>:  </a:t>
            </a:r>
            <a:r>
              <a:rPr b="1" lang="en-US" sz="2000" spc="-1" strike="noStrike">
                <a:solidFill>
                  <a:srgbClr val="003366"/>
                </a:solidFill>
                <a:latin typeface="Arial"/>
              </a:rPr>
              <a:t>October 13, 2005</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sue 6:  Did not ensure MP or RAP available</a:t>
            </a:r>
            <a:endParaRPr b="1" lang="en-US" sz="3200" spc="-1" strike="noStrike">
              <a:solidFill>
                <a:srgbClr val="006666"/>
              </a:solidFill>
              <a:latin typeface="Arial"/>
            </a:endParaRPr>
          </a:p>
        </p:txBody>
      </p:sp>
      <p:sp>
        <p:nvSpPr>
          <p:cNvPr id="11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and Security Desk Section 2.1.2:  RTCA Congestion Management and 2.2.6:  Mitigation Pla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RAP-C Enhancement Project which is due in production in mid-November.  When this tool is delivered, all RAPs, MPs, PCAPs, and RAPCs that are posted will be modeled; eliminating this issue.  </a:t>
            </a:r>
            <a:r>
              <a:rPr b="0" lang="en-US" sz="2400" spc="-1" strike="noStrike" u="sng">
                <a:solidFill>
                  <a:srgbClr val="003366"/>
                </a:solidFill>
                <a:uFillTx/>
                <a:latin typeface="Arial"/>
              </a:rPr>
              <a:t>Expected Completion</a:t>
            </a:r>
            <a:r>
              <a:rPr b="0" lang="en-US" sz="2400" spc="-1" strike="noStrike">
                <a:solidFill>
                  <a:srgbClr val="003366"/>
                </a:solidFill>
                <a:latin typeface="Arial"/>
              </a:rPr>
              <a:t> </a:t>
            </a:r>
            <a:r>
              <a:rPr b="0" lang="en-US" sz="2400" spc="-1" strike="noStrike" u="sng">
                <a:solidFill>
                  <a:srgbClr val="003366"/>
                </a:solidFill>
                <a:uFillTx/>
                <a:latin typeface="Arial"/>
              </a:rPr>
              <a:t>Date</a:t>
            </a:r>
            <a:r>
              <a:rPr b="0" lang="en-US" sz="2400" spc="-1" strike="noStrike">
                <a:solidFill>
                  <a:srgbClr val="003366"/>
                </a:solidFill>
                <a:latin typeface="Arial"/>
              </a:rPr>
              <a:t>:  </a:t>
            </a:r>
            <a:r>
              <a:rPr b="1" lang="en-US" sz="2400" spc="-1" strike="noStrike">
                <a:solidFill>
                  <a:srgbClr val="003366"/>
                </a:solidFill>
                <a:latin typeface="Arial"/>
              </a:rPr>
              <a:t>November 15, 200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8:56:00Z</dcterms:created>
  <dc:creator>rboehnemann</dc:creator>
  <dc:description/>
  <cp:keywords/>
  <dc:language>en-US</dc:language>
  <cp:lastModifiedBy>Jeff Gilbertson</cp:lastModifiedBy>
  <dcterms:modified xsi:type="dcterms:W3CDTF">2005-10-06T21:31:45Z</dcterms:modified>
  <cp:revision>16</cp:revision>
  <dc:subject/>
  <dc:title>Operation Audit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11033</vt:lpwstr>
  </property>
</Properties>
</file>