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A8AB-8CC7-497D-96BF-E47E4E60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50532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78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urricane Ri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920" y="235080"/>
            <a:ext cx="487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and Federal 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9/26 the State Emergency Operations Center created a Tiger Team created to determine how service can be restored  in Entergy area A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or issued order suspending eminent domain requirements for temporary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9/27 PUCT issued order suspending CCN requirements and allowing ERCOT TDSPs to extend service in Entergy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agreed to issue order maintaining ERCOT’s FERC exemption for these emergency connections to Ent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COT Prepa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started alerts to QSEs and TOs on 9/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a site failover of EMMS system Austin  Tayl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ured satellite voice communications between ERCOT and TOs in impact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led planned transmission outages as of Friday, 9/2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scheduled implementation of Release 4 on 9/2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ed QSEs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all plants unless safety dictated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y ERCOT of all evacuat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Resource Plans, Schedules, Bids up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 in all available capacity into BES market, particularly D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to take plants off line quickly if requested by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828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Preparation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frequency control guidelines to all QSEs and Generators in case of loss of communication ERCOT    QSE     Gener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link for hurricane updates on erco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d MP conference calls for September 23, 24, 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up separate 24-hour phone hot lines for media and market participants for issues not concerning real time operations beginning 9/2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d for extra ERCOT System Operators and Supervisors to come in if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d intent to keep market operating as long a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2133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ta Tr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320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96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357200" y="1219320"/>
            <a:ext cx="12710880" cy="518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93120" y="502920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 M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01320" y="255276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M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COT Customer Ou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outages started 17:00 on 9/23 in Galveston/Houston (CenterPoint)– hit a peak of 715,000 at 07:00 9/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outages started 06:00 on 9/24 in Lufkin/Nacogdoches/Tyler (TXUED) – up to 70,000 customers ultimately aff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st majority of customer outages due to distribution system dam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to almost all customers in ERCOT restored by 9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151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Transmission and Generation Out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- 138KV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138/69KV autotrans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– 69 KV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69 KV sub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ack in service by 06:00 9/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345 KV ou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lant (76 MW) forced out by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lve of 30 plants in Houston area were shut down before the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RCOT system remained stable throughout the st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gnificant communications problems with Market Particip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market systems functioned norm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ced record September peak temperatures and demands in the four days following the storm without operation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owever ……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ergy Hit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r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ssion Outages – 82% of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– 500 KV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– 230 KV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 – 138 KV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1 – 69 KV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3 sub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ed 300,000 Entergy Texas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t Texas was isolated from rest of Entergy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 deficient in East Tex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Load Transfers (BL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9/25 discussions started about possibility of BLTs from Entergy to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to close normally open Crosby-Dayton 138 KV tie between CenterPoint and Ent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Houston water supply pumps on Trinity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nergized the evening of 9/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gy started putting load on line on 9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~ 17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8 KV tie between TXUED and Deep East Texas Electric Coop at Huntingt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ized on 1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~ 7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David Cantrel</dc:creator>
  <dc:description/>
  <dc:language>en-US</dc:language>
  <cp:lastModifiedBy>SMyers</cp:lastModifiedBy>
  <cp:lastPrinted>2000-09-19T10:42:49Z</cp:lastPrinted>
  <dcterms:modified xsi:type="dcterms:W3CDTF">2005-10-03T22:37:46Z</dcterms:modified>
  <cp:revision>183</cp:revision>
  <dc:subject/>
  <dc:title>No Slide Title</dc:title>
</cp:coreProperties>
</file>