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76C-70B7-467D-A562-A1619DB7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E80-7B0C-443D-BE60-6CA71724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6A3-6D19-474B-838F-A84E326E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850-043E-4028-9E81-665AE657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3A8B-2A7A-4195-A906-8DE2CB53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5A8B-B7D7-46AE-AEDE-F7798A22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592D-A149-4CE3-B9E6-544BE7C2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817F-CA5C-41E2-A4CF-C1368215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8D98-424F-41E2-9197-C36969C6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E9C8-987D-45B4-8A4E-F3516803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A36F-73B8-4022-BABE-28279C3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AFA-4562-4EDB-B434-243594F9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A32C-61BE-4DE5-A63A-A1BEC5C8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5AC5-7444-4172-87E8-F6F1527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549B-7260-4EAC-91B6-93148543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A94C-3C95-4390-A65E-338C7472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01A3-52EB-4998-8207-22CCCEE7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5F6-CAD8-4FE1-86E2-33F63AF5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9BE-C4C9-4EB3-8C70-D32D9148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8A3-9B26-4987-A39A-6B365137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D76-3467-4A14-8EDB-1523AAE0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F4B-99C9-4530-84A6-61A6F71C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E28-76B5-47D4-BCF9-63C91A32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145-9F7B-4D7D-B8DD-F2847945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D4DD-7293-4E4A-A9B9-35D018AE27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8CEA-8398-4448-8DE0-DF22CE5E95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1080" y="1066320"/>
            <a:ext cx="6553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ERCOT Update to RMS on the IDR Requirement Transition Projec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80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l Ra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Load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12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urrent IDR Requirement List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23 currently reported as needing IDR installations of wh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160 First time on report is October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,149  --  Due to lowering threshold to 700 k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68600" indent="233280">
              <a:spcBef>
                <a:spcPts val="34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d by 37 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1  --  Due to demands &gt; 1,000 k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3 On September 2005 report but IDR not yet insta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 --  Currently De-Energ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-  Currently Ac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700 kW (kVA)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DR Requirement List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of Work based on September qu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12 ESI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05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De-energized (No REP of Rec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ESIIDs on the September query do not appear on the October IDR Requiremen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ed TDSPs and REPs have been no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R Installation Schedules sent to the 35 serving CRs to be completed and forwarded to TDSPs by Sep. 16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Rs submitted completed schedules to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ers sent out to CRs for schedules not receiv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chedules received for 271 ESI IDs among 13 C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DR Optional Remov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October 5, 2005 one TDSP reported having received two IDR removal requests … one IDR has been removed and one is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SPs have been requested to submit updates on any additional removal requests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08:05Z</dcterms:created>
  <dc:creator> </dc:creator>
  <dc:description/>
  <dc:language>en-US</dc:language>
  <cp:lastModifiedBy>craish</cp:lastModifiedBy>
  <dcterms:modified xsi:type="dcterms:W3CDTF">2005-10-05T21:13:54Z</dcterms:modified>
  <cp:revision>28</cp:revision>
  <dc:subject/>
  <dc:title>IDR Taskforce Report to 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85B5003D51B714A8A6436DB6BD21B1D0700F69D146182963C4BBADCC8C900482FB200000012F8A40000F69D146182963C4BBADCC8C900482FB2000001944E5A0000</vt:lpwstr>
  </property>
  <property fmtid="{D5CDD505-2E9C-101B-9397-08002B2CF9AE}" pid="3" name="_NewReviewCycle">
    <vt:lpwstr/>
  </property>
  <property fmtid="{D5CDD505-2E9C-101B-9397-08002B2CF9AE}" pid="4" name="_ReviewCycleID">
    <vt:r8>-1158509993</vt:r8>
  </property>
  <property fmtid="{D5CDD505-2E9C-101B-9397-08002B2CF9AE}" pid="5" name="_TentativeReviewCycleID">
    <vt:r8>-1158509993</vt:r8>
  </property>
</Properties>
</file>