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771-5A32-4F81-8765-A61B7335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956-E987-41CF-BCC8-8EC51F0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E48-A014-4AA5-92C3-C480171B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31A-897E-416B-8D40-D9A96123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99A-AEFF-4D8B-B39C-5D5D55D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A3E-E21D-4041-9FCA-B719C1F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241-D441-4052-B8B6-625BF66D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61A-C936-44A1-B29C-E2EA3E3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8E0-92E2-4B0C-973F-46BC1EC3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F0B-321A-420A-8754-87BDC32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1B3-1C7E-4E6C-B925-2B25C56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DE1-BF04-4916-B79C-912894F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AB7-86D3-4D7A-90ED-1819B72A0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24C-CB21-42CD-AB9A-F36ED29E3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rket Participants will test for TX SET Version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9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adline 9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 9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1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 1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F04-2DBB-403F-97E9-380AD904D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1 Existing Market participants / umbr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7 Existing MP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New REPs – 9 N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New Umbrella D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Existing REP testing in new territory – 11 N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Existing REPs changing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Existing REPs changing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12 Tasks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E12-40F9-43DD-9C5F-1BB92A12E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tarted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10/4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5 of 18 days (2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83 of 428  connectivity tests schedu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 of 428  connectivity tests comp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93F-BB42-47EC-9B30-A825B9BED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boren</cp:lastModifiedBy>
  <cp:lastPrinted>2002-09-24T18:27:58Z</cp:lastPrinted>
  <dcterms:modified xsi:type="dcterms:W3CDTF">2005-10-05T15:54:10Z</dcterms:modified>
  <cp:revision>374</cp:revision>
  <dc:subject/>
  <dc:title>PowerPoint Presentation</dc:title>
</cp:coreProperties>
</file>