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1290A-C98A-4AF6-A894-DB294D28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9E14F-73D3-436B-83AE-E8B798CA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F81A7-399D-41EE-A85E-1ED49339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57B17-849D-4773-9AFB-8044CB09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28706-5626-4CB7-89DC-55286838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0" y="380520"/>
            <a:ext cx="6327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E8FC4-E9C6-482F-8842-4FF96EFE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2778E-4F1C-4EF8-A117-3C68A367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8A4C3-89F6-4231-82A0-6658FBBD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EC389-8879-4386-BDDC-5282F673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0071C-CA34-4EB0-90A3-EE133D2F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69B39-8F3C-44DA-9474-D336ED84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3626D-6866-4299-B82B-A7222960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0" y="380520"/>
            <a:ext cx="6327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60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830240" indent="-290520">
              <a:spcBef>
                <a:spcPts val="601"/>
              </a:spcBef>
              <a:buClr>
                <a:srgbClr val="00808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68640" indent="-223920">
              <a:spcBef>
                <a:spcPts val="601"/>
              </a:spcBef>
              <a:buClr>
                <a:srgbClr val="00808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68640" indent="-223920">
              <a:spcBef>
                <a:spcPts val="6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68640" indent="-223920">
              <a:spcBef>
                <a:spcPts val="6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057400" y="990720"/>
            <a:ext cx="6781680" cy="0"/>
          </a:xfrm>
          <a:prstGeom prst="line">
            <a:avLst/>
          </a:prstGeom>
          <a:ln w="101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5768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7034-2CC8-40AF-BD48-256FD1A430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101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362320" y="152280"/>
            <a:ext cx="4114800" cy="1978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173160" algn="ctr"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168120" algn="ctr">
              <a:spcBef>
                <a:spcPts val="400"/>
              </a:spcBef>
              <a:buClr>
                <a:srgbClr val="008080"/>
              </a:buClr>
              <a:buFont typeface="Wingdings 3" charset="2"/>
              <a:buChar char="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115920" algn="ctr">
              <a:spcBef>
                <a:spcPts val="400"/>
              </a:spcBef>
              <a:buClr>
                <a:srgbClr val="008080"/>
              </a:buClr>
              <a:buSzPct val="80000"/>
              <a:buFont typeface="Wingdings 3" charset="2"/>
              <a:buChar char="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115920">
              <a:spcBef>
                <a:spcPts val="400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115920">
              <a:spcBef>
                <a:spcPts val="400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MS – Project Upda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OLESALE MARKET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ula Feuerba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ctober 12,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0025 Enhance ESI-id Look-u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93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50025 – Enhance ESI-id Look-up Fun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5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ress PRR-312, assigned a priority of 1.2, ranked 34 on the 2005 PP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5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rrent project state:  planning ph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spcBef>
                <a:spcPts val="400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have been complet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spcBef>
                <a:spcPts val="400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rrently working on design docu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830240" indent="-290520">
              <a:spcBef>
                <a:spcPts val="349"/>
              </a:spcBef>
              <a:buClr>
                <a:srgbClr val="008080"/>
              </a:buClr>
              <a:buFont typeface="Wingdings 3" charset="2"/>
              <a:buChar char="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ail to RMS members with estimated deployment date upd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830240" indent="-290520">
              <a:spcBef>
                <a:spcPts val="349"/>
              </a:spcBef>
              <a:buClr>
                <a:srgbClr val="008080"/>
              </a:buClr>
              <a:buFont typeface="Wingdings 3" charset="2"/>
              <a:buChar char="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vide update at subsequent RMS meet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Verdana"/>
              </a:rPr>
              <a:t>Phase 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- update TDSP ESI-id Extract to return the following information: 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emise 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Verdana"/>
              </a:rPr>
              <a:t>Phase Tw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update TML, extract and API (ensuring synchronization) to include the following inform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5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tation 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5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Power Reg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5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Metered/Un-metered Fla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5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Pending Move-in/Move-o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5T03:41:46Z</dcterms:created>
  <dc:creator>Steve Wallace</dc:creator>
  <dc:description/>
  <dc:language>en-US</dc:language>
  <cp:lastModifiedBy>aboren</cp:lastModifiedBy>
  <cp:lastPrinted>2009-04-22T19:24:48Z</cp:lastPrinted>
  <dcterms:modified xsi:type="dcterms:W3CDTF">2005-10-05T17:47:03Z</dcterms:modified>
  <cp:revision>149</cp:revision>
  <dc:subject/>
  <dc:title>ERCOT POS MOS V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