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B26-A594-4EF7-8A34-D08697DC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CC2-C8CF-4894-959A-3B27C252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14E-CB1D-492F-88E7-8FEE0531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7DB-600A-43D7-BA78-CD37DC22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8A19-2B01-4EDD-8FCE-FCFB393F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4542-3412-4F94-A84B-D24BCAAA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B465-E2A5-40B0-B628-052ECDDB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FABA-EB1E-4899-A197-E30825D5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5EB3-46E4-4DCC-83A4-C5445FB9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E19E-8D12-40F7-B2CD-DADA1D91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EC63-ACD1-4C56-AF3B-9259D146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9C0-61E2-4797-9C12-A7EB2C94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FE99-24B5-4FE7-BB04-77A5B2A5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6F48-D84A-4910-AF22-D01140C3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85D2-F28A-4996-9BC1-E96E588F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3FE3-3301-454A-BF9A-76A1A7A0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7D4C-88B2-493E-AA7A-0D21B8DA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DB7-E192-4DB2-8A78-53531667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782-E49F-4F2F-B15F-A20BC76D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5CA-D8CE-42E7-B970-1DBE25E9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ACF-9B10-4E25-80E6-3674AB33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871-90FB-47F5-B1D8-3219F572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D66-2DDE-4964-87D3-394A185D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75D-9F54-4B64-981F-59FD8BEF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CDE1-6B8E-4C98-8D7B-0BD7AD6912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08A3-EFB1-4FDC-929A-B1661C5271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1080" y="1066320"/>
            <a:ext cx="6553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ERCOT Update to RMS on the IDR Requirement Transition Projec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808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l Ra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Load Pro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12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urrent IDR Requirement List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223 currently reported as needing IDR installations of wh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,160 First time on report is October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,149  --  Due to lowering threshold to 700 k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68600" indent="233280">
              <a:spcBef>
                <a:spcPts val="34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d by 37 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1  --  Due to demands &gt; 1,000 k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3 On September 2005 report but IDR not yet insta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 --  Currently De-Energiz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6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-  Currently Ac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700 kW (kVA)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DR Requirement List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of Work based on September qu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12 ESI 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05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De-energized (No REP of Rec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ESIIDs on the September query do not appear on the October IDR Requiremen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ed TDSPs and REPs have been no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R Installation Schedules sent to the 35 serving CRs to be completed and forwarded to TDSPs by Sep. 16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Rs submitted completed schedules to TD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nders sent out to CRs for schedules not receiv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chedules received for 271 ESI IDs among 13 C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DR Optional Removal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October 5, 2005 one TDSP reported having received two IDR removal requests … one IDR has been removed and one is i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SPs have been requested to submit updates on any additional removal requests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1:08:05Z</dcterms:created>
  <dc:creator> </dc:creator>
  <dc:description/>
  <dc:language>en-US</dc:language>
  <cp:lastModifiedBy>craish</cp:lastModifiedBy>
  <dcterms:modified xsi:type="dcterms:W3CDTF">2005-10-05T21:13:54Z</dcterms:modified>
  <cp:revision>28</cp:revision>
  <dc:subject/>
  <dc:title>IDR Taskforce Report to 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E85B5003D51B714A8A6436DB6BD21B1D0700F69D146182963C4BBADCC8C900482FB200000012F8A40000F69D146182963C4BBADCC8C900482FB2000001944E5A0000</vt:lpwstr>
  </property>
  <property fmtid="{D5CDD505-2E9C-101B-9397-08002B2CF9AE}" pid="3" name="_NewReviewCycle">
    <vt:lpwstr/>
  </property>
  <property fmtid="{D5CDD505-2E9C-101B-9397-08002B2CF9AE}" pid="4" name="_ReviewCycleID">
    <vt:r8>-1158509993</vt:r8>
  </property>
  <property fmtid="{D5CDD505-2E9C-101B-9397-08002B2CF9AE}" pid="5" name="_TentativeReviewCycleID">
    <vt:r8>-1158509993</vt:r8>
  </property>
</Properties>
</file>