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008813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A9AE-D47F-45DE-B8BC-E0FC9A841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47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CA98-C07D-487D-886E-CFC8580F4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47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D43F-55BA-4B08-A725-76F0197AF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47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447C-7FF1-4053-A8D3-098E63C7D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C0183-53AF-467D-AA6B-115ADE81D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47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4C2BA-3ED6-48CE-934E-CBEEB90FE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47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44B1A-F608-4563-9969-45FD3231A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47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EDF3F-FF37-4386-80B2-0C667B46A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47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725B0-E573-4D61-80C7-9F7A4B453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920" y="214200"/>
            <a:ext cx="77947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0AD7B-8938-46A6-BA07-2BDDAB49A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47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7CA8F-8B19-403E-ACDA-8568C30D6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47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ACA5-02AA-461E-9F39-336344F88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47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579F5-AEBA-45EC-B8A5-65FB93B0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47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984B1-27BB-4451-B448-BEC10408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47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DE397-4D0A-4242-88AA-828657D06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47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9A0B3-2BEE-475E-81B5-F7290F8AF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47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EAA73-3D97-4023-993E-96A79965B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47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037C-C7BE-4B56-800C-A726098CD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47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9F58-EB85-4C07-BD10-2B8A9502A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47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70CE-2D28-4884-92A8-459A11C35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920" y="214200"/>
            <a:ext cx="77947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37E8-2727-460B-94DA-F750F13F6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47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D390-184E-44A8-80B9-8ABEC010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47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D5C5-FF80-4945-B61B-866266C50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47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6647-5E4D-422D-B853-7C055D207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29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47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DA103-5B22-4544-9169-FED6693D9D1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BA4E4-AFFD-46C9-AFA6-04F49955321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1143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MS Issue Request For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4479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October 12, 20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urpo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RMS and its Working groups/Taskforces with clarity and understanding around iss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tructure to the process of receiving, completing, and documenting iss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92080" y="457200"/>
            <a:ext cx="779472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c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sue Request Form is submitted to RMS or its Working group/Taskfo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 form is reviewed and priority is mutually agreed up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ization follows same format as the PRS project prioritization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mitter discusses the issue at the next scheduled WG/TF mee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lution is mutually agreed upon by the submitter and the working group/task fo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, including resolution/recommendation, is presented at the next RMS meeting (if necessar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COT logs the issue, including updates and re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47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commend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rove the Issue Request Form and Issue Request Process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pendi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-4529160" y="473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366480"/>
            <a:ext cx="779436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MS, Working Group, or Taskforce Issue Request For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209680" y="2362320"/>
            <a:ext cx="5639040" cy="4095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2" name=""/>
          <p:cNvGraphicFramePr/>
          <p:nvPr/>
        </p:nvGraphicFramePr>
        <p:xfrm>
          <a:off x="6553080" y="2133720"/>
          <a:ext cx="1219320" cy="95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53080" y="2133720"/>
                    <a:ext cx="121932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verb" presetID="1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6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-4529160" y="473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1052640"/>
            <a:ext cx="77947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MS Issue Request Flo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819520" y="1981080"/>
            <a:ext cx="4630680" cy="44197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943600" y="1981080"/>
            <a:ext cx="2362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Beginning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26840" y="495288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HE EN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600200" y="5334120"/>
          <a:ext cx="1295280" cy="1012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5334120"/>
                    <a:ext cx="1295280" cy="10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1T15:13:16Z</dcterms:created>
  <dc:creator>jtayl13</dc:creator>
  <dc:description/>
  <dc:language>en-US</dc:language>
  <cp:lastModifiedBy>aboren</cp:lastModifiedBy>
  <dcterms:modified xsi:type="dcterms:W3CDTF">2005-10-05T15:55:15Z</dcterms:modified>
  <cp:revision>29</cp:revision>
  <dc:subject/>
  <dc:title>Residential Survey  Task For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399076160</vt:r8>
  </property>
  <property fmtid="{D5CDD505-2E9C-101B-9397-08002B2CF9AE}" pid="3" name="_AuthorEmail">
    <vt:lpwstr>lcao@entergy.com</vt:lpwstr>
  </property>
  <property fmtid="{D5CDD505-2E9C-101B-9397-08002B2CF9AE}" pid="4" name="_AuthorEmailDisplayName">
    <vt:lpwstr>CAO-CONN, LAN</vt:lpwstr>
  </property>
  <property fmtid="{D5CDD505-2E9C-101B-9397-08002B2CF9AE}" pid="5" name="_EmailSubject">
    <vt:lpwstr>RMS Agenda Materials Request</vt:lpwstr>
  </property>
  <property fmtid="{D5CDD505-2E9C-101B-9397-08002B2CF9AE}" pid="6" name="_ReviewingToolsShownOnce">
    <vt:lpwstr/>
  </property>
</Properties>
</file>