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634B-B662-4BCC-8B95-4A6011F7E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941E-336A-43A6-A2B5-5E12E66C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87BD-0825-4D49-BDD9-BC1F17C0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CA42-986A-4D2B-99BD-568F3321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6222-DAC6-405C-9390-BC45FCD6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87C7-82DC-42B4-983E-AFE9ACE6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6EF5-BDD1-461A-B0AF-50E15401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B258-E570-41B9-83D7-4E593A37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CEE0-1767-4385-AB39-9CC3B1B8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3B29-9F4B-43AA-82DF-8E32AA37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163B-C555-43F1-B420-03DA870B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68B8-7878-45F1-9985-C5393D94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F860-6CD4-4CA2-B7AA-E4D6FCA75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120" y="38736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70120" y="1295280"/>
            <a:ext cx="6937200" cy="5580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15840" bIns="1584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905120"/>
            <a:ext cx="754380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arket Participant Defaul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Joint Taskforce Upd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eport on Recen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ustomer Transition Activ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4800600"/>
            <a:ext cx="4190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to 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ober 12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57F3-D50A-4591-A4D0-9AD3FE3B81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ent Customer Transition Activity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P Defaul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467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iday, September 9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initiated the Mass Transition process for the ESI IDs represented by USAVE Energy Services Inc., a Qualified Scheduling Entity (QSE) and Retail Electric Provider (REP) in the ERCOT Re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VE represents approximately 550 ESI IDs and accounting for less than 65 MWh of Load per da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began facilitating daily calls and checkpoints with PUCT and impacted TDSPs and POL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provided TDSPs and POLRs transition ESI ID lists (no customer information availabl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iday, September 16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% of Initiating transactions submitted by POL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Business Day of the transi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D978-0227-48EC-81C7-B77DE488D8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ent Customer Transition Activity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P Defaul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day, October 3,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% of ESI IDs have transitioned away from defaulting R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Rs submitted off-cycle Switches to gain ESI 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R submission ti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POLR submitted same or next day as receipt of l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OLR submitted within 2-3 business 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POLR submitted within 5 business 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A2A3-7D8E-48E3-87DE-21367DA6F9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ent Customer Transition Activity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P Defaul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92468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315200" y="2209680"/>
            <a:ext cx="1523880" cy="1600200"/>
            <a:chOff x="7315200" y="2209680"/>
            <a:chExt cx="1523880" cy="1600200"/>
          </a:xfrm>
        </p:grpSpPr>
        <p:sp>
          <p:nvSpPr>
            <p:cNvPr id="96" name=""/>
            <p:cNvSpPr/>
            <p:nvPr/>
          </p:nvSpPr>
          <p:spPr>
            <a:xfrm>
              <a:off x="7315200" y="2209680"/>
              <a:ext cx="152388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st ESI ID scheduled to  transition aw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7924320" y="3200400"/>
              <a:ext cx="1126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066680" y="4343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487692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9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066680" y="1447920"/>
            <a:ext cx="1981440" cy="2361960"/>
            <a:chOff x="1066680" y="1447920"/>
            <a:chExt cx="1981440" cy="2361960"/>
          </a:xfrm>
        </p:grpSpPr>
        <p:sp>
          <p:nvSpPr>
            <p:cNvPr id="103" name=""/>
            <p:cNvSpPr/>
            <p:nvPr/>
          </p:nvSpPr>
          <p:spPr>
            <a:xfrm>
              <a:off x="1066680" y="1447920"/>
              <a:ext cx="1981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RCOT begins daily checkpoints with impacted TDSPs, POLRs, &amp; PU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1143000" y="2438280"/>
              <a:ext cx="5335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886200" y="472428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9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276720" y="3276720"/>
            <a:ext cx="2286000" cy="838080"/>
            <a:chOff x="3276720" y="3276720"/>
            <a:chExt cx="2286000" cy="838080"/>
          </a:xfrm>
        </p:grpSpPr>
        <p:sp>
          <p:nvSpPr>
            <p:cNvPr id="107" name=""/>
            <p:cNvSpPr/>
            <p:nvPr/>
          </p:nvSpPr>
          <p:spPr>
            <a:xfrm>
              <a:off x="3276720" y="327672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Business Day – 100% of Initiating Transactions s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419720" y="3733920"/>
              <a:ext cx="76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7543800" y="472428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9/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28600" y="2209680"/>
            <a:ext cx="1295280" cy="1676520"/>
            <a:chOff x="228600" y="2209680"/>
            <a:chExt cx="1295280" cy="1676520"/>
          </a:xfrm>
        </p:grpSpPr>
        <p:sp>
          <p:nvSpPr>
            <p:cNvPr id="111" name=""/>
            <p:cNvSpPr/>
            <p:nvPr/>
          </p:nvSpPr>
          <p:spPr>
            <a:xfrm>
              <a:off x="228600" y="2209680"/>
              <a:ext cx="12952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P defaults under Agreements with ERCO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5800" y="320040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066680" y="5715000"/>
            <a:ext cx="685800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transition should be completed in 11 Business or 17 Calendar 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181480"/>
            <a:ext cx="6629400" cy="533520"/>
          </a:xfrm>
          <a:prstGeom prst="rightArrow">
            <a:avLst>
              <a:gd name="adj1" fmla="val 50000"/>
              <a:gd name="adj2" fmla="val 3106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transition in prog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143000" y="2362320"/>
            <a:ext cx="2743200" cy="1523880"/>
            <a:chOff x="1143000" y="2362320"/>
            <a:chExt cx="2743200" cy="1523880"/>
          </a:xfrm>
        </p:grpSpPr>
        <p:sp>
          <p:nvSpPr>
            <p:cNvPr id="116" name=""/>
            <p:cNvSpPr/>
            <p:nvPr/>
          </p:nvSpPr>
          <p:spPr>
            <a:xfrm flipH="1">
              <a:off x="1143000" y="2819520"/>
              <a:ext cx="8380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28800" y="236232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RCOT provides ESI ID list to POLRs &amp; TDSP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295280" y="3124080"/>
            <a:ext cx="2286000" cy="990720"/>
            <a:chOff x="1295280" y="3124080"/>
            <a:chExt cx="2286000" cy="990720"/>
          </a:xfrm>
        </p:grpSpPr>
        <p:sp>
          <p:nvSpPr>
            <p:cNvPr id="119" name=""/>
            <p:cNvSpPr/>
            <p:nvPr/>
          </p:nvSpPr>
          <p:spPr>
            <a:xfrm>
              <a:off x="1752480" y="3124080"/>
              <a:ext cx="1828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 customer info available.  POLRs begin working with TDSP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295280" y="3886200"/>
              <a:ext cx="838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DE64-C00E-4DC0-B144-3A01D40D20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tion Compari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80880" y="1447920"/>
          <a:ext cx="8382240" cy="4263840"/>
        </p:xfrm>
        <a:graphic>
          <a:graphicData uri="http://schemas.openxmlformats.org/drawingml/2006/table">
            <a:tbl>
              <a:tblPr/>
              <a:tblGrid>
                <a:gridCol w="1739880"/>
                <a:gridCol w="1613160"/>
                <a:gridCol w="1676160"/>
                <a:gridCol w="1677960"/>
                <a:gridCol w="167508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kl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iting 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th Be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/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oximate # of ESI I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of Days to Submit Initiating Transac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of Days to Complete Trans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Business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Calend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Business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Calend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Business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Calend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Business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Calend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Expect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457200" y="59436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Average # of Days to Complete Transition: 14 Business/20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C895-B46B-45DC-BD4A-CD2EE2583D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57440" y="2189160"/>
            <a:ext cx="4033800" cy="3740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726C-E49D-48B6-BA87-050585C537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force 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C created RMS/WMS joint taskforc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current procedures for Market Participant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whether improvements can be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 of taskforce is to minimize or eliminate uplift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initial Joint TF mee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triggering event issues to be addressed by W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-triggering event issues to be addressed by 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 meetings will be scheduled 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EFB0-491F-4D29-8ADD-1B8DC67129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S TF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 Mass Transition TF met Monday 08/15/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ed short-term recommendations into a Retail Market Guide Revision Request (RMGR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LSE does not cure, defaulting LSE must provide ERCOT customer information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is to send best available information to POLRs (either ESI ID list or customer information that has been obtained from defaulting RE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event the defaulting LSE cannot provide ERCOT with customer information, POLR is to work with TDSP to obtain existing customer inform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R is to submit off-cycle, unprotected switch based on the first available switch date (currently, six Retail Business days).  These switches must be submitted within five Retail Business days of receipt of ESI ID information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seminar for POLRs, TDSPs, ERCOT, and PUCT Staff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GRR 029 Mass Transition Process was reviewed at the 09/14/05 RMS meeting and remanded back to the task force to review procedure for ESI IDs with a peak demand above 1 M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F4CC-20E7-4F7D-9309-F82A6B80B6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S TF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MS Mass Transition TF met on 10/04/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sions to RMGRR 029 to clarify process to be utilized in the short-term for a mass transition ESI IDs with a peak demand above 1 MW to POL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F recommendations for long-term 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 TX SET develop transactional solution for CR to CR 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 RMS Mass Transition TF develop requirements for a centralized repository for customer inform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meeting of RMS Mass Transition T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rsday, 10/27/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:30 am – 2 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MET, 206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6745-0DAB-44FB-99A7-D5A91CEC85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S TF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of previous WMS TF meetings was the submission of two Protocol Revision Requests (PRR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R 624: Clarification of Market Participant Default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es changes that strengthen or clarify Protocol language that address default situations.  Much of language is based on language drafted for TNT Protoc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ssed at the 09/29/05 PRS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R 625: Clarification of Emergency QS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es changes that strengthen or clarify Protocol language that address when and how Emergency QSEs may be u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urther discussion at the 10/20/05 PRS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E122-13A5-4166-A845-2DD86E5463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Rece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 Transition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864-BD8C-404D-A156-6C8E325EBF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ent Customer Transition Activity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 Exits Mark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day, August 29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P in the ERCOT Region made the business decision to exit the Mark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P represented approximately 600 ESI IDS and 40 MWh of load per d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began facilitating daily calls and checkpoints with PUCT and impacted TDSPs and POL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rovided TDSPs and POLRs transition ESI ID lists and customer information available from R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esday, September 6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business day since distribution of ESI ID list.  Per RMS short-term recommendation, POLRs to have submitted initiating transactions for trans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% of Initiating transactions submitted by POL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3043-FACD-4AA7-BA52-0CC13E6334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ent Customer Transition Activity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 Exits Mark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esday, September 13, 2005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usiness D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Initiating transactions submitted by POL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% of ESI IDs had transitioned away from exiting R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day, September 20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ESI IDs had transitioned away from exiting R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Rs submitted off-cycle Switches to gain ESI 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R submission ti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OLR submitted same or next day as receipt of l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POLR submitted within 2 business 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POLR submitted within 2 - 10 business days (extended time was for minimal number of ESI ID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C302-DCB2-4913-8DAD-148FF6643D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ent Customer Transition Activity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 Exits Mark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2468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38880" y="2438280"/>
            <a:ext cx="1524240" cy="1371600"/>
            <a:chOff x="7238880" y="2438280"/>
            <a:chExt cx="1524240" cy="1371600"/>
          </a:xfrm>
        </p:grpSpPr>
        <p:sp>
          <p:nvSpPr>
            <p:cNvPr id="61" name=""/>
            <p:cNvSpPr/>
            <p:nvPr/>
          </p:nvSpPr>
          <p:spPr>
            <a:xfrm>
              <a:off x="7238880" y="2438280"/>
              <a:ext cx="15242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st ESI ID  transitio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924320" y="3200400"/>
              <a:ext cx="1126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066680" y="4343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4038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487692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8/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066680" y="1447920"/>
            <a:ext cx="1981440" cy="2361960"/>
            <a:chOff x="1066680" y="1447920"/>
            <a:chExt cx="1981440" cy="2361960"/>
          </a:xfrm>
        </p:grpSpPr>
        <p:sp>
          <p:nvSpPr>
            <p:cNvPr id="69" name=""/>
            <p:cNvSpPr/>
            <p:nvPr/>
          </p:nvSpPr>
          <p:spPr>
            <a:xfrm>
              <a:off x="1066680" y="1447920"/>
              <a:ext cx="1981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RCOT begins daily checkpoints with impacted TDSPs, POLRs, &amp; PU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1143000" y="2438280"/>
              <a:ext cx="5335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3733920" y="472428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u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9/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971800" y="3276720"/>
            <a:ext cx="2286000" cy="838080"/>
            <a:chOff x="2971800" y="3276720"/>
            <a:chExt cx="2286000" cy="838080"/>
          </a:xfrm>
        </p:grpSpPr>
        <p:sp>
          <p:nvSpPr>
            <p:cNvPr id="73" name=""/>
            <p:cNvSpPr/>
            <p:nvPr/>
          </p:nvSpPr>
          <p:spPr>
            <a:xfrm>
              <a:off x="2971800" y="327672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Business Day – 99% of Initiating Transactions s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4114800" y="3733920"/>
              <a:ext cx="76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257800" y="472428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u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9/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562360" y="2971800"/>
            <a:ext cx="1752840" cy="990720"/>
            <a:chOff x="5562360" y="2971800"/>
            <a:chExt cx="1752840" cy="990720"/>
          </a:xfrm>
        </p:grpSpPr>
        <p:sp>
          <p:nvSpPr>
            <p:cNvPr id="77" name=""/>
            <p:cNvSpPr/>
            <p:nvPr/>
          </p:nvSpPr>
          <p:spPr>
            <a:xfrm>
              <a:off x="5867280" y="2971800"/>
              <a:ext cx="1447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st switches submitted for tran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5562360" y="365760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7543800" y="472428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9/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28600" y="2209680"/>
            <a:ext cx="1295280" cy="1676520"/>
            <a:chOff x="228600" y="2209680"/>
            <a:chExt cx="1295280" cy="1676520"/>
          </a:xfrm>
        </p:grpSpPr>
        <p:sp>
          <p:nvSpPr>
            <p:cNvPr id="81" name=""/>
            <p:cNvSpPr/>
            <p:nvPr/>
          </p:nvSpPr>
          <p:spPr>
            <a:xfrm>
              <a:off x="228600" y="2209680"/>
              <a:ext cx="12952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P makes business decision to exit the Marke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5800" y="320040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143000" y="2438280"/>
            <a:ext cx="2514600" cy="1447920"/>
            <a:chOff x="1143000" y="2438280"/>
            <a:chExt cx="2514600" cy="1447920"/>
          </a:xfrm>
        </p:grpSpPr>
        <p:sp>
          <p:nvSpPr>
            <p:cNvPr id="84" name=""/>
            <p:cNvSpPr/>
            <p:nvPr/>
          </p:nvSpPr>
          <p:spPr>
            <a:xfrm>
              <a:off x="1752480" y="2438280"/>
              <a:ext cx="19051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RCOT provides ESI ID list and available customer info to POLRs &amp; TDSP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143000" y="3276720"/>
              <a:ext cx="9144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066680" y="5715000"/>
            <a:ext cx="685800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transition completed in 15 Business or 22 Calendar 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5181480"/>
            <a:ext cx="6629400" cy="533520"/>
          </a:xfrm>
          <a:prstGeom prst="rightArrow">
            <a:avLst>
              <a:gd name="adj1" fmla="val 50000"/>
              <a:gd name="adj2" fmla="val 3106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transition in prog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6019920"/>
            <a:ext cx="6858000" cy="5202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rrent customer transition should have completed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Business or 16 Calendar Days per guide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F753-065E-4102-94D0-11D71B221D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hobbs</cp:lastModifiedBy>
  <cp:lastPrinted>2002-08-23T18:53:47Z</cp:lastPrinted>
  <dcterms:modified xsi:type="dcterms:W3CDTF">2005-10-04T20:33:29Z</dcterms:modified>
  <cp:revision>665</cp:revision>
  <dc:subject/>
  <dc:title>PowerPoint Presentation</dc:title>
</cp:coreProperties>
</file>