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BA57-3E41-4090-BBEA-C1D6986D0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29F0-CF2F-49CD-B54E-96EAFE8EA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5A46-BA2B-423F-B0D6-F8677EA30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CA1E-7099-4FE6-98D2-F9C58ADC7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A273-C1AA-4500-9392-B7B995C7D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E90F-FEA4-4BB6-9501-57F021F47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754D-DD47-44F0-A804-871686C51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27BB-BA32-4A3A-8531-D3E2C5862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9091-FE02-4D8A-B93F-834829E6E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4859-77E7-44B5-8908-C1C88C85C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33F6-6744-46B8-B46C-EE982E81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90E0-E53C-4005-A402-14A03E62B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445A-C2A2-4D42-97B1-511BD553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901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nual Validation Suspension Analysis Update to 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35268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2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Test Data Aggregation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bjective: Quantify the settlement impact associated with 2005 Annual Validation Residential Profile Assignme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destar iTest environment set up and refreshed as of 07/30/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ample of 30 days selected between October 2004 – April 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ratified by differences between RESHIWR and RESLOWR profi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se-line data aggregations have been run for all 30 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ile IDs have been updated to reflect Annual Validation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78,000 Residential Assignment chan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ata Aggregation has been re-run to capture the affect of the assignme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re before and after results to estimate differences attributable to AV 200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mary metrics will be UFE and Load Ratio Sh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2CC7-23BA-4FFD-8502-2D6C6246D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Residential Surve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ve is to quantify the accuracy of the 2005 Annual Validation Residential Profile Assignment Chan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 an accurate algorithm to predict presence and use of electric space heating based on the survey responses in conjunction with each responder’s usage history 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ply the algorithm to each of the ESIIDs with Profile Assignment chan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termine the percent of changes which are corre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HIWR with electric he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LOWR without electric he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f the majority of changes are correct then AV 2005 is improving Profile Assignment Accur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rvey stat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1,000 surveys were mailed on August 30 (plus Pilot Survey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turns have been received and process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ponse rate is 11.4% (4,669 returns) as of 09/30/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entry is complete and response data has been provided in electronic form by the Market Research fir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ponse validation is underw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atistical Assignment Algorithm develop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0000"/>
              </a:lnSpc>
              <a:spcBef>
                <a:spcPts val="2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pply algorithm to all ESIIDS with Profile Assignment Changes and determine accurac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5CF0-354D-4EE1-8647-FCDBC9D1A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alysis findings will be presented to PWG in Octo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ings and a PWG recommendation to either suspend or continue with AV 2005 transactions will be presented to RMS in Nov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MS recommendation to TAC and the Board in Decemb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e: based on the Board motion, submission of transactions will commence December 31, 2005 ... Suspension of AV 2005 will require approval of a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AAC5-A895-4582-B40A-368E3029FA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5ACB-57DF-4133-908C-83CE2B58C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boren</cp:lastModifiedBy>
  <dcterms:modified xsi:type="dcterms:W3CDTF">2005-10-05T15:51:25Z</dcterms:modified>
  <cp:revision>120</cp:revision>
  <dc:subject/>
  <dc:title>Slide 1</dc:title>
</cp:coreProperties>
</file>