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1B9B6-8920-49E6-BD28-11BC58D08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BDD1C-F12E-4B3C-B086-CCCC82D9A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442D2-0ADC-4DF8-80AB-B83F54C8F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71F18-8DA2-4F85-992C-6EB078000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D65497-E72F-476C-A807-EA9D8D27A4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69F59-F037-426C-9ADE-7C0866882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7963B-01FB-4129-8B9E-09D8CC0E7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52D78-AAFC-45F3-9878-64374D889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F27C5-4AB0-4932-8951-25869D570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8733F-5B86-4FAC-B924-F59D3074D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62FB3-BC19-4BBD-B84F-01E06D67A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7AB5E-639E-447C-8D4A-6D98BFBB7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31280-FEAB-4172-8E72-29CEC6627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5B1A3-ADBA-4487-8E9A-FAD77C22F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DA0FD-9E0C-4D0D-87F9-2623A3883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A4D44A-4626-45CE-B094-7018593E2B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CBAEAB-CFFD-4541-B434-D6338B8CA0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74175-C554-4C97-8D26-36E9AAD68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76222-840B-45A9-9F67-6321DB27B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A70B1-22CF-4C02-AA2F-02720851B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39633-E2CC-4C5C-BB4A-D09E190C6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1A485-D49E-47A4-A85D-9C26C1F8A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5291A-816F-4EF1-A04D-2318FB45D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1C9A0-0762-4F11-AA93-5D44B3042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8107B-B033-4B5F-8ECC-F1C3CEAE138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A50D4-AA75-4836-AC45-FA46C9B7006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powerofhope.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urricane Rita</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ctober 12, 2005</a:t>
            </a: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urricane Rita’s Aftermath</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worst storm in Entergy history</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the peak, 766,000 customers without power in Texas &amp; Louisiana</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mage to 82 percent of Entergy’s Texas transmission lines and 38 percent of the transmission lines in southwest Louisiana, including all of the lines west of Lafayette. Total of approximately 3,803 line-miles out at the peak.  343 transmission lines and 436 substations out of service.</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 the 14 fossil units owned and/or operated by Entergy, only 2 units remained in operation immediately following the hurricane</a:t>
            </a: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676520" y="1981080"/>
            <a:ext cx="5715000" cy="4292640"/>
          </a:xfrm>
          <a:prstGeom prst="rect">
            <a:avLst/>
          </a:prstGeom>
          <a:ln w="0">
            <a:noFill/>
          </a:ln>
        </p:spPr>
      </p:pic>
      <p:sp>
        <p:nvSpPr>
          <p:cNvPr id="104" name=""/>
          <p:cNvSpPr/>
          <p:nvPr/>
        </p:nvSpPr>
        <p:spPr>
          <a:xfrm>
            <a:off x="917640" y="890640"/>
            <a:ext cx="7137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urricane Rita’s Aftermat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17640" y="890640"/>
            <a:ext cx="7137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urricane Rita’s Aftermath</a:t>
            </a:r>
            <a:endParaRPr b="0" lang="en-US" sz="4400" spc="-1" strike="noStrike">
              <a:solidFill>
                <a:srgbClr val="000000"/>
              </a:solidFill>
              <a:latin typeface="Arial"/>
            </a:endParaRPr>
          </a:p>
        </p:txBody>
      </p:sp>
      <p:pic>
        <p:nvPicPr>
          <p:cNvPr id="106" name="" descr=""/>
          <p:cNvPicPr/>
          <p:nvPr/>
        </p:nvPicPr>
        <p:blipFill>
          <a:blip r:embed="rId1"/>
          <a:stretch/>
        </p:blipFill>
        <p:spPr>
          <a:xfrm>
            <a:off x="1219320" y="1905120"/>
            <a:ext cx="6553080" cy="4532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toration Efforts </a:t>
            </a:r>
            <a:r>
              <a:rPr b="0" lang="en-US" sz="2000" spc="-1" strike="noStrike">
                <a:solidFill>
                  <a:srgbClr val="333399"/>
                </a:solidFill>
                <a:latin typeface="Tahoma"/>
              </a:rPr>
              <a:t>(As of October 4, 2005)</a:t>
            </a:r>
            <a:endParaRPr b="0" lang="en-US" sz="20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000 line and vegetation workers, plus 3,000 support personnel are dedicated to restoring service. Resources from around the country are in the Entergy service territory assisting with the massive restoration efforts. </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5% of customers who lost service as a result of the Hurricane Rita have been restored.  180,000 customers remain without electrical service. </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ransmission system has been repaired sufficiently in the western portion of the Texas service territory that the need no longer exists for customers to curtail demand to avoid possible rolling outages.  However, there are approximately 154 transmission lines and 160 substations out of service.  </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 of the 14 fossil plants have been restored to operations.  The remaining 7 will be restored once offsite power or storm damage repairs are complet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wer of Hope Fund</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nd established to benefit employees and customers in need of assistance in rebuilding their lives after Hurricanes Katrina and Rit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is available at </a:t>
            </a:r>
            <a:r>
              <a:rPr b="0" lang="en-US" sz="3200" spc="-1" strike="noStrike" u="sng">
                <a:solidFill>
                  <a:srgbClr val="ff0000"/>
                </a:solidFill>
                <a:uFillTx/>
                <a:latin typeface="Tahoma"/>
                <a:hlinkClick r:id="rId1"/>
              </a:rPr>
              <a:t>www.powerofhope.com</a:t>
            </a:r>
            <a:r>
              <a:rPr b="0" lang="en-US" sz="3200" spc="-1" strike="noStrike" u="sng">
                <a:solidFill>
                  <a:srgbClr val="000000"/>
                </a:solidFill>
                <a:uFillTx/>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9T20:47:40Z</dcterms:created>
  <dc:creator>lcao</dc:creator>
  <dc:description/>
  <dc:language>en-US</dc:language>
  <cp:lastModifiedBy>lcao</cp:lastModifiedBy>
  <dcterms:modified xsi:type="dcterms:W3CDTF">2005-10-04T21:42:21Z</dcterms:modified>
  <cp:revision>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99522540</vt:r8>
  </property>
  <property fmtid="{D5CDD505-2E9C-101B-9397-08002B2CF9AE}" pid="3" name="_AuthorEmail">
    <vt:lpwstr>lcao@entergy.com</vt:lpwstr>
  </property>
  <property fmtid="{D5CDD505-2E9C-101B-9397-08002B2CF9AE}" pid="4" name="_AuthorEmailDisplayName">
    <vt:lpwstr>CAO-CONN, LAN</vt:lpwstr>
  </property>
  <property fmtid="{D5CDD505-2E9C-101B-9397-08002B2CF9AE}" pid="5" name="_EmailSubject">
    <vt:lpwstr>RMS Agenda Materials Request</vt:lpwstr>
  </property>
</Properties>
</file>