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FF9-1317-439A-B91A-87543115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B04-8803-4A7F-B8B6-4BA8DA52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5AC-53CC-412D-9457-2F0A314F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655-40AB-4116-A165-3D141550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2B0-5065-413C-B784-0AF00945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71F-97B6-4320-8E82-3B3A14DF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38C-B88D-4D56-AB9D-D7A198A3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159-7134-44C2-BA6B-A9DE4533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2C2-710A-4A35-9978-8AAE7BA5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8C3-714D-4A19-9482-05A73358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69F-D017-4C42-93A2-20AF2744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6C8-ABBB-4986-AE6C-49D607E0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6387-FE14-4E13-90AB-1A4F37EC2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tob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of 108 Competitive Retailers reported numbers by the due date for August Reports (09/02/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of 14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November RMS (October Reports) are due by November 2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600200"/>
          <a:ext cx="8229240" cy="457164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,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9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,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,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76520"/>
          <a:ext cx="8076960" cy="4647600"/>
        </p:xfrm>
        <a:graphic>
          <a:graphicData uri="http://schemas.openxmlformats.org/drawingml/2006/table">
            <a:tbl>
              <a:tblPr/>
              <a:tblGrid>
                <a:gridCol w="2259720"/>
                <a:gridCol w="1528200"/>
                <a:gridCol w="1555560"/>
                <a:gridCol w="1367640"/>
                <a:gridCol w="136584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240" cy="457164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600200"/>
          <a:ext cx="8153280" cy="457164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70320"/>
                <a:gridCol w="1380600"/>
                <a:gridCol w="137880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8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9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5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7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9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523880"/>
          <a:ext cx="8229240" cy="487656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1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152920" cy="464796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69960"/>
                <a:gridCol w="1380960"/>
                <a:gridCol w="137844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frederick</cp:lastModifiedBy>
  <cp:lastPrinted>2002-09-24T18:27:58Z</cp:lastPrinted>
  <dcterms:modified xsi:type="dcterms:W3CDTF">2005-10-05T16:32:29Z</dcterms:modified>
  <cp:revision>308</cp:revision>
  <dc:subject/>
  <dc:title>PowerPoint Presentation</dc:title>
</cp:coreProperties>
</file>