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7B02-B49A-4C23-8B5B-4530B7CA2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5A44-D6D0-46BA-A929-51BFFD906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2EB2-E31A-4286-A32E-47F72E1F4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B564-1B8A-4F30-80EE-F26C5E3EA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1709-7FBF-4104-8967-6FF5B7795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AA9C-C685-42C5-A87E-02CD5D133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4159-6E33-40DE-870B-EFA6A5D28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645A-FA95-45A6-845F-F32315E87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7EBC-2224-4FCB-9EC7-C606760906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FB18-5BBE-4650-9370-69F2545A9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D786-2184-4070-95E0-58875CCD7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AA10-A986-4BEB-A1B8-741F5EAD1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83BB-FFE1-4003-B23A-3AA042BAA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retire ESI 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Extracts Working 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ober 15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37160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ut of sync condition concerning Retired ESI IDs has been recognized between Market Participants and ERC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arch has identified 7 ESI IDs that are currently out of sy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ESI IDs have an INACTIVE status in ERCOT systems but are ACTIVE with the TDSP and 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SEs are receiving 867 and 810 transactions and continue to bill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ESI IDs are not a part of the aggregation and settlements process at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CFB4-7F49-4485-8865-819F8E3346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143000"/>
            <a:ext cx="883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Legal provided an interpretation of protocol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may not un-retire ESI IDs per sections 15.4 &amp; 15.4.1.3. For these sections, a retirement is a retirement whether mistaken or otherwise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ata Extract Working Group (DEWG) has submitted PRR634 to clarify the language of these protocol sections and to allow ESI IDs to be un-retired.  PRR634 was reviewed and endorsed at the September DEWG and COPS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provided options to resolve these issues through the DEV process and presented them at the September DEWG meet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9F76-038D-479D-AF6E-BD723059E7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7160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the October meeting (10/13/05), DEWG will recommend a new DEV process to correct out of sync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urrent out of sync ESI IDs will be corrected – presumably through the new DEV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5167-7CD2-43CA-9630-91002E4C09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95280" y="274320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Arial"/>
              </a:rPr>
              <a:t>Questions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7BAB-0B1A-41D5-8E09-04A74909DD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Ann Boren</cp:lastModifiedBy>
  <dcterms:modified xsi:type="dcterms:W3CDTF">2005-10-10T19:51:12Z</dcterms:modified>
  <cp:revision>283</cp:revision>
  <dc:subject/>
  <dc:title>Slide 1</dc:title>
</cp:coreProperties>
</file>