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C76-993F-429F-A8AB-E84807A8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111D-68DF-4060-950D-970AEC3F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D14-3D53-4DB2-B6E1-DDD9485C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ED7-5A9B-49E7-8A40-EC9D1EE9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900-9D5D-4400-8208-8AA0CAD5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B6A-A600-40A9-B12C-0D30E43B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423-DBB5-4748-9C73-75EDFD62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6B5-3030-479E-8350-697B3A8D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62D-60A2-4040-877F-9D1BBCE6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C2F-0E3F-494D-AAA8-9661E41E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72E-3322-4AFA-B13F-39393003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A72-B41A-4BC3-B465-EB81214C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6BCD-F97A-47CB-93F2-6D67CDA05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X SET V2.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Coordination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600200"/>
            <a:ext cx="838224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lea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zette Wilb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2) 248-3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lburn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COT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/EC Entrance to Texas Deregulated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Transactional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icient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process soli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 all approved Change Controls as identified by the TX SET Working Group for market-wid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coordination, clarification of issues, and documentation for v2.1 Change Controls through the Market Coordination Team (MCT)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the MOU/EC entrance into the Texas deregulated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Disconnect for Non-Pa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additional billing determinants to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Market Requirements from TX SET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600200"/>
            <a:ext cx="8308800" cy="48006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March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Completed May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Goal to complete December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Goal to complete late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ted RMGRRs to 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ted PRRs to 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1005 Under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of Texas SET Version 2.1 in Flight 1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Weekend – December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676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April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internal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Completed May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pleted July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August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November 17th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November 2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828800"/>
            <a:ext cx="754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 Market Guide Re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GRR030 posted on September 2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 approved vote for Urgency Status on September 2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ions will be voted on at today’s RMS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Re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R636 and PRR637 posted on September 2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unce to PRS on September 2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be discussed at next PRS Meeting on October 2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1005 Unde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Texas SET Version 2.1 status provided in Flight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ctober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Meeting in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Plan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erence Call Information Distrib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T Materials can be found on the ERCOT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Market Participants &amp; Stakeh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exas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Key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Related Working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Version 2.1 Market Coordination Team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swilburn</cp:lastModifiedBy>
  <dcterms:modified xsi:type="dcterms:W3CDTF">2005-10-03T18:59:38Z</dcterms:modified>
  <cp:revision>40</cp:revision>
  <dc:subject/>
  <dc:title>Slide 1</dc:title>
</cp:coreProperties>
</file>