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535-29A5-493E-AD22-79D225F1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DA4-A7AD-4427-BB07-82B9DAFD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4A7-94C2-4E87-9551-CC7D4DEA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BC4-B6B8-40ED-B5A1-5349EDA3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9EE-C77D-4558-9A06-51A94060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C6E-157D-412E-A53E-AAECCBF5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447-4D6E-4686-9205-F759F383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1B3-7713-4D02-B582-6F44EA6D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27D-D927-4A9D-B735-C3B46900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82C-14A9-41C1-8AF8-45CB06A4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D66-E544-4CE9-A857-6C7121F2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127-946B-4007-AD7E-0EED19F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A48C-0A41-40D6-95F0-40EB85396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990720"/>
            <a:ext cx="8156520" cy="54864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ntly Completed Task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ena software and services agreement finalized (including SOW and M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Work flow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up of development environment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estions from October RMS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risk associated with the dependency on SOA MID project for integration components needed by AP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very low; implementation of MID is scheduled for mid-Nov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will the final schedule be announc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inal schedule for Execution &amp; Implementation will be delivered after completion of the Planning phase in October and communicated to RMS in Nov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impacts to the 2006 project budget on the PP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 budget needs will be finalized after completion of the Planning phase in October and communicated to RMS in Nove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xt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eting with MPs on October 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Tentative agenda ite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rules discu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changes to FasTrak Gu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changes to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schedule overview for finalization consi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-level estimates for impacts to 2006 project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 of new Serena Software to be used for FasTrak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 Execution schedule and project cost information to RMS in Nov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6840" y="68580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65070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October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65070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5-10-04T21:33:02Z</dcterms:modified>
  <cp:revision>193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