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21B-124C-4C98-A9A7-DB7578DE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B0F-AC0C-46D2-95C1-849D9304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19E-37A8-4318-B067-F6787692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45F-4F5A-4D62-9BA4-F3C8D88E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507-2AC4-4672-A1BC-0F9CFEB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825-9E91-410F-9375-3CBFCE76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704-1909-4517-8278-225536E7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0F3-35B7-4F5D-938B-61DB9276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715-C48E-4495-A46B-0A80DC5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D1-1E86-40C7-8B50-6B2F3B48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2D1-782C-41B1-91B5-FFD9D6C5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5A4-5DE2-417B-ABB9-2D23FE2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6EEB-48EA-4A94-9CD3-8954E09D1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C49-2FDE-4828-8266-C6A5DF7089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981080"/>
          <a:ext cx="5334120" cy="33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5334120" cy="33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791320" y="259092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6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207-6999-4780-8D62-A5BB1BFF18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286000"/>
            <a:ext cx="327636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8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5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9,7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3080" y="2133720"/>
          <a:ext cx="504180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418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DE4-4BD4-4878-B8B1-FC6C9FA19C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514600"/>
            <a:ext cx="3214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,57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1200" y="1905120"/>
          <a:ext cx="509292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905120"/>
                    <a:ext cx="509292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943-2B58-43B2-B177-39062020CE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9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49200" y="1752480"/>
          <a:ext cx="8456760" cy="38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752480"/>
                    <a:ext cx="845676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 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D4B-41F1-4F63-93BF-98DEC6A615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9/29/200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14400" y="1447920"/>
          <a:ext cx="7442280" cy="29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4228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EF7-A579-4F9D-BB09-C395D981A1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382240" cy="26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760-29E6-4AE2-816A-9CFD8E99B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962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853-71EF-46D9-9C04-FF92618B2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A93-66F5-4049-BAEE-7F2D42945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7A4-2B95-4A61-B893-A2C7E596AA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91C-DC74-4325-9AFE-2747C8F399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ACB-6923-4BE6-893B-BA25C003B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4C9-2722-461D-926C-857288537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/29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66680"/>
          <a:ext cx="5334120" cy="25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341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3886200"/>
          <a:ext cx="6324480" cy="21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86200"/>
                    <a:ext cx="63244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4D5-4C75-41F9-9101-2387E3FD74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ercot</cp:lastModifiedBy>
  <cp:lastPrinted>2002-09-24T18:27:58Z</cp:lastPrinted>
  <dcterms:modified xsi:type="dcterms:W3CDTF">2005-10-04T19:31:07Z</dcterms:modified>
  <cp:revision>605</cp:revision>
  <dc:subject/>
  <dc:title>PowerPoint Presentation</dc:title>
</cp:coreProperties>
</file>