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A485-EC39-4E71-9D4E-5B1B91674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B11D-1A46-4E80-B275-64169592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AA77-D689-4BBB-8078-F07F89EA4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E9B0-5CA8-43F0-AF04-964C8A49C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DF90-DE85-44E2-A731-D02AFBB8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3891-CADD-4650-8E84-791637A9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F547-E0D2-44A6-82A8-429FA693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3FF9-534B-4551-8978-6D5B4D14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69C3-DE1F-4E01-8C6B-EF02D8EE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5114-DD00-4385-895A-FBBF3504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B5C5-3815-4A1F-9109-6F2225CD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1B87-2E14-41CF-9EEA-BA320E73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F2D1-DF65-4A72-BD1E-DE41AA38B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971800"/>
            <a:ext cx="6858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Protocol Evolutio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 Revision Subcommitte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ember 22, 2005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hard Gru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90720"/>
            <a:ext cx="82296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391520" y="228600"/>
            <a:ext cx="1295280" cy="696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Protocol Evolu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74680"/>
            <a:ext cx="6858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90720"/>
            <a:ext cx="82296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391520" y="228600"/>
            <a:ext cx="1295280" cy="696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9480" y="1371600"/>
            <a:ext cx="7940880" cy="43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Focus on activity most critical to the critical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Proven/familiar/important features of our current PR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ent peri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k ch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ard approval to effectuate Protocol chang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will be continuous pre and post PUCT decisions, there is no end point, no sync completion - thus protocol “Evolu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calation process to Board or PUCT exists today and will tomorrow – helps keep process and outcome accoun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that can support/compliment PUCT Nodal delib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t use of resour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Protocol Evolu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3825720" y="2768400"/>
            <a:ext cx="1803600" cy="2489400"/>
            <a:chOff x="3825720" y="2768400"/>
            <a:chExt cx="1803600" cy="2489400"/>
          </a:xfrm>
        </p:grpSpPr>
        <p:grpSp>
          <p:nvGrpSpPr>
            <p:cNvPr id="49" name=""/>
            <p:cNvGrpSpPr/>
            <p:nvPr/>
          </p:nvGrpSpPr>
          <p:grpSpPr>
            <a:xfrm>
              <a:off x="4724280" y="3352680"/>
              <a:ext cx="905040" cy="838440"/>
              <a:chOff x="4724280" y="3352680"/>
              <a:chExt cx="905040" cy="838440"/>
            </a:xfrm>
          </p:grpSpPr>
          <p:sp>
            <p:nvSpPr>
              <p:cNvPr id="50" name=""/>
              <p:cNvSpPr/>
              <p:nvPr/>
            </p:nvSpPr>
            <p:spPr>
              <a:xfrm>
                <a:off x="4724280" y="3352680"/>
                <a:ext cx="507960" cy="5335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800600" y="3429000"/>
                <a:ext cx="507960" cy="5335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4867200" y="3505320"/>
                <a:ext cx="762120" cy="685800"/>
                <a:chOff x="4867200" y="3505320"/>
                <a:chExt cx="762120" cy="68580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4867200" y="3505320"/>
                  <a:ext cx="507960" cy="5331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4951440" y="3581280"/>
                  <a:ext cx="507960" cy="5335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5037120" y="3657600"/>
                  <a:ext cx="592200" cy="5335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Updated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Noda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Protocol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56" name=""/>
            <p:cNvCxnSpPr/>
            <p:nvPr/>
          </p:nvCxnSpPr>
          <p:spPr>
            <a:xfrm>
              <a:off x="4044600" y="2768400"/>
              <a:ext cx="747000" cy="9658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  <a:tailEnd len="med" type="triangle" w="lg"/>
            </a:ln>
          </p:spPr>
        </p:cxnSp>
        <p:cxnSp>
          <p:nvCxnSpPr>
            <p:cNvPr id="57" name=""/>
            <p:cNvCxnSpPr/>
            <p:nvPr/>
          </p:nvCxnSpPr>
          <p:spPr>
            <a:xfrm flipV="1">
              <a:off x="3825720" y="3885840"/>
              <a:ext cx="966240" cy="1372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</p:grpSp>
      <p:grpSp>
        <p:nvGrpSpPr>
          <p:cNvPr id="58" name=""/>
          <p:cNvGrpSpPr/>
          <p:nvPr/>
        </p:nvGrpSpPr>
        <p:grpSpPr>
          <a:xfrm>
            <a:off x="6416280" y="1879560"/>
            <a:ext cx="2346840" cy="1625760"/>
            <a:chOff x="6416280" y="1879560"/>
            <a:chExt cx="2346840" cy="1625760"/>
          </a:xfrm>
        </p:grpSpPr>
        <p:grpSp>
          <p:nvGrpSpPr>
            <p:cNvPr id="59" name=""/>
            <p:cNvGrpSpPr/>
            <p:nvPr/>
          </p:nvGrpSpPr>
          <p:grpSpPr>
            <a:xfrm>
              <a:off x="7696080" y="1879560"/>
              <a:ext cx="1067040" cy="1015560"/>
              <a:chOff x="7696080" y="1879560"/>
              <a:chExt cx="1067040" cy="1015560"/>
            </a:xfrm>
          </p:grpSpPr>
          <p:sp>
            <p:nvSpPr>
              <p:cNvPr id="60" name=""/>
              <p:cNvSpPr/>
              <p:nvPr/>
            </p:nvSpPr>
            <p:spPr>
              <a:xfrm>
                <a:off x="7696080" y="1879560"/>
                <a:ext cx="495360" cy="533160"/>
              </a:xfrm>
              <a:prstGeom prst="rect">
                <a:avLst/>
              </a:prstGeom>
              <a:solidFill>
                <a:srgbClr val="ffcc99">
                  <a:alpha val="8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772400" y="1981080"/>
                <a:ext cx="495360" cy="532800"/>
              </a:xfrm>
              <a:prstGeom prst="rect">
                <a:avLst/>
              </a:prstGeom>
              <a:solidFill>
                <a:srgbClr val="ffcc99">
                  <a:alpha val="8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854840" y="2057040"/>
                <a:ext cx="495360" cy="533160"/>
              </a:xfrm>
              <a:prstGeom prst="rect">
                <a:avLst/>
              </a:prstGeom>
              <a:solidFill>
                <a:srgbClr val="ffcc99">
                  <a:alpha val="8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937640" y="2133360"/>
                <a:ext cx="495000" cy="533160"/>
              </a:xfrm>
              <a:prstGeom prst="rect">
                <a:avLst/>
              </a:prstGeom>
              <a:solidFill>
                <a:srgbClr val="ffcc99">
                  <a:alpha val="8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020080" y="2209680"/>
                <a:ext cx="495360" cy="532800"/>
              </a:xfrm>
              <a:prstGeom prst="rect">
                <a:avLst/>
              </a:prstGeom>
              <a:solidFill>
                <a:srgbClr val="bbe0e3">
                  <a:alpha val="8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102520" y="2285640"/>
                <a:ext cx="495360" cy="533160"/>
              </a:xfrm>
              <a:prstGeom prst="rect">
                <a:avLst/>
              </a:prstGeom>
              <a:solidFill>
                <a:srgbClr val="bbe0e3">
                  <a:alpha val="8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185320" y="2361960"/>
                <a:ext cx="577800" cy="533160"/>
              </a:xfrm>
              <a:prstGeom prst="rect">
                <a:avLst/>
              </a:prstGeom>
              <a:solidFill>
                <a:srgbClr val="ffcc99">
                  <a:alpha val="8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ERCO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Protocol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w/ Noda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67" name=""/>
            <p:cNvCxnSpPr/>
            <p:nvPr/>
          </p:nvCxnSpPr>
          <p:spPr>
            <a:xfrm flipV="1">
              <a:off x="7543440" y="2971440"/>
              <a:ext cx="762840" cy="5342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68" name=""/>
            <p:cNvCxnSpPr/>
            <p:nvPr/>
          </p:nvCxnSpPr>
          <p:spPr>
            <a:xfrm>
              <a:off x="6416280" y="2514240"/>
              <a:ext cx="12042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</p:cxnSp>
      </p:grpSp>
      <p:grpSp>
        <p:nvGrpSpPr>
          <p:cNvPr id="69" name=""/>
          <p:cNvGrpSpPr/>
          <p:nvPr/>
        </p:nvGrpSpPr>
        <p:grpSpPr>
          <a:xfrm>
            <a:off x="3063960" y="1219320"/>
            <a:ext cx="1447560" cy="4724280"/>
            <a:chOff x="3063960" y="1219320"/>
            <a:chExt cx="1447560" cy="4724280"/>
          </a:xfrm>
        </p:grpSpPr>
        <p:grpSp>
          <p:nvGrpSpPr>
            <p:cNvPr id="70" name=""/>
            <p:cNvGrpSpPr/>
            <p:nvPr/>
          </p:nvGrpSpPr>
          <p:grpSpPr>
            <a:xfrm>
              <a:off x="3521160" y="1219320"/>
              <a:ext cx="990360" cy="4724280"/>
              <a:chOff x="3521160" y="1219320"/>
              <a:chExt cx="990360" cy="4724280"/>
            </a:xfrm>
          </p:grpSpPr>
          <p:grpSp>
            <p:nvGrpSpPr>
              <p:cNvPr id="71" name=""/>
              <p:cNvGrpSpPr/>
              <p:nvPr/>
            </p:nvGrpSpPr>
            <p:grpSpPr>
              <a:xfrm>
                <a:off x="3749760" y="5257800"/>
                <a:ext cx="761040" cy="685800"/>
                <a:chOff x="3749760" y="5257800"/>
                <a:chExt cx="761040" cy="68580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3749760" y="5257800"/>
                  <a:ext cx="507600" cy="533520"/>
                </a:xfrm>
                <a:prstGeom prst="rect">
                  <a:avLst/>
                </a:prstGeom>
                <a:solidFill>
                  <a:srgbClr val="bbe0e3">
                    <a:alpha val="85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3834360" y="5334120"/>
                  <a:ext cx="507600" cy="533520"/>
                </a:xfrm>
                <a:prstGeom prst="rect">
                  <a:avLst/>
                </a:prstGeom>
                <a:solidFill>
                  <a:srgbClr val="bbe0e3">
                    <a:alpha val="85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918960" y="5410440"/>
                  <a:ext cx="591840" cy="533160"/>
                </a:xfrm>
                <a:prstGeom prst="rect">
                  <a:avLst/>
                </a:prstGeom>
                <a:solidFill>
                  <a:srgbClr val="bbe0e3">
                    <a:alpha val="85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Filed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Noda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Protocol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3521160" y="1854360"/>
                <a:ext cx="990360" cy="914400"/>
                <a:chOff x="3521160" y="1854360"/>
                <a:chExt cx="990360" cy="9144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3521160" y="1854360"/>
                  <a:ext cx="495360" cy="533160"/>
                </a:xfrm>
                <a:prstGeom prst="rect">
                  <a:avLst/>
                </a:prstGeom>
                <a:solidFill>
                  <a:srgbClr val="ffcc99">
                    <a:alpha val="85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603600" y="1930320"/>
                  <a:ext cx="495360" cy="533520"/>
                </a:xfrm>
                <a:prstGeom prst="rect">
                  <a:avLst/>
                </a:prstGeom>
                <a:solidFill>
                  <a:srgbClr val="ffcc99">
                    <a:alpha val="85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686040" y="2006640"/>
                  <a:ext cx="495360" cy="533520"/>
                </a:xfrm>
                <a:prstGeom prst="rect">
                  <a:avLst/>
                </a:prstGeom>
                <a:solidFill>
                  <a:srgbClr val="ffcc99">
                    <a:alpha val="85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3768840" y="2082960"/>
                  <a:ext cx="495360" cy="533160"/>
                </a:xfrm>
                <a:prstGeom prst="rect">
                  <a:avLst/>
                </a:prstGeom>
                <a:solidFill>
                  <a:srgbClr val="bbe0e3">
                    <a:alpha val="85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3851280" y="2158920"/>
                  <a:ext cx="495360" cy="533520"/>
                </a:xfrm>
                <a:prstGeom prst="rect">
                  <a:avLst/>
                </a:prstGeom>
                <a:solidFill>
                  <a:srgbClr val="bbe0e3">
                    <a:alpha val="85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933720" y="2235240"/>
                  <a:ext cx="577800" cy="533520"/>
                </a:xfrm>
                <a:prstGeom prst="rect">
                  <a:avLst/>
                </a:prstGeom>
                <a:solidFill>
                  <a:srgbClr val="ffcc99">
                    <a:alpha val="85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ERCOT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Protocol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" name=""/>
              <p:cNvSpPr/>
              <p:nvPr/>
            </p:nvSpPr>
            <p:spPr>
              <a:xfrm>
                <a:off x="3578400" y="1219320"/>
                <a:ext cx="857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/0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3" name=""/>
            <p:cNvCxnSpPr/>
            <p:nvPr/>
          </p:nvCxnSpPr>
          <p:spPr>
            <a:xfrm>
              <a:off x="3063960" y="5638320"/>
              <a:ext cx="4579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84" name=""/>
            <p:cNvCxnSpPr/>
            <p:nvPr/>
          </p:nvCxnSpPr>
          <p:spPr>
            <a:xfrm>
              <a:off x="3063960" y="2437920"/>
              <a:ext cx="4579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</p:cxnSp>
      </p:grpSp>
      <p:cxnSp>
        <p:nvCxnSpPr>
          <p:cNvPr id="85" name=""/>
          <p:cNvCxnSpPr>
            <a:stCxn id="86" idx="0"/>
            <a:endCxn id="87" idx="3"/>
          </p:cNvCxnSpPr>
          <p:nvPr/>
        </p:nvCxnSpPr>
        <p:spPr>
          <a:xfrm flipV="1">
            <a:off x="2415960" y="2615760"/>
            <a:ext cx="1080" cy="271872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</p:cxnSp>
      <p:grpSp>
        <p:nvGrpSpPr>
          <p:cNvPr id="88" name=""/>
          <p:cNvGrpSpPr/>
          <p:nvPr/>
        </p:nvGrpSpPr>
        <p:grpSpPr>
          <a:xfrm>
            <a:off x="1387440" y="2158920"/>
            <a:ext cx="1600200" cy="3632400"/>
            <a:chOff x="1387440" y="2158920"/>
            <a:chExt cx="1600200" cy="3632400"/>
          </a:xfrm>
        </p:grpSpPr>
        <p:grpSp>
          <p:nvGrpSpPr>
            <p:cNvPr id="89" name=""/>
            <p:cNvGrpSpPr/>
            <p:nvPr/>
          </p:nvGrpSpPr>
          <p:grpSpPr>
            <a:xfrm>
              <a:off x="1844640" y="2158920"/>
              <a:ext cx="1143000" cy="457200"/>
              <a:chOff x="1844640" y="2158920"/>
              <a:chExt cx="1143000" cy="457200"/>
            </a:xfrm>
          </p:grpSpPr>
          <p:sp>
            <p:nvSpPr>
              <p:cNvPr id="90" name=""/>
              <p:cNvSpPr/>
              <p:nvPr/>
            </p:nvSpPr>
            <p:spPr>
              <a:xfrm>
                <a:off x="1844640" y="2311200"/>
                <a:ext cx="228600" cy="15264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996920" y="2463840"/>
                <a:ext cx="228600" cy="15228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606400" y="2158920"/>
                <a:ext cx="228600" cy="15228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301840" y="2158920"/>
                <a:ext cx="228600" cy="15228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996920" y="2158920"/>
                <a:ext cx="228600" cy="15228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59040" y="2311200"/>
                <a:ext cx="228600" cy="15264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606400" y="2463840"/>
                <a:ext cx="228600" cy="15228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454120" y="2311200"/>
                <a:ext cx="228600" cy="15264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301840" y="2463840"/>
                <a:ext cx="228600" cy="15228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149200" y="2311200"/>
                <a:ext cx="228600" cy="15264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1844640" y="5334120"/>
              <a:ext cx="1143000" cy="457200"/>
              <a:chOff x="1844640" y="5334120"/>
              <a:chExt cx="1143000" cy="457200"/>
            </a:xfrm>
          </p:grpSpPr>
          <p:sp>
            <p:nvSpPr>
              <p:cNvPr id="100" name=""/>
              <p:cNvSpPr/>
              <p:nvPr/>
            </p:nvSpPr>
            <p:spPr>
              <a:xfrm>
                <a:off x="1844640" y="5486400"/>
                <a:ext cx="228600" cy="15264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996920" y="5639040"/>
                <a:ext cx="228600" cy="15228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606400" y="5334120"/>
                <a:ext cx="228600" cy="15228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301840" y="5334120"/>
                <a:ext cx="228600" cy="15228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96920" y="5334120"/>
                <a:ext cx="228600" cy="15228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759040" y="5486400"/>
                <a:ext cx="228600" cy="15264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606400" y="5639040"/>
                <a:ext cx="228600" cy="15228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454120" y="5486400"/>
                <a:ext cx="228600" cy="15264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301840" y="5639040"/>
                <a:ext cx="228600" cy="15228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149200" y="5486400"/>
                <a:ext cx="228600" cy="15264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09" name=""/>
            <p:cNvCxnSpPr/>
            <p:nvPr/>
          </p:nvCxnSpPr>
          <p:spPr>
            <a:xfrm>
              <a:off x="1387440" y="5638320"/>
              <a:ext cx="3816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110" name=""/>
            <p:cNvCxnSpPr/>
            <p:nvPr/>
          </p:nvCxnSpPr>
          <p:spPr>
            <a:xfrm>
              <a:off x="1387440" y="2437920"/>
              <a:ext cx="3816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</p:cxnSp>
      </p:grpSp>
      <p:grpSp>
        <p:nvGrpSpPr>
          <p:cNvPr id="111" name=""/>
          <p:cNvGrpSpPr/>
          <p:nvPr/>
        </p:nvGrpSpPr>
        <p:grpSpPr>
          <a:xfrm>
            <a:off x="380880" y="1219320"/>
            <a:ext cx="1006200" cy="4724280"/>
            <a:chOff x="380880" y="1219320"/>
            <a:chExt cx="1006200" cy="4724280"/>
          </a:xfrm>
        </p:grpSpPr>
        <p:grpSp>
          <p:nvGrpSpPr>
            <p:cNvPr id="112" name=""/>
            <p:cNvGrpSpPr/>
            <p:nvPr/>
          </p:nvGrpSpPr>
          <p:grpSpPr>
            <a:xfrm>
              <a:off x="380880" y="1219320"/>
              <a:ext cx="1006200" cy="4724280"/>
              <a:chOff x="380880" y="1219320"/>
              <a:chExt cx="1006200" cy="472428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396720" y="1854360"/>
                <a:ext cx="990000" cy="914400"/>
                <a:chOff x="396720" y="1854360"/>
                <a:chExt cx="990000" cy="91440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396720" y="1854360"/>
                  <a:ext cx="495000" cy="533520"/>
                </a:xfrm>
                <a:prstGeom prst="rect">
                  <a:avLst/>
                </a:prstGeom>
                <a:solidFill>
                  <a:srgbClr val="ffcc99">
                    <a:alpha val="85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479160" y="1930680"/>
                  <a:ext cx="495000" cy="533160"/>
                </a:xfrm>
                <a:prstGeom prst="rect">
                  <a:avLst/>
                </a:prstGeom>
                <a:solidFill>
                  <a:srgbClr val="ffcc99">
                    <a:alpha val="85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561600" y="2006640"/>
                  <a:ext cx="495000" cy="533520"/>
                </a:xfrm>
                <a:prstGeom prst="rect">
                  <a:avLst/>
                </a:prstGeom>
                <a:solidFill>
                  <a:srgbClr val="ffcc99">
                    <a:alpha val="85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644040" y="2082960"/>
                  <a:ext cx="495000" cy="533520"/>
                </a:xfrm>
                <a:prstGeom prst="rect">
                  <a:avLst/>
                </a:prstGeom>
                <a:solidFill>
                  <a:srgbClr val="ffcc99">
                    <a:alpha val="85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26840" y="2159280"/>
                  <a:ext cx="495000" cy="533160"/>
                </a:xfrm>
                <a:prstGeom prst="rect">
                  <a:avLst/>
                </a:prstGeom>
                <a:solidFill>
                  <a:srgbClr val="ffcc99">
                    <a:alpha val="85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808920" y="2235240"/>
                  <a:ext cx="577800" cy="533520"/>
                </a:xfrm>
                <a:prstGeom prst="rect">
                  <a:avLst/>
                </a:prstGeom>
                <a:solidFill>
                  <a:srgbClr val="ffcc99">
                    <a:alpha val="85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ERCOT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Protocol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625320" y="5257800"/>
                <a:ext cx="761040" cy="685800"/>
                <a:chOff x="625320" y="5257800"/>
                <a:chExt cx="761040" cy="68580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625320" y="5257800"/>
                  <a:ext cx="507600" cy="533520"/>
                </a:xfrm>
                <a:prstGeom prst="rect">
                  <a:avLst/>
                </a:prstGeom>
                <a:solidFill>
                  <a:srgbClr val="bbe0e3">
                    <a:alpha val="85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09920" y="5334120"/>
                  <a:ext cx="507600" cy="533520"/>
                </a:xfrm>
                <a:prstGeom prst="rect">
                  <a:avLst/>
                </a:prstGeom>
                <a:solidFill>
                  <a:srgbClr val="bbe0e3">
                    <a:alpha val="85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94520" y="5410440"/>
                  <a:ext cx="591840" cy="533160"/>
                </a:xfrm>
                <a:prstGeom prst="rect">
                  <a:avLst/>
                </a:prstGeom>
                <a:solidFill>
                  <a:srgbClr val="bbe0e3">
                    <a:alpha val="85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Bas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Noda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Protocol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" name=""/>
              <p:cNvSpPr/>
              <p:nvPr/>
            </p:nvSpPr>
            <p:spPr>
              <a:xfrm>
                <a:off x="380880" y="1219320"/>
                <a:ext cx="1006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/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1006560" y="2895480"/>
              <a:ext cx="0" cy="228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511520" y="2209680"/>
            <a:ext cx="2361960" cy="3733920"/>
            <a:chOff x="4511520" y="2209680"/>
            <a:chExt cx="2361960" cy="3733920"/>
          </a:xfrm>
        </p:grpSpPr>
        <p:grpSp>
          <p:nvGrpSpPr>
            <p:cNvPr id="127" name=""/>
            <p:cNvGrpSpPr/>
            <p:nvPr/>
          </p:nvGrpSpPr>
          <p:grpSpPr>
            <a:xfrm>
              <a:off x="4511520" y="2209680"/>
              <a:ext cx="2057760" cy="3675240"/>
              <a:chOff x="4511520" y="2209680"/>
              <a:chExt cx="2057760" cy="3675240"/>
            </a:xfrm>
          </p:grpSpPr>
          <p:cxnSp>
            <p:nvCxnSpPr>
              <p:cNvPr id="128" name=""/>
              <p:cNvCxnSpPr/>
              <p:nvPr/>
            </p:nvCxnSpPr>
            <p:spPr>
              <a:xfrm>
                <a:off x="4511520" y="5638320"/>
                <a:ext cx="144864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lg"/>
              </a:ln>
            </p:spPr>
          </p:cxnSp>
          <p:grpSp>
            <p:nvGrpSpPr>
              <p:cNvPr id="129" name=""/>
              <p:cNvGrpSpPr/>
              <p:nvPr/>
            </p:nvGrpSpPr>
            <p:grpSpPr>
              <a:xfrm>
                <a:off x="5045040" y="2209680"/>
                <a:ext cx="1219320" cy="1651320"/>
                <a:chOff x="5045040" y="2209680"/>
                <a:chExt cx="1219320" cy="1651320"/>
              </a:xfrm>
            </p:grpSpPr>
            <p:grpSp>
              <p:nvGrpSpPr>
                <p:cNvPr id="130" name=""/>
                <p:cNvGrpSpPr/>
                <p:nvPr/>
              </p:nvGrpSpPr>
              <p:grpSpPr>
                <a:xfrm>
                  <a:off x="5045040" y="2209680"/>
                  <a:ext cx="1143000" cy="457200"/>
                  <a:chOff x="5045040" y="2209680"/>
                  <a:chExt cx="1143000" cy="457200"/>
                </a:xfrm>
              </p:grpSpPr>
              <p:grpSp>
                <p:nvGrpSpPr>
                  <p:cNvPr id="131" name=""/>
                  <p:cNvGrpSpPr/>
                  <p:nvPr/>
                </p:nvGrpSpPr>
                <p:grpSpPr>
                  <a:xfrm>
                    <a:off x="5045040" y="2209680"/>
                    <a:ext cx="1143000" cy="457200"/>
                    <a:chOff x="5045040" y="2209680"/>
                    <a:chExt cx="1143000" cy="457200"/>
                  </a:xfrm>
                </p:grpSpPr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5045040" y="2361960"/>
                      <a:ext cx="228600" cy="152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5197680" y="2514600"/>
                      <a:ext cx="228600" cy="1522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5807160" y="2209680"/>
                      <a:ext cx="228600" cy="1522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5502240" y="2209680"/>
                      <a:ext cx="228600" cy="1522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5197680" y="2209680"/>
                      <a:ext cx="228600" cy="1522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5959440" y="2361960"/>
                      <a:ext cx="228600" cy="152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5807160" y="2514600"/>
                      <a:ext cx="228600" cy="1522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5654880" y="2361960"/>
                      <a:ext cx="228600" cy="152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5502240" y="2514600"/>
                      <a:ext cx="228600" cy="1522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5349960" y="2361960"/>
                      <a:ext cx="228600" cy="152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" name=""/>
                  <p:cNvSpPr/>
                  <p:nvPr/>
                </p:nvSpPr>
                <p:spPr>
                  <a:xfrm>
                    <a:off x="5502240" y="2514600"/>
                    <a:ext cx="228600" cy="1522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143" name=""/>
                <p:cNvCxnSpPr>
                  <a:stCxn id="138" idx="3"/>
                </p:cNvCxnSpPr>
                <p:nvPr/>
              </p:nvCxnSpPr>
              <p:spPr>
                <a:xfrm>
                  <a:off x="5921280" y="2666880"/>
                  <a:ext cx="343440" cy="1194480"/>
                </a:xfrm>
                <a:prstGeom prst="straightConnector1">
                  <a:avLst/>
                </a:prstGeom>
                <a:ln w="19080">
                  <a:solidFill>
                    <a:srgbClr val="000000"/>
                  </a:solidFill>
                  <a:prstDash val="sysDot"/>
                  <a:miter/>
                  <a:tailEnd len="med" type="triangle" w="lg"/>
                </a:ln>
              </p:spPr>
            </p:cxnSp>
            <p:cxnSp>
              <p:nvCxnSpPr>
                <p:cNvPr id="144" name=""/>
                <p:cNvCxnSpPr>
                  <a:stCxn id="142" idx="3"/>
                </p:cNvCxnSpPr>
                <p:nvPr/>
              </p:nvCxnSpPr>
              <p:spPr>
                <a:xfrm>
                  <a:off x="5616000" y="2666880"/>
                  <a:ext cx="343800" cy="1194480"/>
                </a:xfrm>
                <a:prstGeom prst="straightConnector1">
                  <a:avLst/>
                </a:prstGeom>
                <a:ln w="19080">
                  <a:solidFill>
                    <a:srgbClr val="000000"/>
                  </a:solidFill>
                  <a:prstDash val="sysDot"/>
                  <a:miter/>
                  <a:tailEnd len="med" type="triangle" w="lg"/>
                </a:ln>
              </p:spPr>
            </p:cxnSp>
          </p:grpSp>
          <p:cxnSp>
            <p:nvCxnSpPr>
              <p:cNvPr id="145" name=""/>
              <p:cNvCxnSpPr/>
              <p:nvPr/>
            </p:nvCxnSpPr>
            <p:spPr>
              <a:xfrm>
                <a:off x="5730840" y="3962160"/>
                <a:ext cx="8388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lg"/>
              </a:ln>
            </p:spPr>
          </p:cxnSp>
          <p:cxnSp>
            <p:nvCxnSpPr>
              <p:cNvPr id="146" name=""/>
              <p:cNvCxnSpPr/>
              <p:nvPr/>
            </p:nvCxnSpPr>
            <p:spPr>
              <a:xfrm>
                <a:off x="4587840" y="2514240"/>
                <a:ext cx="3816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lg"/>
              </a:ln>
            </p:spPr>
          </p:cxnSp>
          <p:sp>
            <p:nvSpPr>
              <p:cNvPr id="147" name=""/>
              <p:cNvSpPr/>
              <p:nvPr/>
            </p:nvSpPr>
            <p:spPr>
              <a:xfrm>
                <a:off x="4800600" y="5334120"/>
                <a:ext cx="9856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UC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liberation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6132600" y="4495680"/>
              <a:ext cx="533160" cy="304560"/>
              <a:chOff x="6132600" y="4495680"/>
              <a:chExt cx="533160" cy="304560"/>
            </a:xfrm>
          </p:grpSpPr>
          <p:sp>
            <p:nvSpPr>
              <p:cNvPr id="149" name=""/>
              <p:cNvSpPr/>
              <p:nvPr/>
            </p:nvSpPr>
            <p:spPr>
              <a:xfrm>
                <a:off x="6132600" y="4495680"/>
                <a:ext cx="228600" cy="15228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284880" y="4647960"/>
                <a:ext cx="228600" cy="15228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437160" y="4495680"/>
                <a:ext cx="228600" cy="15228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2" name=""/>
            <p:cNvCxnSpPr/>
            <p:nvPr/>
          </p:nvCxnSpPr>
          <p:spPr>
            <a:xfrm flipV="1">
              <a:off x="6400440" y="4876560"/>
              <a:ext cx="1080" cy="3052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153" name=""/>
            <p:cNvCxnSpPr/>
            <p:nvPr/>
          </p:nvCxnSpPr>
          <p:spPr>
            <a:xfrm flipV="1">
              <a:off x="6400440" y="4114080"/>
              <a:ext cx="1080" cy="305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</p:cxnSp>
        <p:grpSp>
          <p:nvGrpSpPr>
            <p:cNvPr id="154" name=""/>
            <p:cNvGrpSpPr/>
            <p:nvPr/>
          </p:nvGrpSpPr>
          <p:grpSpPr>
            <a:xfrm>
              <a:off x="6111720" y="5257800"/>
              <a:ext cx="761760" cy="685800"/>
              <a:chOff x="6111720" y="5257800"/>
              <a:chExt cx="761760" cy="685800"/>
            </a:xfrm>
          </p:grpSpPr>
          <p:sp>
            <p:nvSpPr>
              <p:cNvPr id="155" name=""/>
              <p:cNvSpPr/>
              <p:nvPr/>
            </p:nvSpPr>
            <p:spPr>
              <a:xfrm>
                <a:off x="6111720" y="5257800"/>
                <a:ext cx="507960" cy="533520"/>
              </a:xfrm>
              <a:prstGeom prst="rect">
                <a:avLst/>
              </a:prstGeom>
              <a:solidFill>
                <a:srgbClr val="bbe0e3">
                  <a:alpha val="8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196320" y="5334120"/>
                <a:ext cx="507960" cy="533520"/>
              </a:xfrm>
              <a:prstGeom prst="rect">
                <a:avLst/>
              </a:prstGeom>
              <a:solidFill>
                <a:srgbClr val="bbe0e3">
                  <a:alpha val="8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281280" y="5410440"/>
                <a:ext cx="592200" cy="533160"/>
              </a:xfrm>
              <a:prstGeom prst="rect">
                <a:avLst/>
              </a:prstGeom>
              <a:solidFill>
                <a:srgbClr val="bbe0e3">
                  <a:alpha val="8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Filed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Noda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Protocol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8" name=""/>
          <p:cNvGrpSpPr/>
          <p:nvPr/>
        </p:nvGrpSpPr>
        <p:grpSpPr>
          <a:xfrm>
            <a:off x="6629400" y="1219320"/>
            <a:ext cx="914400" cy="3047760"/>
            <a:chOff x="6629400" y="1219320"/>
            <a:chExt cx="914400" cy="3047760"/>
          </a:xfrm>
        </p:grpSpPr>
        <p:sp>
          <p:nvSpPr>
            <p:cNvPr id="159" name=""/>
            <p:cNvSpPr/>
            <p:nvPr/>
          </p:nvSpPr>
          <p:spPr>
            <a:xfrm>
              <a:off x="6647400" y="121932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?/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6629400" y="3429000"/>
              <a:ext cx="914400" cy="838080"/>
              <a:chOff x="6629400" y="3429000"/>
              <a:chExt cx="914400" cy="838080"/>
            </a:xfrm>
          </p:grpSpPr>
          <p:sp>
            <p:nvSpPr>
              <p:cNvPr id="161" name=""/>
              <p:cNvSpPr/>
              <p:nvPr/>
            </p:nvSpPr>
            <p:spPr>
              <a:xfrm>
                <a:off x="6629400" y="3429000"/>
                <a:ext cx="507960" cy="5335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705360" y="3505320"/>
                <a:ext cx="507960" cy="5331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" name=""/>
              <p:cNvGrpSpPr/>
              <p:nvPr/>
            </p:nvGrpSpPr>
            <p:grpSpPr>
              <a:xfrm>
                <a:off x="6781680" y="3581280"/>
                <a:ext cx="762120" cy="685800"/>
                <a:chOff x="6781680" y="3581280"/>
                <a:chExt cx="762120" cy="68580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6781680" y="3581280"/>
                  <a:ext cx="507960" cy="5331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6865920" y="3657240"/>
                  <a:ext cx="507960" cy="5335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6951600" y="3733560"/>
                  <a:ext cx="592200" cy="5335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Updated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Noda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Protocol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7" name=""/>
          <p:cNvSpPr/>
          <p:nvPr/>
        </p:nvSpPr>
        <p:spPr>
          <a:xfrm>
            <a:off x="457200" y="274680"/>
            <a:ext cx="6858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Protocol 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990720"/>
            <a:ext cx="82296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391520" y="228600"/>
            <a:ext cx="1295280" cy="696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Protocol Evolu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" y="274680"/>
            <a:ext cx="6858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990720"/>
            <a:ext cx="82296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391520" y="228600"/>
            <a:ext cx="1295280" cy="6969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287800" y="3124080"/>
            <a:ext cx="44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 and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Protocol Evolu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21:10:23Z</dcterms:created>
  <dc:creator>gmacomber</dc:creator>
  <dc:description/>
  <dc:language>en-US</dc:language>
  <cp:lastModifiedBy>tnt 091905</cp:lastModifiedBy>
  <dcterms:modified xsi:type="dcterms:W3CDTF">2005-09-28T13:24:59Z</dcterms:modified>
  <cp:revision>17</cp:revision>
  <dc:subject/>
  <dc:title>Slide 1</dc:title>
</cp:coreProperties>
</file>