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02B-7D7D-4C5E-BF10-132C578C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947-F665-427E-9A11-A36B3841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B0A-96AA-44E0-A764-7A4A768E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FE3-954F-4FDB-AE85-F39AC669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EA3-3779-481F-9C52-5A1EB10D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96E-ADDA-4B63-8C94-B05DC20F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29D-CAA4-457E-872A-128AD3CC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4EE-2002-4824-8C09-76FFA220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85440"/>
            <a:ext cx="72388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369-E208-495C-B91B-97681B81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26B-AF0F-422A-9A40-C3B4A7AA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3E4-3773-485D-9078-9FC3848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B97-8584-44D3-82F4-B88F6F3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6725-93D7-42DA-8C4D-74E28C654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ction 21, Revisions to Protocols (Normal Timeli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1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03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1796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048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02680" y="4495680"/>
            <a:ext cx="181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y 19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18600" y="4114800"/>
            <a:ext cx="7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80" y="43434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ri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485720" y="30855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4152960" y="30859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73200" y="406728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1 Day 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17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ly 7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3800" y="25430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276360" y="3200400"/>
            <a:ext cx="759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4156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5400000">
            <a:off x="4191120" y="236124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240" y="208584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5-Day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743200"/>
            <a:ext cx="76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3341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04920" y="4797360"/>
            <a:ext cx="19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une 23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nd 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876920" y="3962520"/>
            <a:ext cx="68580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7800" y="254304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6171840" y="39625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1880" y="27432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5480" y="450864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ugust 16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77320" y="39621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 rot="5400000">
            <a:off x="7010280" y="26658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8487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5960" y="26193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0-Day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3124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6248520"/>
            <a:ext cx="87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ffective September 1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unless System Chang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ction 21, Revisions to Protocols (Urgent Timeli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5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796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067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2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44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ril 21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4235400"/>
            <a:ext cx="87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of next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0" y="43434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ri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04560" y="388620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828800" y="304812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35053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95480" y="39621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35053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0400" y="449568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y 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440" y="27432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1000" y="2543040"/>
            <a:ext cx="220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 Ur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S Rec to T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3200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3480" y="2085840"/>
            <a:ext cx="14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C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360" y="2743200"/>
            <a:ext cx="75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09320" y="208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RCOT P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83908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10480" y="39621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028840" y="39625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5053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35053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2743200"/>
            <a:ext cx="6094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7760" y="450864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y or Ju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15200" y="39621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5400000">
            <a:off x="6324480" y="26658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8640" y="261936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0-Day (or less) 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iod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2971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5562720"/>
            <a:ext cx="874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*  ERCOT prepares Impact Analysis within 30 days after TAC Recommendation or based on TAC approved accelerated schedule (based on complexity of PR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22096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744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82000" y="160020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rgency V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53:46Z</dcterms:created>
  <dc:creator>lrobinson</dc:creator>
  <dc:description/>
  <dc:language>en-US</dc:language>
  <cp:lastModifiedBy>dzake</cp:lastModifiedBy>
  <dcterms:modified xsi:type="dcterms:W3CDTF">2005-09-15T21:21:27Z</dcterms:modified>
  <cp:revision>45</cp:revision>
  <dc:subject/>
  <dc:title>Aug 18 Event Update</dc:title>
</cp:coreProperties>
</file>