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86D-52B8-44DB-BFDE-DA8D826B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271-B9F3-40F7-A781-E018F68D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343-1356-4AC1-B1D7-DF334A1F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622-912B-4E84-B059-CCD50B54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6FE-936D-44A9-8D1E-95D3379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B48-2CA9-4BBC-A9BF-685592D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EDA-AD42-4AAB-8EFD-417FA03F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061-CC70-4CA5-B98E-DED1035C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8E6-AA84-4CD1-92B5-7B26A7FC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B40-A9FD-4B18-8E6C-C1C8E33E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36A-36FD-4980-B3E8-D2ED9962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492-6BA1-46C7-B924-7306383A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E84-C1F6-4B9E-9475-6FD7299B4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295280"/>
            <a:ext cx="7696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aylight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aving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ime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495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ter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0-05-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ugust 8, 2005, President Bush 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law an energy bill that will ex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light Saving Time by four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ginning in 20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3 weeks ear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1 week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evant DST Dates for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ed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28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ed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 4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9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TRON, they are analyzing the change in law and are currently working on a plan to update MV90 to accommodate the new DST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 Me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PS Meters need reprogramming to load the new DST sched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pvinton</cp:lastModifiedBy>
  <dcterms:modified xsi:type="dcterms:W3CDTF">2005-10-03T20:29:21Z</dcterms:modified>
  <cp:revision>11</cp:revision>
  <dc:subject/>
  <dc:title>Slide 1</dc:title>
</cp:coreProperties>
</file>