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24D2-904F-4CAC-ACA7-24D5E64DD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474C-B230-402A-A1CB-A5F89B2B1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8B8D-4E63-493D-9D70-72746A2B3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BFD1-2C4B-4971-B689-3AF73329F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20E4-0AD6-4D1C-8A3F-4FFBBC08E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2BCA-A63A-4980-B3B1-323393884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81D8-D23D-45CF-9A70-3420026EC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36520" y="674640"/>
            <a:ext cx="4599000" cy="3449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4960" y="3857400"/>
            <a:ext cx="5072040" cy="51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1AE0-19DA-4A74-9262-6030D2495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5D7C7-1066-4E37-BE0C-4B129294A9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AFA7-A1DC-4F47-84E5-2F6E99EAA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7C2F-D9E9-4557-9206-55CDDCCBC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15B7-EAEF-42D8-8241-A3E984FD0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9B71E-65CE-4218-9B7A-D2234645A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D4121-B164-441C-AE9D-939AAADC0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29B5-82F7-4D4E-B5B6-3321466E2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AD524-F1BE-4FD5-9426-1ACAF823A4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6B60-EB8F-466D-A0B1-68180252CA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297C-09A7-49B2-A34E-731B7D62B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D483-AA33-41F3-B5F3-5C843BB88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55DA-4500-48F0-809B-41164CED0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ProtocolRevisions/SCRRevfilesystem.cfm?action=viewfolder&amp;path=../ercotpublicweb/market/ftp/SystemChangeRequests/Project_Priority_List" TargetMode="External"/><Relationship Id="rId2" Type="http://schemas.openxmlformats.org/officeDocument/2006/relationships/hyperlink" Target="http://www.ercot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61960" y="2084760"/>
            <a:ext cx="6172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ject Updates to DEW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15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362320" y="76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Priority List (PPL)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523880"/>
            <a:ext cx="88394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PPL posted 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rcot.com/ProtocolRevisions/SCRRevfilesystem.cfm?action=viewfolder&amp;path=../ercotpublicweb/market/ftp/SystemChangeRequests/Project_Priority_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3080" indent="-177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 …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ercot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 / Protocols / System Change Requests / Project Priority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35D3-5C53-4242-BF64-7B82626787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93560" y="1295280"/>
            <a:ext cx="815688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Project Up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40106 - ERCO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50007 - FasTra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50024 - Enhancements to SCR 727 (SCR 740 Web Service for ESIID 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40007 - SCR727 move from Data Archive to 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40042_06 – Lodestar Batch Extra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30026 - EPS Meter Data Extract/Resource ID Extra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 50023 - Potential Load L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2005 Upcoming Projec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 743 with BOD appr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R 577 with BOD appro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Necessary Project Updat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560" y="822240"/>
            <a:ext cx="118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9480" y="792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Project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4FBDD-FD43-4F2F-84A4-1C6BFD6A520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0280" y="1295280"/>
            <a:ext cx="8156520" cy="441972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40106 ERCO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 Ph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d positive feedback on site’s look &amp; feel from Executive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 to work on migrating documents to the new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ut ERCOT 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Rules 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ittee &amp; Groups – 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ue Tracking – 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 with Meeting Managers to introduce the Issue Tracking t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encies – none at this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 to work on migrating documents to the new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 – Began on 9/1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Operations – Began on 9/1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 Operations – Begin on 9/15/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with Corporate Communications on final communication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9FE29-DA2A-4FFA-B2AE-4CD768CB14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1295280"/>
            <a:ext cx="8156520" cy="441972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07 Enhancements to FasTr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on 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ive Committee update/endorsement on product selection/purch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 of Director approval of project to move forw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ena Team Track training for business and IT held August 29th to September 2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ena contract negotiations underw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iew/revision of project schedule given current scope, delivery approach, testing requirements, and resource avai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enc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ebel upgrade – only if Siebel is chosen as the replacement tool for FasTrak – Remov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A Integration - dependent on SOA MID project for integration framework components needed by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ize contract with vend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Factors staff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ork with business and IT on screen desig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to create DRAFT work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o create conceptual system 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13DA-0A1E-49BE-B135-161194ABA9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0280" y="129528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24  Enhancements to SCR 7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cution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esign and development ongo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Testing to begin 11/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lementation date: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Quart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destar ODS interval data par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 logic to determine point in time implemented and captured in Lodestar 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present further XML and technical design to DEWG in 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ing test scenarios for Product 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81A3D-5C0A-461E-83BF-A39E6A07C5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1295280"/>
            <a:ext cx="819144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-30026 EPS Meter Data Extract/Resource ID Extra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-40007 SCR 727 Phase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-40042_06 Lodestar Batch Extra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projects in Execution 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ize test plan for technical testing and UAT testing for all projects for each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-30026 in PTEST and going to ITEST late 09/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-40007 in unit testing and going to PTEST late 09/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-40042_06 in PTEST and going to ITEST early 10/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enc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leted development and testing of timing logic for when to run and what timestamp data range to include in each extra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ed into production on 8/31/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off on production verification week of 9/19/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val data parser in Lodestar ODS to parse the BLOB interval data into VARCHAR2 for easy accessibility for business analysis and for extracts and repo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nt to ITEST 08/22/05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is back in PTEST for modif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33560" indent="-204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ll be back in ITEST next we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4240" indent="-2570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remaining project dates for all pro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46A1-87A6-438F-888A-A88EB0EF89E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0280" y="1295280"/>
            <a:ext cx="8156520" cy="4645080"/>
          </a:xfrm>
          <a:prstGeom prst="roundRect">
            <a:avLst>
              <a:gd name="adj" fmla="val 16667"/>
            </a:avLst>
          </a:prstGeom>
          <a:solidFill>
            <a:srgbClr val="e7f4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-50023 Potential Load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nning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duled for completion on 10/17/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ared and submitted Project Charter for internal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afted detailed business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endenc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40034 TX SET 2.1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50121_03 MID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-50121_07 TIBCO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ize Project Cha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te detailed business requirement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EF08C-8F88-4F17-8EEC-329C6BE616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jashbaugh</cp:lastModifiedBy>
  <dcterms:modified xsi:type="dcterms:W3CDTF">2005-09-14T18:34:04Z</dcterms:modified>
  <cp:revision>335</cp:revision>
  <dc:subject/>
  <dc:title>Slide 1</dc:title>
</cp:coreProperties>
</file>