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7008813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A85285-4D55-4DA1-9F6E-AC75B8AC6B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B09739-D9B6-41C0-985F-D52B335BBF6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476986-7C09-480E-9755-831BCEB56B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B33E85-136F-4D65-AD11-6DD23C6DC17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914400" y="28440"/>
            <a:ext cx="7175520" cy="29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38A9E0-EF98-4492-BAF7-310A5CB3376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331A73-E41E-4199-8A1C-AB5E430E0A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921573-A8DB-4DF0-9D80-7D82ACD69D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6F7461-FF63-4439-B09A-FAF4E00FE0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14400" y="28440"/>
            <a:ext cx="7175520" cy="29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195FE2-4E13-493D-98E9-9DCB36DECD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9F77AB-869D-4B90-8AAC-B8702B8420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EC4632-23EC-4C92-ACD6-80DD6C2FBA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373361-11EE-4E82-94B6-6BBFFDB7D1D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85800"/>
            <a:ext cx="9144000" cy="152280"/>
          </a:xfrm>
          <a:prstGeom prst="rect">
            <a:avLst/>
          </a:prstGeom>
          <a:gradFill rotWithShape="0">
            <a:gsLst>
              <a:gs pos="0">
                <a:srgbClr val="203231"/>
              </a:gs>
              <a:gs pos="50000">
                <a:srgbClr val="466e6c"/>
              </a:gs>
              <a:gs pos="100000">
                <a:srgbClr val="203231"/>
              </a:gs>
            </a:gsLst>
            <a:lin ang="5400000"/>
          </a:gradFill>
          <a:ln w="6480">
            <a:solidFill>
              <a:srgbClr val="0000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14400" y="28440"/>
            <a:ext cx="7175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d5f5d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d5f5d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427040" cy="68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9883F-74BF-4A54-9FB2-E09C9871C1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808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00"/>
              </a:spcBef>
              <a:buClr>
                <a:srgbClr val="008080"/>
              </a:buClr>
              <a:buFont typeface="Verdana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3366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00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00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00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-3240" y="0"/>
            <a:ext cx="76320" cy="6858000"/>
          </a:xfrm>
          <a:prstGeom prst="rect">
            <a:avLst/>
          </a:prstGeom>
          <a:solidFill>
            <a:srgbClr val="466e6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9400" y="9360"/>
            <a:ext cx="75960" cy="6858000"/>
          </a:xfrm>
          <a:prstGeom prst="rect">
            <a:avLst/>
          </a:prstGeom>
          <a:solidFill>
            <a:srgbClr val="466e6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01680" y="9360"/>
            <a:ext cx="76320" cy="6858000"/>
          </a:xfrm>
          <a:prstGeom prst="rect">
            <a:avLst/>
          </a:prstGeom>
          <a:solidFill>
            <a:srgbClr val="466e6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3960" y="9360"/>
            <a:ext cx="76320" cy="6858000"/>
          </a:xfrm>
          <a:prstGeom prst="rect">
            <a:avLst/>
          </a:prstGeom>
          <a:solidFill>
            <a:srgbClr val="466e6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6600" y="9360"/>
            <a:ext cx="75960" cy="6858000"/>
          </a:xfrm>
          <a:prstGeom prst="rect">
            <a:avLst/>
          </a:prstGeom>
          <a:solidFill>
            <a:srgbClr val="466e6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9144000" cy="509760"/>
          </a:xfrm>
          <a:prstGeom prst="rect">
            <a:avLst/>
          </a:prstGeom>
          <a:gradFill rotWithShape="0">
            <a:gsLst>
              <a:gs pos="0">
                <a:srgbClr val="203231"/>
              </a:gs>
              <a:gs pos="50000">
                <a:srgbClr val="466e6c"/>
              </a:gs>
              <a:gs pos="100000">
                <a:srgbClr val="20323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346480" y="2895480"/>
            <a:ext cx="5883120" cy="76320"/>
          </a:xfrm>
          <a:prstGeom prst="rect">
            <a:avLst/>
          </a:prstGeom>
          <a:gradFill rotWithShape="0">
            <a:gsLst>
              <a:gs pos="0">
                <a:srgbClr val="466e6c"/>
              </a:gs>
              <a:gs pos="50000">
                <a:srgbClr val="203231"/>
              </a:gs>
              <a:gs pos="100000">
                <a:srgbClr val="466e6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37920" y="1323000"/>
            <a:ext cx="579132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704880" y="601560"/>
            <a:ext cx="2274840" cy="109872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00"/>
              </a:spcBef>
              <a:buClr>
                <a:srgbClr val="008080"/>
              </a:buClr>
              <a:buFont typeface="Verdana"/>
              <a:buChar char="—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34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300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300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300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61960" y="1719000"/>
            <a:ext cx="61722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R 577 and SCR 743</a:t>
            </a:r>
            <a:br>
              <a:rPr sz="36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fining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420640" y="3048120"/>
            <a:ext cx="5808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RCO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ptember 15, 2005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2362320" y="7632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alking Points Overview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04920" y="1143000"/>
            <a:ext cx="883908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normAutofit/>
          </a:bodyPr>
          <a:p>
            <a:pPr lvl="1" marL="681120" indent="-276480">
              <a:lnSpc>
                <a:spcPct val="100000"/>
              </a:lnSpc>
              <a:spcBef>
                <a:spcPts val="45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R 577 Background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76480">
              <a:lnSpc>
                <a:spcPct val="100000"/>
              </a:lnSpc>
              <a:spcBef>
                <a:spcPts val="45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R 577 Business Requir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76480">
              <a:lnSpc>
                <a:spcPct val="100000"/>
              </a:lnSpc>
              <a:spcBef>
                <a:spcPts val="45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CR 743 Background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76480">
              <a:lnSpc>
                <a:spcPct val="100000"/>
              </a:lnSpc>
              <a:spcBef>
                <a:spcPts val="45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CR 743 Business Requir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76480">
              <a:lnSpc>
                <a:spcPct val="100000"/>
              </a:lnSpc>
              <a:spcBef>
                <a:spcPts val="45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76480">
              <a:lnSpc>
                <a:spcPct val="100000"/>
              </a:lnSpc>
              <a:spcBef>
                <a:spcPts val="45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9466CD-AB08-4F14-B149-DC00BB5B122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2362320" y="7632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R 577 Background Inform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04920" y="1143000"/>
            <a:ext cx="883908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normAutofit fontScale="76000"/>
          </a:bodyPr>
          <a:p>
            <a:pPr lvl="1" marL="347400" indent="-39600">
              <a:lnSpc>
                <a:spcPct val="100000"/>
              </a:lnSpc>
              <a:spcBef>
                <a:spcPts val="45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otocol language change approved by BOD on 07/20/05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7400" indent="-396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7400" indent="-396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11.5.1.1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Aggregated Load Data Posting/Availab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7400" indent="-396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RCOT will make available to Market Participants the following information on a daily basi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7400" indent="-396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(1)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SE Load Ratio Share data by ERCOT tota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7400" indent="-396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(2)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SE base Load values, by unique combination of QSE, Congestion Zone, UFE zone, Profile Type, Distribution Loss Factor code and TDSP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7400" indent="-396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(3)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SE base Load plus allocation of Distribution Losses by unique combination of QSE, Congestion Zone, UFE zone, Profile Type, Distribution Loss Factor code and TDSP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7400" indent="-396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(4)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SE base Load plus allocation of Distribution Losses and Transmission Losses by unique combination of QSE, Congestion Zone, UFE zone, Profile Type, Distribution Loss Factor code and TDSP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7400" indent="-396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(5)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SE base Load plus allocation of Distribution Losses, Transmission Losses, and UFE; by unique combination of QSE, Congestion Zone, UFE zone, Profile Type, Distribution Loss Factor code and TDSP allocation of Distribution Losses, Transmission Losses and UF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7400" indent="-396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(6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0" lang="en-US" sz="1400" spc="-1" strike="noStrike" u="sng">
                <a:solidFill>
                  <a:srgbClr val="336699"/>
                </a:solidFill>
                <a:uFillTx/>
                <a:latin typeface="Verdana"/>
              </a:rPr>
              <a:t>TDSP base Load plus allocation of Distribution Losses, Transmission Losses, and UFE; by TDSP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7400" indent="-39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ach Market Participant will have access only to its own information and/or the information of the Entities, which it represents.  ERCOT will make the aforementioned data for each settlement run available to Market Participants via MIS within forty-eight (48) hours of finalizing the data for Settlement Statements.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7400" indent="-39600">
              <a:lnSpc>
                <a:spcPct val="100000"/>
              </a:lnSpc>
              <a:spcBef>
                <a:spcPts val="400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A970A0-84FA-4377-A564-C78334CCE0E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362320" y="7632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R 577 Business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04920" y="1143000"/>
            <a:ext cx="883908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normAutofit fontScale="92000"/>
          </a:bodyPr>
          <a:p>
            <a:pPr lvl="1" marL="687600" indent="-315360">
              <a:lnSpc>
                <a:spcPct val="100000"/>
              </a:lnSpc>
              <a:spcBef>
                <a:spcPts val="45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eliver a daily csv file to all active TDSPs in the same format as the file that is delivered tod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7600" indent="-315360">
              <a:lnSpc>
                <a:spcPct val="100000"/>
              </a:lnSpc>
              <a:spcBef>
                <a:spcPts val="45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aily csv file will contain data for all trade dates settled during the batch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7600" indent="-315360">
              <a:lnSpc>
                <a:spcPct val="100000"/>
              </a:lnSpc>
              <a:spcBef>
                <a:spcPts val="45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sv file delivered to ERCOT Texas Market Link in a customary man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7600" indent="-315360">
              <a:lnSpc>
                <a:spcPct val="100000"/>
              </a:lnSpc>
              <a:spcBef>
                <a:spcPts val="45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ach csv file will contain the following data field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7600" indent="-3153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SCHANNELCUTHEADER.INTERVALCOUNT, LSCHANNELCUTHEADER.RECORDER, LSCHANNELCUTHEADER.CHANNEL, LSCHANNELCUTHEADER.STARTTIME, LSCHANNELCUTHEADER.CHNLCUTTIMESTAMP, LSCHANNELCUTDATA.VALUECODES (for each interv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7600" indent="-3153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7600" indent="-315360">
              <a:lnSpc>
                <a:spcPct val="100000"/>
              </a:lnSpc>
              <a:spcBef>
                <a:spcPts val="45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apture additional Market Participant business requir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1A78B3-5E27-43D9-81C9-34909BFB4F1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2362320" y="7632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R 743 Backgr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04920" y="1143000"/>
            <a:ext cx="883908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normAutofit/>
          </a:bodyPr>
          <a:p>
            <a:pPr lvl="1" marL="681120" indent="-276480" algn="just">
              <a:lnSpc>
                <a:spcPct val="100000"/>
              </a:lnSpc>
              <a:spcBef>
                <a:spcPts val="451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roved for recommendation by TAC on 08/04/05 to go to the BOD on 09/20/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76480" algn="just">
              <a:lnSpc>
                <a:spcPct val="100000"/>
              </a:lnSpc>
              <a:spcBef>
                <a:spcPts val="400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o receive QSE dispute information within an ERCOT extract for the purposes of allowing Market Participants the ability to manage dispute status’ through a mechanism to automate data within internal systems.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908CA1-388C-4F61-8EEF-583C1BF5C82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2362320" y="7632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R 743 Business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04920" y="1143000"/>
            <a:ext cx="883908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normAutofit fontScale="62000"/>
          </a:bodyPr>
          <a:p>
            <a:pPr lvl="1" marL="422280" indent="-171360" algn="just">
              <a:lnSpc>
                <a:spcPct val="100000"/>
              </a:lnSpc>
              <a:spcBef>
                <a:spcPts val="400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Extracts will be provided on a daily basis to QSEs via the ERCOT Texas Market Link Porta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22280" indent="-171360" algn="just">
              <a:lnSpc>
                <a:spcPct val="100000"/>
              </a:lnSpc>
              <a:spcBef>
                <a:spcPts val="400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aily CSV extract containing the following data field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348200" indent="-14940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Dispute I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 marL="1348200" indent="-14940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Trade D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 marL="1348200" indent="-14940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tatement ID (Stmt ID 1 – 12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 marL="1348200" indent="-14940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Transaction Date &amp; Time Stamp (Published Date of Extrac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 marL="1348200" indent="-14940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QSE Na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 marL="1348200" indent="-14940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QSE Contact Na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 marL="1348200" indent="-14940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QSE Submission Date (Transaction Date, Time Stamp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 marL="1348200" indent="-14940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Dispute Status (Not Started, Open, Closed, Withdrawn, Reject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 marL="1348200" indent="-14940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Dispute Status Assignment D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 marL="1348200" indent="-14940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Dispute Resolution (Granted, Granted w/ Exceptions, Deni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 marL="1348200" indent="-14940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Dispute Resolution Assignment D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 marL="1348200" indent="-14940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Dispute Typ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 marL="1348200" indent="-14940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Dispute Sub Typ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 marL="1348200" indent="-14940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Dispute Charge Typ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 marL="1348200" indent="-14940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tart Interv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 marL="1348200" indent="-14940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End Interv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 marL="1348200" indent="-14940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Dispute Amou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 marL="1348200" indent="-14940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Resolution Amou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 marL="1348200" indent="-14940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hort Descrip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 marL="1348200" indent="-14940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Long Descrip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 marL="1348200" indent="-14940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Attachment Submitted (Y/N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 marL="1348200" indent="-14940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ERCOT Resolution Com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22280" indent="-171360" algn="just">
              <a:lnSpc>
                <a:spcPct val="100000"/>
              </a:lnSpc>
              <a:spcBef>
                <a:spcPts val="400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apture additional Market Participant business requir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22280" indent="-171360" algn="just">
              <a:lnSpc>
                <a:spcPct val="100000"/>
              </a:lnSpc>
              <a:spcBef>
                <a:spcPts val="400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348200" indent="-14940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4" marL="1348200" indent="-14940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7998D0-2C99-41E2-A809-0C5F4D965C9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295280" y="2743200"/>
            <a:ext cx="6324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cccc"/>
                </a:solidFill>
                <a:latin typeface="Arial"/>
              </a:rPr>
              <a:t>Questions?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ADE252-F570-43A1-BC1C-5607194B16F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9T12:55:16Z</dcterms:created>
  <dc:creator>Rob Connell</dc:creator>
  <dc:description/>
  <dc:language>en-US</dc:language>
  <cp:lastModifiedBy>jashbaugh</cp:lastModifiedBy>
  <dcterms:modified xsi:type="dcterms:W3CDTF">2005-09-14T18:54:00Z</dcterms:modified>
  <cp:revision>289</cp:revision>
  <dc:subject/>
  <dc:title>Slide 1</dc:title>
</cp:coreProperties>
</file>