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AF14-AF2C-4B70-8EBD-6CC3F7DBE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2B2E-B81B-4CAA-93F3-56B9B2B24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8480-7BEA-4F6A-BF00-07400DF92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C0CA-7837-4F39-93DC-F654FA2ED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87F9-444F-4918-A834-646923F47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63E1-73E7-4783-A30E-E818386AE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7D1A-2582-486D-9F4A-67815CBF4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2F3D-F87D-4B49-AF67-5B64781DD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7514-75AF-4700-8350-CDB393D73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60D6-66B8-4E73-A841-AD8531844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51E8-53CF-4FB7-BE73-7560730F3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4DBE-A2E0-4078-84F8-7C68E5E5F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C3EE-4748-43CE-A375-C56D85FC3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BA Process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30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 #1 – Receive a reasonable amount of CBA information from the PRR submit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on 1 – Complete a CBA defining costs and benefits for their market seg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on 2 – Modify PRR submission form to better capture CBA inf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 #2 – Complete draft CBA in a timely m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on 1 – ERCOT completes ERCOT cost and benefit information in conjunction with the Impact Analysis – CBA is available for review on same timeline as 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 #3 – Create an environment for questioning and challenging cost/benefit assum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on 1 – Post comments to draft CB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on 2 – Form a working group 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429000"/>
                <a:tab algn="l" pos="388620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 #4 – Improve consistency in CBA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7615-BAB7-4F88-BB87-B9ACAD00CA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60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2060-7F45-4172-B84C-77E90ED178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5-09-30T14:34:32Z</dcterms:modified>
  <cp:revision>117</cp:revision>
  <dc:subject/>
  <dc:title>Slide 1</dc:title>
</cp:coreProperties>
</file>