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63CC-85C3-46E2-B995-8F4A38DFE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D71A-3497-4ADF-972B-84B0CDF91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54BB-7116-42AD-B631-9D3EB4BA1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F073-D7B9-4E50-B3BB-EDEA57793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579C-0A79-4725-BE20-7D27B35D1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E680-119D-4989-ADD8-5F9D39DA9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435B-C9C4-4A8F-8848-6EC13990A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D70A-4743-42B8-B08F-8CFA90689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6400-367F-4B4C-A57A-3BB7E3792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7613-D391-4695-9FFC-535B3C0A5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0CDC-0AB6-462C-B252-C17CE722C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D584-58A0-4E4B-BEB0-7DF05ACCF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B885-AB2A-4894-9548-89BF5964E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P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9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and PPL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0">
              <a:spcBef>
                <a:spcPts val="499"/>
              </a:spcBef>
              <a:buNone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coming Implem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MS Release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/5/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Load Lo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/3/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X SET 2.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/5/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PPL posted to ERCOT.com on 9/2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5 and 2006 PPL’s have now been mer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nation of changes to merged PPL on next sl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d arrow diagrams posted in Sept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698D-545F-4C74-B5CE-B7E8BB9EFF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507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2005 / 2006 PPL 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ov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0a – Projects expected to extend past 10/31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0b – All other projects above the cut line from 2005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1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1a – Projects above $25M 2006 cu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1b – Projects below $25M 2006 cu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numbering of 2006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numbered carryover projects starting with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numbered planned 2006 projects starting wit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“New” projects “6xxxxx” project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ed new “Status”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– Implemented but still open for administrative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– Completely implemented (replaces “Clo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t Yet Start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– Planned in 2005 but not ye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88E1-DFB4-4147-B832-90BB2A4A00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58D1-42BE-4984-9205-7EA3F3BE21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5-09-29T01:30:34Z</dcterms:modified>
  <cp:revision>113</cp:revision>
  <dc:subject/>
  <dc:title>Slide 1</dc:title>
</cp:coreProperties>
</file>