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19.gif" ContentType="image/gif"/>
  <Override PartName="/ppt/media/image1.png" ContentType="image/png"/>
  <Override PartName="/ppt/media/image3.png" ContentType="image/png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A472-FD3B-48E1-B8BE-D244ABEE4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54B6-CE9A-4C4E-B193-7C6CFC376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32AD-9900-4119-8FC3-F392F4452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3448-B4EA-42DA-8472-A204A91AC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0C60-A600-4B98-BBE7-2FA8F1F5E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387C-94CA-4C13-98F7-D7422DA58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D102-EAAF-4049-B6A8-6391B9CA1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7A59-E196-4C9C-A0FB-5786304C7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5973-961C-496F-9D63-0F9AB044F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F473-DD1E-40B8-A150-60E43468A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F4EA-DB13-46FF-94C5-26DD663E0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B092-9CAF-4742-8080-E1D6D4317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28720"/>
            <a:ext cx="9144000" cy="66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3520" cy="82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96708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29B9-0329-402C-BFF4-2EFA34E6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78144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85120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9280" y="2431080"/>
            <a:ext cx="81500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R 568 – Settlement Timelin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ust 31-day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360" y="4290480"/>
            <a:ext cx="828504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27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Non-IDR Data Availability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930240"/>
            <a:ext cx="8782200" cy="592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5B0A-CC72-4F99-A755-AE1F7B7924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786040"/>
            <a:ext cx="82296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gregation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CA51-F33B-4319-9E9F-84635FB29A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Generation Differences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8820000" cy="593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11DC-FA66-4A17-A0FF-E18F39A2E6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137160"/>
            <a:ext cx="717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Average Load Differences for QSEs</a:t>
            </a:r>
            <a:br>
              <a:rPr sz="2000"/>
            </a:b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Day 8 vs Day 15</a:t>
            </a:r>
            <a:endParaRPr b="1" lang="en-US" sz="20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901800"/>
            <a:ext cx="8785080" cy="59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64CB-0BDA-4BC7-999E-3AD9B4FFE4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SE’s Grouped by Percent Change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7840" y="2313000"/>
            <a:ext cx="822960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F996-8A96-4D0B-BDB5-12A09190D4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381600"/>
            <a:ext cx="7175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Average Percent Load Change by QSE Size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911160"/>
            <a:ext cx="8775720" cy="59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4F5F-8BFA-48D7-8F1C-6294278149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Individual QSE Extremes by Day 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949320"/>
            <a:ext cx="8804160" cy="590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C42B-A7D8-4E02-A4CF-322E70DA8D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15840"/>
            <a:ext cx="7175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Average Load Differences for LSEs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Day 8 vs Day 15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8820000" cy="593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DAC9-0CAA-46FE-AAC3-14DC0FBE7E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LSE’s Grouped by Percent Change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8120" y="1928880"/>
            <a:ext cx="8229600" cy="278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5838-D703-4782-9526-C29A5245FA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381600"/>
            <a:ext cx="7175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Average Percent Load Change by LSE Size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8747280" cy="59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AC2A-D0A0-4183-8FD6-96B5F86A2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1742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Review of Analysis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00320" y="1600200"/>
            <a:ext cx="570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Loading/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D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gregation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tion Chan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d Chan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426A-07A3-4D20-9965-3BD698D2A9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Individual LSE Extremes by Day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77248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9B0C-05DB-47DF-A530-9D7B5C2A65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% UFE Comparison August 1 through 31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8772480" cy="59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B93D-540C-4A97-81F6-067F2212C4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% UFE Change  (Day 8 minus Day 15)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70588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9F20-819D-4A3C-91A1-5A3FE201F0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348080" y="3009960"/>
            <a:ext cx="898560" cy="1795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22600" y="2768760"/>
            <a:ext cx="4400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8EC4-0CCA-499A-8959-D7466618F1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786040"/>
            <a:ext cx="82296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 Loading/Avail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192C-6240-4107-8772-72BF46ACB3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IDR Data Loading Statistics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288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ily IDR data availability is graphed and posted week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95560" y="1614600"/>
            <a:ext cx="6735600" cy="5051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73480" y="4338720"/>
            <a:ext cx="3206520" cy="392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F938-0CB9-47E9-8894-64B1464607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12502"/>
          <a:stretch/>
        </p:blipFill>
        <p:spPr>
          <a:xfrm>
            <a:off x="466560" y="1800360"/>
            <a:ext cx="7561440" cy="4960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IDR Data Loading Statistics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288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representations of data loading are provid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400040" y="3703680"/>
            <a:ext cx="3730680" cy="392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68440" y="4672080"/>
            <a:ext cx="3730680" cy="392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94360" y="3875040"/>
            <a:ext cx="1015920" cy="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41880" y="37004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-day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76800" y="4829040"/>
            <a:ext cx="1015920" cy="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95960" y="465444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day vs 15 da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AA37-BA88-496E-84B3-C9A6878B30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5040" y="362520"/>
            <a:ext cx="76089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% of IDR Data Loaded by MRE (as of 09-16-2005)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895320"/>
          <a:ext cx="8906040" cy="59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95320"/>
                    <a:ext cx="890604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D8F5-172F-40DA-8E88-17811B3C16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5880"/>
            <a:ext cx="717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IDR Data Loaded for Day 8 and 15 </a:t>
            </a:r>
            <a:br>
              <a:rPr sz="2000"/>
            </a:b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Trade Date:  09-06-2005</a:t>
            </a:r>
            <a:endParaRPr b="1" lang="en-US" sz="20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895320"/>
          <a:ext cx="8915400" cy="59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95320"/>
                    <a:ext cx="89154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9062-2EA8-4F58-ABFC-A1414C06AE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81600"/>
            <a:ext cx="7175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NOIE vs Competitive IDR Data Availability</a:t>
            </a:r>
            <a:endParaRPr b="1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8906040" cy="56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0D89-668D-4F6E-A456-6737D8EBF5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What Caused the 8-day NOIE IDR Change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OIE’s have the same meter data submission requirements as Competitive TDSP’s – “on a monthly basi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NOIE’s choose to submit their data on a more frequent ba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are 119 NOIE’s but only 8 NOIE Meter Reading Entities (MRE’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percentage of data submitted by each NOIE MRE 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pproximate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IE MRE A – 40%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IE MRE B – 36%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IE MRE C – 12%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IE MRE D – 10%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IE MRE E –   2%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IE MRE F, G &amp; H – &lt;1%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roughout the analysis period MRE B &amp; C always had data submitted prior to the day 8 aggregation process (48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rom the time period of 8/19 – 8/24, MRE A submitted their data prior to the Day 8 aggregation process which accounts for a total of 88% (MRE A 40% + MRE B 36% + MRE C 12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E241-08B5-42E7-A006-953263D213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8:31:49Z</dcterms:created>
  <dc:creator>kbrink</dc:creator>
  <dc:description/>
  <dc:language>en-US</dc:language>
  <cp:lastModifiedBy>Ann Boren</cp:lastModifiedBy>
  <dcterms:modified xsi:type="dcterms:W3CDTF">2005-09-26T19:23:29Z</dcterms:modified>
  <cp:revision>136</cp:revision>
  <dc:subject/>
  <dc:title>Slide 1</dc:title>
</cp:coreProperties>
</file>