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3214A9-2418-4A11-A3FF-1E2B6470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MS = Energy &amp; Market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1275-4A96-4735-B802-2C29C0FB2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6B10-1D40-4CFB-B04D-5CD609008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F2F2-8CE3-42E2-B58A-10BD625FB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8BD2-B769-45B2-AD56-5F3FB8D39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A8E9-BA22-4E75-84CE-C39956867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86AC-256B-4D05-A382-26B592ED4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7966-1004-40E3-9764-5BAB877A7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FD4F-D11D-471A-9D84-AA1785DA4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1210-B2DE-4E31-B231-35426AA67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9105-D0CA-4ACE-BA1E-AF7E74FE8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AA27-8178-438E-82D3-5FC1FDBF5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C6B3-1AE6-4BAF-9AD5-BB7CE7624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8E3-7810-4DC6-8759-FD7AABED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342900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2670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257800"/>
            <a:ext cx="701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Operations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27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8800" y="2362320"/>
            <a:ext cx="563868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ttlement Impacts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MS Release 4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 Tool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erator OOM T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 Entry Tool for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pgrad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upport Verbal Dispatch Instructions (commonly referred to as V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llow cancellation of 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llow for accurate record keeping of constrai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E and OO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CF45-2DB7-4A32-BFFD-CC1C84B94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 Tool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EV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inute interval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ME Deployment dispatched through a V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EF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inute interval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eet OOM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EZ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inute interval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Zonal Fleet OOM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51F9-ADE8-41D1-8C25-24E74EE3B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CVDI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or of a VDI OOMC instruction ( 0=No Instruction, 1=OOMCVDI I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_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old for a day has a uniqu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 starts with 1 at the first interval held and continues through the end of the hold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equent hold would begin wit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 Tool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1C0F-D96D-4812-9841-9DD01A19FA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to OO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OOMRPQ – Awarded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CHR – Number of hour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PO – Operating 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8600-F464-4DD1-BB2F-8A606117B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1120" y="4876920"/>
            <a:ext cx="75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 8 (Intervals 29 – 3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RPQ = ( 141 + 145 + 151 + 155 ) / 4 = 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ed to calculate RCG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720" y="129528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RP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OM awarde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6104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4BDB-36BA-4AB6-B038-920EB9D73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040" y="136044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CH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umber of hours i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2080" y="45975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CHR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8077320" cy="10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E622-E0CD-46C3-83DC-41763C0D3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ut of Merit Capacity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O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PQq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 * MIN[(B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p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OMRP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 change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962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CAP replaced by 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09480" y="4695840"/>
                <a:ext cx="7174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12EF-37C8-412C-AC6B-F6B89AB3F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342900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2670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6705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cal Cong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41560" y="609588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t Suppor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source Specific Bid Limi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currently have premium bids mandated b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elease 4, QSE’s will have flexibility with their premium b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’s will be paid the difference in the premium and the MCPE (as it was befo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 Limits posted daily in ERCO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Co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D2ED-5897-4156-9FA8-820EB490FD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ment Of Local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ing Units Paid as Local Balanc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Bidding Units Paid as O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 values can change every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Co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D05F-A2EB-4378-9391-FA7FE978E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lease 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of upgrades to ERCOT’s EMMS (Energy and Market Management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by PUCT, ERCOT, and Mark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948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77A2-3F35-44DE-951F-7339F7A68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57400" y="342900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2670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200400"/>
            <a:ext cx="67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609588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t Suppor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FL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awarded Zon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awarded Loc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No a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Payment determined in Settlements with RCGSC, LRP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Payment determined in settlements with RCGMEC, MCPER, GSITETOT and 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DC3C-2311-45B8-B744-8A94CC074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 to Local RPRS Payment (LPCRP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hours a unit is continuously procured for Loc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RS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average hourly HSL (at the time of procurement) or MW awarded from RPRS b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BB63-A369-43CC-9650-A373114F2D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 to Zonal RPRS Payment (ZPCRP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hours a unit is continuously procured for Zon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HR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bid price for RPRS ($/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d in Zon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F81D-BA2B-40A3-A1F0-40DC039348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termin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SU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start up bid price ($/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d in Zonal R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W quantity of Local RPRS awarded. Determined in Settlement using LCFLAG and H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W quantity of Zonal RPRS awarded. Determined in Settlement using LCFLAG and H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9FB3-BB28-4136-BB2B-0C928E94E0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Replacement Reserve  (LCFLAG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PQ – Awarded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PHR – Number of hour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S – Start up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O – Operatio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4341-E37A-4273-BE62-C2160C3280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040" y="136044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RP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cal Replacement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315200" cy="242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920" y="4876920"/>
            <a:ext cx="70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 5 (Intervals 17 – 2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Q = ( 141 + 145 + 151 + 155 ) / 4 = 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ed to calculate RCG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1109-2B95-48E2-BC08-AED9F85B72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136044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RPH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umber of hours i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1360" y="459756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PHR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7848720" cy="102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87B5-EDA5-496C-987B-02026A8769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040" y="1360440"/>
            <a:ext cx="8169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cal RPRS start up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“Hot” or “Cold” start (Combined Cycle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= Less than 5 hours from shut down to star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= 5 hours or more from shut down to star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4267080"/>
                <a:ext cx="37335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CGS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RPH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9661-5A36-419F-8D7F-BFC3AEBDE5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040" y="1360440"/>
            <a:ext cx="8169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cal RPRS Operating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will get paid for what it generated, up to it’s L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7200" y="3657600"/>
                <a:ext cx="84582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PO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0879-5D17-48B0-9203-A7818DED45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Selection of Ancillary Service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lan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M Tool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Specific Bid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Reserve Service (RP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lease 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20C6-5173-4ACA-9DFE-96C6277EA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3429000"/>
                <a:ext cx="7929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PCRPAM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P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PO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PRPAD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1360440"/>
            <a:ext cx="8169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CRPAM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rocured Capacity Replacement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5560" y="5562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63D9-7539-4764-8203-8E5985630B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040" y="1360440"/>
            <a:ext cx="816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P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Zonal Replacement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1320" y="5181480"/>
            <a:ext cx="82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 5 (Intervals 29 – 3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PQ = MIN[156,( 143 + 144 + 146 + 147 )/ 4] = 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315200" cy="2222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6720" y="44956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MW = 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7FBB-6272-45D4-AAC4-55924A8DBA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040" y="136044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PH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umber of hours i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2080" y="459756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PHR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7848720" cy="102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DAE6-42FC-4740-9F41-01DDAFEA7A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040" y="1360440"/>
            <a:ext cx="816948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CRPAM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Zonal Procured Capacity Replacement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7200" y="2590920"/>
                <a:ext cx="83818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PCRPAM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A46-261C-44A8-85D4-3F87BF87CB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638680" y="304920"/>
            <a:ext cx="259092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stions and 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371600"/>
            <a:ext cx="7010280" cy="1066680"/>
          </a:xfrm>
          <a:prstGeom prst="rect">
            <a:avLst/>
          </a:prstGeom>
          <a:solidFill>
            <a:srgbClr val="99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Questions ??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73068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10CB-53A4-4719-BF8E-9BCC7CBA19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lement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lan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ME and OO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ngestion Sett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Reserve Servic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4286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lease 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111D-5216-4E83-A6BB-0815D97718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342900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2670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4382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ource Plan Time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41560" y="609588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t Suppor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entry of Resource Plan through the Operating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(Since Release 3) Resource Plan can only be updated until 16 minutes before the beginning of the Operating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B9A4-5D3E-4501-9F2D-B6489782C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ed Deter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, RPAGG, HSL, LSL, OOMEUPBP, OOMEDNB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ly data          15 Minute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L, LSL, RP, RPAGG still MW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EUPBP, OOMEDNBP in $/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895480" y="350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598A-F64B-4529-A037-00EA7139E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ed Settlement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of Capacity for Out-of-Merit Service (PCOOMA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of Local Congestion with Bidd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of Local Congestion with non-Bidd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of Out of Merit Energy from a Specific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526E-A139-48A0-B690-845C27165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342900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42670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200400"/>
            <a:ext cx="67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OME and OOM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1560" y="609588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t Suppor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aboren</cp:lastModifiedBy>
  <dcterms:modified xsi:type="dcterms:W3CDTF">2005-09-29T16:42:27Z</dcterms:modified>
  <cp:revision>88</cp:revision>
  <dc:subject/>
  <dc:title>Slide 1</dc:title>
</cp:coreProperties>
</file>