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E35-7B27-4522-93A3-A57F4094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3B0-997E-46ED-A81A-18C935F4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23A-A3C7-41A3-AC7B-6DA13F4A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8BB-33F2-484C-A8BB-A742EAFE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1825-1037-4212-AC70-2D0B5D40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4C79-6855-42B9-884B-ACBF6DB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A8F9-3B09-495E-8D46-DE225AA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59EB-63F4-44B2-8FD0-3A24D0C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EC7-5424-4345-8915-C879036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154C-56B7-44B9-8D2E-3BBF58A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56E-0BB8-4988-8A72-1CB8D6F6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04B-02E5-43F2-A9BE-EA3DA9A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F1DA-2243-4586-8B3C-D559434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808D-8FC4-4F21-A126-9934E25D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A743-614B-4737-8092-1FA5CF5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4AEC-51FA-4586-AFEF-CD87C016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C46-3764-497D-B86B-CB46AEFB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DC7-F0CC-4ACE-A286-75FA525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CCF-8431-432B-B22B-2FA98A3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C28-DCFC-4CBE-B00D-4DA60AF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0DB-D3E4-4BDF-A2AC-36344B7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FEA-1BDA-4277-A762-BC8DCB7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71D-5E97-4622-B3D2-B681C83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B2B-5C10-41B6-8C29-63BDB6F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649-D2B9-4A92-AC45-B1FAA63A01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0485-0BCB-499B-A3FC-6E4779C539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PUC Docket 31058 Resettle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and Re-Resettlement Estimat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mercial Operations Subcommitte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ptember 27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200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Settlements and Bi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F1C-45BA-4E2F-8519-5E22D37E3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ettlement Performed for Dec 04 Invoices (Day-of Result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or each operating day January 7, 2003 through March 31, 2003 --- resettled the charges for Regulation Up (LARU), Regulation Down (LARD), Responsive Reserve (LARR) and Non-Spin LANS)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he resettlement was consistent with PRR 451 approach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Used the most current load as of the last Settlement run to determine each QSE’s obligation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A QSE’s obligation (used in the resettlement) was calculated using the QSE’s load for that operating day.  For example, QSE Y’s load on 01-07-03 was used to calculate QSE Y’s obligation for 01-07-03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Self-Arrangement amounts stayed the same as when initially settled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ices stayed the same as when initially settled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Settlements and Bi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364-A331-48B8-BD72-D1B3FF389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ettlement Approach Used to Develop Estimate Sent Out Sept 05 (Look Back Result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For each operating day January 7, 2003 through March 31, 2003 --- resettled the charges for Regulation Up (LARU), Regulation Down (LARD), Responsive Reserve (LARR) and Non-Spin (LANS)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Used the most current load as of the last Settlement run to determine each QSE’s obligation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A QSE’s obligation (used in the resettlement) was calculated using load data for a day 21 days in advance of the operating day.  For example, QSE Y’s load on 12-17-02 was used to calculate QSE Y’s obligation for operating day 01-07-03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Changes in QSE to LSE relationships were captured.  For example, if LSE 1 was with QSE X on 12-17-02 but with QSE Z on 01-07-03 --- QSE Z’s  load used to calculate obligations for operating day 01-07-03 included the load for LSE 1 (on 12-17-02)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Self-Arrangement amounts stayed the same as when initially settled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rices stayed the same as when initially settled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Settlements and Bi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F6A-66ED-4372-A163-3AF9260825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ata Sent to Q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3505320"/>
          <a:ext cx="8001000" cy="2954160"/>
        </p:xfrm>
        <a:graphic>
          <a:graphicData uri="http://schemas.openxmlformats.org/drawingml/2006/table">
            <a:tbl>
              <a:tblPr/>
              <a:tblGrid>
                <a:gridCol w="1052640"/>
                <a:gridCol w="2568600"/>
                <a:gridCol w="2190600"/>
                <a:gridCol w="2189160"/>
              </a:tblGrid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QSE #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ook Back Result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ay-Of Result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30,000.00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200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30,000.00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0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00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90,000.00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5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3,000.00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28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,000.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40,000.00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38,000.00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3520" y="1371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lthough ERCOT believes that it correctly resettled the disputed Operating days by utilizing Load Ratio Shares from each Operating Day in question </a:t>
            </a: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(Day-Of Method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in accordance with the Final Order, the complainants argue that ERCOT should have utilized Load Ratio Shares based on Load data from twenty-one days prior to each Operating Day at issue </a:t>
            </a: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(Look-Back Method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Settlements and Bi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46F-9945-4A19-876F-D84AB0E66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Questions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67020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Settlements and Bi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D12-CABC-41AF-BC66-B1DD8302C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7:34:43Z</dcterms:created>
  <dc:creator>khilton</dc:creator>
  <dc:description/>
  <dc:language>en-US</dc:language>
  <cp:lastModifiedBy>aboren</cp:lastModifiedBy>
  <dcterms:modified xsi:type="dcterms:W3CDTF">2005-09-29T16:43:22Z</dcterms:modified>
  <cp:revision>111</cp:revision>
  <dc:subject/>
  <dc:title>If QSE is committed to operate within the day:  Make Whole:  </dc:title>
</cp:coreProperties>
</file>