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74A-9525-4BA7-B881-9CA8AA21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094-4340-4AAE-874C-A601803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5A8-F57E-47A7-BCF1-8A18A8BC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FC4-5C5D-4AB5-A65F-CE34F348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F9D-3689-4450-B4EA-46823836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7CA-9712-45DB-9B76-9FD5DAE9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C56-32A6-455B-94CF-AD429C2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D3A-F17F-4804-B74E-AE8C1D03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45A-E2A9-4F57-BA0C-DE471408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48A-08DD-4625-A9BF-6690068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2E9-8D22-4A47-8775-4DE954AD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9AB-AD82-4104-9EBA-289B3F4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808-EDC1-43AF-9BD7-94D704D3E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"/>
          <p:cNvSpPr/>
          <p:nvPr/>
        </p:nvSpPr>
        <p:spPr>
          <a:xfrm>
            <a:off x="5791320" y="6445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75438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DR Protocol Requirement for True-Up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27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9.2.6 specifies IDR data completeness levels required for True-Up Settlement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% ERCOT-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per 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quirement was put in place during 2002 when IDR data loading was po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 IDR data completeness levels are consistently above 99% ERCOT-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MREs have few IDR ESI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data on a single ESIID can cause these MREs to miss their 90%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ituation has occurred on multiple occa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True-Up settlements being 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R ESIID Counts by M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752480"/>
          <a:ext cx="8382240" cy="274320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DR ESI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ggested Protocol Language Chan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.2.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-Up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use all available settlement data, as described in Section 9.2, Settlement Statements to produce the True-Up Statement for each Statement Recipient for each given Operating D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-Up Statements will be issued six (6) months following the Operating Day providing at least that ERCOT has received and validated at least ninety-nine percent (99%) of the total IDR data and that ERCOT has received and validated at least ninety percent (90%) of the IDR data from each Meter Reading Entity (MRE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ith at least 20 IDR ESI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If the above conditions have not been met, True-Up Statements will be issued as soon as the IDR data becomes available.  If no True-Up Statement has been issued twelve (12) months after the operating day, a True-Up Statement will be issued.  In the event that any True-Up settlement date does not fall on a Business Day, then the True-Up Statement will be issued on the following Business D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3:48:14Z</dcterms:created>
  <dc:creator>Betty Day</dc:creator>
  <dc:description/>
  <dc:language>en-US</dc:language>
  <cp:lastModifiedBy>Betty Day</cp:lastModifiedBy>
  <dcterms:modified xsi:type="dcterms:W3CDTF">2005-09-27T15:03:27Z</dcterms:modified>
  <cp:revision>6</cp:revision>
  <dc:subject/>
  <dc:title>Role of Account Management at ERCOT</dc:title>
</cp:coreProperties>
</file>