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3F34-12D5-48FF-B611-F5C6A818D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7B77-037D-4A9E-B039-5AFA8ADA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3BD-39D7-42E3-901B-03F5A559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8F5-D27F-4B26-B9A6-625E7FB1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258A-BC27-4F30-9F09-330BE55F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CC60-52B6-469C-B58D-B933AEE5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B45B-80C2-4324-8036-177C9A38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BF9-0831-4D2A-9F48-355A4ED1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D9D4-F890-450A-85FD-F904A276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E942-EC93-4945-B5E5-3029DE69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4DE7-BA95-4B55-96B4-2D3642FE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747-1417-4043-8F19-76EF1907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3667-4767-4A9C-8DD7-FA563EA1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81CC-CF68-49D3-ACD7-5A8A24DF0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pecial TAC Meeting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xas Nod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90720"/>
            <a:ext cx="883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C convened a special joint meeting with the Texas Nodal Team to get updates from TNT, ERCOT and PUC Sta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C has opened 2 proceeding and a contested Docket to provide Texans opportunity to participate in this rule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RCOT provided updates on the progress made toward finalizing the Nodal Protoc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NT presented a Transition Plan and governance model for the next step toward a Nodal  Market.  The governance model included a structure whereby TAC will attempt to resolve issues Task Force cannot resolve; ERCOT staff will decide if TAC cannot do so tim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C voted to approve the concept &amp; direction of management section in transition plan; will review full details of plan at its 10/6/05 meeting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EB9-BBE6-4C3F-890A-7BDE736A5C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Ann Boren</cp:lastModifiedBy>
  <dcterms:modified xsi:type="dcterms:W3CDTF">2005-09-20T21:32:18Z</dcterms:modified>
  <cp:revision>144</cp:revision>
  <dc:subject/>
  <dc:title>Point-to-Point</dc:title>
</cp:coreProperties>
</file>