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E992-0ACB-46F2-8585-FAEC4845F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82E6-1AC7-43EB-8AED-B54115CF1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596B-219C-4C81-BE14-E8751FDD6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4DEA-625F-438D-B8C8-CAAA28B55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AE78-AA95-4FA8-91A9-9E180A3DD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5DA2-4C72-404C-A9AE-2A64526FF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C652-6FE0-4208-A8CB-40A7EFA7E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9433-6874-496B-821F-6DF4DB159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2835-8576-4D94-81BA-7F645EB5D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0CCF-38A2-45C0-918D-4F7BDC766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E9D7-1F11-45C1-BCF7-E88145B0F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215E-D3B1-4520-B203-22A574007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326E-6BF2-4A44-9D99-87FEEC8E1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1719000"/>
            <a:ext cx="6172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R 743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to Commercial Operations Sub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7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ing Points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676520"/>
            <a:ext cx="8839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lvl="1" marL="681120" indent="-276480">
              <a:lnSpc>
                <a:spcPct val="100000"/>
              </a:lnSpc>
              <a:spcBef>
                <a:spcPts val="29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 743 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9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 743 Busin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9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9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C2F6-E00E-4386-935F-966051500E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 743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lvl="1" marL="681120" indent="-276480" algn="just">
              <a:lnSpc>
                <a:spcPct val="100000"/>
              </a:lnSpc>
              <a:spcBef>
                <a:spcPts val="29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ved for recommendation by TAC on 08/04/05 to go to the BOD on 09/20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 algn="just">
              <a:lnSpc>
                <a:spcPct val="100000"/>
              </a:lnSpc>
              <a:spcBef>
                <a:spcPts val="29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ded to push dispute information to QSEs through an ERCOT extract, allowing them to track dispute status through an automated proc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 algn="just">
              <a:lnSpc>
                <a:spcPct val="100000"/>
              </a:lnSpc>
              <a:spcBef>
                <a:spcPts val="29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acts will be provided on a daily basis to QSEs via the ERCOT Texas Market Link Por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 algn="just">
              <a:lnSpc>
                <a:spcPct val="100000"/>
              </a:lnSpc>
              <a:spcBef>
                <a:spcPts val="29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A03C-BAE0-4790-BE8A-D5A3BB23A5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 743 Busin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295280"/>
            <a:ext cx="838224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CSV extract containing the following data f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ut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 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S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SE Contac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ute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ute Sub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ute Charge TypeAttachment Submitted (Y/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Resolution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SE Submission Date (Transaction Date, Time St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ute Status (Not Started, Open, Closed, Withdrawn, Rej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ute Status Assignment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ute Resolution (Granted, Granted w/ Exceptions, Den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ute Resolution Assignment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action Date &amp; Time Stamp (Published Date of Extr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905120"/>
            <a:ext cx="3124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ute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ution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81E1-A7F2-4437-BE9A-AE80185188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27432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Arial"/>
              </a:rPr>
              <a:t>Questions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0CFA-69A7-48D1-BACA-D8F704D871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aboren</cp:lastModifiedBy>
  <dcterms:modified xsi:type="dcterms:W3CDTF">2005-09-29T16:41:17Z</dcterms:modified>
  <cp:revision>289</cp:revision>
  <dc:subject/>
  <dc:title>Slide 1</dc:title>
</cp:coreProperties>
</file>