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DF0-6835-4508-B172-3F09E5B8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7B7-1B87-4728-9288-F49B7D11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E37-98D9-4A6B-9410-677056F5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19E-3442-4B03-8057-5BEFD0ED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BA32-B6A4-4194-858A-F7E89883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2A0-6D06-4D44-99C7-34D92CF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9D0-B17E-47E7-9BBD-C106110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4448-74CA-4DCD-A12D-C020570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75C6-A5CA-4B51-82E6-574FA605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0A8-CF7D-4166-BC0B-3E8A362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C23-1A1F-45A9-9127-88FF799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27C-8C93-4018-A5CD-7138880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1CC9-7A5D-4C90-B12E-60F2E67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7AD4-8AC6-4833-8231-D5E3D85D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224-AF6B-4532-AD47-2FF7ACA8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C17-6A16-444D-BD86-CF574C86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56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6680" y="2895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56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6680" y="4248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3BDD-70B6-40F8-8885-30489842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FD8-30E4-4832-BFDF-899C9D7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650-2A75-4763-9DF4-0A70022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F41-2581-4687-8451-20A3BF8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5ED-10E6-4F85-877C-A221022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CF2-096F-48C7-8D89-90A563E8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248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74C-8D4D-4115-A8F7-8040C1B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2895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48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5DB-81A5-46A2-B832-D90EC3D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895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715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7150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477-3757-4C65-ACE8-83368816E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AD0-B8EE-407A-96D8-8AAA524A0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taneous Selec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cillary Services</a:t>
            </a:r>
            <a:br>
              <a:rPr sz="36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MS Releas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September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on Whi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whittle@erco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Market Operations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asked ERCOT to evaluate savings running the R4 AS Market Clearing Engine on produ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Period - 3/15/05 through 8/31/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Complete with Satisfactory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Results -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64832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Cost = Offer price multiplied by MW Cle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to Market   = MCPC multiplied by MW Cle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Savings assumes 1 year of identic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619760" cy="2284920"/>
        </p:xfrm>
        <a:graphic>
          <a:graphicData uri="http://schemas.openxmlformats.org/drawingml/2006/table">
            <a:tbl>
              <a:tblPr/>
              <a:tblGrid>
                <a:gridCol w="2939400"/>
                <a:gridCol w="2710080"/>
                <a:gridCol w="1970280"/>
              </a:tblGrid>
              <a:tr h="76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to 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ed 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1,083,7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8,965,8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Savings (1 y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 2,436,07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20,154,1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Results - MC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514600"/>
          <a:ext cx="7924680" cy="2949480"/>
        </p:xfrm>
        <a:graphic>
          <a:graphicData uri="http://schemas.openxmlformats.org/drawingml/2006/table">
            <a:tbl>
              <a:tblPr/>
              <a:tblGrid>
                <a:gridCol w="1873080"/>
                <a:gridCol w="2295720"/>
                <a:gridCol w="2144520"/>
                <a:gridCol w="161136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4 M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6.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4.2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.6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.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.3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.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.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$1.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$2.5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 Boren</cp:lastModifiedBy>
  <dcterms:modified xsi:type="dcterms:W3CDTF">2005-09-19T22:01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