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94C1-25A9-4BCA-B1C6-B86C0F7F2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9E61-1366-46B0-B9F5-DCAD52A0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8DC2-8443-4E72-A75B-0D97A2388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3A63-088E-4169-AAAB-EF98EF5CA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56F6-6329-468E-9C90-5866BC4B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34FB-AF5A-426B-B83F-B2AFB895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06FC-EA46-44E0-825E-F13CB8CA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0798-9233-479A-B613-072EC882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0615-7269-4A60-9C44-51820690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1343-3908-4E80-857B-BB2A32CF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23DD-FF60-4EA0-910B-5A19154D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6A2D-ED2A-4B52-9D4A-2D1A4D63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6B9F-5CAD-4528-80B4-2A048FB23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6 ERCOT Methodologies for Determining Ancillary Service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s since 20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“Non-Spinning Reserve Requirements”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sentences “ERCOT will monitor the continued need for NSRS as the RPRS market matur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s since 20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ERCOT to include historic deployment of responsive reserve in  analysis of regulation needs to eliminate trun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or wording changes in “Regulation Reserve Requirement Detail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d “ERCOT propos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d “expects it can predict” to “will estimat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s since 20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or wording changes in Replacement Reserve Requir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9T17:13:12Z</dcterms:created>
  <dc:creator>jadams</dc:creator>
  <dc:description/>
  <dc:language>en-US</dc:language>
  <cp:lastModifiedBy>Ann Boren</cp:lastModifiedBy>
  <dcterms:modified xsi:type="dcterms:W3CDTF">2005-09-16T16:29:47Z</dcterms:modified>
  <cp:revision>4</cp:revision>
  <dc:subject/>
  <dc:title>VSS – Voltage Support Reporting</dc:title>
</cp:coreProperties>
</file>