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422-3C32-4F51-B60D-18EB7AB1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A57-8D63-4ACF-9721-E4E1F94D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FB8-5AB9-479C-9E1C-6212DECC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E6E-F22A-4933-A04B-44A44798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256-3225-4BFD-A9BF-6FC87FB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D50-F40B-437A-8813-50446F87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C8A-B637-4537-803A-1647F61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67F-C585-4174-B871-849F5034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CA0-8FA8-4571-AC55-5BED30D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B2D-D8BB-4DA1-B92E-3CDD7FA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3DA-1509-4C20-AD11-D9F8AD7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6DE-F532-4E97-8A34-0802BC6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EC0-CEF8-4F07-9AEC-BA4703B4E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S – Voltage Support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of ROS member at Augu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y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I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ars Dispatched above units U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1.3.1.1 – Items Considered Protect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 ERCOT Dispatch Instructions identifiable to a specific QSE, except for OOMC and OOME deployments as provided in Section 6.5.10, Out of Merit Capacity and Out of Merit Energy Services, items 10,11,and 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Exceptions specified in section 1.3.6 appear to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does not issue instructions to produce “X” MVAR of reactive, but requests participants to hold a specified voltage value. Thus the “MVAR requested above URL” portion of this form is difficult for ERCOT to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RCOT can pro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I instructions which direct VSS service without naming specific resources or am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n August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6:20 ERCOT issued a VSS instruction in the Corpus Christi area to increase voltage 2 k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7:13:12Z</dcterms:created>
  <dc:creator>jadams</dc:creator>
  <dc:description/>
  <dc:language>en-US</dc:language>
  <cp:lastModifiedBy>Ann Boren</cp:lastModifiedBy>
  <dcterms:modified xsi:type="dcterms:W3CDTF">2005-09-16T16:29:04Z</dcterms:modified>
  <cp:revision>3</cp:revision>
  <dc:subject/>
  <dc:title>VSS – Voltage Support Reporting</dc:title>
</cp:coreProperties>
</file>