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5E9-6F49-4F30-9161-6CA61428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B36-B009-425F-A777-0C6AF773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615-9103-40E0-9E38-16C2C326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048-74DA-40BD-BE3B-4D2A664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7FC-CBE7-459F-943B-B2C8B277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38E-24E3-41F4-A1B4-D928B25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5A3-4B57-4991-A416-CB143484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8A5-9407-41EE-8434-CCC954DF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85440"/>
            <a:ext cx="72388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929-3267-43D7-B7D7-C6830D87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9AF-24C2-4677-88D9-798006BD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6C1-2CE4-495B-8884-C2F6A967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22A-E86A-444D-9596-0A9F2FB7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7721-B515-4C6A-8F08-4D9A55E30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ction 21, Revisions to Protocols (Normal Timeli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1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0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1796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048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72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02680" y="4495680"/>
            <a:ext cx="181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y 19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18600" y="4114800"/>
            <a:ext cx="7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80" y="43434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ri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04560" y="388620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485720" y="3085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895480" y="39621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4152960" y="30859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7320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1744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uly 7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3800" y="25430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276360" y="3200400"/>
            <a:ext cx="759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4156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09320" y="208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610480" y="39621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5400000">
            <a:off x="4191120" y="236124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240" y="208584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5-Day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743200"/>
            <a:ext cx="76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04920" y="4797360"/>
            <a:ext cx="19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une 23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nd 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876920" y="3962520"/>
            <a:ext cx="6858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7800" y="254304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6171840" y="39625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46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188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5480" y="450864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ugust 16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77320" y="39621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 rot="5400000">
            <a:off x="7010280" y="26658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8487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5960" y="26193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0-Day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3124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6248520"/>
            <a:ext cx="87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ffective September 1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unless System Chang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ction 21, Revisions to Protocols (Urgent Timeli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796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0672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72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44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ril 21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4235400"/>
            <a:ext cx="87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of next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0" y="43434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ri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304560" y="388620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828800" y="304812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95480" y="39621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350532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040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y 5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1000" y="2543040"/>
            <a:ext cx="220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 Ur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c to 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3200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348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360" y="2743200"/>
            <a:ext cx="75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09320" y="208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10480" y="39621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028840" y="39625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50532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2743200"/>
            <a:ext cx="6094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7760" y="450864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y or Ju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15200" y="39621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 rot="5400000">
            <a:off x="6324480" y="26658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8640" y="261936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0-Day (or less)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2971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5562720"/>
            <a:ext cx="874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*  ERCOT prepares Impact Analysis within 30 days after TAC Recommendation or based on TAC approved accelerated schedule (based on complexity of PR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90720" y="2209680"/>
            <a:ext cx="129528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744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82000" y="160020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rgency V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53:46Z</dcterms:created>
  <dc:creator>lrobinson</dc:creator>
  <dc:description/>
  <dc:language>en-US</dc:language>
  <cp:lastModifiedBy>dzake</cp:lastModifiedBy>
  <dcterms:modified xsi:type="dcterms:W3CDTF">2005-09-15T21:21:27Z</dcterms:modified>
  <cp:revision>45</cp:revision>
  <dc:subject/>
  <dc:title>Aug 18 Event Update</dc:title>
</cp:coreProperties>
</file>