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A62-9E86-4F66-9E16-F60DA57A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8F0-386E-4CDD-ADA8-1307754B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B5B-B464-447A-9532-50D205EC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7CB-8768-4B57-B802-9DB2FB02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E5A-BEA3-4B0C-AB6E-EE7CDA2B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3B1-C36E-4559-B7E7-C24445E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1A7-6481-42ED-ADC0-F04BF6A5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98C-12BB-405B-9E53-1553B828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104-2B2E-46E7-BA1E-D9C5B8DC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5F7-BC81-49C9-94BC-6369B374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6C1-B0DA-4ACF-8EF0-21C9FD7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382-933E-4B0A-9A0C-6AF21F9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D19A-E286-4A5D-820C-93B19F63D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27F-0D53-4CCD-A583-7D5D443B63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New REPs – 7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New Umbrella DUNS – 13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xisting REP testing in new territory – 4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41 Task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B38-81A7-48A0-AF61-E7CCCC992A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completed 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sting was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1EF-ECE6-4BB8-904B-F8B84F6A9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Flight - 1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arket Participants will test for Tx SET Version 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Meeting 9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Deadline 9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Kick-off Conference Call 9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10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ins 1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BA7-4A46-474C-8EBA-DF07F482B8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nd Robin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s will test with all REPs who make up 97% of their Non-AREP ESI ID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s who are not part of any TDSPs 97% volume will be assigned to a TDSP by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 – 144 existing relationships will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6600 Round Robin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402-2A5A-491C-9E25-A0F12D5784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Existing Market participants / umb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Average New 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 – 144 Existing MP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,300 tasks (MIMO had 28,669 ta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00 Round Robin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00 Average New MP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CDB-4FC3-4C98-976C-88D3378165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S. Boren</cp:lastModifiedBy>
  <cp:lastPrinted>2002-09-24T18:27:58Z</cp:lastPrinted>
  <dcterms:modified xsi:type="dcterms:W3CDTF">2005-09-07T18:35:29Z</dcterms:modified>
  <cp:revision>371</cp:revision>
  <dc:subject/>
  <dc:title>PowerPoint Presentation</dc:title>
</cp:coreProperties>
</file>