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3622-60F7-4237-A6C7-D2DDB594F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B462-8CF9-4A76-9C37-FD8173EFC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D339-D415-46A4-8813-4F45AC6E8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8F1B-B5C8-4C75-87CA-290712D75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9EAE-7288-44DF-87A3-8EFF0C4B0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1BC3-E3BA-4BA3-B4A2-EF9EF9BD7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F6C2-F862-42F9-9029-444052BE9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57C2-7556-4C70-A704-0A98FA02A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23E7-E893-4B43-BA56-5646A5050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2D59-8736-4F6F-85DC-0C69BC83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5027-194D-4CDA-A845-E9B50CED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48DC-8ABB-4B59-862F-C9EA3F89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AC715-B6A2-41E1-A1AE-87EF5B6CCC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2514600"/>
            <a:ext cx="8153280" cy="19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ptember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Summary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 Data Extract Variance Repor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gust CR DEV Repor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of 105 Competitive Retailers reported numbers by the due date for August Reports (09/02/05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of 17 Competitive Retailers that filed DEV Issues within the 90 days proceeding the reporting deadline reported numbe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s for October RMS (September Reports) are due by October 4, 200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80880" y="1600200"/>
          <a:ext cx="8153280" cy="4571640"/>
        </p:xfrm>
        <a:graphic>
          <a:graphicData uri="http://schemas.openxmlformats.org/drawingml/2006/table">
            <a:tbl>
              <a:tblPr/>
              <a:tblGrid>
                <a:gridCol w="2281320"/>
                <a:gridCol w="1542240"/>
                <a:gridCol w="1570320"/>
                <a:gridCol w="1380600"/>
                <a:gridCol w="1378800"/>
              </a:tblGrid>
              <a:tr h="1099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2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3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0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600200"/>
          <a:ext cx="8076960" cy="4571640"/>
        </p:xfrm>
        <a:graphic>
          <a:graphicData uri="http://schemas.openxmlformats.org/drawingml/2006/table">
            <a:tbl>
              <a:tblPr/>
              <a:tblGrid>
                <a:gridCol w="2259720"/>
                <a:gridCol w="1528200"/>
                <a:gridCol w="1555560"/>
                <a:gridCol w="1367640"/>
                <a:gridCol w="1365840"/>
              </a:tblGrid>
              <a:tr h="1099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3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1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er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00200"/>
          <a:ext cx="8152920" cy="4723920"/>
        </p:xfrm>
        <a:graphic>
          <a:graphicData uri="http://schemas.openxmlformats.org/drawingml/2006/table">
            <a:tbl>
              <a:tblPr/>
              <a:tblGrid>
                <a:gridCol w="2281320"/>
                <a:gridCol w="1542240"/>
                <a:gridCol w="1569960"/>
                <a:gridCol w="1380960"/>
                <a:gridCol w="1378440"/>
              </a:tblGrid>
              <a:tr h="1135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XU Electric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0880" y="1600200"/>
          <a:ext cx="8153280" cy="4723920"/>
        </p:xfrm>
        <a:graphic>
          <a:graphicData uri="http://schemas.openxmlformats.org/drawingml/2006/table">
            <a:tbl>
              <a:tblPr/>
              <a:tblGrid>
                <a:gridCol w="2281320"/>
                <a:gridCol w="1542240"/>
                <a:gridCol w="1570320"/>
                <a:gridCol w="1380600"/>
                <a:gridCol w="1378800"/>
              </a:tblGrid>
              <a:tr h="1135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y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523880"/>
          <a:ext cx="8229240" cy="4876560"/>
        </p:xfrm>
        <a:graphic>
          <a:graphicData uri="http://schemas.openxmlformats.org/drawingml/2006/table">
            <a:tbl>
              <a:tblPr/>
              <a:tblGrid>
                <a:gridCol w="2302560"/>
                <a:gridCol w="1556640"/>
                <a:gridCol w="1585080"/>
                <a:gridCol w="1393560"/>
                <a:gridCol w="1391400"/>
              </a:tblGrid>
              <a:tr h="1172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N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80880" y="1600200"/>
          <a:ext cx="8229240" cy="4647960"/>
        </p:xfrm>
        <a:graphic>
          <a:graphicData uri="http://schemas.openxmlformats.org/drawingml/2006/table">
            <a:tbl>
              <a:tblPr/>
              <a:tblGrid>
                <a:gridCol w="2302560"/>
                <a:gridCol w="1556640"/>
                <a:gridCol w="1585080"/>
                <a:gridCol w="1393560"/>
                <a:gridCol w="1391400"/>
              </a:tblGrid>
              <a:tr h="1117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jfrederick</cp:lastModifiedBy>
  <cp:lastPrinted>2002-09-24T18:27:58Z</cp:lastPrinted>
  <dcterms:modified xsi:type="dcterms:W3CDTF">2005-09-06T20:07:44Z</dcterms:modified>
  <cp:revision>306</cp:revision>
  <dc:subject/>
  <dc:title>PowerPoint Presentation</dc:title>
</cp:coreProperties>
</file>