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7C78-F6F6-43C8-BB53-C80395369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B539A-D1E2-4357-95AB-F0D374665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D1BB0-D849-442E-987F-89B9C5D06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9DA0C-524A-4C7C-854D-F2BD87518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6905F-33A1-4178-BCCF-849EA1611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EB7F1-5C35-411D-B8EF-CF330B079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0C3F6-9847-4F11-8859-082C24A57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B08AE-5A54-4C0C-9772-E364B11C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0C0F9-A74D-416B-8FC3-4C2D101B8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EA36B-5F68-46C4-8CC7-1F6CE0820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26D8C-6DB8-4F0E-912E-0618627D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53F9-C6FC-455D-BC3E-B17990CAE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42D3C-59FB-4CA3-9184-121BCB33B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AD32-2B68-4175-91DB-9CF94C9AA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br>
              <a:rPr sz="4400"/>
            </a:br>
            <a:r>
              <a:rPr b="1" lang="en-US" sz="4400" spc="-1" strike="noStrike">
                <a:solidFill>
                  <a:srgbClr val="3333cc"/>
                </a:solidFill>
                <a:latin typeface="Times New Roman"/>
              </a:rPr>
              <a:t> Update to RM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ptember 14,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8BF328-41A8-481F-A5F3-E151B4327C8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3" name=""/>
          <p:cNvSpPr/>
          <p:nvPr/>
        </p:nvSpPr>
        <p:spPr>
          <a:xfrm>
            <a:off x="0" y="1066680"/>
            <a:ext cx="8381880" cy="5435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uring August RMS meeting, Centerpoint identified an issue where ESI IDs are active at TDSP and REP, but Retired at ERCOT.  RMS referred the issue to COPS.  COPS through DEWG has setup a TaskForce to identify the magnitude and work through the issues </a:t>
            </a:r>
            <a:endParaRPr b="0" lang="en-US" sz="2400" spc="-1" strike="noStrike">
              <a:solidFill>
                <a:srgbClr val="000000"/>
              </a:solidFill>
              <a:latin typeface="Times New Roman"/>
            </a:endParaRPr>
          </a:p>
          <a:p>
            <a:pPr lvl="2" marL="13716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rst Conference Call held August 26</a:t>
            </a:r>
            <a:endParaRPr b="0" lang="en-US" sz="2400" spc="-1" strike="noStrike">
              <a:solidFill>
                <a:srgbClr val="000000"/>
              </a:solidFill>
              <a:latin typeface="Times New Roman"/>
            </a:endParaRPr>
          </a:p>
          <a:p>
            <a:pPr lvl="2" marL="13716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rst step is for TDSPs and ERCOT to work together to identify magnitude of issue.  </a:t>
            </a:r>
            <a:endParaRPr b="0" lang="en-US" sz="2400" spc="-1" strike="noStrike">
              <a:solidFill>
                <a:srgbClr val="000000"/>
              </a:solidFill>
              <a:latin typeface="Times New Roman"/>
            </a:endParaRPr>
          </a:p>
          <a:p>
            <a:pPr lvl="3" marL="1828800" indent="-457200">
              <a:lnSpc>
                <a:spcPct val="100000"/>
              </a:lnSpc>
              <a:spcBef>
                <a:spcPts val="1500"/>
              </a:spcBef>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NP Territory</a:t>
            </a:r>
            <a:r>
              <a:rPr b="1" lang="en-US" sz="2400" spc="-1" strike="noStrike">
                <a:solidFill>
                  <a:srgbClr val="3333cc"/>
                </a:solidFill>
                <a:latin typeface="Times New Roman"/>
              </a:rPr>
              <a:t>	</a:t>
            </a:r>
            <a:r>
              <a:rPr b="1" lang="en-US" sz="2400" spc="-1" strike="noStrike">
                <a:solidFill>
                  <a:srgbClr val="3333cc"/>
                </a:solidFill>
                <a:latin typeface="Times New Roman"/>
              </a:rPr>
              <a:t>8</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PS Approved setting a 2005 Priority of 1.2 for two data extracts that previously only had 2006 Priorities.</a:t>
            </a:r>
            <a:endParaRPr b="0" lang="en-US" sz="2400" spc="-1" strike="noStrike">
              <a:solidFill>
                <a:srgbClr val="000000"/>
              </a:solidFill>
              <a:latin typeface="Times New Roman"/>
            </a:endParaRPr>
          </a:p>
          <a:p>
            <a:pPr lvl="2" marL="13716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R 577 and SCR 74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D9E2AA-92F4-4ED8-B2D0-7D11424129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5" name=""/>
          <p:cNvSpPr/>
          <p:nvPr/>
        </p:nvSpPr>
        <p:spPr>
          <a:xfrm>
            <a:off x="0" y="1066680"/>
            <a:ext cx="8229600" cy="5849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NT protocol Section 9.2.6, the Day-Ahead Market (DAM) and Real Time settlement time lines, were presented to the COPS for comments and approval. After a long discussion the following was approved:</a:t>
            </a:r>
            <a:endParaRPr b="0" lang="en-US" sz="24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eal Time settlement – the same as today after implementation of PRR 568 (Change Initial Settlement from 17 to 10 day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adline for final DAM prices – 10:00 am the day following the Operating Day (OD) </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adline for final RT prices – 16:00 the day following the Operating Day (OD)</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AM statement and invoice – 2nd business day after OD</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voice payment due ERCOT – 4th business day after receipt of invoice, if bank day</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ayment from ERCOT – Next business day after ERCOT receives payments, if bank day.</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C383E76-44C4-45C2-A843-CD78AE44D1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RCOT Review of 10 Day Initial</a:t>
            </a:r>
            <a:br>
              <a:rPr sz="3200"/>
            </a:br>
            <a:r>
              <a:rPr b="0" lang="en-US" sz="3200" spc="-1" strike="noStrike">
                <a:solidFill>
                  <a:srgbClr val="3333cc"/>
                </a:solidFill>
                <a:latin typeface="Times New Roman"/>
              </a:rPr>
              <a:t> Settlement Analysis </a:t>
            </a:r>
            <a:endParaRPr b="0" lang="en-US" sz="3200" spc="-1" strike="noStrike">
              <a:solidFill>
                <a:srgbClr val="000000"/>
              </a:solidFill>
              <a:latin typeface="Times New Roman"/>
            </a:endParaRPr>
          </a:p>
        </p:txBody>
      </p:sp>
      <p:sp>
        <p:nvSpPr>
          <p:cNvPr id="57" name=""/>
          <p:cNvSpPr/>
          <p:nvPr/>
        </p:nvSpPr>
        <p:spPr>
          <a:xfrm>
            <a:off x="0" y="1066680"/>
            <a:ext cx="8381880" cy="57859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COT presented preliminary analysis given the limited number of days data [Channel cut zero (10-day settlement data) and Channel cut one (17 day-settlement data) ]</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rst MP conference call will be September 9th This call is especially important to discuss the individual MPs’ results of their data analysis. </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arly analysis did not indicate any major problems but by the time of the conference call, the market should have time and data to improve the individual companies’ analyses</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P’s should continue operations as usual.  No new or different data or processes should be implemented during this timeframe, to preserve data integrit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7B14DB-2120-4B24-9128-C4DE7A1EC4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pecial TAC Meeting </a:t>
            </a:r>
            <a:br>
              <a:rPr sz="3200"/>
            </a:br>
            <a:r>
              <a:rPr b="0" lang="en-US" sz="3200" spc="-1" strike="noStrike">
                <a:solidFill>
                  <a:srgbClr val="3333cc"/>
                </a:solidFill>
                <a:latin typeface="Times New Roman"/>
              </a:rPr>
              <a:t>Texas Nodal</a:t>
            </a:r>
            <a:endParaRPr b="0" lang="en-US" sz="3200" spc="-1" strike="noStrike">
              <a:solidFill>
                <a:srgbClr val="000000"/>
              </a:solidFill>
              <a:latin typeface="Times New Roman"/>
            </a:endParaRPr>
          </a:p>
        </p:txBody>
      </p:sp>
      <p:sp>
        <p:nvSpPr>
          <p:cNvPr id="59" name=""/>
          <p:cNvSpPr/>
          <p:nvPr/>
        </p:nvSpPr>
        <p:spPr>
          <a:xfrm>
            <a:off x="0" y="1066680"/>
            <a:ext cx="838188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Update will be provided at RM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997C64-DFE6-47D2-A6EF-ED53D751D15E}"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5-08-31T22:42:53Z</dcterms:modified>
  <cp:revision>142</cp:revision>
  <dc:subject/>
  <dc:title>Point-to-Point</dc:title>
</cp:coreProperties>
</file>