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B69-CB3B-4448-9A21-45888BFA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1CB-5CCC-4335-8E1F-97E30A03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D1E-E7E9-416D-81C1-26117AFA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325-9657-451F-AAC5-1944102E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9CD-770E-4E5D-8806-3CEFE9CA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C1B-3B0E-4F3B-8208-0AB35E5D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C1D-7EE5-4647-A7F2-DEEF80BB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C64-71B7-44D8-A732-B763EF4D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CEA-A03A-4FC7-A9CD-AF4F4637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6E5-A630-4605-B762-0260463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04D-A042-4581-9408-9CF79CE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AB0-B16B-4CFF-8B40-BE788D4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B293-76CA-4CC4-BFD8-AAA1B4DF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Sta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 Annual Valid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6360" y="1522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DSP – ERCOT Annual Validation 2005 Up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09800"/>
            <a:ext cx="91440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 Profiling Guides - Section 11.4.1 step # 6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of reconciling discrepancies in Profile Segment assignments shall continue until the TDSP and ERCOT agree on at least 99.0% of the assignments in the random sample and shall be completed by August 21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8720" y="2584440"/>
            <a:ext cx="5262480" cy="328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BA7-C144-4DD6-9A6D-7AEABFD9A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74520" y="1522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DSP – ERCOT Annual Validation 2005 Up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1840" y="1355760"/>
            <a:ext cx="845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 Profiling Guides - Section 11.4.1 step # 8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rified reports were made available by Market Notice on 9/1/05, with the exception of the following Profile group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ces - Residential, Busines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U-ED – Residential, Busines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Point Energy - Resident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U – ED Residential was complete as of 9/2.  An updated version has not been provi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send out another Market Notice when complete verified lists are available for all TDS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F6A-293D-4D9E-A509-C55B3354AB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DOtt</cp:lastModifiedBy>
  <cp:lastPrinted>2002-05-17T20:57:43Z</cp:lastPrinted>
  <dcterms:modified xsi:type="dcterms:W3CDTF">2005-09-07T19:30:29Z</dcterms:modified>
  <cp:revision>223</cp:revision>
  <dc:subject/>
  <dc:title>Retail Transactions Report</dc:title>
</cp:coreProperties>
</file>