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858-00DA-425E-9070-F40E5067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65C-E2FA-4B02-8A64-704D719E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19C-952C-4F3B-8E12-294DC3D8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B7F-DD04-4408-A3A4-282C8225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ECF-1845-4B16-AF8C-7B8243F7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B8B-5C96-4DB3-9C69-394DAC2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3A8-DDC7-412D-B8FA-D2622732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DE4-C69E-4D80-8EA3-AE64B1F2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D7B-804F-4B16-A48D-2E8D9605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ED5-3F42-4F1D-9126-25CB4FA9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1AF-C555-4334-9D6D-48B57BE1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425-012B-4F80-8476-638AE5F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31CE-726F-4E62-8B48-AC61742F3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5438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port on Rec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800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4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573-31F7-4401-9A4F-AC501DF1BF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itial Joint TF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ll be schedul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880-2E4E-4D2C-9A1B-1A1673491C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Mass Transition TF met Monday 08/15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d short-term recommendations into a Retail Market Guide Revision Request (RMGR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cure, defaulting LSE must provide ERCOT customer information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s to send best available information to POLRs (either ESI ID list or customer information that has been obtained from defaulting 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vent the defaulting LSE cannot provide ERCOT with customer information, POLR is to work with TDSP to obtain existing customer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R is to submit off-cycle, unprotected switch based on the first available switch date (currently, six Retail Business days).  These switches must be submitted within five Retail Business days of receipt of ESI ID information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seminar for POLRs, TDSPs, ERCOT, and PUCT Staf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GRR 029 Mass Transition Process is scheduled to be reviewed at the 09/14/05 RMS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options for a long-term transactional solution and for obtaining/maintaining customer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4F9-55F8-44D2-B3E5-1996775B5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previous WMS TF meetings was the submission of two Protocol Revision Requests (PR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 624: Clarification of Market Participant Default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s changes that strengthen or clarify Protocol language that address default situations.  Much of language is based on language drafted for TNT Proto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 625: Clarification of Emergency QS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s changes that strengthen or clarify Protocol language that address when and how Emergency QSEs may b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n the PRRs are due 09/16/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Rs will be addressed at 09/22/05 PR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A9A-1A32-49AE-B742-18EDE91851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Rec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348-D7C3-486B-83E9-579F392D46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August 29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P in the ERCOT Region made the business decision to exit the Mark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P represented approximately 600 ESI IDS and 40 MWh of load per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and customer information available from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, September 6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business day since distribution of ESI ID list.  Per RMS short-term recommendation, POLRs to have submitted initiating transactions for tran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% of Initiating transactions submitted by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522-86ED-4478-88F4-0FB3F39CC5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Tuesday, September 13, 2005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siness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Initiating transactions submitted by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% of ESI IDs have transitioned away from exi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- 10 business days (extended time was for minimal number of ESI I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F06-A690-4EE3-B803-E5270A72E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September 9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itiated the Mass Transition process for the ESI IDs represented by USAVE Energy Services Inc., a Qualified Scheduling Entity (QSE) and Retail Electric Provider (REP) in the ERCOT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VE represents approximately 550 ESI IDs and accounting for less than 65 MWh of Load per d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(no customer information availab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esday, September 13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% of Initiating transactions submitted by POL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Business Day of the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5F7-B55D-4CCA-9DF2-F16037CE4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2A8-0818-4BA1-B33F-34EB79316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hobbs</cp:lastModifiedBy>
  <cp:lastPrinted>2002-08-23T18:53:47Z</cp:lastPrinted>
  <dcterms:modified xsi:type="dcterms:W3CDTF">2005-09-13T18:58:34Z</dcterms:modified>
  <cp:revision>621</cp:revision>
  <dc:subject/>
  <dc:title>PowerPoint Presentation</dc:title>
</cp:coreProperties>
</file>