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FE53A-B7C3-48A3-92C6-EA0A26B908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05058-7768-43BF-B94E-FF9996B51A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C11FB-BC0B-44D2-BB5F-FAE4FB978D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7FB9C-6D01-483C-B143-85DA253D13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FF6C3-A0F5-48A1-A5FF-2F476881C5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FDE47-1AAD-4B25-81AE-C6DEDE6020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07AC2-F534-4996-B08A-2D9D305E50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1ABDA-A868-40C2-9E4C-9B08B3F037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7CFDF-5DA6-42C9-8760-E979301C69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5DE88-8678-402E-9F6A-CEC4650377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F46FF-3C59-4335-ADDC-3930AAB8A9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FF660-776F-4F39-AC88-D48BA4F524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1E55-8214-4A82-9EE9-3B5E59632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1901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Annual Validation Suspension Analysis Update to 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361960" y="3352680"/>
            <a:ext cx="5808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l Rais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Load Profi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tember 14, 200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837720" y="1219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lvl="1" marL="681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3429000"/>
                <a:tab algn="l" pos="3772080"/>
                <a:tab algn="l" pos="463536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3429000"/>
                <a:tab algn="l" pos="3772080"/>
                <a:tab algn="l" pos="463536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nalysis to determine whether AV 2005 Profile Assignment Changes should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3429000"/>
                <a:tab algn="l" pos="3772080"/>
                <a:tab algn="l" pos="463536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3429000"/>
                <a:tab algn="l" pos="3772080"/>
                <a:tab algn="l" pos="463536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 Data Aggregation Ru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3429000"/>
                <a:tab algn="l" pos="3772080"/>
                <a:tab algn="l" pos="463536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3429000"/>
                <a:tab algn="l" pos="3772080"/>
                <a:tab algn="l" pos="463536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sidential Survey 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3429000"/>
                <a:tab algn="l" pos="3772080"/>
                <a:tab algn="l" pos="463536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3429000"/>
                <a:tab algn="l" pos="3772080"/>
                <a:tab algn="l" pos="463536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ssuming Board approval of AV 2005 Suspension, analysis results will be presented to RMS in Novemb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3429000"/>
                <a:tab algn="l" pos="3772080"/>
                <a:tab algn="l" pos="463536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3429000"/>
                <a:tab algn="l" pos="3772080"/>
                <a:tab algn="l" pos="463536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MS will be able to make an informed decision on whether to continue the suspension or to proceed with submitting the assignment chan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3429000"/>
                <a:tab algn="l" pos="3772080"/>
                <a:tab algn="l" pos="463536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0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3429000"/>
                <a:tab algn="l" pos="3772080"/>
                <a:tab algn="l" pos="463536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2FF98-A552-40E4-9248-574A2A9C64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52480" y="763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Test Data Aggregation R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6212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1960" indent="-29196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bjective: Quantify the settlement impact associated with 2005 Annual Validation Residential Profile Assignment Chang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odestar iTest environment set up and refreshed as of 07/30/200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ample of 30 days selected between October 2004 – April 200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6480" indent="-2300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tratified by differences between RESHIWR and RESLOWR profil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6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ase-line data aggregations have been run for all 30 day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ext step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6480" indent="-2300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odify Profile IDs for the analysis time period based on AV 2005 chan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6480" indent="-2300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-run data aggregation for the sample day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6480" indent="-2300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pare before and after results to estimate differences attributable to AV 200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6480" indent="-2300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mary metrics will be UFE and Load Ratio Sh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D4784-9EDC-4F9C-9472-3A5F12E4FF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52480" y="763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Residential Survey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83808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1960" indent="-29196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Objective is to quantify the accuracy of the 2005 Annual Validation Residential Profile Assignment Chang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uild an accurate algorithm to predict presence and use of electric space heating based on the survey responses in conjunction with each responder’s usage history 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pply the algorithm to each of the ESIIDs with Profile Assignment chang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termine the percent of changes which are correc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6480" indent="-2300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SHIWR with electric he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6480" indent="-2300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SLOWR without electric he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6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f the majority of changes are correct then AV 2005 is improving Profile Assignment Accurac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urvey statu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6480" indent="-2300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40,000 surveys were mailed on August 3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6480" indent="-2300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turns are being received and process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6480" indent="-2300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sponse rate is consistent with Pilot Survey results … on track for about 10% return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07298-96D9-49D9-B5A6-B1209F1CF6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837720" y="1676520"/>
            <a:ext cx="5410440" cy="2590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1960" indent="-29196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0"/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74880" indent="0">
              <a:spcBef>
                <a:spcPts val="400"/>
              </a:spcBef>
              <a:buNone/>
              <a:tabLst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0"/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6480" indent="0">
              <a:spcBef>
                <a:spcPts val="451"/>
              </a:spcBef>
              <a:buNone/>
              <a:tabLst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35828-EF92-4496-893F-DA168C6AFA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Ann S. Boren</cp:lastModifiedBy>
  <dcterms:modified xsi:type="dcterms:W3CDTF">2005-09-07T19:25:38Z</dcterms:modified>
  <cp:revision>117</cp:revision>
  <dc:subject/>
  <dc:title>Slide 1</dc:title>
</cp:coreProperties>
</file>