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76776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18DCF-7A4D-4022-8E35-C985462E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300AB-C372-40F2-86A1-536FE009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2A7E4-D0B5-4FA7-B2E8-DDC99084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957A5-E2C1-495D-8657-FDF67185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FD623-0D2B-4088-B7C9-EE2DE954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0" y="380520"/>
            <a:ext cx="6327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77118-301C-46B1-9C0F-EAF1D201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25E7D-F73A-4729-9FCA-D2ED62A4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20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58B72-40FD-4077-BCC7-63AD7958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8DB33-6255-454E-8362-72E0EDE3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1680" y="376776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BD549-242E-42DE-9CDB-F5A4BA9D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20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F475C-F814-4188-A672-940169B5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24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80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168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24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80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32270-9A6A-41A0-B30B-76CD4D2D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0" y="380520"/>
            <a:ext cx="6327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601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425600" indent="-33804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830240" indent="-290520">
              <a:spcBef>
                <a:spcPts val="601"/>
              </a:spcBef>
              <a:buClr>
                <a:srgbClr val="00808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68640" indent="-223920">
              <a:spcBef>
                <a:spcPts val="601"/>
              </a:spcBef>
              <a:buClr>
                <a:srgbClr val="00808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68640" indent="-223920">
              <a:spcBef>
                <a:spcPts val="6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68640" indent="-223920">
              <a:spcBef>
                <a:spcPts val="6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057400" y="990720"/>
            <a:ext cx="6781680" cy="0"/>
          </a:xfrm>
          <a:prstGeom prst="line">
            <a:avLst/>
          </a:prstGeom>
          <a:ln w="1015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5768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7623-A5DB-47AF-9681-8BD088EFD7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1015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362320" y="152280"/>
            <a:ext cx="4114800" cy="1978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173160" algn="ctr"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168120" algn="ctr">
              <a:spcBef>
                <a:spcPts val="400"/>
              </a:spcBef>
              <a:buClr>
                <a:srgbClr val="008080"/>
              </a:buClr>
              <a:buFont typeface="Wingdings 3" charset="2"/>
              <a:buChar char="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115920" algn="ctr">
              <a:spcBef>
                <a:spcPts val="400"/>
              </a:spcBef>
              <a:buClr>
                <a:srgbClr val="008080"/>
              </a:buClr>
              <a:buSzPct val="80000"/>
              <a:buFont typeface="Wingdings 3" charset="2"/>
              <a:buChar char="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115920">
              <a:spcBef>
                <a:spcPts val="400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115920">
              <a:spcBef>
                <a:spcPts val="400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1301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M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0025 Enhance ESI-id Look-up Functio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OLESALE MARKET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ula Feuerba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ptember 14,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5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5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ckground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9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R-312 Enhance ESI-id Look-up Fun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roved by the ERCOT BOD 05/21/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ebel source data portions of the PRR were implemented under PR30052 Portal Replacement Phase II in 2004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50025 will include Lodestar source data portions of the PRR within the TML Lookup Fun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Stat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ority:  1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nk:  3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ase:  Planning (gathering requiremen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mmendation:  Two Phas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93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 One:  update TML Look-up function to return the following item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ion 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ered/Un-metered Fl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wer Reg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 Two: update the extract to include the following item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ion 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wer Reg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mise Ty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ered/Un-metered Fl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nding Move-in/Move-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83024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ticipated Delivery Da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9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 One: 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Quarter 2006 – dependencies:  Texas SET 2.1 code freeze (scheduled to end December 2, 2005) affecting resources, testing environments, deployment schedu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 Two:  mid to lat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Quarter 2006 -- complexity:  creating an extract that retrieves data from the Siebel source and the Lodestar source; need to explore design op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425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5T03:41:46Z</dcterms:created>
  <dc:creator>Steve Wallace</dc:creator>
  <dc:description/>
  <dc:language>en-US</dc:language>
  <cp:lastModifiedBy>Ann S. Boren</cp:lastModifiedBy>
  <cp:lastPrinted>2009-04-22T19:24:48Z</cp:lastPrinted>
  <dcterms:modified xsi:type="dcterms:W3CDTF">2005-09-07T18:33:52Z</dcterms:modified>
  <cp:revision>138</cp:revision>
  <dc:subject/>
  <dc:title>ERCOT POS MOS V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