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86DC7-E6EC-41A2-8028-8DEE58D36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41C23-31CC-45A7-B55B-1AD24AE6F5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01586-7E93-483A-9814-C6C4635CA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BBC71-3CA6-47A6-B989-EF0603C01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42B3E-D433-48E3-8191-E10C89BE4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E4D0-87C7-495B-8520-FA4862E454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31FB9-28C6-4475-A003-30CC41B6A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8CAEA-BF74-43EB-879F-762CC3835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09A84-8A7C-4FE7-BF22-A1568A244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8D10B-8B7E-4CE0-9218-AF9986562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493E2-6787-4CB7-AAD4-B2C62C397B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F12E2-5E80-4C4A-905A-EC38AE898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75C2-18D1-47C3-8D6F-071793056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208476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MO Update to 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14,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160" y="1523520"/>
            <a:ext cx="8381880" cy="3581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lvl="1" marL="681120" indent="0">
              <a:spcBef>
                <a:spcPts val="451"/>
              </a:spcBef>
              <a:buNone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ject Priorit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ding of Capital Pro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urrent State of Project Spen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D1F07-3874-4310-B2FB-F212A90E5F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52480" y="763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ject Priori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 fontScale="99000"/>
          </a:bodyPr>
          <a:p>
            <a:pPr marL="288720" indent="-28872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ject Priorit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8720" indent="0">
              <a:spcBef>
                <a:spcPts val="349"/>
              </a:spcBef>
              <a:buNone/>
              <a:tabLst>
                <a:tab algn="l" pos="0"/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64800" indent="-22140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jects are prioritized by two governing bod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470960" indent="-276840"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S (Protocol Revision Subcommitte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152800" indent="-238680">
              <a:spcBef>
                <a:spcPts val="34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cisions approved by TAC and the Board of Director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470960" indent="-276840"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RT (Strategic Review Tea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152800" indent="-238680">
              <a:spcBef>
                <a:spcPts val="34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cisions approved by ERCOT Executive Committe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64800" indent="-22140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thin each priority group (1.1, 1.2, etc.) PUCT projects are ranked highest followed by Market projects then ERCOT proje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64800" indent="-22140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jects are categorized by Program Area and monitored by an ERCOT CART (Continuous Analysis and Requirements Team) responsible for that Ar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470960" indent="-276840">
              <a:spcBef>
                <a:spcPts val="3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rporate Operations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rporate Appli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470960" indent="-276840">
              <a:spcBef>
                <a:spcPts val="3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T Operations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ra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470960" indent="-276840">
              <a:spcBef>
                <a:spcPts val="3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arket Operations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ttlement &amp; Related Syste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470960" indent="-276840">
              <a:spcBef>
                <a:spcPts val="3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tail Operations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tail Syste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470960" indent="-276840">
              <a:spcBef>
                <a:spcPts val="3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ystem Operations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MMS &amp; Related Syste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964800" indent="0">
              <a:spcBef>
                <a:spcPts val="300"/>
              </a:spcBef>
              <a:buNone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DEC8C-DAD3-42AC-807B-B3E024B132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52480" y="763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ject Prioritization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ject Priori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RTs meet regularly to review project status and determine where new projects fit into the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rrow Dia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RTs review resource availability on a regular b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ject resources estimate their availability to work on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ject managers schedule the resources for work to be performed for projects in the pip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ARTs also review potential projects to determine if they are candidates for outsou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en additional resource availability is identified the ranking of projects on the PPL is used to determine candidates for re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andidates are reviewed by starting with the highest ranked projects that haven’t been initi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F8AD-90BE-4059-81E8-8FD5B27708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52480" y="763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ject Prioritization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ject Priori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highest ranked project that fits the skill set of the available resourc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is sized in a way that doesn’t negatively impact other projects in the pipeline is selected and brought forward for re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t is important that both the Market and ERCOT actively manages the priorities and rankings on the PPL to ensure that this selection process works effectiv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dditional scenario: As the year progresses, the CARTs track the cash flow of active projects and estimate cash flow of future projects scheduled to be started during the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f cash flow is running behind projections, the list is reviewed for highly ranked candidates that can be added to the project mix without negatively impacting the rest of the pip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F1B75-4569-40BB-83D4-0C1D28E79B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52480" y="763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Funding of Capital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447920"/>
            <a:ext cx="86868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ding of Capit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y underrun of the capital project budget results in a reduced need for debt fu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$27M capital project 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otal spending at end of year = $26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$1M less debt will be incurred by ERC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capital project budget is 40% funded by operating revenue and 60% funded by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hile this statement is true, it leads to confusion because the 40% revenue portion is essentially fix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ny underrun or overrun impacts the debt portion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634A2-46EB-4707-BAB0-212C846C94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52480" y="763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Current State of Project Sp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1447920"/>
            <a:ext cx="8686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urrent State of Project S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t mid-year, ERCOT recognized that project cash flow was running lower than exp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oth the 2005 PPL and the 2006 PPL were reviewed for highly ranked projects that could be accelerated without negatively impacting the current pip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xamples of projects that were reprioritized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curity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oftware up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ardware purch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RCOT SRT will manage within the $27M budg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FB00F-2EAB-49DB-BE8A-C2D1FA09BD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1676520"/>
            <a:ext cx="5410440" cy="2590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1960" indent="-29196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0"/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0">
              <a:spcBef>
                <a:spcPts val="400"/>
              </a:spcBef>
              <a:buNone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0"/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0">
              <a:spcBef>
                <a:spcPts val="451"/>
              </a:spcBef>
              <a:buNone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763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MO 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1B0B6-E8F0-46E5-A8C7-B9D6C84E0C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tanderson</cp:lastModifiedBy>
  <dcterms:modified xsi:type="dcterms:W3CDTF">2005-09-07T20:18:25Z</dcterms:modified>
  <cp:revision>128</cp:revision>
  <dc:subject/>
  <dc:title>Slide 1</dc:title>
</cp:coreProperties>
</file>