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D0F-4C98-4CFB-BE2D-99B8B43A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949-F030-421C-BC35-9A95AA26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4177-AE09-457C-AB31-B776F098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48B-215E-43CA-AA09-553FEF0A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BF9-CDB1-4A3C-89FE-5EFBDCD3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2D2-3DA0-417B-965C-8F4B6098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291-7108-410B-BED6-D4028A56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685-8380-45D8-8515-DE5AA360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CCA-AB55-4121-AAA7-14F53A80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672F-5678-4D28-A66C-C67E8E60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1EA-D878-4EEB-AE08-95378397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FB3-89E3-43E7-AFC8-B558F4D4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52FC-82A0-491B-8E38-FFE754386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X SET V2.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Coordination Te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1828800"/>
            <a:ext cx="68580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609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Progress – TDSPs/ER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371600"/>
          <a:ext cx="85345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534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828800"/>
            <a:ext cx="754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es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Annual Validation Cross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al by PWG to suspend sending 814_20s for annual validation until at least November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X SET Version 2.1 Requirement 33 (CC2003-576) adds new validation to the 814_20 transaction that requires the Meter Type and Meter Multiplier when sending a change in Load Profile for metered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14_20 transactions generated prior to the TX SET Version 2.1 implementation date of December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ust be received by ERCOT prior to December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814_20s sent after the December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date must be in 2.1 code to pass validation at ERC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.1 M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meeting on September 2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us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Protocol re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Retail Market Guide re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t Protocol and Retail Market Guide re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T Materials can be found on the ERCOT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Market Participants &amp; Stakeho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exas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Key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Related Working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Version 2.1 Market Coordination Team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.1 M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600200"/>
            <a:ext cx="838224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lead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zette Wilb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2) 248-39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lburn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RCOT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/EC Entrance to Texas Deregulated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Transactional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icient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process soli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 all approved Change Controls as identified by the TX SET Working Group for market-wid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coordination, clarification of issues, and documentation for v2.1 Change Controls through the Market Coordination Team (MCT)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the MOU/EC entrance into the Texas deregulated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Disconnect for Non-Pay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additional billing determinants to 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of Market Requirements from TX SET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600200"/>
            <a:ext cx="8308800" cy="48006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March 28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Completed May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Goal to complete early December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Goal to complete late 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Interna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Protocols, Sections 15 and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tail Market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xt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edits to Protocols and Retail Market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t fo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676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(pens dow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ed April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(internal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Completed May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Completed July 2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ed August 2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ion goal of November 17th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ion goal of November 2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cember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828800"/>
            <a:ext cx="76201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articipant Progres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arket Participants were requested to provide their progress on Design/Code/Test of TX SET V2.1 and identify any risks that would delay Flight 1005 o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issues or risks have been identified by any Market Participant or Service Provider that would prevent them from testing in the 1005 Flight Test or implementing on December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ine to sign up for Flight 1005 is September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for Flight 1005 begins September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.1 M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Progress - R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371600"/>
          <a:ext cx="84582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84582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Progress - R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371600"/>
          <a:ext cx="84582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84582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Progress - R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4920" y="1371600"/>
          <a:ext cx="861048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6104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21:16Z</dcterms:created>
  <dc:creator>jkassel</dc:creator>
  <dc:description/>
  <dc:language>en-US</dc:language>
  <cp:lastModifiedBy>swilburn</cp:lastModifiedBy>
  <dcterms:modified xsi:type="dcterms:W3CDTF">2005-09-07T17:29:46Z</dcterms:modified>
  <cp:revision>38</cp:revision>
  <dc:subject/>
  <dc:title>Slide 1</dc:title>
</cp:coreProperties>
</file>