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5478-BB23-4038-85AA-433DFF94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FE93-C333-4CE8-BC22-7A0D1899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88EC-1688-4483-B914-46CA77CB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4936-26B4-4DF6-BAB8-1E9D0310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1D9-4356-4A74-B91F-A13C704F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94E-A220-4FD4-BAEA-C932D6F7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D45A-F184-42F6-AE68-3126EB9F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3CA3-8349-49BD-B76A-CCFDCA8C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A69-590B-4CC5-B7B9-4AEB0FBB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024A-CDA7-4922-9CB3-ABCBC078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38A-4451-46C1-8BCF-48CE00B2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6E7E-81F2-4F97-A3FA-8F3AD5D3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BD6D-38E6-4F05-97E2-F5ED436BA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CDED-BBBF-4A68-8931-463CB954B4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ERCOT 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9/02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280" y="1981080"/>
          <a:ext cx="5334120" cy="330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81080"/>
                    <a:ext cx="5334120" cy="33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5791320" y="2590920"/>
            <a:ext cx="30477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96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and In Progress Non-ERCOT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4B2F-FB9F-4052-808A-671384AF53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9/2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2286000"/>
            <a:ext cx="327636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4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&amp; In Progress,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19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ESI IDs worked to date since January 1, 2005 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95,9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43080" y="2133720"/>
          <a:ext cx="500040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004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5B0-6921-4FFA-AA78-5425B3DEF4C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16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ERCOT FasTra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00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9/02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2514600"/>
            <a:ext cx="32148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,46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&amp; In Progres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53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ESI IDs not track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37960" y="1905120"/>
          <a:ext cx="5115240" cy="512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1905120"/>
                    <a:ext cx="5115240" cy="51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D59-96F3-4F8C-AEF9-341E16D2B99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Data Extract Vari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9/2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04920" y="1676520"/>
          <a:ext cx="8547120" cy="386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54712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133720" y="6095880"/>
            <a:ext cx="6019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3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&amp; In Progress ERCOT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F257-031E-461A-B20A-B84AD7969D2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ERCOT Initiated Issu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9/2/2005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981080"/>
            <a:ext cx="312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4800600"/>
            <a:ext cx="69339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are issue initiated by ERCOT to the TDSP or CR as a result of one of the following projec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 Protection Period and 814.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67 Received on Canceled Service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new issue types to support Energy Aggregation Management Department issu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914400" y="1447920"/>
          <a:ext cx="7419960" cy="28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41996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BFDC-36F5-4BE5-A57A-991F6173EF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3476520"/>
            <a:ext cx="8153280" cy="25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99DA-B300-4DDD-BDF6-BF345C26DD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44160" cy="406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2BD-224C-4CE9-BB6C-10F9BCD5CC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001000" cy="45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ED77-8541-4BE1-A9AF-298D0AD1C2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A64-CCE3-47A2-B73B-E67A8E560F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Fas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AE9-4238-4C5B-8E43-101051F330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270640" cy="369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3928-1182-4DA5-864E-AAC385A45A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rak Issu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4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5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Extract Variances (D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Initiate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C2D-8361-49F3-8C15-3492499333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ERCOT 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9/02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600" y="1066680"/>
          <a:ext cx="532440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532440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791320" y="1295280"/>
            <a:ext cx="30477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and In Progress Non-ERCOT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for the year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133720" y="3886200"/>
          <a:ext cx="5790960" cy="1971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886200"/>
                    <a:ext cx="579096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181-A8BF-4566-8080-F0C441C074D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ercot</cp:lastModifiedBy>
  <cp:lastPrinted>2002-09-24T18:27:58Z</cp:lastPrinted>
  <dcterms:modified xsi:type="dcterms:W3CDTF">2005-09-06T20:42:19Z</dcterms:modified>
  <cp:revision>597</cp:revision>
  <dc:subject/>
  <dc:title>PowerPoint Presentation</dc:title>
</cp:coreProperties>
</file>