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7C1A7-4C3A-4C3A-A78D-51E7164B4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3C40D-B5B8-4E7E-BDEB-71D979341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53D99-F9B6-4D18-97A3-EEFC322C1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5452E-A069-4EBA-B09E-85EF526B5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66492-BDF5-48DC-90F0-80B9F5E13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FE40A-0D20-45DC-8C0E-96744A27F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9FCFC-8D8D-463A-A60F-9C5DFDCBC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47DD5-9FB9-4F34-ADC7-31C1B930D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30492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CDE60-B724-4F87-8085-F933202EF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29309-9192-4A00-A7D0-E502116E3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24044-1D90-44B0-BC1B-A93B09C3A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A6EA2-50E8-4B48-A105-897A3E3B4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69005-9681-4286-BA47-FC571A6B96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828800" cy="98280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228600" y="1143000"/>
            <a:ext cx="8686800" cy="76320"/>
          </a:xfrm>
          <a:prstGeom prst="rect">
            <a:avLst/>
          </a:prstGeom>
          <a:gradFill rotWithShape="0">
            <a:gsLst>
              <a:gs pos="0">
                <a:srgbClr val="00475e"/>
              </a:gs>
              <a:gs pos="100000">
                <a:srgbClr val="0099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6360" bIns="36360" anchor="ctr">
            <a:noAutofit/>
          </a:bodyPr>
          <a:p>
            <a:pPr>
              <a:spcBef>
                <a:spcPts val="137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383868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erformance Measures Repor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CT Project 24462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nd Quarter 2005 Performance Measures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ail Market Analysis Team</a:t>
            </a:r>
            <a:br>
              <a:rPr sz="40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RCOT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rot="2655000">
            <a:off x="3656160" y="4074840"/>
            <a:ext cx="20192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508E9-364E-4F77-8E60-AB5E98B8ABC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0332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nd Quarter 2005 Performance Meas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itch Transaction Compari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e-In Transaction Compari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RCOT Reports Summ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tial ERCOT Re-filed Performance Meas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3957C-686C-45CD-9269-8BEA513CBF6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17440" y="19008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nd Quarter 2005 Performance Meas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2857680" y="1689120"/>
          <a:ext cx="3898800" cy="3835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57680" y="1689120"/>
                    <a:ext cx="3898800" cy="383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128FA-D7F9-4E62-80C3-4AA97DDEC14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3184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nd Quarter 2005 Performance Measur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8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2120760" y="1706400"/>
          <a:ext cx="6261120" cy="3381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20760" y="1706400"/>
                    <a:ext cx="6261120" cy="33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2FFB4-D350-4565-92C3-F846651FD77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87560" y="19008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nd Quarter 2005 Performance Meas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2451240" y="1612800"/>
          <a:ext cx="4228920" cy="3683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51240" y="1612800"/>
                    <a:ext cx="4228920" cy="368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"/>
          <p:cNvSpPr/>
          <p:nvPr/>
        </p:nvSpPr>
        <p:spPr>
          <a:xfrm>
            <a:off x="961920" y="6230880"/>
            <a:ext cx="7151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t should be noted that Move-In transactions have stricter protocol times than Switch transaction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311FA-32BE-4ABE-8341-77905CBEF1D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891800" y="304560"/>
            <a:ext cx="69836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nd Quarter 2005 Performance Meas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1892160" y="1790640"/>
          <a:ext cx="6134400" cy="3378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92160" y="1790640"/>
                    <a:ext cx="6134400" cy="337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D877D-5F66-4123-9FB4-1EBCD476E9A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29T21:45:07Z</dcterms:created>
  <dc:creator>kcotner</dc:creator>
  <dc:description/>
  <dc:language>en-US</dc:language>
  <cp:lastModifiedBy>mmccarty</cp:lastModifiedBy>
  <cp:lastPrinted>2002-09-24T18:27:58Z</cp:lastPrinted>
  <dcterms:modified xsi:type="dcterms:W3CDTF">2005-09-07T13:25:50Z</dcterms:modified>
  <cp:revision>410</cp:revision>
  <dc:subject/>
  <dc:title>PowerPoint Presentation</dc:title>
</cp:coreProperties>
</file>